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77630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2440" y="4028040"/>
            <a:ext cx="77630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2440" y="402804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30440" y="402804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77200" y="139032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01960" y="139032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2440" y="402804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77200" y="402804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01960" y="402804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52440" y="1390320"/>
            <a:ext cx="776304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776304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58920" y="324000"/>
            <a:ext cx="769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52440" y="402804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2440" y="1390320"/>
            <a:ext cx="776304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330440" y="402804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2440" y="4028040"/>
            <a:ext cx="77630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77630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2440" y="4028040"/>
            <a:ext cx="77630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52440" y="402804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330440" y="402804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77200" y="139032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01960" y="139032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52440" y="402804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977200" y="402804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01960" y="4028040"/>
            <a:ext cx="249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776304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8920" y="324000"/>
            <a:ext cx="769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2440" y="402804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30440" y="402804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0440" y="1390320"/>
            <a:ext cx="37882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2440" y="4028040"/>
            <a:ext cx="77630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920" y="324000"/>
            <a:ext cx="769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390320"/>
            <a:ext cx="776304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292960" y="2908440"/>
            <a:ext cx="622440" cy="571320"/>
            <a:chOff x="8292960" y="2908440"/>
            <a:chExt cx="622440" cy="571320"/>
          </a:xfrm>
        </p:grpSpPr>
        <p:sp>
          <p:nvSpPr>
            <p:cNvPr id="3" name=""/>
            <p:cNvSpPr/>
            <p:nvPr/>
          </p:nvSpPr>
          <p:spPr>
            <a:xfrm>
              <a:off x="8604360" y="2908440"/>
              <a:ext cx="311040" cy="28548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8" y="681"/>
                  </a:lnTo>
                  <a:lnTo>
                    <a:pt x="296" y="684"/>
                  </a:lnTo>
                  <a:lnTo>
                    <a:pt x="395" y="690"/>
                  </a:lnTo>
                  <a:lnTo>
                    <a:pt x="491" y="695"/>
                  </a:lnTo>
                  <a:lnTo>
                    <a:pt x="589" y="702"/>
                  </a:lnTo>
                  <a:lnTo>
                    <a:pt x="686" y="710"/>
                  </a:lnTo>
                  <a:lnTo>
                    <a:pt x="782" y="719"/>
                  </a:lnTo>
                  <a:lnTo>
                    <a:pt x="878" y="730"/>
                  </a:lnTo>
                  <a:lnTo>
                    <a:pt x="973" y="741"/>
                  </a:lnTo>
                  <a:lnTo>
                    <a:pt x="1069" y="754"/>
                  </a:lnTo>
                  <a:lnTo>
                    <a:pt x="1165" y="769"/>
                  </a:lnTo>
                  <a:lnTo>
                    <a:pt x="1259" y="784"/>
                  </a:lnTo>
                  <a:lnTo>
                    <a:pt x="1353" y="800"/>
                  </a:lnTo>
                  <a:lnTo>
                    <a:pt x="1448" y="817"/>
                  </a:lnTo>
                  <a:lnTo>
                    <a:pt x="1541" y="836"/>
                  </a:lnTo>
                  <a:lnTo>
                    <a:pt x="1634" y="857"/>
                  </a:lnTo>
                  <a:lnTo>
                    <a:pt x="1727" y="877"/>
                  </a:lnTo>
                  <a:lnTo>
                    <a:pt x="1820" y="899"/>
                  </a:lnTo>
                  <a:lnTo>
                    <a:pt x="1911" y="922"/>
                  </a:lnTo>
                  <a:lnTo>
                    <a:pt x="2002" y="947"/>
                  </a:lnTo>
                  <a:lnTo>
                    <a:pt x="2093" y="972"/>
                  </a:lnTo>
                  <a:lnTo>
                    <a:pt x="2184" y="999"/>
                  </a:lnTo>
                  <a:lnTo>
                    <a:pt x="2273" y="1026"/>
                  </a:lnTo>
                  <a:lnTo>
                    <a:pt x="2363" y="1055"/>
                  </a:lnTo>
                  <a:lnTo>
                    <a:pt x="2452" y="1085"/>
                  </a:lnTo>
                  <a:lnTo>
                    <a:pt x="2541" y="1115"/>
                  </a:lnTo>
                  <a:lnTo>
                    <a:pt x="2629" y="1148"/>
                  </a:lnTo>
                  <a:lnTo>
                    <a:pt x="2716" y="1180"/>
                  </a:lnTo>
                  <a:lnTo>
                    <a:pt x="2804" y="1215"/>
                  </a:lnTo>
                  <a:lnTo>
                    <a:pt x="2891" y="1250"/>
                  </a:lnTo>
                  <a:lnTo>
                    <a:pt x="2978" y="1285"/>
                  </a:lnTo>
                  <a:lnTo>
                    <a:pt x="3063" y="1323"/>
                  </a:lnTo>
                  <a:lnTo>
                    <a:pt x="3148" y="1361"/>
                  </a:lnTo>
                  <a:lnTo>
                    <a:pt x="3232" y="1399"/>
                  </a:lnTo>
                  <a:lnTo>
                    <a:pt x="3315" y="1440"/>
                  </a:lnTo>
                  <a:lnTo>
                    <a:pt x="3399" y="1482"/>
                  </a:lnTo>
                  <a:lnTo>
                    <a:pt x="3483" y="1522"/>
                  </a:lnTo>
                  <a:lnTo>
                    <a:pt x="3564" y="1566"/>
                  </a:lnTo>
                  <a:lnTo>
                    <a:pt x="3646" y="1609"/>
                  </a:lnTo>
                  <a:lnTo>
                    <a:pt x="3727" y="1655"/>
                  </a:lnTo>
                  <a:lnTo>
                    <a:pt x="3808" y="1700"/>
                  </a:lnTo>
                  <a:lnTo>
                    <a:pt x="3888" y="1747"/>
                  </a:lnTo>
                  <a:lnTo>
                    <a:pt x="3967" y="1796"/>
                  </a:lnTo>
                  <a:lnTo>
                    <a:pt x="4046" y="1845"/>
                  </a:lnTo>
                  <a:lnTo>
                    <a:pt x="4123" y="1894"/>
                  </a:lnTo>
                  <a:lnTo>
                    <a:pt x="4201" y="1944"/>
                  </a:lnTo>
                  <a:lnTo>
                    <a:pt x="4278" y="1996"/>
                  </a:lnTo>
                  <a:lnTo>
                    <a:pt x="4353" y="2049"/>
                  </a:lnTo>
                  <a:lnTo>
                    <a:pt x="4430" y="2101"/>
                  </a:lnTo>
                  <a:lnTo>
                    <a:pt x="4505" y="2156"/>
                  </a:lnTo>
                  <a:lnTo>
                    <a:pt x="4579" y="2210"/>
                  </a:lnTo>
                  <a:lnTo>
                    <a:pt x="4652" y="2267"/>
                  </a:lnTo>
                  <a:lnTo>
                    <a:pt x="4725" y="2324"/>
                  </a:lnTo>
                  <a:lnTo>
                    <a:pt x="4797" y="2382"/>
                  </a:lnTo>
                  <a:lnTo>
                    <a:pt x="4867" y="2439"/>
                  </a:lnTo>
                  <a:lnTo>
                    <a:pt x="4938" y="2499"/>
                  </a:lnTo>
                  <a:lnTo>
                    <a:pt x="5009" y="2558"/>
                  </a:lnTo>
                  <a:lnTo>
                    <a:pt x="5079" y="2620"/>
                  </a:lnTo>
                  <a:lnTo>
                    <a:pt x="5147" y="2682"/>
                  </a:lnTo>
                  <a:lnTo>
                    <a:pt x="5214" y="2745"/>
                  </a:lnTo>
                  <a:lnTo>
                    <a:pt x="5281" y="2807"/>
                  </a:lnTo>
                  <a:lnTo>
                    <a:pt x="5348" y="2872"/>
                  </a:lnTo>
                  <a:lnTo>
                    <a:pt x="5412" y="2937"/>
                  </a:lnTo>
                  <a:lnTo>
                    <a:pt x="5477" y="3002"/>
                  </a:lnTo>
                  <a:lnTo>
                    <a:pt x="5542" y="3069"/>
                  </a:lnTo>
                  <a:lnTo>
                    <a:pt x="5604" y="3136"/>
                  </a:lnTo>
                  <a:lnTo>
                    <a:pt x="5667" y="3204"/>
                  </a:lnTo>
                  <a:lnTo>
                    <a:pt x="5728" y="3272"/>
                  </a:lnTo>
                  <a:lnTo>
                    <a:pt x="5790" y="3342"/>
                  </a:lnTo>
                  <a:lnTo>
                    <a:pt x="5849" y="3413"/>
                  </a:lnTo>
                  <a:lnTo>
                    <a:pt x="5909" y="3484"/>
                  </a:lnTo>
                  <a:lnTo>
                    <a:pt x="5966" y="3555"/>
                  </a:lnTo>
                  <a:lnTo>
                    <a:pt x="6023" y="3628"/>
                  </a:lnTo>
                  <a:lnTo>
                    <a:pt x="6079" y="3701"/>
                  </a:lnTo>
                  <a:lnTo>
                    <a:pt x="6137" y="3774"/>
                  </a:lnTo>
                  <a:lnTo>
                    <a:pt x="6191" y="3849"/>
                  </a:lnTo>
                  <a:lnTo>
                    <a:pt x="6245" y="3924"/>
                  </a:lnTo>
                  <a:lnTo>
                    <a:pt x="6297" y="4000"/>
                  </a:lnTo>
                  <a:lnTo>
                    <a:pt x="6349" y="4076"/>
                  </a:lnTo>
                  <a:lnTo>
                    <a:pt x="6401" y="4153"/>
                  </a:lnTo>
                  <a:lnTo>
                    <a:pt x="6452" y="4232"/>
                  </a:lnTo>
                  <a:lnTo>
                    <a:pt x="6501" y="4309"/>
                  </a:lnTo>
                  <a:lnTo>
                    <a:pt x="6549" y="4388"/>
                  </a:lnTo>
                  <a:lnTo>
                    <a:pt x="6597" y="4468"/>
                  </a:lnTo>
                  <a:lnTo>
                    <a:pt x="6644" y="4548"/>
                  </a:lnTo>
                  <a:lnTo>
                    <a:pt x="6689" y="4629"/>
                  </a:lnTo>
                  <a:lnTo>
                    <a:pt x="6735" y="4711"/>
                  </a:lnTo>
                  <a:lnTo>
                    <a:pt x="6778" y="4792"/>
                  </a:lnTo>
                  <a:lnTo>
                    <a:pt x="6822" y="4874"/>
                  </a:lnTo>
                  <a:lnTo>
                    <a:pt x="6862" y="4959"/>
                  </a:lnTo>
                  <a:lnTo>
                    <a:pt x="6904" y="5042"/>
                  </a:lnTo>
                  <a:lnTo>
                    <a:pt x="6945" y="5126"/>
                  </a:lnTo>
                  <a:lnTo>
                    <a:pt x="6982" y="5211"/>
                  </a:lnTo>
                  <a:lnTo>
                    <a:pt x="7021" y="5296"/>
                  </a:lnTo>
                  <a:lnTo>
                    <a:pt x="7058" y="5382"/>
                  </a:lnTo>
                  <a:lnTo>
                    <a:pt x="7093" y="5468"/>
                  </a:lnTo>
                  <a:lnTo>
                    <a:pt x="7128" y="5556"/>
                  </a:lnTo>
                  <a:lnTo>
                    <a:pt x="7162" y="5644"/>
                  </a:lnTo>
                  <a:lnTo>
                    <a:pt x="7195" y="5732"/>
                  </a:lnTo>
                  <a:lnTo>
                    <a:pt x="7227" y="5820"/>
                  </a:lnTo>
                  <a:lnTo>
                    <a:pt x="7257" y="5909"/>
                  </a:lnTo>
                  <a:lnTo>
                    <a:pt x="7287" y="5999"/>
                  </a:lnTo>
                  <a:lnTo>
                    <a:pt x="7316" y="6089"/>
                  </a:lnTo>
                  <a:lnTo>
                    <a:pt x="7343" y="6179"/>
                  </a:lnTo>
                  <a:lnTo>
                    <a:pt x="7370" y="6270"/>
                  </a:lnTo>
                  <a:lnTo>
                    <a:pt x="7395" y="6361"/>
                  </a:lnTo>
                  <a:lnTo>
                    <a:pt x="7420" y="6452"/>
                  </a:lnTo>
                  <a:lnTo>
                    <a:pt x="7443" y="6544"/>
                  </a:lnTo>
                  <a:lnTo>
                    <a:pt x="7465" y="6637"/>
                  </a:lnTo>
                  <a:lnTo>
                    <a:pt x="7484" y="6730"/>
                  </a:lnTo>
                  <a:lnTo>
                    <a:pt x="7505" y="6823"/>
                  </a:lnTo>
                  <a:lnTo>
                    <a:pt x="7524" y="6918"/>
                  </a:lnTo>
                  <a:lnTo>
                    <a:pt x="7541" y="7013"/>
                  </a:lnTo>
                  <a:lnTo>
                    <a:pt x="7557" y="7107"/>
                  </a:lnTo>
                  <a:lnTo>
                    <a:pt x="7572" y="7201"/>
                  </a:lnTo>
                  <a:lnTo>
                    <a:pt x="7587" y="7297"/>
                  </a:lnTo>
                  <a:lnTo>
                    <a:pt x="7600" y="7394"/>
                  </a:lnTo>
                  <a:lnTo>
                    <a:pt x="7611" y="7490"/>
                  </a:lnTo>
                  <a:lnTo>
                    <a:pt x="7622" y="7586"/>
                  </a:lnTo>
                  <a:lnTo>
                    <a:pt x="7630" y="7682"/>
                  </a:lnTo>
                  <a:lnTo>
                    <a:pt x="7639" y="7780"/>
                  </a:lnTo>
                  <a:lnTo>
                    <a:pt x="7646" y="7878"/>
                  </a:lnTo>
                  <a:lnTo>
                    <a:pt x="7651" y="7974"/>
                  </a:lnTo>
                  <a:lnTo>
                    <a:pt x="7656" y="8074"/>
                  </a:lnTo>
                  <a:lnTo>
                    <a:pt x="7659" y="8172"/>
                  </a:lnTo>
                  <a:lnTo>
                    <a:pt x="7659" y="8272"/>
                  </a:lnTo>
                  <a:lnTo>
                    <a:pt x="7661" y="8371"/>
                  </a:lnTo>
                  <a:lnTo>
                    <a:pt x="8338" y="8371"/>
                  </a:lnTo>
                  <a:lnTo>
                    <a:pt x="8337" y="8263"/>
                  </a:lnTo>
                  <a:lnTo>
                    <a:pt x="8334" y="8156"/>
                  </a:lnTo>
                  <a:lnTo>
                    <a:pt x="8331" y="8050"/>
                  </a:lnTo>
                  <a:lnTo>
                    <a:pt x="8327" y="7943"/>
                  </a:lnTo>
                  <a:lnTo>
                    <a:pt x="8320" y="7835"/>
                  </a:lnTo>
                  <a:lnTo>
                    <a:pt x="8313" y="7730"/>
                  </a:lnTo>
                  <a:lnTo>
                    <a:pt x="8305" y="7624"/>
                  </a:lnTo>
                  <a:lnTo>
                    <a:pt x="8294" y="7517"/>
                  </a:lnTo>
                  <a:lnTo>
                    <a:pt x="8283" y="7413"/>
                  </a:lnTo>
                  <a:lnTo>
                    <a:pt x="8269" y="7308"/>
                  </a:lnTo>
                  <a:lnTo>
                    <a:pt x="8256" y="7204"/>
                  </a:lnTo>
                  <a:lnTo>
                    <a:pt x="8241" y="7101"/>
                  </a:lnTo>
                  <a:lnTo>
                    <a:pt x="8224" y="6996"/>
                  </a:lnTo>
                  <a:lnTo>
                    <a:pt x="8208" y="6892"/>
                  </a:lnTo>
                  <a:lnTo>
                    <a:pt x="8188" y="6791"/>
                  </a:lnTo>
                  <a:lnTo>
                    <a:pt x="8167" y="6688"/>
                  </a:lnTo>
                  <a:lnTo>
                    <a:pt x="8146" y="6587"/>
                  </a:lnTo>
                  <a:lnTo>
                    <a:pt x="8123" y="6485"/>
                  </a:lnTo>
                  <a:lnTo>
                    <a:pt x="8098" y="6385"/>
                  </a:lnTo>
                  <a:lnTo>
                    <a:pt x="8073" y="6285"/>
                  </a:lnTo>
                  <a:lnTo>
                    <a:pt x="8048" y="6183"/>
                  </a:lnTo>
                  <a:lnTo>
                    <a:pt x="8020" y="6084"/>
                  </a:lnTo>
                  <a:lnTo>
                    <a:pt x="7991" y="5985"/>
                  </a:lnTo>
                  <a:lnTo>
                    <a:pt x="7962" y="5887"/>
                  </a:lnTo>
                  <a:lnTo>
                    <a:pt x="7930" y="5789"/>
                  </a:lnTo>
                  <a:lnTo>
                    <a:pt x="7898" y="5691"/>
                  </a:lnTo>
                  <a:lnTo>
                    <a:pt x="7865" y="5594"/>
                  </a:lnTo>
                  <a:lnTo>
                    <a:pt x="7830" y="5498"/>
                  </a:lnTo>
                  <a:lnTo>
                    <a:pt x="7794" y="5402"/>
                  </a:lnTo>
                  <a:lnTo>
                    <a:pt x="7757" y="5306"/>
                  </a:lnTo>
                  <a:lnTo>
                    <a:pt x="7720" y="5213"/>
                  </a:lnTo>
                  <a:lnTo>
                    <a:pt x="7679" y="5119"/>
                  </a:lnTo>
                  <a:lnTo>
                    <a:pt x="7640" y="5025"/>
                  </a:lnTo>
                  <a:lnTo>
                    <a:pt x="7599" y="4932"/>
                  </a:lnTo>
                  <a:lnTo>
                    <a:pt x="7555" y="4839"/>
                  </a:lnTo>
                  <a:lnTo>
                    <a:pt x="7513" y="4747"/>
                  </a:lnTo>
                  <a:lnTo>
                    <a:pt x="7469" y="4656"/>
                  </a:lnTo>
                  <a:lnTo>
                    <a:pt x="7422" y="4566"/>
                  </a:lnTo>
                  <a:lnTo>
                    <a:pt x="7376" y="4476"/>
                  </a:lnTo>
                  <a:lnTo>
                    <a:pt x="7328" y="4386"/>
                  </a:lnTo>
                  <a:lnTo>
                    <a:pt x="7279" y="4297"/>
                  </a:lnTo>
                  <a:lnTo>
                    <a:pt x="7229" y="4211"/>
                  </a:lnTo>
                  <a:lnTo>
                    <a:pt x="7179" y="4123"/>
                  </a:lnTo>
                  <a:lnTo>
                    <a:pt x="7127" y="4036"/>
                  </a:lnTo>
                  <a:lnTo>
                    <a:pt x="7075" y="3950"/>
                  </a:lnTo>
                  <a:lnTo>
                    <a:pt x="7021" y="3864"/>
                  </a:lnTo>
                  <a:lnTo>
                    <a:pt x="6965" y="3781"/>
                  </a:lnTo>
                  <a:lnTo>
                    <a:pt x="6910" y="3696"/>
                  </a:lnTo>
                  <a:lnTo>
                    <a:pt x="6853" y="3612"/>
                  </a:lnTo>
                  <a:lnTo>
                    <a:pt x="6795" y="3530"/>
                  </a:lnTo>
                  <a:lnTo>
                    <a:pt x="6736" y="3450"/>
                  </a:lnTo>
                  <a:lnTo>
                    <a:pt x="6677" y="3368"/>
                  </a:lnTo>
                  <a:lnTo>
                    <a:pt x="6617" y="3287"/>
                  </a:lnTo>
                  <a:lnTo>
                    <a:pt x="6555" y="3208"/>
                  </a:lnTo>
                  <a:lnTo>
                    <a:pt x="6492" y="3130"/>
                  </a:lnTo>
                  <a:lnTo>
                    <a:pt x="6430" y="3051"/>
                  </a:lnTo>
                  <a:lnTo>
                    <a:pt x="6365" y="2975"/>
                  </a:lnTo>
                  <a:lnTo>
                    <a:pt x="6299" y="2898"/>
                  </a:lnTo>
                  <a:lnTo>
                    <a:pt x="6234" y="2823"/>
                  </a:lnTo>
                  <a:lnTo>
                    <a:pt x="6167" y="2748"/>
                  </a:lnTo>
                  <a:lnTo>
                    <a:pt x="6099" y="2675"/>
                  </a:lnTo>
                  <a:lnTo>
                    <a:pt x="6030" y="2601"/>
                  </a:lnTo>
                  <a:lnTo>
                    <a:pt x="5962" y="2529"/>
                  </a:lnTo>
                  <a:lnTo>
                    <a:pt x="5891" y="2457"/>
                  </a:lnTo>
                  <a:lnTo>
                    <a:pt x="5819" y="2386"/>
                  </a:lnTo>
                  <a:lnTo>
                    <a:pt x="5747" y="2317"/>
                  </a:lnTo>
                  <a:lnTo>
                    <a:pt x="5674" y="2248"/>
                  </a:lnTo>
                  <a:lnTo>
                    <a:pt x="5601" y="2180"/>
                  </a:lnTo>
                  <a:lnTo>
                    <a:pt x="5526" y="2113"/>
                  </a:lnTo>
                  <a:lnTo>
                    <a:pt x="5451" y="2047"/>
                  </a:lnTo>
                  <a:lnTo>
                    <a:pt x="5375" y="1981"/>
                  </a:lnTo>
                  <a:lnTo>
                    <a:pt x="5299" y="1916"/>
                  </a:lnTo>
                  <a:lnTo>
                    <a:pt x="5221" y="1853"/>
                  </a:lnTo>
                  <a:lnTo>
                    <a:pt x="5142" y="1790"/>
                  </a:lnTo>
                  <a:lnTo>
                    <a:pt x="5064" y="1728"/>
                  </a:lnTo>
                  <a:lnTo>
                    <a:pt x="4983" y="1668"/>
                  </a:lnTo>
                  <a:lnTo>
                    <a:pt x="4902" y="1608"/>
                  </a:lnTo>
                  <a:lnTo>
                    <a:pt x="4821" y="1549"/>
                  </a:lnTo>
                  <a:lnTo>
                    <a:pt x="4740" y="1491"/>
                  </a:lnTo>
                  <a:lnTo>
                    <a:pt x="4657" y="1434"/>
                  </a:lnTo>
                  <a:lnTo>
                    <a:pt x="4572" y="1378"/>
                  </a:lnTo>
                  <a:lnTo>
                    <a:pt x="4489" y="1323"/>
                  </a:lnTo>
                  <a:lnTo>
                    <a:pt x="4404" y="1268"/>
                  </a:lnTo>
                  <a:lnTo>
                    <a:pt x="4318" y="1216"/>
                  </a:lnTo>
                  <a:lnTo>
                    <a:pt x="4232" y="1164"/>
                  </a:lnTo>
                  <a:lnTo>
                    <a:pt x="4144" y="1113"/>
                  </a:lnTo>
                  <a:lnTo>
                    <a:pt x="4057" y="1063"/>
                  </a:lnTo>
                  <a:lnTo>
                    <a:pt x="3969" y="1014"/>
                  </a:lnTo>
                  <a:lnTo>
                    <a:pt x="3879" y="966"/>
                  </a:lnTo>
                  <a:lnTo>
                    <a:pt x="3790" y="920"/>
                  </a:lnTo>
                  <a:lnTo>
                    <a:pt x="3700" y="873"/>
                  </a:lnTo>
                  <a:lnTo>
                    <a:pt x="3609" y="829"/>
                  </a:lnTo>
                  <a:lnTo>
                    <a:pt x="3518" y="786"/>
                  </a:lnTo>
                  <a:lnTo>
                    <a:pt x="3426" y="742"/>
                  </a:lnTo>
                  <a:lnTo>
                    <a:pt x="3333" y="701"/>
                  </a:lnTo>
                  <a:lnTo>
                    <a:pt x="3239" y="661"/>
                  </a:lnTo>
                  <a:lnTo>
                    <a:pt x="3146" y="621"/>
                  </a:lnTo>
                  <a:lnTo>
                    <a:pt x="3053" y="583"/>
                  </a:lnTo>
                  <a:lnTo>
                    <a:pt x="2957" y="546"/>
                  </a:lnTo>
                  <a:lnTo>
                    <a:pt x="2862" y="510"/>
                  </a:lnTo>
                  <a:lnTo>
                    <a:pt x="2766" y="475"/>
                  </a:lnTo>
                  <a:lnTo>
                    <a:pt x="2669" y="442"/>
                  </a:lnTo>
                  <a:lnTo>
                    <a:pt x="2572" y="409"/>
                  </a:lnTo>
                  <a:lnTo>
                    <a:pt x="2474" y="378"/>
                  </a:lnTo>
                  <a:lnTo>
                    <a:pt x="2376" y="348"/>
                  </a:lnTo>
                  <a:lnTo>
                    <a:pt x="2278" y="319"/>
                  </a:lnTo>
                  <a:lnTo>
                    <a:pt x="2179" y="291"/>
                  </a:lnTo>
                  <a:lnTo>
                    <a:pt x="2078" y="266"/>
                  </a:lnTo>
                  <a:lnTo>
                    <a:pt x="1978" y="241"/>
                  </a:lnTo>
                  <a:lnTo>
                    <a:pt x="1878" y="216"/>
                  </a:lnTo>
                  <a:lnTo>
                    <a:pt x="1777" y="193"/>
                  </a:lnTo>
                  <a:lnTo>
                    <a:pt x="1676" y="172"/>
                  </a:lnTo>
                  <a:lnTo>
                    <a:pt x="1574" y="151"/>
                  </a:lnTo>
                  <a:lnTo>
                    <a:pt x="1473" y="131"/>
                  </a:lnTo>
                  <a:lnTo>
                    <a:pt x="1370" y="114"/>
                  </a:lnTo>
                  <a:lnTo>
                    <a:pt x="1265" y="97"/>
                  </a:lnTo>
                  <a:lnTo>
                    <a:pt x="1162" y="83"/>
                  </a:lnTo>
                  <a:lnTo>
                    <a:pt x="1059" y="69"/>
                  </a:lnTo>
                  <a:lnTo>
                    <a:pt x="955" y="55"/>
                  </a:lnTo>
                  <a:lnTo>
                    <a:pt x="850" y="44"/>
                  </a:lnTo>
                  <a:lnTo>
                    <a:pt x="744" y="33"/>
                  </a:lnTo>
                  <a:lnTo>
                    <a:pt x="639" y="25"/>
                  </a:lnTo>
                  <a:lnTo>
                    <a:pt x="534" y="18"/>
                  </a:lnTo>
                  <a:lnTo>
                    <a:pt x="426" y="12"/>
                  </a:lnTo>
                  <a:lnTo>
                    <a:pt x="320" y="7"/>
                  </a:lnTo>
                  <a:lnTo>
                    <a:pt x="214" y="4"/>
                  </a:lnTo>
                  <a:lnTo>
                    <a:pt x="10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92960" y="2908440"/>
              <a:ext cx="311400" cy="28548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677" y="8371"/>
                  </a:moveTo>
                  <a:lnTo>
                    <a:pt x="677" y="8371"/>
                  </a:lnTo>
                  <a:lnTo>
                    <a:pt x="677" y="8272"/>
                  </a:lnTo>
                  <a:lnTo>
                    <a:pt x="679" y="8172"/>
                  </a:lnTo>
                  <a:lnTo>
                    <a:pt x="682" y="8074"/>
                  </a:lnTo>
                  <a:lnTo>
                    <a:pt x="687" y="7974"/>
                  </a:lnTo>
                  <a:lnTo>
                    <a:pt x="692" y="7878"/>
                  </a:lnTo>
                  <a:lnTo>
                    <a:pt x="699" y="7780"/>
                  </a:lnTo>
                  <a:lnTo>
                    <a:pt x="708" y="7682"/>
                  </a:lnTo>
                  <a:lnTo>
                    <a:pt x="716" y="7585"/>
                  </a:lnTo>
                  <a:lnTo>
                    <a:pt x="726" y="7490"/>
                  </a:lnTo>
                  <a:lnTo>
                    <a:pt x="738" y="7394"/>
                  </a:lnTo>
                  <a:lnTo>
                    <a:pt x="751" y="7297"/>
                  </a:lnTo>
                  <a:lnTo>
                    <a:pt x="766" y="7201"/>
                  </a:lnTo>
                  <a:lnTo>
                    <a:pt x="780" y="7106"/>
                  </a:lnTo>
                  <a:lnTo>
                    <a:pt x="796" y="7013"/>
                  </a:lnTo>
                  <a:lnTo>
                    <a:pt x="814" y="6918"/>
                  </a:lnTo>
                  <a:lnTo>
                    <a:pt x="833" y="6823"/>
                  </a:lnTo>
                  <a:lnTo>
                    <a:pt x="853" y="6730"/>
                  </a:lnTo>
                  <a:lnTo>
                    <a:pt x="873" y="6637"/>
                  </a:lnTo>
                  <a:lnTo>
                    <a:pt x="895" y="6544"/>
                  </a:lnTo>
                  <a:lnTo>
                    <a:pt x="918" y="6452"/>
                  </a:lnTo>
                  <a:lnTo>
                    <a:pt x="943" y="6361"/>
                  </a:lnTo>
                  <a:lnTo>
                    <a:pt x="968" y="6270"/>
                  </a:lnTo>
                  <a:lnTo>
                    <a:pt x="994" y="6179"/>
                  </a:lnTo>
                  <a:lnTo>
                    <a:pt x="1022" y="6089"/>
                  </a:lnTo>
                  <a:lnTo>
                    <a:pt x="1051" y="5999"/>
                  </a:lnTo>
                  <a:lnTo>
                    <a:pt x="1080" y="5909"/>
                  </a:lnTo>
                  <a:lnTo>
                    <a:pt x="1111" y="5820"/>
                  </a:lnTo>
                  <a:lnTo>
                    <a:pt x="1142" y="5732"/>
                  </a:lnTo>
                  <a:lnTo>
                    <a:pt x="1176" y="5644"/>
                  </a:lnTo>
                  <a:lnTo>
                    <a:pt x="1210" y="5556"/>
                  </a:lnTo>
                  <a:lnTo>
                    <a:pt x="1243" y="5469"/>
                  </a:lnTo>
                  <a:lnTo>
                    <a:pt x="1280" y="5382"/>
                  </a:lnTo>
                  <a:lnTo>
                    <a:pt x="1317" y="5296"/>
                  </a:lnTo>
                  <a:lnTo>
                    <a:pt x="1355" y="5211"/>
                  </a:lnTo>
                  <a:lnTo>
                    <a:pt x="1393" y="5126"/>
                  </a:lnTo>
                  <a:lnTo>
                    <a:pt x="1433" y="5042"/>
                  </a:lnTo>
                  <a:lnTo>
                    <a:pt x="1475" y="4959"/>
                  </a:lnTo>
                  <a:lnTo>
                    <a:pt x="1516" y="4874"/>
                  </a:lnTo>
                  <a:lnTo>
                    <a:pt x="1559" y="4792"/>
                  </a:lnTo>
                  <a:lnTo>
                    <a:pt x="1603" y="4711"/>
                  </a:lnTo>
                  <a:lnTo>
                    <a:pt x="1648" y="4629"/>
                  </a:lnTo>
                  <a:lnTo>
                    <a:pt x="1694" y="4548"/>
                  </a:lnTo>
                  <a:lnTo>
                    <a:pt x="1741" y="4468"/>
                  </a:lnTo>
                  <a:lnTo>
                    <a:pt x="1787" y="4388"/>
                  </a:lnTo>
                  <a:lnTo>
                    <a:pt x="1837" y="4309"/>
                  </a:lnTo>
                  <a:lnTo>
                    <a:pt x="1886" y="4232"/>
                  </a:lnTo>
                  <a:lnTo>
                    <a:pt x="1937" y="4153"/>
                  </a:lnTo>
                  <a:lnTo>
                    <a:pt x="1989" y="4076"/>
                  </a:lnTo>
                  <a:lnTo>
                    <a:pt x="2040" y="3999"/>
                  </a:lnTo>
                  <a:lnTo>
                    <a:pt x="2093" y="3924"/>
                  </a:lnTo>
                  <a:lnTo>
                    <a:pt x="2146" y="3849"/>
                  </a:lnTo>
                  <a:lnTo>
                    <a:pt x="2201" y="3774"/>
                  </a:lnTo>
                  <a:lnTo>
                    <a:pt x="2258" y="3700"/>
                  </a:lnTo>
                  <a:lnTo>
                    <a:pt x="2314" y="3628"/>
                  </a:lnTo>
                  <a:lnTo>
                    <a:pt x="2371" y="3555"/>
                  </a:lnTo>
                  <a:lnTo>
                    <a:pt x="2429" y="3484"/>
                  </a:lnTo>
                  <a:lnTo>
                    <a:pt x="2489" y="3413"/>
                  </a:lnTo>
                  <a:lnTo>
                    <a:pt x="2548" y="3342"/>
                  </a:lnTo>
                  <a:lnTo>
                    <a:pt x="2609" y="3272"/>
                  </a:lnTo>
                  <a:lnTo>
                    <a:pt x="2671" y="3204"/>
                  </a:lnTo>
                  <a:lnTo>
                    <a:pt x="2733" y="3136"/>
                  </a:lnTo>
                  <a:lnTo>
                    <a:pt x="2796" y="3069"/>
                  </a:lnTo>
                  <a:lnTo>
                    <a:pt x="2861" y="3002"/>
                  </a:lnTo>
                  <a:lnTo>
                    <a:pt x="2926" y="2937"/>
                  </a:lnTo>
                  <a:lnTo>
                    <a:pt x="2990" y="2872"/>
                  </a:lnTo>
                  <a:lnTo>
                    <a:pt x="3056" y="2807"/>
                  </a:lnTo>
                  <a:lnTo>
                    <a:pt x="3124" y="2745"/>
                  </a:lnTo>
                  <a:lnTo>
                    <a:pt x="3191" y="2682"/>
                  </a:lnTo>
                  <a:lnTo>
                    <a:pt x="3260" y="2620"/>
                  </a:lnTo>
                  <a:lnTo>
                    <a:pt x="3329" y="2558"/>
                  </a:lnTo>
                  <a:lnTo>
                    <a:pt x="3399" y="2499"/>
                  </a:lnTo>
                  <a:lnTo>
                    <a:pt x="3471" y="2439"/>
                  </a:lnTo>
                  <a:lnTo>
                    <a:pt x="3541" y="2382"/>
                  </a:lnTo>
                  <a:lnTo>
                    <a:pt x="3613" y="2324"/>
                  </a:lnTo>
                  <a:lnTo>
                    <a:pt x="3685" y="2267"/>
                  </a:lnTo>
                  <a:lnTo>
                    <a:pt x="3759" y="2210"/>
                  </a:lnTo>
                  <a:lnTo>
                    <a:pt x="3832" y="2156"/>
                  </a:lnTo>
                  <a:lnTo>
                    <a:pt x="3908" y="2101"/>
                  </a:lnTo>
                  <a:lnTo>
                    <a:pt x="3982" y="2049"/>
                  </a:lnTo>
                  <a:lnTo>
                    <a:pt x="4060" y="1996"/>
                  </a:lnTo>
                  <a:lnTo>
                    <a:pt x="4136" y="1944"/>
                  </a:lnTo>
                  <a:lnTo>
                    <a:pt x="4214" y="1894"/>
                  </a:lnTo>
                  <a:lnTo>
                    <a:pt x="4292" y="1845"/>
                  </a:lnTo>
                  <a:lnTo>
                    <a:pt x="4371" y="1796"/>
                  </a:lnTo>
                  <a:lnTo>
                    <a:pt x="4450" y="1747"/>
                  </a:lnTo>
                  <a:lnTo>
                    <a:pt x="4530" y="1700"/>
                  </a:lnTo>
                  <a:lnTo>
                    <a:pt x="4611" y="1655"/>
                  </a:lnTo>
                  <a:lnTo>
                    <a:pt x="4691" y="1609"/>
                  </a:lnTo>
                  <a:lnTo>
                    <a:pt x="4772" y="1566"/>
                  </a:lnTo>
                  <a:lnTo>
                    <a:pt x="4855" y="1522"/>
                  </a:lnTo>
                  <a:lnTo>
                    <a:pt x="4938" y="1482"/>
                  </a:lnTo>
                  <a:lnTo>
                    <a:pt x="5022" y="1440"/>
                  </a:lnTo>
                  <a:lnTo>
                    <a:pt x="5106" y="1399"/>
                  </a:lnTo>
                  <a:lnTo>
                    <a:pt x="5189" y="1361"/>
                  </a:lnTo>
                  <a:lnTo>
                    <a:pt x="5275" y="1323"/>
                  </a:lnTo>
                  <a:lnTo>
                    <a:pt x="5360" y="1285"/>
                  </a:lnTo>
                  <a:lnTo>
                    <a:pt x="5448" y="1248"/>
                  </a:lnTo>
                  <a:lnTo>
                    <a:pt x="5534" y="1215"/>
                  </a:lnTo>
                  <a:lnTo>
                    <a:pt x="5621" y="1180"/>
                  </a:lnTo>
                  <a:lnTo>
                    <a:pt x="5708" y="1148"/>
                  </a:lnTo>
                  <a:lnTo>
                    <a:pt x="5797" y="1115"/>
                  </a:lnTo>
                  <a:lnTo>
                    <a:pt x="5886" y="1085"/>
                  </a:lnTo>
                  <a:lnTo>
                    <a:pt x="5974" y="1055"/>
                  </a:lnTo>
                  <a:lnTo>
                    <a:pt x="6064" y="1026"/>
                  </a:lnTo>
                  <a:lnTo>
                    <a:pt x="6154" y="999"/>
                  </a:lnTo>
                  <a:lnTo>
                    <a:pt x="6245" y="972"/>
                  </a:lnTo>
                  <a:lnTo>
                    <a:pt x="6336" y="947"/>
                  </a:lnTo>
                  <a:lnTo>
                    <a:pt x="6427" y="922"/>
                  </a:lnTo>
                  <a:lnTo>
                    <a:pt x="6518" y="899"/>
                  </a:lnTo>
                  <a:lnTo>
                    <a:pt x="6610" y="877"/>
                  </a:lnTo>
                  <a:lnTo>
                    <a:pt x="6704" y="857"/>
                  </a:lnTo>
                  <a:lnTo>
                    <a:pt x="6797" y="836"/>
                  </a:lnTo>
                  <a:lnTo>
                    <a:pt x="6890" y="817"/>
                  </a:lnTo>
                  <a:lnTo>
                    <a:pt x="6984" y="800"/>
                  </a:lnTo>
                  <a:lnTo>
                    <a:pt x="7079" y="784"/>
                  </a:lnTo>
                  <a:lnTo>
                    <a:pt x="7173" y="769"/>
                  </a:lnTo>
                  <a:lnTo>
                    <a:pt x="7268" y="754"/>
                  </a:lnTo>
                  <a:lnTo>
                    <a:pt x="7363" y="741"/>
                  </a:lnTo>
                  <a:lnTo>
                    <a:pt x="7459" y="730"/>
                  </a:lnTo>
                  <a:lnTo>
                    <a:pt x="7556" y="719"/>
                  </a:lnTo>
                  <a:lnTo>
                    <a:pt x="7652" y="710"/>
                  </a:lnTo>
                  <a:lnTo>
                    <a:pt x="7749" y="702"/>
                  </a:lnTo>
                  <a:lnTo>
                    <a:pt x="7847" y="695"/>
                  </a:lnTo>
                  <a:lnTo>
                    <a:pt x="7943" y="690"/>
                  </a:lnTo>
                  <a:lnTo>
                    <a:pt x="8041" y="684"/>
                  </a:lnTo>
                  <a:lnTo>
                    <a:pt x="8140" y="681"/>
                  </a:lnTo>
                  <a:lnTo>
                    <a:pt x="8239" y="681"/>
                  </a:lnTo>
                  <a:lnTo>
                    <a:pt x="8338" y="680"/>
                  </a:lnTo>
                  <a:lnTo>
                    <a:pt x="8338" y="0"/>
                  </a:lnTo>
                  <a:lnTo>
                    <a:pt x="8231" y="1"/>
                  </a:lnTo>
                  <a:lnTo>
                    <a:pt x="8124" y="4"/>
                  </a:lnTo>
                  <a:lnTo>
                    <a:pt x="8018" y="7"/>
                  </a:lnTo>
                  <a:lnTo>
                    <a:pt x="7912" y="12"/>
                  </a:lnTo>
                  <a:lnTo>
                    <a:pt x="7804" y="18"/>
                  </a:lnTo>
                  <a:lnTo>
                    <a:pt x="7699" y="25"/>
                  </a:lnTo>
                  <a:lnTo>
                    <a:pt x="7594" y="33"/>
                  </a:lnTo>
                  <a:lnTo>
                    <a:pt x="7488" y="44"/>
                  </a:lnTo>
                  <a:lnTo>
                    <a:pt x="7383" y="55"/>
                  </a:lnTo>
                  <a:lnTo>
                    <a:pt x="7279" y="69"/>
                  </a:lnTo>
                  <a:lnTo>
                    <a:pt x="7176" y="83"/>
                  </a:lnTo>
                  <a:lnTo>
                    <a:pt x="7072" y="97"/>
                  </a:lnTo>
                  <a:lnTo>
                    <a:pt x="6967" y="114"/>
                  </a:lnTo>
                  <a:lnTo>
                    <a:pt x="6865" y="131"/>
                  </a:lnTo>
                  <a:lnTo>
                    <a:pt x="6763" y="151"/>
                  </a:lnTo>
                  <a:lnTo>
                    <a:pt x="6662" y="172"/>
                  </a:lnTo>
                  <a:lnTo>
                    <a:pt x="6561" y="193"/>
                  </a:lnTo>
                  <a:lnTo>
                    <a:pt x="6460" y="216"/>
                  </a:lnTo>
                  <a:lnTo>
                    <a:pt x="6359" y="241"/>
                  </a:lnTo>
                  <a:lnTo>
                    <a:pt x="6260" y="266"/>
                  </a:lnTo>
                  <a:lnTo>
                    <a:pt x="6159" y="291"/>
                  </a:lnTo>
                  <a:lnTo>
                    <a:pt x="6060" y="319"/>
                  </a:lnTo>
                  <a:lnTo>
                    <a:pt x="5961" y="348"/>
                  </a:lnTo>
                  <a:lnTo>
                    <a:pt x="5863" y="378"/>
                  </a:lnTo>
                  <a:lnTo>
                    <a:pt x="5766" y="409"/>
                  </a:lnTo>
                  <a:lnTo>
                    <a:pt x="5669" y="442"/>
                  </a:lnTo>
                  <a:lnTo>
                    <a:pt x="5572" y="475"/>
                  </a:lnTo>
                  <a:lnTo>
                    <a:pt x="5476" y="510"/>
                  </a:lnTo>
                  <a:lnTo>
                    <a:pt x="5380" y="546"/>
                  </a:lnTo>
                  <a:lnTo>
                    <a:pt x="5285" y="583"/>
                  </a:lnTo>
                  <a:lnTo>
                    <a:pt x="5190" y="622"/>
                  </a:lnTo>
                  <a:lnTo>
                    <a:pt x="5099" y="661"/>
                  </a:lnTo>
                  <a:lnTo>
                    <a:pt x="5005" y="701"/>
                  </a:lnTo>
                  <a:lnTo>
                    <a:pt x="4912" y="742"/>
                  </a:lnTo>
                  <a:lnTo>
                    <a:pt x="4819" y="786"/>
                  </a:lnTo>
                  <a:lnTo>
                    <a:pt x="4729" y="829"/>
                  </a:lnTo>
                  <a:lnTo>
                    <a:pt x="4637" y="873"/>
                  </a:lnTo>
                  <a:lnTo>
                    <a:pt x="4548" y="920"/>
                  </a:lnTo>
                  <a:lnTo>
                    <a:pt x="4458" y="966"/>
                  </a:lnTo>
                  <a:lnTo>
                    <a:pt x="4369" y="1014"/>
                  </a:lnTo>
                  <a:lnTo>
                    <a:pt x="4281" y="1063"/>
                  </a:lnTo>
                  <a:lnTo>
                    <a:pt x="4193" y="1113"/>
                  </a:lnTo>
                  <a:lnTo>
                    <a:pt x="4106" y="1164"/>
                  </a:lnTo>
                  <a:lnTo>
                    <a:pt x="4019" y="1216"/>
                  </a:lnTo>
                  <a:lnTo>
                    <a:pt x="3934" y="1268"/>
                  </a:lnTo>
                  <a:lnTo>
                    <a:pt x="3849" y="1323"/>
                  </a:lnTo>
                  <a:lnTo>
                    <a:pt x="3766" y="1378"/>
                  </a:lnTo>
                  <a:lnTo>
                    <a:pt x="3681" y="1434"/>
                  </a:lnTo>
                  <a:lnTo>
                    <a:pt x="3599" y="1491"/>
                  </a:lnTo>
                  <a:lnTo>
                    <a:pt x="3517" y="1549"/>
                  </a:lnTo>
                  <a:lnTo>
                    <a:pt x="3436" y="1608"/>
                  </a:lnTo>
                  <a:lnTo>
                    <a:pt x="3355" y="1668"/>
                  </a:lnTo>
                  <a:lnTo>
                    <a:pt x="3275" y="1728"/>
                  </a:lnTo>
                  <a:lnTo>
                    <a:pt x="3196" y="1790"/>
                  </a:lnTo>
                  <a:lnTo>
                    <a:pt x="3117" y="1853"/>
                  </a:lnTo>
                  <a:lnTo>
                    <a:pt x="3039" y="1916"/>
                  </a:lnTo>
                  <a:lnTo>
                    <a:pt x="2962" y="1981"/>
                  </a:lnTo>
                  <a:lnTo>
                    <a:pt x="2887" y="2047"/>
                  </a:lnTo>
                  <a:lnTo>
                    <a:pt x="2811" y="2113"/>
                  </a:lnTo>
                  <a:lnTo>
                    <a:pt x="2737" y="2180"/>
                  </a:lnTo>
                  <a:lnTo>
                    <a:pt x="2663" y="2248"/>
                  </a:lnTo>
                  <a:lnTo>
                    <a:pt x="2591" y="2317"/>
                  </a:lnTo>
                  <a:lnTo>
                    <a:pt x="2519" y="2386"/>
                  </a:lnTo>
                  <a:lnTo>
                    <a:pt x="2447" y="2457"/>
                  </a:lnTo>
                  <a:lnTo>
                    <a:pt x="2376" y="2529"/>
                  </a:lnTo>
                  <a:lnTo>
                    <a:pt x="2308" y="2601"/>
                  </a:lnTo>
                  <a:lnTo>
                    <a:pt x="2239" y="2675"/>
                  </a:lnTo>
                  <a:lnTo>
                    <a:pt x="2171" y="2748"/>
                  </a:lnTo>
                  <a:lnTo>
                    <a:pt x="2104" y="2823"/>
                  </a:lnTo>
                  <a:lnTo>
                    <a:pt x="2038" y="2898"/>
                  </a:lnTo>
                  <a:lnTo>
                    <a:pt x="1973" y="2975"/>
                  </a:lnTo>
                  <a:lnTo>
                    <a:pt x="1908" y="3051"/>
                  </a:lnTo>
                  <a:lnTo>
                    <a:pt x="1845" y="3130"/>
                  </a:lnTo>
                  <a:lnTo>
                    <a:pt x="1782" y="3208"/>
                  </a:lnTo>
                  <a:lnTo>
                    <a:pt x="1721" y="3289"/>
                  </a:lnTo>
                  <a:lnTo>
                    <a:pt x="1661" y="3368"/>
                  </a:lnTo>
                  <a:lnTo>
                    <a:pt x="1602" y="3450"/>
                  </a:lnTo>
                  <a:lnTo>
                    <a:pt x="1543" y="3530"/>
                  </a:lnTo>
                  <a:lnTo>
                    <a:pt x="1484" y="3614"/>
                  </a:lnTo>
                  <a:lnTo>
                    <a:pt x="1428" y="3696"/>
                  </a:lnTo>
                  <a:lnTo>
                    <a:pt x="1373" y="3781"/>
                  </a:lnTo>
                  <a:lnTo>
                    <a:pt x="1317" y="3864"/>
                  </a:lnTo>
                  <a:lnTo>
                    <a:pt x="1263" y="3950"/>
                  </a:lnTo>
                  <a:lnTo>
                    <a:pt x="1211" y="4036"/>
                  </a:lnTo>
                  <a:lnTo>
                    <a:pt x="1159" y="4123"/>
                  </a:lnTo>
                  <a:lnTo>
                    <a:pt x="1109" y="4211"/>
                  </a:lnTo>
                  <a:lnTo>
                    <a:pt x="1058" y="4297"/>
                  </a:lnTo>
                  <a:lnTo>
                    <a:pt x="1010" y="4386"/>
                  </a:lnTo>
                  <a:lnTo>
                    <a:pt x="962" y="4476"/>
                  </a:lnTo>
                  <a:lnTo>
                    <a:pt x="915" y="4566"/>
                  </a:lnTo>
                  <a:lnTo>
                    <a:pt x="869" y="4656"/>
                  </a:lnTo>
                  <a:lnTo>
                    <a:pt x="825" y="4747"/>
                  </a:lnTo>
                  <a:lnTo>
                    <a:pt x="782" y="4839"/>
                  </a:lnTo>
                  <a:lnTo>
                    <a:pt x="739" y="4932"/>
                  </a:lnTo>
                  <a:lnTo>
                    <a:pt x="698" y="5025"/>
                  </a:lnTo>
                  <a:lnTo>
                    <a:pt x="658" y="5119"/>
                  </a:lnTo>
                  <a:lnTo>
                    <a:pt x="619" y="5212"/>
                  </a:lnTo>
                  <a:lnTo>
                    <a:pt x="581" y="5306"/>
                  </a:lnTo>
                  <a:lnTo>
                    <a:pt x="543" y="5402"/>
                  </a:lnTo>
                  <a:lnTo>
                    <a:pt x="508" y="5498"/>
                  </a:lnTo>
                  <a:lnTo>
                    <a:pt x="473" y="5594"/>
                  </a:lnTo>
                  <a:lnTo>
                    <a:pt x="440" y="5691"/>
                  </a:lnTo>
                  <a:lnTo>
                    <a:pt x="408" y="5789"/>
                  </a:lnTo>
                  <a:lnTo>
                    <a:pt x="376" y="5887"/>
                  </a:lnTo>
                  <a:lnTo>
                    <a:pt x="346" y="5985"/>
                  </a:lnTo>
                  <a:lnTo>
                    <a:pt x="318" y="6084"/>
                  </a:lnTo>
                  <a:lnTo>
                    <a:pt x="290" y="6183"/>
                  </a:lnTo>
                  <a:lnTo>
                    <a:pt x="265" y="6285"/>
                  </a:lnTo>
                  <a:lnTo>
                    <a:pt x="239" y="6385"/>
                  </a:lnTo>
                  <a:lnTo>
                    <a:pt x="215" y="6485"/>
                  </a:lnTo>
                  <a:lnTo>
                    <a:pt x="192" y="6587"/>
                  </a:lnTo>
                  <a:lnTo>
                    <a:pt x="171" y="6688"/>
                  </a:lnTo>
                  <a:lnTo>
                    <a:pt x="150" y="6791"/>
                  </a:lnTo>
                  <a:lnTo>
                    <a:pt x="131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1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1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77" y="837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92960" y="3193920"/>
              <a:ext cx="311400" cy="28584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8338" y="7691"/>
                  </a:moveTo>
                  <a:lnTo>
                    <a:pt x="8338" y="7691"/>
                  </a:lnTo>
                  <a:lnTo>
                    <a:pt x="8239" y="7691"/>
                  </a:lnTo>
                  <a:lnTo>
                    <a:pt x="8140" y="7690"/>
                  </a:lnTo>
                  <a:lnTo>
                    <a:pt x="8041" y="7687"/>
                  </a:lnTo>
                  <a:lnTo>
                    <a:pt x="7943" y="7681"/>
                  </a:lnTo>
                  <a:lnTo>
                    <a:pt x="7847" y="7676"/>
                  </a:lnTo>
                  <a:lnTo>
                    <a:pt x="7749" y="7669"/>
                  </a:lnTo>
                  <a:lnTo>
                    <a:pt x="7652" y="7661"/>
                  </a:lnTo>
                  <a:lnTo>
                    <a:pt x="7555" y="7652"/>
                  </a:lnTo>
                  <a:lnTo>
                    <a:pt x="7459" y="7642"/>
                  </a:lnTo>
                  <a:lnTo>
                    <a:pt x="7363" y="7630"/>
                  </a:lnTo>
                  <a:lnTo>
                    <a:pt x="7268" y="7617"/>
                  </a:lnTo>
                  <a:lnTo>
                    <a:pt x="7173" y="7602"/>
                  </a:lnTo>
                  <a:lnTo>
                    <a:pt x="7078" y="7588"/>
                  </a:lnTo>
                  <a:lnTo>
                    <a:pt x="6984" y="7572"/>
                  </a:lnTo>
                  <a:lnTo>
                    <a:pt x="6890" y="7554"/>
                  </a:lnTo>
                  <a:lnTo>
                    <a:pt x="6797" y="7535"/>
                  </a:lnTo>
                  <a:lnTo>
                    <a:pt x="6704" y="7515"/>
                  </a:lnTo>
                  <a:lnTo>
                    <a:pt x="6610" y="7494"/>
                  </a:lnTo>
                  <a:lnTo>
                    <a:pt x="6518" y="7472"/>
                  </a:lnTo>
                  <a:lnTo>
                    <a:pt x="6427" y="7449"/>
                  </a:lnTo>
                  <a:lnTo>
                    <a:pt x="6336" y="7424"/>
                  </a:lnTo>
                  <a:lnTo>
                    <a:pt x="6245" y="7399"/>
                  </a:lnTo>
                  <a:lnTo>
                    <a:pt x="6154" y="7373"/>
                  </a:lnTo>
                  <a:lnTo>
                    <a:pt x="6064" y="7345"/>
                  </a:lnTo>
                  <a:lnTo>
                    <a:pt x="5974" y="7316"/>
                  </a:lnTo>
                  <a:lnTo>
                    <a:pt x="5886" y="7287"/>
                  </a:lnTo>
                  <a:lnTo>
                    <a:pt x="5797" y="7256"/>
                  </a:lnTo>
                  <a:lnTo>
                    <a:pt x="5708" y="7224"/>
                  </a:lnTo>
                  <a:lnTo>
                    <a:pt x="5621" y="7191"/>
                  </a:lnTo>
                  <a:lnTo>
                    <a:pt x="5534" y="7156"/>
                  </a:lnTo>
                  <a:lnTo>
                    <a:pt x="5448" y="7123"/>
                  </a:lnTo>
                  <a:lnTo>
                    <a:pt x="5360" y="7086"/>
                  </a:lnTo>
                  <a:lnTo>
                    <a:pt x="5275" y="7048"/>
                  </a:lnTo>
                  <a:lnTo>
                    <a:pt x="5189" y="7011"/>
                  </a:lnTo>
                  <a:lnTo>
                    <a:pt x="5106" y="6972"/>
                  </a:lnTo>
                  <a:lnTo>
                    <a:pt x="5022" y="6932"/>
                  </a:lnTo>
                  <a:lnTo>
                    <a:pt x="4938" y="6890"/>
                  </a:lnTo>
                  <a:lnTo>
                    <a:pt x="4856" y="6849"/>
                  </a:lnTo>
                  <a:lnTo>
                    <a:pt x="4772" y="6806"/>
                  </a:lnTo>
                  <a:lnTo>
                    <a:pt x="4691" y="6762"/>
                  </a:lnTo>
                  <a:lnTo>
                    <a:pt x="4611" y="6717"/>
                  </a:lnTo>
                  <a:lnTo>
                    <a:pt x="4530" y="6671"/>
                  </a:lnTo>
                  <a:lnTo>
                    <a:pt x="4450" y="6624"/>
                  </a:lnTo>
                  <a:lnTo>
                    <a:pt x="4371" y="6576"/>
                  </a:lnTo>
                  <a:lnTo>
                    <a:pt x="4292" y="6526"/>
                  </a:lnTo>
                  <a:lnTo>
                    <a:pt x="4214" y="6477"/>
                  </a:lnTo>
                  <a:lnTo>
                    <a:pt x="4138" y="6427"/>
                  </a:lnTo>
                  <a:lnTo>
                    <a:pt x="4060" y="6375"/>
                  </a:lnTo>
                  <a:lnTo>
                    <a:pt x="3982" y="6323"/>
                  </a:lnTo>
                  <a:lnTo>
                    <a:pt x="3908" y="6270"/>
                  </a:lnTo>
                  <a:lnTo>
                    <a:pt x="3832" y="6217"/>
                  </a:lnTo>
                  <a:lnTo>
                    <a:pt x="3759" y="6161"/>
                  </a:lnTo>
                  <a:lnTo>
                    <a:pt x="3685" y="6105"/>
                  </a:lnTo>
                  <a:lnTo>
                    <a:pt x="3613" y="6048"/>
                  </a:lnTo>
                  <a:lnTo>
                    <a:pt x="3541" y="5990"/>
                  </a:lnTo>
                  <a:lnTo>
                    <a:pt x="3471" y="5932"/>
                  </a:lnTo>
                  <a:lnTo>
                    <a:pt x="3399" y="5872"/>
                  </a:lnTo>
                  <a:lnTo>
                    <a:pt x="3329" y="5813"/>
                  </a:lnTo>
                  <a:lnTo>
                    <a:pt x="3260" y="5752"/>
                  </a:lnTo>
                  <a:lnTo>
                    <a:pt x="3191" y="5689"/>
                  </a:lnTo>
                  <a:lnTo>
                    <a:pt x="3124" y="5627"/>
                  </a:lnTo>
                  <a:lnTo>
                    <a:pt x="3056" y="5564"/>
                  </a:lnTo>
                  <a:lnTo>
                    <a:pt x="2990" y="5499"/>
                  </a:lnTo>
                  <a:lnTo>
                    <a:pt x="2926" y="5434"/>
                  </a:lnTo>
                  <a:lnTo>
                    <a:pt x="2861" y="5369"/>
                  </a:lnTo>
                  <a:lnTo>
                    <a:pt x="2796" y="5303"/>
                  </a:lnTo>
                  <a:lnTo>
                    <a:pt x="2733" y="5235"/>
                  </a:lnTo>
                  <a:lnTo>
                    <a:pt x="2671" y="5167"/>
                  </a:lnTo>
                  <a:lnTo>
                    <a:pt x="2609" y="5098"/>
                  </a:lnTo>
                  <a:lnTo>
                    <a:pt x="2548" y="5029"/>
                  </a:lnTo>
                  <a:lnTo>
                    <a:pt x="2489" y="4959"/>
                  </a:lnTo>
                  <a:lnTo>
                    <a:pt x="2429" y="4887"/>
                  </a:lnTo>
                  <a:lnTo>
                    <a:pt x="2371" y="4816"/>
                  </a:lnTo>
                  <a:lnTo>
                    <a:pt x="2314" y="4743"/>
                  </a:lnTo>
                  <a:lnTo>
                    <a:pt x="2258" y="4671"/>
                  </a:lnTo>
                  <a:lnTo>
                    <a:pt x="2201" y="4597"/>
                  </a:lnTo>
                  <a:lnTo>
                    <a:pt x="2146" y="4523"/>
                  </a:lnTo>
                  <a:lnTo>
                    <a:pt x="2093" y="4447"/>
                  </a:lnTo>
                  <a:lnTo>
                    <a:pt x="2040" y="4373"/>
                  </a:lnTo>
                  <a:lnTo>
                    <a:pt x="1989" y="4295"/>
                  </a:lnTo>
                  <a:lnTo>
                    <a:pt x="1937" y="4217"/>
                  </a:lnTo>
                  <a:lnTo>
                    <a:pt x="1886" y="4141"/>
                  </a:lnTo>
                  <a:lnTo>
                    <a:pt x="1837" y="4062"/>
                  </a:lnTo>
                  <a:lnTo>
                    <a:pt x="1787" y="3983"/>
                  </a:lnTo>
                  <a:lnTo>
                    <a:pt x="1741" y="3903"/>
                  </a:lnTo>
                  <a:lnTo>
                    <a:pt x="1694" y="3823"/>
                  </a:lnTo>
                  <a:lnTo>
                    <a:pt x="1648" y="3742"/>
                  </a:lnTo>
                  <a:lnTo>
                    <a:pt x="1603" y="3661"/>
                  </a:lnTo>
                  <a:lnTo>
                    <a:pt x="1559" y="3580"/>
                  </a:lnTo>
                  <a:lnTo>
                    <a:pt x="1516" y="3496"/>
                  </a:lnTo>
                  <a:lnTo>
                    <a:pt x="1475" y="3413"/>
                  </a:lnTo>
                  <a:lnTo>
                    <a:pt x="1433" y="3330"/>
                  </a:lnTo>
                  <a:lnTo>
                    <a:pt x="1393" y="3245"/>
                  </a:lnTo>
                  <a:lnTo>
                    <a:pt x="1355" y="3161"/>
                  </a:lnTo>
                  <a:lnTo>
                    <a:pt x="1317" y="3075"/>
                  </a:lnTo>
                  <a:lnTo>
                    <a:pt x="1280" y="2989"/>
                  </a:lnTo>
                  <a:lnTo>
                    <a:pt x="1243" y="2902"/>
                  </a:lnTo>
                  <a:lnTo>
                    <a:pt x="1210" y="2815"/>
                  </a:lnTo>
                  <a:lnTo>
                    <a:pt x="1176" y="2728"/>
                  </a:lnTo>
                  <a:lnTo>
                    <a:pt x="1142" y="2640"/>
                  </a:lnTo>
                  <a:lnTo>
                    <a:pt x="1111" y="2551"/>
                  </a:lnTo>
                  <a:lnTo>
                    <a:pt x="1080" y="2462"/>
                  </a:lnTo>
                  <a:lnTo>
                    <a:pt x="1051" y="2373"/>
                  </a:lnTo>
                  <a:lnTo>
                    <a:pt x="1022" y="2283"/>
                  </a:lnTo>
                  <a:lnTo>
                    <a:pt x="994" y="2192"/>
                  </a:lnTo>
                  <a:lnTo>
                    <a:pt x="968" y="2101"/>
                  </a:lnTo>
                  <a:lnTo>
                    <a:pt x="943" y="2010"/>
                  </a:lnTo>
                  <a:lnTo>
                    <a:pt x="918" y="1919"/>
                  </a:lnTo>
                  <a:lnTo>
                    <a:pt x="895" y="1827"/>
                  </a:lnTo>
                  <a:lnTo>
                    <a:pt x="873" y="1735"/>
                  </a:lnTo>
                  <a:lnTo>
                    <a:pt x="853" y="1641"/>
                  </a:lnTo>
                  <a:lnTo>
                    <a:pt x="833" y="1548"/>
                  </a:lnTo>
                  <a:lnTo>
                    <a:pt x="814" y="1453"/>
                  </a:lnTo>
                  <a:lnTo>
                    <a:pt x="796" y="1359"/>
                  </a:lnTo>
                  <a:lnTo>
                    <a:pt x="780" y="1265"/>
                  </a:lnTo>
                  <a:lnTo>
                    <a:pt x="766" y="1170"/>
                  </a:lnTo>
                  <a:lnTo>
                    <a:pt x="751" y="1075"/>
                  </a:lnTo>
                  <a:lnTo>
                    <a:pt x="738" y="978"/>
                  </a:lnTo>
                  <a:lnTo>
                    <a:pt x="726" y="882"/>
                  </a:lnTo>
                  <a:lnTo>
                    <a:pt x="716" y="786"/>
                  </a:lnTo>
                  <a:lnTo>
                    <a:pt x="708" y="689"/>
                  </a:lnTo>
                  <a:lnTo>
                    <a:pt x="699" y="591"/>
                  </a:lnTo>
                  <a:lnTo>
                    <a:pt x="692" y="493"/>
                  </a:lnTo>
                  <a:lnTo>
                    <a:pt x="687" y="397"/>
                  </a:lnTo>
                  <a:lnTo>
                    <a:pt x="682" y="298"/>
                  </a:lnTo>
                  <a:lnTo>
                    <a:pt x="679" y="199"/>
                  </a:lnTo>
                  <a:lnTo>
                    <a:pt x="677" y="99"/>
                  </a:lnTo>
                  <a:lnTo>
                    <a:pt x="677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1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1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1" y="1479"/>
                  </a:lnTo>
                  <a:lnTo>
                    <a:pt x="150" y="1581"/>
                  </a:lnTo>
                  <a:lnTo>
                    <a:pt x="171" y="1683"/>
                  </a:lnTo>
                  <a:lnTo>
                    <a:pt x="192" y="1784"/>
                  </a:lnTo>
                  <a:lnTo>
                    <a:pt x="215" y="1886"/>
                  </a:lnTo>
                  <a:lnTo>
                    <a:pt x="239" y="1987"/>
                  </a:lnTo>
                  <a:lnTo>
                    <a:pt x="265" y="2086"/>
                  </a:lnTo>
                  <a:lnTo>
                    <a:pt x="290" y="2188"/>
                  </a:lnTo>
                  <a:lnTo>
                    <a:pt x="318" y="2287"/>
                  </a:lnTo>
                  <a:lnTo>
                    <a:pt x="346" y="2387"/>
                  </a:lnTo>
                  <a:lnTo>
                    <a:pt x="376" y="2485"/>
                  </a:lnTo>
                  <a:lnTo>
                    <a:pt x="408" y="2582"/>
                  </a:lnTo>
                  <a:lnTo>
                    <a:pt x="440" y="2680"/>
                  </a:lnTo>
                  <a:lnTo>
                    <a:pt x="473" y="2777"/>
                  </a:lnTo>
                  <a:lnTo>
                    <a:pt x="508" y="2873"/>
                  </a:lnTo>
                  <a:lnTo>
                    <a:pt x="543" y="2970"/>
                  </a:lnTo>
                  <a:lnTo>
                    <a:pt x="581" y="3065"/>
                  </a:lnTo>
                  <a:lnTo>
                    <a:pt x="619" y="3160"/>
                  </a:lnTo>
                  <a:lnTo>
                    <a:pt x="658" y="3252"/>
                  </a:lnTo>
                  <a:lnTo>
                    <a:pt x="698" y="3346"/>
                  </a:lnTo>
                  <a:lnTo>
                    <a:pt x="739" y="3439"/>
                  </a:lnTo>
                  <a:lnTo>
                    <a:pt x="782" y="3533"/>
                  </a:lnTo>
                  <a:lnTo>
                    <a:pt x="825" y="3624"/>
                  </a:lnTo>
                  <a:lnTo>
                    <a:pt x="869" y="3716"/>
                  </a:lnTo>
                  <a:lnTo>
                    <a:pt x="915" y="3807"/>
                  </a:lnTo>
                  <a:lnTo>
                    <a:pt x="962" y="3896"/>
                  </a:lnTo>
                  <a:lnTo>
                    <a:pt x="1010" y="3985"/>
                  </a:lnTo>
                  <a:lnTo>
                    <a:pt x="1058" y="4074"/>
                  </a:lnTo>
                  <a:lnTo>
                    <a:pt x="1109" y="4161"/>
                  </a:lnTo>
                  <a:lnTo>
                    <a:pt x="1159" y="4248"/>
                  </a:lnTo>
                  <a:lnTo>
                    <a:pt x="1211" y="4336"/>
                  </a:lnTo>
                  <a:lnTo>
                    <a:pt x="1263" y="4421"/>
                  </a:lnTo>
                  <a:lnTo>
                    <a:pt x="1317" y="4507"/>
                  </a:lnTo>
                  <a:lnTo>
                    <a:pt x="1373" y="4591"/>
                  </a:lnTo>
                  <a:lnTo>
                    <a:pt x="1428" y="4675"/>
                  </a:lnTo>
                  <a:lnTo>
                    <a:pt x="1484" y="4758"/>
                  </a:lnTo>
                  <a:lnTo>
                    <a:pt x="1543" y="4841"/>
                  </a:lnTo>
                  <a:lnTo>
                    <a:pt x="1602" y="4921"/>
                  </a:lnTo>
                  <a:lnTo>
                    <a:pt x="1661" y="5003"/>
                  </a:lnTo>
                  <a:lnTo>
                    <a:pt x="1721" y="5083"/>
                  </a:lnTo>
                  <a:lnTo>
                    <a:pt x="1782" y="5163"/>
                  </a:lnTo>
                  <a:lnTo>
                    <a:pt x="1845" y="5241"/>
                  </a:lnTo>
                  <a:lnTo>
                    <a:pt x="1908" y="5320"/>
                  </a:lnTo>
                  <a:lnTo>
                    <a:pt x="1973" y="5397"/>
                  </a:lnTo>
                  <a:lnTo>
                    <a:pt x="2038" y="5473"/>
                  </a:lnTo>
                  <a:lnTo>
                    <a:pt x="2104" y="5549"/>
                  </a:lnTo>
                  <a:lnTo>
                    <a:pt x="2171" y="5623"/>
                  </a:lnTo>
                  <a:lnTo>
                    <a:pt x="2239" y="5698"/>
                  </a:lnTo>
                  <a:lnTo>
                    <a:pt x="2308" y="5770"/>
                  </a:lnTo>
                  <a:lnTo>
                    <a:pt x="2376" y="5842"/>
                  </a:lnTo>
                  <a:lnTo>
                    <a:pt x="2447" y="5914"/>
                  </a:lnTo>
                  <a:lnTo>
                    <a:pt x="2519" y="5985"/>
                  </a:lnTo>
                  <a:lnTo>
                    <a:pt x="2591" y="6054"/>
                  </a:lnTo>
                  <a:lnTo>
                    <a:pt x="2663" y="6123"/>
                  </a:lnTo>
                  <a:lnTo>
                    <a:pt x="2737" y="6191"/>
                  </a:lnTo>
                  <a:lnTo>
                    <a:pt x="2811" y="6258"/>
                  </a:lnTo>
                  <a:lnTo>
                    <a:pt x="2887" y="6325"/>
                  </a:lnTo>
                  <a:lnTo>
                    <a:pt x="2962" y="6390"/>
                  </a:lnTo>
                  <a:lnTo>
                    <a:pt x="3039" y="6455"/>
                  </a:lnTo>
                  <a:lnTo>
                    <a:pt x="3117" y="6519"/>
                  </a:lnTo>
                  <a:lnTo>
                    <a:pt x="3196" y="6582"/>
                  </a:lnTo>
                  <a:lnTo>
                    <a:pt x="3275" y="6643"/>
                  </a:lnTo>
                  <a:lnTo>
                    <a:pt x="3355" y="6703"/>
                  </a:lnTo>
                  <a:lnTo>
                    <a:pt x="3436" y="6763"/>
                  </a:lnTo>
                  <a:lnTo>
                    <a:pt x="3517" y="6822"/>
                  </a:lnTo>
                  <a:lnTo>
                    <a:pt x="3599" y="6881"/>
                  </a:lnTo>
                  <a:lnTo>
                    <a:pt x="3681" y="6937"/>
                  </a:lnTo>
                  <a:lnTo>
                    <a:pt x="3765" y="6993"/>
                  </a:lnTo>
                  <a:lnTo>
                    <a:pt x="3849" y="7048"/>
                  </a:lnTo>
                  <a:lnTo>
                    <a:pt x="3934" y="7103"/>
                  </a:lnTo>
                  <a:lnTo>
                    <a:pt x="4019" y="7155"/>
                  </a:lnTo>
                  <a:lnTo>
                    <a:pt x="4106" y="7207"/>
                  </a:lnTo>
                  <a:lnTo>
                    <a:pt x="4193" y="7258"/>
                  </a:lnTo>
                  <a:lnTo>
                    <a:pt x="4281" y="7309"/>
                  </a:lnTo>
                  <a:lnTo>
                    <a:pt x="4369" y="7357"/>
                  </a:lnTo>
                  <a:lnTo>
                    <a:pt x="4458" y="7405"/>
                  </a:lnTo>
                  <a:lnTo>
                    <a:pt x="4546" y="7452"/>
                  </a:lnTo>
                  <a:lnTo>
                    <a:pt x="4637" y="7498"/>
                  </a:lnTo>
                  <a:lnTo>
                    <a:pt x="4729" y="7542"/>
                  </a:lnTo>
                  <a:lnTo>
                    <a:pt x="4819" y="7586"/>
                  </a:lnTo>
                  <a:lnTo>
                    <a:pt x="4912" y="7629"/>
                  </a:lnTo>
                  <a:lnTo>
                    <a:pt x="5005" y="7670"/>
                  </a:lnTo>
                  <a:lnTo>
                    <a:pt x="5099" y="7711"/>
                  </a:lnTo>
                  <a:lnTo>
                    <a:pt x="5190" y="7749"/>
                  </a:lnTo>
                  <a:lnTo>
                    <a:pt x="5285" y="7788"/>
                  </a:lnTo>
                  <a:lnTo>
                    <a:pt x="5380" y="7826"/>
                  </a:lnTo>
                  <a:lnTo>
                    <a:pt x="5476" y="7861"/>
                  </a:lnTo>
                  <a:lnTo>
                    <a:pt x="5572" y="7896"/>
                  </a:lnTo>
                  <a:lnTo>
                    <a:pt x="5669" y="7929"/>
                  </a:lnTo>
                  <a:lnTo>
                    <a:pt x="5766" y="7962"/>
                  </a:lnTo>
                  <a:lnTo>
                    <a:pt x="5863" y="7993"/>
                  </a:lnTo>
                  <a:lnTo>
                    <a:pt x="5961" y="8024"/>
                  </a:lnTo>
                  <a:lnTo>
                    <a:pt x="6060" y="8052"/>
                  </a:lnTo>
                  <a:lnTo>
                    <a:pt x="6159" y="8080"/>
                  </a:lnTo>
                  <a:lnTo>
                    <a:pt x="6260" y="8105"/>
                  </a:lnTo>
                  <a:lnTo>
                    <a:pt x="6359" y="8131"/>
                  </a:lnTo>
                  <a:lnTo>
                    <a:pt x="6460" y="8155"/>
                  </a:lnTo>
                  <a:lnTo>
                    <a:pt x="6561" y="8178"/>
                  </a:lnTo>
                  <a:lnTo>
                    <a:pt x="6662" y="8199"/>
                  </a:lnTo>
                  <a:lnTo>
                    <a:pt x="6763" y="8220"/>
                  </a:lnTo>
                  <a:lnTo>
                    <a:pt x="6865" y="8239"/>
                  </a:lnTo>
                  <a:lnTo>
                    <a:pt x="6970" y="8257"/>
                  </a:lnTo>
                  <a:lnTo>
                    <a:pt x="7072" y="8275"/>
                  </a:lnTo>
                  <a:lnTo>
                    <a:pt x="7176" y="8289"/>
                  </a:lnTo>
                  <a:lnTo>
                    <a:pt x="7279" y="8302"/>
                  </a:lnTo>
                  <a:lnTo>
                    <a:pt x="7383" y="8316"/>
                  </a:lnTo>
                  <a:lnTo>
                    <a:pt x="7489" y="8327"/>
                  </a:lnTo>
                  <a:lnTo>
                    <a:pt x="7594" y="8338"/>
                  </a:lnTo>
                  <a:lnTo>
                    <a:pt x="7699" y="8346"/>
                  </a:lnTo>
                  <a:lnTo>
                    <a:pt x="7804" y="8353"/>
                  </a:lnTo>
                  <a:lnTo>
                    <a:pt x="7912" y="8359"/>
                  </a:lnTo>
                  <a:lnTo>
                    <a:pt x="8018" y="8364"/>
                  </a:lnTo>
                  <a:lnTo>
                    <a:pt x="8124" y="8367"/>
                  </a:lnTo>
                  <a:lnTo>
                    <a:pt x="8231" y="8370"/>
                  </a:lnTo>
                  <a:lnTo>
                    <a:pt x="8338" y="8371"/>
                  </a:lnTo>
                  <a:lnTo>
                    <a:pt x="8338" y="8371"/>
                  </a:lnTo>
                  <a:lnTo>
                    <a:pt x="8338" y="769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04360" y="3193920"/>
              <a:ext cx="311040" cy="28584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7661" y="0"/>
                  </a:moveTo>
                  <a:lnTo>
                    <a:pt x="7661" y="0"/>
                  </a:lnTo>
                  <a:lnTo>
                    <a:pt x="7659" y="99"/>
                  </a:lnTo>
                  <a:lnTo>
                    <a:pt x="7659" y="199"/>
                  </a:lnTo>
                  <a:lnTo>
                    <a:pt x="7656" y="298"/>
                  </a:lnTo>
                  <a:lnTo>
                    <a:pt x="7651" y="397"/>
                  </a:lnTo>
                  <a:lnTo>
                    <a:pt x="7646" y="493"/>
                  </a:lnTo>
                  <a:lnTo>
                    <a:pt x="7639" y="591"/>
                  </a:lnTo>
                  <a:lnTo>
                    <a:pt x="7630" y="689"/>
                  </a:lnTo>
                  <a:lnTo>
                    <a:pt x="7622" y="785"/>
                  </a:lnTo>
                  <a:lnTo>
                    <a:pt x="7611" y="882"/>
                  </a:lnTo>
                  <a:lnTo>
                    <a:pt x="7600" y="978"/>
                  </a:lnTo>
                  <a:lnTo>
                    <a:pt x="7587" y="1075"/>
                  </a:lnTo>
                  <a:lnTo>
                    <a:pt x="7572" y="1170"/>
                  </a:lnTo>
                  <a:lnTo>
                    <a:pt x="7557" y="1264"/>
                  </a:lnTo>
                  <a:lnTo>
                    <a:pt x="7541" y="1359"/>
                  </a:lnTo>
                  <a:lnTo>
                    <a:pt x="7524" y="1453"/>
                  </a:lnTo>
                  <a:lnTo>
                    <a:pt x="7505" y="1548"/>
                  </a:lnTo>
                  <a:lnTo>
                    <a:pt x="7484" y="1641"/>
                  </a:lnTo>
                  <a:lnTo>
                    <a:pt x="7465" y="1735"/>
                  </a:lnTo>
                  <a:lnTo>
                    <a:pt x="7443" y="1827"/>
                  </a:lnTo>
                  <a:lnTo>
                    <a:pt x="7420" y="1919"/>
                  </a:lnTo>
                  <a:lnTo>
                    <a:pt x="7395" y="2010"/>
                  </a:lnTo>
                  <a:lnTo>
                    <a:pt x="7370" y="2101"/>
                  </a:lnTo>
                  <a:lnTo>
                    <a:pt x="7343" y="2192"/>
                  </a:lnTo>
                  <a:lnTo>
                    <a:pt x="7316" y="2283"/>
                  </a:lnTo>
                  <a:lnTo>
                    <a:pt x="7287" y="2373"/>
                  </a:lnTo>
                  <a:lnTo>
                    <a:pt x="7257" y="2462"/>
                  </a:lnTo>
                  <a:lnTo>
                    <a:pt x="7227" y="2551"/>
                  </a:lnTo>
                  <a:lnTo>
                    <a:pt x="7195" y="2640"/>
                  </a:lnTo>
                  <a:lnTo>
                    <a:pt x="7162" y="2728"/>
                  </a:lnTo>
                  <a:lnTo>
                    <a:pt x="7128" y="2815"/>
                  </a:lnTo>
                  <a:lnTo>
                    <a:pt x="7095" y="2902"/>
                  </a:lnTo>
                  <a:lnTo>
                    <a:pt x="7058" y="2989"/>
                  </a:lnTo>
                  <a:lnTo>
                    <a:pt x="7021" y="3075"/>
                  </a:lnTo>
                  <a:lnTo>
                    <a:pt x="6982" y="3161"/>
                  </a:lnTo>
                  <a:lnTo>
                    <a:pt x="6945" y="3245"/>
                  </a:lnTo>
                  <a:lnTo>
                    <a:pt x="6904" y="3330"/>
                  </a:lnTo>
                  <a:lnTo>
                    <a:pt x="6862" y="3413"/>
                  </a:lnTo>
                  <a:lnTo>
                    <a:pt x="6822" y="3497"/>
                  </a:lnTo>
                  <a:lnTo>
                    <a:pt x="6778" y="3580"/>
                  </a:lnTo>
                  <a:lnTo>
                    <a:pt x="6735" y="3661"/>
                  </a:lnTo>
                  <a:lnTo>
                    <a:pt x="6689" y="3742"/>
                  </a:lnTo>
                  <a:lnTo>
                    <a:pt x="6644" y="3823"/>
                  </a:lnTo>
                  <a:lnTo>
                    <a:pt x="6597" y="3903"/>
                  </a:lnTo>
                  <a:lnTo>
                    <a:pt x="6549" y="3983"/>
                  </a:lnTo>
                  <a:lnTo>
                    <a:pt x="6501" y="4062"/>
                  </a:lnTo>
                  <a:lnTo>
                    <a:pt x="6452" y="4141"/>
                  </a:lnTo>
                  <a:lnTo>
                    <a:pt x="6401" y="4219"/>
                  </a:lnTo>
                  <a:lnTo>
                    <a:pt x="6349" y="4295"/>
                  </a:lnTo>
                  <a:lnTo>
                    <a:pt x="6297" y="4373"/>
                  </a:lnTo>
                  <a:lnTo>
                    <a:pt x="6245" y="4447"/>
                  </a:lnTo>
                  <a:lnTo>
                    <a:pt x="6191" y="4523"/>
                  </a:lnTo>
                  <a:lnTo>
                    <a:pt x="6137" y="4597"/>
                  </a:lnTo>
                  <a:lnTo>
                    <a:pt x="6079" y="4671"/>
                  </a:lnTo>
                  <a:lnTo>
                    <a:pt x="6023" y="4743"/>
                  </a:lnTo>
                  <a:lnTo>
                    <a:pt x="5966" y="4816"/>
                  </a:lnTo>
                  <a:lnTo>
                    <a:pt x="5909" y="4887"/>
                  </a:lnTo>
                  <a:lnTo>
                    <a:pt x="5849" y="4959"/>
                  </a:lnTo>
                  <a:lnTo>
                    <a:pt x="5790" y="5029"/>
                  </a:lnTo>
                  <a:lnTo>
                    <a:pt x="5728" y="5098"/>
                  </a:lnTo>
                  <a:lnTo>
                    <a:pt x="5667" y="5167"/>
                  </a:lnTo>
                  <a:lnTo>
                    <a:pt x="5604" y="5235"/>
                  </a:lnTo>
                  <a:lnTo>
                    <a:pt x="5542" y="5303"/>
                  </a:lnTo>
                  <a:lnTo>
                    <a:pt x="5477" y="5369"/>
                  </a:lnTo>
                  <a:lnTo>
                    <a:pt x="5412" y="5434"/>
                  </a:lnTo>
                  <a:lnTo>
                    <a:pt x="5348" y="5499"/>
                  </a:lnTo>
                  <a:lnTo>
                    <a:pt x="5281" y="5564"/>
                  </a:lnTo>
                  <a:lnTo>
                    <a:pt x="5214" y="5627"/>
                  </a:lnTo>
                  <a:lnTo>
                    <a:pt x="5147" y="5689"/>
                  </a:lnTo>
                  <a:lnTo>
                    <a:pt x="5079" y="5752"/>
                  </a:lnTo>
                  <a:lnTo>
                    <a:pt x="5009" y="5813"/>
                  </a:lnTo>
                  <a:lnTo>
                    <a:pt x="4938" y="5872"/>
                  </a:lnTo>
                  <a:lnTo>
                    <a:pt x="4867" y="5932"/>
                  </a:lnTo>
                  <a:lnTo>
                    <a:pt x="4797" y="5990"/>
                  </a:lnTo>
                  <a:lnTo>
                    <a:pt x="4725" y="6048"/>
                  </a:lnTo>
                  <a:lnTo>
                    <a:pt x="4653" y="6105"/>
                  </a:lnTo>
                  <a:lnTo>
                    <a:pt x="4579" y="6161"/>
                  </a:lnTo>
                  <a:lnTo>
                    <a:pt x="4505" y="6217"/>
                  </a:lnTo>
                  <a:lnTo>
                    <a:pt x="4430" y="6270"/>
                  </a:lnTo>
                  <a:lnTo>
                    <a:pt x="4355" y="6323"/>
                  </a:lnTo>
                  <a:lnTo>
                    <a:pt x="4278" y="6375"/>
                  </a:lnTo>
                  <a:lnTo>
                    <a:pt x="4201" y="6427"/>
                  </a:lnTo>
                  <a:lnTo>
                    <a:pt x="4123" y="6477"/>
                  </a:lnTo>
                  <a:lnTo>
                    <a:pt x="4046" y="6526"/>
                  </a:lnTo>
                  <a:lnTo>
                    <a:pt x="3967" y="6576"/>
                  </a:lnTo>
                  <a:lnTo>
                    <a:pt x="3888" y="6624"/>
                  </a:lnTo>
                  <a:lnTo>
                    <a:pt x="3808" y="6671"/>
                  </a:lnTo>
                  <a:lnTo>
                    <a:pt x="3727" y="6717"/>
                  </a:lnTo>
                  <a:lnTo>
                    <a:pt x="3646" y="6762"/>
                  </a:lnTo>
                  <a:lnTo>
                    <a:pt x="3564" y="6806"/>
                  </a:lnTo>
                  <a:lnTo>
                    <a:pt x="3483" y="6849"/>
                  </a:lnTo>
                  <a:lnTo>
                    <a:pt x="3399" y="6890"/>
                  </a:lnTo>
                  <a:lnTo>
                    <a:pt x="3315" y="6932"/>
                  </a:lnTo>
                  <a:lnTo>
                    <a:pt x="3232" y="6972"/>
                  </a:lnTo>
                  <a:lnTo>
                    <a:pt x="3148" y="7011"/>
                  </a:lnTo>
                  <a:lnTo>
                    <a:pt x="3063" y="7048"/>
                  </a:lnTo>
                  <a:lnTo>
                    <a:pt x="2978" y="7086"/>
                  </a:lnTo>
                  <a:lnTo>
                    <a:pt x="2890" y="7123"/>
                  </a:lnTo>
                  <a:lnTo>
                    <a:pt x="2804" y="7156"/>
                  </a:lnTo>
                  <a:lnTo>
                    <a:pt x="2716" y="7191"/>
                  </a:lnTo>
                  <a:lnTo>
                    <a:pt x="2629" y="7224"/>
                  </a:lnTo>
                  <a:lnTo>
                    <a:pt x="2541" y="7256"/>
                  </a:lnTo>
                  <a:lnTo>
                    <a:pt x="2452" y="7287"/>
                  </a:lnTo>
                  <a:lnTo>
                    <a:pt x="2363" y="7316"/>
                  </a:lnTo>
                  <a:lnTo>
                    <a:pt x="2273" y="7345"/>
                  </a:lnTo>
                  <a:lnTo>
                    <a:pt x="2184" y="7373"/>
                  </a:lnTo>
                  <a:lnTo>
                    <a:pt x="2093" y="7399"/>
                  </a:lnTo>
                  <a:lnTo>
                    <a:pt x="2002" y="7424"/>
                  </a:lnTo>
                  <a:lnTo>
                    <a:pt x="1911" y="7449"/>
                  </a:lnTo>
                  <a:lnTo>
                    <a:pt x="1820" y="7472"/>
                  </a:lnTo>
                  <a:lnTo>
                    <a:pt x="1727" y="7494"/>
                  </a:lnTo>
                  <a:lnTo>
                    <a:pt x="1634" y="7515"/>
                  </a:lnTo>
                  <a:lnTo>
                    <a:pt x="1541" y="7535"/>
                  </a:lnTo>
                  <a:lnTo>
                    <a:pt x="1448" y="7554"/>
                  </a:lnTo>
                  <a:lnTo>
                    <a:pt x="1353" y="7572"/>
                  </a:lnTo>
                  <a:lnTo>
                    <a:pt x="1260" y="7588"/>
                  </a:lnTo>
                  <a:lnTo>
                    <a:pt x="1165" y="7602"/>
                  </a:lnTo>
                  <a:lnTo>
                    <a:pt x="1069" y="7617"/>
                  </a:lnTo>
                  <a:lnTo>
                    <a:pt x="973" y="7630"/>
                  </a:lnTo>
                  <a:lnTo>
                    <a:pt x="878" y="7642"/>
                  </a:lnTo>
                  <a:lnTo>
                    <a:pt x="783" y="7652"/>
                  </a:lnTo>
                  <a:lnTo>
                    <a:pt x="686" y="7661"/>
                  </a:lnTo>
                  <a:lnTo>
                    <a:pt x="589" y="7669"/>
                  </a:lnTo>
                  <a:lnTo>
                    <a:pt x="491" y="7676"/>
                  </a:lnTo>
                  <a:lnTo>
                    <a:pt x="395" y="7681"/>
                  </a:lnTo>
                  <a:lnTo>
                    <a:pt x="296" y="7687"/>
                  </a:lnTo>
                  <a:lnTo>
                    <a:pt x="198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7" y="8370"/>
                  </a:lnTo>
                  <a:lnTo>
                    <a:pt x="214" y="8367"/>
                  </a:lnTo>
                  <a:lnTo>
                    <a:pt x="320" y="8364"/>
                  </a:lnTo>
                  <a:lnTo>
                    <a:pt x="426" y="8359"/>
                  </a:lnTo>
                  <a:lnTo>
                    <a:pt x="534" y="8353"/>
                  </a:lnTo>
                  <a:lnTo>
                    <a:pt x="639" y="8346"/>
                  </a:lnTo>
                  <a:lnTo>
                    <a:pt x="744" y="8338"/>
                  </a:lnTo>
                  <a:lnTo>
                    <a:pt x="848" y="8327"/>
                  </a:lnTo>
                  <a:lnTo>
                    <a:pt x="955" y="8316"/>
                  </a:lnTo>
                  <a:lnTo>
                    <a:pt x="1059" y="8302"/>
                  </a:lnTo>
                  <a:lnTo>
                    <a:pt x="1162" y="8289"/>
                  </a:lnTo>
                  <a:lnTo>
                    <a:pt x="1265" y="8275"/>
                  </a:lnTo>
                  <a:lnTo>
                    <a:pt x="1368" y="8257"/>
                  </a:lnTo>
                  <a:lnTo>
                    <a:pt x="1473" y="8239"/>
                  </a:lnTo>
                  <a:lnTo>
                    <a:pt x="1574" y="8220"/>
                  </a:lnTo>
                  <a:lnTo>
                    <a:pt x="1676" y="8199"/>
                  </a:lnTo>
                  <a:lnTo>
                    <a:pt x="1777" y="8178"/>
                  </a:lnTo>
                  <a:lnTo>
                    <a:pt x="1878" y="8155"/>
                  </a:lnTo>
                  <a:lnTo>
                    <a:pt x="1978" y="8131"/>
                  </a:lnTo>
                  <a:lnTo>
                    <a:pt x="2078" y="8105"/>
                  </a:lnTo>
                  <a:lnTo>
                    <a:pt x="2179" y="8080"/>
                  </a:lnTo>
                  <a:lnTo>
                    <a:pt x="2278" y="8052"/>
                  </a:lnTo>
                  <a:lnTo>
                    <a:pt x="2376" y="8024"/>
                  </a:lnTo>
                  <a:lnTo>
                    <a:pt x="2474" y="7993"/>
                  </a:lnTo>
                  <a:lnTo>
                    <a:pt x="2572" y="7962"/>
                  </a:lnTo>
                  <a:lnTo>
                    <a:pt x="2669" y="7929"/>
                  </a:lnTo>
                  <a:lnTo>
                    <a:pt x="2766" y="7896"/>
                  </a:lnTo>
                  <a:lnTo>
                    <a:pt x="2862" y="7861"/>
                  </a:lnTo>
                  <a:lnTo>
                    <a:pt x="2957" y="7826"/>
                  </a:lnTo>
                  <a:lnTo>
                    <a:pt x="3053" y="7788"/>
                  </a:lnTo>
                  <a:lnTo>
                    <a:pt x="3147" y="7749"/>
                  </a:lnTo>
                  <a:lnTo>
                    <a:pt x="3239" y="7711"/>
                  </a:lnTo>
                  <a:lnTo>
                    <a:pt x="3333" y="7670"/>
                  </a:lnTo>
                  <a:lnTo>
                    <a:pt x="3426" y="7629"/>
                  </a:lnTo>
                  <a:lnTo>
                    <a:pt x="3518" y="7586"/>
                  </a:lnTo>
                  <a:lnTo>
                    <a:pt x="3609" y="7542"/>
                  </a:lnTo>
                  <a:lnTo>
                    <a:pt x="3700" y="7498"/>
                  </a:lnTo>
                  <a:lnTo>
                    <a:pt x="3790" y="7452"/>
                  </a:lnTo>
                  <a:lnTo>
                    <a:pt x="3879" y="7405"/>
                  </a:lnTo>
                  <a:lnTo>
                    <a:pt x="3969" y="7357"/>
                  </a:lnTo>
                  <a:lnTo>
                    <a:pt x="4057" y="7309"/>
                  </a:lnTo>
                  <a:lnTo>
                    <a:pt x="4144" y="7258"/>
                  </a:lnTo>
                  <a:lnTo>
                    <a:pt x="4232" y="7207"/>
                  </a:lnTo>
                  <a:lnTo>
                    <a:pt x="4318" y="7155"/>
                  </a:lnTo>
                  <a:lnTo>
                    <a:pt x="4404" y="7103"/>
                  </a:lnTo>
                  <a:lnTo>
                    <a:pt x="4489" y="7048"/>
                  </a:lnTo>
                  <a:lnTo>
                    <a:pt x="4572" y="6993"/>
                  </a:lnTo>
                  <a:lnTo>
                    <a:pt x="4657" y="6937"/>
                  </a:lnTo>
                  <a:lnTo>
                    <a:pt x="4738" y="6881"/>
                  </a:lnTo>
                  <a:lnTo>
                    <a:pt x="4821" y="6822"/>
                  </a:lnTo>
                  <a:lnTo>
                    <a:pt x="4902" y="6763"/>
                  </a:lnTo>
                  <a:lnTo>
                    <a:pt x="4983" y="6703"/>
                  </a:lnTo>
                  <a:lnTo>
                    <a:pt x="5062" y="6643"/>
                  </a:lnTo>
                  <a:lnTo>
                    <a:pt x="5142" y="6582"/>
                  </a:lnTo>
                  <a:lnTo>
                    <a:pt x="5221" y="6519"/>
                  </a:lnTo>
                  <a:lnTo>
                    <a:pt x="5299" y="6455"/>
                  </a:lnTo>
                  <a:lnTo>
                    <a:pt x="5375" y="6390"/>
                  </a:lnTo>
                  <a:lnTo>
                    <a:pt x="5451" y="6325"/>
                  </a:lnTo>
                  <a:lnTo>
                    <a:pt x="5526" y="6258"/>
                  </a:lnTo>
                  <a:lnTo>
                    <a:pt x="5601" y="6191"/>
                  </a:lnTo>
                  <a:lnTo>
                    <a:pt x="5674" y="6123"/>
                  </a:lnTo>
                  <a:lnTo>
                    <a:pt x="5747" y="6054"/>
                  </a:lnTo>
                  <a:lnTo>
                    <a:pt x="5819" y="5985"/>
                  </a:lnTo>
                  <a:lnTo>
                    <a:pt x="5891" y="5914"/>
                  </a:lnTo>
                  <a:lnTo>
                    <a:pt x="5962" y="5842"/>
                  </a:lnTo>
                  <a:lnTo>
                    <a:pt x="6030" y="5770"/>
                  </a:lnTo>
                  <a:lnTo>
                    <a:pt x="6099" y="5698"/>
                  </a:lnTo>
                  <a:lnTo>
                    <a:pt x="6167" y="5623"/>
                  </a:lnTo>
                  <a:lnTo>
                    <a:pt x="6234" y="5549"/>
                  </a:lnTo>
                  <a:lnTo>
                    <a:pt x="6299" y="5473"/>
                  </a:lnTo>
                  <a:lnTo>
                    <a:pt x="6365" y="5397"/>
                  </a:lnTo>
                  <a:lnTo>
                    <a:pt x="6430" y="5320"/>
                  </a:lnTo>
                  <a:lnTo>
                    <a:pt x="6492" y="5241"/>
                  </a:lnTo>
                  <a:lnTo>
                    <a:pt x="6555" y="5163"/>
                  </a:lnTo>
                  <a:lnTo>
                    <a:pt x="6617" y="5083"/>
                  </a:lnTo>
                  <a:lnTo>
                    <a:pt x="6677" y="5003"/>
                  </a:lnTo>
                  <a:lnTo>
                    <a:pt x="6736" y="4921"/>
                  </a:lnTo>
                  <a:lnTo>
                    <a:pt x="6795" y="4841"/>
                  </a:lnTo>
                  <a:lnTo>
                    <a:pt x="6853" y="4758"/>
                  </a:lnTo>
                  <a:lnTo>
                    <a:pt x="6910" y="4675"/>
                  </a:lnTo>
                  <a:lnTo>
                    <a:pt x="6965" y="4590"/>
                  </a:lnTo>
                  <a:lnTo>
                    <a:pt x="7021" y="4507"/>
                  </a:lnTo>
                  <a:lnTo>
                    <a:pt x="7075" y="4421"/>
                  </a:lnTo>
                  <a:lnTo>
                    <a:pt x="7127" y="4336"/>
                  </a:lnTo>
                  <a:lnTo>
                    <a:pt x="7179" y="4248"/>
                  </a:lnTo>
                  <a:lnTo>
                    <a:pt x="7229" y="4161"/>
                  </a:lnTo>
                  <a:lnTo>
                    <a:pt x="7279" y="4074"/>
                  </a:lnTo>
                  <a:lnTo>
                    <a:pt x="7328" y="3985"/>
                  </a:lnTo>
                  <a:lnTo>
                    <a:pt x="7376" y="3896"/>
                  </a:lnTo>
                  <a:lnTo>
                    <a:pt x="7422" y="3805"/>
                  </a:lnTo>
                  <a:lnTo>
                    <a:pt x="7469" y="3716"/>
                  </a:lnTo>
                  <a:lnTo>
                    <a:pt x="7513" y="3624"/>
                  </a:lnTo>
                  <a:lnTo>
                    <a:pt x="7555" y="3533"/>
                  </a:lnTo>
                  <a:lnTo>
                    <a:pt x="7599" y="3439"/>
                  </a:lnTo>
                  <a:lnTo>
                    <a:pt x="7640" y="3346"/>
                  </a:lnTo>
                  <a:lnTo>
                    <a:pt x="7679" y="3252"/>
                  </a:lnTo>
                  <a:lnTo>
                    <a:pt x="7719" y="3160"/>
                  </a:lnTo>
                  <a:lnTo>
                    <a:pt x="7757" y="3065"/>
                  </a:lnTo>
                  <a:lnTo>
                    <a:pt x="7794" y="2970"/>
                  </a:lnTo>
                  <a:lnTo>
                    <a:pt x="7830" y="2873"/>
                  </a:lnTo>
                  <a:lnTo>
                    <a:pt x="7865" y="2777"/>
                  </a:lnTo>
                  <a:lnTo>
                    <a:pt x="7898" y="2680"/>
                  </a:lnTo>
                  <a:lnTo>
                    <a:pt x="7930" y="2582"/>
                  </a:lnTo>
                  <a:lnTo>
                    <a:pt x="7962" y="2485"/>
                  </a:lnTo>
                  <a:lnTo>
                    <a:pt x="7991" y="2387"/>
                  </a:lnTo>
                  <a:lnTo>
                    <a:pt x="8020" y="2287"/>
                  </a:lnTo>
                  <a:lnTo>
                    <a:pt x="8048" y="2188"/>
                  </a:lnTo>
                  <a:lnTo>
                    <a:pt x="8073" y="2086"/>
                  </a:lnTo>
                  <a:lnTo>
                    <a:pt x="8098" y="1987"/>
                  </a:lnTo>
                  <a:lnTo>
                    <a:pt x="8123" y="1886"/>
                  </a:lnTo>
                  <a:lnTo>
                    <a:pt x="8146" y="1784"/>
                  </a:lnTo>
                  <a:lnTo>
                    <a:pt x="8167" y="1683"/>
                  </a:lnTo>
                  <a:lnTo>
                    <a:pt x="8188" y="1581"/>
                  </a:lnTo>
                  <a:lnTo>
                    <a:pt x="8208" y="1479"/>
                  </a:lnTo>
                  <a:lnTo>
                    <a:pt x="8224" y="1376"/>
                  </a:lnTo>
                  <a:lnTo>
                    <a:pt x="8241" y="1271"/>
                  </a:lnTo>
                  <a:lnTo>
                    <a:pt x="8256" y="1167"/>
                  </a:lnTo>
                  <a:lnTo>
                    <a:pt x="8269" y="1063"/>
                  </a:lnTo>
                  <a:lnTo>
                    <a:pt x="8283" y="958"/>
                  </a:lnTo>
                  <a:lnTo>
                    <a:pt x="8294" y="854"/>
                  </a:lnTo>
                  <a:lnTo>
                    <a:pt x="8305" y="747"/>
                  </a:lnTo>
                  <a:lnTo>
                    <a:pt x="8313" y="641"/>
                  </a:lnTo>
                  <a:lnTo>
                    <a:pt x="8320" y="536"/>
                  </a:lnTo>
                  <a:lnTo>
                    <a:pt x="8327" y="428"/>
                  </a:lnTo>
                  <a:lnTo>
                    <a:pt x="8331" y="321"/>
                  </a:lnTo>
                  <a:lnTo>
                    <a:pt x="8334" y="215"/>
                  </a:lnTo>
                  <a:lnTo>
                    <a:pt x="8337" y="108"/>
                  </a:lnTo>
                  <a:lnTo>
                    <a:pt x="8338" y="0"/>
                  </a:lnTo>
                  <a:lnTo>
                    <a:pt x="8338" y="0"/>
                  </a:lnTo>
                  <a:lnTo>
                    <a:pt x="7661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45600" y="3035160"/>
              <a:ext cx="296640" cy="328680"/>
            </a:xfrm>
            <a:custGeom>
              <a:avLst/>
              <a:gdLst/>
              <a:ahLst/>
              <a:rect l="l" t="t" r="r" b="b"/>
              <a:pathLst>
                <a:path w="7455" h="9447">
                  <a:moveTo>
                    <a:pt x="627" y="9297"/>
                  </a:moveTo>
                  <a:lnTo>
                    <a:pt x="637" y="9323"/>
                  </a:lnTo>
                  <a:lnTo>
                    <a:pt x="646" y="9346"/>
                  </a:lnTo>
                  <a:lnTo>
                    <a:pt x="655" y="9367"/>
                  </a:lnTo>
                  <a:lnTo>
                    <a:pt x="666" y="9384"/>
                  </a:lnTo>
                  <a:lnTo>
                    <a:pt x="675" y="9399"/>
                  </a:lnTo>
                  <a:lnTo>
                    <a:pt x="684" y="9413"/>
                  </a:lnTo>
                  <a:lnTo>
                    <a:pt x="695" y="9423"/>
                  </a:lnTo>
                  <a:lnTo>
                    <a:pt x="704" y="9431"/>
                  </a:lnTo>
                  <a:lnTo>
                    <a:pt x="714" y="9439"/>
                  </a:lnTo>
                  <a:lnTo>
                    <a:pt x="723" y="9443"/>
                  </a:lnTo>
                  <a:lnTo>
                    <a:pt x="732" y="9446"/>
                  </a:lnTo>
                  <a:lnTo>
                    <a:pt x="741" y="9447"/>
                  </a:lnTo>
                  <a:lnTo>
                    <a:pt x="750" y="9446"/>
                  </a:lnTo>
                  <a:lnTo>
                    <a:pt x="758" y="9444"/>
                  </a:lnTo>
                  <a:lnTo>
                    <a:pt x="767" y="9441"/>
                  </a:lnTo>
                  <a:lnTo>
                    <a:pt x="776" y="9436"/>
                  </a:lnTo>
                  <a:lnTo>
                    <a:pt x="783" y="9429"/>
                  </a:lnTo>
                  <a:lnTo>
                    <a:pt x="792" y="9422"/>
                  </a:lnTo>
                  <a:lnTo>
                    <a:pt x="799" y="9414"/>
                  </a:lnTo>
                  <a:lnTo>
                    <a:pt x="806" y="9404"/>
                  </a:lnTo>
                  <a:lnTo>
                    <a:pt x="814" y="9394"/>
                  </a:lnTo>
                  <a:lnTo>
                    <a:pt x="820" y="9383"/>
                  </a:lnTo>
                  <a:lnTo>
                    <a:pt x="826" y="9372"/>
                  </a:lnTo>
                  <a:lnTo>
                    <a:pt x="832" y="9359"/>
                  </a:lnTo>
                  <a:lnTo>
                    <a:pt x="843" y="9333"/>
                  </a:lnTo>
                  <a:lnTo>
                    <a:pt x="852" y="9307"/>
                  </a:lnTo>
                  <a:lnTo>
                    <a:pt x="860" y="9280"/>
                  </a:lnTo>
                  <a:lnTo>
                    <a:pt x="865" y="9252"/>
                  </a:lnTo>
                  <a:lnTo>
                    <a:pt x="885" y="9188"/>
                  </a:lnTo>
                  <a:lnTo>
                    <a:pt x="906" y="9122"/>
                  </a:lnTo>
                  <a:lnTo>
                    <a:pt x="929" y="9053"/>
                  </a:lnTo>
                  <a:lnTo>
                    <a:pt x="953" y="8982"/>
                  </a:lnTo>
                  <a:lnTo>
                    <a:pt x="978" y="8910"/>
                  </a:lnTo>
                  <a:lnTo>
                    <a:pt x="1004" y="8838"/>
                  </a:lnTo>
                  <a:lnTo>
                    <a:pt x="1030" y="8765"/>
                  </a:lnTo>
                  <a:lnTo>
                    <a:pt x="1058" y="8692"/>
                  </a:lnTo>
                  <a:lnTo>
                    <a:pt x="1085" y="8619"/>
                  </a:lnTo>
                  <a:lnTo>
                    <a:pt x="1113" y="8547"/>
                  </a:lnTo>
                  <a:lnTo>
                    <a:pt x="1140" y="8475"/>
                  </a:lnTo>
                  <a:lnTo>
                    <a:pt x="1167" y="8405"/>
                  </a:lnTo>
                  <a:lnTo>
                    <a:pt x="1194" y="8336"/>
                  </a:lnTo>
                  <a:lnTo>
                    <a:pt x="1220" y="8269"/>
                  </a:lnTo>
                  <a:lnTo>
                    <a:pt x="1246" y="8204"/>
                  </a:lnTo>
                  <a:lnTo>
                    <a:pt x="1270" y="8142"/>
                  </a:lnTo>
                  <a:lnTo>
                    <a:pt x="1354" y="8046"/>
                  </a:lnTo>
                  <a:lnTo>
                    <a:pt x="1445" y="7953"/>
                  </a:lnTo>
                  <a:lnTo>
                    <a:pt x="1542" y="7862"/>
                  </a:lnTo>
                  <a:lnTo>
                    <a:pt x="1648" y="7772"/>
                  </a:lnTo>
                  <a:lnTo>
                    <a:pt x="1758" y="7684"/>
                  </a:lnTo>
                  <a:lnTo>
                    <a:pt x="1874" y="7597"/>
                  </a:lnTo>
                  <a:lnTo>
                    <a:pt x="1996" y="7510"/>
                  </a:lnTo>
                  <a:lnTo>
                    <a:pt x="2122" y="7425"/>
                  </a:lnTo>
                  <a:lnTo>
                    <a:pt x="2252" y="7340"/>
                  </a:lnTo>
                  <a:lnTo>
                    <a:pt x="2386" y="7255"/>
                  </a:lnTo>
                  <a:lnTo>
                    <a:pt x="2524" y="7169"/>
                  </a:lnTo>
                  <a:lnTo>
                    <a:pt x="2665" y="7083"/>
                  </a:lnTo>
                  <a:lnTo>
                    <a:pt x="2952" y="6908"/>
                  </a:lnTo>
                  <a:lnTo>
                    <a:pt x="3247" y="6727"/>
                  </a:lnTo>
                  <a:lnTo>
                    <a:pt x="3396" y="6633"/>
                  </a:lnTo>
                  <a:lnTo>
                    <a:pt x="3545" y="6538"/>
                  </a:lnTo>
                  <a:lnTo>
                    <a:pt x="3694" y="6440"/>
                  </a:lnTo>
                  <a:lnTo>
                    <a:pt x="3842" y="6338"/>
                  </a:lnTo>
                  <a:lnTo>
                    <a:pt x="3989" y="6234"/>
                  </a:lnTo>
                  <a:lnTo>
                    <a:pt x="4135" y="6126"/>
                  </a:lnTo>
                  <a:lnTo>
                    <a:pt x="4278" y="6014"/>
                  </a:lnTo>
                  <a:lnTo>
                    <a:pt x="4420" y="5899"/>
                  </a:lnTo>
                  <a:lnTo>
                    <a:pt x="4557" y="5778"/>
                  </a:lnTo>
                  <a:lnTo>
                    <a:pt x="4693" y="5654"/>
                  </a:lnTo>
                  <a:lnTo>
                    <a:pt x="4824" y="5524"/>
                  </a:lnTo>
                  <a:lnTo>
                    <a:pt x="4950" y="5389"/>
                  </a:lnTo>
                  <a:lnTo>
                    <a:pt x="5073" y="5248"/>
                  </a:lnTo>
                  <a:lnTo>
                    <a:pt x="5190" y="5103"/>
                  </a:lnTo>
                  <a:lnTo>
                    <a:pt x="5302" y="4950"/>
                  </a:lnTo>
                  <a:lnTo>
                    <a:pt x="5407" y="4791"/>
                  </a:lnTo>
                  <a:lnTo>
                    <a:pt x="5440" y="4738"/>
                  </a:lnTo>
                  <a:lnTo>
                    <a:pt x="5472" y="4683"/>
                  </a:lnTo>
                  <a:lnTo>
                    <a:pt x="5503" y="4626"/>
                  </a:lnTo>
                  <a:lnTo>
                    <a:pt x="5534" y="4568"/>
                  </a:lnTo>
                  <a:lnTo>
                    <a:pt x="5564" y="4507"/>
                  </a:lnTo>
                  <a:lnTo>
                    <a:pt x="5595" y="4444"/>
                  </a:lnTo>
                  <a:lnTo>
                    <a:pt x="5624" y="4379"/>
                  </a:lnTo>
                  <a:lnTo>
                    <a:pt x="5653" y="4313"/>
                  </a:lnTo>
                  <a:lnTo>
                    <a:pt x="5682" y="4243"/>
                  </a:lnTo>
                  <a:lnTo>
                    <a:pt x="5710" y="4172"/>
                  </a:lnTo>
                  <a:lnTo>
                    <a:pt x="5738" y="4099"/>
                  </a:lnTo>
                  <a:lnTo>
                    <a:pt x="5766" y="4024"/>
                  </a:lnTo>
                  <a:lnTo>
                    <a:pt x="5795" y="3945"/>
                  </a:lnTo>
                  <a:lnTo>
                    <a:pt x="5823" y="3866"/>
                  </a:lnTo>
                  <a:lnTo>
                    <a:pt x="5851" y="3783"/>
                  </a:lnTo>
                  <a:lnTo>
                    <a:pt x="5878" y="3698"/>
                  </a:lnTo>
                  <a:lnTo>
                    <a:pt x="5906" y="3611"/>
                  </a:lnTo>
                  <a:lnTo>
                    <a:pt x="5934" y="3521"/>
                  </a:lnTo>
                  <a:lnTo>
                    <a:pt x="5961" y="3429"/>
                  </a:lnTo>
                  <a:lnTo>
                    <a:pt x="5990" y="3334"/>
                  </a:lnTo>
                  <a:lnTo>
                    <a:pt x="6047" y="3137"/>
                  </a:lnTo>
                  <a:lnTo>
                    <a:pt x="6104" y="2929"/>
                  </a:lnTo>
                  <a:lnTo>
                    <a:pt x="6164" y="2711"/>
                  </a:lnTo>
                  <a:lnTo>
                    <a:pt x="6224" y="2481"/>
                  </a:lnTo>
                  <a:lnTo>
                    <a:pt x="6288" y="2241"/>
                  </a:lnTo>
                  <a:lnTo>
                    <a:pt x="6353" y="1987"/>
                  </a:lnTo>
                  <a:lnTo>
                    <a:pt x="6376" y="1917"/>
                  </a:lnTo>
                  <a:lnTo>
                    <a:pt x="6400" y="1843"/>
                  </a:lnTo>
                  <a:lnTo>
                    <a:pt x="6424" y="1764"/>
                  </a:lnTo>
                  <a:lnTo>
                    <a:pt x="6449" y="1681"/>
                  </a:lnTo>
                  <a:lnTo>
                    <a:pt x="6474" y="1594"/>
                  </a:lnTo>
                  <a:lnTo>
                    <a:pt x="6501" y="1505"/>
                  </a:lnTo>
                  <a:lnTo>
                    <a:pt x="6528" y="1415"/>
                  </a:lnTo>
                  <a:lnTo>
                    <a:pt x="6555" y="1323"/>
                  </a:lnTo>
                  <a:lnTo>
                    <a:pt x="6585" y="1230"/>
                  </a:lnTo>
                  <a:lnTo>
                    <a:pt x="6615" y="1138"/>
                  </a:lnTo>
                  <a:lnTo>
                    <a:pt x="6646" y="1046"/>
                  </a:lnTo>
                  <a:lnTo>
                    <a:pt x="6678" y="956"/>
                  </a:lnTo>
                  <a:lnTo>
                    <a:pt x="6695" y="911"/>
                  </a:lnTo>
                  <a:lnTo>
                    <a:pt x="6712" y="867"/>
                  </a:lnTo>
                  <a:lnTo>
                    <a:pt x="6730" y="824"/>
                  </a:lnTo>
                  <a:lnTo>
                    <a:pt x="6747" y="781"/>
                  </a:lnTo>
                  <a:lnTo>
                    <a:pt x="6766" y="740"/>
                  </a:lnTo>
                  <a:lnTo>
                    <a:pt x="6785" y="699"/>
                  </a:lnTo>
                  <a:lnTo>
                    <a:pt x="6804" y="660"/>
                  </a:lnTo>
                  <a:lnTo>
                    <a:pt x="6822" y="621"/>
                  </a:lnTo>
                  <a:lnTo>
                    <a:pt x="6837" y="595"/>
                  </a:lnTo>
                  <a:lnTo>
                    <a:pt x="6851" y="571"/>
                  </a:lnTo>
                  <a:lnTo>
                    <a:pt x="6867" y="548"/>
                  </a:lnTo>
                  <a:lnTo>
                    <a:pt x="6884" y="525"/>
                  </a:lnTo>
                  <a:lnTo>
                    <a:pt x="6900" y="504"/>
                  </a:lnTo>
                  <a:lnTo>
                    <a:pt x="6918" y="483"/>
                  </a:lnTo>
                  <a:lnTo>
                    <a:pt x="6937" y="464"/>
                  </a:lnTo>
                  <a:lnTo>
                    <a:pt x="6956" y="445"/>
                  </a:lnTo>
                  <a:lnTo>
                    <a:pt x="6975" y="426"/>
                  </a:lnTo>
                  <a:lnTo>
                    <a:pt x="6995" y="410"/>
                  </a:lnTo>
                  <a:lnTo>
                    <a:pt x="7015" y="393"/>
                  </a:lnTo>
                  <a:lnTo>
                    <a:pt x="7036" y="376"/>
                  </a:lnTo>
                  <a:lnTo>
                    <a:pt x="7079" y="346"/>
                  </a:lnTo>
                  <a:lnTo>
                    <a:pt x="7122" y="316"/>
                  </a:lnTo>
                  <a:lnTo>
                    <a:pt x="7211" y="263"/>
                  </a:lnTo>
                  <a:lnTo>
                    <a:pt x="7298" y="212"/>
                  </a:lnTo>
                  <a:lnTo>
                    <a:pt x="7339" y="186"/>
                  </a:lnTo>
                  <a:lnTo>
                    <a:pt x="7380" y="158"/>
                  </a:lnTo>
                  <a:lnTo>
                    <a:pt x="7400" y="145"/>
                  </a:lnTo>
                  <a:lnTo>
                    <a:pt x="7418" y="131"/>
                  </a:lnTo>
                  <a:lnTo>
                    <a:pt x="7437" y="117"/>
                  </a:lnTo>
                  <a:lnTo>
                    <a:pt x="7455" y="102"/>
                  </a:lnTo>
                  <a:lnTo>
                    <a:pt x="7408" y="80"/>
                  </a:lnTo>
                  <a:lnTo>
                    <a:pt x="7361" y="60"/>
                  </a:lnTo>
                  <a:lnTo>
                    <a:pt x="7315" y="43"/>
                  </a:lnTo>
                  <a:lnTo>
                    <a:pt x="7268" y="29"/>
                  </a:lnTo>
                  <a:lnTo>
                    <a:pt x="7222" y="18"/>
                  </a:lnTo>
                  <a:lnTo>
                    <a:pt x="7176" y="10"/>
                  </a:lnTo>
                  <a:lnTo>
                    <a:pt x="7130" y="4"/>
                  </a:lnTo>
                  <a:lnTo>
                    <a:pt x="7083" y="0"/>
                  </a:lnTo>
                  <a:lnTo>
                    <a:pt x="7037" y="0"/>
                  </a:lnTo>
                  <a:lnTo>
                    <a:pt x="6990" y="3"/>
                  </a:lnTo>
                  <a:lnTo>
                    <a:pt x="6944" y="7"/>
                  </a:lnTo>
                  <a:lnTo>
                    <a:pt x="6898" y="14"/>
                  </a:lnTo>
                  <a:lnTo>
                    <a:pt x="6852" y="23"/>
                  </a:lnTo>
                  <a:lnTo>
                    <a:pt x="6807" y="35"/>
                  </a:lnTo>
                  <a:lnTo>
                    <a:pt x="6761" y="50"/>
                  </a:lnTo>
                  <a:lnTo>
                    <a:pt x="6715" y="65"/>
                  </a:lnTo>
                  <a:lnTo>
                    <a:pt x="6669" y="84"/>
                  </a:lnTo>
                  <a:lnTo>
                    <a:pt x="6623" y="105"/>
                  </a:lnTo>
                  <a:lnTo>
                    <a:pt x="6577" y="128"/>
                  </a:lnTo>
                  <a:lnTo>
                    <a:pt x="6531" y="152"/>
                  </a:lnTo>
                  <a:lnTo>
                    <a:pt x="6487" y="179"/>
                  </a:lnTo>
                  <a:lnTo>
                    <a:pt x="6441" y="208"/>
                  </a:lnTo>
                  <a:lnTo>
                    <a:pt x="6395" y="239"/>
                  </a:lnTo>
                  <a:lnTo>
                    <a:pt x="6350" y="271"/>
                  </a:lnTo>
                  <a:lnTo>
                    <a:pt x="6304" y="305"/>
                  </a:lnTo>
                  <a:lnTo>
                    <a:pt x="6258" y="342"/>
                  </a:lnTo>
                  <a:lnTo>
                    <a:pt x="6214" y="379"/>
                  </a:lnTo>
                  <a:lnTo>
                    <a:pt x="6168" y="418"/>
                  </a:lnTo>
                  <a:lnTo>
                    <a:pt x="6123" y="459"/>
                  </a:lnTo>
                  <a:lnTo>
                    <a:pt x="6077" y="502"/>
                  </a:lnTo>
                  <a:lnTo>
                    <a:pt x="6032" y="545"/>
                  </a:lnTo>
                  <a:lnTo>
                    <a:pt x="5987" y="591"/>
                  </a:lnTo>
                  <a:lnTo>
                    <a:pt x="5628" y="711"/>
                  </a:lnTo>
                  <a:lnTo>
                    <a:pt x="5270" y="831"/>
                  </a:lnTo>
                  <a:lnTo>
                    <a:pt x="4918" y="954"/>
                  </a:lnTo>
                  <a:lnTo>
                    <a:pt x="4571" y="1077"/>
                  </a:lnTo>
                  <a:lnTo>
                    <a:pt x="4229" y="1205"/>
                  </a:lnTo>
                  <a:lnTo>
                    <a:pt x="3894" y="1335"/>
                  </a:lnTo>
                  <a:lnTo>
                    <a:pt x="3566" y="1470"/>
                  </a:lnTo>
                  <a:lnTo>
                    <a:pt x="3248" y="1610"/>
                  </a:lnTo>
                  <a:lnTo>
                    <a:pt x="2939" y="1755"/>
                  </a:lnTo>
                  <a:lnTo>
                    <a:pt x="2640" y="1907"/>
                  </a:lnTo>
                  <a:lnTo>
                    <a:pt x="2352" y="2066"/>
                  </a:lnTo>
                  <a:lnTo>
                    <a:pt x="2077" y="2232"/>
                  </a:lnTo>
                  <a:lnTo>
                    <a:pt x="1814" y="2408"/>
                  </a:lnTo>
                  <a:lnTo>
                    <a:pt x="1565" y="2592"/>
                  </a:lnTo>
                  <a:lnTo>
                    <a:pt x="1332" y="2787"/>
                  </a:lnTo>
                  <a:lnTo>
                    <a:pt x="1114" y="2993"/>
                  </a:lnTo>
                  <a:lnTo>
                    <a:pt x="913" y="3210"/>
                  </a:lnTo>
                  <a:lnTo>
                    <a:pt x="729" y="3440"/>
                  </a:lnTo>
                  <a:lnTo>
                    <a:pt x="564" y="3682"/>
                  </a:lnTo>
                  <a:lnTo>
                    <a:pt x="418" y="3938"/>
                  </a:lnTo>
                  <a:lnTo>
                    <a:pt x="293" y="4209"/>
                  </a:lnTo>
                  <a:lnTo>
                    <a:pt x="187" y="4495"/>
                  </a:lnTo>
                  <a:lnTo>
                    <a:pt x="105" y="4796"/>
                  </a:lnTo>
                  <a:lnTo>
                    <a:pt x="46" y="5114"/>
                  </a:lnTo>
                  <a:lnTo>
                    <a:pt x="10" y="5449"/>
                  </a:lnTo>
                  <a:lnTo>
                    <a:pt x="0" y="5803"/>
                  </a:lnTo>
                  <a:lnTo>
                    <a:pt x="14" y="6175"/>
                  </a:lnTo>
                  <a:lnTo>
                    <a:pt x="55" y="6567"/>
                  </a:lnTo>
                  <a:lnTo>
                    <a:pt x="124" y="6980"/>
                  </a:lnTo>
                  <a:lnTo>
                    <a:pt x="222" y="7413"/>
                  </a:lnTo>
                  <a:lnTo>
                    <a:pt x="348" y="7867"/>
                  </a:lnTo>
                  <a:lnTo>
                    <a:pt x="504" y="8344"/>
                  </a:lnTo>
                  <a:lnTo>
                    <a:pt x="502" y="8423"/>
                  </a:lnTo>
                  <a:lnTo>
                    <a:pt x="502" y="8499"/>
                  </a:lnTo>
                  <a:lnTo>
                    <a:pt x="502" y="8572"/>
                  </a:lnTo>
                  <a:lnTo>
                    <a:pt x="504" y="8643"/>
                  </a:lnTo>
                  <a:lnTo>
                    <a:pt x="507" y="8711"/>
                  </a:lnTo>
                  <a:lnTo>
                    <a:pt x="511" y="8777"/>
                  </a:lnTo>
                  <a:lnTo>
                    <a:pt x="518" y="8840"/>
                  </a:lnTo>
                  <a:lnTo>
                    <a:pt x="525" y="8902"/>
                  </a:lnTo>
                  <a:lnTo>
                    <a:pt x="533" y="8959"/>
                  </a:lnTo>
                  <a:lnTo>
                    <a:pt x="543" y="9016"/>
                  </a:lnTo>
                  <a:lnTo>
                    <a:pt x="553" y="9069"/>
                  </a:lnTo>
                  <a:lnTo>
                    <a:pt x="566" y="9120"/>
                  </a:lnTo>
                  <a:lnTo>
                    <a:pt x="572" y="9144"/>
                  </a:lnTo>
                  <a:lnTo>
                    <a:pt x="579" y="9168"/>
                  </a:lnTo>
                  <a:lnTo>
                    <a:pt x="586" y="9191"/>
                  </a:lnTo>
                  <a:lnTo>
                    <a:pt x="594" y="9214"/>
                  </a:lnTo>
                  <a:lnTo>
                    <a:pt x="601" y="9236"/>
                  </a:lnTo>
                  <a:lnTo>
                    <a:pt x="609" y="9257"/>
                  </a:lnTo>
                  <a:lnTo>
                    <a:pt x="618" y="9278"/>
                  </a:lnTo>
                  <a:lnTo>
                    <a:pt x="627" y="92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3760" y="3075120"/>
              <a:ext cx="193680" cy="241200"/>
            </a:xfrm>
            <a:custGeom>
              <a:avLst/>
              <a:gdLst/>
              <a:ahLst/>
              <a:rect l="l" t="t" r="r" b="b"/>
              <a:pathLst>
                <a:path w="5158" h="7057">
                  <a:moveTo>
                    <a:pt x="0" y="7057"/>
                  </a:moveTo>
                  <a:lnTo>
                    <a:pt x="38" y="6778"/>
                  </a:lnTo>
                  <a:lnTo>
                    <a:pt x="87" y="6500"/>
                  </a:lnTo>
                  <a:lnTo>
                    <a:pt x="146" y="6226"/>
                  </a:lnTo>
                  <a:lnTo>
                    <a:pt x="215" y="5956"/>
                  </a:lnTo>
                  <a:lnTo>
                    <a:pt x="294" y="5688"/>
                  </a:lnTo>
                  <a:lnTo>
                    <a:pt x="384" y="5425"/>
                  </a:lnTo>
                  <a:lnTo>
                    <a:pt x="482" y="5164"/>
                  </a:lnTo>
                  <a:lnTo>
                    <a:pt x="590" y="4907"/>
                  </a:lnTo>
                  <a:lnTo>
                    <a:pt x="707" y="4652"/>
                  </a:lnTo>
                  <a:lnTo>
                    <a:pt x="831" y="4402"/>
                  </a:lnTo>
                  <a:lnTo>
                    <a:pt x="964" y="4156"/>
                  </a:lnTo>
                  <a:lnTo>
                    <a:pt x="1106" y="3914"/>
                  </a:lnTo>
                  <a:lnTo>
                    <a:pt x="1255" y="3675"/>
                  </a:lnTo>
                  <a:lnTo>
                    <a:pt x="1411" y="3441"/>
                  </a:lnTo>
                  <a:lnTo>
                    <a:pt x="1575" y="3210"/>
                  </a:lnTo>
                  <a:lnTo>
                    <a:pt x="1745" y="2984"/>
                  </a:lnTo>
                  <a:lnTo>
                    <a:pt x="1922" y="2763"/>
                  </a:lnTo>
                  <a:lnTo>
                    <a:pt x="2104" y="2545"/>
                  </a:lnTo>
                  <a:lnTo>
                    <a:pt x="2293" y="2331"/>
                  </a:lnTo>
                  <a:lnTo>
                    <a:pt x="2488" y="2123"/>
                  </a:lnTo>
                  <a:lnTo>
                    <a:pt x="2688" y="1919"/>
                  </a:lnTo>
                  <a:lnTo>
                    <a:pt x="2893" y="1719"/>
                  </a:lnTo>
                  <a:lnTo>
                    <a:pt x="3103" y="1525"/>
                  </a:lnTo>
                  <a:lnTo>
                    <a:pt x="3317" y="1334"/>
                  </a:lnTo>
                  <a:lnTo>
                    <a:pt x="3535" y="1150"/>
                  </a:lnTo>
                  <a:lnTo>
                    <a:pt x="3757" y="970"/>
                  </a:lnTo>
                  <a:lnTo>
                    <a:pt x="3984" y="795"/>
                  </a:lnTo>
                  <a:lnTo>
                    <a:pt x="4213" y="626"/>
                  </a:lnTo>
                  <a:lnTo>
                    <a:pt x="4445" y="461"/>
                  </a:lnTo>
                  <a:lnTo>
                    <a:pt x="4681" y="302"/>
                  </a:lnTo>
                  <a:lnTo>
                    <a:pt x="4919" y="149"/>
                  </a:lnTo>
                  <a:lnTo>
                    <a:pt x="5158" y="0"/>
                  </a:lnTo>
                  <a:lnTo>
                    <a:pt x="5136" y="227"/>
                  </a:lnTo>
                  <a:lnTo>
                    <a:pt x="5113" y="446"/>
                  </a:lnTo>
                  <a:lnTo>
                    <a:pt x="5087" y="659"/>
                  </a:lnTo>
                  <a:lnTo>
                    <a:pt x="5060" y="867"/>
                  </a:lnTo>
                  <a:lnTo>
                    <a:pt x="5029" y="1066"/>
                  </a:lnTo>
                  <a:lnTo>
                    <a:pt x="4996" y="1261"/>
                  </a:lnTo>
                  <a:lnTo>
                    <a:pt x="4959" y="1450"/>
                  </a:lnTo>
                  <a:lnTo>
                    <a:pt x="4920" y="1635"/>
                  </a:lnTo>
                  <a:lnTo>
                    <a:pt x="4877" y="1814"/>
                  </a:lnTo>
                  <a:lnTo>
                    <a:pt x="4831" y="1987"/>
                  </a:lnTo>
                  <a:lnTo>
                    <a:pt x="4781" y="2158"/>
                  </a:lnTo>
                  <a:lnTo>
                    <a:pt x="4728" y="2323"/>
                  </a:lnTo>
                  <a:lnTo>
                    <a:pt x="4670" y="2484"/>
                  </a:lnTo>
                  <a:lnTo>
                    <a:pt x="4609" y="2641"/>
                  </a:lnTo>
                  <a:lnTo>
                    <a:pt x="4544" y="2796"/>
                  </a:lnTo>
                  <a:lnTo>
                    <a:pt x="4475" y="2947"/>
                  </a:lnTo>
                  <a:lnTo>
                    <a:pt x="4401" y="3094"/>
                  </a:lnTo>
                  <a:lnTo>
                    <a:pt x="4321" y="3240"/>
                  </a:lnTo>
                  <a:lnTo>
                    <a:pt x="4238" y="3383"/>
                  </a:lnTo>
                  <a:lnTo>
                    <a:pt x="4150" y="3523"/>
                  </a:lnTo>
                  <a:lnTo>
                    <a:pt x="4057" y="3662"/>
                  </a:lnTo>
                  <a:lnTo>
                    <a:pt x="3959" y="3800"/>
                  </a:lnTo>
                  <a:lnTo>
                    <a:pt x="3855" y="3936"/>
                  </a:lnTo>
                  <a:lnTo>
                    <a:pt x="3746" y="4070"/>
                  </a:lnTo>
                  <a:lnTo>
                    <a:pt x="3631" y="4203"/>
                  </a:lnTo>
                  <a:lnTo>
                    <a:pt x="3510" y="4337"/>
                  </a:lnTo>
                  <a:lnTo>
                    <a:pt x="3384" y="4470"/>
                  </a:lnTo>
                  <a:lnTo>
                    <a:pt x="3252" y="4603"/>
                  </a:lnTo>
                  <a:lnTo>
                    <a:pt x="3113" y="4736"/>
                  </a:lnTo>
                  <a:lnTo>
                    <a:pt x="2968" y="4869"/>
                  </a:lnTo>
                  <a:lnTo>
                    <a:pt x="2817" y="5004"/>
                  </a:lnTo>
                  <a:lnTo>
                    <a:pt x="2659" y="5139"/>
                  </a:lnTo>
                  <a:lnTo>
                    <a:pt x="2593" y="5191"/>
                  </a:lnTo>
                  <a:lnTo>
                    <a:pt x="2527" y="5243"/>
                  </a:lnTo>
                  <a:lnTo>
                    <a:pt x="2459" y="5293"/>
                  </a:lnTo>
                  <a:lnTo>
                    <a:pt x="2388" y="5341"/>
                  </a:lnTo>
                  <a:lnTo>
                    <a:pt x="2317" y="5388"/>
                  </a:lnTo>
                  <a:lnTo>
                    <a:pt x="2244" y="5433"/>
                  </a:lnTo>
                  <a:lnTo>
                    <a:pt x="2169" y="5479"/>
                  </a:lnTo>
                  <a:lnTo>
                    <a:pt x="2094" y="5524"/>
                  </a:lnTo>
                  <a:lnTo>
                    <a:pt x="1939" y="5613"/>
                  </a:lnTo>
                  <a:lnTo>
                    <a:pt x="1778" y="5703"/>
                  </a:lnTo>
                  <a:lnTo>
                    <a:pt x="1614" y="5795"/>
                  </a:lnTo>
                  <a:lnTo>
                    <a:pt x="1445" y="5892"/>
                  </a:lnTo>
                  <a:lnTo>
                    <a:pt x="1359" y="5944"/>
                  </a:lnTo>
                  <a:lnTo>
                    <a:pt x="1273" y="5996"/>
                  </a:lnTo>
                  <a:lnTo>
                    <a:pt x="1185" y="6051"/>
                  </a:lnTo>
                  <a:lnTo>
                    <a:pt x="1097" y="6108"/>
                  </a:lnTo>
                  <a:lnTo>
                    <a:pt x="1008" y="6169"/>
                  </a:lnTo>
                  <a:lnTo>
                    <a:pt x="918" y="6230"/>
                  </a:lnTo>
                  <a:lnTo>
                    <a:pt x="829" y="6296"/>
                  </a:lnTo>
                  <a:lnTo>
                    <a:pt x="738" y="6364"/>
                  </a:lnTo>
                  <a:lnTo>
                    <a:pt x="647" y="6436"/>
                  </a:lnTo>
                  <a:lnTo>
                    <a:pt x="556" y="6513"/>
                  </a:lnTo>
                  <a:lnTo>
                    <a:pt x="464" y="6592"/>
                  </a:lnTo>
                  <a:lnTo>
                    <a:pt x="371" y="6676"/>
                  </a:lnTo>
                  <a:lnTo>
                    <a:pt x="279" y="6764"/>
                  </a:lnTo>
                  <a:lnTo>
                    <a:pt x="187" y="6857"/>
                  </a:lnTo>
                  <a:lnTo>
                    <a:pt x="93" y="6954"/>
                  </a:lnTo>
                  <a:lnTo>
                    <a:pt x="0" y="7057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66120" y="3073320"/>
              <a:ext cx="200160" cy="203400"/>
            </a:xfrm>
            <a:custGeom>
              <a:avLst/>
              <a:gdLst/>
              <a:ahLst/>
              <a:rect l="l" t="t" r="r" b="b"/>
              <a:pathLst>
                <a:path w="5357" h="5962">
                  <a:moveTo>
                    <a:pt x="5357" y="0"/>
                  </a:moveTo>
                  <a:lnTo>
                    <a:pt x="5132" y="89"/>
                  </a:lnTo>
                  <a:lnTo>
                    <a:pt x="4800" y="202"/>
                  </a:lnTo>
                  <a:lnTo>
                    <a:pt x="4474" y="316"/>
                  </a:lnTo>
                  <a:lnTo>
                    <a:pt x="4158" y="432"/>
                  </a:lnTo>
                  <a:lnTo>
                    <a:pt x="3851" y="550"/>
                  </a:lnTo>
                  <a:lnTo>
                    <a:pt x="3553" y="669"/>
                  </a:lnTo>
                  <a:lnTo>
                    <a:pt x="3265" y="793"/>
                  </a:lnTo>
                  <a:lnTo>
                    <a:pt x="2988" y="919"/>
                  </a:lnTo>
                  <a:lnTo>
                    <a:pt x="2720" y="1047"/>
                  </a:lnTo>
                  <a:lnTo>
                    <a:pt x="2464" y="1180"/>
                  </a:lnTo>
                  <a:lnTo>
                    <a:pt x="2218" y="1317"/>
                  </a:lnTo>
                  <a:lnTo>
                    <a:pt x="1982" y="1457"/>
                  </a:lnTo>
                  <a:lnTo>
                    <a:pt x="1759" y="1603"/>
                  </a:lnTo>
                  <a:lnTo>
                    <a:pt x="1549" y="1754"/>
                  </a:lnTo>
                  <a:lnTo>
                    <a:pt x="1349" y="1908"/>
                  </a:lnTo>
                  <a:lnTo>
                    <a:pt x="1162" y="2070"/>
                  </a:lnTo>
                  <a:lnTo>
                    <a:pt x="988" y="2237"/>
                  </a:lnTo>
                  <a:lnTo>
                    <a:pt x="828" y="2410"/>
                  </a:lnTo>
                  <a:lnTo>
                    <a:pt x="680" y="2590"/>
                  </a:lnTo>
                  <a:lnTo>
                    <a:pt x="545" y="2776"/>
                  </a:lnTo>
                  <a:lnTo>
                    <a:pt x="425" y="2968"/>
                  </a:lnTo>
                  <a:lnTo>
                    <a:pt x="319" y="3169"/>
                  </a:lnTo>
                  <a:lnTo>
                    <a:pt x="228" y="3379"/>
                  </a:lnTo>
                  <a:lnTo>
                    <a:pt x="151" y="3595"/>
                  </a:lnTo>
                  <a:lnTo>
                    <a:pt x="91" y="3820"/>
                  </a:lnTo>
                  <a:lnTo>
                    <a:pt x="45" y="4053"/>
                  </a:lnTo>
                  <a:lnTo>
                    <a:pt x="15" y="4297"/>
                  </a:lnTo>
                  <a:lnTo>
                    <a:pt x="0" y="4549"/>
                  </a:lnTo>
                  <a:lnTo>
                    <a:pt x="3" y="4811"/>
                  </a:lnTo>
                  <a:lnTo>
                    <a:pt x="22" y="5083"/>
                  </a:lnTo>
                  <a:lnTo>
                    <a:pt x="57" y="5366"/>
                  </a:lnTo>
                  <a:lnTo>
                    <a:pt x="111" y="5658"/>
                  </a:lnTo>
                  <a:lnTo>
                    <a:pt x="181" y="5962"/>
                  </a:lnTo>
                  <a:lnTo>
                    <a:pt x="284" y="5638"/>
                  </a:lnTo>
                  <a:lnTo>
                    <a:pt x="402" y="5320"/>
                  </a:lnTo>
                  <a:lnTo>
                    <a:pt x="537" y="5008"/>
                  </a:lnTo>
                  <a:lnTo>
                    <a:pt x="686" y="4703"/>
                  </a:lnTo>
                  <a:lnTo>
                    <a:pt x="847" y="4406"/>
                  </a:lnTo>
                  <a:lnTo>
                    <a:pt x="1020" y="4116"/>
                  </a:lnTo>
                  <a:lnTo>
                    <a:pt x="1204" y="3835"/>
                  </a:lnTo>
                  <a:lnTo>
                    <a:pt x="1397" y="3561"/>
                  </a:lnTo>
                  <a:lnTo>
                    <a:pt x="1597" y="3295"/>
                  </a:lnTo>
                  <a:lnTo>
                    <a:pt x="1803" y="3037"/>
                  </a:lnTo>
                  <a:lnTo>
                    <a:pt x="2015" y="2789"/>
                  </a:lnTo>
                  <a:lnTo>
                    <a:pt x="2230" y="2550"/>
                  </a:lnTo>
                  <a:lnTo>
                    <a:pt x="2448" y="2319"/>
                  </a:lnTo>
                  <a:lnTo>
                    <a:pt x="2668" y="2098"/>
                  </a:lnTo>
                  <a:lnTo>
                    <a:pt x="2887" y="1886"/>
                  </a:lnTo>
                  <a:lnTo>
                    <a:pt x="3106" y="1684"/>
                  </a:lnTo>
                  <a:lnTo>
                    <a:pt x="3321" y="1493"/>
                  </a:lnTo>
                  <a:lnTo>
                    <a:pt x="3532" y="1312"/>
                  </a:lnTo>
                  <a:lnTo>
                    <a:pt x="3739" y="1141"/>
                  </a:lnTo>
                  <a:lnTo>
                    <a:pt x="3939" y="982"/>
                  </a:lnTo>
                  <a:lnTo>
                    <a:pt x="4130" y="834"/>
                  </a:lnTo>
                  <a:lnTo>
                    <a:pt x="4313" y="696"/>
                  </a:lnTo>
                  <a:lnTo>
                    <a:pt x="4486" y="570"/>
                  </a:lnTo>
                  <a:lnTo>
                    <a:pt x="4646" y="457"/>
                  </a:lnTo>
                  <a:lnTo>
                    <a:pt x="4794" y="355"/>
                  </a:lnTo>
                  <a:lnTo>
                    <a:pt x="4928" y="266"/>
                  </a:lnTo>
                  <a:lnTo>
                    <a:pt x="5046" y="188"/>
                  </a:lnTo>
                  <a:lnTo>
                    <a:pt x="5148" y="124"/>
                  </a:lnTo>
                  <a:lnTo>
                    <a:pt x="5230" y="73"/>
                  </a:lnTo>
                  <a:lnTo>
                    <a:pt x="5294" y="35"/>
                  </a:lnTo>
                  <a:lnTo>
                    <a:pt x="5336" y="11"/>
                  </a:lnTo>
                  <a:lnTo>
                    <a:pt x="5357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292960" y="5845320"/>
            <a:ext cx="623520" cy="571320"/>
            <a:chOff x="8292960" y="5845320"/>
            <a:chExt cx="623520" cy="571320"/>
          </a:xfrm>
        </p:grpSpPr>
        <p:sp>
          <p:nvSpPr>
            <p:cNvPr id="11" name=""/>
            <p:cNvSpPr/>
            <p:nvPr/>
          </p:nvSpPr>
          <p:spPr>
            <a:xfrm>
              <a:off x="8605080" y="5845320"/>
              <a:ext cx="311400" cy="2862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9" y="681"/>
                  </a:lnTo>
                  <a:lnTo>
                    <a:pt x="297" y="684"/>
                  </a:lnTo>
                  <a:lnTo>
                    <a:pt x="397" y="690"/>
                  </a:lnTo>
                  <a:lnTo>
                    <a:pt x="493" y="695"/>
                  </a:lnTo>
                  <a:lnTo>
                    <a:pt x="591" y="702"/>
                  </a:lnTo>
                  <a:lnTo>
                    <a:pt x="689" y="710"/>
                  </a:lnTo>
                  <a:lnTo>
                    <a:pt x="785" y="719"/>
                  </a:lnTo>
                  <a:lnTo>
                    <a:pt x="881" y="730"/>
                  </a:lnTo>
                  <a:lnTo>
                    <a:pt x="977" y="741"/>
                  </a:lnTo>
                  <a:lnTo>
                    <a:pt x="1074" y="754"/>
                  </a:lnTo>
                  <a:lnTo>
                    <a:pt x="1170" y="769"/>
                  </a:lnTo>
                  <a:lnTo>
                    <a:pt x="1264" y="784"/>
                  </a:lnTo>
                  <a:lnTo>
                    <a:pt x="1358" y="800"/>
                  </a:lnTo>
                  <a:lnTo>
                    <a:pt x="1453" y="817"/>
                  </a:lnTo>
                  <a:lnTo>
                    <a:pt x="1548" y="836"/>
                  </a:lnTo>
                  <a:lnTo>
                    <a:pt x="1641" y="857"/>
                  </a:lnTo>
                  <a:lnTo>
                    <a:pt x="1734" y="877"/>
                  </a:lnTo>
                  <a:lnTo>
                    <a:pt x="1827" y="899"/>
                  </a:lnTo>
                  <a:lnTo>
                    <a:pt x="1919" y="922"/>
                  </a:lnTo>
                  <a:lnTo>
                    <a:pt x="2010" y="947"/>
                  </a:lnTo>
                  <a:lnTo>
                    <a:pt x="2101" y="972"/>
                  </a:lnTo>
                  <a:lnTo>
                    <a:pt x="2192" y="999"/>
                  </a:lnTo>
                  <a:lnTo>
                    <a:pt x="2282" y="1026"/>
                  </a:lnTo>
                  <a:lnTo>
                    <a:pt x="2372" y="1055"/>
                  </a:lnTo>
                  <a:lnTo>
                    <a:pt x="2462" y="1085"/>
                  </a:lnTo>
                  <a:lnTo>
                    <a:pt x="2551" y="1115"/>
                  </a:lnTo>
                  <a:lnTo>
                    <a:pt x="2639" y="1148"/>
                  </a:lnTo>
                  <a:lnTo>
                    <a:pt x="2727" y="1180"/>
                  </a:lnTo>
                  <a:lnTo>
                    <a:pt x="2815" y="1215"/>
                  </a:lnTo>
                  <a:lnTo>
                    <a:pt x="2903" y="1250"/>
                  </a:lnTo>
                  <a:lnTo>
                    <a:pt x="2989" y="1285"/>
                  </a:lnTo>
                  <a:lnTo>
                    <a:pt x="3075" y="1323"/>
                  </a:lnTo>
                  <a:lnTo>
                    <a:pt x="3160" y="1361"/>
                  </a:lnTo>
                  <a:lnTo>
                    <a:pt x="3245" y="1399"/>
                  </a:lnTo>
                  <a:lnTo>
                    <a:pt x="3329" y="1440"/>
                  </a:lnTo>
                  <a:lnTo>
                    <a:pt x="3412" y="1482"/>
                  </a:lnTo>
                  <a:lnTo>
                    <a:pt x="3497" y="1522"/>
                  </a:lnTo>
                  <a:lnTo>
                    <a:pt x="3579" y="1566"/>
                  </a:lnTo>
                  <a:lnTo>
                    <a:pt x="3660" y="1609"/>
                  </a:lnTo>
                  <a:lnTo>
                    <a:pt x="3742" y="1655"/>
                  </a:lnTo>
                  <a:lnTo>
                    <a:pt x="3823" y="1700"/>
                  </a:lnTo>
                  <a:lnTo>
                    <a:pt x="3903" y="1747"/>
                  </a:lnTo>
                  <a:lnTo>
                    <a:pt x="3983" y="1796"/>
                  </a:lnTo>
                  <a:lnTo>
                    <a:pt x="4062" y="1845"/>
                  </a:lnTo>
                  <a:lnTo>
                    <a:pt x="4139" y="1894"/>
                  </a:lnTo>
                  <a:lnTo>
                    <a:pt x="4218" y="1944"/>
                  </a:lnTo>
                  <a:lnTo>
                    <a:pt x="4295" y="1996"/>
                  </a:lnTo>
                  <a:lnTo>
                    <a:pt x="4371" y="2049"/>
                  </a:lnTo>
                  <a:lnTo>
                    <a:pt x="4447" y="2101"/>
                  </a:lnTo>
                  <a:lnTo>
                    <a:pt x="4522" y="2156"/>
                  </a:lnTo>
                  <a:lnTo>
                    <a:pt x="4597" y="2210"/>
                  </a:lnTo>
                  <a:lnTo>
                    <a:pt x="4670" y="2267"/>
                  </a:lnTo>
                  <a:lnTo>
                    <a:pt x="4743" y="2324"/>
                  </a:lnTo>
                  <a:lnTo>
                    <a:pt x="4816" y="2382"/>
                  </a:lnTo>
                  <a:lnTo>
                    <a:pt x="4887" y="2439"/>
                  </a:lnTo>
                  <a:lnTo>
                    <a:pt x="4958" y="2499"/>
                  </a:lnTo>
                  <a:lnTo>
                    <a:pt x="5029" y="2558"/>
                  </a:lnTo>
                  <a:lnTo>
                    <a:pt x="5099" y="2620"/>
                  </a:lnTo>
                  <a:lnTo>
                    <a:pt x="5167" y="2682"/>
                  </a:lnTo>
                  <a:lnTo>
                    <a:pt x="5235" y="2745"/>
                  </a:lnTo>
                  <a:lnTo>
                    <a:pt x="5302" y="2807"/>
                  </a:lnTo>
                  <a:lnTo>
                    <a:pt x="5369" y="2872"/>
                  </a:lnTo>
                  <a:lnTo>
                    <a:pt x="5434" y="2937"/>
                  </a:lnTo>
                  <a:lnTo>
                    <a:pt x="5499" y="3002"/>
                  </a:lnTo>
                  <a:lnTo>
                    <a:pt x="5564" y="3069"/>
                  </a:lnTo>
                  <a:lnTo>
                    <a:pt x="5626" y="3136"/>
                  </a:lnTo>
                  <a:lnTo>
                    <a:pt x="5689" y="3204"/>
                  </a:lnTo>
                  <a:lnTo>
                    <a:pt x="5751" y="3272"/>
                  </a:lnTo>
                  <a:lnTo>
                    <a:pt x="5813" y="3342"/>
                  </a:lnTo>
                  <a:lnTo>
                    <a:pt x="5872" y="3413"/>
                  </a:lnTo>
                  <a:lnTo>
                    <a:pt x="5932" y="3484"/>
                  </a:lnTo>
                  <a:lnTo>
                    <a:pt x="5989" y="3555"/>
                  </a:lnTo>
                  <a:lnTo>
                    <a:pt x="6047" y="3628"/>
                  </a:lnTo>
                  <a:lnTo>
                    <a:pt x="6104" y="3701"/>
                  </a:lnTo>
                  <a:lnTo>
                    <a:pt x="6161" y="3774"/>
                  </a:lnTo>
                  <a:lnTo>
                    <a:pt x="6215" y="3849"/>
                  </a:lnTo>
                  <a:lnTo>
                    <a:pt x="6270" y="3924"/>
                  </a:lnTo>
                  <a:lnTo>
                    <a:pt x="6322" y="4000"/>
                  </a:lnTo>
                  <a:lnTo>
                    <a:pt x="6375" y="4076"/>
                  </a:lnTo>
                  <a:lnTo>
                    <a:pt x="6427" y="4153"/>
                  </a:lnTo>
                  <a:lnTo>
                    <a:pt x="6477" y="4232"/>
                  </a:lnTo>
                  <a:lnTo>
                    <a:pt x="6526" y="4309"/>
                  </a:lnTo>
                  <a:lnTo>
                    <a:pt x="6575" y="4388"/>
                  </a:lnTo>
                  <a:lnTo>
                    <a:pt x="6624" y="4468"/>
                  </a:lnTo>
                  <a:lnTo>
                    <a:pt x="6671" y="4548"/>
                  </a:lnTo>
                  <a:lnTo>
                    <a:pt x="6716" y="4629"/>
                  </a:lnTo>
                  <a:lnTo>
                    <a:pt x="6762" y="4711"/>
                  </a:lnTo>
                  <a:lnTo>
                    <a:pt x="6805" y="4792"/>
                  </a:lnTo>
                  <a:lnTo>
                    <a:pt x="6849" y="4874"/>
                  </a:lnTo>
                  <a:lnTo>
                    <a:pt x="6889" y="4959"/>
                  </a:lnTo>
                  <a:lnTo>
                    <a:pt x="6931" y="5042"/>
                  </a:lnTo>
                  <a:lnTo>
                    <a:pt x="6972" y="5126"/>
                  </a:lnTo>
                  <a:lnTo>
                    <a:pt x="7010" y="5211"/>
                  </a:lnTo>
                  <a:lnTo>
                    <a:pt x="7048" y="5296"/>
                  </a:lnTo>
                  <a:lnTo>
                    <a:pt x="7086" y="5382"/>
                  </a:lnTo>
                  <a:lnTo>
                    <a:pt x="7121" y="5468"/>
                  </a:lnTo>
                  <a:lnTo>
                    <a:pt x="7156" y="5556"/>
                  </a:lnTo>
                  <a:lnTo>
                    <a:pt x="7191" y="5644"/>
                  </a:lnTo>
                  <a:lnTo>
                    <a:pt x="7223" y="5732"/>
                  </a:lnTo>
                  <a:lnTo>
                    <a:pt x="7256" y="5820"/>
                  </a:lnTo>
                  <a:lnTo>
                    <a:pt x="7286" y="5909"/>
                  </a:lnTo>
                  <a:lnTo>
                    <a:pt x="7316" y="5999"/>
                  </a:lnTo>
                  <a:lnTo>
                    <a:pt x="7345" y="6089"/>
                  </a:lnTo>
                  <a:lnTo>
                    <a:pt x="7372" y="6179"/>
                  </a:lnTo>
                  <a:lnTo>
                    <a:pt x="7399" y="6270"/>
                  </a:lnTo>
                  <a:lnTo>
                    <a:pt x="7424" y="6361"/>
                  </a:lnTo>
                  <a:lnTo>
                    <a:pt x="7449" y="6452"/>
                  </a:lnTo>
                  <a:lnTo>
                    <a:pt x="7472" y="6544"/>
                  </a:lnTo>
                  <a:lnTo>
                    <a:pt x="7494" y="6637"/>
                  </a:lnTo>
                  <a:lnTo>
                    <a:pt x="7514" y="6730"/>
                  </a:lnTo>
                  <a:lnTo>
                    <a:pt x="7535" y="6823"/>
                  </a:lnTo>
                  <a:lnTo>
                    <a:pt x="7554" y="6918"/>
                  </a:lnTo>
                  <a:lnTo>
                    <a:pt x="7571" y="7013"/>
                  </a:lnTo>
                  <a:lnTo>
                    <a:pt x="7587" y="7107"/>
                  </a:lnTo>
                  <a:lnTo>
                    <a:pt x="7602" y="7201"/>
                  </a:lnTo>
                  <a:lnTo>
                    <a:pt x="7617" y="7297"/>
                  </a:lnTo>
                  <a:lnTo>
                    <a:pt x="7630" y="7394"/>
                  </a:lnTo>
                  <a:lnTo>
                    <a:pt x="7641" y="7490"/>
                  </a:lnTo>
                  <a:lnTo>
                    <a:pt x="7652" y="7586"/>
                  </a:lnTo>
                  <a:lnTo>
                    <a:pt x="7661" y="7682"/>
                  </a:lnTo>
                  <a:lnTo>
                    <a:pt x="7669" y="7780"/>
                  </a:lnTo>
                  <a:lnTo>
                    <a:pt x="7676" y="7878"/>
                  </a:lnTo>
                  <a:lnTo>
                    <a:pt x="7681" y="7974"/>
                  </a:lnTo>
                  <a:lnTo>
                    <a:pt x="7687" y="8074"/>
                  </a:lnTo>
                  <a:lnTo>
                    <a:pt x="7690" y="8172"/>
                  </a:lnTo>
                  <a:lnTo>
                    <a:pt x="7690" y="8272"/>
                  </a:lnTo>
                  <a:lnTo>
                    <a:pt x="7691" y="8371"/>
                  </a:lnTo>
                  <a:lnTo>
                    <a:pt x="8371" y="8371"/>
                  </a:lnTo>
                  <a:lnTo>
                    <a:pt x="8370" y="8263"/>
                  </a:lnTo>
                  <a:lnTo>
                    <a:pt x="8367" y="8156"/>
                  </a:lnTo>
                  <a:lnTo>
                    <a:pt x="8364" y="8050"/>
                  </a:lnTo>
                  <a:lnTo>
                    <a:pt x="8359" y="7943"/>
                  </a:lnTo>
                  <a:lnTo>
                    <a:pt x="8353" y="7835"/>
                  </a:lnTo>
                  <a:lnTo>
                    <a:pt x="8346" y="7730"/>
                  </a:lnTo>
                  <a:lnTo>
                    <a:pt x="8338" y="7624"/>
                  </a:lnTo>
                  <a:lnTo>
                    <a:pt x="8327" y="7517"/>
                  </a:lnTo>
                  <a:lnTo>
                    <a:pt x="8316" y="7413"/>
                  </a:lnTo>
                  <a:lnTo>
                    <a:pt x="8302" y="7308"/>
                  </a:lnTo>
                  <a:lnTo>
                    <a:pt x="8288" y="7204"/>
                  </a:lnTo>
                  <a:lnTo>
                    <a:pt x="8274" y="7101"/>
                  </a:lnTo>
                  <a:lnTo>
                    <a:pt x="8257" y="6996"/>
                  </a:lnTo>
                  <a:lnTo>
                    <a:pt x="8240" y="6892"/>
                  </a:lnTo>
                  <a:lnTo>
                    <a:pt x="8220" y="6791"/>
                  </a:lnTo>
                  <a:lnTo>
                    <a:pt x="8199" y="6688"/>
                  </a:lnTo>
                  <a:lnTo>
                    <a:pt x="8178" y="6587"/>
                  </a:lnTo>
                  <a:lnTo>
                    <a:pt x="8155" y="6485"/>
                  </a:lnTo>
                  <a:lnTo>
                    <a:pt x="8130" y="6385"/>
                  </a:lnTo>
                  <a:lnTo>
                    <a:pt x="8105" y="6285"/>
                  </a:lnTo>
                  <a:lnTo>
                    <a:pt x="8080" y="6183"/>
                  </a:lnTo>
                  <a:lnTo>
                    <a:pt x="8052" y="6084"/>
                  </a:lnTo>
                  <a:lnTo>
                    <a:pt x="8023" y="5985"/>
                  </a:lnTo>
                  <a:lnTo>
                    <a:pt x="7993" y="5887"/>
                  </a:lnTo>
                  <a:lnTo>
                    <a:pt x="7962" y="5789"/>
                  </a:lnTo>
                  <a:lnTo>
                    <a:pt x="7929" y="5691"/>
                  </a:lnTo>
                  <a:lnTo>
                    <a:pt x="7896" y="5594"/>
                  </a:lnTo>
                  <a:lnTo>
                    <a:pt x="7861" y="5498"/>
                  </a:lnTo>
                  <a:lnTo>
                    <a:pt x="7825" y="5402"/>
                  </a:lnTo>
                  <a:lnTo>
                    <a:pt x="7788" y="5306"/>
                  </a:lnTo>
                  <a:lnTo>
                    <a:pt x="7750" y="5213"/>
                  </a:lnTo>
                  <a:lnTo>
                    <a:pt x="7710" y="5119"/>
                  </a:lnTo>
                  <a:lnTo>
                    <a:pt x="7670" y="5025"/>
                  </a:lnTo>
                  <a:lnTo>
                    <a:pt x="7629" y="4932"/>
                  </a:lnTo>
                  <a:lnTo>
                    <a:pt x="7585" y="4839"/>
                  </a:lnTo>
                  <a:lnTo>
                    <a:pt x="7542" y="4747"/>
                  </a:lnTo>
                  <a:lnTo>
                    <a:pt x="7498" y="4656"/>
                  </a:lnTo>
                  <a:lnTo>
                    <a:pt x="7451" y="4566"/>
                  </a:lnTo>
                  <a:lnTo>
                    <a:pt x="7405" y="4476"/>
                  </a:lnTo>
                  <a:lnTo>
                    <a:pt x="7357" y="4386"/>
                  </a:lnTo>
                  <a:lnTo>
                    <a:pt x="7308" y="4297"/>
                  </a:lnTo>
                  <a:lnTo>
                    <a:pt x="7258" y="4211"/>
                  </a:lnTo>
                  <a:lnTo>
                    <a:pt x="7207" y="4123"/>
                  </a:lnTo>
                  <a:lnTo>
                    <a:pt x="7155" y="4036"/>
                  </a:lnTo>
                  <a:lnTo>
                    <a:pt x="7103" y="3950"/>
                  </a:lnTo>
                  <a:lnTo>
                    <a:pt x="7048" y="3864"/>
                  </a:lnTo>
                  <a:lnTo>
                    <a:pt x="6993" y="3781"/>
                  </a:lnTo>
                  <a:lnTo>
                    <a:pt x="6937" y="3696"/>
                  </a:lnTo>
                  <a:lnTo>
                    <a:pt x="6880" y="3612"/>
                  </a:lnTo>
                  <a:lnTo>
                    <a:pt x="6822" y="3530"/>
                  </a:lnTo>
                  <a:lnTo>
                    <a:pt x="6763" y="3450"/>
                  </a:lnTo>
                  <a:lnTo>
                    <a:pt x="6703" y="3368"/>
                  </a:lnTo>
                  <a:lnTo>
                    <a:pt x="6643" y="3287"/>
                  </a:lnTo>
                  <a:lnTo>
                    <a:pt x="6581" y="3208"/>
                  </a:lnTo>
                  <a:lnTo>
                    <a:pt x="6518" y="3130"/>
                  </a:lnTo>
                  <a:lnTo>
                    <a:pt x="6455" y="3051"/>
                  </a:lnTo>
                  <a:lnTo>
                    <a:pt x="6390" y="2975"/>
                  </a:lnTo>
                  <a:lnTo>
                    <a:pt x="6324" y="2898"/>
                  </a:lnTo>
                  <a:lnTo>
                    <a:pt x="6258" y="2823"/>
                  </a:lnTo>
                  <a:lnTo>
                    <a:pt x="6191" y="2748"/>
                  </a:lnTo>
                  <a:lnTo>
                    <a:pt x="6123" y="2675"/>
                  </a:lnTo>
                  <a:lnTo>
                    <a:pt x="6054" y="2601"/>
                  </a:lnTo>
                  <a:lnTo>
                    <a:pt x="5985" y="2529"/>
                  </a:lnTo>
                  <a:lnTo>
                    <a:pt x="5914" y="2457"/>
                  </a:lnTo>
                  <a:lnTo>
                    <a:pt x="5842" y="2386"/>
                  </a:lnTo>
                  <a:lnTo>
                    <a:pt x="5770" y="2317"/>
                  </a:lnTo>
                  <a:lnTo>
                    <a:pt x="5696" y="2248"/>
                  </a:lnTo>
                  <a:lnTo>
                    <a:pt x="5623" y="2180"/>
                  </a:lnTo>
                  <a:lnTo>
                    <a:pt x="5548" y="2113"/>
                  </a:lnTo>
                  <a:lnTo>
                    <a:pt x="5473" y="2047"/>
                  </a:lnTo>
                  <a:lnTo>
                    <a:pt x="5396" y="1981"/>
                  </a:lnTo>
                  <a:lnTo>
                    <a:pt x="5320" y="1916"/>
                  </a:lnTo>
                  <a:lnTo>
                    <a:pt x="5241" y="1853"/>
                  </a:lnTo>
                  <a:lnTo>
                    <a:pt x="5163" y="1790"/>
                  </a:lnTo>
                  <a:lnTo>
                    <a:pt x="5084" y="1728"/>
                  </a:lnTo>
                  <a:lnTo>
                    <a:pt x="5003" y="1668"/>
                  </a:lnTo>
                  <a:lnTo>
                    <a:pt x="4921" y="1608"/>
                  </a:lnTo>
                  <a:lnTo>
                    <a:pt x="4841" y="1549"/>
                  </a:lnTo>
                  <a:lnTo>
                    <a:pt x="4759" y="1491"/>
                  </a:lnTo>
                  <a:lnTo>
                    <a:pt x="4675" y="1434"/>
                  </a:lnTo>
                  <a:lnTo>
                    <a:pt x="4590" y="1378"/>
                  </a:lnTo>
                  <a:lnTo>
                    <a:pt x="4507" y="1323"/>
                  </a:lnTo>
                  <a:lnTo>
                    <a:pt x="4421" y="1268"/>
                  </a:lnTo>
                  <a:lnTo>
                    <a:pt x="4335" y="1216"/>
                  </a:lnTo>
                  <a:lnTo>
                    <a:pt x="4248" y="1164"/>
                  </a:lnTo>
                  <a:lnTo>
                    <a:pt x="4160" y="1113"/>
                  </a:lnTo>
                  <a:lnTo>
                    <a:pt x="4074" y="1063"/>
                  </a:lnTo>
                  <a:lnTo>
                    <a:pt x="3985" y="1014"/>
                  </a:lnTo>
                  <a:lnTo>
                    <a:pt x="3895" y="966"/>
                  </a:lnTo>
                  <a:lnTo>
                    <a:pt x="3805" y="920"/>
                  </a:lnTo>
                  <a:lnTo>
                    <a:pt x="3715" y="873"/>
                  </a:lnTo>
                  <a:lnTo>
                    <a:pt x="3624" y="829"/>
                  </a:lnTo>
                  <a:lnTo>
                    <a:pt x="3532" y="786"/>
                  </a:lnTo>
                  <a:lnTo>
                    <a:pt x="3439" y="742"/>
                  </a:lnTo>
                  <a:lnTo>
                    <a:pt x="3346" y="701"/>
                  </a:lnTo>
                  <a:lnTo>
                    <a:pt x="3252" y="661"/>
                  </a:lnTo>
                  <a:lnTo>
                    <a:pt x="3158" y="621"/>
                  </a:lnTo>
                  <a:lnTo>
                    <a:pt x="3065" y="583"/>
                  </a:lnTo>
                  <a:lnTo>
                    <a:pt x="2969" y="546"/>
                  </a:lnTo>
                  <a:lnTo>
                    <a:pt x="2873" y="510"/>
                  </a:lnTo>
                  <a:lnTo>
                    <a:pt x="2777" y="475"/>
                  </a:lnTo>
                  <a:lnTo>
                    <a:pt x="2680" y="442"/>
                  </a:lnTo>
                  <a:lnTo>
                    <a:pt x="2582" y="409"/>
                  </a:lnTo>
                  <a:lnTo>
                    <a:pt x="2484" y="378"/>
                  </a:lnTo>
                  <a:lnTo>
                    <a:pt x="2386" y="348"/>
                  </a:lnTo>
                  <a:lnTo>
                    <a:pt x="2287" y="319"/>
                  </a:lnTo>
                  <a:lnTo>
                    <a:pt x="2188" y="291"/>
                  </a:lnTo>
                  <a:lnTo>
                    <a:pt x="2086" y="266"/>
                  </a:lnTo>
                  <a:lnTo>
                    <a:pt x="1986" y="241"/>
                  </a:lnTo>
                  <a:lnTo>
                    <a:pt x="1886" y="216"/>
                  </a:lnTo>
                  <a:lnTo>
                    <a:pt x="1784" y="193"/>
                  </a:lnTo>
                  <a:lnTo>
                    <a:pt x="1683" y="172"/>
                  </a:lnTo>
                  <a:lnTo>
                    <a:pt x="1580" y="151"/>
                  </a:lnTo>
                  <a:lnTo>
                    <a:pt x="1479" y="131"/>
                  </a:lnTo>
                  <a:lnTo>
                    <a:pt x="1375" y="114"/>
                  </a:lnTo>
                  <a:lnTo>
                    <a:pt x="1270" y="97"/>
                  </a:lnTo>
                  <a:lnTo>
                    <a:pt x="1167" y="83"/>
                  </a:lnTo>
                  <a:lnTo>
                    <a:pt x="1063" y="69"/>
                  </a:lnTo>
                  <a:lnTo>
                    <a:pt x="958" y="55"/>
                  </a:lnTo>
                  <a:lnTo>
                    <a:pt x="854" y="44"/>
                  </a:lnTo>
                  <a:lnTo>
                    <a:pt x="747" y="33"/>
                  </a:lnTo>
                  <a:lnTo>
                    <a:pt x="641" y="25"/>
                  </a:lnTo>
                  <a:lnTo>
                    <a:pt x="536" y="18"/>
                  </a:lnTo>
                  <a:lnTo>
                    <a:pt x="428" y="12"/>
                  </a:lnTo>
                  <a:lnTo>
                    <a:pt x="321" y="7"/>
                  </a:lnTo>
                  <a:lnTo>
                    <a:pt x="215" y="4"/>
                  </a:lnTo>
                  <a:lnTo>
                    <a:pt x="10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92960" y="5845320"/>
              <a:ext cx="312120" cy="2862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680" y="8371"/>
                  </a:moveTo>
                  <a:lnTo>
                    <a:pt x="680" y="8371"/>
                  </a:lnTo>
                  <a:lnTo>
                    <a:pt x="680" y="8272"/>
                  </a:lnTo>
                  <a:lnTo>
                    <a:pt x="681" y="8172"/>
                  </a:lnTo>
                  <a:lnTo>
                    <a:pt x="684" y="8074"/>
                  </a:lnTo>
                  <a:lnTo>
                    <a:pt x="690" y="7974"/>
                  </a:lnTo>
                  <a:lnTo>
                    <a:pt x="695" y="7878"/>
                  </a:lnTo>
                  <a:lnTo>
                    <a:pt x="702" y="7780"/>
                  </a:lnTo>
                  <a:lnTo>
                    <a:pt x="710" y="7682"/>
                  </a:lnTo>
                  <a:lnTo>
                    <a:pt x="719" y="7585"/>
                  </a:lnTo>
                  <a:lnTo>
                    <a:pt x="729" y="7490"/>
                  </a:lnTo>
                  <a:lnTo>
                    <a:pt x="741" y="7394"/>
                  </a:lnTo>
                  <a:lnTo>
                    <a:pt x="754" y="7297"/>
                  </a:lnTo>
                  <a:lnTo>
                    <a:pt x="769" y="7201"/>
                  </a:lnTo>
                  <a:lnTo>
                    <a:pt x="783" y="7106"/>
                  </a:lnTo>
                  <a:lnTo>
                    <a:pt x="799" y="7013"/>
                  </a:lnTo>
                  <a:lnTo>
                    <a:pt x="817" y="6918"/>
                  </a:lnTo>
                  <a:lnTo>
                    <a:pt x="836" y="6823"/>
                  </a:lnTo>
                  <a:lnTo>
                    <a:pt x="856" y="6730"/>
                  </a:lnTo>
                  <a:lnTo>
                    <a:pt x="877" y="6637"/>
                  </a:lnTo>
                  <a:lnTo>
                    <a:pt x="899" y="6544"/>
                  </a:lnTo>
                  <a:lnTo>
                    <a:pt x="922" y="6452"/>
                  </a:lnTo>
                  <a:lnTo>
                    <a:pt x="947" y="6361"/>
                  </a:lnTo>
                  <a:lnTo>
                    <a:pt x="972" y="6270"/>
                  </a:lnTo>
                  <a:lnTo>
                    <a:pt x="998" y="6179"/>
                  </a:lnTo>
                  <a:lnTo>
                    <a:pt x="1026" y="6089"/>
                  </a:lnTo>
                  <a:lnTo>
                    <a:pt x="1055" y="5999"/>
                  </a:lnTo>
                  <a:lnTo>
                    <a:pt x="1084" y="5909"/>
                  </a:lnTo>
                  <a:lnTo>
                    <a:pt x="1115" y="5820"/>
                  </a:lnTo>
                  <a:lnTo>
                    <a:pt x="1147" y="5732"/>
                  </a:lnTo>
                  <a:lnTo>
                    <a:pt x="1180" y="5644"/>
                  </a:lnTo>
                  <a:lnTo>
                    <a:pt x="1215" y="5556"/>
                  </a:lnTo>
                  <a:lnTo>
                    <a:pt x="1248" y="5469"/>
                  </a:lnTo>
                  <a:lnTo>
                    <a:pt x="1285" y="5382"/>
                  </a:lnTo>
                  <a:lnTo>
                    <a:pt x="1323" y="5296"/>
                  </a:lnTo>
                  <a:lnTo>
                    <a:pt x="1360" y="5211"/>
                  </a:lnTo>
                  <a:lnTo>
                    <a:pt x="1399" y="5126"/>
                  </a:lnTo>
                  <a:lnTo>
                    <a:pt x="1439" y="5042"/>
                  </a:lnTo>
                  <a:lnTo>
                    <a:pt x="1481" y="4959"/>
                  </a:lnTo>
                  <a:lnTo>
                    <a:pt x="1522" y="4874"/>
                  </a:lnTo>
                  <a:lnTo>
                    <a:pt x="1565" y="4792"/>
                  </a:lnTo>
                  <a:lnTo>
                    <a:pt x="1609" y="4711"/>
                  </a:lnTo>
                  <a:lnTo>
                    <a:pt x="1654" y="4629"/>
                  </a:lnTo>
                  <a:lnTo>
                    <a:pt x="1700" y="4548"/>
                  </a:lnTo>
                  <a:lnTo>
                    <a:pt x="1747" y="4468"/>
                  </a:lnTo>
                  <a:lnTo>
                    <a:pt x="1795" y="4388"/>
                  </a:lnTo>
                  <a:lnTo>
                    <a:pt x="1845" y="4309"/>
                  </a:lnTo>
                  <a:lnTo>
                    <a:pt x="1894" y="4232"/>
                  </a:lnTo>
                  <a:lnTo>
                    <a:pt x="1944" y="4153"/>
                  </a:lnTo>
                  <a:lnTo>
                    <a:pt x="1996" y="4076"/>
                  </a:lnTo>
                  <a:lnTo>
                    <a:pt x="2048" y="3999"/>
                  </a:lnTo>
                  <a:lnTo>
                    <a:pt x="2101" y="3924"/>
                  </a:lnTo>
                  <a:lnTo>
                    <a:pt x="2154" y="3849"/>
                  </a:lnTo>
                  <a:lnTo>
                    <a:pt x="2210" y="3774"/>
                  </a:lnTo>
                  <a:lnTo>
                    <a:pt x="2266" y="3700"/>
                  </a:lnTo>
                  <a:lnTo>
                    <a:pt x="2323" y="3628"/>
                  </a:lnTo>
                  <a:lnTo>
                    <a:pt x="2381" y="3555"/>
                  </a:lnTo>
                  <a:lnTo>
                    <a:pt x="2439" y="3484"/>
                  </a:lnTo>
                  <a:lnTo>
                    <a:pt x="2499" y="3413"/>
                  </a:lnTo>
                  <a:lnTo>
                    <a:pt x="2558" y="3342"/>
                  </a:lnTo>
                  <a:lnTo>
                    <a:pt x="2619" y="3272"/>
                  </a:lnTo>
                  <a:lnTo>
                    <a:pt x="2682" y="3204"/>
                  </a:lnTo>
                  <a:lnTo>
                    <a:pt x="2744" y="3136"/>
                  </a:lnTo>
                  <a:lnTo>
                    <a:pt x="2807" y="3069"/>
                  </a:lnTo>
                  <a:lnTo>
                    <a:pt x="2872" y="3002"/>
                  </a:lnTo>
                  <a:lnTo>
                    <a:pt x="2937" y="2937"/>
                  </a:lnTo>
                  <a:lnTo>
                    <a:pt x="3002" y="2872"/>
                  </a:lnTo>
                  <a:lnTo>
                    <a:pt x="3068" y="2807"/>
                  </a:lnTo>
                  <a:lnTo>
                    <a:pt x="3136" y="2745"/>
                  </a:lnTo>
                  <a:lnTo>
                    <a:pt x="3204" y="2682"/>
                  </a:lnTo>
                  <a:lnTo>
                    <a:pt x="3273" y="2620"/>
                  </a:lnTo>
                  <a:lnTo>
                    <a:pt x="3342" y="2558"/>
                  </a:lnTo>
                  <a:lnTo>
                    <a:pt x="3412" y="2499"/>
                  </a:lnTo>
                  <a:lnTo>
                    <a:pt x="3484" y="2439"/>
                  </a:lnTo>
                  <a:lnTo>
                    <a:pt x="3555" y="2382"/>
                  </a:lnTo>
                  <a:lnTo>
                    <a:pt x="3628" y="2324"/>
                  </a:lnTo>
                  <a:lnTo>
                    <a:pt x="3700" y="2267"/>
                  </a:lnTo>
                  <a:lnTo>
                    <a:pt x="3774" y="2210"/>
                  </a:lnTo>
                  <a:lnTo>
                    <a:pt x="3848" y="2156"/>
                  </a:lnTo>
                  <a:lnTo>
                    <a:pt x="3924" y="2101"/>
                  </a:lnTo>
                  <a:lnTo>
                    <a:pt x="3998" y="2049"/>
                  </a:lnTo>
                  <a:lnTo>
                    <a:pt x="4076" y="1996"/>
                  </a:lnTo>
                  <a:lnTo>
                    <a:pt x="4152" y="1944"/>
                  </a:lnTo>
                  <a:lnTo>
                    <a:pt x="4230" y="1894"/>
                  </a:lnTo>
                  <a:lnTo>
                    <a:pt x="4309" y="1845"/>
                  </a:lnTo>
                  <a:lnTo>
                    <a:pt x="4388" y="1796"/>
                  </a:lnTo>
                  <a:lnTo>
                    <a:pt x="4468" y="1747"/>
                  </a:lnTo>
                  <a:lnTo>
                    <a:pt x="4548" y="1700"/>
                  </a:lnTo>
                  <a:lnTo>
                    <a:pt x="4629" y="1655"/>
                  </a:lnTo>
                  <a:lnTo>
                    <a:pt x="4710" y="1609"/>
                  </a:lnTo>
                  <a:lnTo>
                    <a:pt x="4791" y="1566"/>
                  </a:lnTo>
                  <a:lnTo>
                    <a:pt x="4874" y="1522"/>
                  </a:lnTo>
                  <a:lnTo>
                    <a:pt x="4958" y="1482"/>
                  </a:lnTo>
                  <a:lnTo>
                    <a:pt x="5041" y="1440"/>
                  </a:lnTo>
                  <a:lnTo>
                    <a:pt x="5126" y="1399"/>
                  </a:lnTo>
                  <a:lnTo>
                    <a:pt x="5210" y="1361"/>
                  </a:lnTo>
                  <a:lnTo>
                    <a:pt x="5296" y="1323"/>
                  </a:lnTo>
                  <a:lnTo>
                    <a:pt x="5382" y="1285"/>
                  </a:lnTo>
                  <a:lnTo>
                    <a:pt x="5469" y="1248"/>
                  </a:lnTo>
                  <a:lnTo>
                    <a:pt x="5556" y="1215"/>
                  </a:lnTo>
                  <a:lnTo>
                    <a:pt x="5643" y="1180"/>
                  </a:lnTo>
                  <a:lnTo>
                    <a:pt x="5731" y="1148"/>
                  </a:lnTo>
                  <a:lnTo>
                    <a:pt x="5820" y="1115"/>
                  </a:lnTo>
                  <a:lnTo>
                    <a:pt x="5909" y="1085"/>
                  </a:lnTo>
                  <a:lnTo>
                    <a:pt x="5998" y="1055"/>
                  </a:lnTo>
                  <a:lnTo>
                    <a:pt x="6088" y="1026"/>
                  </a:lnTo>
                  <a:lnTo>
                    <a:pt x="6179" y="999"/>
                  </a:lnTo>
                  <a:lnTo>
                    <a:pt x="6270" y="972"/>
                  </a:lnTo>
                  <a:lnTo>
                    <a:pt x="6361" y="947"/>
                  </a:lnTo>
                  <a:lnTo>
                    <a:pt x="6452" y="922"/>
                  </a:lnTo>
                  <a:lnTo>
                    <a:pt x="6544" y="899"/>
                  </a:lnTo>
                  <a:lnTo>
                    <a:pt x="6636" y="877"/>
                  </a:lnTo>
                  <a:lnTo>
                    <a:pt x="6730" y="857"/>
                  </a:lnTo>
                  <a:lnTo>
                    <a:pt x="6823" y="836"/>
                  </a:lnTo>
                  <a:lnTo>
                    <a:pt x="6918" y="817"/>
                  </a:lnTo>
                  <a:lnTo>
                    <a:pt x="7012" y="800"/>
                  </a:lnTo>
                  <a:lnTo>
                    <a:pt x="7107" y="784"/>
                  </a:lnTo>
                  <a:lnTo>
                    <a:pt x="7201" y="769"/>
                  </a:lnTo>
                  <a:lnTo>
                    <a:pt x="7296" y="754"/>
                  </a:lnTo>
                  <a:lnTo>
                    <a:pt x="7393" y="741"/>
                  </a:lnTo>
                  <a:lnTo>
                    <a:pt x="7489" y="730"/>
                  </a:lnTo>
                  <a:lnTo>
                    <a:pt x="7586" y="719"/>
                  </a:lnTo>
                  <a:lnTo>
                    <a:pt x="7682" y="710"/>
                  </a:lnTo>
                  <a:lnTo>
                    <a:pt x="7780" y="702"/>
                  </a:lnTo>
                  <a:lnTo>
                    <a:pt x="7878" y="695"/>
                  </a:lnTo>
                  <a:lnTo>
                    <a:pt x="7974" y="690"/>
                  </a:lnTo>
                  <a:lnTo>
                    <a:pt x="8073" y="684"/>
                  </a:lnTo>
                  <a:lnTo>
                    <a:pt x="8172" y="681"/>
                  </a:lnTo>
                  <a:lnTo>
                    <a:pt x="8272" y="681"/>
                  </a:lnTo>
                  <a:lnTo>
                    <a:pt x="8371" y="680"/>
                  </a:lnTo>
                  <a:lnTo>
                    <a:pt x="8371" y="0"/>
                  </a:lnTo>
                  <a:lnTo>
                    <a:pt x="8263" y="1"/>
                  </a:lnTo>
                  <a:lnTo>
                    <a:pt x="8156" y="4"/>
                  </a:lnTo>
                  <a:lnTo>
                    <a:pt x="8050" y="7"/>
                  </a:lnTo>
                  <a:lnTo>
                    <a:pt x="7943" y="12"/>
                  </a:lnTo>
                  <a:lnTo>
                    <a:pt x="7835" y="18"/>
                  </a:lnTo>
                  <a:lnTo>
                    <a:pt x="7730" y="25"/>
                  </a:lnTo>
                  <a:lnTo>
                    <a:pt x="7624" y="33"/>
                  </a:lnTo>
                  <a:lnTo>
                    <a:pt x="7517" y="44"/>
                  </a:lnTo>
                  <a:lnTo>
                    <a:pt x="7413" y="55"/>
                  </a:lnTo>
                  <a:lnTo>
                    <a:pt x="7308" y="69"/>
                  </a:lnTo>
                  <a:lnTo>
                    <a:pt x="7204" y="83"/>
                  </a:lnTo>
                  <a:lnTo>
                    <a:pt x="7100" y="97"/>
                  </a:lnTo>
                  <a:lnTo>
                    <a:pt x="6995" y="114"/>
                  </a:lnTo>
                  <a:lnTo>
                    <a:pt x="6892" y="131"/>
                  </a:lnTo>
                  <a:lnTo>
                    <a:pt x="6790" y="151"/>
                  </a:lnTo>
                  <a:lnTo>
                    <a:pt x="6688" y="172"/>
                  </a:lnTo>
                  <a:lnTo>
                    <a:pt x="6587" y="193"/>
                  </a:lnTo>
                  <a:lnTo>
                    <a:pt x="6485" y="216"/>
                  </a:lnTo>
                  <a:lnTo>
                    <a:pt x="6384" y="241"/>
                  </a:lnTo>
                  <a:lnTo>
                    <a:pt x="6285" y="266"/>
                  </a:lnTo>
                  <a:lnTo>
                    <a:pt x="6183" y="291"/>
                  </a:lnTo>
                  <a:lnTo>
                    <a:pt x="6084" y="319"/>
                  </a:lnTo>
                  <a:lnTo>
                    <a:pt x="5984" y="348"/>
                  </a:lnTo>
                  <a:lnTo>
                    <a:pt x="5886" y="378"/>
                  </a:lnTo>
                  <a:lnTo>
                    <a:pt x="5789" y="409"/>
                  </a:lnTo>
                  <a:lnTo>
                    <a:pt x="5691" y="442"/>
                  </a:lnTo>
                  <a:lnTo>
                    <a:pt x="5594" y="475"/>
                  </a:lnTo>
                  <a:lnTo>
                    <a:pt x="5498" y="510"/>
                  </a:lnTo>
                  <a:lnTo>
                    <a:pt x="5401" y="546"/>
                  </a:lnTo>
                  <a:lnTo>
                    <a:pt x="5306" y="583"/>
                  </a:lnTo>
                  <a:lnTo>
                    <a:pt x="5211" y="622"/>
                  </a:lnTo>
                  <a:lnTo>
                    <a:pt x="5119" y="661"/>
                  </a:lnTo>
                  <a:lnTo>
                    <a:pt x="5025" y="701"/>
                  </a:lnTo>
                  <a:lnTo>
                    <a:pt x="4932" y="742"/>
                  </a:lnTo>
                  <a:lnTo>
                    <a:pt x="4838" y="786"/>
                  </a:lnTo>
                  <a:lnTo>
                    <a:pt x="4747" y="829"/>
                  </a:lnTo>
                  <a:lnTo>
                    <a:pt x="4655" y="873"/>
                  </a:lnTo>
                  <a:lnTo>
                    <a:pt x="4566" y="920"/>
                  </a:lnTo>
                  <a:lnTo>
                    <a:pt x="4475" y="966"/>
                  </a:lnTo>
                  <a:lnTo>
                    <a:pt x="4386" y="1014"/>
                  </a:lnTo>
                  <a:lnTo>
                    <a:pt x="4297" y="1063"/>
                  </a:lnTo>
                  <a:lnTo>
                    <a:pt x="4210" y="1113"/>
                  </a:lnTo>
                  <a:lnTo>
                    <a:pt x="4123" y="1164"/>
                  </a:lnTo>
                  <a:lnTo>
                    <a:pt x="4035" y="1216"/>
                  </a:lnTo>
                  <a:lnTo>
                    <a:pt x="3950" y="1268"/>
                  </a:lnTo>
                  <a:lnTo>
                    <a:pt x="3864" y="1323"/>
                  </a:lnTo>
                  <a:lnTo>
                    <a:pt x="3781" y="1378"/>
                  </a:lnTo>
                  <a:lnTo>
                    <a:pt x="3696" y="1434"/>
                  </a:lnTo>
                  <a:lnTo>
                    <a:pt x="3613" y="1491"/>
                  </a:lnTo>
                  <a:lnTo>
                    <a:pt x="3530" y="1549"/>
                  </a:lnTo>
                  <a:lnTo>
                    <a:pt x="3450" y="1608"/>
                  </a:lnTo>
                  <a:lnTo>
                    <a:pt x="3368" y="1668"/>
                  </a:lnTo>
                  <a:lnTo>
                    <a:pt x="3288" y="1728"/>
                  </a:lnTo>
                  <a:lnTo>
                    <a:pt x="3208" y="1790"/>
                  </a:lnTo>
                  <a:lnTo>
                    <a:pt x="3130" y="1853"/>
                  </a:lnTo>
                  <a:lnTo>
                    <a:pt x="3051" y="1916"/>
                  </a:lnTo>
                  <a:lnTo>
                    <a:pt x="2974" y="1981"/>
                  </a:lnTo>
                  <a:lnTo>
                    <a:pt x="2898" y="2047"/>
                  </a:lnTo>
                  <a:lnTo>
                    <a:pt x="2822" y="2113"/>
                  </a:lnTo>
                  <a:lnTo>
                    <a:pt x="2748" y="2180"/>
                  </a:lnTo>
                  <a:lnTo>
                    <a:pt x="2673" y="2248"/>
                  </a:lnTo>
                  <a:lnTo>
                    <a:pt x="2601" y="2317"/>
                  </a:lnTo>
                  <a:lnTo>
                    <a:pt x="2529" y="2386"/>
                  </a:lnTo>
                  <a:lnTo>
                    <a:pt x="2457" y="2457"/>
                  </a:lnTo>
                  <a:lnTo>
                    <a:pt x="2386" y="2529"/>
                  </a:lnTo>
                  <a:lnTo>
                    <a:pt x="2317" y="2601"/>
                  </a:lnTo>
                  <a:lnTo>
                    <a:pt x="2248" y="2675"/>
                  </a:lnTo>
                  <a:lnTo>
                    <a:pt x="2180" y="2748"/>
                  </a:lnTo>
                  <a:lnTo>
                    <a:pt x="2113" y="2823"/>
                  </a:lnTo>
                  <a:lnTo>
                    <a:pt x="2046" y="2898"/>
                  </a:lnTo>
                  <a:lnTo>
                    <a:pt x="1981" y="2975"/>
                  </a:lnTo>
                  <a:lnTo>
                    <a:pt x="1916" y="3051"/>
                  </a:lnTo>
                  <a:lnTo>
                    <a:pt x="1852" y="3130"/>
                  </a:lnTo>
                  <a:lnTo>
                    <a:pt x="1789" y="3208"/>
                  </a:lnTo>
                  <a:lnTo>
                    <a:pt x="1728" y="3289"/>
                  </a:lnTo>
                  <a:lnTo>
                    <a:pt x="1668" y="3368"/>
                  </a:lnTo>
                  <a:lnTo>
                    <a:pt x="1608" y="3450"/>
                  </a:lnTo>
                  <a:lnTo>
                    <a:pt x="1549" y="3530"/>
                  </a:lnTo>
                  <a:lnTo>
                    <a:pt x="1490" y="3614"/>
                  </a:lnTo>
                  <a:lnTo>
                    <a:pt x="1434" y="3696"/>
                  </a:lnTo>
                  <a:lnTo>
                    <a:pt x="1378" y="3781"/>
                  </a:lnTo>
                  <a:lnTo>
                    <a:pt x="1323" y="3864"/>
                  </a:lnTo>
                  <a:lnTo>
                    <a:pt x="1268" y="3950"/>
                  </a:lnTo>
                  <a:lnTo>
                    <a:pt x="1216" y="4036"/>
                  </a:lnTo>
                  <a:lnTo>
                    <a:pt x="1164" y="4123"/>
                  </a:lnTo>
                  <a:lnTo>
                    <a:pt x="1113" y="4211"/>
                  </a:lnTo>
                  <a:lnTo>
                    <a:pt x="1062" y="4297"/>
                  </a:lnTo>
                  <a:lnTo>
                    <a:pt x="1014" y="4386"/>
                  </a:lnTo>
                  <a:lnTo>
                    <a:pt x="966" y="4476"/>
                  </a:lnTo>
                  <a:lnTo>
                    <a:pt x="919" y="4566"/>
                  </a:lnTo>
                  <a:lnTo>
                    <a:pt x="873" y="4656"/>
                  </a:lnTo>
                  <a:lnTo>
                    <a:pt x="829" y="4747"/>
                  </a:lnTo>
                  <a:lnTo>
                    <a:pt x="785" y="4839"/>
                  </a:lnTo>
                  <a:lnTo>
                    <a:pt x="742" y="4932"/>
                  </a:lnTo>
                  <a:lnTo>
                    <a:pt x="701" y="5025"/>
                  </a:lnTo>
                  <a:lnTo>
                    <a:pt x="660" y="5119"/>
                  </a:lnTo>
                  <a:lnTo>
                    <a:pt x="622" y="5212"/>
                  </a:lnTo>
                  <a:lnTo>
                    <a:pt x="583" y="5306"/>
                  </a:lnTo>
                  <a:lnTo>
                    <a:pt x="545" y="5402"/>
                  </a:lnTo>
                  <a:lnTo>
                    <a:pt x="510" y="5498"/>
                  </a:lnTo>
                  <a:lnTo>
                    <a:pt x="475" y="5594"/>
                  </a:lnTo>
                  <a:lnTo>
                    <a:pt x="442" y="5691"/>
                  </a:lnTo>
                  <a:lnTo>
                    <a:pt x="409" y="5789"/>
                  </a:lnTo>
                  <a:lnTo>
                    <a:pt x="378" y="5887"/>
                  </a:lnTo>
                  <a:lnTo>
                    <a:pt x="347" y="5985"/>
                  </a:lnTo>
                  <a:lnTo>
                    <a:pt x="319" y="6084"/>
                  </a:lnTo>
                  <a:lnTo>
                    <a:pt x="291" y="6183"/>
                  </a:lnTo>
                  <a:lnTo>
                    <a:pt x="266" y="6285"/>
                  </a:lnTo>
                  <a:lnTo>
                    <a:pt x="240" y="6385"/>
                  </a:lnTo>
                  <a:lnTo>
                    <a:pt x="216" y="6485"/>
                  </a:lnTo>
                  <a:lnTo>
                    <a:pt x="193" y="6587"/>
                  </a:lnTo>
                  <a:lnTo>
                    <a:pt x="172" y="6688"/>
                  </a:lnTo>
                  <a:lnTo>
                    <a:pt x="151" y="6791"/>
                  </a:lnTo>
                  <a:lnTo>
                    <a:pt x="132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2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2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80" y="83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92960" y="6131520"/>
              <a:ext cx="312120" cy="285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8371" y="7691"/>
                  </a:moveTo>
                  <a:lnTo>
                    <a:pt x="8371" y="7691"/>
                  </a:lnTo>
                  <a:lnTo>
                    <a:pt x="8272" y="7691"/>
                  </a:lnTo>
                  <a:lnTo>
                    <a:pt x="8172" y="7690"/>
                  </a:lnTo>
                  <a:lnTo>
                    <a:pt x="8073" y="7687"/>
                  </a:lnTo>
                  <a:lnTo>
                    <a:pt x="7974" y="7681"/>
                  </a:lnTo>
                  <a:lnTo>
                    <a:pt x="7878" y="7676"/>
                  </a:lnTo>
                  <a:lnTo>
                    <a:pt x="7780" y="7669"/>
                  </a:lnTo>
                  <a:lnTo>
                    <a:pt x="7682" y="7661"/>
                  </a:lnTo>
                  <a:lnTo>
                    <a:pt x="7585" y="7652"/>
                  </a:lnTo>
                  <a:lnTo>
                    <a:pt x="7489" y="7642"/>
                  </a:lnTo>
                  <a:lnTo>
                    <a:pt x="7393" y="7630"/>
                  </a:lnTo>
                  <a:lnTo>
                    <a:pt x="7296" y="7617"/>
                  </a:lnTo>
                  <a:lnTo>
                    <a:pt x="7201" y="7602"/>
                  </a:lnTo>
                  <a:lnTo>
                    <a:pt x="7106" y="7588"/>
                  </a:lnTo>
                  <a:lnTo>
                    <a:pt x="7012" y="7572"/>
                  </a:lnTo>
                  <a:lnTo>
                    <a:pt x="6918" y="7554"/>
                  </a:lnTo>
                  <a:lnTo>
                    <a:pt x="6823" y="7535"/>
                  </a:lnTo>
                  <a:lnTo>
                    <a:pt x="6730" y="7515"/>
                  </a:lnTo>
                  <a:lnTo>
                    <a:pt x="6636" y="7494"/>
                  </a:lnTo>
                  <a:lnTo>
                    <a:pt x="6544" y="7472"/>
                  </a:lnTo>
                  <a:lnTo>
                    <a:pt x="6452" y="7449"/>
                  </a:lnTo>
                  <a:lnTo>
                    <a:pt x="6361" y="7424"/>
                  </a:lnTo>
                  <a:lnTo>
                    <a:pt x="6270" y="7399"/>
                  </a:lnTo>
                  <a:lnTo>
                    <a:pt x="6179" y="7373"/>
                  </a:lnTo>
                  <a:lnTo>
                    <a:pt x="6088" y="7345"/>
                  </a:lnTo>
                  <a:lnTo>
                    <a:pt x="5998" y="7316"/>
                  </a:lnTo>
                  <a:lnTo>
                    <a:pt x="5909" y="7287"/>
                  </a:lnTo>
                  <a:lnTo>
                    <a:pt x="5820" y="7256"/>
                  </a:lnTo>
                  <a:lnTo>
                    <a:pt x="5731" y="7224"/>
                  </a:lnTo>
                  <a:lnTo>
                    <a:pt x="5643" y="7191"/>
                  </a:lnTo>
                  <a:lnTo>
                    <a:pt x="5556" y="7156"/>
                  </a:lnTo>
                  <a:lnTo>
                    <a:pt x="5469" y="7123"/>
                  </a:lnTo>
                  <a:lnTo>
                    <a:pt x="5382" y="7086"/>
                  </a:lnTo>
                  <a:lnTo>
                    <a:pt x="5296" y="7048"/>
                  </a:lnTo>
                  <a:lnTo>
                    <a:pt x="5210" y="7011"/>
                  </a:lnTo>
                  <a:lnTo>
                    <a:pt x="5126" y="6972"/>
                  </a:lnTo>
                  <a:lnTo>
                    <a:pt x="5041" y="6932"/>
                  </a:lnTo>
                  <a:lnTo>
                    <a:pt x="4958" y="6890"/>
                  </a:lnTo>
                  <a:lnTo>
                    <a:pt x="4875" y="6849"/>
                  </a:lnTo>
                  <a:lnTo>
                    <a:pt x="4791" y="6806"/>
                  </a:lnTo>
                  <a:lnTo>
                    <a:pt x="4710" y="6762"/>
                  </a:lnTo>
                  <a:lnTo>
                    <a:pt x="4629" y="6717"/>
                  </a:lnTo>
                  <a:lnTo>
                    <a:pt x="4548" y="6671"/>
                  </a:lnTo>
                  <a:lnTo>
                    <a:pt x="4468" y="6624"/>
                  </a:lnTo>
                  <a:lnTo>
                    <a:pt x="4388" y="6576"/>
                  </a:lnTo>
                  <a:lnTo>
                    <a:pt x="4309" y="6526"/>
                  </a:lnTo>
                  <a:lnTo>
                    <a:pt x="4230" y="6477"/>
                  </a:lnTo>
                  <a:lnTo>
                    <a:pt x="4154" y="6427"/>
                  </a:lnTo>
                  <a:lnTo>
                    <a:pt x="4076" y="6375"/>
                  </a:lnTo>
                  <a:lnTo>
                    <a:pt x="3998" y="6323"/>
                  </a:lnTo>
                  <a:lnTo>
                    <a:pt x="3924" y="6270"/>
                  </a:lnTo>
                  <a:lnTo>
                    <a:pt x="3848" y="6217"/>
                  </a:lnTo>
                  <a:lnTo>
                    <a:pt x="3774" y="6161"/>
                  </a:lnTo>
                  <a:lnTo>
                    <a:pt x="3700" y="6105"/>
                  </a:lnTo>
                  <a:lnTo>
                    <a:pt x="3628" y="6048"/>
                  </a:lnTo>
                  <a:lnTo>
                    <a:pt x="3555" y="5990"/>
                  </a:lnTo>
                  <a:lnTo>
                    <a:pt x="3484" y="5932"/>
                  </a:lnTo>
                  <a:lnTo>
                    <a:pt x="3412" y="5872"/>
                  </a:lnTo>
                  <a:lnTo>
                    <a:pt x="3342" y="5813"/>
                  </a:lnTo>
                  <a:lnTo>
                    <a:pt x="3273" y="5752"/>
                  </a:lnTo>
                  <a:lnTo>
                    <a:pt x="3204" y="5689"/>
                  </a:lnTo>
                  <a:lnTo>
                    <a:pt x="3136" y="5627"/>
                  </a:lnTo>
                  <a:lnTo>
                    <a:pt x="3068" y="5564"/>
                  </a:lnTo>
                  <a:lnTo>
                    <a:pt x="3002" y="5499"/>
                  </a:lnTo>
                  <a:lnTo>
                    <a:pt x="2937" y="5434"/>
                  </a:lnTo>
                  <a:lnTo>
                    <a:pt x="2872" y="5369"/>
                  </a:lnTo>
                  <a:lnTo>
                    <a:pt x="2807" y="5303"/>
                  </a:lnTo>
                  <a:lnTo>
                    <a:pt x="2744" y="5235"/>
                  </a:lnTo>
                  <a:lnTo>
                    <a:pt x="2682" y="5167"/>
                  </a:lnTo>
                  <a:lnTo>
                    <a:pt x="2619" y="5098"/>
                  </a:lnTo>
                  <a:lnTo>
                    <a:pt x="2558" y="5029"/>
                  </a:lnTo>
                  <a:lnTo>
                    <a:pt x="2499" y="4959"/>
                  </a:lnTo>
                  <a:lnTo>
                    <a:pt x="2439" y="4887"/>
                  </a:lnTo>
                  <a:lnTo>
                    <a:pt x="2381" y="4816"/>
                  </a:lnTo>
                  <a:lnTo>
                    <a:pt x="2323" y="4743"/>
                  </a:lnTo>
                  <a:lnTo>
                    <a:pt x="2266" y="4671"/>
                  </a:lnTo>
                  <a:lnTo>
                    <a:pt x="2210" y="4597"/>
                  </a:lnTo>
                  <a:lnTo>
                    <a:pt x="2154" y="4523"/>
                  </a:lnTo>
                  <a:lnTo>
                    <a:pt x="2101" y="4447"/>
                  </a:lnTo>
                  <a:lnTo>
                    <a:pt x="2048" y="4373"/>
                  </a:lnTo>
                  <a:lnTo>
                    <a:pt x="1996" y="4295"/>
                  </a:lnTo>
                  <a:lnTo>
                    <a:pt x="1944" y="4217"/>
                  </a:lnTo>
                  <a:lnTo>
                    <a:pt x="1894" y="4141"/>
                  </a:lnTo>
                  <a:lnTo>
                    <a:pt x="1845" y="4062"/>
                  </a:lnTo>
                  <a:lnTo>
                    <a:pt x="1795" y="3983"/>
                  </a:lnTo>
                  <a:lnTo>
                    <a:pt x="1747" y="3903"/>
                  </a:lnTo>
                  <a:lnTo>
                    <a:pt x="1700" y="3823"/>
                  </a:lnTo>
                  <a:lnTo>
                    <a:pt x="1654" y="3742"/>
                  </a:lnTo>
                  <a:lnTo>
                    <a:pt x="1609" y="3661"/>
                  </a:lnTo>
                  <a:lnTo>
                    <a:pt x="1565" y="3580"/>
                  </a:lnTo>
                  <a:lnTo>
                    <a:pt x="1522" y="3496"/>
                  </a:lnTo>
                  <a:lnTo>
                    <a:pt x="1481" y="3413"/>
                  </a:lnTo>
                  <a:lnTo>
                    <a:pt x="1439" y="3330"/>
                  </a:lnTo>
                  <a:lnTo>
                    <a:pt x="1399" y="3245"/>
                  </a:lnTo>
                  <a:lnTo>
                    <a:pt x="1360" y="3161"/>
                  </a:lnTo>
                  <a:lnTo>
                    <a:pt x="1323" y="3075"/>
                  </a:lnTo>
                  <a:lnTo>
                    <a:pt x="1285" y="2989"/>
                  </a:lnTo>
                  <a:lnTo>
                    <a:pt x="1248" y="2902"/>
                  </a:lnTo>
                  <a:lnTo>
                    <a:pt x="1215" y="2815"/>
                  </a:lnTo>
                  <a:lnTo>
                    <a:pt x="1180" y="2728"/>
                  </a:lnTo>
                  <a:lnTo>
                    <a:pt x="1147" y="2640"/>
                  </a:lnTo>
                  <a:lnTo>
                    <a:pt x="1115" y="2551"/>
                  </a:lnTo>
                  <a:lnTo>
                    <a:pt x="1084" y="2462"/>
                  </a:lnTo>
                  <a:lnTo>
                    <a:pt x="1055" y="2373"/>
                  </a:lnTo>
                  <a:lnTo>
                    <a:pt x="1026" y="2283"/>
                  </a:lnTo>
                  <a:lnTo>
                    <a:pt x="998" y="2192"/>
                  </a:lnTo>
                  <a:lnTo>
                    <a:pt x="972" y="2101"/>
                  </a:lnTo>
                  <a:lnTo>
                    <a:pt x="947" y="2010"/>
                  </a:lnTo>
                  <a:lnTo>
                    <a:pt x="922" y="1919"/>
                  </a:lnTo>
                  <a:lnTo>
                    <a:pt x="899" y="1827"/>
                  </a:lnTo>
                  <a:lnTo>
                    <a:pt x="877" y="1735"/>
                  </a:lnTo>
                  <a:lnTo>
                    <a:pt x="856" y="1641"/>
                  </a:lnTo>
                  <a:lnTo>
                    <a:pt x="836" y="1548"/>
                  </a:lnTo>
                  <a:lnTo>
                    <a:pt x="817" y="1453"/>
                  </a:lnTo>
                  <a:lnTo>
                    <a:pt x="799" y="1359"/>
                  </a:lnTo>
                  <a:lnTo>
                    <a:pt x="783" y="1265"/>
                  </a:lnTo>
                  <a:lnTo>
                    <a:pt x="769" y="1170"/>
                  </a:lnTo>
                  <a:lnTo>
                    <a:pt x="754" y="1075"/>
                  </a:lnTo>
                  <a:lnTo>
                    <a:pt x="741" y="978"/>
                  </a:lnTo>
                  <a:lnTo>
                    <a:pt x="729" y="882"/>
                  </a:lnTo>
                  <a:lnTo>
                    <a:pt x="719" y="786"/>
                  </a:lnTo>
                  <a:lnTo>
                    <a:pt x="710" y="689"/>
                  </a:lnTo>
                  <a:lnTo>
                    <a:pt x="702" y="591"/>
                  </a:lnTo>
                  <a:lnTo>
                    <a:pt x="695" y="493"/>
                  </a:lnTo>
                  <a:lnTo>
                    <a:pt x="690" y="397"/>
                  </a:lnTo>
                  <a:lnTo>
                    <a:pt x="684" y="298"/>
                  </a:lnTo>
                  <a:lnTo>
                    <a:pt x="681" y="199"/>
                  </a:lnTo>
                  <a:lnTo>
                    <a:pt x="680" y="99"/>
                  </a:lnTo>
                  <a:lnTo>
                    <a:pt x="680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2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2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2" y="1479"/>
                  </a:lnTo>
                  <a:lnTo>
                    <a:pt x="151" y="1581"/>
                  </a:lnTo>
                  <a:lnTo>
                    <a:pt x="172" y="1683"/>
                  </a:lnTo>
                  <a:lnTo>
                    <a:pt x="193" y="1784"/>
                  </a:lnTo>
                  <a:lnTo>
                    <a:pt x="216" y="1886"/>
                  </a:lnTo>
                  <a:lnTo>
                    <a:pt x="240" y="1987"/>
                  </a:lnTo>
                  <a:lnTo>
                    <a:pt x="266" y="2086"/>
                  </a:lnTo>
                  <a:lnTo>
                    <a:pt x="291" y="2188"/>
                  </a:lnTo>
                  <a:lnTo>
                    <a:pt x="319" y="2287"/>
                  </a:lnTo>
                  <a:lnTo>
                    <a:pt x="347" y="2387"/>
                  </a:lnTo>
                  <a:lnTo>
                    <a:pt x="378" y="2485"/>
                  </a:lnTo>
                  <a:lnTo>
                    <a:pt x="409" y="2582"/>
                  </a:lnTo>
                  <a:lnTo>
                    <a:pt x="442" y="2680"/>
                  </a:lnTo>
                  <a:lnTo>
                    <a:pt x="475" y="2777"/>
                  </a:lnTo>
                  <a:lnTo>
                    <a:pt x="510" y="2873"/>
                  </a:lnTo>
                  <a:lnTo>
                    <a:pt x="545" y="2970"/>
                  </a:lnTo>
                  <a:lnTo>
                    <a:pt x="583" y="3065"/>
                  </a:lnTo>
                  <a:lnTo>
                    <a:pt x="622" y="3160"/>
                  </a:lnTo>
                  <a:lnTo>
                    <a:pt x="660" y="3252"/>
                  </a:lnTo>
                  <a:lnTo>
                    <a:pt x="701" y="3346"/>
                  </a:lnTo>
                  <a:lnTo>
                    <a:pt x="742" y="3439"/>
                  </a:lnTo>
                  <a:lnTo>
                    <a:pt x="785" y="3533"/>
                  </a:lnTo>
                  <a:lnTo>
                    <a:pt x="829" y="3624"/>
                  </a:lnTo>
                  <a:lnTo>
                    <a:pt x="873" y="3716"/>
                  </a:lnTo>
                  <a:lnTo>
                    <a:pt x="919" y="3807"/>
                  </a:lnTo>
                  <a:lnTo>
                    <a:pt x="966" y="3896"/>
                  </a:lnTo>
                  <a:lnTo>
                    <a:pt x="1014" y="3985"/>
                  </a:lnTo>
                  <a:lnTo>
                    <a:pt x="1062" y="4074"/>
                  </a:lnTo>
                  <a:lnTo>
                    <a:pt x="1113" y="4161"/>
                  </a:lnTo>
                  <a:lnTo>
                    <a:pt x="1164" y="4248"/>
                  </a:lnTo>
                  <a:lnTo>
                    <a:pt x="1216" y="4336"/>
                  </a:lnTo>
                  <a:lnTo>
                    <a:pt x="1268" y="4421"/>
                  </a:lnTo>
                  <a:lnTo>
                    <a:pt x="1323" y="4507"/>
                  </a:lnTo>
                  <a:lnTo>
                    <a:pt x="1378" y="4591"/>
                  </a:lnTo>
                  <a:lnTo>
                    <a:pt x="1434" y="4675"/>
                  </a:lnTo>
                  <a:lnTo>
                    <a:pt x="1490" y="4758"/>
                  </a:lnTo>
                  <a:lnTo>
                    <a:pt x="1549" y="4841"/>
                  </a:lnTo>
                  <a:lnTo>
                    <a:pt x="1608" y="4921"/>
                  </a:lnTo>
                  <a:lnTo>
                    <a:pt x="1668" y="5003"/>
                  </a:lnTo>
                  <a:lnTo>
                    <a:pt x="1728" y="5083"/>
                  </a:lnTo>
                  <a:lnTo>
                    <a:pt x="1789" y="5163"/>
                  </a:lnTo>
                  <a:lnTo>
                    <a:pt x="1852" y="5241"/>
                  </a:lnTo>
                  <a:lnTo>
                    <a:pt x="1916" y="5320"/>
                  </a:lnTo>
                  <a:lnTo>
                    <a:pt x="1981" y="5397"/>
                  </a:lnTo>
                  <a:lnTo>
                    <a:pt x="2046" y="5473"/>
                  </a:lnTo>
                  <a:lnTo>
                    <a:pt x="2113" y="5549"/>
                  </a:lnTo>
                  <a:lnTo>
                    <a:pt x="2180" y="5623"/>
                  </a:lnTo>
                  <a:lnTo>
                    <a:pt x="2248" y="5698"/>
                  </a:lnTo>
                  <a:lnTo>
                    <a:pt x="2317" y="5770"/>
                  </a:lnTo>
                  <a:lnTo>
                    <a:pt x="2386" y="5842"/>
                  </a:lnTo>
                  <a:lnTo>
                    <a:pt x="2457" y="5914"/>
                  </a:lnTo>
                  <a:lnTo>
                    <a:pt x="2529" y="5985"/>
                  </a:lnTo>
                  <a:lnTo>
                    <a:pt x="2601" y="6054"/>
                  </a:lnTo>
                  <a:lnTo>
                    <a:pt x="2673" y="6123"/>
                  </a:lnTo>
                  <a:lnTo>
                    <a:pt x="2748" y="6191"/>
                  </a:lnTo>
                  <a:lnTo>
                    <a:pt x="2822" y="6258"/>
                  </a:lnTo>
                  <a:lnTo>
                    <a:pt x="2898" y="6325"/>
                  </a:lnTo>
                  <a:lnTo>
                    <a:pt x="2974" y="6390"/>
                  </a:lnTo>
                  <a:lnTo>
                    <a:pt x="3051" y="6455"/>
                  </a:lnTo>
                  <a:lnTo>
                    <a:pt x="3130" y="6519"/>
                  </a:lnTo>
                  <a:lnTo>
                    <a:pt x="3208" y="6582"/>
                  </a:lnTo>
                  <a:lnTo>
                    <a:pt x="3288" y="6643"/>
                  </a:lnTo>
                  <a:lnTo>
                    <a:pt x="3368" y="6703"/>
                  </a:lnTo>
                  <a:lnTo>
                    <a:pt x="3450" y="6763"/>
                  </a:lnTo>
                  <a:lnTo>
                    <a:pt x="3530" y="6822"/>
                  </a:lnTo>
                  <a:lnTo>
                    <a:pt x="3613" y="6881"/>
                  </a:lnTo>
                  <a:lnTo>
                    <a:pt x="3696" y="6937"/>
                  </a:lnTo>
                  <a:lnTo>
                    <a:pt x="3780" y="6993"/>
                  </a:lnTo>
                  <a:lnTo>
                    <a:pt x="3864" y="7048"/>
                  </a:lnTo>
                  <a:lnTo>
                    <a:pt x="3950" y="7103"/>
                  </a:lnTo>
                  <a:lnTo>
                    <a:pt x="4035" y="7155"/>
                  </a:lnTo>
                  <a:lnTo>
                    <a:pt x="4123" y="7207"/>
                  </a:lnTo>
                  <a:lnTo>
                    <a:pt x="4210" y="7258"/>
                  </a:lnTo>
                  <a:lnTo>
                    <a:pt x="4297" y="7309"/>
                  </a:lnTo>
                  <a:lnTo>
                    <a:pt x="4386" y="7357"/>
                  </a:lnTo>
                  <a:lnTo>
                    <a:pt x="4475" y="7405"/>
                  </a:lnTo>
                  <a:lnTo>
                    <a:pt x="4564" y="7452"/>
                  </a:lnTo>
                  <a:lnTo>
                    <a:pt x="4655" y="7498"/>
                  </a:lnTo>
                  <a:lnTo>
                    <a:pt x="4747" y="7542"/>
                  </a:lnTo>
                  <a:lnTo>
                    <a:pt x="4838" y="7586"/>
                  </a:lnTo>
                  <a:lnTo>
                    <a:pt x="4932" y="7629"/>
                  </a:lnTo>
                  <a:lnTo>
                    <a:pt x="5025" y="7670"/>
                  </a:lnTo>
                  <a:lnTo>
                    <a:pt x="5119" y="7711"/>
                  </a:lnTo>
                  <a:lnTo>
                    <a:pt x="5211" y="7749"/>
                  </a:lnTo>
                  <a:lnTo>
                    <a:pt x="5306" y="7788"/>
                  </a:lnTo>
                  <a:lnTo>
                    <a:pt x="5401" y="7826"/>
                  </a:lnTo>
                  <a:lnTo>
                    <a:pt x="5498" y="7861"/>
                  </a:lnTo>
                  <a:lnTo>
                    <a:pt x="5594" y="7896"/>
                  </a:lnTo>
                  <a:lnTo>
                    <a:pt x="5691" y="7929"/>
                  </a:lnTo>
                  <a:lnTo>
                    <a:pt x="5789" y="7962"/>
                  </a:lnTo>
                  <a:lnTo>
                    <a:pt x="5886" y="7993"/>
                  </a:lnTo>
                  <a:lnTo>
                    <a:pt x="5984" y="8024"/>
                  </a:lnTo>
                  <a:lnTo>
                    <a:pt x="6084" y="8052"/>
                  </a:lnTo>
                  <a:lnTo>
                    <a:pt x="6183" y="8080"/>
                  </a:lnTo>
                  <a:lnTo>
                    <a:pt x="6285" y="8105"/>
                  </a:lnTo>
                  <a:lnTo>
                    <a:pt x="6384" y="8131"/>
                  </a:lnTo>
                  <a:lnTo>
                    <a:pt x="6485" y="8155"/>
                  </a:lnTo>
                  <a:lnTo>
                    <a:pt x="6587" y="8178"/>
                  </a:lnTo>
                  <a:lnTo>
                    <a:pt x="6688" y="8199"/>
                  </a:lnTo>
                  <a:lnTo>
                    <a:pt x="6790" y="8220"/>
                  </a:lnTo>
                  <a:lnTo>
                    <a:pt x="6892" y="8239"/>
                  </a:lnTo>
                  <a:lnTo>
                    <a:pt x="6997" y="8257"/>
                  </a:lnTo>
                  <a:lnTo>
                    <a:pt x="7100" y="8275"/>
                  </a:lnTo>
                  <a:lnTo>
                    <a:pt x="7204" y="8289"/>
                  </a:lnTo>
                  <a:lnTo>
                    <a:pt x="7308" y="8302"/>
                  </a:lnTo>
                  <a:lnTo>
                    <a:pt x="7413" y="8316"/>
                  </a:lnTo>
                  <a:lnTo>
                    <a:pt x="7518" y="8327"/>
                  </a:lnTo>
                  <a:lnTo>
                    <a:pt x="7624" y="8338"/>
                  </a:lnTo>
                  <a:lnTo>
                    <a:pt x="7730" y="8346"/>
                  </a:lnTo>
                  <a:lnTo>
                    <a:pt x="7835" y="8353"/>
                  </a:lnTo>
                  <a:lnTo>
                    <a:pt x="7943" y="8359"/>
                  </a:lnTo>
                  <a:lnTo>
                    <a:pt x="8050" y="8364"/>
                  </a:lnTo>
                  <a:lnTo>
                    <a:pt x="8156" y="8367"/>
                  </a:lnTo>
                  <a:lnTo>
                    <a:pt x="8263" y="8370"/>
                  </a:lnTo>
                  <a:lnTo>
                    <a:pt x="8371" y="8371"/>
                  </a:lnTo>
                  <a:lnTo>
                    <a:pt x="8371" y="8371"/>
                  </a:lnTo>
                  <a:lnTo>
                    <a:pt x="8371" y="769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05080" y="6131520"/>
              <a:ext cx="311400" cy="285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7691" y="0"/>
                  </a:moveTo>
                  <a:lnTo>
                    <a:pt x="7691" y="0"/>
                  </a:lnTo>
                  <a:lnTo>
                    <a:pt x="7690" y="99"/>
                  </a:lnTo>
                  <a:lnTo>
                    <a:pt x="7690" y="199"/>
                  </a:lnTo>
                  <a:lnTo>
                    <a:pt x="7687" y="298"/>
                  </a:lnTo>
                  <a:lnTo>
                    <a:pt x="7681" y="397"/>
                  </a:lnTo>
                  <a:lnTo>
                    <a:pt x="7676" y="493"/>
                  </a:lnTo>
                  <a:lnTo>
                    <a:pt x="7669" y="591"/>
                  </a:lnTo>
                  <a:lnTo>
                    <a:pt x="7661" y="689"/>
                  </a:lnTo>
                  <a:lnTo>
                    <a:pt x="7652" y="785"/>
                  </a:lnTo>
                  <a:lnTo>
                    <a:pt x="7641" y="882"/>
                  </a:lnTo>
                  <a:lnTo>
                    <a:pt x="7630" y="978"/>
                  </a:lnTo>
                  <a:lnTo>
                    <a:pt x="7617" y="1075"/>
                  </a:lnTo>
                  <a:lnTo>
                    <a:pt x="7602" y="1170"/>
                  </a:lnTo>
                  <a:lnTo>
                    <a:pt x="7587" y="1264"/>
                  </a:lnTo>
                  <a:lnTo>
                    <a:pt x="7571" y="1359"/>
                  </a:lnTo>
                  <a:lnTo>
                    <a:pt x="7554" y="1453"/>
                  </a:lnTo>
                  <a:lnTo>
                    <a:pt x="7535" y="1548"/>
                  </a:lnTo>
                  <a:lnTo>
                    <a:pt x="7514" y="1641"/>
                  </a:lnTo>
                  <a:lnTo>
                    <a:pt x="7494" y="1735"/>
                  </a:lnTo>
                  <a:lnTo>
                    <a:pt x="7472" y="1827"/>
                  </a:lnTo>
                  <a:lnTo>
                    <a:pt x="7449" y="1919"/>
                  </a:lnTo>
                  <a:lnTo>
                    <a:pt x="7424" y="2010"/>
                  </a:lnTo>
                  <a:lnTo>
                    <a:pt x="7399" y="2101"/>
                  </a:lnTo>
                  <a:lnTo>
                    <a:pt x="7372" y="2192"/>
                  </a:lnTo>
                  <a:lnTo>
                    <a:pt x="7345" y="2283"/>
                  </a:lnTo>
                  <a:lnTo>
                    <a:pt x="7316" y="2373"/>
                  </a:lnTo>
                  <a:lnTo>
                    <a:pt x="7286" y="2462"/>
                  </a:lnTo>
                  <a:lnTo>
                    <a:pt x="7256" y="2551"/>
                  </a:lnTo>
                  <a:lnTo>
                    <a:pt x="7223" y="2640"/>
                  </a:lnTo>
                  <a:lnTo>
                    <a:pt x="7191" y="2728"/>
                  </a:lnTo>
                  <a:lnTo>
                    <a:pt x="7156" y="2815"/>
                  </a:lnTo>
                  <a:lnTo>
                    <a:pt x="7123" y="2902"/>
                  </a:lnTo>
                  <a:lnTo>
                    <a:pt x="7086" y="2989"/>
                  </a:lnTo>
                  <a:lnTo>
                    <a:pt x="7048" y="3075"/>
                  </a:lnTo>
                  <a:lnTo>
                    <a:pt x="7010" y="3161"/>
                  </a:lnTo>
                  <a:lnTo>
                    <a:pt x="6972" y="3245"/>
                  </a:lnTo>
                  <a:lnTo>
                    <a:pt x="6931" y="3330"/>
                  </a:lnTo>
                  <a:lnTo>
                    <a:pt x="6889" y="3413"/>
                  </a:lnTo>
                  <a:lnTo>
                    <a:pt x="6849" y="3497"/>
                  </a:lnTo>
                  <a:lnTo>
                    <a:pt x="6805" y="3580"/>
                  </a:lnTo>
                  <a:lnTo>
                    <a:pt x="6762" y="3661"/>
                  </a:lnTo>
                  <a:lnTo>
                    <a:pt x="6716" y="3742"/>
                  </a:lnTo>
                  <a:lnTo>
                    <a:pt x="6671" y="3823"/>
                  </a:lnTo>
                  <a:lnTo>
                    <a:pt x="6624" y="3903"/>
                  </a:lnTo>
                  <a:lnTo>
                    <a:pt x="6575" y="3983"/>
                  </a:lnTo>
                  <a:lnTo>
                    <a:pt x="6526" y="4062"/>
                  </a:lnTo>
                  <a:lnTo>
                    <a:pt x="6477" y="4141"/>
                  </a:lnTo>
                  <a:lnTo>
                    <a:pt x="6427" y="4219"/>
                  </a:lnTo>
                  <a:lnTo>
                    <a:pt x="6375" y="4295"/>
                  </a:lnTo>
                  <a:lnTo>
                    <a:pt x="6322" y="4373"/>
                  </a:lnTo>
                  <a:lnTo>
                    <a:pt x="6270" y="4447"/>
                  </a:lnTo>
                  <a:lnTo>
                    <a:pt x="6215" y="4523"/>
                  </a:lnTo>
                  <a:lnTo>
                    <a:pt x="6161" y="4597"/>
                  </a:lnTo>
                  <a:lnTo>
                    <a:pt x="6104" y="4671"/>
                  </a:lnTo>
                  <a:lnTo>
                    <a:pt x="6047" y="4743"/>
                  </a:lnTo>
                  <a:lnTo>
                    <a:pt x="5989" y="4816"/>
                  </a:lnTo>
                  <a:lnTo>
                    <a:pt x="5932" y="4887"/>
                  </a:lnTo>
                  <a:lnTo>
                    <a:pt x="5872" y="4959"/>
                  </a:lnTo>
                  <a:lnTo>
                    <a:pt x="5813" y="5029"/>
                  </a:lnTo>
                  <a:lnTo>
                    <a:pt x="5751" y="5098"/>
                  </a:lnTo>
                  <a:lnTo>
                    <a:pt x="5689" y="5167"/>
                  </a:lnTo>
                  <a:lnTo>
                    <a:pt x="5626" y="5235"/>
                  </a:lnTo>
                  <a:lnTo>
                    <a:pt x="5564" y="5303"/>
                  </a:lnTo>
                  <a:lnTo>
                    <a:pt x="5499" y="5369"/>
                  </a:lnTo>
                  <a:lnTo>
                    <a:pt x="5434" y="5434"/>
                  </a:lnTo>
                  <a:lnTo>
                    <a:pt x="5369" y="5499"/>
                  </a:lnTo>
                  <a:lnTo>
                    <a:pt x="5302" y="5564"/>
                  </a:lnTo>
                  <a:lnTo>
                    <a:pt x="5235" y="5627"/>
                  </a:lnTo>
                  <a:lnTo>
                    <a:pt x="5167" y="5689"/>
                  </a:lnTo>
                  <a:lnTo>
                    <a:pt x="5099" y="5752"/>
                  </a:lnTo>
                  <a:lnTo>
                    <a:pt x="5029" y="5813"/>
                  </a:lnTo>
                  <a:lnTo>
                    <a:pt x="4958" y="5872"/>
                  </a:lnTo>
                  <a:lnTo>
                    <a:pt x="4887" y="5932"/>
                  </a:lnTo>
                  <a:lnTo>
                    <a:pt x="4816" y="5990"/>
                  </a:lnTo>
                  <a:lnTo>
                    <a:pt x="4743" y="6048"/>
                  </a:lnTo>
                  <a:lnTo>
                    <a:pt x="4671" y="6105"/>
                  </a:lnTo>
                  <a:lnTo>
                    <a:pt x="4597" y="6161"/>
                  </a:lnTo>
                  <a:lnTo>
                    <a:pt x="4522" y="6217"/>
                  </a:lnTo>
                  <a:lnTo>
                    <a:pt x="4447" y="6270"/>
                  </a:lnTo>
                  <a:lnTo>
                    <a:pt x="4372" y="6323"/>
                  </a:lnTo>
                  <a:lnTo>
                    <a:pt x="4295" y="6375"/>
                  </a:lnTo>
                  <a:lnTo>
                    <a:pt x="4218" y="6427"/>
                  </a:lnTo>
                  <a:lnTo>
                    <a:pt x="4139" y="6477"/>
                  </a:lnTo>
                  <a:lnTo>
                    <a:pt x="4062" y="6526"/>
                  </a:lnTo>
                  <a:lnTo>
                    <a:pt x="3983" y="6576"/>
                  </a:lnTo>
                  <a:lnTo>
                    <a:pt x="3903" y="6624"/>
                  </a:lnTo>
                  <a:lnTo>
                    <a:pt x="3823" y="6671"/>
                  </a:lnTo>
                  <a:lnTo>
                    <a:pt x="3742" y="6717"/>
                  </a:lnTo>
                  <a:lnTo>
                    <a:pt x="3660" y="6762"/>
                  </a:lnTo>
                  <a:lnTo>
                    <a:pt x="3579" y="6806"/>
                  </a:lnTo>
                  <a:lnTo>
                    <a:pt x="3497" y="6849"/>
                  </a:lnTo>
                  <a:lnTo>
                    <a:pt x="3412" y="6890"/>
                  </a:lnTo>
                  <a:lnTo>
                    <a:pt x="3329" y="6932"/>
                  </a:lnTo>
                  <a:lnTo>
                    <a:pt x="3245" y="6972"/>
                  </a:lnTo>
                  <a:lnTo>
                    <a:pt x="3160" y="7011"/>
                  </a:lnTo>
                  <a:lnTo>
                    <a:pt x="3075" y="7048"/>
                  </a:lnTo>
                  <a:lnTo>
                    <a:pt x="2989" y="7086"/>
                  </a:lnTo>
                  <a:lnTo>
                    <a:pt x="2902" y="7123"/>
                  </a:lnTo>
                  <a:lnTo>
                    <a:pt x="2815" y="7156"/>
                  </a:lnTo>
                  <a:lnTo>
                    <a:pt x="2727" y="7191"/>
                  </a:lnTo>
                  <a:lnTo>
                    <a:pt x="2639" y="7224"/>
                  </a:lnTo>
                  <a:lnTo>
                    <a:pt x="2551" y="7256"/>
                  </a:lnTo>
                  <a:lnTo>
                    <a:pt x="2462" y="7287"/>
                  </a:lnTo>
                  <a:lnTo>
                    <a:pt x="2372" y="7316"/>
                  </a:lnTo>
                  <a:lnTo>
                    <a:pt x="2282" y="7345"/>
                  </a:lnTo>
                  <a:lnTo>
                    <a:pt x="2192" y="7373"/>
                  </a:lnTo>
                  <a:lnTo>
                    <a:pt x="2101" y="7399"/>
                  </a:lnTo>
                  <a:lnTo>
                    <a:pt x="2010" y="7424"/>
                  </a:lnTo>
                  <a:lnTo>
                    <a:pt x="1919" y="7449"/>
                  </a:lnTo>
                  <a:lnTo>
                    <a:pt x="1827" y="7472"/>
                  </a:lnTo>
                  <a:lnTo>
                    <a:pt x="1734" y="7494"/>
                  </a:lnTo>
                  <a:lnTo>
                    <a:pt x="1641" y="7515"/>
                  </a:lnTo>
                  <a:lnTo>
                    <a:pt x="1548" y="7535"/>
                  </a:lnTo>
                  <a:lnTo>
                    <a:pt x="1453" y="7554"/>
                  </a:lnTo>
                  <a:lnTo>
                    <a:pt x="1358" y="7572"/>
                  </a:lnTo>
                  <a:lnTo>
                    <a:pt x="1265" y="7588"/>
                  </a:lnTo>
                  <a:lnTo>
                    <a:pt x="1170" y="7602"/>
                  </a:lnTo>
                  <a:lnTo>
                    <a:pt x="1074" y="7617"/>
                  </a:lnTo>
                  <a:lnTo>
                    <a:pt x="977" y="7630"/>
                  </a:lnTo>
                  <a:lnTo>
                    <a:pt x="881" y="7642"/>
                  </a:lnTo>
                  <a:lnTo>
                    <a:pt x="786" y="7652"/>
                  </a:lnTo>
                  <a:lnTo>
                    <a:pt x="689" y="7661"/>
                  </a:lnTo>
                  <a:lnTo>
                    <a:pt x="591" y="7669"/>
                  </a:lnTo>
                  <a:lnTo>
                    <a:pt x="493" y="7676"/>
                  </a:lnTo>
                  <a:lnTo>
                    <a:pt x="397" y="7681"/>
                  </a:lnTo>
                  <a:lnTo>
                    <a:pt x="297" y="7687"/>
                  </a:lnTo>
                  <a:lnTo>
                    <a:pt x="199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8" y="8370"/>
                  </a:lnTo>
                  <a:lnTo>
                    <a:pt x="215" y="8367"/>
                  </a:lnTo>
                  <a:lnTo>
                    <a:pt x="321" y="8364"/>
                  </a:lnTo>
                  <a:lnTo>
                    <a:pt x="428" y="8359"/>
                  </a:lnTo>
                  <a:lnTo>
                    <a:pt x="536" y="8353"/>
                  </a:lnTo>
                  <a:lnTo>
                    <a:pt x="641" y="8346"/>
                  </a:lnTo>
                  <a:lnTo>
                    <a:pt x="747" y="8338"/>
                  </a:lnTo>
                  <a:lnTo>
                    <a:pt x="852" y="8327"/>
                  </a:lnTo>
                  <a:lnTo>
                    <a:pt x="958" y="8316"/>
                  </a:lnTo>
                  <a:lnTo>
                    <a:pt x="1063" y="8302"/>
                  </a:lnTo>
                  <a:lnTo>
                    <a:pt x="1167" y="8289"/>
                  </a:lnTo>
                  <a:lnTo>
                    <a:pt x="1270" y="8275"/>
                  </a:lnTo>
                  <a:lnTo>
                    <a:pt x="1374" y="8257"/>
                  </a:lnTo>
                  <a:lnTo>
                    <a:pt x="1479" y="8239"/>
                  </a:lnTo>
                  <a:lnTo>
                    <a:pt x="1580" y="8220"/>
                  </a:lnTo>
                  <a:lnTo>
                    <a:pt x="1683" y="8199"/>
                  </a:lnTo>
                  <a:lnTo>
                    <a:pt x="1784" y="8178"/>
                  </a:lnTo>
                  <a:lnTo>
                    <a:pt x="1886" y="8155"/>
                  </a:lnTo>
                  <a:lnTo>
                    <a:pt x="1986" y="8131"/>
                  </a:lnTo>
                  <a:lnTo>
                    <a:pt x="2086" y="8105"/>
                  </a:lnTo>
                  <a:lnTo>
                    <a:pt x="2188" y="8080"/>
                  </a:lnTo>
                  <a:lnTo>
                    <a:pt x="2287" y="8052"/>
                  </a:lnTo>
                  <a:lnTo>
                    <a:pt x="2386" y="8024"/>
                  </a:lnTo>
                  <a:lnTo>
                    <a:pt x="2484" y="7993"/>
                  </a:lnTo>
                  <a:lnTo>
                    <a:pt x="2582" y="7962"/>
                  </a:lnTo>
                  <a:lnTo>
                    <a:pt x="2680" y="7929"/>
                  </a:lnTo>
                  <a:lnTo>
                    <a:pt x="2777" y="7896"/>
                  </a:lnTo>
                  <a:lnTo>
                    <a:pt x="2873" y="7861"/>
                  </a:lnTo>
                  <a:lnTo>
                    <a:pt x="2969" y="7826"/>
                  </a:lnTo>
                  <a:lnTo>
                    <a:pt x="3065" y="7788"/>
                  </a:lnTo>
                  <a:lnTo>
                    <a:pt x="3159" y="7749"/>
                  </a:lnTo>
                  <a:lnTo>
                    <a:pt x="3252" y="7711"/>
                  </a:lnTo>
                  <a:lnTo>
                    <a:pt x="3346" y="7670"/>
                  </a:lnTo>
                  <a:lnTo>
                    <a:pt x="3439" y="7629"/>
                  </a:lnTo>
                  <a:lnTo>
                    <a:pt x="3532" y="7586"/>
                  </a:lnTo>
                  <a:lnTo>
                    <a:pt x="3624" y="7542"/>
                  </a:lnTo>
                  <a:lnTo>
                    <a:pt x="3715" y="7498"/>
                  </a:lnTo>
                  <a:lnTo>
                    <a:pt x="3805" y="7452"/>
                  </a:lnTo>
                  <a:lnTo>
                    <a:pt x="3895" y="7405"/>
                  </a:lnTo>
                  <a:lnTo>
                    <a:pt x="3985" y="7357"/>
                  </a:lnTo>
                  <a:lnTo>
                    <a:pt x="4074" y="7309"/>
                  </a:lnTo>
                  <a:lnTo>
                    <a:pt x="4160" y="7258"/>
                  </a:lnTo>
                  <a:lnTo>
                    <a:pt x="4248" y="7207"/>
                  </a:lnTo>
                  <a:lnTo>
                    <a:pt x="4335" y="7155"/>
                  </a:lnTo>
                  <a:lnTo>
                    <a:pt x="4421" y="7103"/>
                  </a:lnTo>
                  <a:lnTo>
                    <a:pt x="4507" y="7048"/>
                  </a:lnTo>
                  <a:lnTo>
                    <a:pt x="4590" y="6993"/>
                  </a:lnTo>
                  <a:lnTo>
                    <a:pt x="4675" y="6937"/>
                  </a:lnTo>
                  <a:lnTo>
                    <a:pt x="4757" y="6881"/>
                  </a:lnTo>
                  <a:lnTo>
                    <a:pt x="4841" y="6822"/>
                  </a:lnTo>
                  <a:lnTo>
                    <a:pt x="4921" y="6763"/>
                  </a:lnTo>
                  <a:lnTo>
                    <a:pt x="5003" y="6703"/>
                  </a:lnTo>
                  <a:lnTo>
                    <a:pt x="5082" y="6643"/>
                  </a:lnTo>
                  <a:lnTo>
                    <a:pt x="5163" y="6582"/>
                  </a:lnTo>
                  <a:lnTo>
                    <a:pt x="5241" y="6519"/>
                  </a:lnTo>
                  <a:lnTo>
                    <a:pt x="5320" y="6455"/>
                  </a:lnTo>
                  <a:lnTo>
                    <a:pt x="5396" y="6390"/>
                  </a:lnTo>
                  <a:lnTo>
                    <a:pt x="5473" y="6325"/>
                  </a:lnTo>
                  <a:lnTo>
                    <a:pt x="5548" y="6258"/>
                  </a:lnTo>
                  <a:lnTo>
                    <a:pt x="5623" y="6191"/>
                  </a:lnTo>
                  <a:lnTo>
                    <a:pt x="5696" y="6123"/>
                  </a:lnTo>
                  <a:lnTo>
                    <a:pt x="5770" y="6054"/>
                  </a:lnTo>
                  <a:lnTo>
                    <a:pt x="5842" y="5985"/>
                  </a:lnTo>
                  <a:lnTo>
                    <a:pt x="5914" y="5914"/>
                  </a:lnTo>
                  <a:lnTo>
                    <a:pt x="5985" y="5842"/>
                  </a:lnTo>
                  <a:lnTo>
                    <a:pt x="6054" y="5770"/>
                  </a:lnTo>
                  <a:lnTo>
                    <a:pt x="6123" y="5698"/>
                  </a:lnTo>
                  <a:lnTo>
                    <a:pt x="6191" y="5623"/>
                  </a:lnTo>
                  <a:lnTo>
                    <a:pt x="6258" y="5549"/>
                  </a:lnTo>
                  <a:lnTo>
                    <a:pt x="6324" y="5473"/>
                  </a:lnTo>
                  <a:lnTo>
                    <a:pt x="6390" y="5397"/>
                  </a:lnTo>
                  <a:lnTo>
                    <a:pt x="6455" y="5320"/>
                  </a:lnTo>
                  <a:lnTo>
                    <a:pt x="6518" y="5241"/>
                  </a:lnTo>
                  <a:lnTo>
                    <a:pt x="6581" y="5163"/>
                  </a:lnTo>
                  <a:lnTo>
                    <a:pt x="6643" y="5083"/>
                  </a:lnTo>
                  <a:lnTo>
                    <a:pt x="6703" y="5003"/>
                  </a:lnTo>
                  <a:lnTo>
                    <a:pt x="6763" y="4921"/>
                  </a:lnTo>
                  <a:lnTo>
                    <a:pt x="6822" y="4841"/>
                  </a:lnTo>
                  <a:lnTo>
                    <a:pt x="6880" y="4758"/>
                  </a:lnTo>
                  <a:lnTo>
                    <a:pt x="6937" y="4675"/>
                  </a:lnTo>
                  <a:lnTo>
                    <a:pt x="6993" y="4590"/>
                  </a:lnTo>
                  <a:lnTo>
                    <a:pt x="7048" y="4507"/>
                  </a:lnTo>
                  <a:lnTo>
                    <a:pt x="7103" y="4421"/>
                  </a:lnTo>
                  <a:lnTo>
                    <a:pt x="7155" y="4336"/>
                  </a:lnTo>
                  <a:lnTo>
                    <a:pt x="7207" y="4248"/>
                  </a:lnTo>
                  <a:lnTo>
                    <a:pt x="7258" y="4161"/>
                  </a:lnTo>
                  <a:lnTo>
                    <a:pt x="7308" y="4074"/>
                  </a:lnTo>
                  <a:lnTo>
                    <a:pt x="7357" y="3985"/>
                  </a:lnTo>
                  <a:lnTo>
                    <a:pt x="7405" y="3896"/>
                  </a:lnTo>
                  <a:lnTo>
                    <a:pt x="7451" y="3805"/>
                  </a:lnTo>
                  <a:lnTo>
                    <a:pt x="7498" y="3716"/>
                  </a:lnTo>
                  <a:lnTo>
                    <a:pt x="7542" y="3624"/>
                  </a:lnTo>
                  <a:lnTo>
                    <a:pt x="7585" y="3533"/>
                  </a:lnTo>
                  <a:lnTo>
                    <a:pt x="7629" y="3439"/>
                  </a:lnTo>
                  <a:lnTo>
                    <a:pt x="7670" y="3346"/>
                  </a:lnTo>
                  <a:lnTo>
                    <a:pt x="7710" y="3252"/>
                  </a:lnTo>
                  <a:lnTo>
                    <a:pt x="7749" y="3160"/>
                  </a:lnTo>
                  <a:lnTo>
                    <a:pt x="7788" y="3065"/>
                  </a:lnTo>
                  <a:lnTo>
                    <a:pt x="7825" y="2970"/>
                  </a:lnTo>
                  <a:lnTo>
                    <a:pt x="7861" y="2873"/>
                  </a:lnTo>
                  <a:lnTo>
                    <a:pt x="7896" y="2777"/>
                  </a:lnTo>
                  <a:lnTo>
                    <a:pt x="7929" y="2680"/>
                  </a:lnTo>
                  <a:lnTo>
                    <a:pt x="7962" y="2582"/>
                  </a:lnTo>
                  <a:lnTo>
                    <a:pt x="7993" y="2485"/>
                  </a:lnTo>
                  <a:lnTo>
                    <a:pt x="8023" y="2387"/>
                  </a:lnTo>
                  <a:lnTo>
                    <a:pt x="8052" y="2287"/>
                  </a:lnTo>
                  <a:lnTo>
                    <a:pt x="8080" y="2188"/>
                  </a:lnTo>
                  <a:lnTo>
                    <a:pt x="8105" y="2086"/>
                  </a:lnTo>
                  <a:lnTo>
                    <a:pt x="8130" y="1987"/>
                  </a:lnTo>
                  <a:lnTo>
                    <a:pt x="8155" y="1886"/>
                  </a:lnTo>
                  <a:lnTo>
                    <a:pt x="8178" y="1784"/>
                  </a:lnTo>
                  <a:lnTo>
                    <a:pt x="8199" y="1683"/>
                  </a:lnTo>
                  <a:lnTo>
                    <a:pt x="8220" y="1581"/>
                  </a:lnTo>
                  <a:lnTo>
                    <a:pt x="8240" y="1479"/>
                  </a:lnTo>
                  <a:lnTo>
                    <a:pt x="8257" y="1376"/>
                  </a:lnTo>
                  <a:lnTo>
                    <a:pt x="8274" y="1271"/>
                  </a:lnTo>
                  <a:lnTo>
                    <a:pt x="8288" y="1167"/>
                  </a:lnTo>
                  <a:lnTo>
                    <a:pt x="8302" y="1063"/>
                  </a:lnTo>
                  <a:lnTo>
                    <a:pt x="8316" y="958"/>
                  </a:lnTo>
                  <a:lnTo>
                    <a:pt x="8327" y="854"/>
                  </a:lnTo>
                  <a:lnTo>
                    <a:pt x="8338" y="747"/>
                  </a:lnTo>
                  <a:lnTo>
                    <a:pt x="8346" y="641"/>
                  </a:lnTo>
                  <a:lnTo>
                    <a:pt x="8353" y="536"/>
                  </a:lnTo>
                  <a:lnTo>
                    <a:pt x="8359" y="428"/>
                  </a:lnTo>
                  <a:lnTo>
                    <a:pt x="8364" y="321"/>
                  </a:lnTo>
                  <a:lnTo>
                    <a:pt x="8367" y="215"/>
                  </a:lnTo>
                  <a:lnTo>
                    <a:pt x="8370" y="108"/>
                  </a:lnTo>
                  <a:lnTo>
                    <a:pt x="8371" y="0"/>
                  </a:lnTo>
                  <a:lnTo>
                    <a:pt x="8371" y="0"/>
                  </a:lnTo>
                  <a:lnTo>
                    <a:pt x="769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9040" y="5941440"/>
              <a:ext cx="159840" cy="406800"/>
            </a:xfrm>
            <a:custGeom>
              <a:avLst/>
              <a:gdLst/>
              <a:ahLst/>
              <a:rect l="l" t="t" r="r" b="b"/>
              <a:pathLst>
                <a:path w="4292" h="11931">
                  <a:moveTo>
                    <a:pt x="0" y="2806"/>
                  </a:moveTo>
                  <a:lnTo>
                    <a:pt x="145" y="9358"/>
                  </a:lnTo>
                  <a:lnTo>
                    <a:pt x="1884" y="11931"/>
                  </a:lnTo>
                  <a:lnTo>
                    <a:pt x="4051" y="9248"/>
                  </a:lnTo>
                  <a:lnTo>
                    <a:pt x="4046" y="9034"/>
                  </a:lnTo>
                  <a:lnTo>
                    <a:pt x="4044" y="8821"/>
                  </a:lnTo>
                  <a:lnTo>
                    <a:pt x="4043" y="8607"/>
                  </a:lnTo>
                  <a:lnTo>
                    <a:pt x="4045" y="8395"/>
                  </a:lnTo>
                  <a:lnTo>
                    <a:pt x="4047" y="8182"/>
                  </a:lnTo>
                  <a:lnTo>
                    <a:pt x="4051" y="7971"/>
                  </a:lnTo>
                  <a:lnTo>
                    <a:pt x="4058" y="7759"/>
                  </a:lnTo>
                  <a:lnTo>
                    <a:pt x="4065" y="7547"/>
                  </a:lnTo>
                  <a:lnTo>
                    <a:pt x="4072" y="7336"/>
                  </a:lnTo>
                  <a:lnTo>
                    <a:pt x="4082" y="7125"/>
                  </a:lnTo>
                  <a:lnTo>
                    <a:pt x="4091" y="6914"/>
                  </a:lnTo>
                  <a:lnTo>
                    <a:pt x="4102" y="6703"/>
                  </a:lnTo>
                  <a:lnTo>
                    <a:pt x="4124" y="6282"/>
                  </a:lnTo>
                  <a:lnTo>
                    <a:pt x="4147" y="5861"/>
                  </a:lnTo>
                  <a:lnTo>
                    <a:pt x="4171" y="5439"/>
                  </a:lnTo>
                  <a:lnTo>
                    <a:pt x="4193" y="5018"/>
                  </a:lnTo>
                  <a:lnTo>
                    <a:pt x="4203" y="4807"/>
                  </a:lnTo>
                  <a:lnTo>
                    <a:pt x="4213" y="4597"/>
                  </a:lnTo>
                  <a:lnTo>
                    <a:pt x="4222" y="4385"/>
                  </a:lnTo>
                  <a:lnTo>
                    <a:pt x="4229" y="4174"/>
                  </a:lnTo>
                  <a:lnTo>
                    <a:pt x="4237" y="3962"/>
                  </a:lnTo>
                  <a:lnTo>
                    <a:pt x="4242" y="3750"/>
                  </a:lnTo>
                  <a:lnTo>
                    <a:pt x="4246" y="3539"/>
                  </a:lnTo>
                  <a:lnTo>
                    <a:pt x="4249" y="3326"/>
                  </a:lnTo>
                  <a:lnTo>
                    <a:pt x="4250" y="3114"/>
                  </a:lnTo>
                  <a:lnTo>
                    <a:pt x="4250" y="2900"/>
                  </a:lnTo>
                  <a:lnTo>
                    <a:pt x="4248" y="2687"/>
                  </a:lnTo>
                  <a:lnTo>
                    <a:pt x="4243" y="2473"/>
                  </a:lnTo>
                  <a:lnTo>
                    <a:pt x="4264" y="2360"/>
                  </a:lnTo>
                  <a:lnTo>
                    <a:pt x="4279" y="2247"/>
                  </a:lnTo>
                  <a:lnTo>
                    <a:pt x="4288" y="2133"/>
                  </a:lnTo>
                  <a:lnTo>
                    <a:pt x="4292" y="2019"/>
                  </a:lnTo>
                  <a:lnTo>
                    <a:pt x="4289" y="1906"/>
                  </a:lnTo>
                  <a:lnTo>
                    <a:pt x="4282" y="1792"/>
                  </a:lnTo>
                  <a:lnTo>
                    <a:pt x="4268" y="1679"/>
                  </a:lnTo>
                  <a:lnTo>
                    <a:pt x="4249" y="1567"/>
                  </a:lnTo>
                  <a:lnTo>
                    <a:pt x="4224" y="1457"/>
                  </a:lnTo>
                  <a:lnTo>
                    <a:pt x="4195" y="1349"/>
                  </a:lnTo>
                  <a:lnTo>
                    <a:pt x="4158" y="1241"/>
                  </a:lnTo>
                  <a:lnTo>
                    <a:pt x="4117" y="1136"/>
                  </a:lnTo>
                  <a:lnTo>
                    <a:pt x="4070" y="1035"/>
                  </a:lnTo>
                  <a:lnTo>
                    <a:pt x="4018" y="935"/>
                  </a:lnTo>
                  <a:lnTo>
                    <a:pt x="3960" y="840"/>
                  </a:lnTo>
                  <a:lnTo>
                    <a:pt x="3898" y="747"/>
                  </a:lnTo>
                  <a:lnTo>
                    <a:pt x="3829" y="659"/>
                  </a:lnTo>
                  <a:lnTo>
                    <a:pt x="3754" y="574"/>
                  </a:lnTo>
                  <a:lnTo>
                    <a:pt x="3676" y="495"/>
                  </a:lnTo>
                  <a:lnTo>
                    <a:pt x="3591" y="419"/>
                  </a:lnTo>
                  <a:lnTo>
                    <a:pt x="3501" y="349"/>
                  </a:lnTo>
                  <a:lnTo>
                    <a:pt x="3406" y="284"/>
                  </a:lnTo>
                  <a:lnTo>
                    <a:pt x="3304" y="226"/>
                  </a:lnTo>
                  <a:lnTo>
                    <a:pt x="3199" y="173"/>
                  </a:lnTo>
                  <a:lnTo>
                    <a:pt x="3088" y="127"/>
                  </a:lnTo>
                  <a:lnTo>
                    <a:pt x="2972" y="88"/>
                  </a:lnTo>
                  <a:lnTo>
                    <a:pt x="2850" y="54"/>
                  </a:lnTo>
                  <a:lnTo>
                    <a:pt x="2724" y="29"/>
                  </a:lnTo>
                  <a:lnTo>
                    <a:pt x="2592" y="11"/>
                  </a:lnTo>
                  <a:lnTo>
                    <a:pt x="2455" y="2"/>
                  </a:lnTo>
                  <a:lnTo>
                    <a:pt x="2312" y="0"/>
                  </a:lnTo>
                  <a:lnTo>
                    <a:pt x="2166" y="7"/>
                  </a:lnTo>
                  <a:lnTo>
                    <a:pt x="2095" y="13"/>
                  </a:lnTo>
                  <a:lnTo>
                    <a:pt x="2021" y="22"/>
                  </a:lnTo>
                  <a:lnTo>
                    <a:pt x="1946" y="32"/>
                  </a:lnTo>
                  <a:lnTo>
                    <a:pt x="1869" y="46"/>
                  </a:lnTo>
                  <a:lnTo>
                    <a:pt x="1790" y="63"/>
                  </a:lnTo>
                  <a:lnTo>
                    <a:pt x="1711" y="81"/>
                  </a:lnTo>
                  <a:lnTo>
                    <a:pt x="1629" y="103"/>
                  </a:lnTo>
                  <a:lnTo>
                    <a:pt x="1549" y="130"/>
                  </a:lnTo>
                  <a:lnTo>
                    <a:pt x="1466" y="158"/>
                  </a:lnTo>
                  <a:lnTo>
                    <a:pt x="1384" y="191"/>
                  </a:lnTo>
                  <a:lnTo>
                    <a:pt x="1302" y="228"/>
                  </a:lnTo>
                  <a:lnTo>
                    <a:pt x="1220" y="269"/>
                  </a:lnTo>
                  <a:lnTo>
                    <a:pt x="1138" y="314"/>
                  </a:lnTo>
                  <a:lnTo>
                    <a:pt x="1058" y="364"/>
                  </a:lnTo>
                  <a:lnTo>
                    <a:pt x="978" y="418"/>
                  </a:lnTo>
                  <a:lnTo>
                    <a:pt x="900" y="477"/>
                  </a:lnTo>
                  <a:lnTo>
                    <a:pt x="823" y="542"/>
                  </a:lnTo>
                  <a:lnTo>
                    <a:pt x="748" y="612"/>
                  </a:lnTo>
                  <a:lnTo>
                    <a:pt x="675" y="686"/>
                  </a:lnTo>
                  <a:lnTo>
                    <a:pt x="604" y="768"/>
                  </a:lnTo>
                  <a:lnTo>
                    <a:pt x="536" y="855"/>
                  </a:lnTo>
                  <a:lnTo>
                    <a:pt x="470" y="947"/>
                  </a:lnTo>
                  <a:lnTo>
                    <a:pt x="407" y="1046"/>
                  </a:lnTo>
                  <a:lnTo>
                    <a:pt x="347" y="1152"/>
                  </a:lnTo>
                  <a:lnTo>
                    <a:pt x="292" y="1264"/>
                  </a:lnTo>
                  <a:lnTo>
                    <a:pt x="240" y="1383"/>
                  </a:lnTo>
                  <a:lnTo>
                    <a:pt x="191" y="1510"/>
                  </a:lnTo>
                  <a:lnTo>
                    <a:pt x="147" y="1643"/>
                  </a:lnTo>
                  <a:lnTo>
                    <a:pt x="108" y="1784"/>
                  </a:lnTo>
                  <a:lnTo>
                    <a:pt x="72" y="1931"/>
                  </a:lnTo>
                  <a:lnTo>
                    <a:pt x="43" y="2088"/>
                  </a:lnTo>
                  <a:lnTo>
                    <a:pt x="18" y="2253"/>
                  </a:lnTo>
                  <a:lnTo>
                    <a:pt x="7" y="2800"/>
                  </a:lnTo>
                  <a:lnTo>
                    <a:pt x="3441" y="2604"/>
                  </a:lnTo>
                  <a:lnTo>
                    <a:pt x="3356" y="2175"/>
                  </a:lnTo>
                  <a:lnTo>
                    <a:pt x="933" y="2193"/>
                  </a:lnTo>
                  <a:lnTo>
                    <a:pt x="940" y="2127"/>
                  </a:lnTo>
                  <a:lnTo>
                    <a:pt x="948" y="2062"/>
                  </a:lnTo>
                  <a:lnTo>
                    <a:pt x="959" y="1996"/>
                  </a:lnTo>
                  <a:lnTo>
                    <a:pt x="973" y="1931"/>
                  </a:lnTo>
                  <a:lnTo>
                    <a:pt x="989" y="1867"/>
                  </a:lnTo>
                  <a:lnTo>
                    <a:pt x="1008" y="1803"/>
                  </a:lnTo>
                  <a:lnTo>
                    <a:pt x="1028" y="1740"/>
                  </a:lnTo>
                  <a:lnTo>
                    <a:pt x="1051" y="1677"/>
                  </a:lnTo>
                  <a:lnTo>
                    <a:pt x="1078" y="1615"/>
                  </a:lnTo>
                  <a:lnTo>
                    <a:pt x="1105" y="1556"/>
                  </a:lnTo>
                  <a:lnTo>
                    <a:pt x="1135" y="1497"/>
                  </a:lnTo>
                  <a:lnTo>
                    <a:pt x="1169" y="1440"/>
                  </a:lnTo>
                  <a:lnTo>
                    <a:pt x="1204" y="1384"/>
                  </a:lnTo>
                  <a:lnTo>
                    <a:pt x="1242" y="1330"/>
                  </a:lnTo>
                  <a:lnTo>
                    <a:pt x="1282" y="1278"/>
                  </a:lnTo>
                  <a:lnTo>
                    <a:pt x="1324" y="1228"/>
                  </a:lnTo>
                  <a:lnTo>
                    <a:pt x="1369" y="1181"/>
                  </a:lnTo>
                  <a:lnTo>
                    <a:pt x="1416" y="1136"/>
                  </a:lnTo>
                  <a:lnTo>
                    <a:pt x="1465" y="1094"/>
                  </a:lnTo>
                  <a:lnTo>
                    <a:pt x="1517" y="1055"/>
                  </a:lnTo>
                  <a:lnTo>
                    <a:pt x="1570" y="1017"/>
                  </a:lnTo>
                  <a:lnTo>
                    <a:pt x="1627" y="983"/>
                  </a:lnTo>
                  <a:lnTo>
                    <a:pt x="1687" y="953"/>
                  </a:lnTo>
                  <a:lnTo>
                    <a:pt x="1747" y="926"/>
                  </a:lnTo>
                  <a:lnTo>
                    <a:pt x="1811" y="902"/>
                  </a:lnTo>
                  <a:lnTo>
                    <a:pt x="1876" y="882"/>
                  </a:lnTo>
                  <a:lnTo>
                    <a:pt x="1944" y="866"/>
                  </a:lnTo>
                  <a:lnTo>
                    <a:pt x="2015" y="854"/>
                  </a:lnTo>
                  <a:lnTo>
                    <a:pt x="2087" y="845"/>
                  </a:lnTo>
                  <a:lnTo>
                    <a:pt x="2163" y="841"/>
                  </a:lnTo>
                  <a:lnTo>
                    <a:pt x="2240" y="842"/>
                  </a:lnTo>
                  <a:lnTo>
                    <a:pt x="2320" y="846"/>
                  </a:lnTo>
                  <a:lnTo>
                    <a:pt x="2405" y="856"/>
                  </a:lnTo>
                  <a:lnTo>
                    <a:pt x="2487" y="868"/>
                  </a:lnTo>
                  <a:lnTo>
                    <a:pt x="2565" y="883"/>
                  </a:lnTo>
                  <a:lnTo>
                    <a:pt x="2638" y="901"/>
                  </a:lnTo>
                  <a:lnTo>
                    <a:pt x="2706" y="921"/>
                  </a:lnTo>
                  <a:lnTo>
                    <a:pt x="2771" y="944"/>
                  </a:lnTo>
                  <a:lnTo>
                    <a:pt x="2832" y="969"/>
                  </a:lnTo>
                  <a:lnTo>
                    <a:pt x="2889" y="997"/>
                  </a:lnTo>
                  <a:lnTo>
                    <a:pt x="2942" y="1028"/>
                  </a:lnTo>
                  <a:lnTo>
                    <a:pt x="2993" y="1063"/>
                  </a:lnTo>
                  <a:lnTo>
                    <a:pt x="3039" y="1100"/>
                  </a:lnTo>
                  <a:lnTo>
                    <a:pt x="3081" y="1138"/>
                  </a:lnTo>
                  <a:lnTo>
                    <a:pt x="3121" y="1181"/>
                  </a:lnTo>
                  <a:lnTo>
                    <a:pt x="3158" y="1226"/>
                  </a:lnTo>
                  <a:lnTo>
                    <a:pt x="3191" y="1273"/>
                  </a:lnTo>
                  <a:lnTo>
                    <a:pt x="3222" y="1325"/>
                  </a:lnTo>
                  <a:lnTo>
                    <a:pt x="3250" y="1378"/>
                  </a:lnTo>
                  <a:lnTo>
                    <a:pt x="3275" y="1434"/>
                  </a:lnTo>
                  <a:lnTo>
                    <a:pt x="3297" y="1493"/>
                  </a:lnTo>
                  <a:lnTo>
                    <a:pt x="3317" y="1555"/>
                  </a:lnTo>
                  <a:lnTo>
                    <a:pt x="3334" y="1620"/>
                  </a:lnTo>
                  <a:lnTo>
                    <a:pt x="3349" y="1688"/>
                  </a:lnTo>
                  <a:lnTo>
                    <a:pt x="3362" y="1758"/>
                  </a:lnTo>
                  <a:lnTo>
                    <a:pt x="3373" y="1831"/>
                  </a:lnTo>
                  <a:lnTo>
                    <a:pt x="3382" y="1907"/>
                  </a:lnTo>
                  <a:lnTo>
                    <a:pt x="3389" y="1987"/>
                  </a:lnTo>
                  <a:lnTo>
                    <a:pt x="3394" y="2070"/>
                  </a:lnTo>
                  <a:lnTo>
                    <a:pt x="3399" y="2154"/>
                  </a:lnTo>
                  <a:lnTo>
                    <a:pt x="3401" y="2242"/>
                  </a:lnTo>
                  <a:lnTo>
                    <a:pt x="3402" y="2333"/>
                  </a:lnTo>
                  <a:lnTo>
                    <a:pt x="3401" y="2427"/>
                  </a:lnTo>
                  <a:lnTo>
                    <a:pt x="3399" y="2524"/>
                  </a:lnTo>
                  <a:lnTo>
                    <a:pt x="3225" y="9257"/>
                  </a:lnTo>
                  <a:lnTo>
                    <a:pt x="2555" y="10149"/>
                  </a:lnTo>
                  <a:lnTo>
                    <a:pt x="1625" y="10206"/>
                  </a:lnTo>
                  <a:lnTo>
                    <a:pt x="999" y="9293"/>
                  </a:lnTo>
                  <a:lnTo>
                    <a:pt x="990" y="8882"/>
                  </a:lnTo>
                  <a:lnTo>
                    <a:pt x="980" y="8473"/>
                  </a:lnTo>
                  <a:lnTo>
                    <a:pt x="971" y="8064"/>
                  </a:lnTo>
                  <a:lnTo>
                    <a:pt x="963" y="7654"/>
                  </a:lnTo>
                  <a:lnTo>
                    <a:pt x="953" y="7245"/>
                  </a:lnTo>
                  <a:lnTo>
                    <a:pt x="944" y="6836"/>
                  </a:lnTo>
                  <a:lnTo>
                    <a:pt x="935" y="6427"/>
                  </a:lnTo>
                  <a:lnTo>
                    <a:pt x="926" y="6016"/>
                  </a:lnTo>
                  <a:lnTo>
                    <a:pt x="917" y="5607"/>
                  </a:lnTo>
                  <a:lnTo>
                    <a:pt x="907" y="5198"/>
                  </a:lnTo>
                  <a:lnTo>
                    <a:pt x="899" y="4789"/>
                  </a:lnTo>
                  <a:lnTo>
                    <a:pt x="889" y="4379"/>
                  </a:lnTo>
                  <a:lnTo>
                    <a:pt x="880" y="3970"/>
                  </a:lnTo>
                  <a:lnTo>
                    <a:pt x="870" y="3561"/>
                  </a:lnTo>
                  <a:lnTo>
                    <a:pt x="862" y="3150"/>
                  </a:lnTo>
                  <a:lnTo>
                    <a:pt x="853" y="2741"/>
                  </a:lnTo>
                  <a:lnTo>
                    <a:pt x="799" y="2745"/>
                  </a:lnTo>
                  <a:lnTo>
                    <a:pt x="746" y="2750"/>
                  </a:lnTo>
                  <a:lnTo>
                    <a:pt x="693" y="2754"/>
                  </a:lnTo>
                  <a:lnTo>
                    <a:pt x="639" y="2758"/>
                  </a:lnTo>
                  <a:lnTo>
                    <a:pt x="586" y="2761"/>
                  </a:lnTo>
                  <a:lnTo>
                    <a:pt x="532" y="2765"/>
                  </a:lnTo>
                  <a:lnTo>
                    <a:pt x="479" y="2770"/>
                  </a:lnTo>
                  <a:lnTo>
                    <a:pt x="426" y="2774"/>
                  </a:lnTo>
                  <a:lnTo>
                    <a:pt x="372" y="2778"/>
                  </a:lnTo>
                  <a:lnTo>
                    <a:pt x="319" y="2782"/>
                  </a:lnTo>
                  <a:lnTo>
                    <a:pt x="266" y="2786"/>
                  </a:lnTo>
                  <a:lnTo>
                    <a:pt x="212" y="2790"/>
                  </a:lnTo>
                  <a:lnTo>
                    <a:pt x="159" y="2794"/>
                  </a:lnTo>
                  <a:lnTo>
                    <a:pt x="106" y="2798"/>
                  </a:lnTo>
                  <a:lnTo>
                    <a:pt x="52" y="2802"/>
                  </a:lnTo>
                  <a:lnTo>
                    <a:pt x="0" y="28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8292960" y="4886280"/>
            <a:ext cx="623520" cy="569520"/>
            <a:chOff x="8292960" y="4886280"/>
            <a:chExt cx="623520" cy="569520"/>
          </a:xfrm>
        </p:grpSpPr>
        <p:sp>
          <p:nvSpPr>
            <p:cNvPr id="17" name=""/>
            <p:cNvSpPr/>
            <p:nvPr/>
          </p:nvSpPr>
          <p:spPr>
            <a:xfrm>
              <a:off x="8605080" y="4886280"/>
              <a:ext cx="311400" cy="285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9" y="681"/>
                  </a:lnTo>
                  <a:lnTo>
                    <a:pt x="297" y="684"/>
                  </a:lnTo>
                  <a:lnTo>
                    <a:pt x="397" y="690"/>
                  </a:lnTo>
                  <a:lnTo>
                    <a:pt x="493" y="695"/>
                  </a:lnTo>
                  <a:lnTo>
                    <a:pt x="591" y="702"/>
                  </a:lnTo>
                  <a:lnTo>
                    <a:pt x="689" y="710"/>
                  </a:lnTo>
                  <a:lnTo>
                    <a:pt x="785" y="719"/>
                  </a:lnTo>
                  <a:lnTo>
                    <a:pt x="881" y="730"/>
                  </a:lnTo>
                  <a:lnTo>
                    <a:pt x="977" y="741"/>
                  </a:lnTo>
                  <a:lnTo>
                    <a:pt x="1074" y="754"/>
                  </a:lnTo>
                  <a:lnTo>
                    <a:pt x="1170" y="769"/>
                  </a:lnTo>
                  <a:lnTo>
                    <a:pt x="1264" y="784"/>
                  </a:lnTo>
                  <a:lnTo>
                    <a:pt x="1358" y="800"/>
                  </a:lnTo>
                  <a:lnTo>
                    <a:pt x="1453" y="817"/>
                  </a:lnTo>
                  <a:lnTo>
                    <a:pt x="1548" y="836"/>
                  </a:lnTo>
                  <a:lnTo>
                    <a:pt x="1641" y="857"/>
                  </a:lnTo>
                  <a:lnTo>
                    <a:pt x="1734" y="877"/>
                  </a:lnTo>
                  <a:lnTo>
                    <a:pt x="1827" y="899"/>
                  </a:lnTo>
                  <a:lnTo>
                    <a:pt x="1919" y="922"/>
                  </a:lnTo>
                  <a:lnTo>
                    <a:pt x="2010" y="947"/>
                  </a:lnTo>
                  <a:lnTo>
                    <a:pt x="2101" y="972"/>
                  </a:lnTo>
                  <a:lnTo>
                    <a:pt x="2192" y="999"/>
                  </a:lnTo>
                  <a:lnTo>
                    <a:pt x="2282" y="1026"/>
                  </a:lnTo>
                  <a:lnTo>
                    <a:pt x="2372" y="1055"/>
                  </a:lnTo>
                  <a:lnTo>
                    <a:pt x="2462" y="1085"/>
                  </a:lnTo>
                  <a:lnTo>
                    <a:pt x="2551" y="1115"/>
                  </a:lnTo>
                  <a:lnTo>
                    <a:pt x="2639" y="1148"/>
                  </a:lnTo>
                  <a:lnTo>
                    <a:pt x="2727" y="1180"/>
                  </a:lnTo>
                  <a:lnTo>
                    <a:pt x="2815" y="1215"/>
                  </a:lnTo>
                  <a:lnTo>
                    <a:pt x="2903" y="1250"/>
                  </a:lnTo>
                  <a:lnTo>
                    <a:pt x="2989" y="1285"/>
                  </a:lnTo>
                  <a:lnTo>
                    <a:pt x="3075" y="1323"/>
                  </a:lnTo>
                  <a:lnTo>
                    <a:pt x="3160" y="1361"/>
                  </a:lnTo>
                  <a:lnTo>
                    <a:pt x="3245" y="1399"/>
                  </a:lnTo>
                  <a:lnTo>
                    <a:pt x="3329" y="1440"/>
                  </a:lnTo>
                  <a:lnTo>
                    <a:pt x="3412" y="1482"/>
                  </a:lnTo>
                  <a:lnTo>
                    <a:pt x="3497" y="1522"/>
                  </a:lnTo>
                  <a:lnTo>
                    <a:pt x="3579" y="1566"/>
                  </a:lnTo>
                  <a:lnTo>
                    <a:pt x="3660" y="1609"/>
                  </a:lnTo>
                  <a:lnTo>
                    <a:pt x="3742" y="1655"/>
                  </a:lnTo>
                  <a:lnTo>
                    <a:pt x="3823" y="1700"/>
                  </a:lnTo>
                  <a:lnTo>
                    <a:pt x="3903" y="1747"/>
                  </a:lnTo>
                  <a:lnTo>
                    <a:pt x="3983" y="1796"/>
                  </a:lnTo>
                  <a:lnTo>
                    <a:pt x="4062" y="1845"/>
                  </a:lnTo>
                  <a:lnTo>
                    <a:pt x="4139" y="1894"/>
                  </a:lnTo>
                  <a:lnTo>
                    <a:pt x="4218" y="1944"/>
                  </a:lnTo>
                  <a:lnTo>
                    <a:pt x="4295" y="1996"/>
                  </a:lnTo>
                  <a:lnTo>
                    <a:pt x="4371" y="2049"/>
                  </a:lnTo>
                  <a:lnTo>
                    <a:pt x="4447" y="2101"/>
                  </a:lnTo>
                  <a:lnTo>
                    <a:pt x="4522" y="2156"/>
                  </a:lnTo>
                  <a:lnTo>
                    <a:pt x="4597" y="2210"/>
                  </a:lnTo>
                  <a:lnTo>
                    <a:pt x="4670" y="2267"/>
                  </a:lnTo>
                  <a:lnTo>
                    <a:pt x="4743" y="2324"/>
                  </a:lnTo>
                  <a:lnTo>
                    <a:pt x="4816" y="2382"/>
                  </a:lnTo>
                  <a:lnTo>
                    <a:pt x="4887" y="2439"/>
                  </a:lnTo>
                  <a:lnTo>
                    <a:pt x="4958" y="2499"/>
                  </a:lnTo>
                  <a:lnTo>
                    <a:pt x="5029" y="2558"/>
                  </a:lnTo>
                  <a:lnTo>
                    <a:pt x="5099" y="2620"/>
                  </a:lnTo>
                  <a:lnTo>
                    <a:pt x="5167" y="2682"/>
                  </a:lnTo>
                  <a:lnTo>
                    <a:pt x="5235" y="2745"/>
                  </a:lnTo>
                  <a:lnTo>
                    <a:pt x="5302" y="2807"/>
                  </a:lnTo>
                  <a:lnTo>
                    <a:pt x="5369" y="2872"/>
                  </a:lnTo>
                  <a:lnTo>
                    <a:pt x="5434" y="2937"/>
                  </a:lnTo>
                  <a:lnTo>
                    <a:pt x="5499" y="3002"/>
                  </a:lnTo>
                  <a:lnTo>
                    <a:pt x="5564" y="3069"/>
                  </a:lnTo>
                  <a:lnTo>
                    <a:pt x="5626" y="3136"/>
                  </a:lnTo>
                  <a:lnTo>
                    <a:pt x="5689" y="3204"/>
                  </a:lnTo>
                  <a:lnTo>
                    <a:pt x="5751" y="3272"/>
                  </a:lnTo>
                  <a:lnTo>
                    <a:pt x="5813" y="3342"/>
                  </a:lnTo>
                  <a:lnTo>
                    <a:pt x="5872" y="3413"/>
                  </a:lnTo>
                  <a:lnTo>
                    <a:pt x="5932" y="3484"/>
                  </a:lnTo>
                  <a:lnTo>
                    <a:pt x="5989" y="3555"/>
                  </a:lnTo>
                  <a:lnTo>
                    <a:pt x="6047" y="3628"/>
                  </a:lnTo>
                  <a:lnTo>
                    <a:pt x="6104" y="3701"/>
                  </a:lnTo>
                  <a:lnTo>
                    <a:pt x="6161" y="3774"/>
                  </a:lnTo>
                  <a:lnTo>
                    <a:pt x="6215" y="3849"/>
                  </a:lnTo>
                  <a:lnTo>
                    <a:pt x="6270" y="3924"/>
                  </a:lnTo>
                  <a:lnTo>
                    <a:pt x="6322" y="4000"/>
                  </a:lnTo>
                  <a:lnTo>
                    <a:pt x="6375" y="4076"/>
                  </a:lnTo>
                  <a:lnTo>
                    <a:pt x="6427" y="4153"/>
                  </a:lnTo>
                  <a:lnTo>
                    <a:pt x="6477" y="4232"/>
                  </a:lnTo>
                  <a:lnTo>
                    <a:pt x="6526" y="4309"/>
                  </a:lnTo>
                  <a:lnTo>
                    <a:pt x="6575" y="4388"/>
                  </a:lnTo>
                  <a:lnTo>
                    <a:pt x="6624" y="4468"/>
                  </a:lnTo>
                  <a:lnTo>
                    <a:pt x="6671" y="4548"/>
                  </a:lnTo>
                  <a:lnTo>
                    <a:pt x="6716" y="4629"/>
                  </a:lnTo>
                  <a:lnTo>
                    <a:pt x="6762" y="4711"/>
                  </a:lnTo>
                  <a:lnTo>
                    <a:pt x="6805" y="4792"/>
                  </a:lnTo>
                  <a:lnTo>
                    <a:pt x="6849" y="4874"/>
                  </a:lnTo>
                  <a:lnTo>
                    <a:pt x="6889" y="4959"/>
                  </a:lnTo>
                  <a:lnTo>
                    <a:pt x="6931" y="5042"/>
                  </a:lnTo>
                  <a:lnTo>
                    <a:pt x="6972" y="5126"/>
                  </a:lnTo>
                  <a:lnTo>
                    <a:pt x="7010" y="5211"/>
                  </a:lnTo>
                  <a:lnTo>
                    <a:pt x="7048" y="5296"/>
                  </a:lnTo>
                  <a:lnTo>
                    <a:pt x="7086" y="5382"/>
                  </a:lnTo>
                  <a:lnTo>
                    <a:pt x="7121" y="5468"/>
                  </a:lnTo>
                  <a:lnTo>
                    <a:pt x="7156" y="5556"/>
                  </a:lnTo>
                  <a:lnTo>
                    <a:pt x="7191" y="5644"/>
                  </a:lnTo>
                  <a:lnTo>
                    <a:pt x="7223" y="5732"/>
                  </a:lnTo>
                  <a:lnTo>
                    <a:pt x="7256" y="5820"/>
                  </a:lnTo>
                  <a:lnTo>
                    <a:pt x="7286" y="5909"/>
                  </a:lnTo>
                  <a:lnTo>
                    <a:pt x="7316" y="5999"/>
                  </a:lnTo>
                  <a:lnTo>
                    <a:pt x="7345" y="6089"/>
                  </a:lnTo>
                  <a:lnTo>
                    <a:pt x="7372" y="6179"/>
                  </a:lnTo>
                  <a:lnTo>
                    <a:pt x="7399" y="6270"/>
                  </a:lnTo>
                  <a:lnTo>
                    <a:pt x="7424" y="6361"/>
                  </a:lnTo>
                  <a:lnTo>
                    <a:pt x="7449" y="6452"/>
                  </a:lnTo>
                  <a:lnTo>
                    <a:pt x="7472" y="6544"/>
                  </a:lnTo>
                  <a:lnTo>
                    <a:pt x="7494" y="6637"/>
                  </a:lnTo>
                  <a:lnTo>
                    <a:pt x="7514" y="6730"/>
                  </a:lnTo>
                  <a:lnTo>
                    <a:pt x="7535" y="6823"/>
                  </a:lnTo>
                  <a:lnTo>
                    <a:pt x="7554" y="6918"/>
                  </a:lnTo>
                  <a:lnTo>
                    <a:pt x="7571" y="7013"/>
                  </a:lnTo>
                  <a:lnTo>
                    <a:pt x="7587" y="7107"/>
                  </a:lnTo>
                  <a:lnTo>
                    <a:pt x="7602" y="7201"/>
                  </a:lnTo>
                  <a:lnTo>
                    <a:pt x="7617" y="7297"/>
                  </a:lnTo>
                  <a:lnTo>
                    <a:pt x="7630" y="7394"/>
                  </a:lnTo>
                  <a:lnTo>
                    <a:pt x="7641" y="7490"/>
                  </a:lnTo>
                  <a:lnTo>
                    <a:pt x="7652" y="7586"/>
                  </a:lnTo>
                  <a:lnTo>
                    <a:pt x="7661" y="7682"/>
                  </a:lnTo>
                  <a:lnTo>
                    <a:pt x="7669" y="7780"/>
                  </a:lnTo>
                  <a:lnTo>
                    <a:pt x="7676" y="7878"/>
                  </a:lnTo>
                  <a:lnTo>
                    <a:pt x="7681" y="7974"/>
                  </a:lnTo>
                  <a:lnTo>
                    <a:pt x="7687" y="8074"/>
                  </a:lnTo>
                  <a:lnTo>
                    <a:pt x="7690" y="8172"/>
                  </a:lnTo>
                  <a:lnTo>
                    <a:pt x="7690" y="8272"/>
                  </a:lnTo>
                  <a:lnTo>
                    <a:pt x="7691" y="8371"/>
                  </a:lnTo>
                  <a:lnTo>
                    <a:pt x="8371" y="8371"/>
                  </a:lnTo>
                  <a:lnTo>
                    <a:pt x="8370" y="8263"/>
                  </a:lnTo>
                  <a:lnTo>
                    <a:pt x="8367" y="8156"/>
                  </a:lnTo>
                  <a:lnTo>
                    <a:pt x="8364" y="8050"/>
                  </a:lnTo>
                  <a:lnTo>
                    <a:pt x="8359" y="7943"/>
                  </a:lnTo>
                  <a:lnTo>
                    <a:pt x="8353" y="7835"/>
                  </a:lnTo>
                  <a:lnTo>
                    <a:pt x="8346" y="7730"/>
                  </a:lnTo>
                  <a:lnTo>
                    <a:pt x="8338" y="7624"/>
                  </a:lnTo>
                  <a:lnTo>
                    <a:pt x="8327" y="7517"/>
                  </a:lnTo>
                  <a:lnTo>
                    <a:pt x="8316" y="7413"/>
                  </a:lnTo>
                  <a:lnTo>
                    <a:pt x="8302" y="7308"/>
                  </a:lnTo>
                  <a:lnTo>
                    <a:pt x="8288" y="7204"/>
                  </a:lnTo>
                  <a:lnTo>
                    <a:pt x="8274" y="7101"/>
                  </a:lnTo>
                  <a:lnTo>
                    <a:pt x="8257" y="6996"/>
                  </a:lnTo>
                  <a:lnTo>
                    <a:pt x="8240" y="6892"/>
                  </a:lnTo>
                  <a:lnTo>
                    <a:pt x="8220" y="6791"/>
                  </a:lnTo>
                  <a:lnTo>
                    <a:pt x="8199" y="6688"/>
                  </a:lnTo>
                  <a:lnTo>
                    <a:pt x="8178" y="6587"/>
                  </a:lnTo>
                  <a:lnTo>
                    <a:pt x="8155" y="6485"/>
                  </a:lnTo>
                  <a:lnTo>
                    <a:pt x="8130" y="6385"/>
                  </a:lnTo>
                  <a:lnTo>
                    <a:pt x="8105" y="6285"/>
                  </a:lnTo>
                  <a:lnTo>
                    <a:pt x="8080" y="6183"/>
                  </a:lnTo>
                  <a:lnTo>
                    <a:pt x="8052" y="6084"/>
                  </a:lnTo>
                  <a:lnTo>
                    <a:pt x="8023" y="5985"/>
                  </a:lnTo>
                  <a:lnTo>
                    <a:pt x="7993" y="5887"/>
                  </a:lnTo>
                  <a:lnTo>
                    <a:pt x="7962" y="5789"/>
                  </a:lnTo>
                  <a:lnTo>
                    <a:pt x="7929" y="5691"/>
                  </a:lnTo>
                  <a:lnTo>
                    <a:pt x="7896" y="5594"/>
                  </a:lnTo>
                  <a:lnTo>
                    <a:pt x="7861" y="5498"/>
                  </a:lnTo>
                  <a:lnTo>
                    <a:pt x="7825" y="5402"/>
                  </a:lnTo>
                  <a:lnTo>
                    <a:pt x="7788" y="5306"/>
                  </a:lnTo>
                  <a:lnTo>
                    <a:pt x="7750" y="5213"/>
                  </a:lnTo>
                  <a:lnTo>
                    <a:pt x="7710" y="5119"/>
                  </a:lnTo>
                  <a:lnTo>
                    <a:pt x="7670" y="5025"/>
                  </a:lnTo>
                  <a:lnTo>
                    <a:pt x="7629" y="4932"/>
                  </a:lnTo>
                  <a:lnTo>
                    <a:pt x="7585" y="4839"/>
                  </a:lnTo>
                  <a:lnTo>
                    <a:pt x="7542" y="4747"/>
                  </a:lnTo>
                  <a:lnTo>
                    <a:pt x="7498" y="4656"/>
                  </a:lnTo>
                  <a:lnTo>
                    <a:pt x="7451" y="4566"/>
                  </a:lnTo>
                  <a:lnTo>
                    <a:pt x="7405" y="4476"/>
                  </a:lnTo>
                  <a:lnTo>
                    <a:pt x="7357" y="4386"/>
                  </a:lnTo>
                  <a:lnTo>
                    <a:pt x="7308" y="4297"/>
                  </a:lnTo>
                  <a:lnTo>
                    <a:pt x="7258" y="4211"/>
                  </a:lnTo>
                  <a:lnTo>
                    <a:pt x="7207" y="4123"/>
                  </a:lnTo>
                  <a:lnTo>
                    <a:pt x="7155" y="4036"/>
                  </a:lnTo>
                  <a:lnTo>
                    <a:pt x="7103" y="3950"/>
                  </a:lnTo>
                  <a:lnTo>
                    <a:pt x="7048" y="3864"/>
                  </a:lnTo>
                  <a:lnTo>
                    <a:pt x="6993" y="3781"/>
                  </a:lnTo>
                  <a:lnTo>
                    <a:pt x="6937" y="3696"/>
                  </a:lnTo>
                  <a:lnTo>
                    <a:pt x="6880" y="3612"/>
                  </a:lnTo>
                  <a:lnTo>
                    <a:pt x="6822" y="3530"/>
                  </a:lnTo>
                  <a:lnTo>
                    <a:pt x="6763" y="3450"/>
                  </a:lnTo>
                  <a:lnTo>
                    <a:pt x="6703" y="3368"/>
                  </a:lnTo>
                  <a:lnTo>
                    <a:pt x="6643" y="3287"/>
                  </a:lnTo>
                  <a:lnTo>
                    <a:pt x="6581" y="3208"/>
                  </a:lnTo>
                  <a:lnTo>
                    <a:pt x="6518" y="3130"/>
                  </a:lnTo>
                  <a:lnTo>
                    <a:pt x="6455" y="3051"/>
                  </a:lnTo>
                  <a:lnTo>
                    <a:pt x="6390" y="2975"/>
                  </a:lnTo>
                  <a:lnTo>
                    <a:pt x="6324" y="2898"/>
                  </a:lnTo>
                  <a:lnTo>
                    <a:pt x="6258" y="2823"/>
                  </a:lnTo>
                  <a:lnTo>
                    <a:pt x="6191" y="2748"/>
                  </a:lnTo>
                  <a:lnTo>
                    <a:pt x="6123" y="2675"/>
                  </a:lnTo>
                  <a:lnTo>
                    <a:pt x="6054" y="2601"/>
                  </a:lnTo>
                  <a:lnTo>
                    <a:pt x="5985" y="2529"/>
                  </a:lnTo>
                  <a:lnTo>
                    <a:pt x="5914" y="2457"/>
                  </a:lnTo>
                  <a:lnTo>
                    <a:pt x="5842" y="2386"/>
                  </a:lnTo>
                  <a:lnTo>
                    <a:pt x="5770" y="2317"/>
                  </a:lnTo>
                  <a:lnTo>
                    <a:pt x="5696" y="2248"/>
                  </a:lnTo>
                  <a:lnTo>
                    <a:pt x="5623" y="2180"/>
                  </a:lnTo>
                  <a:lnTo>
                    <a:pt x="5548" y="2113"/>
                  </a:lnTo>
                  <a:lnTo>
                    <a:pt x="5473" y="2047"/>
                  </a:lnTo>
                  <a:lnTo>
                    <a:pt x="5396" y="1981"/>
                  </a:lnTo>
                  <a:lnTo>
                    <a:pt x="5320" y="1916"/>
                  </a:lnTo>
                  <a:lnTo>
                    <a:pt x="5241" y="1853"/>
                  </a:lnTo>
                  <a:lnTo>
                    <a:pt x="5163" y="1790"/>
                  </a:lnTo>
                  <a:lnTo>
                    <a:pt x="5084" y="1728"/>
                  </a:lnTo>
                  <a:lnTo>
                    <a:pt x="5003" y="1668"/>
                  </a:lnTo>
                  <a:lnTo>
                    <a:pt x="4921" y="1608"/>
                  </a:lnTo>
                  <a:lnTo>
                    <a:pt x="4841" y="1549"/>
                  </a:lnTo>
                  <a:lnTo>
                    <a:pt x="4759" y="1491"/>
                  </a:lnTo>
                  <a:lnTo>
                    <a:pt x="4675" y="1434"/>
                  </a:lnTo>
                  <a:lnTo>
                    <a:pt x="4590" y="1378"/>
                  </a:lnTo>
                  <a:lnTo>
                    <a:pt x="4507" y="1323"/>
                  </a:lnTo>
                  <a:lnTo>
                    <a:pt x="4421" y="1268"/>
                  </a:lnTo>
                  <a:lnTo>
                    <a:pt x="4335" y="1216"/>
                  </a:lnTo>
                  <a:lnTo>
                    <a:pt x="4248" y="1164"/>
                  </a:lnTo>
                  <a:lnTo>
                    <a:pt x="4160" y="1113"/>
                  </a:lnTo>
                  <a:lnTo>
                    <a:pt x="4074" y="1063"/>
                  </a:lnTo>
                  <a:lnTo>
                    <a:pt x="3985" y="1014"/>
                  </a:lnTo>
                  <a:lnTo>
                    <a:pt x="3895" y="966"/>
                  </a:lnTo>
                  <a:lnTo>
                    <a:pt x="3805" y="920"/>
                  </a:lnTo>
                  <a:lnTo>
                    <a:pt x="3715" y="873"/>
                  </a:lnTo>
                  <a:lnTo>
                    <a:pt x="3624" y="829"/>
                  </a:lnTo>
                  <a:lnTo>
                    <a:pt x="3532" y="786"/>
                  </a:lnTo>
                  <a:lnTo>
                    <a:pt x="3439" y="742"/>
                  </a:lnTo>
                  <a:lnTo>
                    <a:pt x="3346" y="701"/>
                  </a:lnTo>
                  <a:lnTo>
                    <a:pt x="3252" y="661"/>
                  </a:lnTo>
                  <a:lnTo>
                    <a:pt x="3158" y="621"/>
                  </a:lnTo>
                  <a:lnTo>
                    <a:pt x="3065" y="583"/>
                  </a:lnTo>
                  <a:lnTo>
                    <a:pt x="2969" y="546"/>
                  </a:lnTo>
                  <a:lnTo>
                    <a:pt x="2873" y="510"/>
                  </a:lnTo>
                  <a:lnTo>
                    <a:pt x="2777" y="475"/>
                  </a:lnTo>
                  <a:lnTo>
                    <a:pt x="2680" y="442"/>
                  </a:lnTo>
                  <a:lnTo>
                    <a:pt x="2582" y="409"/>
                  </a:lnTo>
                  <a:lnTo>
                    <a:pt x="2484" y="378"/>
                  </a:lnTo>
                  <a:lnTo>
                    <a:pt x="2386" y="348"/>
                  </a:lnTo>
                  <a:lnTo>
                    <a:pt x="2287" y="319"/>
                  </a:lnTo>
                  <a:lnTo>
                    <a:pt x="2188" y="291"/>
                  </a:lnTo>
                  <a:lnTo>
                    <a:pt x="2086" y="266"/>
                  </a:lnTo>
                  <a:lnTo>
                    <a:pt x="1986" y="241"/>
                  </a:lnTo>
                  <a:lnTo>
                    <a:pt x="1886" y="216"/>
                  </a:lnTo>
                  <a:lnTo>
                    <a:pt x="1784" y="193"/>
                  </a:lnTo>
                  <a:lnTo>
                    <a:pt x="1683" y="172"/>
                  </a:lnTo>
                  <a:lnTo>
                    <a:pt x="1580" y="151"/>
                  </a:lnTo>
                  <a:lnTo>
                    <a:pt x="1479" y="131"/>
                  </a:lnTo>
                  <a:lnTo>
                    <a:pt x="1375" y="114"/>
                  </a:lnTo>
                  <a:lnTo>
                    <a:pt x="1270" y="97"/>
                  </a:lnTo>
                  <a:lnTo>
                    <a:pt x="1167" y="83"/>
                  </a:lnTo>
                  <a:lnTo>
                    <a:pt x="1063" y="69"/>
                  </a:lnTo>
                  <a:lnTo>
                    <a:pt x="958" y="55"/>
                  </a:lnTo>
                  <a:lnTo>
                    <a:pt x="854" y="44"/>
                  </a:lnTo>
                  <a:lnTo>
                    <a:pt x="747" y="33"/>
                  </a:lnTo>
                  <a:lnTo>
                    <a:pt x="641" y="25"/>
                  </a:lnTo>
                  <a:lnTo>
                    <a:pt x="536" y="18"/>
                  </a:lnTo>
                  <a:lnTo>
                    <a:pt x="428" y="12"/>
                  </a:lnTo>
                  <a:lnTo>
                    <a:pt x="321" y="7"/>
                  </a:lnTo>
                  <a:lnTo>
                    <a:pt x="215" y="4"/>
                  </a:lnTo>
                  <a:lnTo>
                    <a:pt x="10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92960" y="4886280"/>
              <a:ext cx="312120" cy="285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680" y="8371"/>
                  </a:moveTo>
                  <a:lnTo>
                    <a:pt x="680" y="8371"/>
                  </a:lnTo>
                  <a:lnTo>
                    <a:pt x="680" y="8272"/>
                  </a:lnTo>
                  <a:lnTo>
                    <a:pt x="681" y="8172"/>
                  </a:lnTo>
                  <a:lnTo>
                    <a:pt x="684" y="8074"/>
                  </a:lnTo>
                  <a:lnTo>
                    <a:pt x="690" y="7974"/>
                  </a:lnTo>
                  <a:lnTo>
                    <a:pt x="695" y="7878"/>
                  </a:lnTo>
                  <a:lnTo>
                    <a:pt x="702" y="7780"/>
                  </a:lnTo>
                  <a:lnTo>
                    <a:pt x="710" y="7682"/>
                  </a:lnTo>
                  <a:lnTo>
                    <a:pt x="719" y="7585"/>
                  </a:lnTo>
                  <a:lnTo>
                    <a:pt x="729" y="7490"/>
                  </a:lnTo>
                  <a:lnTo>
                    <a:pt x="741" y="7394"/>
                  </a:lnTo>
                  <a:lnTo>
                    <a:pt x="754" y="7297"/>
                  </a:lnTo>
                  <a:lnTo>
                    <a:pt x="769" y="7201"/>
                  </a:lnTo>
                  <a:lnTo>
                    <a:pt x="783" y="7106"/>
                  </a:lnTo>
                  <a:lnTo>
                    <a:pt x="799" y="7013"/>
                  </a:lnTo>
                  <a:lnTo>
                    <a:pt x="817" y="6918"/>
                  </a:lnTo>
                  <a:lnTo>
                    <a:pt x="836" y="6823"/>
                  </a:lnTo>
                  <a:lnTo>
                    <a:pt x="856" y="6730"/>
                  </a:lnTo>
                  <a:lnTo>
                    <a:pt x="877" y="6637"/>
                  </a:lnTo>
                  <a:lnTo>
                    <a:pt x="899" y="6544"/>
                  </a:lnTo>
                  <a:lnTo>
                    <a:pt x="922" y="6452"/>
                  </a:lnTo>
                  <a:lnTo>
                    <a:pt x="947" y="6361"/>
                  </a:lnTo>
                  <a:lnTo>
                    <a:pt x="972" y="6270"/>
                  </a:lnTo>
                  <a:lnTo>
                    <a:pt x="998" y="6179"/>
                  </a:lnTo>
                  <a:lnTo>
                    <a:pt x="1026" y="6089"/>
                  </a:lnTo>
                  <a:lnTo>
                    <a:pt x="1055" y="5999"/>
                  </a:lnTo>
                  <a:lnTo>
                    <a:pt x="1084" y="5909"/>
                  </a:lnTo>
                  <a:lnTo>
                    <a:pt x="1115" y="5820"/>
                  </a:lnTo>
                  <a:lnTo>
                    <a:pt x="1147" y="5732"/>
                  </a:lnTo>
                  <a:lnTo>
                    <a:pt x="1180" y="5644"/>
                  </a:lnTo>
                  <a:lnTo>
                    <a:pt x="1215" y="5556"/>
                  </a:lnTo>
                  <a:lnTo>
                    <a:pt x="1248" y="5469"/>
                  </a:lnTo>
                  <a:lnTo>
                    <a:pt x="1285" y="5382"/>
                  </a:lnTo>
                  <a:lnTo>
                    <a:pt x="1323" y="5296"/>
                  </a:lnTo>
                  <a:lnTo>
                    <a:pt x="1360" y="5211"/>
                  </a:lnTo>
                  <a:lnTo>
                    <a:pt x="1399" y="5126"/>
                  </a:lnTo>
                  <a:lnTo>
                    <a:pt x="1439" y="5042"/>
                  </a:lnTo>
                  <a:lnTo>
                    <a:pt x="1481" y="4959"/>
                  </a:lnTo>
                  <a:lnTo>
                    <a:pt x="1522" y="4874"/>
                  </a:lnTo>
                  <a:lnTo>
                    <a:pt x="1565" y="4792"/>
                  </a:lnTo>
                  <a:lnTo>
                    <a:pt x="1609" y="4711"/>
                  </a:lnTo>
                  <a:lnTo>
                    <a:pt x="1654" y="4629"/>
                  </a:lnTo>
                  <a:lnTo>
                    <a:pt x="1700" y="4548"/>
                  </a:lnTo>
                  <a:lnTo>
                    <a:pt x="1747" y="4468"/>
                  </a:lnTo>
                  <a:lnTo>
                    <a:pt x="1795" y="4388"/>
                  </a:lnTo>
                  <a:lnTo>
                    <a:pt x="1845" y="4309"/>
                  </a:lnTo>
                  <a:lnTo>
                    <a:pt x="1894" y="4232"/>
                  </a:lnTo>
                  <a:lnTo>
                    <a:pt x="1944" y="4153"/>
                  </a:lnTo>
                  <a:lnTo>
                    <a:pt x="1996" y="4076"/>
                  </a:lnTo>
                  <a:lnTo>
                    <a:pt x="2048" y="3999"/>
                  </a:lnTo>
                  <a:lnTo>
                    <a:pt x="2101" y="3924"/>
                  </a:lnTo>
                  <a:lnTo>
                    <a:pt x="2154" y="3849"/>
                  </a:lnTo>
                  <a:lnTo>
                    <a:pt x="2210" y="3774"/>
                  </a:lnTo>
                  <a:lnTo>
                    <a:pt x="2266" y="3700"/>
                  </a:lnTo>
                  <a:lnTo>
                    <a:pt x="2323" y="3628"/>
                  </a:lnTo>
                  <a:lnTo>
                    <a:pt x="2381" y="3555"/>
                  </a:lnTo>
                  <a:lnTo>
                    <a:pt x="2439" y="3484"/>
                  </a:lnTo>
                  <a:lnTo>
                    <a:pt x="2499" y="3413"/>
                  </a:lnTo>
                  <a:lnTo>
                    <a:pt x="2558" y="3342"/>
                  </a:lnTo>
                  <a:lnTo>
                    <a:pt x="2619" y="3272"/>
                  </a:lnTo>
                  <a:lnTo>
                    <a:pt x="2682" y="3204"/>
                  </a:lnTo>
                  <a:lnTo>
                    <a:pt x="2744" y="3136"/>
                  </a:lnTo>
                  <a:lnTo>
                    <a:pt x="2807" y="3069"/>
                  </a:lnTo>
                  <a:lnTo>
                    <a:pt x="2872" y="3002"/>
                  </a:lnTo>
                  <a:lnTo>
                    <a:pt x="2937" y="2937"/>
                  </a:lnTo>
                  <a:lnTo>
                    <a:pt x="3002" y="2872"/>
                  </a:lnTo>
                  <a:lnTo>
                    <a:pt x="3068" y="2807"/>
                  </a:lnTo>
                  <a:lnTo>
                    <a:pt x="3136" y="2745"/>
                  </a:lnTo>
                  <a:lnTo>
                    <a:pt x="3204" y="2682"/>
                  </a:lnTo>
                  <a:lnTo>
                    <a:pt x="3273" y="2620"/>
                  </a:lnTo>
                  <a:lnTo>
                    <a:pt x="3342" y="2558"/>
                  </a:lnTo>
                  <a:lnTo>
                    <a:pt x="3412" y="2499"/>
                  </a:lnTo>
                  <a:lnTo>
                    <a:pt x="3484" y="2439"/>
                  </a:lnTo>
                  <a:lnTo>
                    <a:pt x="3555" y="2382"/>
                  </a:lnTo>
                  <a:lnTo>
                    <a:pt x="3628" y="2324"/>
                  </a:lnTo>
                  <a:lnTo>
                    <a:pt x="3700" y="2267"/>
                  </a:lnTo>
                  <a:lnTo>
                    <a:pt x="3774" y="2210"/>
                  </a:lnTo>
                  <a:lnTo>
                    <a:pt x="3848" y="2156"/>
                  </a:lnTo>
                  <a:lnTo>
                    <a:pt x="3924" y="2101"/>
                  </a:lnTo>
                  <a:lnTo>
                    <a:pt x="3998" y="2049"/>
                  </a:lnTo>
                  <a:lnTo>
                    <a:pt x="4076" y="1996"/>
                  </a:lnTo>
                  <a:lnTo>
                    <a:pt x="4152" y="1944"/>
                  </a:lnTo>
                  <a:lnTo>
                    <a:pt x="4230" y="1894"/>
                  </a:lnTo>
                  <a:lnTo>
                    <a:pt x="4309" y="1845"/>
                  </a:lnTo>
                  <a:lnTo>
                    <a:pt x="4388" y="1796"/>
                  </a:lnTo>
                  <a:lnTo>
                    <a:pt x="4468" y="1747"/>
                  </a:lnTo>
                  <a:lnTo>
                    <a:pt x="4548" y="1700"/>
                  </a:lnTo>
                  <a:lnTo>
                    <a:pt x="4629" y="1655"/>
                  </a:lnTo>
                  <a:lnTo>
                    <a:pt x="4710" y="1609"/>
                  </a:lnTo>
                  <a:lnTo>
                    <a:pt x="4791" y="1566"/>
                  </a:lnTo>
                  <a:lnTo>
                    <a:pt x="4874" y="1522"/>
                  </a:lnTo>
                  <a:lnTo>
                    <a:pt x="4958" y="1482"/>
                  </a:lnTo>
                  <a:lnTo>
                    <a:pt x="5041" y="1440"/>
                  </a:lnTo>
                  <a:lnTo>
                    <a:pt x="5126" y="1399"/>
                  </a:lnTo>
                  <a:lnTo>
                    <a:pt x="5210" y="1361"/>
                  </a:lnTo>
                  <a:lnTo>
                    <a:pt x="5296" y="1323"/>
                  </a:lnTo>
                  <a:lnTo>
                    <a:pt x="5382" y="1285"/>
                  </a:lnTo>
                  <a:lnTo>
                    <a:pt x="5469" y="1248"/>
                  </a:lnTo>
                  <a:lnTo>
                    <a:pt x="5556" y="1215"/>
                  </a:lnTo>
                  <a:lnTo>
                    <a:pt x="5643" y="1180"/>
                  </a:lnTo>
                  <a:lnTo>
                    <a:pt x="5731" y="1148"/>
                  </a:lnTo>
                  <a:lnTo>
                    <a:pt x="5820" y="1115"/>
                  </a:lnTo>
                  <a:lnTo>
                    <a:pt x="5909" y="1085"/>
                  </a:lnTo>
                  <a:lnTo>
                    <a:pt x="5998" y="1055"/>
                  </a:lnTo>
                  <a:lnTo>
                    <a:pt x="6088" y="1026"/>
                  </a:lnTo>
                  <a:lnTo>
                    <a:pt x="6179" y="999"/>
                  </a:lnTo>
                  <a:lnTo>
                    <a:pt x="6270" y="972"/>
                  </a:lnTo>
                  <a:lnTo>
                    <a:pt x="6361" y="947"/>
                  </a:lnTo>
                  <a:lnTo>
                    <a:pt x="6452" y="922"/>
                  </a:lnTo>
                  <a:lnTo>
                    <a:pt x="6544" y="899"/>
                  </a:lnTo>
                  <a:lnTo>
                    <a:pt x="6636" y="877"/>
                  </a:lnTo>
                  <a:lnTo>
                    <a:pt x="6730" y="857"/>
                  </a:lnTo>
                  <a:lnTo>
                    <a:pt x="6823" y="836"/>
                  </a:lnTo>
                  <a:lnTo>
                    <a:pt x="6918" y="817"/>
                  </a:lnTo>
                  <a:lnTo>
                    <a:pt x="7012" y="800"/>
                  </a:lnTo>
                  <a:lnTo>
                    <a:pt x="7107" y="784"/>
                  </a:lnTo>
                  <a:lnTo>
                    <a:pt x="7201" y="769"/>
                  </a:lnTo>
                  <a:lnTo>
                    <a:pt x="7296" y="754"/>
                  </a:lnTo>
                  <a:lnTo>
                    <a:pt x="7393" y="741"/>
                  </a:lnTo>
                  <a:lnTo>
                    <a:pt x="7489" y="730"/>
                  </a:lnTo>
                  <a:lnTo>
                    <a:pt x="7586" y="719"/>
                  </a:lnTo>
                  <a:lnTo>
                    <a:pt x="7682" y="710"/>
                  </a:lnTo>
                  <a:lnTo>
                    <a:pt x="7780" y="702"/>
                  </a:lnTo>
                  <a:lnTo>
                    <a:pt x="7878" y="695"/>
                  </a:lnTo>
                  <a:lnTo>
                    <a:pt x="7974" y="690"/>
                  </a:lnTo>
                  <a:lnTo>
                    <a:pt x="8073" y="684"/>
                  </a:lnTo>
                  <a:lnTo>
                    <a:pt x="8172" y="681"/>
                  </a:lnTo>
                  <a:lnTo>
                    <a:pt x="8272" y="681"/>
                  </a:lnTo>
                  <a:lnTo>
                    <a:pt x="8371" y="680"/>
                  </a:lnTo>
                  <a:lnTo>
                    <a:pt x="8371" y="0"/>
                  </a:lnTo>
                  <a:lnTo>
                    <a:pt x="8263" y="1"/>
                  </a:lnTo>
                  <a:lnTo>
                    <a:pt x="8156" y="4"/>
                  </a:lnTo>
                  <a:lnTo>
                    <a:pt x="8050" y="7"/>
                  </a:lnTo>
                  <a:lnTo>
                    <a:pt x="7943" y="12"/>
                  </a:lnTo>
                  <a:lnTo>
                    <a:pt x="7835" y="18"/>
                  </a:lnTo>
                  <a:lnTo>
                    <a:pt x="7730" y="25"/>
                  </a:lnTo>
                  <a:lnTo>
                    <a:pt x="7624" y="33"/>
                  </a:lnTo>
                  <a:lnTo>
                    <a:pt x="7517" y="44"/>
                  </a:lnTo>
                  <a:lnTo>
                    <a:pt x="7413" y="55"/>
                  </a:lnTo>
                  <a:lnTo>
                    <a:pt x="7308" y="69"/>
                  </a:lnTo>
                  <a:lnTo>
                    <a:pt x="7204" y="83"/>
                  </a:lnTo>
                  <a:lnTo>
                    <a:pt x="7100" y="97"/>
                  </a:lnTo>
                  <a:lnTo>
                    <a:pt x="6995" y="114"/>
                  </a:lnTo>
                  <a:lnTo>
                    <a:pt x="6892" y="131"/>
                  </a:lnTo>
                  <a:lnTo>
                    <a:pt x="6790" y="151"/>
                  </a:lnTo>
                  <a:lnTo>
                    <a:pt x="6688" y="172"/>
                  </a:lnTo>
                  <a:lnTo>
                    <a:pt x="6587" y="193"/>
                  </a:lnTo>
                  <a:lnTo>
                    <a:pt x="6485" y="216"/>
                  </a:lnTo>
                  <a:lnTo>
                    <a:pt x="6384" y="241"/>
                  </a:lnTo>
                  <a:lnTo>
                    <a:pt x="6285" y="266"/>
                  </a:lnTo>
                  <a:lnTo>
                    <a:pt x="6183" y="291"/>
                  </a:lnTo>
                  <a:lnTo>
                    <a:pt x="6084" y="319"/>
                  </a:lnTo>
                  <a:lnTo>
                    <a:pt x="5984" y="348"/>
                  </a:lnTo>
                  <a:lnTo>
                    <a:pt x="5886" y="378"/>
                  </a:lnTo>
                  <a:lnTo>
                    <a:pt x="5789" y="409"/>
                  </a:lnTo>
                  <a:lnTo>
                    <a:pt x="5691" y="442"/>
                  </a:lnTo>
                  <a:lnTo>
                    <a:pt x="5594" y="475"/>
                  </a:lnTo>
                  <a:lnTo>
                    <a:pt x="5498" y="510"/>
                  </a:lnTo>
                  <a:lnTo>
                    <a:pt x="5401" y="546"/>
                  </a:lnTo>
                  <a:lnTo>
                    <a:pt x="5306" y="583"/>
                  </a:lnTo>
                  <a:lnTo>
                    <a:pt x="5211" y="622"/>
                  </a:lnTo>
                  <a:lnTo>
                    <a:pt x="5119" y="661"/>
                  </a:lnTo>
                  <a:lnTo>
                    <a:pt x="5025" y="701"/>
                  </a:lnTo>
                  <a:lnTo>
                    <a:pt x="4932" y="742"/>
                  </a:lnTo>
                  <a:lnTo>
                    <a:pt x="4838" y="786"/>
                  </a:lnTo>
                  <a:lnTo>
                    <a:pt x="4747" y="829"/>
                  </a:lnTo>
                  <a:lnTo>
                    <a:pt x="4655" y="873"/>
                  </a:lnTo>
                  <a:lnTo>
                    <a:pt x="4566" y="920"/>
                  </a:lnTo>
                  <a:lnTo>
                    <a:pt x="4475" y="966"/>
                  </a:lnTo>
                  <a:lnTo>
                    <a:pt x="4386" y="1014"/>
                  </a:lnTo>
                  <a:lnTo>
                    <a:pt x="4297" y="1063"/>
                  </a:lnTo>
                  <a:lnTo>
                    <a:pt x="4210" y="1113"/>
                  </a:lnTo>
                  <a:lnTo>
                    <a:pt x="4123" y="1164"/>
                  </a:lnTo>
                  <a:lnTo>
                    <a:pt x="4035" y="1216"/>
                  </a:lnTo>
                  <a:lnTo>
                    <a:pt x="3950" y="1268"/>
                  </a:lnTo>
                  <a:lnTo>
                    <a:pt x="3864" y="1323"/>
                  </a:lnTo>
                  <a:lnTo>
                    <a:pt x="3781" y="1378"/>
                  </a:lnTo>
                  <a:lnTo>
                    <a:pt x="3696" y="1434"/>
                  </a:lnTo>
                  <a:lnTo>
                    <a:pt x="3613" y="1491"/>
                  </a:lnTo>
                  <a:lnTo>
                    <a:pt x="3530" y="1549"/>
                  </a:lnTo>
                  <a:lnTo>
                    <a:pt x="3450" y="1608"/>
                  </a:lnTo>
                  <a:lnTo>
                    <a:pt x="3368" y="1668"/>
                  </a:lnTo>
                  <a:lnTo>
                    <a:pt x="3288" y="1728"/>
                  </a:lnTo>
                  <a:lnTo>
                    <a:pt x="3208" y="1790"/>
                  </a:lnTo>
                  <a:lnTo>
                    <a:pt x="3130" y="1853"/>
                  </a:lnTo>
                  <a:lnTo>
                    <a:pt x="3051" y="1916"/>
                  </a:lnTo>
                  <a:lnTo>
                    <a:pt x="2974" y="1981"/>
                  </a:lnTo>
                  <a:lnTo>
                    <a:pt x="2898" y="2047"/>
                  </a:lnTo>
                  <a:lnTo>
                    <a:pt x="2822" y="2113"/>
                  </a:lnTo>
                  <a:lnTo>
                    <a:pt x="2748" y="2180"/>
                  </a:lnTo>
                  <a:lnTo>
                    <a:pt x="2673" y="2248"/>
                  </a:lnTo>
                  <a:lnTo>
                    <a:pt x="2601" y="2317"/>
                  </a:lnTo>
                  <a:lnTo>
                    <a:pt x="2529" y="2386"/>
                  </a:lnTo>
                  <a:lnTo>
                    <a:pt x="2457" y="2457"/>
                  </a:lnTo>
                  <a:lnTo>
                    <a:pt x="2386" y="2529"/>
                  </a:lnTo>
                  <a:lnTo>
                    <a:pt x="2317" y="2601"/>
                  </a:lnTo>
                  <a:lnTo>
                    <a:pt x="2248" y="2675"/>
                  </a:lnTo>
                  <a:lnTo>
                    <a:pt x="2180" y="2748"/>
                  </a:lnTo>
                  <a:lnTo>
                    <a:pt x="2113" y="2823"/>
                  </a:lnTo>
                  <a:lnTo>
                    <a:pt x="2046" y="2898"/>
                  </a:lnTo>
                  <a:lnTo>
                    <a:pt x="1981" y="2975"/>
                  </a:lnTo>
                  <a:lnTo>
                    <a:pt x="1916" y="3051"/>
                  </a:lnTo>
                  <a:lnTo>
                    <a:pt x="1852" y="3130"/>
                  </a:lnTo>
                  <a:lnTo>
                    <a:pt x="1789" y="3208"/>
                  </a:lnTo>
                  <a:lnTo>
                    <a:pt x="1728" y="3289"/>
                  </a:lnTo>
                  <a:lnTo>
                    <a:pt x="1668" y="3368"/>
                  </a:lnTo>
                  <a:lnTo>
                    <a:pt x="1608" y="3450"/>
                  </a:lnTo>
                  <a:lnTo>
                    <a:pt x="1549" y="3530"/>
                  </a:lnTo>
                  <a:lnTo>
                    <a:pt x="1490" y="3614"/>
                  </a:lnTo>
                  <a:lnTo>
                    <a:pt x="1434" y="3696"/>
                  </a:lnTo>
                  <a:lnTo>
                    <a:pt x="1378" y="3781"/>
                  </a:lnTo>
                  <a:lnTo>
                    <a:pt x="1323" y="3864"/>
                  </a:lnTo>
                  <a:lnTo>
                    <a:pt x="1268" y="3950"/>
                  </a:lnTo>
                  <a:lnTo>
                    <a:pt x="1216" y="4036"/>
                  </a:lnTo>
                  <a:lnTo>
                    <a:pt x="1164" y="4123"/>
                  </a:lnTo>
                  <a:lnTo>
                    <a:pt x="1113" y="4211"/>
                  </a:lnTo>
                  <a:lnTo>
                    <a:pt x="1062" y="4297"/>
                  </a:lnTo>
                  <a:lnTo>
                    <a:pt x="1014" y="4386"/>
                  </a:lnTo>
                  <a:lnTo>
                    <a:pt x="966" y="4476"/>
                  </a:lnTo>
                  <a:lnTo>
                    <a:pt x="919" y="4566"/>
                  </a:lnTo>
                  <a:lnTo>
                    <a:pt x="873" y="4656"/>
                  </a:lnTo>
                  <a:lnTo>
                    <a:pt x="829" y="4747"/>
                  </a:lnTo>
                  <a:lnTo>
                    <a:pt x="785" y="4839"/>
                  </a:lnTo>
                  <a:lnTo>
                    <a:pt x="742" y="4932"/>
                  </a:lnTo>
                  <a:lnTo>
                    <a:pt x="701" y="5025"/>
                  </a:lnTo>
                  <a:lnTo>
                    <a:pt x="660" y="5119"/>
                  </a:lnTo>
                  <a:lnTo>
                    <a:pt x="622" y="5212"/>
                  </a:lnTo>
                  <a:lnTo>
                    <a:pt x="583" y="5306"/>
                  </a:lnTo>
                  <a:lnTo>
                    <a:pt x="545" y="5402"/>
                  </a:lnTo>
                  <a:lnTo>
                    <a:pt x="510" y="5498"/>
                  </a:lnTo>
                  <a:lnTo>
                    <a:pt x="475" y="5594"/>
                  </a:lnTo>
                  <a:lnTo>
                    <a:pt x="442" y="5691"/>
                  </a:lnTo>
                  <a:lnTo>
                    <a:pt x="409" y="5789"/>
                  </a:lnTo>
                  <a:lnTo>
                    <a:pt x="378" y="5887"/>
                  </a:lnTo>
                  <a:lnTo>
                    <a:pt x="347" y="5985"/>
                  </a:lnTo>
                  <a:lnTo>
                    <a:pt x="319" y="6084"/>
                  </a:lnTo>
                  <a:lnTo>
                    <a:pt x="291" y="6183"/>
                  </a:lnTo>
                  <a:lnTo>
                    <a:pt x="266" y="6285"/>
                  </a:lnTo>
                  <a:lnTo>
                    <a:pt x="240" y="6385"/>
                  </a:lnTo>
                  <a:lnTo>
                    <a:pt x="216" y="6485"/>
                  </a:lnTo>
                  <a:lnTo>
                    <a:pt x="193" y="6587"/>
                  </a:lnTo>
                  <a:lnTo>
                    <a:pt x="172" y="6688"/>
                  </a:lnTo>
                  <a:lnTo>
                    <a:pt x="151" y="6791"/>
                  </a:lnTo>
                  <a:lnTo>
                    <a:pt x="132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2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2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80" y="837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292960" y="5171400"/>
              <a:ext cx="312120" cy="2844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8371" y="7691"/>
                  </a:moveTo>
                  <a:lnTo>
                    <a:pt x="8371" y="7691"/>
                  </a:lnTo>
                  <a:lnTo>
                    <a:pt x="8272" y="7691"/>
                  </a:lnTo>
                  <a:lnTo>
                    <a:pt x="8172" y="7690"/>
                  </a:lnTo>
                  <a:lnTo>
                    <a:pt x="8073" y="7687"/>
                  </a:lnTo>
                  <a:lnTo>
                    <a:pt x="7974" y="7681"/>
                  </a:lnTo>
                  <a:lnTo>
                    <a:pt x="7878" y="7676"/>
                  </a:lnTo>
                  <a:lnTo>
                    <a:pt x="7780" y="7669"/>
                  </a:lnTo>
                  <a:lnTo>
                    <a:pt x="7682" y="7661"/>
                  </a:lnTo>
                  <a:lnTo>
                    <a:pt x="7585" y="7652"/>
                  </a:lnTo>
                  <a:lnTo>
                    <a:pt x="7489" y="7642"/>
                  </a:lnTo>
                  <a:lnTo>
                    <a:pt x="7393" y="7630"/>
                  </a:lnTo>
                  <a:lnTo>
                    <a:pt x="7296" y="7617"/>
                  </a:lnTo>
                  <a:lnTo>
                    <a:pt x="7201" y="7602"/>
                  </a:lnTo>
                  <a:lnTo>
                    <a:pt x="7106" y="7588"/>
                  </a:lnTo>
                  <a:lnTo>
                    <a:pt x="7012" y="7572"/>
                  </a:lnTo>
                  <a:lnTo>
                    <a:pt x="6918" y="7554"/>
                  </a:lnTo>
                  <a:lnTo>
                    <a:pt x="6823" y="7535"/>
                  </a:lnTo>
                  <a:lnTo>
                    <a:pt x="6730" y="7515"/>
                  </a:lnTo>
                  <a:lnTo>
                    <a:pt x="6636" y="7494"/>
                  </a:lnTo>
                  <a:lnTo>
                    <a:pt x="6544" y="7472"/>
                  </a:lnTo>
                  <a:lnTo>
                    <a:pt x="6452" y="7449"/>
                  </a:lnTo>
                  <a:lnTo>
                    <a:pt x="6361" y="7424"/>
                  </a:lnTo>
                  <a:lnTo>
                    <a:pt x="6270" y="7399"/>
                  </a:lnTo>
                  <a:lnTo>
                    <a:pt x="6179" y="7373"/>
                  </a:lnTo>
                  <a:lnTo>
                    <a:pt x="6088" y="7345"/>
                  </a:lnTo>
                  <a:lnTo>
                    <a:pt x="5998" y="7316"/>
                  </a:lnTo>
                  <a:lnTo>
                    <a:pt x="5909" y="7287"/>
                  </a:lnTo>
                  <a:lnTo>
                    <a:pt x="5820" y="7256"/>
                  </a:lnTo>
                  <a:lnTo>
                    <a:pt x="5731" y="7224"/>
                  </a:lnTo>
                  <a:lnTo>
                    <a:pt x="5643" y="7191"/>
                  </a:lnTo>
                  <a:lnTo>
                    <a:pt x="5556" y="7156"/>
                  </a:lnTo>
                  <a:lnTo>
                    <a:pt x="5469" y="7123"/>
                  </a:lnTo>
                  <a:lnTo>
                    <a:pt x="5382" y="7086"/>
                  </a:lnTo>
                  <a:lnTo>
                    <a:pt x="5296" y="7048"/>
                  </a:lnTo>
                  <a:lnTo>
                    <a:pt x="5210" y="7011"/>
                  </a:lnTo>
                  <a:lnTo>
                    <a:pt x="5126" y="6972"/>
                  </a:lnTo>
                  <a:lnTo>
                    <a:pt x="5041" y="6932"/>
                  </a:lnTo>
                  <a:lnTo>
                    <a:pt x="4958" y="6890"/>
                  </a:lnTo>
                  <a:lnTo>
                    <a:pt x="4875" y="6849"/>
                  </a:lnTo>
                  <a:lnTo>
                    <a:pt x="4791" y="6806"/>
                  </a:lnTo>
                  <a:lnTo>
                    <a:pt x="4710" y="6762"/>
                  </a:lnTo>
                  <a:lnTo>
                    <a:pt x="4629" y="6717"/>
                  </a:lnTo>
                  <a:lnTo>
                    <a:pt x="4548" y="6671"/>
                  </a:lnTo>
                  <a:lnTo>
                    <a:pt x="4468" y="6624"/>
                  </a:lnTo>
                  <a:lnTo>
                    <a:pt x="4388" y="6576"/>
                  </a:lnTo>
                  <a:lnTo>
                    <a:pt x="4309" y="6526"/>
                  </a:lnTo>
                  <a:lnTo>
                    <a:pt x="4230" y="6477"/>
                  </a:lnTo>
                  <a:lnTo>
                    <a:pt x="4154" y="6427"/>
                  </a:lnTo>
                  <a:lnTo>
                    <a:pt x="4076" y="6375"/>
                  </a:lnTo>
                  <a:lnTo>
                    <a:pt x="3998" y="6323"/>
                  </a:lnTo>
                  <a:lnTo>
                    <a:pt x="3924" y="6270"/>
                  </a:lnTo>
                  <a:lnTo>
                    <a:pt x="3848" y="6217"/>
                  </a:lnTo>
                  <a:lnTo>
                    <a:pt x="3774" y="6161"/>
                  </a:lnTo>
                  <a:lnTo>
                    <a:pt x="3700" y="6105"/>
                  </a:lnTo>
                  <a:lnTo>
                    <a:pt x="3628" y="6048"/>
                  </a:lnTo>
                  <a:lnTo>
                    <a:pt x="3555" y="5990"/>
                  </a:lnTo>
                  <a:lnTo>
                    <a:pt x="3484" y="5932"/>
                  </a:lnTo>
                  <a:lnTo>
                    <a:pt x="3412" y="5872"/>
                  </a:lnTo>
                  <a:lnTo>
                    <a:pt x="3342" y="5813"/>
                  </a:lnTo>
                  <a:lnTo>
                    <a:pt x="3273" y="5752"/>
                  </a:lnTo>
                  <a:lnTo>
                    <a:pt x="3204" y="5689"/>
                  </a:lnTo>
                  <a:lnTo>
                    <a:pt x="3136" y="5627"/>
                  </a:lnTo>
                  <a:lnTo>
                    <a:pt x="3068" y="5564"/>
                  </a:lnTo>
                  <a:lnTo>
                    <a:pt x="3002" y="5499"/>
                  </a:lnTo>
                  <a:lnTo>
                    <a:pt x="2937" y="5434"/>
                  </a:lnTo>
                  <a:lnTo>
                    <a:pt x="2872" y="5369"/>
                  </a:lnTo>
                  <a:lnTo>
                    <a:pt x="2807" y="5303"/>
                  </a:lnTo>
                  <a:lnTo>
                    <a:pt x="2744" y="5235"/>
                  </a:lnTo>
                  <a:lnTo>
                    <a:pt x="2682" y="5167"/>
                  </a:lnTo>
                  <a:lnTo>
                    <a:pt x="2619" y="5098"/>
                  </a:lnTo>
                  <a:lnTo>
                    <a:pt x="2558" y="5029"/>
                  </a:lnTo>
                  <a:lnTo>
                    <a:pt x="2499" y="4959"/>
                  </a:lnTo>
                  <a:lnTo>
                    <a:pt x="2439" y="4887"/>
                  </a:lnTo>
                  <a:lnTo>
                    <a:pt x="2381" y="4816"/>
                  </a:lnTo>
                  <a:lnTo>
                    <a:pt x="2323" y="4743"/>
                  </a:lnTo>
                  <a:lnTo>
                    <a:pt x="2266" y="4671"/>
                  </a:lnTo>
                  <a:lnTo>
                    <a:pt x="2210" y="4597"/>
                  </a:lnTo>
                  <a:lnTo>
                    <a:pt x="2154" y="4523"/>
                  </a:lnTo>
                  <a:lnTo>
                    <a:pt x="2101" y="4447"/>
                  </a:lnTo>
                  <a:lnTo>
                    <a:pt x="2048" y="4373"/>
                  </a:lnTo>
                  <a:lnTo>
                    <a:pt x="1996" y="4295"/>
                  </a:lnTo>
                  <a:lnTo>
                    <a:pt x="1944" y="4217"/>
                  </a:lnTo>
                  <a:lnTo>
                    <a:pt x="1894" y="4141"/>
                  </a:lnTo>
                  <a:lnTo>
                    <a:pt x="1845" y="4062"/>
                  </a:lnTo>
                  <a:lnTo>
                    <a:pt x="1795" y="3983"/>
                  </a:lnTo>
                  <a:lnTo>
                    <a:pt x="1747" y="3903"/>
                  </a:lnTo>
                  <a:lnTo>
                    <a:pt x="1700" y="3823"/>
                  </a:lnTo>
                  <a:lnTo>
                    <a:pt x="1654" y="3742"/>
                  </a:lnTo>
                  <a:lnTo>
                    <a:pt x="1609" y="3661"/>
                  </a:lnTo>
                  <a:lnTo>
                    <a:pt x="1565" y="3580"/>
                  </a:lnTo>
                  <a:lnTo>
                    <a:pt x="1522" y="3496"/>
                  </a:lnTo>
                  <a:lnTo>
                    <a:pt x="1481" y="3413"/>
                  </a:lnTo>
                  <a:lnTo>
                    <a:pt x="1439" y="3330"/>
                  </a:lnTo>
                  <a:lnTo>
                    <a:pt x="1399" y="3245"/>
                  </a:lnTo>
                  <a:lnTo>
                    <a:pt x="1360" y="3161"/>
                  </a:lnTo>
                  <a:lnTo>
                    <a:pt x="1323" y="3075"/>
                  </a:lnTo>
                  <a:lnTo>
                    <a:pt x="1285" y="2989"/>
                  </a:lnTo>
                  <a:lnTo>
                    <a:pt x="1248" y="2902"/>
                  </a:lnTo>
                  <a:lnTo>
                    <a:pt x="1215" y="2815"/>
                  </a:lnTo>
                  <a:lnTo>
                    <a:pt x="1180" y="2728"/>
                  </a:lnTo>
                  <a:lnTo>
                    <a:pt x="1147" y="2640"/>
                  </a:lnTo>
                  <a:lnTo>
                    <a:pt x="1115" y="2551"/>
                  </a:lnTo>
                  <a:lnTo>
                    <a:pt x="1084" y="2462"/>
                  </a:lnTo>
                  <a:lnTo>
                    <a:pt x="1055" y="2373"/>
                  </a:lnTo>
                  <a:lnTo>
                    <a:pt x="1026" y="2283"/>
                  </a:lnTo>
                  <a:lnTo>
                    <a:pt x="998" y="2192"/>
                  </a:lnTo>
                  <a:lnTo>
                    <a:pt x="972" y="2101"/>
                  </a:lnTo>
                  <a:lnTo>
                    <a:pt x="947" y="2010"/>
                  </a:lnTo>
                  <a:lnTo>
                    <a:pt x="922" y="1919"/>
                  </a:lnTo>
                  <a:lnTo>
                    <a:pt x="899" y="1827"/>
                  </a:lnTo>
                  <a:lnTo>
                    <a:pt x="877" y="1735"/>
                  </a:lnTo>
                  <a:lnTo>
                    <a:pt x="856" y="1641"/>
                  </a:lnTo>
                  <a:lnTo>
                    <a:pt x="836" y="1548"/>
                  </a:lnTo>
                  <a:lnTo>
                    <a:pt x="817" y="1453"/>
                  </a:lnTo>
                  <a:lnTo>
                    <a:pt x="799" y="1359"/>
                  </a:lnTo>
                  <a:lnTo>
                    <a:pt x="783" y="1265"/>
                  </a:lnTo>
                  <a:lnTo>
                    <a:pt x="769" y="1170"/>
                  </a:lnTo>
                  <a:lnTo>
                    <a:pt x="754" y="1075"/>
                  </a:lnTo>
                  <a:lnTo>
                    <a:pt x="741" y="978"/>
                  </a:lnTo>
                  <a:lnTo>
                    <a:pt x="729" y="882"/>
                  </a:lnTo>
                  <a:lnTo>
                    <a:pt x="719" y="786"/>
                  </a:lnTo>
                  <a:lnTo>
                    <a:pt x="710" y="689"/>
                  </a:lnTo>
                  <a:lnTo>
                    <a:pt x="702" y="591"/>
                  </a:lnTo>
                  <a:lnTo>
                    <a:pt x="695" y="493"/>
                  </a:lnTo>
                  <a:lnTo>
                    <a:pt x="690" y="397"/>
                  </a:lnTo>
                  <a:lnTo>
                    <a:pt x="684" y="298"/>
                  </a:lnTo>
                  <a:lnTo>
                    <a:pt x="681" y="199"/>
                  </a:lnTo>
                  <a:lnTo>
                    <a:pt x="680" y="99"/>
                  </a:lnTo>
                  <a:lnTo>
                    <a:pt x="680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2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2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2" y="1479"/>
                  </a:lnTo>
                  <a:lnTo>
                    <a:pt x="151" y="1581"/>
                  </a:lnTo>
                  <a:lnTo>
                    <a:pt x="172" y="1683"/>
                  </a:lnTo>
                  <a:lnTo>
                    <a:pt x="193" y="1784"/>
                  </a:lnTo>
                  <a:lnTo>
                    <a:pt x="216" y="1886"/>
                  </a:lnTo>
                  <a:lnTo>
                    <a:pt x="240" y="1987"/>
                  </a:lnTo>
                  <a:lnTo>
                    <a:pt x="266" y="2086"/>
                  </a:lnTo>
                  <a:lnTo>
                    <a:pt x="291" y="2188"/>
                  </a:lnTo>
                  <a:lnTo>
                    <a:pt x="319" y="2287"/>
                  </a:lnTo>
                  <a:lnTo>
                    <a:pt x="347" y="2387"/>
                  </a:lnTo>
                  <a:lnTo>
                    <a:pt x="378" y="2485"/>
                  </a:lnTo>
                  <a:lnTo>
                    <a:pt x="409" y="2582"/>
                  </a:lnTo>
                  <a:lnTo>
                    <a:pt x="442" y="2680"/>
                  </a:lnTo>
                  <a:lnTo>
                    <a:pt x="475" y="2777"/>
                  </a:lnTo>
                  <a:lnTo>
                    <a:pt x="510" y="2873"/>
                  </a:lnTo>
                  <a:lnTo>
                    <a:pt x="545" y="2970"/>
                  </a:lnTo>
                  <a:lnTo>
                    <a:pt x="583" y="3065"/>
                  </a:lnTo>
                  <a:lnTo>
                    <a:pt x="622" y="3160"/>
                  </a:lnTo>
                  <a:lnTo>
                    <a:pt x="660" y="3252"/>
                  </a:lnTo>
                  <a:lnTo>
                    <a:pt x="701" y="3346"/>
                  </a:lnTo>
                  <a:lnTo>
                    <a:pt x="742" y="3439"/>
                  </a:lnTo>
                  <a:lnTo>
                    <a:pt x="785" y="3533"/>
                  </a:lnTo>
                  <a:lnTo>
                    <a:pt x="829" y="3624"/>
                  </a:lnTo>
                  <a:lnTo>
                    <a:pt x="873" y="3716"/>
                  </a:lnTo>
                  <a:lnTo>
                    <a:pt x="919" y="3807"/>
                  </a:lnTo>
                  <a:lnTo>
                    <a:pt x="966" y="3896"/>
                  </a:lnTo>
                  <a:lnTo>
                    <a:pt x="1014" y="3985"/>
                  </a:lnTo>
                  <a:lnTo>
                    <a:pt x="1062" y="4074"/>
                  </a:lnTo>
                  <a:lnTo>
                    <a:pt x="1113" y="4161"/>
                  </a:lnTo>
                  <a:lnTo>
                    <a:pt x="1164" y="4248"/>
                  </a:lnTo>
                  <a:lnTo>
                    <a:pt x="1216" y="4336"/>
                  </a:lnTo>
                  <a:lnTo>
                    <a:pt x="1268" y="4421"/>
                  </a:lnTo>
                  <a:lnTo>
                    <a:pt x="1323" y="4507"/>
                  </a:lnTo>
                  <a:lnTo>
                    <a:pt x="1378" y="4591"/>
                  </a:lnTo>
                  <a:lnTo>
                    <a:pt x="1434" y="4675"/>
                  </a:lnTo>
                  <a:lnTo>
                    <a:pt x="1490" y="4758"/>
                  </a:lnTo>
                  <a:lnTo>
                    <a:pt x="1549" y="4841"/>
                  </a:lnTo>
                  <a:lnTo>
                    <a:pt x="1608" y="4921"/>
                  </a:lnTo>
                  <a:lnTo>
                    <a:pt x="1668" y="5003"/>
                  </a:lnTo>
                  <a:lnTo>
                    <a:pt x="1728" y="5083"/>
                  </a:lnTo>
                  <a:lnTo>
                    <a:pt x="1789" y="5163"/>
                  </a:lnTo>
                  <a:lnTo>
                    <a:pt x="1852" y="5241"/>
                  </a:lnTo>
                  <a:lnTo>
                    <a:pt x="1916" y="5320"/>
                  </a:lnTo>
                  <a:lnTo>
                    <a:pt x="1981" y="5397"/>
                  </a:lnTo>
                  <a:lnTo>
                    <a:pt x="2046" y="5473"/>
                  </a:lnTo>
                  <a:lnTo>
                    <a:pt x="2113" y="5549"/>
                  </a:lnTo>
                  <a:lnTo>
                    <a:pt x="2180" y="5623"/>
                  </a:lnTo>
                  <a:lnTo>
                    <a:pt x="2248" y="5698"/>
                  </a:lnTo>
                  <a:lnTo>
                    <a:pt x="2317" y="5770"/>
                  </a:lnTo>
                  <a:lnTo>
                    <a:pt x="2386" y="5842"/>
                  </a:lnTo>
                  <a:lnTo>
                    <a:pt x="2457" y="5914"/>
                  </a:lnTo>
                  <a:lnTo>
                    <a:pt x="2529" y="5985"/>
                  </a:lnTo>
                  <a:lnTo>
                    <a:pt x="2601" y="6054"/>
                  </a:lnTo>
                  <a:lnTo>
                    <a:pt x="2673" y="6123"/>
                  </a:lnTo>
                  <a:lnTo>
                    <a:pt x="2748" y="6191"/>
                  </a:lnTo>
                  <a:lnTo>
                    <a:pt x="2822" y="6258"/>
                  </a:lnTo>
                  <a:lnTo>
                    <a:pt x="2898" y="6325"/>
                  </a:lnTo>
                  <a:lnTo>
                    <a:pt x="2974" y="6390"/>
                  </a:lnTo>
                  <a:lnTo>
                    <a:pt x="3051" y="6455"/>
                  </a:lnTo>
                  <a:lnTo>
                    <a:pt x="3130" y="6519"/>
                  </a:lnTo>
                  <a:lnTo>
                    <a:pt x="3208" y="6582"/>
                  </a:lnTo>
                  <a:lnTo>
                    <a:pt x="3288" y="6643"/>
                  </a:lnTo>
                  <a:lnTo>
                    <a:pt x="3368" y="6703"/>
                  </a:lnTo>
                  <a:lnTo>
                    <a:pt x="3450" y="6763"/>
                  </a:lnTo>
                  <a:lnTo>
                    <a:pt x="3530" y="6822"/>
                  </a:lnTo>
                  <a:lnTo>
                    <a:pt x="3613" y="6881"/>
                  </a:lnTo>
                  <a:lnTo>
                    <a:pt x="3696" y="6937"/>
                  </a:lnTo>
                  <a:lnTo>
                    <a:pt x="3780" y="6993"/>
                  </a:lnTo>
                  <a:lnTo>
                    <a:pt x="3864" y="7048"/>
                  </a:lnTo>
                  <a:lnTo>
                    <a:pt x="3950" y="7103"/>
                  </a:lnTo>
                  <a:lnTo>
                    <a:pt x="4035" y="7155"/>
                  </a:lnTo>
                  <a:lnTo>
                    <a:pt x="4123" y="7207"/>
                  </a:lnTo>
                  <a:lnTo>
                    <a:pt x="4210" y="7258"/>
                  </a:lnTo>
                  <a:lnTo>
                    <a:pt x="4297" y="7309"/>
                  </a:lnTo>
                  <a:lnTo>
                    <a:pt x="4386" y="7357"/>
                  </a:lnTo>
                  <a:lnTo>
                    <a:pt x="4475" y="7405"/>
                  </a:lnTo>
                  <a:lnTo>
                    <a:pt x="4564" y="7452"/>
                  </a:lnTo>
                  <a:lnTo>
                    <a:pt x="4655" y="7498"/>
                  </a:lnTo>
                  <a:lnTo>
                    <a:pt x="4747" y="7542"/>
                  </a:lnTo>
                  <a:lnTo>
                    <a:pt x="4838" y="7586"/>
                  </a:lnTo>
                  <a:lnTo>
                    <a:pt x="4932" y="7629"/>
                  </a:lnTo>
                  <a:lnTo>
                    <a:pt x="5025" y="7670"/>
                  </a:lnTo>
                  <a:lnTo>
                    <a:pt x="5119" y="7711"/>
                  </a:lnTo>
                  <a:lnTo>
                    <a:pt x="5211" y="7749"/>
                  </a:lnTo>
                  <a:lnTo>
                    <a:pt x="5306" y="7788"/>
                  </a:lnTo>
                  <a:lnTo>
                    <a:pt x="5401" y="7826"/>
                  </a:lnTo>
                  <a:lnTo>
                    <a:pt x="5498" y="7861"/>
                  </a:lnTo>
                  <a:lnTo>
                    <a:pt x="5594" y="7896"/>
                  </a:lnTo>
                  <a:lnTo>
                    <a:pt x="5691" y="7929"/>
                  </a:lnTo>
                  <a:lnTo>
                    <a:pt x="5789" y="7962"/>
                  </a:lnTo>
                  <a:lnTo>
                    <a:pt x="5886" y="7993"/>
                  </a:lnTo>
                  <a:lnTo>
                    <a:pt x="5984" y="8024"/>
                  </a:lnTo>
                  <a:lnTo>
                    <a:pt x="6084" y="8052"/>
                  </a:lnTo>
                  <a:lnTo>
                    <a:pt x="6183" y="8080"/>
                  </a:lnTo>
                  <a:lnTo>
                    <a:pt x="6285" y="8105"/>
                  </a:lnTo>
                  <a:lnTo>
                    <a:pt x="6384" y="8131"/>
                  </a:lnTo>
                  <a:lnTo>
                    <a:pt x="6485" y="8155"/>
                  </a:lnTo>
                  <a:lnTo>
                    <a:pt x="6587" y="8178"/>
                  </a:lnTo>
                  <a:lnTo>
                    <a:pt x="6688" y="8199"/>
                  </a:lnTo>
                  <a:lnTo>
                    <a:pt x="6790" y="8220"/>
                  </a:lnTo>
                  <a:lnTo>
                    <a:pt x="6892" y="8239"/>
                  </a:lnTo>
                  <a:lnTo>
                    <a:pt x="6997" y="8257"/>
                  </a:lnTo>
                  <a:lnTo>
                    <a:pt x="7100" y="8275"/>
                  </a:lnTo>
                  <a:lnTo>
                    <a:pt x="7204" y="8289"/>
                  </a:lnTo>
                  <a:lnTo>
                    <a:pt x="7308" y="8302"/>
                  </a:lnTo>
                  <a:lnTo>
                    <a:pt x="7413" y="8316"/>
                  </a:lnTo>
                  <a:lnTo>
                    <a:pt x="7518" y="8327"/>
                  </a:lnTo>
                  <a:lnTo>
                    <a:pt x="7624" y="8338"/>
                  </a:lnTo>
                  <a:lnTo>
                    <a:pt x="7730" y="8346"/>
                  </a:lnTo>
                  <a:lnTo>
                    <a:pt x="7835" y="8353"/>
                  </a:lnTo>
                  <a:lnTo>
                    <a:pt x="7943" y="8359"/>
                  </a:lnTo>
                  <a:lnTo>
                    <a:pt x="8050" y="8364"/>
                  </a:lnTo>
                  <a:lnTo>
                    <a:pt x="8156" y="8367"/>
                  </a:lnTo>
                  <a:lnTo>
                    <a:pt x="8263" y="8370"/>
                  </a:lnTo>
                  <a:lnTo>
                    <a:pt x="8371" y="8371"/>
                  </a:lnTo>
                  <a:lnTo>
                    <a:pt x="8371" y="8371"/>
                  </a:lnTo>
                  <a:lnTo>
                    <a:pt x="8371" y="769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05080" y="5171400"/>
              <a:ext cx="311400" cy="2844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7691" y="0"/>
                  </a:moveTo>
                  <a:lnTo>
                    <a:pt x="7691" y="0"/>
                  </a:lnTo>
                  <a:lnTo>
                    <a:pt x="7690" y="99"/>
                  </a:lnTo>
                  <a:lnTo>
                    <a:pt x="7690" y="199"/>
                  </a:lnTo>
                  <a:lnTo>
                    <a:pt x="7687" y="298"/>
                  </a:lnTo>
                  <a:lnTo>
                    <a:pt x="7681" y="397"/>
                  </a:lnTo>
                  <a:lnTo>
                    <a:pt x="7676" y="493"/>
                  </a:lnTo>
                  <a:lnTo>
                    <a:pt x="7669" y="591"/>
                  </a:lnTo>
                  <a:lnTo>
                    <a:pt x="7661" y="689"/>
                  </a:lnTo>
                  <a:lnTo>
                    <a:pt x="7652" y="785"/>
                  </a:lnTo>
                  <a:lnTo>
                    <a:pt x="7641" y="882"/>
                  </a:lnTo>
                  <a:lnTo>
                    <a:pt x="7630" y="978"/>
                  </a:lnTo>
                  <a:lnTo>
                    <a:pt x="7617" y="1075"/>
                  </a:lnTo>
                  <a:lnTo>
                    <a:pt x="7602" y="1170"/>
                  </a:lnTo>
                  <a:lnTo>
                    <a:pt x="7587" y="1264"/>
                  </a:lnTo>
                  <a:lnTo>
                    <a:pt x="7571" y="1359"/>
                  </a:lnTo>
                  <a:lnTo>
                    <a:pt x="7554" y="1453"/>
                  </a:lnTo>
                  <a:lnTo>
                    <a:pt x="7535" y="1548"/>
                  </a:lnTo>
                  <a:lnTo>
                    <a:pt x="7514" y="1641"/>
                  </a:lnTo>
                  <a:lnTo>
                    <a:pt x="7494" y="1735"/>
                  </a:lnTo>
                  <a:lnTo>
                    <a:pt x="7472" y="1827"/>
                  </a:lnTo>
                  <a:lnTo>
                    <a:pt x="7449" y="1919"/>
                  </a:lnTo>
                  <a:lnTo>
                    <a:pt x="7424" y="2010"/>
                  </a:lnTo>
                  <a:lnTo>
                    <a:pt x="7399" y="2101"/>
                  </a:lnTo>
                  <a:lnTo>
                    <a:pt x="7372" y="2192"/>
                  </a:lnTo>
                  <a:lnTo>
                    <a:pt x="7345" y="2283"/>
                  </a:lnTo>
                  <a:lnTo>
                    <a:pt x="7316" y="2373"/>
                  </a:lnTo>
                  <a:lnTo>
                    <a:pt x="7286" y="2462"/>
                  </a:lnTo>
                  <a:lnTo>
                    <a:pt x="7256" y="2551"/>
                  </a:lnTo>
                  <a:lnTo>
                    <a:pt x="7223" y="2640"/>
                  </a:lnTo>
                  <a:lnTo>
                    <a:pt x="7191" y="2728"/>
                  </a:lnTo>
                  <a:lnTo>
                    <a:pt x="7156" y="2815"/>
                  </a:lnTo>
                  <a:lnTo>
                    <a:pt x="7123" y="2902"/>
                  </a:lnTo>
                  <a:lnTo>
                    <a:pt x="7086" y="2989"/>
                  </a:lnTo>
                  <a:lnTo>
                    <a:pt x="7048" y="3075"/>
                  </a:lnTo>
                  <a:lnTo>
                    <a:pt x="7010" y="3161"/>
                  </a:lnTo>
                  <a:lnTo>
                    <a:pt x="6972" y="3245"/>
                  </a:lnTo>
                  <a:lnTo>
                    <a:pt x="6931" y="3330"/>
                  </a:lnTo>
                  <a:lnTo>
                    <a:pt x="6889" y="3413"/>
                  </a:lnTo>
                  <a:lnTo>
                    <a:pt x="6849" y="3497"/>
                  </a:lnTo>
                  <a:lnTo>
                    <a:pt x="6805" y="3580"/>
                  </a:lnTo>
                  <a:lnTo>
                    <a:pt x="6762" y="3661"/>
                  </a:lnTo>
                  <a:lnTo>
                    <a:pt x="6716" y="3742"/>
                  </a:lnTo>
                  <a:lnTo>
                    <a:pt x="6671" y="3823"/>
                  </a:lnTo>
                  <a:lnTo>
                    <a:pt x="6624" y="3903"/>
                  </a:lnTo>
                  <a:lnTo>
                    <a:pt x="6575" y="3983"/>
                  </a:lnTo>
                  <a:lnTo>
                    <a:pt x="6526" y="4062"/>
                  </a:lnTo>
                  <a:lnTo>
                    <a:pt x="6477" y="4141"/>
                  </a:lnTo>
                  <a:lnTo>
                    <a:pt x="6427" y="4219"/>
                  </a:lnTo>
                  <a:lnTo>
                    <a:pt x="6375" y="4295"/>
                  </a:lnTo>
                  <a:lnTo>
                    <a:pt x="6322" y="4373"/>
                  </a:lnTo>
                  <a:lnTo>
                    <a:pt x="6270" y="4447"/>
                  </a:lnTo>
                  <a:lnTo>
                    <a:pt x="6215" y="4523"/>
                  </a:lnTo>
                  <a:lnTo>
                    <a:pt x="6161" y="4597"/>
                  </a:lnTo>
                  <a:lnTo>
                    <a:pt x="6104" y="4671"/>
                  </a:lnTo>
                  <a:lnTo>
                    <a:pt x="6047" y="4743"/>
                  </a:lnTo>
                  <a:lnTo>
                    <a:pt x="5989" y="4816"/>
                  </a:lnTo>
                  <a:lnTo>
                    <a:pt x="5932" y="4887"/>
                  </a:lnTo>
                  <a:lnTo>
                    <a:pt x="5872" y="4959"/>
                  </a:lnTo>
                  <a:lnTo>
                    <a:pt x="5813" y="5029"/>
                  </a:lnTo>
                  <a:lnTo>
                    <a:pt x="5751" y="5098"/>
                  </a:lnTo>
                  <a:lnTo>
                    <a:pt x="5689" y="5167"/>
                  </a:lnTo>
                  <a:lnTo>
                    <a:pt x="5626" y="5235"/>
                  </a:lnTo>
                  <a:lnTo>
                    <a:pt x="5564" y="5303"/>
                  </a:lnTo>
                  <a:lnTo>
                    <a:pt x="5499" y="5369"/>
                  </a:lnTo>
                  <a:lnTo>
                    <a:pt x="5434" y="5434"/>
                  </a:lnTo>
                  <a:lnTo>
                    <a:pt x="5369" y="5499"/>
                  </a:lnTo>
                  <a:lnTo>
                    <a:pt x="5302" y="5564"/>
                  </a:lnTo>
                  <a:lnTo>
                    <a:pt x="5235" y="5627"/>
                  </a:lnTo>
                  <a:lnTo>
                    <a:pt x="5167" y="5689"/>
                  </a:lnTo>
                  <a:lnTo>
                    <a:pt x="5099" y="5752"/>
                  </a:lnTo>
                  <a:lnTo>
                    <a:pt x="5029" y="5813"/>
                  </a:lnTo>
                  <a:lnTo>
                    <a:pt x="4958" y="5872"/>
                  </a:lnTo>
                  <a:lnTo>
                    <a:pt x="4887" y="5932"/>
                  </a:lnTo>
                  <a:lnTo>
                    <a:pt x="4816" y="5990"/>
                  </a:lnTo>
                  <a:lnTo>
                    <a:pt x="4743" y="6048"/>
                  </a:lnTo>
                  <a:lnTo>
                    <a:pt x="4671" y="6105"/>
                  </a:lnTo>
                  <a:lnTo>
                    <a:pt x="4597" y="6161"/>
                  </a:lnTo>
                  <a:lnTo>
                    <a:pt x="4522" y="6217"/>
                  </a:lnTo>
                  <a:lnTo>
                    <a:pt x="4447" y="6270"/>
                  </a:lnTo>
                  <a:lnTo>
                    <a:pt x="4372" y="6323"/>
                  </a:lnTo>
                  <a:lnTo>
                    <a:pt x="4295" y="6375"/>
                  </a:lnTo>
                  <a:lnTo>
                    <a:pt x="4218" y="6427"/>
                  </a:lnTo>
                  <a:lnTo>
                    <a:pt x="4139" y="6477"/>
                  </a:lnTo>
                  <a:lnTo>
                    <a:pt x="4062" y="6526"/>
                  </a:lnTo>
                  <a:lnTo>
                    <a:pt x="3983" y="6576"/>
                  </a:lnTo>
                  <a:lnTo>
                    <a:pt x="3903" y="6624"/>
                  </a:lnTo>
                  <a:lnTo>
                    <a:pt x="3823" y="6671"/>
                  </a:lnTo>
                  <a:lnTo>
                    <a:pt x="3742" y="6717"/>
                  </a:lnTo>
                  <a:lnTo>
                    <a:pt x="3660" y="6762"/>
                  </a:lnTo>
                  <a:lnTo>
                    <a:pt x="3579" y="6806"/>
                  </a:lnTo>
                  <a:lnTo>
                    <a:pt x="3497" y="6849"/>
                  </a:lnTo>
                  <a:lnTo>
                    <a:pt x="3412" y="6890"/>
                  </a:lnTo>
                  <a:lnTo>
                    <a:pt x="3329" y="6932"/>
                  </a:lnTo>
                  <a:lnTo>
                    <a:pt x="3245" y="6972"/>
                  </a:lnTo>
                  <a:lnTo>
                    <a:pt x="3160" y="7011"/>
                  </a:lnTo>
                  <a:lnTo>
                    <a:pt x="3075" y="7048"/>
                  </a:lnTo>
                  <a:lnTo>
                    <a:pt x="2989" y="7086"/>
                  </a:lnTo>
                  <a:lnTo>
                    <a:pt x="2902" y="7123"/>
                  </a:lnTo>
                  <a:lnTo>
                    <a:pt x="2815" y="7156"/>
                  </a:lnTo>
                  <a:lnTo>
                    <a:pt x="2727" y="7191"/>
                  </a:lnTo>
                  <a:lnTo>
                    <a:pt x="2639" y="7224"/>
                  </a:lnTo>
                  <a:lnTo>
                    <a:pt x="2551" y="7256"/>
                  </a:lnTo>
                  <a:lnTo>
                    <a:pt x="2462" y="7287"/>
                  </a:lnTo>
                  <a:lnTo>
                    <a:pt x="2372" y="7316"/>
                  </a:lnTo>
                  <a:lnTo>
                    <a:pt x="2282" y="7345"/>
                  </a:lnTo>
                  <a:lnTo>
                    <a:pt x="2192" y="7373"/>
                  </a:lnTo>
                  <a:lnTo>
                    <a:pt x="2101" y="7399"/>
                  </a:lnTo>
                  <a:lnTo>
                    <a:pt x="2010" y="7424"/>
                  </a:lnTo>
                  <a:lnTo>
                    <a:pt x="1919" y="7449"/>
                  </a:lnTo>
                  <a:lnTo>
                    <a:pt x="1827" y="7472"/>
                  </a:lnTo>
                  <a:lnTo>
                    <a:pt x="1734" y="7494"/>
                  </a:lnTo>
                  <a:lnTo>
                    <a:pt x="1641" y="7515"/>
                  </a:lnTo>
                  <a:lnTo>
                    <a:pt x="1548" y="7535"/>
                  </a:lnTo>
                  <a:lnTo>
                    <a:pt x="1453" y="7554"/>
                  </a:lnTo>
                  <a:lnTo>
                    <a:pt x="1358" y="7572"/>
                  </a:lnTo>
                  <a:lnTo>
                    <a:pt x="1265" y="7588"/>
                  </a:lnTo>
                  <a:lnTo>
                    <a:pt x="1170" y="7602"/>
                  </a:lnTo>
                  <a:lnTo>
                    <a:pt x="1074" y="7617"/>
                  </a:lnTo>
                  <a:lnTo>
                    <a:pt x="977" y="7630"/>
                  </a:lnTo>
                  <a:lnTo>
                    <a:pt x="881" y="7642"/>
                  </a:lnTo>
                  <a:lnTo>
                    <a:pt x="786" y="7652"/>
                  </a:lnTo>
                  <a:lnTo>
                    <a:pt x="689" y="7661"/>
                  </a:lnTo>
                  <a:lnTo>
                    <a:pt x="591" y="7669"/>
                  </a:lnTo>
                  <a:lnTo>
                    <a:pt x="493" y="7676"/>
                  </a:lnTo>
                  <a:lnTo>
                    <a:pt x="397" y="7681"/>
                  </a:lnTo>
                  <a:lnTo>
                    <a:pt x="297" y="7687"/>
                  </a:lnTo>
                  <a:lnTo>
                    <a:pt x="199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8" y="8370"/>
                  </a:lnTo>
                  <a:lnTo>
                    <a:pt x="215" y="8367"/>
                  </a:lnTo>
                  <a:lnTo>
                    <a:pt x="321" y="8364"/>
                  </a:lnTo>
                  <a:lnTo>
                    <a:pt x="428" y="8359"/>
                  </a:lnTo>
                  <a:lnTo>
                    <a:pt x="536" y="8353"/>
                  </a:lnTo>
                  <a:lnTo>
                    <a:pt x="641" y="8346"/>
                  </a:lnTo>
                  <a:lnTo>
                    <a:pt x="747" y="8338"/>
                  </a:lnTo>
                  <a:lnTo>
                    <a:pt x="852" y="8327"/>
                  </a:lnTo>
                  <a:lnTo>
                    <a:pt x="958" y="8316"/>
                  </a:lnTo>
                  <a:lnTo>
                    <a:pt x="1063" y="8302"/>
                  </a:lnTo>
                  <a:lnTo>
                    <a:pt x="1167" y="8289"/>
                  </a:lnTo>
                  <a:lnTo>
                    <a:pt x="1270" y="8275"/>
                  </a:lnTo>
                  <a:lnTo>
                    <a:pt x="1374" y="8257"/>
                  </a:lnTo>
                  <a:lnTo>
                    <a:pt x="1479" y="8239"/>
                  </a:lnTo>
                  <a:lnTo>
                    <a:pt x="1580" y="8220"/>
                  </a:lnTo>
                  <a:lnTo>
                    <a:pt x="1683" y="8199"/>
                  </a:lnTo>
                  <a:lnTo>
                    <a:pt x="1784" y="8178"/>
                  </a:lnTo>
                  <a:lnTo>
                    <a:pt x="1886" y="8155"/>
                  </a:lnTo>
                  <a:lnTo>
                    <a:pt x="1986" y="8131"/>
                  </a:lnTo>
                  <a:lnTo>
                    <a:pt x="2086" y="8105"/>
                  </a:lnTo>
                  <a:lnTo>
                    <a:pt x="2188" y="8080"/>
                  </a:lnTo>
                  <a:lnTo>
                    <a:pt x="2287" y="8052"/>
                  </a:lnTo>
                  <a:lnTo>
                    <a:pt x="2386" y="8024"/>
                  </a:lnTo>
                  <a:lnTo>
                    <a:pt x="2484" y="7993"/>
                  </a:lnTo>
                  <a:lnTo>
                    <a:pt x="2582" y="7962"/>
                  </a:lnTo>
                  <a:lnTo>
                    <a:pt x="2680" y="7929"/>
                  </a:lnTo>
                  <a:lnTo>
                    <a:pt x="2777" y="7896"/>
                  </a:lnTo>
                  <a:lnTo>
                    <a:pt x="2873" y="7861"/>
                  </a:lnTo>
                  <a:lnTo>
                    <a:pt x="2969" y="7826"/>
                  </a:lnTo>
                  <a:lnTo>
                    <a:pt x="3065" y="7788"/>
                  </a:lnTo>
                  <a:lnTo>
                    <a:pt x="3159" y="7749"/>
                  </a:lnTo>
                  <a:lnTo>
                    <a:pt x="3252" y="7711"/>
                  </a:lnTo>
                  <a:lnTo>
                    <a:pt x="3346" y="7670"/>
                  </a:lnTo>
                  <a:lnTo>
                    <a:pt x="3439" y="7629"/>
                  </a:lnTo>
                  <a:lnTo>
                    <a:pt x="3532" y="7586"/>
                  </a:lnTo>
                  <a:lnTo>
                    <a:pt x="3624" y="7542"/>
                  </a:lnTo>
                  <a:lnTo>
                    <a:pt x="3715" y="7498"/>
                  </a:lnTo>
                  <a:lnTo>
                    <a:pt x="3805" y="7452"/>
                  </a:lnTo>
                  <a:lnTo>
                    <a:pt x="3895" y="7405"/>
                  </a:lnTo>
                  <a:lnTo>
                    <a:pt x="3985" y="7357"/>
                  </a:lnTo>
                  <a:lnTo>
                    <a:pt x="4074" y="7309"/>
                  </a:lnTo>
                  <a:lnTo>
                    <a:pt x="4160" y="7258"/>
                  </a:lnTo>
                  <a:lnTo>
                    <a:pt x="4248" y="7207"/>
                  </a:lnTo>
                  <a:lnTo>
                    <a:pt x="4335" y="7155"/>
                  </a:lnTo>
                  <a:lnTo>
                    <a:pt x="4421" y="7103"/>
                  </a:lnTo>
                  <a:lnTo>
                    <a:pt x="4507" y="7048"/>
                  </a:lnTo>
                  <a:lnTo>
                    <a:pt x="4590" y="6993"/>
                  </a:lnTo>
                  <a:lnTo>
                    <a:pt x="4675" y="6937"/>
                  </a:lnTo>
                  <a:lnTo>
                    <a:pt x="4757" y="6881"/>
                  </a:lnTo>
                  <a:lnTo>
                    <a:pt x="4841" y="6822"/>
                  </a:lnTo>
                  <a:lnTo>
                    <a:pt x="4921" y="6763"/>
                  </a:lnTo>
                  <a:lnTo>
                    <a:pt x="5003" y="6703"/>
                  </a:lnTo>
                  <a:lnTo>
                    <a:pt x="5082" y="6643"/>
                  </a:lnTo>
                  <a:lnTo>
                    <a:pt x="5163" y="6582"/>
                  </a:lnTo>
                  <a:lnTo>
                    <a:pt x="5241" y="6519"/>
                  </a:lnTo>
                  <a:lnTo>
                    <a:pt x="5320" y="6455"/>
                  </a:lnTo>
                  <a:lnTo>
                    <a:pt x="5396" y="6390"/>
                  </a:lnTo>
                  <a:lnTo>
                    <a:pt x="5473" y="6325"/>
                  </a:lnTo>
                  <a:lnTo>
                    <a:pt x="5548" y="6258"/>
                  </a:lnTo>
                  <a:lnTo>
                    <a:pt x="5623" y="6191"/>
                  </a:lnTo>
                  <a:lnTo>
                    <a:pt x="5696" y="6123"/>
                  </a:lnTo>
                  <a:lnTo>
                    <a:pt x="5770" y="6054"/>
                  </a:lnTo>
                  <a:lnTo>
                    <a:pt x="5842" y="5985"/>
                  </a:lnTo>
                  <a:lnTo>
                    <a:pt x="5914" y="5914"/>
                  </a:lnTo>
                  <a:lnTo>
                    <a:pt x="5985" y="5842"/>
                  </a:lnTo>
                  <a:lnTo>
                    <a:pt x="6054" y="5770"/>
                  </a:lnTo>
                  <a:lnTo>
                    <a:pt x="6123" y="5698"/>
                  </a:lnTo>
                  <a:lnTo>
                    <a:pt x="6191" y="5623"/>
                  </a:lnTo>
                  <a:lnTo>
                    <a:pt x="6258" y="5549"/>
                  </a:lnTo>
                  <a:lnTo>
                    <a:pt x="6324" y="5473"/>
                  </a:lnTo>
                  <a:lnTo>
                    <a:pt x="6390" y="5397"/>
                  </a:lnTo>
                  <a:lnTo>
                    <a:pt x="6455" y="5320"/>
                  </a:lnTo>
                  <a:lnTo>
                    <a:pt x="6518" y="5241"/>
                  </a:lnTo>
                  <a:lnTo>
                    <a:pt x="6581" y="5163"/>
                  </a:lnTo>
                  <a:lnTo>
                    <a:pt x="6643" y="5083"/>
                  </a:lnTo>
                  <a:lnTo>
                    <a:pt x="6703" y="5003"/>
                  </a:lnTo>
                  <a:lnTo>
                    <a:pt x="6763" y="4921"/>
                  </a:lnTo>
                  <a:lnTo>
                    <a:pt x="6822" y="4841"/>
                  </a:lnTo>
                  <a:lnTo>
                    <a:pt x="6880" y="4758"/>
                  </a:lnTo>
                  <a:lnTo>
                    <a:pt x="6937" y="4675"/>
                  </a:lnTo>
                  <a:lnTo>
                    <a:pt x="6993" y="4590"/>
                  </a:lnTo>
                  <a:lnTo>
                    <a:pt x="7048" y="4507"/>
                  </a:lnTo>
                  <a:lnTo>
                    <a:pt x="7103" y="4421"/>
                  </a:lnTo>
                  <a:lnTo>
                    <a:pt x="7155" y="4336"/>
                  </a:lnTo>
                  <a:lnTo>
                    <a:pt x="7207" y="4248"/>
                  </a:lnTo>
                  <a:lnTo>
                    <a:pt x="7258" y="4161"/>
                  </a:lnTo>
                  <a:lnTo>
                    <a:pt x="7308" y="4074"/>
                  </a:lnTo>
                  <a:lnTo>
                    <a:pt x="7357" y="3985"/>
                  </a:lnTo>
                  <a:lnTo>
                    <a:pt x="7405" y="3896"/>
                  </a:lnTo>
                  <a:lnTo>
                    <a:pt x="7451" y="3805"/>
                  </a:lnTo>
                  <a:lnTo>
                    <a:pt x="7498" y="3716"/>
                  </a:lnTo>
                  <a:lnTo>
                    <a:pt x="7542" y="3624"/>
                  </a:lnTo>
                  <a:lnTo>
                    <a:pt x="7585" y="3533"/>
                  </a:lnTo>
                  <a:lnTo>
                    <a:pt x="7629" y="3439"/>
                  </a:lnTo>
                  <a:lnTo>
                    <a:pt x="7670" y="3346"/>
                  </a:lnTo>
                  <a:lnTo>
                    <a:pt x="7710" y="3252"/>
                  </a:lnTo>
                  <a:lnTo>
                    <a:pt x="7749" y="3160"/>
                  </a:lnTo>
                  <a:lnTo>
                    <a:pt x="7788" y="3065"/>
                  </a:lnTo>
                  <a:lnTo>
                    <a:pt x="7825" y="2970"/>
                  </a:lnTo>
                  <a:lnTo>
                    <a:pt x="7861" y="2873"/>
                  </a:lnTo>
                  <a:lnTo>
                    <a:pt x="7896" y="2777"/>
                  </a:lnTo>
                  <a:lnTo>
                    <a:pt x="7929" y="2680"/>
                  </a:lnTo>
                  <a:lnTo>
                    <a:pt x="7962" y="2582"/>
                  </a:lnTo>
                  <a:lnTo>
                    <a:pt x="7993" y="2485"/>
                  </a:lnTo>
                  <a:lnTo>
                    <a:pt x="8023" y="2387"/>
                  </a:lnTo>
                  <a:lnTo>
                    <a:pt x="8052" y="2287"/>
                  </a:lnTo>
                  <a:lnTo>
                    <a:pt x="8080" y="2188"/>
                  </a:lnTo>
                  <a:lnTo>
                    <a:pt x="8105" y="2086"/>
                  </a:lnTo>
                  <a:lnTo>
                    <a:pt x="8130" y="1987"/>
                  </a:lnTo>
                  <a:lnTo>
                    <a:pt x="8155" y="1886"/>
                  </a:lnTo>
                  <a:lnTo>
                    <a:pt x="8178" y="1784"/>
                  </a:lnTo>
                  <a:lnTo>
                    <a:pt x="8199" y="1683"/>
                  </a:lnTo>
                  <a:lnTo>
                    <a:pt x="8220" y="1581"/>
                  </a:lnTo>
                  <a:lnTo>
                    <a:pt x="8240" y="1479"/>
                  </a:lnTo>
                  <a:lnTo>
                    <a:pt x="8257" y="1376"/>
                  </a:lnTo>
                  <a:lnTo>
                    <a:pt x="8274" y="1271"/>
                  </a:lnTo>
                  <a:lnTo>
                    <a:pt x="8288" y="1167"/>
                  </a:lnTo>
                  <a:lnTo>
                    <a:pt x="8302" y="1063"/>
                  </a:lnTo>
                  <a:lnTo>
                    <a:pt x="8316" y="958"/>
                  </a:lnTo>
                  <a:lnTo>
                    <a:pt x="8327" y="854"/>
                  </a:lnTo>
                  <a:lnTo>
                    <a:pt x="8338" y="747"/>
                  </a:lnTo>
                  <a:lnTo>
                    <a:pt x="8346" y="641"/>
                  </a:lnTo>
                  <a:lnTo>
                    <a:pt x="8353" y="536"/>
                  </a:lnTo>
                  <a:lnTo>
                    <a:pt x="8359" y="428"/>
                  </a:lnTo>
                  <a:lnTo>
                    <a:pt x="8364" y="321"/>
                  </a:lnTo>
                  <a:lnTo>
                    <a:pt x="8367" y="215"/>
                  </a:lnTo>
                  <a:lnTo>
                    <a:pt x="8370" y="108"/>
                  </a:lnTo>
                  <a:lnTo>
                    <a:pt x="8371" y="0"/>
                  </a:lnTo>
                  <a:lnTo>
                    <a:pt x="8371" y="0"/>
                  </a:lnTo>
                  <a:lnTo>
                    <a:pt x="769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17680" y="5158800"/>
              <a:ext cx="66960" cy="199080"/>
            </a:xfrm>
            <a:custGeom>
              <a:avLst/>
              <a:gdLst/>
              <a:ahLst/>
              <a:rect l="l" t="t" r="r" b="b"/>
              <a:pathLst>
                <a:path w="1800" h="5856">
                  <a:moveTo>
                    <a:pt x="1792" y="5395"/>
                  </a:moveTo>
                  <a:lnTo>
                    <a:pt x="1795" y="5338"/>
                  </a:lnTo>
                  <a:lnTo>
                    <a:pt x="1797" y="5255"/>
                  </a:lnTo>
                  <a:lnTo>
                    <a:pt x="1799" y="5156"/>
                  </a:lnTo>
                  <a:lnTo>
                    <a:pt x="1800" y="5053"/>
                  </a:lnTo>
                  <a:lnTo>
                    <a:pt x="1800" y="4957"/>
                  </a:lnTo>
                  <a:lnTo>
                    <a:pt x="1799" y="4879"/>
                  </a:lnTo>
                  <a:lnTo>
                    <a:pt x="1798" y="4850"/>
                  </a:lnTo>
                  <a:lnTo>
                    <a:pt x="1796" y="4830"/>
                  </a:lnTo>
                  <a:lnTo>
                    <a:pt x="1795" y="4822"/>
                  </a:lnTo>
                  <a:lnTo>
                    <a:pt x="1794" y="4819"/>
                  </a:lnTo>
                  <a:lnTo>
                    <a:pt x="1793" y="4818"/>
                  </a:lnTo>
                  <a:lnTo>
                    <a:pt x="1791" y="4820"/>
                  </a:lnTo>
                  <a:lnTo>
                    <a:pt x="1766" y="4873"/>
                  </a:lnTo>
                  <a:lnTo>
                    <a:pt x="1739" y="4923"/>
                  </a:lnTo>
                  <a:lnTo>
                    <a:pt x="1707" y="4969"/>
                  </a:lnTo>
                  <a:lnTo>
                    <a:pt x="1672" y="5012"/>
                  </a:lnTo>
                  <a:lnTo>
                    <a:pt x="1636" y="5053"/>
                  </a:lnTo>
                  <a:lnTo>
                    <a:pt x="1595" y="5090"/>
                  </a:lnTo>
                  <a:lnTo>
                    <a:pt x="1553" y="5124"/>
                  </a:lnTo>
                  <a:lnTo>
                    <a:pt x="1509" y="5155"/>
                  </a:lnTo>
                  <a:lnTo>
                    <a:pt x="1463" y="5183"/>
                  </a:lnTo>
                  <a:lnTo>
                    <a:pt x="1416" y="5209"/>
                  </a:lnTo>
                  <a:lnTo>
                    <a:pt x="1367" y="5232"/>
                  </a:lnTo>
                  <a:lnTo>
                    <a:pt x="1318" y="5250"/>
                  </a:lnTo>
                  <a:lnTo>
                    <a:pt x="1268" y="5266"/>
                  </a:lnTo>
                  <a:lnTo>
                    <a:pt x="1218" y="5280"/>
                  </a:lnTo>
                  <a:lnTo>
                    <a:pt x="1168" y="5290"/>
                  </a:lnTo>
                  <a:lnTo>
                    <a:pt x="1119" y="5298"/>
                  </a:lnTo>
                  <a:lnTo>
                    <a:pt x="1070" y="5302"/>
                  </a:lnTo>
                  <a:lnTo>
                    <a:pt x="1022" y="5303"/>
                  </a:lnTo>
                  <a:lnTo>
                    <a:pt x="975" y="5302"/>
                  </a:lnTo>
                  <a:lnTo>
                    <a:pt x="930" y="5296"/>
                  </a:lnTo>
                  <a:lnTo>
                    <a:pt x="886" y="5289"/>
                  </a:lnTo>
                  <a:lnTo>
                    <a:pt x="846" y="5279"/>
                  </a:lnTo>
                  <a:lnTo>
                    <a:pt x="807" y="5266"/>
                  </a:lnTo>
                  <a:lnTo>
                    <a:pt x="771" y="5249"/>
                  </a:lnTo>
                  <a:lnTo>
                    <a:pt x="738" y="5231"/>
                  </a:lnTo>
                  <a:lnTo>
                    <a:pt x="709" y="5209"/>
                  </a:lnTo>
                  <a:lnTo>
                    <a:pt x="682" y="5183"/>
                  </a:lnTo>
                  <a:lnTo>
                    <a:pt x="659" y="5156"/>
                  </a:lnTo>
                  <a:lnTo>
                    <a:pt x="642" y="5126"/>
                  </a:lnTo>
                  <a:lnTo>
                    <a:pt x="628" y="5092"/>
                  </a:lnTo>
                  <a:lnTo>
                    <a:pt x="619" y="5056"/>
                  </a:lnTo>
                  <a:lnTo>
                    <a:pt x="615" y="5016"/>
                  </a:lnTo>
                  <a:lnTo>
                    <a:pt x="612" y="4857"/>
                  </a:lnTo>
                  <a:lnTo>
                    <a:pt x="610" y="4699"/>
                  </a:lnTo>
                  <a:lnTo>
                    <a:pt x="609" y="4541"/>
                  </a:lnTo>
                  <a:lnTo>
                    <a:pt x="610" y="4383"/>
                  </a:lnTo>
                  <a:lnTo>
                    <a:pt x="612" y="4225"/>
                  </a:lnTo>
                  <a:lnTo>
                    <a:pt x="615" y="4068"/>
                  </a:lnTo>
                  <a:lnTo>
                    <a:pt x="620" y="3911"/>
                  </a:lnTo>
                  <a:lnTo>
                    <a:pt x="625" y="3755"/>
                  </a:lnTo>
                  <a:lnTo>
                    <a:pt x="631" y="3598"/>
                  </a:lnTo>
                  <a:lnTo>
                    <a:pt x="637" y="3442"/>
                  </a:lnTo>
                  <a:lnTo>
                    <a:pt x="645" y="3286"/>
                  </a:lnTo>
                  <a:lnTo>
                    <a:pt x="653" y="3130"/>
                  </a:lnTo>
                  <a:lnTo>
                    <a:pt x="670" y="2820"/>
                  </a:lnTo>
                  <a:lnTo>
                    <a:pt x="687" y="2508"/>
                  </a:lnTo>
                  <a:lnTo>
                    <a:pt x="704" y="2197"/>
                  </a:lnTo>
                  <a:lnTo>
                    <a:pt x="721" y="1886"/>
                  </a:lnTo>
                  <a:lnTo>
                    <a:pt x="728" y="1730"/>
                  </a:lnTo>
                  <a:lnTo>
                    <a:pt x="736" y="1575"/>
                  </a:lnTo>
                  <a:lnTo>
                    <a:pt x="742" y="1419"/>
                  </a:lnTo>
                  <a:lnTo>
                    <a:pt x="748" y="1262"/>
                  </a:lnTo>
                  <a:lnTo>
                    <a:pt x="754" y="1105"/>
                  </a:lnTo>
                  <a:lnTo>
                    <a:pt x="758" y="949"/>
                  </a:lnTo>
                  <a:lnTo>
                    <a:pt x="761" y="791"/>
                  </a:lnTo>
                  <a:lnTo>
                    <a:pt x="763" y="634"/>
                  </a:lnTo>
                  <a:lnTo>
                    <a:pt x="764" y="476"/>
                  </a:lnTo>
                  <a:lnTo>
                    <a:pt x="763" y="318"/>
                  </a:lnTo>
                  <a:lnTo>
                    <a:pt x="762" y="159"/>
                  </a:lnTo>
                  <a:lnTo>
                    <a:pt x="759" y="0"/>
                  </a:lnTo>
                  <a:lnTo>
                    <a:pt x="130" y="12"/>
                  </a:lnTo>
                  <a:lnTo>
                    <a:pt x="0" y="5023"/>
                  </a:lnTo>
                  <a:lnTo>
                    <a:pt x="1" y="5090"/>
                  </a:lnTo>
                  <a:lnTo>
                    <a:pt x="10" y="5156"/>
                  </a:lnTo>
                  <a:lnTo>
                    <a:pt x="26" y="5220"/>
                  </a:lnTo>
                  <a:lnTo>
                    <a:pt x="48" y="5283"/>
                  </a:lnTo>
                  <a:lnTo>
                    <a:pt x="78" y="5344"/>
                  </a:lnTo>
                  <a:lnTo>
                    <a:pt x="113" y="5401"/>
                  </a:lnTo>
                  <a:lnTo>
                    <a:pt x="154" y="5457"/>
                  </a:lnTo>
                  <a:lnTo>
                    <a:pt x="200" y="5510"/>
                  </a:lnTo>
                  <a:lnTo>
                    <a:pt x="251" y="5560"/>
                  </a:lnTo>
                  <a:lnTo>
                    <a:pt x="306" y="5607"/>
                  </a:lnTo>
                  <a:lnTo>
                    <a:pt x="365" y="5651"/>
                  </a:lnTo>
                  <a:lnTo>
                    <a:pt x="428" y="5691"/>
                  </a:lnTo>
                  <a:lnTo>
                    <a:pt x="493" y="5728"/>
                  </a:lnTo>
                  <a:lnTo>
                    <a:pt x="562" y="5760"/>
                  </a:lnTo>
                  <a:lnTo>
                    <a:pt x="633" y="5788"/>
                  </a:lnTo>
                  <a:lnTo>
                    <a:pt x="705" y="5811"/>
                  </a:lnTo>
                  <a:lnTo>
                    <a:pt x="780" y="5830"/>
                  </a:lnTo>
                  <a:lnTo>
                    <a:pt x="855" y="5845"/>
                  </a:lnTo>
                  <a:lnTo>
                    <a:pt x="930" y="5853"/>
                  </a:lnTo>
                  <a:lnTo>
                    <a:pt x="1007" y="5856"/>
                  </a:lnTo>
                  <a:lnTo>
                    <a:pt x="1083" y="5854"/>
                  </a:lnTo>
                  <a:lnTo>
                    <a:pt x="1159" y="5847"/>
                  </a:lnTo>
                  <a:lnTo>
                    <a:pt x="1233" y="5832"/>
                  </a:lnTo>
                  <a:lnTo>
                    <a:pt x="1306" y="5812"/>
                  </a:lnTo>
                  <a:lnTo>
                    <a:pt x="1377" y="5785"/>
                  </a:lnTo>
                  <a:lnTo>
                    <a:pt x="1446" y="5752"/>
                  </a:lnTo>
                  <a:lnTo>
                    <a:pt x="1513" y="5711"/>
                  </a:lnTo>
                  <a:lnTo>
                    <a:pt x="1576" y="5663"/>
                  </a:lnTo>
                  <a:lnTo>
                    <a:pt x="1636" y="5608"/>
                  </a:lnTo>
                  <a:lnTo>
                    <a:pt x="1692" y="5544"/>
                  </a:lnTo>
                  <a:lnTo>
                    <a:pt x="1743" y="5474"/>
                  </a:lnTo>
                  <a:lnTo>
                    <a:pt x="1792" y="539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17680" y="5158800"/>
              <a:ext cx="66960" cy="199080"/>
            </a:xfrm>
            <a:custGeom>
              <a:avLst/>
              <a:gdLst/>
              <a:ahLst/>
              <a:rect l="l" t="t" r="r" b="b"/>
              <a:pathLst>
                <a:path w="1800" h="5856">
                  <a:moveTo>
                    <a:pt x="1792" y="5395"/>
                  </a:moveTo>
                  <a:lnTo>
                    <a:pt x="1795" y="5338"/>
                  </a:lnTo>
                  <a:lnTo>
                    <a:pt x="1797" y="5255"/>
                  </a:lnTo>
                  <a:lnTo>
                    <a:pt x="1799" y="5156"/>
                  </a:lnTo>
                  <a:lnTo>
                    <a:pt x="1800" y="5053"/>
                  </a:lnTo>
                  <a:lnTo>
                    <a:pt x="1800" y="4957"/>
                  </a:lnTo>
                  <a:lnTo>
                    <a:pt x="1799" y="4879"/>
                  </a:lnTo>
                  <a:lnTo>
                    <a:pt x="1798" y="4850"/>
                  </a:lnTo>
                  <a:lnTo>
                    <a:pt x="1796" y="4830"/>
                  </a:lnTo>
                  <a:lnTo>
                    <a:pt x="1795" y="4822"/>
                  </a:lnTo>
                  <a:lnTo>
                    <a:pt x="1794" y="4819"/>
                  </a:lnTo>
                  <a:lnTo>
                    <a:pt x="1793" y="4818"/>
                  </a:lnTo>
                  <a:lnTo>
                    <a:pt x="1791" y="4820"/>
                  </a:lnTo>
                  <a:lnTo>
                    <a:pt x="1766" y="4873"/>
                  </a:lnTo>
                  <a:lnTo>
                    <a:pt x="1739" y="4923"/>
                  </a:lnTo>
                  <a:lnTo>
                    <a:pt x="1707" y="4969"/>
                  </a:lnTo>
                  <a:lnTo>
                    <a:pt x="1672" y="5012"/>
                  </a:lnTo>
                  <a:lnTo>
                    <a:pt x="1636" y="5053"/>
                  </a:lnTo>
                  <a:lnTo>
                    <a:pt x="1595" y="5090"/>
                  </a:lnTo>
                  <a:lnTo>
                    <a:pt x="1553" y="5124"/>
                  </a:lnTo>
                  <a:lnTo>
                    <a:pt x="1509" y="5155"/>
                  </a:lnTo>
                  <a:lnTo>
                    <a:pt x="1463" y="5183"/>
                  </a:lnTo>
                  <a:lnTo>
                    <a:pt x="1416" y="5209"/>
                  </a:lnTo>
                  <a:lnTo>
                    <a:pt x="1367" y="5232"/>
                  </a:lnTo>
                  <a:lnTo>
                    <a:pt x="1318" y="5250"/>
                  </a:lnTo>
                  <a:lnTo>
                    <a:pt x="1268" y="5266"/>
                  </a:lnTo>
                  <a:lnTo>
                    <a:pt x="1218" y="5280"/>
                  </a:lnTo>
                  <a:lnTo>
                    <a:pt x="1168" y="5290"/>
                  </a:lnTo>
                  <a:lnTo>
                    <a:pt x="1119" y="5298"/>
                  </a:lnTo>
                  <a:lnTo>
                    <a:pt x="1070" y="5302"/>
                  </a:lnTo>
                  <a:lnTo>
                    <a:pt x="1022" y="5303"/>
                  </a:lnTo>
                  <a:lnTo>
                    <a:pt x="975" y="5302"/>
                  </a:lnTo>
                  <a:lnTo>
                    <a:pt x="930" y="5296"/>
                  </a:lnTo>
                  <a:lnTo>
                    <a:pt x="886" y="5289"/>
                  </a:lnTo>
                  <a:lnTo>
                    <a:pt x="846" y="5279"/>
                  </a:lnTo>
                  <a:lnTo>
                    <a:pt x="807" y="5266"/>
                  </a:lnTo>
                  <a:lnTo>
                    <a:pt x="771" y="5249"/>
                  </a:lnTo>
                  <a:lnTo>
                    <a:pt x="738" y="5231"/>
                  </a:lnTo>
                  <a:lnTo>
                    <a:pt x="709" y="5209"/>
                  </a:lnTo>
                  <a:lnTo>
                    <a:pt x="682" y="5183"/>
                  </a:lnTo>
                  <a:lnTo>
                    <a:pt x="659" y="5156"/>
                  </a:lnTo>
                  <a:lnTo>
                    <a:pt x="642" y="5126"/>
                  </a:lnTo>
                  <a:lnTo>
                    <a:pt x="628" y="5092"/>
                  </a:lnTo>
                  <a:lnTo>
                    <a:pt x="619" y="5056"/>
                  </a:lnTo>
                  <a:lnTo>
                    <a:pt x="615" y="5016"/>
                  </a:lnTo>
                  <a:lnTo>
                    <a:pt x="612" y="4857"/>
                  </a:lnTo>
                  <a:lnTo>
                    <a:pt x="610" y="4699"/>
                  </a:lnTo>
                  <a:lnTo>
                    <a:pt x="609" y="4541"/>
                  </a:lnTo>
                  <a:lnTo>
                    <a:pt x="610" y="4383"/>
                  </a:lnTo>
                  <a:lnTo>
                    <a:pt x="612" y="4225"/>
                  </a:lnTo>
                  <a:lnTo>
                    <a:pt x="615" y="4068"/>
                  </a:lnTo>
                  <a:lnTo>
                    <a:pt x="620" y="3911"/>
                  </a:lnTo>
                  <a:lnTo>
                    <a:pt x="625" y="3755"/>
                  </a:lnTo>
                  <a:lnTo>
                    <a:pt x="631" y="3598"/>
                  </a:lnTo>
                  <a:lnTo>
                    <a:pt x="637" y="3442"/>
                  </a:lnTo>
                  <a:lnTo>
                    <a:pt x="645" y="3286"/>
                  </a:lnTo>
                  <a:lnTo>
                    <a:pt x="653" y="3130"/>
                  </a:lnTo>
                  <a:lnTo>
                    <a:pt x="670" y="2820"/>
                  </a:lnTo>
                  <a:lnTo>
                    <a:pt x="687" y="2508"/>
                  </a:lnTo>
                  <a:lnTo>
                    <a:pt x="704" y="2197"/>
                  </a:lnTo>
                  <a:lnTo>
                    <a:pt x="721" y="1886"/>
                  </a:lnTo>
                  <a:lnTo>
                    <a:pt x="728" y="1730"/>
                  </a:lnTo>
                  <a:lnTo>
                    <a:pt x="736" y="1575"/>
                  </a:lnTo>
                  <a:lnTo>
                    <a:pt x="742" y="1419"/>
                  </a:lnTo>
                  <a:lnTo>
                    <a:pt x="748" y="1262"/>
                  </a:lnTo>
                  <a:lnTo>
                    <a:pt x="754" y="1105"/>
                  </a:lnTo>
                  <a:lnTo>
                    <a:pt x="758" y="949"/>
                  </a:lnTo>
                  <a:lnTo>
                    <a:pt x="761" y="791"/>
                  </a:lnTo>
                  <a:lnTo>
                    <a:pt x="763" y="634"/>
                  </a:lnTo>
                  <a:lnTo>
                    <a:pt x="764" y="476"/>
                  </a:lnTo>
                  <a:lnTo>
                    <a:pt x="763" y="318"/>
                  </a:lnTo>
                  <a:lnTo>
                    <a:pt x="762" y="159"/>
                  </a:lnTo>
                  <a:lnTo>
                    <a:pt x="759" y="0"/>
                  </a:lnTo>
                  <a:lnTo>
                    <a:pt x="130" y="12"/>
                  </a:lnTo>
                  <a:lnTo>
                    <a:pt x="0" y="5023"/>
                  </a:lnTo>
                  <a:lnTo>
                    <a:pt x="1" y="5090"/>
                  </a:lnTo>
                  <a:lnTo>
                    <a:pt x="10" y="5156"/>
                  </a:lnTo>
                  <a:lnTo>
                    <a:pt x="26" y="5220"/>
                  </a:lnTo>
                  <a:lnTo>
                    <a:pt x="48" y="5283"/>
                  </a:lnTo>
                  <a:lnTo>
                    <a:pt x="78" y="5344"/>
                  </a:lnTo>
                  <a:lnTo>
                    <a:pt x="113" y="5401"/>
                  </a:lnTo>
                  <a:lnTo>
                    <a:pt x="154" y="5457"/>
                  </a:lnTo>
                  <a:lnTo>
                    <a:pt x="200" y="5510"/>
                  </a:lnTo>
                  <a:lnTo>
                    <a:pt x="251" y="5560"/>
                  </a:lnTo>
                  <a:lnTo>
                    <a:pt x="306" y="5607"/>
                  </a:lnTo>
                  <a:lnTo>
                    <a:pt x="365" y="5651"/>
                  </a:lnTo>
                  <a:lnTo>
                    <a:pt x="428" y="5691"/>
                  </a:lnTo>
                  <a:lnTo>
                    <a:pt x="493" y="5728"/>
                  </a:lnTo>
                  <a:lnTo>
                    <a:pt x="562" y="5760"/>
                  </a:lnTo>
                  <a:lnTo>
                    <a:pt x="633" y="5788"/>
                  </a:lnTo>
                  <a:lnTo>
                    <a:pt x="705" y="5811"/>
                  </a:lnTo>
                  <a:lnTo>
                    <a:pt x="780" y="5830"/>
                  </a:lnTo>
                  <a:lnTo>
                    <a:pt x="855" y="5845"/>
                  </a:lnTo>
                  <a:lnTo>
                    <a:pt x="930" y="5853"/>
                  </a:lnTo>
                  <a:lnTo>
                    <a:pt x="1007" y="5856"/>
                  </a:lnTo>
                  <a:lnTo>
                    <a:pt x="1083" y="5854"/>
                  </a:lnTo>
                  <a:lnTo>
                    <a:pt x="1159" y="5847"/>
                  </a:lnTo>
                  <a:lnTo>
                    <a:pt x="1233" y="5832"/>
                  </a:lnTo>
                  <a:lnTo>
                    <a:pt x="1306" y="5812"/>
                  </a:lnTo>
                  <a:lnTo>
                    <a:pt x="1377" y="5785"/>
                  </a:lnTo>
                  <a:lnTo>
                    <a:pt x="1446" y="5752"/>
                  </a:lnTo>
                  <a:lnTo>
                    <a:pt x="1513" y="5711"/>
                  </a:lnTo>
                  <a:lnTo>
                    <a:pt x="1576" y="5663"/>
                  </a:lnTo>
                  <a:lnTo>
                    <a:pt x="1636" y="5608"/>
                  </a:lnTo>
                  <a:lnTo>
                    <a:pt x="1692" y="5544"/>
                  </a:lnTo>
                  <a:lnTo>
                    <a:pt x="1743" y="5474"/>
                  </a:lnTo>
                  <a:lnTo>
                    <a:pt x="1792" y="5395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95560" y="4984920"/>
              <a:ext cx="403200" cy="263520"/>
            </a:xfrm>
            <a:custGeom>
              <a:avLst/>
              <a:gdLst/>
              <a:ahLst/>
              <a:rect l="l" t="t" r="r" b="b"/>
              <a:pathLst>
                <a:path w="10827" h="7754">
                  <a:moveTo>
                    <a:pt x="3622" y="6244"/>
                  </a:moveTo>
                  <a:lnTo>
                    <a:pt x="3510" y="6322"/>
                  </a:lnTo>
                  <a:lnTo>
                    <a:pt x="3400" y="6397"/>
                  </a:lnTo>
                  <a:lnTo>
                    <a:pt x="3291" y="6469"/>
                  </a:lnTo>
                  <a:lnTo>
                    <a:pt x="3184" y="6537"/>
                  </a:lnTo>
                  <a:lnTo>
                    <a:pt x="3079" y="6603"/>
                  </a:lnTo>
                  <a:lnTo>
                    <a:pt x="2978" y="6664"/>
                  </a:lnTo>
                  <a:lnTo>
                    <a:pt x="2879" y="6720"/>
                  </a:lnTo>
                  <a:lnTo>
                    <a:pt x="2783" y="6773"/>
                  </a:lnTo>
                  <a:lnTo>
                    <a:pt x="2690" y="6820"/>
                  </a:lnTo>
                  <a:lnTo>
                    <a:pt x="2601" y="6861"/>
                  </a:lnTo>
                  <a:lnTo>
                    <a:pt x="2516" y="6896"/>
                  </a:lnTo>
                  <a:lnTo>
                    <a:pt x="2435" y="6925"/>
                  </a:lnTo>
                  <a:lnTo>
                    <a:pt x="2358" y="6948"/>
                  </a:lnTo>
                  <a:lnTo>
                    <a:pt x="2285" y="6962"/>
                  </a:lnTo>
                  <a:lnTo>
                    <a:pt x="2218" y="6970"/>
                  </a:lnTo>
                  <a:lnTo>
                    <a:pt x="2155" y="6970"/>
                  </a:lnTo>
                  <a:lnTo>
                    <a:pt x="2098" y="6960"/>
                  </a:lnTo>
                  <a:lnTo>
                    <a:pt x="2046" y="6943"/>
                  </a:lnTo>
                  <a:lnTo>
                    <a:pt x="1999" y="6917"/>
                  </a:lnTo>
                  <a:lnTo>
                    <a:pt x="1960" y="6881"/>
                  </a:lnTo>
                  <a:lnTo>
                    <a:pt x="1926" y="6836"/>
                  </a:lnTo>
                  <a:lnTo>
                    <a:pt x="1899" y="6779"/>
                  </a:lnTo>
                  <a:lnTo>
                    <a:pt x="1878" y="6713"/>
                  </a:lnTo>
                  <a:lnTo>
                    <a:pt x="1865" y="6636"/>
                  </a:lnTo>
                  <a:lnTo>
                    <a:pt x="1858" y="6547"/>
                  </a:lnTo>
                  <a:lnTo>
                    <a:pt x="1859" y="6446"/>
                  </a:lnTo>
                  <a:lnTo>
                    <a:pt x="1869" y="6333"/>
                  </a:lnTo>
                  <a:lnTo>
                    <a:pt x="1885" y="6208"/>
                  </a:lnTo>
                  <a:lnTo>
                    <a:pt x="1911" y="6070"/>
                  </a:lnTo>
                  <a:lnTo>
                    <a:pt x="1944" y="5918"/>
                  </a:lnTo>
                  <a:lnTo>
                    <a:pt x="1987" y="5753"/>
                  </a:lnTo>
                  <a:lnTo>
                    <a:pt x="2038" y="5573"/>
                  </a:lnTo>
                  <a:lnTo>
                    <a:pt x="1855" y="5541"/>
                  </a:lnTo>
                  <a:lnTo>
                    <a:pt x="1680" y="5507"/>
                  </a:lnTo>
                  <a:lnTo>
                    <a:pt x="1514" y="5469"/>
                  </a:lnTo>
                  <a:lnTo>
                    <a:pt x="1357" y="5429"/>
                  </a:lnTo>
                  <a:lnTo>
                    <a:pt x="1208" y="5385"/>
                  </a:lnTo>
                  <a:lnTo>
                    <a:pt x="1068" y="5339"/>
                  </a:lnTo>
                  <a:lnTo>
                    <a:pt x="936" y="5289"/>
                  </a:lnTo>
                  <a:lnTo>
                    <a:pt x="814" y="5237"/>
                  </a:lnTo>
                  <a:lnTo>
                    <a:pt x="700" y="5181"/>
                  </a:lnTo>
                  <a:lnTo>
                    <a:pt x="594" y="5123"/>
                  </a:lnTo>
                  <a:lnTo>
                    <a:pt x="497" y="5061"/>
                  </a:lnTo>
                  <a:lnTo>
                    <a:pt x="409" y="4997"/>
                  </a:lnTo>
                  <a:lnTo>
                    <a:pt x="328" y="4929"/>
                  </a:lnTo>
                  <a:lnTo>
                    <a:pt x="257" y="4859"/>
                  </a:lnTo>
                  <a:lnTo>
                    <a:pt x="196" y="4786"/>
                  </a:lnTo>
                  <a:lnTo>
                    <a:pt x="141" y="4708"/>
                  </a:lnTo>
                  <a:lnTo>
                    <a:pt x="96" y="4629"/>
                  </a:lnTo>
                  <a:lnTo>
                    <a:pt x="60" y="4547"/>
                  </a:lnTo>
                  <a:lnTo>
                    <a:pt x="31" y="4461"/>
                  </a:lnTo>
                  <a:lnTo>
                    <a:pt x="12" y="4372"/>
                  </a:lnTo>
                  <a:lnTo>
                    <a:pt x="2" y="4281"/>
                  </a:lnTo>
                  <a:lnTo>
                    <a:pt x="0" y="4186"/>
                  </a:lnTo>
                  <a:lnTo>
                    <a:pt x="6" y="4089"/>
                  </a:lnTo>
                  <a:lnTo>
                    <a:pt x="22" y="3988"/>
                  </a:lnTo>
                  <a:lnTo>
                    <a:pt x="45" y="3885"/>
                  </a:lnTo>
                  <a:lnTo>
                    <a:pt x="77" y="3778"/>
                  </a:lnTo>
                  <a:lnTo>
                    <a:pt x="119" y="3669"/>
                  </a:lnTo>
                  <a:lnTo>
                    <a:pt x="168" y="3556"/>
                  </a:lnTo>
                  <a:lnTo>
                    <a:pt x="227" y="3441"/>
                  </a:lnTo>
                  <a:lnTo>
                    <a:pt x="294" y="3323"/>
                  </a:lnTo>
                  <a:lnTo>
                    <a:pt x="369" y="3200"/>
                  </a:lnTo>
                  <a:lnTo>
                    <a:pt x="454" y="3076"/>
                  </a:lnTo>
                  <a:lnTo>
                    <a:pt x="457" y="2999"/>
                  </a:lnTo>
                  <a:lnTo>
                    <a:pt x="461" y="2922"/>
                  </a:lnTo>
                  <a:lnTo>
                    <a:pt x="468" y="2847"/>
                  </a:lnTo>
                  <a:lnTo>
                    <a:pt x="476" y="2772"/>
                  </a:lnTo>
                  <a:lnTo>
                    <a:pt x="486" y="2699"/>
                  </a:lnTo>
                  <a:lnTo>
                    <a:pt x="498" y="2628"/>
                  </a:lnTo>
                  <a:lnTo>
                    <a:pt x="513" y="2559"/>
                  </a:lnTo>
                  <a:lnTo>
                    <a:pt x="530" y="2492"/>
                  </a:lnTo>
                  <a:lnTo>
                    <a:pt x="550" y="2426"/>
                  </a:lnTo>
                  <a:lnTo>
                    <a:pt x="573" y="2363"/>
                  </a:lnTo>
                  <a:lnTo>
                    <a:pt x="599" y="2303"/>
                  </a:lnTo>
                  <a:lnTo>
                    <a:pt x="630" y="2245"/>
                  </a:lnTo>
                  <a:lnTo>
                    <a:pt x="663" y="2190"/>
                  </a:lnTo>
                  <a:lnTo>
                    <a:pt x="700" y="2137"/>
                  </a:lnTo>
                  <a:lnTo>
                    <a:pt x="742" y="2088"/>
                  </a:lnTo>
                  <a:lnTo>
                    <a:pt x="788" y="2042"/>
                  </a:lnTo>
                  <a:lnTo>
                    <a:pt x="838" y="2000"/>
                  </a:lnTo>
                  <a:lnTo>
                    <a:pt x="892" y="1961"/>
                  </a:lnTo>
                  <a:lnTo>
                    <a:pt x="952" y="1926"/>
                  </a:lnTo>
                  <a:lnTo>
                    <a:pt x="1018" y="1895"/>
                  </a:lnTo>
                  <a:lnTo>
                    <a:pt x="1088" y="1867"/>
                  </a:lnTo>
                  <a:lnTo>
                    <a:pt x="1164" y="1843"/>
                  </a:lnTo>
                  <a:lnTo>
                    <a:pt x="1246" y="1824"/>
                  </a:lnTo>
                  <a:lnTo>
                    <a:pt x="1334" y="1810"/>
                  </a:lnTo>
                  <a:lnTo>
                    <a:pt x="1428" y="1800"/>
                  </a:lnTo>
                  <a:lnTo>
                    <a:pt x="1529" y="1795"/>
                  </a:lnTo>
                  <a:lnTo>
                    <a:pt x="1635" y="1796"/>
                  </a:lnTo>
                  <a:lnTo>
                    <a:pt x="1749" y="1800"/>
                  </a:lnTo>
                  <a:lnTo>
                    <a:pt x="1871" y="1812"/>
                  </a:lnTo>
                  <a:lnTo>
                    <a:pt x="1998" y="1828"/>
                  </a:lnTo>
                  <a:lnTo>
                    <a:pt x="2134" y="1849"/>
                  </a:lnTo>
                  <a:lnTo>
                    <a:pt x="2278" y="1876"/>
                  </a:lnTo>
                  <a:lnTo>
                    <a:pt x="2318" y="1785"/>
                  </a:lnTo>
                  <a:lnTo>
                    <a:pt x="2359" y="1696"/>
                  </a:lnTo>
                  <a:lnTo>
                    <a:pt x="2402" y="1608"/>
                  </a:lnTo>
                  <a:lnTo>
                    <a:pt x="2448" y="1521"/>
                  </a:lnTo>
                  <a:lnTo>
                    <a:pt x="2498" y="1437"/>
                  </a:lnTo>
                  <a:lnTo>
                    <a:pt x="2550" y="1356"/>
                  </a:lnTo>
                  <a:lnTo>
                    <a:pt x="2605" y="1277"/>
                  </a:lnTo>
                  <a:lnTo>
                    <a:pt x="2664" y="1201"/>
                  </a:lnTo>
                  <a:lnTo>
                    <a:pt x="2728" y="1128"/>
                  </a:lnTo>
                  <a:lnTo>
                    <a:pt x="2795" y="1059"/>
                  </a:lnTo>
                  <a:lnTo>
                    <a:pt x="2867" y="992"/>
                  </a:lnTo>
                  <a:lnTo>
                    <a:pt x="2944" y="930"/>
                  </a:lnTo>
                  <a:lnTo>
                    <a:pt x="3026" y="871"/>
                  </a:lnTo>
                  <a:lnTo>
                    <a:pt x="3114" y="817"/>
                  </a:lnTo>
                  <a:lnTo>
                    <a:pt x="3207" y="767"/>
                  </a:lnTo>
                  <a:lnTo>
                    <a:pt x="3306" y="722"/>
                  </a:lnTo>
                  <a:lnTo>
                    <a:pt x="3413" y="681"/>
                  </a:lnTo>
                  <a:lnTo>
                    <a:pt x="3525" y="646"/>
                  </a:lnTo>
                  <a:lnTo>
                    <a:pt x="3645" y="616"/>
                  </a:lnTo>
                  <a:lnTo>
                    <a:pt x="3772" y="592"/>
                  </a:lnTo>
                  <a:lnTo>
                    <a:pt x="3907" y="574"/>
                  </a:lnTo>
                  <a:lnTo>
                    <a:pt x="4049" y="562"/>
                  </a:lnTo>
                  <a:lnTo>
                    <a:pt x="4200" y="555"/>
                  </a:lnTo>
                  <a:lnTo>
                    <a:pt x="4359" y="555"/>
                  </a:lnTo>
                  <a:lnTo>
                    <a:pt x="4526" y="563"/>
                  </a:lnTo>
                  <a:lnTo>
                    <a:pt x="4704" y="576"/>
                  </a:lnTo>
                  <a:lnTo>
                    <a:pt x="4891" y="598"/>
                  </a:lnTo>
                  <a:lnTo>
                    <a:pt x="5086" y="626"/>
                  </a:lnTo>
                  <a:lnTo>
                    <a:pt x="5292" y="663"/>
                  </a:lnTo>
                  <a:lnTo>
                    <a:pt x="5509" y="707"/>
                  </a:lnTo>
                  <a:lnTo>
                    <a:pt x="5736" y="759"/>
                  </a:lnTo>
                  <a:lnTo>
                    <a:pt x="5975" y="820"/>
                  </a:lnTo>
                  <a:lnTo>
                    <a:pt x="6144" y="666"/>
                  </a:lnTo>
                  <a:lnTo>
                    <a:pt x="6306" y="529"/>
                  </a:lnTo>
                  <a:lnTo>
                    <a:pt x="6460" y="410"/>
                  </a:lnTo>
                  <a:lnTo>
                    <a:pt x="6606" y="306"/>
                  </a:lnTo>
                  <a:lnTo>
                    <a:pt x="6744" y="218"/>
                  </a:lnTo>
                  <a:lnTo>
                    <a:pt x="6875" y="146"/>
                  </a:lnTo>
                  <a:lnTo>
                    <a:pt x="6999" y="89"/>
                  </a:lnTo>
                  <a:lnTo>
                    <a:pt x="7115" y="46"/>
                  </a:lnTo>
                  <a:lnTo>
                    <a:pt x="7225" y="17"/>
                  </a:lnTo>
                  <a:lnTo>
                    <a:pt x="7329" y="2"/>
                  </a:lnTo>
                  <a:lnTo>
                    <a:pt x="7426" y="0"/>
                  </a:lnTo>
                  <a:lnTo>
                    <a:pt x="7517" y="10"/>
                  </a:lnTo>
                  <a:lnTo>
                    <a:pt x="7602" y="32"/>
                  </a:lnTo>
                  <a:lnTo>
                    <a:pt x="7681" y="67"/>
                  </a:lnTo>
                  <a:lnTo>
                    <a:pt x="7756" y="112"/>
                  </a:lnTo>
                  <a:lnTo>
                    <a:pt x="7826" y="167"/>
                  </a:lnTo>
                  <a:lnTo>
                    <a:pt x="7890" y="233"/>
                  </a:lnTo>
                  <a:lnTo>
                    <a:pt x="7949" y="308"/>
                  </a:lnTo>
                  <a:lnTo>
                    <a:pt x="8005" y="393"/>
                  </a:lnTo>
                  <a:lnTo>
                    <a:pt x="8056" y="486"/>
                  </a:lnTo>
                  <a:lnTo>
                    <a:pt x="8102" y="589"/>
                  </a:lnTo>
                  <a:lnTo>
                    <a:pt x="8146" y="698"/>
                  </a:lnTo>
                  <a:lnTo>
                    <a:pt x="8186" y="815"/>
                  </a:lnTo>
                  <a:lnTo>
                    <a:pt x="8222" y="938"/>
                  </a:lnTo>
                  <a:lnTo>
                    <a:pt x="8256" y="1068"/>
                  </a:lnTo>
                  <a:lnTo>
                    <a:pt x="8286" y="1204"/>
                  </a:lnTo>
                  <a:lnTo>
                    <a:pt x="8314" y="1345"/>
                  </a:lnTo>
                  <a:lnTo>
                    <a:pt x="8339" y="1492"/>
                  </a:lnTo>
                  <a:lnTo>
                    <a:pt x="8364" y="1642"/>
                  </a:lnTo>
                  <a:lnTo>
                    <a:pt x="8384" y="1797"/>
                  </a:lnTo>
                  <a:lnTo>
                    <a:pt x="8404" y="1955"/>
                  </a:lnTo>
                  <a:lnTo>
                    <a:pt x="8423" y="2116"/>
                  </a:lnTo>
                  <a:lnTo>
                    <a:pt x="8630" y="2220"/>
                  </a:lnTo>
                  <a:lnTo>
                    <a:pt x="8830" y="2326"/>
                  </a:lnTo>
                  <a:lnTo>
                    <a:pt x="9022" y="2435"/>
                  </a:lnTo>
                  <a:lnTo>
                    <a:pt x="9205" y="2545"/>
                  </a:lnTo>
                  <a:lnTo>
                    <a:pt x="9381" y="2658"/>
                  </a:lnTo>
                  <a:lnTo>
                    <a:pt x="9547" y="2774"/>
                  </a:lnTo>
                  <a:lnTo>
                    <a:pt x="9705" y="2892"/>
                  </a:lnTo>
                  <a:lnTo>
                    <a:pt x="9854" y="3012"/>
                  </a:lnTo>
                  <a:lnTo>
                    <a:pt x="9993" y="3137"/>
                  </a:lnTo>
                  <a:lnTo>
                    <a:pt x="10123" y="3262"/>
                  </a:lnTo>
                  <a:lnTo>
                    <a:pt x="10242" y="3392"/>
                  </a:lnTo>
                  <a:lnTo>
                    <a:pt x="10351" y="3524"/>
                  </a:lnTo>
                  <a:lnTo>
                    <a:pt x="10450" y="3660"/>
                  </a:lnTo>
                  <a:lnTo>
                    <a:pt x="10538" y="3798"/>
                  </a:lnTo>
                  <a:lnTo>
                    <a:pt x="10614" y="3939"/>
                  </a:lnTo>
                  <a:lnTo>
                    <a:pt x="10679" y="4085"/>
                  </a:lnTo>
                  <a:lnTo>
                    <a:pt x="10734" y="4233"/>
                  </a:lnTo>
                  <a:lnTo>
                    <a:pt x="10775" y="4385"/>
                  </a:lnTo>
                  <a:lnTo>
                    <a:pt x="10805" y="4540"/>
                  </a:lnTo>
                  <a:lnTo>
                    <a:pt x="10823" y="4699"/>
                  </a:lnTo>
                  <a:lnTo>
                    <a:pt x="10827" y="4862"/>
                  </a:lnTo>
                  <a:lnTo>
                    <a:pt x="10818" y="5028"/>
                  </a:lnTo>
                  <a:lnTo>
                    <a:pt x="10796" y="5198"/>
                  </a:lnTo>
                  <a:lnTo>
                    <a:pt x="10762" y="5373"/>
                  </a:lnTo>
                  <a:lnTo>
                    <a:pt x="10713" y="5551"/>
                  </a:lnTo>
                  <a:lnTo>
                    <a:pt x="10649" y="5733"/>
                  </a:lnTo>
                  <a:lnTo>
                    <a:pt x="10571" y="5920"/>
                  </a:lnTo>
                  <a:lnTo>
                    <a:pt x="10479" y="6110"/>
                  </a:lnTo>
                  <a:lnTo>
                    <a:pt x="10373" y="6305"/>
                  </a:lnTo>
                  <a:lnTo>
                    <a:pt x="10250" y="6505"/>
                  </a:lnTo>
                  <a:lnTo>
                    <a:pt x="10113" y="6709"/>
                  </a:lnTo>
                  <a:lnTo>
                    <a:pt x="9959" y="6917"/>
                  </a:lnTo>
                  <a:lnTo>
                    <a:pt x="9872" y="6991"/>
                  </a:lnTo>
                  <a:lnTo>
                    <a:pt x="9786" y="7065"/>
                  </a:lnTo>
                  <a:lnTo>
                    <a:pt x="9699" y="7135"/>
                  </a:lnTo>
                  <a:lnTo>
                    <a:pt x="9613" y="7203"/>
                  </a:lnTo>
                  <a:lnTo>
                    <a:pt x="9527" y="7269"/>
                  </a:lnTo>
                  <a:lnTo>
                    <a:pt x="9441" y="7332"/>
                  </a:lnTo>
                  <a:lnTo>
                    <a:pt x="9357" y="7391"/>
                  </a:lnTo>
                  <a:lnTo>
                    <a:pt x="9272" y="7447"/>
                  </a:lnTo>
                  <a:lnTo>
                    <a:pt x="9188" y="7499"/>
                  </a:lnTo>
                  <a:lnTo>
                    <a:pt x="9104" y="7548"/>
                  </a:lnTo>
                  <a:lnTo>
                    <a:pt x="9021" y="7591"/>
                  </a:lnTo>
                  <a:lnTo>
                    <a:pt x="8938" y="7631"/>
                  </a:lnTo>
                  <a:lnTo>
                    <a:pt x="8856" y="7665"/>
                  </a:lnTo>
                  <a:lnTo>
                    <a:pt x="8775" y="7695"/>
                  </a:lnTo>
                  <a:lnTo>
                    <a:pt x="8694" y="7719"/>
                  </a:lnTo>
                  <a:lnTo>
                    <a:pt x="8615" y="7736"/>
                  </a:lnTo>
                  <a:lnTo>
                    <a:pt x="8535" y="7748"/>
                  </a:lnTo>
                  <a:lnTo>
                    <a:pt x="8457" y="7754"/>
                  </a:lnTo>
                  <a:lnTo>
                    <a:pt x="8379" y="7753"/>
                  </a:lnTo>
                  <a:lnTo>
                    <a:pt x="8303" y="7745"/>
                  </a:lnTo>
                  <a:lnTo>
                    <a:pt x="8228" y="7730"/>
                  </a:lnTo>
                  <a:lnTo>
                    <a:pt x="8152" y="7708"/>
                  </a:lnTo>
                  <a:lnTo>
                    <a:pt x="8078" y="7678"/>
                  </a:lnTo>
                  <a:lnTo>
                    <a:pt x="8006" y="7639"/>
                  </a:lnTo>
                  <a:lnTo>
                    <a:pt x="7933" y="7593"/>
                  </a:lnTo>
                  <a:lnTo>
                    <a:pt x="7862" y="7539"/>
                  </a:lnTo>
                  <a:lnTo>
                    <a:pt x="7793" y="7475"/>
                  </a:lnTo>
                  <a:lnTo>
                    <a:pt x="7724" y="7402"/>
                  </a:lnTo>
                  <a:lnTo>
                    <a:pt x="7657" y="7319"/>
                  </a:lnTo>
                  <a:lnTo>
                    <a:pt x="7591" y="7227"/>
                  </a:lnTo>
                  <a:lnTo>
                    <a:pt x="7526" y="7125"/>
                  </a:lnTo>
                  <a:lnTo>
                    <a:pt x="7463" y="7013"/>
                  </a:lnTo>
                  <a:lnTo>
                    <a:pt x="7330" y="7002"/>
                  </a:lnTo>
                  <a:lnTo>
                    <a:pt x="7203" y="6987"/>
                  </a:lnTo>
                  <a:lnTo>
                    <a:pt x="7084" y="6972"/>
                  </a:lnTo>
                  <a:lnTo>
                    <a:pt x="6971" y="6953"/>
                  </a:lnTo>
                  <a:lnTo>
                    <a:pt x="6864" y="6933"/>
                  </a:lnTo>
                  <a:lnTo>
                    <a:pt x="6765" y="6910"/>
                  </a:lnTo>
                  <a:lnTo>
                    <a:pt x="6673" y="6885"/>
                  </a:lnTo>
                  <a:lnTo>
                    <a:pt x="6587" y="6856"/>
                  </a:lnTo>
                  <a:lnTo>
                    <a:pt x="6507" y="6827"/>
                  </a:lnTo>
                  <a:lnTo>
                    <a:pt x="6435" y="6796"/>
                  </a:lnTo>
                  <a:lnTo>
                    <a:pt x="6369" y="6761"/>
                  </a:lnTo>
                  <a:lnTo>
                    <a:pt x="6311" y="6725"/>
                  </a:lnTo>
                  <a:lnTo>
                    <a:pt x="6258" y="6687"/>
                  </a:lnTo>
                  <a:lnTo>
                    <a:pt x="6213" y="6645"/>
                  </a:lnTo>
                  <a:lnTo>
                    <a:pt x="6175" y="6602"/>
                  </a:lnTo>
                  <a:lnTo>
                    <a:pt x="6143" y="6557"/>
                  </a:lnTo>
                  <a:lnTo>
                    <a:pt x="6117" y="6509"/>
                  </a:lnTo>
                  <a:lnTo>
                    <a:pt x="6099" y="6460"/>
                  </a:lnTo>
                  <a:lnTo>
                    <a:pt x="6088" y="6408"/>
                  </a:lnTo>
                  <a:lnTo>
                    <a:pt x="6082" y="6353"/>
                  </a:lnTo>
                  <a:lnTo>
                    <a:pt x="6085" y="6297"/>
                  </a:lnTo>
                  <a:lnTo>
                    <a:pt x="6093" y="6237"/>
                  </a:lnTo>
                  <a:lnTo>
                    <a:pt x="6109" y="6176"/>
                  </a:lnTo>
                  <a:lnTo>
                    <a:pt x="6131" y="6113"/>
                  </a:lnTo>
                  <a:lnTo>
                    <a:pt x="6159" y="6048"/>
                  </a:lnTo>
                  <a:lnTo>
                    <a:pt x="6195" y="5980"/>
                  </a:lnTo>
                  <a:lnTo>
                    <a:pt x="6237" y="5910"/>
                  </a:lnTo>
                  <a:lnTo>
                    <a:pt x="6286" y="5837"/>
                  </a:lnTo>
                  <a:lnTo>
                    <a:pt x="6342" y="5762"/>
                  </a:lnTo>
                  <a:lnTo>
                    <a:pt x="6405" y="5686"/>
                  </a:lnTo>
                  <a:lnTo>
                    <a:pt x="6475" y="5606"/>
                  </a:lnTo>
                  <a:lnTo>
                    <a:pt x="6551" y="5524"/>
                  </a:lnTo>
                  <a:lnTo>
                    <a:pt x="6611" y="5500"/>
                  </a:lnTo>
                  <a:lnTo>
                    <a:pt x="6671" y="5476"/>
                  </a:lnTo>
                  <a:lnTo>
                    <a:pt x="6730" y="5453"/>
                  </a:lnTo>
                  <a:lnTo>
                    <a:pt x="6791" y="5429"/>
                  </a:lnTo>
                  <a:lnTo>
                    <a:pt x="6850" y="5405"/>
                  </a:lnTo>
                  <a:lnTo>
                    <a:pt x="6911" y="5381"/>
                  </a:lnTo>
                  <a:lnTo>
                    <a:pt x="6971" y="5357"/>
                  </a:lnTo>
                  <a:lnTo>
                    <a:pt x="7030" y="5333"/>
                  </a:lnTo>
                  <a:lnTo>
                    <a:pt x="6968" y="5420"/>
                  </a:lnTo>
                  <a:lnTo>
                    <a:pt x="6910" y="5504"/>
                  </a:lnTo>
                  <a:lnTo>
                    <a:pt x="6858" y="5585"/>
                  </a:lnTo>
                  <a:lnTo>
                    <a:pt x="6812" y="5663"/>
                  </a:lnTo>
                  <a:lnTo>
                    <a:pt x="6771" y="5738"/>
                  </a:lnTo>
                  <a:lnTo>
                    <a:pt x="6735" y="5810"/>
                  </a:lnTo>
                  <a:lnTo>
                    <a:pt x="6706" y="5879"/>
                  </a:lnTo>
                  <a:lnTo>
                    <a:pt x="6683" y="5945"/>
                  </a:lnTo>
                  <a:lnTo>
                    <a:pt x="6664" y="6008"/>
                  </a:lnTo>
                  <a:lnTo>
                    <a:pt x="6652" y="6068"/>
                  </a:lnTo>
                  <a:lnTo>
                    <a:pt x="6644" y="6125"/>
                  </a:lnTo>
                  <a:lnTo>
                    <a:pt x="6643" y="6178"/>
                  </a:lnTo>
                  <a:lnTo>
                    <a:pt x="6647" y="6230"/>
                  </a:lnTo>
                  <a:lnTo>
                    <a:pt x="6658" y="6278"/>
                  </a:lnTo>
                  <a:lnTo>
                    <a:pt x="6674" y="6323"/>
                  </a:lnTo>
                  <a:lnTo>
                    <a:pt x="6695" y="6365"/>
                  </a:lnTo>
                  <a:lnTo>
                    <a:pt x="6722" y="6404"/>
                  </a:lnTo>
                  <a:lnTo>
                    <a:pt x="6754" y="6440"/>
                  </a:lnTo>
                  <a:lnTo>
                    <a:pt x="6792" y="6474"/>
                  </a:lnTo>
                  <a:lnTo>
                    <a:pt x="6836" y="6503"/>
                  </a:lnTo>
                  <a:lnTo>
                    <a:pt x="6885" y="6530"/>
                  </a:lnTo>
                  <a:lnTo>
                    <a:pt x="6939" y="6554"/>
                  </a:lnTo>
                  <a:lnTo>
                    <a:pt x="7000" y="6575"/>
                  </a:lnTo>
                  <a:lnTo>
                    <a:pt x="7067" y="6593"/>
                  </a:lnTo>
                  <a:lnTo>
                    <a:pt x="7138" y="6609"/>
                  </a:lnTo>
                  <a:lnTo>
                    <a:pt x="7216" y="6620"/>
                  </a:lnTo>
                  <a:lnTo>
                    <a:pt x="7299" y="6629"/>
                  </a:lnTo>
                  <a:lnTo>
                    <a:pt x="7387" y="6635"/>
                  </a:lnTo>
                  <a:lnTo>
                    <a:pt x="7483" y="6638"/>
                  </a:lnTo>
                  <a:lnTo>
                    <a:pt x="7582" y="6638"/>
                  </a:lnTo>
                  <a:lnTo>
                    <a:pt x="7688" y="6635"/>
                  </a:lnTo>
                  <a:lnTo>
                    <a:pt x="7799" y="6629"/>
                  </a:lnTo>
                  <a:lnTo>
                    <a:pt x="7863" y="6739"/>
                  </a:lnTo>
                  <a:lnTo>
                    <a:pt x="7927" y="6838"/>
                  </a:lnTo>
                  <a:lnTo>
                    <a:pt x="7991" y="6925"/>
                  </a:lnTo>
                  <a:lnTo>
                    <a:pt x="8054" y="7001"/>
                  </a:lnTo>
                  <a:lnTo>
                    <a:pt x="8117" y="7067"/>
                  </a:lnTo>
                  <a:lnTo>
                    <a:pt x="8179" y="7123"/>
                  </a:lnTo>
                  <a:lnTo>
                    <a:pt x="8241" y="7170"/>
                  </a:lnTo>
                  <a:lnTo>
                    <a:pt x="8302" y="7207"/>
                  </a:lnTo>
                  <a:lnTo>
                    <a:pt x="8361" y="7236"/>
                  </a:lnTo>
                  <a:lnTo>
                    <a:pt x="8421" y="7257"/>
                  </a:lnTo>
                  <a:lnTo>
                    <a:pt x="8480" y="7270"/>
                  </a:lnTo>
                  <a:lnTo>
                    <a:pt x="8538" y="7275"/>
                  </a:lnTo>
                  <a:lnTo>
                    <a:pt x="8595" y="7274"/>
                  </a:lnTo>
                  <a:lnTo>
                    <a:pt x="8650" y="7266"/>
                  </a:lnTo>
                  <a:lnTo>
                    <a:pt x="8706" y="7252"/>
                  </a:lnTo>
                  <a:lnTo>
                    <a:pt x="8759" y="7232"/>
                  </a:lnTo>
                  <a:lnTo>
                    <a:pt x="8812" y="7207"/>
                  </a:lnTo>
                  <a:lnTo>
                    <a:pt x="8864" y="7177"/>
                  </a:lnTo>
                  <a:lnTo>
                    <a:pt x="8914" y="7142"/>
                  </a:lnTo>
                  <a:lnTo>
                    <a:pt x="8963" y="7103"/>
                  </a:lnTo>
                  <a:lnTo>
                    <a:pt x="9010" y="7062"/>
                  </a:lnTo>
                  <a:lnTo>
                    <a:pt x="9057" y="7017"/>
                  </a:lnTo>
                  <a:lnTo>
                    <a:pt x="9101" y="6968"/>
                  </a:lnTo>
                  <a:lnTo>
                    <a:pt x="9145" y="6918"/>
                  </a:lnTo>
                  <a:lnTo>
                    <a:pt x="9187" y="6867"/>
                  </a:lnTo>
                  <a:lnTo>
                    <a:pt x="9227" y="6813"/>
                  </a:lnTo>
                  <a:lnTo>
                    <a:pt x="9266" y="6758"/>
                  </a:lnTo>
                  <a:lnTo>
                    <a:pt x="9302" y="6704"/>
                  </a:lnTo>
                  <a:lnTo>
                    <a:pt x="9338" y="6648"/>
                  </a:lnTo>
                  <a:lnTo>
                    <a:pt x="9370" y="6593"/>
                  </a:lnTo>
                  <a:lnTo>
                    <a:pt x="9402" y="6538"/>
                  </a:lnTo>
                  <a:lnTo>
                    <a:pt x="9431" y="6485"/>
                  </a:lnTo>
                  <a:lnTo>
                    <a:pt x="9573" y="6331"/>
                  </a:lnTo>
                  <a:lnTo>
                    <a:pt x="9699" y="6179"/>
                  </a:lnTo>
                  <a:lnTo>
                    <a:pt x="9811" y="6030"/>
                  </a:lnTo>
                  <a:lnTo>
                    <a:pt x="9909" y="5882"/>
                  </a:lnTo>
                  <a:lnTo>
                    <a:pt x="9992" y="5737"/>
                  </a:lnTo>
                  <a:lnTo>
                    <a:pt x="10062" y="5594"/>
                  </a:lnTo>
                  <a:lnTo>
                    <a:pt x="10117" y="5451"/>
                  </a:lnTo>
                  <a:lnTo>
                    <a:pt x="10160" y="5311"/>
                  </a:lnTo>
                  <a:lnTo>
                    <a:pt x="10191" y="5173"/>
                  </a:lnTo>
                  <a:lnTo>
                    <a:pt x="10207" y="5037"/>
                  </a:lnTo>
                  <a:lnTo>
                    <a:pt x="10211" y="4902"/>
                  </a:lnTo>
                  <a:lnTo>
                    <a:pt x="10204" y="4769"/>
                  </a:lnTo>
                  <a:lnTo>
                    <a:pt x="10184" y="4637"/>
                  </a:lnTo>
                  <a:lnTo>
                    <a:pt x="10153" y="4507"/>
                  </a:lnTo>
                  <a:lnTo>
                    <a:pt x="10110" y="4380"/>
                  </a:lnTo>
                  <a:lnTo>
                    <a:pt x="10056" y="4252"/>
                  </a:lnTo>
                  <a:lnTo>
                    <a:pt x="9991" y="4128"/>
                  </a:lnTo>
                  <a:lnTo>
                    <a:pt x="9915" y="4004"/>
                  </a:lnTo>
                  <a:lnTo>
                    <a:pt x="9830" y="3882"/>
                  </a:lnTo>
                  <a:lnTo>
                    <a:pt x="9733" y="3760"/>
                  </a:lnTo>
                  <a:lnTo>
                    <a:pt x="9628" y="3641"/>
                  </a:lnTo>
                  <a:lnTo>
                    <a:pt x="9512" y="3523"/>
                  </a:lnTo>
                  <a:lnTo>
                    <a:pt x="9388" y="3406"/>
                  </a:lnTo>
                  <a:lnTo>
                    <a:pt x="9254" y="3289"/>
                  </a:lnTo>
                  <a:lnTo>
                    <a:pt x="9112" y="3175"/>
                  </a:lnTo>
                  <a:lnTo>
                    <a:pt x="8961" y="3062"/>
                  </a:lnTo>
                  <a:lnTo>
                    <a:pt x="8803" y="2949"/>
                  </a:lnTo>
                  <a:lnTo>
                    <a:pt x="8636" y="2838"/>
                  </a:lnTo>
                  <a:lnTo>
                    <a:pt x="8461" y="2729"/>
                  </a:lnTo>
                  <a:lnTo>
                    <a:pt x="8280" y="2620"/>
                  </a:lnTo>
                  <a:lnTo>
                    <a:pt x="8090" y="2511"/>
                  </a:lnTo>
                  <a:lnTo>
                    <a:pt x="7895" y="2404"/>
                  </a:lnTo>
                  <a:lnTo>
                    <a:pt x="7885" y="2236"/>
                  </a:lnTo>
                  <a:lnTo>
                    <a:pt x="7873" y="2077"/>
                  </a:lnTo>
                  <a:lnTo>
                    <a:pt x="7855" y="1926"/>
                  </a:lnTo>
                  <a:lnTo>
                    <a:pt x="7835" y="1784"/>
                  </a:lnTo>
                  <a:lnTo>
                    <a:pt x="7810" y="1650"/>
                  </a:lnTo>
                  <a:lnTo>
                    <a:pt x="7783" y="1524"/>
                  </a:lnTo>
                  <a:lnTo>
                    <a:pt x="7750" y="1408"/>
                  </a:lnTo>
                  <a:lnTo>
                    <a:pt x="7715" y="1300"/>
                  </a:lnTo>
                  <a:lnTo>
                    <a:pt x="7675" y="1201"/>
                  </a:lnTo>
                  <a:lnTo>
                    <a:pt x="7632" y="1111"/>
                  </a:lnTo>
                  <a:lnTo>
                    <a:pt x="7585" y="1028"/>
                  </a:lnTo>
                  <a:lnTo>
                    <a:pt x="7535" y="955"/>
                  </a:lnTo>
                  <a:lnTo>
                    <a:pt x="7480" y="890"/>
                  </a:lnTo>
                  <a:lnTo>
                    <a:pt x="7422" y="835"/>
                  </a:lnTo>
                  <a:lnTo>
                    <a:pt x="7360" y="786"/>
                  </a:lnTo>
                  <a:lnTo>
                    <a:pt x="7295" y="748"/>
                  </a:lnTo>
                  <a:lnTo>
                    <a:pt x="7225" y="717"/>
                  </a:lnTo>
                  <a:lnTo>
                    <a:pt x="7152" y="696"/>
                  </a:lnTo>
                  <a:lnTo>
                    <a:pt x="7075" y="683"/>
                  </a:lnTo>
                  <a:lnTo>
                    <a:pt x="6995" y="679"/>
                  </a:lnTo>
                  <a:lnTo>
                    <a:pt x="6910" y="683"/>
                  </a:lnTo>
                  <a:lnTo>
                    <a:pt x="6822" y="696"/>
                  </a:lnTo>
                  <a:lnTo>
                    <a:pt x="6730" y="717"/>
                  </a:lnTo>
                  <a:lnTo>
                    <a:pt x="6635" y="748"/>
                  </a:lnTo>
                  <a:lnTo>
                    <a:pt x="6536" y="786"/>
                  </a:lnTo>
                  <a:lnTo>
                    <a:pt x="6432" y="835"/>
                  </a:lnTo>
                  <a:lnTo>
                    <a:pt x="6325" y="890"/>
                  </a:lnTo>
                  <a:lnTo>
                    <a:pt x="6214" y="955"/>
                  </a:lnTo>
                  <a:lnTo>
                    <a:pt x="6100" y="1028"/>
                  </a:lnTo>
                  <a:lnTo>
                    <a:pt x="5982" y="1110"/>
                  </a:lnTo>
                  <a:lnTo>
                    <a:pt x="5861" y="1201"/>
                  </a:lnTo>
                  <a:lnTo>
                    <a:pt x="5735" y="1300"/>
                  </a:lnTo>
                  <a:lnTo>
                    <a:pt x="5564" y="1249"/>
                  </a:lnTo>
                  <a:lnTo>
                    <a:pt x="5399" y="1204"/>
                  </a:lnTo>
                  <a:lnTo>
                    <a:pt x="5240" y="1165"/>
                  </a:lnTo>
                  <a:lnTo>
                    <a:pt x="5085" y="1134"/>
                  </a:lnTo>
                  <a:lnTo>
                    <a:pt x="4937" y="1108"/>
                  </a:lnTo>
                  <a:lnTo>
                    <a:pt x="4793" y="1088"/>
                  </a:lnTo>
                  <a:lnTo>
                    <a:pt x="4655" y="1074"/>
                  </a:lnTo>
                  <a:lnTo>
                    <a:pt x="4521" y="1067"/>
                  </a:lnTo>
                  <a:lnTo>
                    <a:pt x="4393" y="1065"/>
                  </a:lnTo>
                  <a:lnTo>
                    <a:pt x="4269" y="1069"/>
                  </a:lnTo>
                  <a:lnTo>
                    <a:pt x="4150" y="1078"/>
                  </a:lnTo>
                  <a:lnTo>
                    <a:pt x="4036" y="1093"/>
                  </a:lnTo>
                  <a:lnTo>
                    <a:pt x="3926" y="1113"/>
                  </a:lnTo>
                  <a:lnTo>
                    <a:pt x="3820" y="1138"/>
                  </a:lnTo>
                  <a:lnTo>
                    <a:pt x="3719" y="1168"/>
                  </a:lnTo>
                  <a:lnTo>
                    <a:pt x="3622" y="1204"/>
                  </a:lnTo>
                  <a:lnTo>
                    <a:pt x="3529" y="1245"/>
                  </a:lnTo>
                  <a:lnTo>
                    <a:pt x="3440" y="1290"/>
                  </a:lnTo>
                  <a:lnTo>
                    <a:pt x="3356" y="1339"/>
                  </a:lnTo>
                  <a:lnTo>
                    <a:pt x="3274" y="1393"/>
                  </a:lnTo>
                  <a:lnTo>
                    <a:pt x="3197" y="1452"/>
                  </a:lnTo>
                  <a:lnTo>
                    <a:pt x="3123" y="1515"/>
                  </a:lnTo>
                  <a:lnTo>
                    <a:pt x="3053" y="1582"/>
                  </a:lnTo>
                  <a:lnTo>
                    <a:pt x="2986" y="1653"/>
                  </a:lnTo>
                  <a:lnTo>
                    <a:pt x="2923" y="1728"/>
                  </a:lnTo>
                  <a:lnTo>
                    <a:pt x="2864" y="1808"/>
                  </a:lnTo>
                  <a:lnTo>
                    <a:pt x="2806" y="1890"/>
                  </a:lnTo>
                  <a:lnTo>
                    <a:pt x="2753" y="1977"/>
                  </a:lnTo>
                  <a:lnTo>
                    <a:pt x="2702" y="2067"/>
                  </a:lnTo>
                  <a:lnTo>
                    <a:pt x="2653" y="2160"/>
                  </a:lnTo>
                  <a:lnTo>
                    <a:pt x="2608" y="2257"/>
                  </a:lnTo>
                  <a:lnTo>
                    <a:pt x="2566" y="2356"/>
                  </a:lnTo>
                  <a:lnTo>
                    <a:pt x="2471" y="2318"/>
                  </a:lnTo>
                  <a:lnTo>
                    <a:pt x="2380" y="2284"/>
                  </a:lnTo>
                  <a:lnTo>
                    <a:pt x="2291" y="2255"/>
                  </a:lnTo>
                  <a:lnTo>
                    <a:pt x="2206" y="2230"/>
                  </a:lnTo>
                  <a:lnTo>
                    <a:pt x="2123" y="2211"/>
                  </a:lnTo>
                  <a:lnTo>
                    <a:pt x="2043" y="2194"/>
                  </a:lnTo>
                  <a:lnTo>
                    <a:pt x="1967" y="2183"/>
                  </a:lnTo>
                  <a:lnTo>
                    <a:pt x="1894" y="2176"/>
                  </a:lnTo>
                  <a:lnTo>
                    <a:pt x="1824" y="2174"/>
                  </a:lnTo>
                  <a:lnTo>
                    <a:pt x="1756" y="2176"/>
                  </a:lnTo>
                  <a:lnTo>
                    <a:pt x="1691" y="2183"/>
                  </a:lnTo>
                  <a:lnTo>
                    <a:pt x="1630" y="2194"/>
                  </a:lnTo>
                  <a:lnTo>
                    <a:pt x="1572" y="2211"/>
                  </a:lnTo>
                  <a:lnTo>
                    <a:pt x="1516" y="2230"/>
                  </a:lnTo>
                  <a:lnTo>
                    <a:pt x="1464" y="2255"/>
                  </a:lnTo>
                  <a:lnTo>
                    <a:pt x="1414" y="2284"/>
                  </a:lnTo>
                  <a:lnTo>
                    <a:pt x="1367" y="2318"/>
                  </a:lnTo>
                  <a:lnTo>
                    <a:pt x="1324" y="2356"/>
                  </a:lnTo>
                  <a:lnTo>
                    <a:pt x="1283" y="2399"/>
                  </a:lnTo>
                  <a:lnTo>
                    <a:pt x="1246" y="2446"/>
                  </a:lnTo>
                  <a:lnTo>
                    <a:pt x="1212" y="2498"/>
                  </a:lnTo>
                  <a:lnTo>
                    <a:pt x="1180" y="2555"/>
                  </a:lnTo>
                  <a:lnTo>
                    <a:pt x="1151" y="2616"/>
                  </a:lnTo>
                  <a:lnTo>
                    <a:pt x="1126" y="2680"/>
                  </a:lnTo>
                  <a:lnTo>
                    <a:pt x="1103" y="2751"/>
                  </a:lnTo>
                  <a:lnTo>
                    <a:pt x="1084" y="2825"/>
                  </a:lnTo>
                  <a:lnTo>
                    <a:pt x="1067" y="2903"/>
                  </a:lnTo>
                  <a:lnTo>
                    <a:pt x="1054" y="2986"/>
                  </a:lnTo>
                  <a:lnTo>
                    <a:pt x="1043" y="3074"/>
                  </a:lnTo>
                  <a:lnTo>
                    <a:pt x="1036" y="3166"/>
                  </a:lnTo>
                  <a:lnTo>
                    <a:pt x="1032" y="3263"/>
                  </a:lnTo>
                  <a:lnTo>
                    <a:pt x="1030" y="3365"/>
                  </a:lnTo>
                  <a:lnTo>
                    <a:pt x="949" y="3474"/>
                  </a:lnTo>
                  <a:lnTo>
                    <a:pt x="880" y="3578"/>
                  </a:lnTo>
                  <a:lnTo>
                    <a:pt x="820" y="3678"/>
                  </a:lnTo>
                  <a:lnTo>
                    <a:pt x="772" y="3774"/>
                  </a:lnTo>
                  <a:lnTo>
                    <a:pt x="733" y="3866"/>
                  </a:lnTo>
                  <a:lnTo>
                    <a:pt x="704" y="3953"/>
                  </a:lnTo>
                  <a:lnTo>
                    <a:pt x="685" y="4038"/>
                  </a:lnTo>
                  <a:lnTo>
                    <a:pt x="675" y="4117"/>
                  </a:lnTo>
                  <a:lnTo>
                    <a:pt x="673" y="4193"/>
                  </a:lnTo>
                  <a:lnTo>
                    <a:pt x="680" y="4267"/>
                  </a:lnTo>
                  <a:lnTo>
                    <a:pt x="695" y="4337"/>
                  </a:lnTo>
                  <a:lnTo>
                    <a:pt x="718" y="4403"/>
                  </a:lnTo>
                  <a:lnTo>
                    <a:pt x="748" y="4466"/>
                  </a:lnTo>
                  <a:lnTo>
                    <a:pt x="786" y="4526"/>
                  </a:lnTo>
                  <a:lnTo>
                    <a:pt x="831" y="4584"/>
                  </a:lnTo>
                  <a:lnTo>
                    <a:pt x="883" y="4638"/>
                  </a:lnTo>
                  <a:lnTo>
                    <a:pt x="941" y="4690"/>
                  </a:lnTo>
                  <a:lnTo>
                    <a:pt x="1004" y="4740"/>
                  </a:lnTo>
                  <a:lnTo>
                    <a:pt x="1075" y="4787"/>
                  </a:lnTo>
                  <a:lnTo>
                    <a:pt x="1150" y="4831"/>
                  </a:lnTo>
                  <a:lnTo>
                    <a:pt x="1230" y="4874"/>
                  </a:lnTo>
                  <a:lnTo>
                    <a:pt x="1315" y="4914"/>
                  </a:lnTo>
                  <a:lnTo>
                    <a:pt x="1406" y="4953"/>
                  </a:lnTo>
                  <a:lnTo>
                    <a:pt x="1500" y="4990"/>
                  </a:lnTo>
                  <a:lnTo>
                    <a:pt x="1599" y="5025"/>
                  </a:lnTo>
                  <a:lnTo>
                    <a:pt x="1700" y="5059"/>
                  </a:lnTo>
                  <a:lnTo>
                    <a:pt x="1806" y="5091"/>
                  </a:lnTo>
                  <a:lnTo>
                    <a:pt x="1915" y="5123"/>
                  </a:lnTo>
                  <a:lnTo>
                    <a:pt x="2026" y="5153"/>
                  </a:lnTo>
                  <a:lnTo>
                    <a:pt x="2140" y="5181"/>
                  </a:lnTo>
                  <a:lnTo>
                    <a:pt x="2256" y="5209"/>
                  </a:lnTo>
                  <a:lnTo>
                    <a:pt x="2374" y="5237"/>
                  </a:lnTo>
                  <a:lnTo>
                    <a:pt x="2346" y="5363"/>
                  </a:lnTo>
                  <a:lnTo>
                    <a:pt x="2323" y="5479"/>
                  </a:lnTo>
                  <a:lnTo>
                    <a:pt x="2307" y="5586"/>
                  </a:lnTo>
                  <a:lnTo>
                    <a:pt x="2298" y="5685"/>
                  </a:lnTo>
                  <a:lnTo>
                    <a:pt x="2294" y="5773"/>
                  </a:lnTo>
                  <a:lnTo>
                    <a:pt x="2296" y="5854"/>
                  </a:lnTo>
                  <a:lnTo>
                    <a:pt x="2303" y="5926"/>
                  </a:lnTo>
                  <a:lnTo>
                    <a:pt x="2316" y="5991"/>
                  </a:lnTo>
                  <a:lnTo>
                    <a:pt x="2333" y="6048"/>
                  </a:lnTo>
                  <a:lnTo>
                    <a:pt x="2356" y="6097"/>
                  </a:lnTo>
                  <a:lnTo>
                    <a:pt x="2384" y="6139"/>
                  </a:lnTo>
                  <a:lnTo>
                    <a:pt x="2416" y="6173"/>
                  </a:lnTo>
                  <a:lnTo>
                    <a:pt x="2453" y="6201"/>
                  </a:lnTo>
                  <a:lnTo>
                    <a:pt x="2493" y="6222"/>
                  </a:lnTo>
                  <a:lnTo>
                    <a:pt x="2538" y="6238"/>
                  </a:lnTo>
                  <a:lnTo>
                    <a:pt x="2589" y="6248"/>
                  </a:lnTo>
                  <a:lnTo>
                    <a:pt x="2641" y="6252"/>
                  </a:lnTo>
                  <a:lnTo>
                    <a:pt x="2697" y="6251"/>
                  </a:lnTo>
                  <a:lnTo>
                    <a:pt x="2757" y="6243"/>
                  </a:lnTo>
                  <a:lnTo>
                    <a:pt x="2821" y="6232"/>
                  </a:lnTo>
                  <a:lnTo>
                    <a:pt x="2887" y="6216"/>
                  </a:lnTo>
                  <a:lnTo>
                    <a:pt x="2956" y="6196"/>
                  </a:lnTo>
                  <a:lnTo>
                    <a:pt x="3027" y="6171"/>
                  </a:lnTo>
                  <a:lnTo>
                    <a:pt x="3101" y="6143"/>
                  </a:lnTo>
                  <a:lnTo>
                    <a:pt x="3179" y="6111"/>
                  </a:lnTo>
                  <a:lnTo>
                    <a:pt x="3257" y="6077"/>
                  </a:lnTo>
                  <a:lnTo>
                    <a:pt x="3338" y="6038"/>
                  </a:lnTo>
                  <a:lnTo>
                    <a:pt x="3420" y="5997"/>
                  </a:lnTo>
                  <a:lnTo>
                    <a:pt x="3505" y="5955"/>
                  </a:lnTo>
                  <a:lnTo>
                    <a:pt x="3591" y="5910"/>
                  </a:lnTo>
                  <a:lnTo>
                    <a:pt x="3678" y="5861"/>
                  </a:lnTo>
                  <a:lnTo>
                    <a:pt x="3766" y="5813"/>
                  </a:lnTo>
                  <a:lnTo>
                    <a:pt x="3748" y="5867"/>
                  </a:lnTo>
                  <a:lnTo>
                    <a:pt x="3730" y="5921"/>
                  </a:lnTo>
                  <a:lnTo>
                    <a:pt x="3712" y="5974"/>
                  </a:lnTo>
                  <a:lnTo>
                    <a:pt x="3695" y="6029"/>
                  </a:lnTo>
                  <a:lnTo>
                    <a:pt x="3676" y="6083"/>
                  </a:lnTo>
                  <a:lnTo>
                    <a:pt x="3658" y="6137"/>
                  </a:lnTo>
                  <a:lnTo>
                    <a:pt x="3640" y="6191"/>
                  </a:lnTo>
                  <a:lnTo>
                    <a:pt x="3622" y="62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95560" y="4984920"/>
              <a:ext cx="403200" cy="263520"/>
            </a:xfrm>
            <a:custGeom>
              <a:avLst/>
              <a:gdLst/>
              <a:ahLst/>
              <a:rect l="l" t="t" r="r" b="b"/>
              <a:pathLst>
                <a:path w="10827" h="7754">
                  <a:moveTo>
                    <a:pt x="3622" y="6244"/>
                  </a:moveTo>
                  <a:lnTo>
                    <a:pt x="3510" y="6322"/>
                  </a:lnTo>
                  <a:lnTo>
                    <a:pt x="3400" y="6397"/>
                  </a:lnTo>
                  <a:lnTo>
                    <a:pt x="3291" y="6469"/>
                  </a:lnTo>
                  <a:lnTo>
                    <a:pt x="3184" y="6537"/>
                  </a:lnTo>
                  <a:lnTo>
                    <a:pt x="3079" y="6603"/>
                  </a:lnTo>
                  <a:lnTo>
                    <a:pt x="2978" y="6664"/>
                  </a:lnTo>
                  <a:lnTo>
                    <a:pt x="2879" y="6720"/>
                  </a:lnTo>
                  <a:lnTo>
                    <a:pt x="2783" y="6773"/>
                  </a:lnTo>
                  <a:lnTo>
                    <a:pt x="2690" y="6820"/>
                  </a:lnTo>
                  <a:lnTo>
                    <a:pt x="2601" y="6861"/>
                  </a:lnTo>
                  <a:lnTo>
                    <a:pt x="2516" y="6896"/>
                  </a:lnTo>
                  <a:lnTo>
                    <a:pt x="2435" y="6925"/>
                  </a:lnTo>
                  <a:lnTo>
                    <a:pt x="2358" y="6948"/>
                  </a:lnTo>
                  <a:lnTo>
                    <a:pt x="2285" y="6962"/>
                  </a:lnTo>
                  <a:lnTo>
                    <a:pt x="2218" y="6970"/>
                  </a:lnTo>
                  <a:lnTo>
                    <a:pt x="2155" y="6970"/>
                  </a:lnTo>
                  <a:lnTo>
                    <a:pt x="2098" y="6960"/>
                  </a:lnTo>
                  <a:lnTo>
                    <a:pt x="2046" y="6943"/>
                  </a:lnTo>
                  <a:lnTo>
                    <a:pt x="1999" y="6917"/>
                  </a:lnTo>
                  <a:lnTo>
                    <a:pt x="1960" y="6881"/>
                  </a:lnTo>
                  <a:lnTo>
                    <a:pt x="1926" y="6836"/>
                  </a:lnTo>
                  <a:lnTo>
                    <a:pt x="1899" y="6779"/>
                  </a:lnTo>
                  <a:lnTo>
                    <a:pt x="1878" y="6713"/>
                  </a:lnTo>
                  <a:lnTo>
                    <a:pt x="1865" y="6636"/>
                  </a:lnTo>
                  <a:lnTo>
                    <a:pt x="1858" y="6547"/>
                  </a:lnTo>
                  <a:lnTo>
                    <a:pt x="1859" y="6446"/>
                  </a:lnTo>
                  <a:lnTo>
                    <a:pt x="1869" y="6333"/>
                  </a:lnTo>
                  <a:lnTo>
                    <a:pt x="1885" y="6208"/>
                  </a:lnTo>
                  <a:lnTo>
                    <a:pt x="1911" y="6070"/>
                  </a:lnTo>
                  <a:lnTo>
                    <a:pt x="1944" y="5918"/>
                  </a:lnTo>
                  <a:lnTo>
                    <a:pt x="1987" y="5753"/>
                  </a:lnTo>
                  <a:lnTo>
                    <a:pt x="2038" y="5573"/>
                  </a:lnTo>
                  <a:lnTo>
                    <a:pt x="1855" y="5541"/>
                  </a:lnTo>
                  <a:lnTo>
                    <a:pt x="1680" y="5507"/>
                  </a:lnTo>
                  <a:lnTo>
                    <a:pt x="1514" y="5469"/>
                  </a:lnTo>
                  <a:lnTo>
                    <a:pt x="1357" y="5429"/>
                  </a:lnTo>
                  <a:lnTo>
                    <a:pt x="1208" y="5385"/>
                  </a:lnTo>
                  <a:lnTo>
                    <a:pt x="1068" y="5339"/>
                  </a:lnTo>
                  <a:lnTo>
                    <a:pt x="936" y="5289"/>
                  </a:lnTo>
                  <a:lnTo>
                    <a:pt x="814" y="5237"/>
                  </a:lnTo>
                  <a:lnTo>
                    <a:pt x="700" y="5181"/>
                  </a:lnTo>
                  <a:lnTo>
                    <a:pt x="594" y="5123"/>
                  </a:lnTo>
                  <a:lnTo>
                    <a:pt x="497" y="5061"/>
                  </a:lnTo>
                  <a:lnTo>
                    <a:pt x="409" y="4997"/>
                  </a:lnTo>
                  <a:lnTo>
                    <a:pt x="328" y="4929"/>
                  </a:lnTo>
                  <a:lnTo>
                    <a:pt x="257" y="4859"/>
                  </a:lnTo>
                  <a:lnTo>
                    <a:pt x="196" y="4786"/>
                  </a:lnTo>
                  <a:lnTo>
                    <a:pt x="141" y="4708"/>
                  </a:lnTo>
                  <a:lnTo>
                    <a:pt x="96" y="4629"/>
                  </a:lnTo>
                  <a:lnTo>
                    <a:pt x="60" y="4547"/>
                  </a:lnTo>
                  <a:lnTo>
                    <a:pt x="31" y="4461"/>
                  </a:lnTo>
                  <a:lnTo>
                    <a:pt x="12" y="4372"/>
                  </a:lnTo>
                  <a:lnTo>
                    <a:pt x="2" y="4281"/>
                  </a:lnTo>
                  <a:lnTo>
                    <a:pt x="0" y="4186"/>
                  </a:lnTo>
                  <a:lnTo>
                    <a:pt x="6" y="4089"/>
                  </a:lnTo>
                  <a:lnTo>
                    <a:pt x="22" y="3988"/>
                  </a:lnTo>
                  <a:lnTo>
                    <a:pt x="45" y="3885"/>
                  </a:lnTo>
                  <a:lnTo>
                    <a:pt x="77" y="3778"/>
                  </a:lnTo>
                  <a:lnTo>
                    <a:pt x="119" y="3669"/>
                  </a:lnTo>
                  <a:lnTo>
                    <a:pt x="168" y="3556"/>
                  </a:lnTo>
                  <a:lnTo>
                    <a:pt x="227" y="3441"/>
                  </a:lnTo>
                  <a:lnTo>
                    <a:pt x="294" y="3323"/>
                  </a:lnTo>
                  <a:lnTo>
                    <a:pt x="369" y="3200"/>
                  </a:lnTo>
                  <a:lnTo>
                    <a:pt x="454" y="3076"/>
                  </a:lnTo>
                  <a:lnTo>
                    <a:pt x="457" y="2999"/>
                  </a:lnTo>
                  <a:lnTo>
                    <a:pt x="461" y="2922"/>
                  </a:lnTo>
                  <a:lnTo>
                    <a:pt x="468" y="2847"/>
                  </a:lnTo>
                  <a:lnTo>
                    <a:pt x="476" y="2772"/>
                  </a:lnTo>
                  <a:lnTo>
                    <a:pt x="486" y="2699"/>
                  </a:lnTo>
                  <a:lnTo>
                    <a:pt x="498" y="2628"/>
                  </a:lnTo>
                  <a:lnTo>
                    <a:pt x="513" y="2559"/>
                  </a:lnTo>
                  <a:lnTo>
                    <a:pt x="530" y="2492"/>
                  </a:lnTo>
                  <a:lnTo>
                    <a:pt x="550" y="2426"/>
                  </a:lnTo>
                  <a:lnTo>
                    <a:pt x="573" y="2363"/>
                  </a:lnTo>
                  <a:lnTo>
                    <a:pt x="599" y="2303"/>
                  </a:lnTo>
                  <a:lnTo>
                    <a:pt x="630" y="2245"/>
                  </a:lnTo>
                  <a:lnTo>
                    <a:pt x="663" y="2190"/>
                  </a:lnTo>
                  <a:lnTo>
                    <a:pt x="700" y="2137"/>
                  </a:lnTo>
                  <a:lnTo>
                    <a:pt x="742" y="2088"/>
                  </a:lnTo>
                  <a:lnTo>
                    <a:pt x="788" y="2042"/>
                  </a:lnTo>
                  <a:lnTo>
                    <a:pt x="838" y="2000"/>
                  </a:lnTo>
                  <a:lnTo>
                    <a:pt x="892" y="1961"/>
                  </a:lnTo>
                  <a:lnTo>
                    <a:pt x="952" y="1926"/>
                  </a:lnTo>
                  <a:lnTo>
                    <a:pt x="1018" y="1895"/>
                  </a:lnTo>
                  <a:lnTo>
                    <a:pt x="1088" y="1867"/>
                  </a:lnTo>
                  <a:lnTo>
                    <a:pt x="1164" y="1843"/>
                  </a:lnTo>
                  <a:lnTo>
                    <a:pt x="1246" y="1824"/>
                  </a:lnTo>
                  <a:lnTo>
                    <a:pt x="1334" y="1810"/>
                  </a:lnTo>
                  <a:lnTo>
                    <a:pt x="1428" y="1800"/>
                  </a:lnTo>
                  <a:lnTo>
                    <a:pt x="1529" y="1795"/>
                  </a:lnTo>
                  <a:lnTo>
                    <a:pt x="1635" y="1796"/>
                  </a:lnTo>
                  <a:lnTo>
                    <a:pt x="1749" y="1800"/>
                  </a:lnTo>
                  <a:lnTo>
                    <a:pt x="1871" y="1812"/>
                  </a:lnTo>
                  <a:lnTo>
                    <a:pt x="1998" y="1828"/>
                  </a:lnTo>
                  <a:lnTo>
                    <a:pt x="2134" y="1849"/>
                  </a:lnTo>
                  <a:lnTo>
                    <a:pt x="2278" y="1876"/>
                  </a:lnTo>
                  <a:lnTo>
                    <a:pt x="2318" y="1785"/>
                  </a:lnTo>
                  <a:lnTo>
                    <a:pt x="2359" y="1696"/>
                  </a:lnTo>
                  <a:lnTo>
                    <a:pt x="2402" y="1608"/>
                  </a:lnTo>
                  <a:lnTo>
                    <a:pt x="2448" y="1521"/>
                  </a:lnTo>
                  <a:lnTo>
                    <a:pt x="2498" y="1437"/>
                  </a:lnTo>
                  <a:lnTo>
                    <a:pt x="2550" y="1356"/>
                  </a:lnTo>
                  <a:lnTo>
                    <a:pt x="2605" y="1277"/>
                  </a:lnTo>
                  <a:lnTo>
                    <a:pt x="2664" y="1201"/>
                  </a:lnTo>
                  <a:lnTo>
                    <a:pt x="2728" y="1128"/>
                  </a:lnTo>
                  <a:lnTo>
                    <a:pt x="2795" y="1059"/>
                  </a:lnTo>
                  <a:lnTo>
                    <a:pt x="2867" y="992"/>
                  </a:lnTo>
                  <a:lnTo>
                    <a:pt x="2944" y="930"/>
                  </a:lnTo>
                  <a:lnTo>
                    <a:pt x="3026" y="871"/>
                  </a:lnTo>
                  <a:lnTo>
                    <a:pt x="3114" y="817"/>
                  </a:lnTo>
                  <a:lnTo>
                    <a:pt x="3207" y="767"/>
                  </a:lnTo>
                  <a:lnTo>
                    <a:pt x="3306" y="722"/>
                  </a:lnTo>
                  <a:lnTo>
                    <a:pt x="3413" y="681"/>
                  </a:lnTo>
                  <a:lnTo>
                    <a:pt x="3525" y="646"/>
                  </a:lnTo>
                  <a:lnTo>
                    <a:pt x="3645" y="616"/>
                  </a:lnTo>
                  <a:lnTo>
                    <a:pt x="3772" y="592"/>
                  </a:lnTo>
                  <a:lnTo>
                    <a:pt x="3907" y="574"/>
                  </a:lnTo>
                  <a:lnTo>
                    <a:pt x="4049" y="562"/>
                  </a:lnTo>
                  <a:lnTo>
                    <a:pt x="4200" y="555"/>
                  </a:lnTo>
                  <a:lnTo>
                    <a:pt x="4359" y="555"/>
                  </a:lnTo>
                  <a:lnTo>
                    <a:pt x="4526" y="563"/>
                  </a:lnTo>
                  <a:lnTo>
                    <a:pt x="4704" y="576"/>
                  </a:lnTo>
                  <a:lnTo>
                    <a:pt x="4891" y="598"/>
                  </a:lnTo>
                  <a:lnTo>
                    <a:pt x="5086" y="626"/>
                  </a:lnTo>
                  <a:lnTo>
                    <a:pt x="5292" y="663"/>
                  </a:lnTo>
                  <a:lnTo>
                    <a:pt x="5509" y="707"/>
                  </a:lnTo>
                  <a:lnTo>
                    <a:pt x="5736" y="759"/>
                  </a:lnTo>
                  <a:lnTo>
                    <a:pt x="5975" y="820"/>
                  </a:lnTo>
                  <a:lnTo>
                    <a:pt x="6144" y="666"/>
                  </a:lnTo>
                  <a:lnTo>
                    <a:pt x="6306" y="529"/>
                  </a:lnTo>
                  <a:lnTo>
                    <a:pt x="6460" y="410"/>
                  </a:lnTo>
                  <a:lnTo>
                    <a:pt x="6606" y="306"/>
                  </a:lnTo>
                  <a:lnTo>
                    <a:pt x="6744" y="218"/>
                  </a:lnTo>
                  <a:lnTo>
                    <a:pt x="6875" y="146"/>
                  </a:lnTo>
                  <a:lnTo>
                    <a:pt x="6999" y="89"/>
                  </a:lnTo>
                  <a:lnTo>
                    <a:pt x="7115" y="46"/>
                  </a:lnTo>
                  <a:lnTo>
                    <a:pt x="7225" y="17"/>
                  </a:lnTo>
                  <a:lnTo>
                    <a:pt x="7329" y="2"/>
                  </a:lnTo>
                  <a:lnTo>
                    <a:pt x="7426" y="0"/>
                  </a:lnTo>
                  <a:lnTo>
                    <a:pt x="7517" y="10"/>
                  </a:lnTo>
                  <a:lnTo>
                    <a:pt x="7602" y="32"/>
                  </a:lnTo>
                  <a:lnTo>
                    <a:pt x="7681" y="67"/>
                  </a:lnTo>
                  <a:lnTo>
                    <a:pt x="7756" y="112"/>
                  </a:lnTo>
                  <a:lnTo>
                    <a:pt x="7826" y="167"/>
                  </a:lnTo>
                  <a:lnTo>
                    <a:pt x="7890" y="233"/>
                  </a:lnTo>
                  <a:lnTo>
                    <a:pt x="7949" y="308"/>
                  </a:lnTo>
                  <a:lnTo>
                    <a:pt x="8005" y="393"/>
                  </a:lnTo>
                  <a:lnTo>
                    <a:pt x="8056" y="486"/>
                  </a:lnTo>
                  <a:lnTo>
                    <a:pt x="8102" y="589"/>
                  </a:lnTo>
                  <a:lnTo>
                    <a:pt x="8146" y="698"/>
                  </a:lnTo>
                  <a:lnTo>
                    <a:pt x="8186" y="815"/>
                  </a:lnTo>
                  <a:lnTo>
                    <a:pt x="8222" y="938"/>
                  </a:lnTo>
                  <a:lnTo>
                    <a:pt x="8256" y="1068"/>
                  </a:lnTo>
                  <a:lnTo>
                    <a:pt x="8286" y="1204"/>
                  </a:lnTo>
                  <a:lnTo>
                    <a:pt x="8314" y="1345"/>
                  </a:lnTo>
                  <a:lnTo>
                    <a:pt x="8339" y="1492"/>
                  </a:lnTo>
                  <a:lnTo>
                    <a:pt x="8364" y="1642"/>
                  </a:lnTo>
                  <a:lnTo>
                    <a:pt x="8384" y="1797"/>
                  </a:lnTo>
                  <a:lnTo>
                    <a:pt x="8404" y="1955"/>
                  </a:lnTo>
                  <a:lnTo>
                    <a:pt x="8423" y="2116"/>
                  </a:lnTo>
                  <a:lnTo>
                    <a:pt x="8630" y="2220"/>
                  </a:lnTo>
                  <a:lnTo>
                    <a:pt x="8830" y="2326"/>
                  </a:lnTo>
                  <a:lnTo>
                    <a:pt x="9022" y="2435"/>
                  </a:lnTo>
                  <a:lnTo>
                    <a:pt x="9205" y="2545"/>
                  </a:lnTo>
                  <a:lnTo>
                    <a:pt x="9381" y="2658"/>
                  </a:lnTo>
                  <a:lnTo>
                    <a:pt x="9547" y="2774"/>
                  </a:lnTo>
                  <a:lnTo>
                    <a:pt x="9705" y="2892"/>
                  </a:lnTo>
                  <a:lnTo>
                    <a:pt x="9854" y="3012"/>
                  </a:lnTo>
                  <a:lnTo>
                    <a:pt x="9993" y="3137"/>
                  </a:lnTo>
                  <a:lnTo>
                    <a:pt x="10123" y="3262"/>
                  </a:lnTo>
                  <a:lnTo>
                    <a:pt x="10242" y="3392"/>
                  </a:lnTo>
                  <a:lnTo>
                    <a:pt x="10351" y="3524"/>
                  </a:lnTo>
                  <a:lnTo>
                    <a:pt x="10450" y="3660"/>
                  </a:lnTo>
                  <a:lnTo>
                    <a:pt x="10538" y="3798"/>
                  </a:lnTo>
                  <a:lnTo>
                    <a:pt x="10614" y="3939"/>
                  </a:lnTo>
                  <a:lnTo>
                    <a:pt x="10679" y="4085"/>
                  </a:lnTo>
                  <a:lnTo>
                    <a:pt x="10734" y="4233"/>
                  </a:lnTo>
                  <a:lnTo>
                    <a:pt x="10775" y="4385"/>
                  </a:lnTo>
                  <a:lnTo>
                    <a:pt x="10805" y="4540"/>
                  </a:lnTo>
                  <a:lnTo>
                    <a:pt x="10823" y="4699"/>
                  </a:lnTo>
                  <a:lnTo>
                    <a:pt x="10827" y="4862"/>
                  </a:lnTo>
                  <a:lnTo>
                    <a:pt x="10818" y="5028"/>
                  </a:lnTo>
                  <a:lnTo>
                    <a:pt x="10796" y="5198"/>
                  </a:lnTo>
                  <a:lnTo>
                    <a:pt x="10762" y="5373"/>
                  </a:lnTo>
                  <a:lnTo>
                    <a:pt x="10713" y="5551"/>
                  </a:lnTo>
                  <a:lnTo>
                    <a:pt x="10649" y="5733"/>
                  </a:lnTo>
                  <a:lnTo>
                    <a:pt x="10571" y="5920"/>
                  </a:lnTo>
                  <a:lnTo>
                    <a:pt x="10479" y="6110"/>
                  </a:lnTo>
                  <a:lnTo>
                    <a:pt x="10373" y="6305"/>
                  </a:lnTo>
                  <a:lnTo>
                    <a:pt x="10250" y="6505"/>
                  </a:lnTo>
                  <a:lnTo>
                    <a:pt x="10113" y="6709"/>
                  </a:lnTo>
                  <a:lnTo>
                    <a:pt x="9959" y="6917"/>
                  </a:lnTo>
                  <a:lnTo>
                    <a:pt x="9872" y="6991"/>
                  </a:lnTo>
                  <a:lnTo>
                    <a:pt x="9786" y="7065"/>
                  </a:lnTo>
                  <a:lnTo>
                    <a:pt x="9699" y="7135"/>
                  </a:lnTo>
                  <a:lnTo>
                    <a:pt x="9613" y="7203"/>
                  </a:lnTo>
                  <a:lnTo>
                    <a:pt x="9527" y="7269"/>
                  </a:lnTo>
                  <a:lnTo>
                    <a:pt x="9441" y="7332"/>
                  </a:lnTo>
                  <a:lnTo>
                    <a:pt x="9357" y="7391"/>
                  </a:lnTo>
                  <a:lnTo>
                    <a:pt x="9272" y="7447"/>
                  </a:lnTo>
                  <a:lnTo>
                    <a:pt x="9188" y="7499"/>
                  </a:lnTo>
                  <a:lnTo>
                    <a:pt x="9104" y="7548"/>
                  </a:lnTo>
                  <a:lnTo>
                    <a:pt x="9021" y="7591"/>
                  </a:lnTo>
                  <a:lnTo>
                    <a:pt x="8938" y="7631"/>
                  </a:lnTo>
                  <a:lnTo>
                    <a:pt x="8856" y="7665"/>
                  </a:lnTo>
                  <a:lnTo>
                    <a:pt x="8775" y="7695"/>
                  </a:lnTo>
                  <a:lnTo>
                    <a:pt x="8694" y="7719"/>
                  </a:lnTo>
                  <a:lnTo>
                    <a:pt x="8615" y="7736"/>
                  </a:lnTo>
                  <a:lnTo>
                    <a:pt x="8535" y="7748"/>
                  </a:lnTo>
                  <a:lnTo>
                    <a:pt x="8457" y="7754"/>
                  </a:lnTo>
                  <a:lnTo>
                    <a:pt x="8379" y="7753"/>
                  </a:lnTo>
                  <a:lnTo>
                    <a:pt x="8303" y="7745"/>
                  </a:lnTo>
                  <a:lnTo>
                    <a:pt x="8228" y="7730"/>
                  </a:lnTo>
                  <a:lnTo>
                    <a:pt x="8152" y="7708"/>
                  </a:lnTo>
                  <a:lnTo>
                    <a:pt x="8078" y="7678"/>
                  </a:lnTo>
                  <a:lnTo>
                    <a:pt x="8006" y="7639"/>
                  </a:lnTo>
                  <a:lnTo>
                    <a:pt x="7933" y="7593"/>
                  </a:lnTo>
                  <a:lnTo>
                    <a:pt x="7862" y="7539"/>
                  </a:lnTo>
                  <a:lnTo>
                    <a:pt x="7793" y="7475"/>
                  </a:lnTo>
                  <a:lnTo>
                    <a:pt x="7724" y="7402"/>
                  </a:lnTo>
                  <a:lnTo>
                    <a:pt x="7657" y="7319"/>
                  </a:lnTo>
                  <a:lnTo>
                    <a:pt x="7591" y="7227"/>
                  </a:lnTo>
                  <a:lnTo>
                    <a:pt x="7526" y="7125"/>
                  </a:lnTo>
                  <a:lnTo>
                    <a:pt x="7463" y="7013"/>
                  </a:lnTo>
                  <a:lnTo>
                    <a:pt x="7330" y="7002"/>
                  </a:lnTo>
                  <a:lnTo>
                    <a:pt x="7203" y="6987"/>
                  </a:lnTo>
                  <a:lnTo>
                    <a:pt x="7084" y="6972"/>
                  </a:lnTo>
                  <a:lnTo>
                    <a:pt x="6971" y="6953"/>
                  </a:lnTo>
                  <a:lnTo>
                    <a:pt x="6864" y="6933"/>
                  </a:lnTo>
                  <a:lnTo>
                    <a:pt x="6765" y="6910"/>
                  </a:lnTo>
                  <a:lnTo>
                    <a:pt x="6673" y="6885"/>
                  </a:lnTo>
                  <a:lnTo>
                    <a:pt x="6587" y="6856"/>
                  </a:lnTo>
                  <a:lnTo>
                    <a:pt x="6507" y="6827"/>
                  </a:lnTo>
                  <a:lnTo>
                    <a:pt x="6435" y="6796"/>
                  </a:lnTo>
                  <a:lnTo>
                    <a:pt x="6369" y="6761"/>
                  </a:lnTo>
                  <a:lnTo>
                    <a:pt x="6311" y="6725"/>
                  </a:lnTo>
                  <a:lnTo>
                    <a:pt x="6258" y="6687"/>
                  </a:lnTo>
                  <a:lnTo>
                    <a:pt x="6213" y="6645"/>
                  </a:lnTo>
                  <a:lnTo>
                    <a:pt x="6175" y="6602"/>
                  </a:lnTo>
                  <a:lnTo>
                    <a:pt x="6143" y="6557"/>
                  </a:lnTo>
                  <a:lnTo>
                    <a:pt x="6117" y="6509"/>
                  </a:lnTo>
                  <a:lnTo>
                    <a:pt x="6099" y="6460"/>
                  </a:lnTo>
                  <a:lnTo>
                    <a:pt x="6088" y="6408"/>
                  </a:lnTo>
                  <a:lnTo>
                    <a:pt x="6082" y="6353"/>
                  </a:lnTo>
                  <a:lnTo>
                    <a:pt x="6085" y="6297"/>
                  </a:lnTo>
                  <a:lnTo>
                    <a:pt x="6093" y="6237"/>
                  </a:lnTo>
                  <a:lnTo>
                    <a:pt x="6109" y="6176"/>
                  </a:lnTo>
                  <a:lnTo>
                    <a:pt x="6131" y="6113"/>
                  </a:lnTo>
                  <a:lnTo>
                    <a:pt x="6159" y="6048"/>
                  </a:lnTo>
                  <a:lnTo>
                    <a:pt x="6195" y="5980"/>
                  </a:lnTo>
                  <a:lnTo>
                    <a:pt x="6237" y="5910"/>
                  </a:lnTo>
                  <a:lnTo>
                    <a:pt x="6286" y="5837"/>
                  </a:lnTo>
                  <a:lnTo>
                    <a:pt x="6342" y="5762"/>
                  </a:lnTo>
                  <a:lnTo>
                    <a:pt x="6405" y="5686"/>
                  </a:lnTo>
                  <a:lnTo>
                    <a:pt x="6475" y="5606"/>
                  </a:lnTo>
                  <a:lnTo>
                    <a:pt x="6551" y="5524"/>
                  </a:lnTo>
                  <a:lnTo>
                    <a:pt x="6611" y="5500"/>
                  </a:lnTo>
                  <a:lnTo>
                    <a:pt x="6671" y="5476"/>
                  </a:lnTo>
                  <a:lnTo>
                    <a:pt x="6730" y="5453"/>
                  </a:lnTo>
                  <a:lnTo>
                    <a:pt x="6791" y="5429"/>
                  </a:lnTo>
                  <a:lnTo>
                    <a:pt x="6850" y="5405"/>
                  </a:lnTo>
                  <a:lnTo>
                    <a:pt x="6911" y="5381"/>
                  </a:lnTo>
                  <a:lnTo>
                    <a:pt x="6971" y="5357"/>
                  </a:lnTo>
                  <a:lnTo>
                    <a:pt x="7030" y="5333"/>
                  </a:lnTo>
                  <a:lnTo>
                    <a:pt x="6968" y="5420"/>
                  </a:lnTo>
                  <a:lnTo>
                    <a:pt x="6910" y="5504"/>
                  </a:lnTo>
                  <a:lnTo>
                    <a:pt x="6858" y="5585"/>
                  </a:lnTo>
                  <a:lnTo>
                    <a:pt x="6812" y="5663"/>
                  </a:lnTo>
                  <a:lnTo>
                    <a:pt x="6771" y="5738"/>
                  </a:lnTo>
                  <a:lnTo>
                    <a:pt x="6735" y="5810"/>
                  </a:lnTo>
                  <a:lnTo>
                    <a:pt x="6706" y="5879"/>
                  </a:lnTo>
                  <a:lnTo>
                    <a:pt x="6683" y="5945"/>
                  </a:lnTo>
                  <a:lnTo>
                    <a:pt x="6664" y="6008"/>
                  </a:lnTo>
                  <a:lnTo>
                    <a:pt x="6652" y="6068"/>
                  </a:lnTo>
                  <a:lnTo>
                    <a:pt x="6644" y="6125"/>
                  </a:lnTo>
                  <a:lnTo>
                    <a:pt x="6643" y="6178"/>
                  </a:lnTo>
                  <a:lnTo>
                    <a:pt x="6647" y="6230"/>
                  </a:lnTo>
                  <a:lnTo>
                    <a:pt x="6658" y="6278"/>
                  </a:lnTo>
                  <a:lnTo>
                    <a:pt x="6674" y="6323"/>
                  </a:lnTo>
                  <a:lnTo>
                    <a:pt x="6695" y="6365"/>
                  </a:lnTo>
                  <a:lnTo>
                    <a:pt x="6722" y="6404"/>
                  </a:lnTo>
                  <a:lnTo>
                    <a:pt x="6754" y="6440"/>
                  </a:lnTo>
                  <a:lnTo>
                    <a:pt x="6792" y="6474"/>
                  </a:lnTo>
                  <a:lnTo>
                    <a:pt x="6836" y="6503"/>
                  </a:lnTo>
                  <a:lnTo>
                    <a:pt x="6885" y="6530"/>
                  </a:lnTo>
                  <a:lnTo>
                    <a:pt x="6939" y="6554"/>
                  </a:lnTo>
                  <a:lnTo>
                    <a:pt x="7000" y="6575"/>
                  </a:lnTo>
                  <a:lnTo>
                    <a:pt x="7067" y="6593"/>
                  </a:lnTo>
                  <a:lnTo>
                    <a:pt x="7138" y="6609"/>
                  </a:lnTo>
                  <a:lnTo>
                    <a:pt x="7216" y="6620"/>
                  </a:lnTo>
                  <a:lnTo>
                    <a:pt x="7299" y="6629"/>
                  </a:lnTo>
                  <a:lnTo>
                    <a:pt x="7387" y="6635"/>
                  </a:lnTo>
                  <a:lnTo>
                    <a:pt x="7483" y="6638"/>
                  </a:lnTo>
                  <a:lnTo>
                    <a:pt x="7582" y="6638"/>
                  </a:lnTo>
                  <a:lnTo>
                    <a:pt x="7688" y="6635"/>
                  </a:lnTo>
                  <a:lnTo>
                    <a:pt x="7799" y="6629"/>
                  </a:lnTo>
                  <a:lnTo>
                    <a:pt x="7863" y="6739"/>
                  </a:lnTo>
                  <a:lnTo>
                    <a:pt x="7927" y="6838"/>
                  </a:lnTo>
                  <a:lnTo>
                    <a:pt x="7991" y="6925"/>
                  </a:lnTo>
                  <a:lnTo>
                    <a:pt x="8054" y="7001"/>
                  </a:lnTo>
                  <a:lnTo>
                    <a:pt x="8117" y="7067"/>
                  </a:lnTo>
                  <a:lnTo>
                    <a:pt x="8179" y="7123"/>
                  </a:lnTo>
                  <a:lnTo>
                    <a:pt x="8241" y="7170"/>
                  </a:lnTo>
                  <a:lnTo>
                    <a:pt x="8302" y="7207"/>
                  </a:lnTo>
                  <a:lnTo>
                    <a:pt x="8361" y="7236"/>
                  </a:lnTo>
                  <a:lnTo>
                    <a:pt x="8421" y="7257"/>
                  </a:lnTo>
                  <a:lnTo>
                    <a:pt x="8480" y="7270"/>
                  </a:lnTo>
                  <a:lnTo>
                    <a:pt x="8538" y="7275"/>
                  </a:lnTo>
                  <a:lnTo>
                    <a:pt x="8595" y="7274"/>
                  </a:lnTo>
                  <a:lnTo>
                    <a:pt x="8650" y="7266"/>
                  </a:lnTo>
                  <a:lnTo>
                    <a:pt x="8706" y="7252"/>
                  </a:lnTo>
                  <a:lnTo>
                    <a:pt x="8759" y="7232"/>
                  </a:lnTo>
                  <a:lnTo>
                    <a:pt x="8812" y="7207"/>
                  </a:lnTo>
                  <a:lnTo>
                    <a:pt x="8864" y="7177"/>
                  </a:lnTo>
                  <a:lnTo>
                    <a:pt x="8914" y="7142"/>
                  </a:lnTo>
                  <a:lnTo>
                    <a:pt x="8963" y="7103"/>
                  </a:lnTo>
                  <a:lnTo>
                    <a:pt x="9010" y="7062"/>
                  </a:lnTo>
                  <a:lnTo>
                    <a:pt x="9057" y="7017"/>
                  </a:lnTo>
                  <a:lnTo>
                    <a:pt x="9101" y="6968"/>
                  </a:lnTo>
                  <a:lnTo>
                    <a:pt x="9145" y="6918"/>
                  </a:lnTo>
                  <a:lnTo>
                    <a:pt x="9187" y="6867"/>
                  </a:lnTo>
                  <a:lnTo>
                    <a:pt x="9227" y="6813"/>
                  </a:lnTo>
                  <a:lnTo>
                    <a:pt x="9266" y="6758"/>
                  </a:lnTo>
                  <a:lnTo>
                    <a:pt x="9302" y="6704"/>
                  </a:lnTo>
                  <a:lnTo>
                    <a:pt x="9338" y="6648"/>
                  </a:lnTo>
                  <a:lnTo>
                    <a:pt x="9370" y="6593"/>
                  </a:lnTo>
                  <a:lnTo>
                    <a:pt x="9402" y="6538"/>
                  </a:lnTo>
                  <a:lnTo>
                    <a:pt x="9431" y="6485"/>
                  </a:lnTo>
                  <a:lnTo>
                    <a:pt x="9573" y="6331"/>
                  </a:lnTo>
                  <a:lnTo>
                    <a:pt x="9699" y="6179"/>
                  </a:lnTo>
                  <a:lnTo>
                    <a:pt x="9811" y="6030"/>
                  </a:lnTo>
                  <a:lnTo>
                    <a:pt x="9909" y="5882"/>
                  </a:lnTo>
                  <a:lnTo>
                    <a:pt x="9992" y="5737"/>
                  </a:lnTo>
                  <a:lnTo>
                    <a:pt x="10062" y="5594"/>
                  </a:lnTo>
                  <a:lnTo>
                    <a:pt x="10117" y="5451"/>
                  </a:lnTo>
                  <a:lnTo>
                    <a:pt x="10160" y="5311"/>
                  </a:lnTo>
                  <a:lnTo>
                    <a:pt x="10191" y="5173"/>
                  </a:lnTo>
                  <a:lnTo>
                    <a:pt x="10207" y="5037"/>
                  </a:lnTo>
                  <a:lnTo>
                    <a:pt x="10211" y="4902"/>
                  </a:lnTo>
                  <a:lnTo>
                    <a:pt x="10204" y="4769"/>
                  </a:lnTo>
                  <a:lnTo>
                    <a:pt x="10184" y="4637"/>
                  </a:lnTo>
                  <a:lnTo>
                    <a:pt x="10153" y="4507"/>
                  </a:lnTo>
                  <a:lnTo>
                    <a:pt x="10110" y="4380"/>
                  </a:lnTo>
                  <a:lnTo>
                    <a:pt x="10056" y="4252"/>
                  </a:lnTo>
                  <a:lnTo>
                    <a:pt x="9991" y="4128"/>
                  </a:lnTo>
                  <a:lnTo>
                    <a:pt x="9915" y="4004"/>
                  </a:lnTo>
                  <a:lnTo>
                    <a:pt x="9830" y="3882"/>
                  </a:lnTo>
                  <a:lnTo>
                    <a:pt x="9733" y="3760"/>
                  </a:lnTo>
                  <a:lnTo>
                    <a:pt x="9628" y="3641"/>
                  </a:lnTo>
                  <a:lnTo>
                    <a:pt x="9512" y="3523"/>
                  </a:lnTo>
                  <a:lnTo>
                    <a:pt x="9388" y="3406"/>
                  </a:lnTo>
                  <a:lnTo>
                    <a:pt x="9254" y="3289"/>
                  </a:lnTo>
                  <a:lnTo>
                    <a:pt x="9112" y="3175"/>
                  </a:lnTo>
                  <a:lnTo>
                    <a:pt x="8961" y="3062"/>
                  </a:lnTo>
                  <a:lnTo>
                    <a:pt x="8803" y="2949"/>
                  </a:lnTo>
                  <a:lnTo>
                    <a:pt x="8636" y="2838"/>
                  </a:lnTo>
                  <a:lnTo>
                    <a:pt x="8461" y="2729"/>
                  </a:lnTo>
                  <a:lnTo>
                    <a:pt x="8280" y="2620"/>
                  </a:lnTo>
                  <a:lnTo>
                    <a:pt x="8090" y="2511"/>
                  </a:lnTo>
                  <a:lnTo>
                    <a:pt x="7895" y="2404"/>
                  </a:lnTo>
                  <a:lnTo>
                    <a:pt x="7885" y="2236"/>
                  </a:lnTo>
                  <a:lnTo>
                    <a:pt x="7873" y="2077"/>
                  </a:lnTo>
                  <a:lnTo>
                    <a:pt x="7855" y="1926"/>
                  </a:lnTo>
                  <a:lnTo>
                    <a:pt x="7835" y="1784"/>
                  </a:lnTo>
                  <a:lnTo>
                    <a:pt x="7810" y="1650"/>
                  </a:lnTo>
                  <a:lnTo>
                    <a:pt x="7783" y="1524"/>
                  </a:lnTo>
                  <a:lnTo>
                    <a:pt x="7750" y="1408"/>
                  </a:lnTo>
                  <a:lnTo>
                    <a:pt x="7715" y="1300"/>
                  </a:lnTo>
                  <a:lnTo>
                    <a:pt x="7675" y="1201"/>
                  </a:lnTo>
                  <a:lnTo>
                    <a:pt x="7632" y="1111"/>
                  </a:lnTo>
                  <a:lnTo>
                    <a:pt x="7585" y="1028"/>
                  </a:lnTo>
                  <a:lnTo>
                    <a:pt x="7535" y="955"/>
                  </a:lnTo>
                  <a:lnTo>
                    <a:pt x="7480" y="890"/>
                  </a:lnTo>
                  <a:lnTo>
                    <a:pt x="7422" y="835"/>
                  </a:lnTo>
                  <a:lnTo>
                    <a:pt x="7360" y="786"/>
                  </a:lnTo>
                  <a:lnTo>
                    <a:pt x="7295" y="748"/>
                  </a:lnTo>
                  <a:lnTo>
                    <a:pt x="7225" y="717"/>
                  </a:lnTo>
                  <a:lnTo>
                    <a:pt x="7152" y="696"/>
                  </a:lnTo>
                  <a:lnTo>
                    <a:pt x="7075" y="683"/>
                  </a:lnTo>
                  <a:lnTo>
                    <a:pt x="6995" y="679"/>
                  </a:lnTo>
                  <a:lnTo>
                    <a:pt x="6910" y="683"/>
                  </a:lnTo>
                  <a:lnTo>
                    <a:pt x="6822" y="696"/>
                  </a:lnTo>
                  <a:lnTo>
                    <a:pt x="6730" y="717"/>
                  </a:lnTo>
                  <a:lnTo>
                    <a:pt x="6635" y="748"/>
                  </a:lnTo>
                  <a:lnTo>
                    <a:pt x="6536" y="786"/>
                  </a:lnTo>
                  <a:lnTo>
                    <a:pt x="6432" y="835"/>
                  </a:lnTo>
                  <a:lnTo>
                    <a:pt x="6325" y="890"/>
                  </a:lnTo>
                  <a:lnTo>
                    <a:pt x="6214" y="955"/>
                  </a:lnTo>
                  <a:lnTo>
                    <a:pt x="6100" y="1028"/>
                  </a:lnTo>
                  <a:lnTo>
                    <a:pt x="5982" y="1110"/>
                  </a:lnTo>
                  <a:lnTo>
                    <a:pt x="5861" y="1201"/>
                  </a:lnTo>
                  <a:lnTo>
                    <a:pt x="5735" y="1300"/>
                  </a:lnTo>
                  <a:lnTo>
                    <a:pt x="5564" y="1249"/>
                  </a:lnTo>
                  <a:lnTo>
                    <a:pt x="5399" y="1204"/>
                  </a:lnTo>
                  <a:lnTo>
                    <a:pt x="5240" y="1165"/>
                  </a:lnTo>
                  <a:lnTo>
                    <a:pt x="5085" y="1134"/>
                  </a:lnTo>
                  <a:lnTo>
                    <a:pt x="4937" y="1108"/>
                  </a:lnTo>
                  <a:lnTo>
                    <a:pt x="4793" y="1088"/>
                  </a:lnTo>
                  <a:lnTo>
                    <a:pt x="4655" y="1074"/>
                  </a:lnTo>
                  <a:lnTo>
                    <a:pt x="4521" y="1067"/>
                  </a:lnTo>
                  <a:lnTo>
                    <a:pt x="4393" y="1065"/>
                  </a:lnTo>
                  <a:lnTo>
                    <a:pt x="4269" y="1069"/>
                  </a:lnTo>
                  <a:lnTo>
                    <a:pt x="4150" y="1078"/>
                  </a:lnTo>
                  <a:lnTo>
                    <a:pt x="4036" y="1093"/>
                  </a:lnTo>
                  <a:lnTo>
                    <a:pt x="3926" y="1113"/>
                  </a:lnTo>
                  <a:lnTo>
                    <a:pt x="3820" y="1138"/>
                  </a:lnTo>
                  <a:lnTo>
                    <a:pt x="3719" y="1168"/>
                  </a:lnTo>
                  <a:lnTo>
                    <a:pt x="3622" y="1204"/>
                  </a:lnTo>
                  <a:lnTo>
                    <a:pt x="3529" y="1245"/>
                  </a:lnTo>
                  <a:lnTo>
                    <a:pt x="3440" y="1290"/>
                  </a:lnTo>
                  <a:lnTo>
                    <a:pt x="3356" y="1339"/>
                  </a:lnTo>
                  <a:lnTo>
                    <a:pt x="3274" y="1393"/>
                  </a:lnTo>
                  <a:lnTo>
                    <a:pt x="3197" y="1452"/>
                  </a:lnTo>
                  <a:lnTo>
                    <a:pt x="3123" y="1515"/>
                  </a:lnTo>
                  <a:lnTo>
                    <a:pt x="3053" y="1582"/>
                  </a:lnTo>
                  <a:lnTo>
                    <a:pt x="2986" y="1653"/>
                  </a:lnTo>
                  <a:lnTo>
                    <a:pt x="2923" y="1728"/>
                  </a:lnTo>
                  <a:lnTo>
                    <a:pt x="2864" y="1808"/>
                  </a:lnTo>
                  <a:lnTo>
                    <a:pt x="2806" y="1890"/>
                  </a:lnTo>
                  <a:lnTo>
                    <a:pt x="2753" y="1977"/>
                  </a:lnTo>
                  <a:lnTo>
                    <a:pt x="2702" y="2067"/>
                  </a:lnTo>
                  <a:lnTo>
                    <a:pt x="2653" y="2160"/>
                  </a:lnTo>
                  <a:lnTo>
                    <a:pt x="2608" y="2257"/>
                  </a:lnTo>
                  <a:lnTo>
                    <a:pt x="2566" y="2356"/>
                  </a:lnTo>
                  <a:lnTo>
                    <a:pt x="2471" y="2318"/>
                  </a:lnTo>
                  <a:lnTo>
                    <a:pt x="2380" y="2284"/>
                  </a:lnTo>
                  <a:lnTo>
                    <a:pt x="2291" y="2255"/>
                  </a:lnTo>
                  <a:lnTo>
                    <a:pt x="2206" y="2230"/>
                  </a:lnTo>
                  <a:lnTo>
                    <a:pt x="2123" y="2211"/>
                  </a:lnTo>
                  <a:lnTo>
                    <a:pt x="2043" y="2194"/>
                  </a:lnTo>
                  <a:lnTo>
                    <a:pt x="1967" y="2183"/>
                  </a:lnTo>
                  <a:lnTo>
                    <a:pt x="1894" y="2176"/>
                  </a:lnTo>
                  <a:lnTo>
                    <a:pt x="1824" y="2174"/>
                  </a:lnTo>
                  <a:lnTo>
                    <a:pt x="1756" y="2176"/>
                  </a:lnTo>
                  <a:lnTo>
                    <a:pt x="1691" y="2183"/>
                  </a:lnTo>
                  <a:lnTo>
                    <a:pt x="1630" y="2194"/>
                  </a:lnTo>
                  <a:lnTo>
                    <a:pt x="1572" y="2211"/>
                  </a:lnTo>
                  <a:lnTo>
                    <a:pt x="1516" y="2230"/>
                  </a:lnTo>
                  <a:lnTo>
                    <a:pt x="1464" y="2255"/>
                  </a:lnTo>
                  <a:lnTo>
                    <a:pt x="1414" y="2284"/>
                  </a:lnTo>
                  <a:lnTo>
                    <a:pt x="1367" y="2318"/>
                  </a:lnTo>
                  <a:lnTo>
                    <a:pt x="1324" y="2356"/>
                  </a:lnTo>
                  <a:lnTo>
                    <a:pt x="1283" y="2399"/>
                  </a:lnTo>
                  <a:lnTo>
                    <a:pt x="1246" y="2446"/>
                  </a:lnTo>
                  <a:lnTo>
                    <a:pt x="1212" y="2498"/>
                  </a:lnTo>
                  <a:lnTo>
                    <a:pt x="1180" y="2555"/>
                  </a:lnTo>
                  <a:lnTo>
                    <a:pt x="1151" y="2616"/>
                  </a:lnTo>
                  <a:lnTo>
                    <a:pt x="1126" y="2680"/>
                  </a:lnTo>
                  <a:lnTo>
                    <a:pt x="1103" y="2751"/>
                  </a:lnTo>
                  <a:lnTo>
                    <a:pt x="1084" y="2825"/>
                  </a:lnTo>
                  <a:lnTo>
                    <a:pt x="1067" y="2903"/>
                  </a:lnTo>
                  <a:lnTo>
                    <a:pt x="1054" y="2986"/>
                  </a:lnTo>
                  <a:lnTo>
                    <a:pt x="1043" y="3074"/>
                  </a:lnTo>
                  <a:lnTo>
                    <a:pt x="1036" y="3166"/>
                  </a:lnTo>
                  <a:lnTo>
                    <a:pt x="1032" y="3263"/>
                  </a:lnTo>
                  <a:lnTo>
                    <a:pt x="1030" y="3365"/>
                  </a:lnTo>
                  <a:lnTo>
                    <a:pt x="949" y="3474"/>
                  </a:lnTo>
                  <a:lnTo>
                    <a:pt x="880" y="3578"/>
                  </a:lnTo>
                  <a:lnTo>
                    <a:pt x="820" y="3678"/>
                  </a:lnTo>
                  <a:lnTo>
                    <a:pt x="772" y="3774"/>
                  </a:lnTo>
                  <a:lnTo>
                    <a:pt x="733" y="3866"/>
                  </a:lnTo>
                  <a:lnTo>
                    <a:pt x="704" y="3953"/>
                  </a:lnTo>
                  <a:lnTo>
                    <a:pt x="685" y="4038"/>
                  </a:lnTo>
                  <a:lnTo>
                    <a:pt x="675" y="4117"/>
                  </a:lnTo>
                  <a:lnTo>
                    <a:pt x="673" y="4193"/>
                  </a:lnTo>
                  <a:lnTo>
                    <a:pt x="680" y="4267"/>
                  </a:lnTo>
                  <a:lnTo>
                    <a:pt x="695" y="4337"/>
                  </a:lnTo>
                  <a:lnTo>
                    <a:pt x="718" y="4403"/>
                  </a:lnTo>
                  <a:lnTo>
                    <a:pt x="748" y="4466"/>
                  </a:lnTo>
                  <a:lnTo>
                    <a:pt x="786" y="4526"/>
                  </a:lnTo>
                  <a:lnTo>
                    <a:pt x="831" y="4584"/>
                  </a:lnTo>
                  <a:lnTo>
                    <a:pt x="883" y="4638"/>
                  </a:lnTo>
                  <a:lnTo>
                    <a:pt x="941" y="4690"/>
                  </a:lnTo>
                  <a:lnTo>
                    <a:pt x="1004" y="4740"/>
                  </a:lnTo>
                  <a:lnTo>
                    <a:pt x="1075" y="4787"/>
                  </a:lnTo>
                  <a:lnTo>
                    <a:pt x="1150" y="4831"/>
                  </a:lnTo>
                  <a:lnTo>
                    <a:pt x="1230" y="4874"/>
                  </a:lnTo>
                  <a:lnTo>
                    <a:pt x="1315" y="4914"/>
                  </a:lnTo>
                  <a:lnTo>
                    <a:pt x="1406" y="4953"/>
                  </a:lnTo>
                  <a:lnTo>
                    <a:pt x="1500" y="4990"/>
                  </a:lnTo>
                  <a:lnTo>
                    <a:pt x="1599" y="5025"/>
                  </a:lnTo>
                  <a:lnTo>
                    <a:pt x="1700" y="5059"/>
                  </a:lnTo>
                  <a:lnTo>
                    <a:pt x="1806" y="5091"/>
                  </a:lnTo>
                  <a:lnTo>
                    <a:pt x="1915" y="5123"/>
                  </a:lnTo>
                  <a:lnTo>
                    <a:pt x="2026" y="5153"/>
                  </a:lnTo>
                  <a:lnTo>
                    <a:pt x="2140" y="5181"/>
                  </a:lnTo>
                  <a:lnTo>
                    <a:pt x="2256" y="5209"/>
                  </a:lnTo>
                  <a:lnTo>
                    <a:pt x="2374" y="5237"/>
                  </a:lnTo>
                  <a:lnTo>
                    <a:pt x="2346" y="5363"/>
                  </a:lnTo>
                  <a:lnTo>
                    <a:pt x="2323" y="5479"/>
                  </a:lnTo>
                  <a:lnTo>
                    <a:pt x="2307" y="5586"/>
                  </a:lnTo>
                  <a:lnTo>
                    <a:pt x="2298" y="5685"/>
                  </a:lnTo>
                  <a:lnTo>
                    <a:pt x="2294" y="5773"/>
                  </a:lnTo>
                  <a:lnTo>
                    <a:pt x="2296" y="5854"/>
                  </a:lnTo>
                  <a:lnTo>
                    <a:pt x="2303" y="5926"/>
                  </a:lnTo>
                  <a:lnTo>
                    <a:pt x="2316" y="5991"/>
                  </a:lnTo>
                  <a:lnTo>
                    <a:pt x="2333" y="6048"/>
                  </a:lnTo>
                  <a:lnTo>
                    <a:pt x="2356" y="6097"/>
                  </a:lnTo>
                  <a:lnTo>
                    <a:pt x="2384" y="6139"/>
                  </a:lnTo>
                  <a:lnTo>
                    <a:pt x="2416" y="6173"/>
                  </a:lnTo>
                  <a:lnTo>
                    <a:pt x="2453" y="6201"/>
                  </a:lnTo>
                  <a:lnTo>
                    <a:pt x="2493" y="6222"/>
                  </a:lnTo>
                  <a:lnTo>
                    <a:pt x="2538" y="6238"/>
                  </a:lnTo>
                  <a:lnTo>
                    <a:pt x="2589" y="6248"/>
                  </a:lnTo>
                  <a:lnTo>
                    <a:pt x="2641" y="6252"/>
                  </a:lnTo>
                  <a:lnTo>
                    <a:pt x="2697" y="6251"/>
                  </a:lnTo>
                  <a:lnTo>
                    <a:pt x="2757" y="6243"/>
                  </a:lnTo>
                  <a:lnTo>
                    <a:pt x="2821" y="6232"/>
                  </a:lnTo>
                  <a:lnTo>
                    <a:pt x="2887" y="6216"/>
                  </a:lnTo>
                  <a:lnTo>
                    <a:pt x="2956" y="6196"/>
                  </a:lnTo>
                  <a:lnTo>
                    <a:pt x="3027" y="6171"/>
                  </a:lnTo>
                  <a:lnTo>
                    <a:pt x="3101" y="6143"/>
                  </a:lnTo>
                  <a:lnTo>
                    <a:pt x="3179" y="6111"/>
                  </a:lnTo>
                  <a:lnTo>
                    <a:pt x="3257" y="6077"/>
                  </a:lnTo>
                  <a:lnTo>
                    <a:pt x="3338" y="6038"/>
                  </a:lnTo>
                  <a:lnTo>
                    <a:pt x="3420" y="5997"/>
                  </a:lnTo>
                  <a:lnTo>
                    <a:pt x="3505" y="5955"/>
                  </a:lnTo>
                  <a:lnTo>
                    <a:pt x="3591" y="5910"/>
                  </a:lnTo>
                  <a:lnTo>
                    <a:pt x="3678" y="5861"/>
                  </a:lnTo>
                  <a:lnTo>
                    <a:pt x="3766" y="5813"/>
                  </a:lnTo>
                  <a:lnTo>
                    <a:pt x="3748" y="5867"/>
                  </a:lnTo>
                  <a:lnTo>
                    <a:pt x="3730" y="5921"/>
                  </a:lnTo>
                  <a:lnTo>
                    <a:pt x="3712" y="5974"/>
                  </a:lnTo>
                  <a:lnTo>
                    <a:pt x="3695" y="6029"/>
                  </a:lnTo>
                  <a:lnTo>
                    <a:pt x="3676" y="6083"/>
                  </a:lnTo>
                  <a:lnTo>
                    <a:pt x="3658" y="6137"/>
                  </a:lnTo>
                  <a:lnTo>
                    <a:pt x="3640" y="6191"/>
                  </a:lnTo>
                  <a:lnTo>
                    <a:pt x="3622" y="6244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98520" y="5164920"/>
              <a:ext cx="66960" cy="199080"/>
            </a:xfrm>
            <a:custGeom>
              <a:avLst/>
              <a:gdLst/>
              <a:ahLst/>
              <a:rect l="l" t="t" r="r" b="b"/>
              <a:pathLst>
                <a:path w="1799" h="5856">
                  <a:moveTo>
                    <a:pt x="9" y="5394"/>
                  </a:moveTo>
                  <a:lnTo>
                    <a:pt x="6" y="5337"/>
                  </a:lnTo>
                  <a:lnTo>
                    <a:pt x="3" y="5253"/>
                  </a:lnTo>
                  <a:lnTo>
                    <a:pt x="1" y="5155"/>
                  </a:lnTo>
                  <a:lnTo>
                    <a:pt x="0" y="5053"/>
                  </a:lnTo>
                  <a:lnTo>
                    <a:pt x="0" y="4956"/>
                  </a:lnTo>
                  <a:lnTo>
                    <a:pt x="1" y="4878"/>
                  </a:lnTo>
                  <a:lnTo>
                    <a:pt x="2" y="4848"/>
                  </a:lnTo>
                  <a:lnTo>
                    <a:pt x="4" y="4829"/>
                  </a:lnTo>
                  <a:lnTo>
                    <a:pt x="5" y="4822"/>
                  </a:lnTo>
                  <a:lnTo>
                    <a:pt x="6" y="4818"/>
                  </a:lnTo>
                  <a:lnTo>
                    <a:pt x="7" y="4817"/>
                  </a:lnTo>
                  <a:lnTo>
                    <a:pt x="9" y="4819"/>
                  </a:lnTo>
                  <a:lnTo>
                    <a:pt x="33" y="4871"/>
                  </a:lnTo>
                  <a:lnTo>
                    <a:pt x="61" y="4922"/>
                  </a:lnTo>
                  <a:lnTo>
                    <a:pt x="93" y="4968"/>
                  </a:lnTo>
                  <a:lnTo>
                    <a:pt x="127" y="5012"/>
                  </a:lnTo>
                  <a:lnTo>
                    <a:pt x="164" y="5051"/>
                  </a:lnTo>
                  <a:lnTo>
                    <a:pt x="205" y="5089"/>
                  </a:lnTo>
                  <a:lnTo>
                    <a:pt x="247" y="5124"/>
                  </a:lnTo>
                  <a:lnTo>
                    <a:pt x="291" y="5154"/>
                  </a:lnTo>
                  <a:lnTo>
                    <a:pt x="337" y="5183"/>
                  </a:lnTo>
                  <a:lnTo>
                    <a:pt x="384" y="5208"/>
                  </a:lnTo>
                  <a:lnTo>
                    <a:pt x="433" y="5230"/>
                  </a:lnTo>
                  <a:lnTo>
                    <a:pt x="482" y="5249"/>
                  </a:lnTo>
                  <a:lnTo>
                    <a:pt x="531" y="5266"/>
                  </a:lnTo>
                  <a:lnTo>
                    <a:pt x="581" y="5279"/>
                  </a:lnTo>
                  <a:lnTo>
                    <a:pt x="632" y="5289"/>
                  </a:lnTo>
                  <a:lnTo>
                    <a:pt x="681" y="5296"/>
                  </a:lnTo>
                  <a:lnTo>
                    <a:pt x="730" y="5300"/>
                  </a:lnTo>
                  <a:lnTo>
                    <a:pt x="777" y="5302"/>
                  </a:lnTo>
                  <a:lnTo>
                    <a:pt x="824" y="5300"/>
                  </a:lnTo>
                  <a:lnTo>
                    <a:pt x="869" y="5296"/>
                  </a:lnTo>
                  <a:lnTo>
                    <a:pt x="912" y="5289"/>
                  </a:lnTo>
                  <a:lnTo>
                    <a:pt x="954" y="5279"/>
                  </a:lnTo>
                  <a:lnTo>
                    <a:pt x="993" y="5265"/>
                  </a:lnTo>
                  <a:lnTo>
                    <a:pt x="1028" y="5248"/>
                  </a:lnTo>
                  <a:lnTo>
                    <a:pt x="1062" y="5229"/>
                  </a:lnTo>
                  <a:lnTo>
                    <a:pt x="1091" y="5207"/>
                  </a:lnTo>
                  <a:lnTo>
                    <a:pt x="1117" y="5182"/>
                  </a:lnTo>
                  <a:lnTo>
                    <a:pt x="1140" y="5155"/>
                  </a:lnTo>
                  <a:lnTo>
                    <a:pt x="1158" y="5125"/>
                  </a:lnTo>
                  <a:lnTo>
                    <a:pt x="1172" y="5091"/>
                  </a:lnTo>
                  <a:lnTo>
                    <a:pt x="1181" y="5055"/>
                  </a:lnTo>
                  <a:lnTo>
                    <a:pt x="1184" y="5016"/>
                  </a:lnTo>
                  <a:lnTo>
                    <a:pt x="1187" y="4857"/>
                  </a:lnTo>
                  <a:lnTo>
                    <a:pt x="1189" y="4698"/>
                  </a:lnTo>
                  <a:lnTo>
                    <a:pt x="1189" y="4540"/>
                  </a:lnTo>
                  <a:lnTo>
                    <a:pt x="1189" y="4382"/>
                  </a:lnTo>
                  <a:lnTo>
                    <a:pt x="1187" y="4225"/>
                  </a:lnTo>
                  <a:lnTo>
                    <a:pt x="1184" y="4068"/>
                  </a:lnTo>
                  <a:lnTo>
                    <a:pt x="1179" y="3911"/>
                  </a:lnTo>
                  <a:lnTo>
                    <a:pt x="1175" y="3754"/>
                  </a:lnTo>
                  <a:lnTo>
                    <a:pt x="1168" y="3598"/>
                  </a:lnTo>
                  <a:lnTo>
                    <a:pt x="1162" y="3441"/>
                  </a:lnTo>
                  <a:lnTo>
                    <a:pt x="1155" y="3285"/>
                  </a:lnTo>
                  <a:lnTo>
                    <a:pt x="1146" y="3129"/>
                  </a:lnTo>
                  <a:lnTo>
                    <a:pt x="1130" y="2818"/>
                  </a:lnTo>
                  <a:lnTo>
                    <a:pt x="1113" y="2508"/>
                  </a:lnTo>
                  <a:lnTo>
                    <a:pt x="1095" y="2196"/>
                  </a:lnTo>
                  <a:lnTo>
                    <a:pt x="1079" y="1885"/>
                  </a:lnTo>
                  <a:lnTo>
                    <a:pt x="1071" y="1729"/>
                  </a:lnTo>
                  <a:lnTo>
                    <a:pt x="1064" y="1573"/>
                  </a:lnTo>
                  <a:lnTo>
                    <a:pt x="1058" y="1417"/>
                  </a:lnTo>
                  <a:lnTo>
                    <a:pt x="1051" y="1260"/>
                  </a:lnTo>
                  <a:lnTo>
                    <a:pt x="1046" y="1105"/>
                  </a:lnTo>
                  <a:lnTo>
                    <a:pt x="1042" y="948"/>
                  </a:lnTo>
                  <a:lnTo>
                    <a:pt x="1039" y="791"/>
                  </a:lnTo>
                  <a:lnTo>
                    <a:pt x="1037" y="633"/>
                  </a:lnTo>
                  <a:lnTo>
                    <a:pt x="1036" y="475"/>
                  </a:lnTo>
                  <a:lnTo>
                    <a:pt x="1037" y="317"/>
                  </a:lnTo>
                  <a:lnTo>
                    <a:pt x="1038" y="159"/>
                  </a:lnTo>
                  <a:lnTo>
                    <a:pt x="1042" y="0"/>
                  </a:lnTo>
                  <a:lnTo>
                    <a:pt x="1670" y="12"/>
                  </a:lnTo>
                  <a:lnTo>
                    <a:pt x="1799" y="5022"/>
                  </a:lnTo>
                  <a:lnTo>
                    <a:pt x="1798" y="5090"/>
                  </a:lnTo>
                  <a:lnTo>
                    <a:pt x="1790" y="5155"/>
                  </a:lnTo>
                  <a:lnTo>
                    <a:pt x="1773" y="5219"/>
                  </a:lnTo>
                  <a:lnTo>
                    <a:pt x="1751" y="5282"/>
                  </a:lnTo>
                  <a:lnTo>
                    <a:pt x="1722" y="5342"/>
                  </a:lnTo>
                  <a:lnTo>
                    <a:pt x="1686" y="5400"/>
                  </a:lnTo>
                  <a:lnTo>
                    <a:pt x="1646" y="5456"/>
                  </a:lnTo>
                  <a:lnTo>
                    <a:pt x="1600" y="5509"/>
                  </a:lnTo>
                  <a:lnTo>
                    <a:pt x="1548" y="5559"/>
                  </a:lnTo>
                  <a:lnTo>
                    <a:pt x="1494" y="5606"/>
                  </a:lnTo>
                  <a:lnTo>
                    <a:pt x="1434" y="5650"/>
                  </a:lnTo>
                  <a:lnTo>
                    <a:pt x="1371" y="5690"/>
                  </a:lnTo>
                  <a:lnTo>
                    <a:pt x="1306" y="5726"/>
                  </a:lnTo>
                  <a:lnTo>
                    <a:pt x="1237" y="5759"/>
                  </a:lnTo>
                  <a:lnTo>
                    <a:pt x="1166" y="5787"/>
                  </a:lnTo>
                  <a:lnTo>
                    <a:pt x="1094" y="5810"/>
                  </a:lnTo>
                  <a:lnTo>
                    <a:pt x="1020" y="5830"/>
                  </a:lnTo>
                  <a:lnTo>
                    <a:pt x="945" y="5844"/>
                  </a:lnTo>
                  <a:lnTo>
                    <a:pt x="868" y="5852"/>
                  </a:lnTo>
                  <a:lnTo>
                    <a:pt x="793" y="5856"/>
                  </a:lnTo>
                  <a:lnTo>
                    <a:pt x="716" y="5854"/>
                  </a:lnTo>
                  <a:lnTo>
                    <a:pt x="641" y="5846"/>
                  </a:lnTo>
                  <a:lnTo>
                    <a:pt x="567" y="5831"/>
                  </a:lnTo>
                  <a:lnTo>
                    <a:pt x="494" y="5811"/>
                  </a:lnTo>
                  <a:lnTo>
                    <a:pt x="422" y="5784"/>
                  </a:lnTo>
                  <a:lnTo>
                    <a:pt x="353" y="5750"/>
                  </a:lnTo>
                  <a:lnTo>
                    <a:pt x="286" y="5710"/>
                  </a:lnTo>
                  <a:lnTo>
                    <a:pt x="224" y="5663"/>
                  </a:lnTo>
                  <a:lnTo>
                    <a:pt x="164" y="5607"/>
                  </a:lnTo>
                  <a:lnTo>
                    <a:pt x="107" y="5544"/>
                  </a:lnTo>
                  <a:lnTo>
                    <a:pt x="56" y="5473"/>
                  </a:lnTo>
                  <a:lnTo>
                    <a:pt x="9" y="53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498520" y="5164920"/>
              <a:ext cx="66960" cy="199080"/>
            </a:xfrm>
            <a:custGeom>
              <a:avLst/>
              <a:gdLst/>
              <a:ahLst/>
              <a:rect l="l" t="t" r="r" b="b"/>
              <a:pathLst>
                <a:path w="1799" h="5856">
                  <a:moveTo>
                    <a:pt x="9" y="5394"/>
                  </a:moveTo>
                  <a:lnTo>
                    <a:pt x="6" y="5337"/>
                  </a:lnTo>
                  <a:lnTo>
                    <a:pt x="3" y="5253"/>
                  </a:lnTo>
                  <a:lnTo>
                    <a:pt x="1" y="5155"/>
                  </a:lnTo>
                  <a:lnTo>
                    <a:pt x="0" y="5053"/>
                  </a:lnTo>
                  <a:lnTo>
                    <a:pt x="0" y="4956"/>
                  </a:lnTo>
                  <a:lnTo>
                    <a:pt x="1" y="4878"/>
                  </a:lnTo>
                  <a:lnTo>
                    <a:pt x="2" y="4848"/>
                  </a:lnTo>
                  <a:lnTo>
                    <a:pt x="4" y="4829"/>
                  </a:lnTo>
                  <a:lnTo>
                    <a:pt x="5" y="4822"/>
                  </a:lnTo>
                  <a:lnTo>
                    <a:pt x="6" y="4818"/>
                  </a:lnTo>
                  <a:lnTo>
                    <a:pt x="7" y="4817"/>
                  </a:lnTo>
                  <a:lnTo>
                    <a:pt x="9" y="4819"/>
                  </a:lnTo>
                  <a:lnTo>
                    <a:pt x="33" y="4871"/>
                  </a:lnTo>
                  <a:lnTo>
                    <a:pt x="61" y="4922"/>
                  </a:lnTo>
                  <a:lnTo>
                    <a:pt x="93" y="4968"/>
                  </a:lnTo>
                  <a:lnTo>
                    <a:pt x="127" y="5012"/>
                  </a:lnTo>
                  <a:lnTo>
                    <a:pt x="164" y="5051"/>
                  </a:lnTo>
                  <a:lnTo>
                    <a:pt x="205" y="5089"/>
                  </a:lnTo>
                  <a:lnTo>
                    <a:pt x="247" y="5124"/>
                  </a:lnTo>
                  <a:lnTo>
                    <a:pt x="291" y="5154"/>
                  </a:lnTo>
                  <a:lnTo>
                    <a:pt x="337" y="5183"/>
                  </a:lnTo>
                  <a:lnTo>
                    <a:pt x="384" y="5208"/>
                  </a:lnTo>
                  <a:lnTo>
                    <a:pt x="433" y="5230"/>
                  </a:lnTo>
                  <a:lnTo>
                    <a:pt x="482" y="5249"/>
                  </a:lnTo>
                  <a:lnTo>
                    <a:pt x="531" y="5266"/>
                  </a:lnTo>
                  <a:lnTo>
                    <a:pt x="581" y="5279"/>
                  </a:lnTo>
                  <a:lnTo>
                    <a:pt x="632" y="5289"/>
                  </a:lnTo>
                  <a:lnTo>
                    <a:pt x="681" y="5296"/>
                  </a:lnTo>
                  <a:lnTo>
                    <a:pt x="730" y="5300"/>
                  </a:lnTo>
                  <a:lnTo>
                    <a:pt x="777" y="5302"/>
                  </a:lnTo>
                  <a:lnTo>
                    <a:pt x="824" y="5300"/>
                  </a:lnTo>
                  <a:lnTo>
                    <a:pt x="869" y="5296"/>
                  </a:lnTo>
                  <a:lnTo>
                    <a:pt x="912" y="5289"/>
                  </a:lnTo>
                  <a:lnTo>
                    <a:pt x="954" y="5279"/>
                  </a:lnTo>
                  <a:lnTo>
                    <a:pt x="993" y="5265"/>
                  </a:lnTo>
                  <a:lnTo>
                    <a:pt x="1028" y="5248"/>
                  </a:lnTo>
                  <a:lnTo>
                    <a:pt x="1062" y="5229"/>
                  </a:lnTo>
                  <a:lnTo>
                    <a:pt x="1091" y="5207"/>
                  </a:lnTo>
                  <a:lnTo>
                    <a:pt x="1117" y="5182"/>
                  </a:lnTo>
                  <a:lnTo>
                    <a:pt x="1140" y="5155"/>
                  </a:lnTo>
                  <a:lnTo>
                    <a:pt x="1158" y="5125"/>
                  </a:lnTo>
                  <a:lnTo>
                    <a:pt x="1172" y="5091"/>
                  </a:lnTo>
                  <a:lnTo>
                    <a:pt x="1181" y="5055"/>
                  </a:lnTo>
                  <a:lnTo>
                    <a:pt x="1184" y="5016"/>
                  </a:lnTo>
                  <a:lnTo>
                    <a:pt x="1187" y="4857"/>
                  </a:lnTo>
                  <a:lnTo>
                    <a:pt x="1189" y="4698"/>
                  </a:lnTo>
                  <a:lnTo>
                    <a:pt x="1189" y="4540"/>
                  </a:lnTo>
                  <a:lnTo>
                    <a:pt x="1189" y="4382"/>
                  </a:lnTo>
                  <a:lnTo>
                    <a:pt x="1187" y="4225"/>
                  </a:lnTo>
                  <a:lnTo>
                    <a:pt x="1184" y="4068"/>
                  </a:lnTo>
                  <a:lnTo>
                    <a:pt x="1179" y="3911"/>
                  </a:lnTo>
                  <a:lnTo>
                    <a:pt x="1175" y="3754"/>
                  </a:lnTo>
                  <a:lnTo>
                    <a:pt x="1168" y="3598"/>
                  </a:lnTo>
                  <a:lnTo>
                    <a:pt x="1162" y="3441"/>
                  </a:lnTo>
                  <a:lnTo>
                    <a:pt x="1155" y="3285"/>
                  </a:lnTo>
                  <a:lnTo>
                    <a:pt x="1146" y="3129"/>
                  </a:lnTo>
                  <a:lnTo>
                    <a:pt x="1130" y="2818"/>
                  </a:lnTo>
                  <a:lnTo>
                    <a:pt x="1113" y="2508"/>
                  </a:lnTo>
                  <a:lnTo>
                    <a:pt x="1095" y="2196"/>
                  </a:lnTo>
                  <a:lnTo>
                    <a:pt x="1079" y="1885"/>
                  </a:lnTo>
                  <a:lnTo>
                    <a:pt x="1071" y="1729"/>
                  </a:lnTo>
                  <a:lnTo>
                    <a:pt x="1064" y="1573"/>
                  </a:lnTo>
                  <a:lnTo>
                    <a:pt x="1058" y="1417"/>
                  </a:lnTo>
                  <a:lnTo>
                    <a:pt x="1051" y="1260"/>
                  </a:lnTo>
                  <a:lnTo>
                    <a:pt x="1046" y="1105"/>
                  </a:lnTo>
                  <a:lnTo>
                    <a:pt x="1042" y="948"/>
                  </a:lnTo>
                  <a:lnTo>
                    <a:pt x="1039" y="791"/>
                  </a:lnTo>
                  <a:lnTo>
                    <a:pt x="1037" y="633"/>
                  </a:lnTo>
                  <a:lnTo>
                    <a:pt x="1036" y="475"/>
                  </a:lnTo>
                  <a:lnTo>
                    <a:pt x="1037" y="317"/>
                  </a:lnTo>
                  <a:lnTo>
                    <a:pt x="1038" y="159"/>
                  </a:lnTo>
                  <a:lnTo>
                    <a:pt x="1042" y="0"/>
                  </a:lnTo>
                  <a:lnTo>
                    <a:pt x="1670" y="12"/>
                  </a:lnTo>
                  <a:lnTo>
                    <a:pt x="1799" y="5022"/>
                  </a:lnTo>
                  <a:lnTo>
                    <a:pt x="1798" y="5090"/>
                  </a:lnTo>
                  <a:lnTo>
                    <a:pt x="1790" y="5155"/>
                  </a:lnTo>
                  <a:lnTo>
                    <a:pt x="1773" y="5219"/>
                  </a:lnTo>
                  <a:lnTo>
                    <a:pt x="1751" y="5282"/>
                  </a:lnTo>
                  <a:lnTo>
                    <a:pt x="1722" y="5342"/>
                  </a:lnTo>
                  <a:lnTo>
                    <a:pt x="1686" y="5400"/>
                  </a:lnTo>
                  <a:lnTo>
                    <a:pt x="1646" y="5456"/>
                  </a:lnTo>
                  <a:lnTo>
                    <a:pt x="1600" y="5509"/>
                  </a:lnTo>
                  <a:lnTo>
                    <a:pt x="1548" y="5559"/>
                  </a:lnTo>
                  <a:lnTo>
                    <a:pt x="1494" y="5606"/>
                  </a:lnTo>
                  <a:lnTo>
                    <a:pt x="1434" y="5650"/>
                  </a:lnTo>
                  <a:lnTo>
                    <a:pt x="1371" y="5690"/>
                  </a:lnTo>
                  <a:lnTo>
                    <a:pt x="1306" y="5726"/>
                  </a:lnTo>
                  <a:lnTo>
                    <a:pt x="1237" y="5759"/>
                  </a:lnTo>
                  <a:lnTo>
                    <a:pt x="1166" y="5787"/>
                  </a:lnTo>
                  <a:lnTo>
                    <a:pt x="1094" y="5810"/>
                  </a:lnTo>
                  <a:lnTo>
                    <a:pt x="1020" y="5830"/>
                  </a:lnTo>
                  <a:lnTo>
                    <a:pt x="945" y="5844"/>
                  </a:lnTo>
                  <a:lnTo>
                    <a:pt x="868" y="5852"/>
                  </a:lnTo>
                  <a:lnTo>
                    <a:pt x="793" y="5856"/>
                  </a:lnTo>
                  <a:lnTo>
                    <a:pt x="716" y="5854"/>
                  </a:lnTo>
                  <a:lnTo>
                    <a:pt x="641" y="5846"/>
                  </a:lnTo>
                  <a:lnTo>
                    <a:pt x="567" y="5831"/>
                  </a:lnTo>
                  <a:lnTo>
                    <a:pt x="494" y="5811"/>
                  </a:lnTo>
                  <a:lnTo>
                    <a:pt x="422" y="5784"/>
                  </a:lnTo>
                  <a:lnTo>
                    <a:pt x="353" y="5750"/>
                  </a:lnTo>
                  <a:lnTo>
                    <a:pt x="286" y="5710"/>
                  </a:lnTo>
                  <a:lnTo>
                    <a:pt x="224" y="5663"/>
                  </a:lnTo>
                  <a:lnTo>
                    <a:pt x="164" y="5607"/>
                  </a:lnTo>
                  <a:lnTo>
                    <a:pt x="107" y="5544"/>
                  </a:lnTo>
                  <a:lnTo>
                    <a:pt x="56" y="5473"/>
                  </a:lnTo>
                  <a:lnTo>
                    <a:pt x="9" y="5394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8292960" y="3873600"/>
            <a:ext cx="623520" cy="570960"/>
            <a:chOff x="8292960" y="3873600"/>
            <a:chExt cx="623520" cy="570960"/>
          </a:xfrm>
        </p:grpSpPr>
        <p:sp>
          <p:nvSpPr>
            <p:cNvPr id="28" name=""/>
            <p:cNvSpPr/>
            <p:nvPr/>
          </p:nvSpPr>
          <p:spPr>
            <a:xfrm>
              <a:off x="8605080" y="3873600"/>
              <a:ext cx="311400" cy="28584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9" y="681"/>
                  </a:lnTo>
                  <a:lnTo>
                    <a:pt x="297" y="684"/>
                  </a:lnTo>
                  <a:lnTo>
                    <a:pt x="397" y="690"/>
                  </a:lnTo>
                  <a:lnTo>
                    <a:pt x="493" y="695"/>
                  </a:lnTo>
                  <a:lnTo>
                    <a:pt x="591" y="702"/>
                  </a:lnTo>
                  <a:lnTo>
                    <a:pt x="689" y="710"/>
                  </a:lnTo>
                  <a:lnTo>
                    <a:pt x="785" y="719"/>
                  </a:lnTo>
                  <a:lnTo>
                    <a:pt x="881" y="730"/>
                  </a:lnTo>
                  <a:lnTo>
                    <a:pt x="977" y="741"/>
                  </a:lnTo>
                  <a:lnTo>
                    <a:pt x="1074" y="754"/>
                  </a:lnTo>
                  <a:lnTo>
                    <a:pt x="1170" y="769"/>
                  </a:lnTo>
                  <a:lnTo>
                    <a:pt x="1264" y="784"/>
                  </a:lnTo>
                  <a:lnTo>
                    <a:pt x="1358" y="800"/>
                  </a:lnTo>
                  <a:lnTo>
                    <a:pt x="1453" y="817"/>
                  </a:lnTo>
                  <a:lnTo>
                    <a:pt x="1548" y="836"/>
                  </a:lnTo>
                  <a:lnTo>
                    <a:pt x="1641" y="857"/>
                  </a:lnTo>
                  <a:lnTo>
                    <a:pt x="1734" y="877"/>
                  </a:lnTo>
                  <a:lnTo>
                    <a:pt x="1827" y="899"/>
                  </a:lnTo>
                  <a:lnTo>
                    <a:pt x="1919" y="922"/>
                  </a:lnTo>
                  <a:lnTo>
                    <a:pt x="2010" y="947"/>
                  </a:lnTo>
                  <a:lnTo>
                    <a:pt x="2101" y="972"/>
                  </a:lnTo>
                  <a:lnTo>
                    <a:pt x="2192" y="999"/>
                  </a:lnTo>
                  <a:lnTo>
                    <a:pt x="2282" y="1026"/>
                  </a:lnTo>
                  <a:lnTo>
                    <a:pt x="2372" y="1055"/>
                  </a:lnTo>
                  <a:lnTo>
                    <a:pt x="2462" y="1085"/>
                  </a:lnTo>
                  <a:lnTo>
                    <a:pt x="2551" y="1115"/>
                  </a:lnTo>
                  <a:lnTo>
                    <a:pt x="2639" y="1148"/>
                  </a:lnTo>
                  <a:lnTo>
                    <a:pt x="2727" y="1180"/>
                  </a:lnTo>
                  <a:lnTo>
                    <a:pt x="2815" y="1215"/>
                  </a:lnTo>
                  <a:lnTo>
                    <a:pt x="2903" y="1250"/>
                  </a:lnTo>
                  <a:lnTo>
                    <a:pt x="2989" y="1285"/>
                  </a:lnTo>
                  <a:lnTo>
                    <a:pt x="3075" y="1323"/>
                  </a:lnTo>
                  <a:lnTo>
                    <a:pt x="3160" y="1361"/>
                  </a:lnTo>
                  <a:lnTo>
                    <a:pt x="3245" y="1399"/>
                  </a:lnTo>
                  <a:lnTo>
                    <a:pt x="3329" y="1440"/>
                  </a:lnTo>
                  <a:lnTo>
                    <a:pt x="3412" y="1482"/>
                  </a:lnTo>
                  <a:lnTo>
                    <a:pt x="3497" y="1522"/>
                  </a:lnTo>
                  <a:lnTo>
                    <a:pt x="3579" y="1566"/>
                  </a:lnTo>
                  <a:lnTo>
                    <a:pt x="3660" y="1609"/>
                  </a:lnTo>
                  <a:lnTo>
                    <a:pt x="3742" y="1655"/>
                  </a:lnTo>
                  <a:lnTo>
                    <a:pt x="3823" y="1700"/>
                  </a:lnTo>
                  <a:lnTo>
                    <a:pt x="3903" y="1747"/>
                  </a:lnTo>
                  <a:lnTo>
                    <a:pt x="3983" y="1796"/>
                  </a:lnTo>
                  <a:lnTo>
                    <a:pt x="4062" y="1845"/>
                  </a:lnTo>
                  <a:lnTo>
                    <a:pt x="4139" y="1894"/>
                  </a:lnTo>
                  <a:lnTo>
                    <a:pt x="4218" y="1944"/>
                  </a:lnTo>
                  <a:lnTo>
                    <a:pt x="4295" y="1996"/>
                  </a:lnTo>
                  <a:lnTo>
                    <a:pt x="4371" y="2049"/>
                  </a:lnTo>
                  <a:lnTo>
                    <a:pt x="4447" y="2101"/>
                  </a:lnTo>
                  <a:lnTo>
                    <a:pt x="4522" y="2156"/>
                  </a:lnTo>
                  <a:lnTo>
                    <a:pt x="4597" y="2210"/>
                  </a:lnTo>
                  <a:lnTo>
                    <a:pt x="4670" y="2267"/>
                  </a:lnTo>
                  <a:lnTo>
                    <a:pt x="4743" y="2324"/>
                  </a:lnTo>
                  <a:lnTo>
                    <a:pt x="4816" y="2382"/>
                  </a:lnTo>
                  <a:lnTo>
                    <a:pt x="4887" y="2439"/>
                  </a:lnTo>
                  <a:lnTo>
                    <a:pt x="4958" y="2499"/>
                  </a:lnTo>
                  <a:lnTo>
                    <a:pt x="5029" y="2558"/>
                  </a:lnTo>
                  <a:lnTo>
                    <a:pt x="5099" y="2620"/>
                  </a:lnTo>
                  <a:lnTo>
                    <a:pt x="5167" y="2682"/>
                  </a:lnTo>
                  <a:lnTo>
                    <a:pt x="5235" y="2745"/>
                  </a:lnTo>
                  <a:lnTo>
                    <a:pt x="5302" y="2807"/>
                  </a:lnTo>
                  <a:lnTo>
                    <a:pt x="5369" y="2872"/>
                  </a:lnTo>
                  <a:lnTo>
                    <a:pt x="5434" y="2937"/>
                  </a:lnTo>
                  <a:lnTo>
                    <a:pt x="5499" y="3002"/>
                  </a:lnTo>
                  <a:lnTo>
                    <a:pt x="5564" y="3069"/>
                  </a:lnTo>
                  <a:lnTo>
                    <a:pt x="5626" y="3136"/>
                  </a:lnTo>
                  <a:lnTo>
                    <a:pt x="5689" y="3204"/>
                  </a:lnTo>
                  <a:lnTo>
                    <a:pt x="5751" y="3272"/>
                  </a:lnTo>
                  <a:lnTo>
                    <a:pt x="5813" y="3342"/>
                  </a:lnTo>
                  <a:lnTo>
                    <a:pt x="5872" y="3413"/>
                  </a:lnTo>
                  <a:lnTo>
                    <a:pt x="5932" y="3484"/>
                  </a:lnTo>
                  <a:lnTo>
                    <a:pt x="5989" y="3555"/>
                  </a:lnTo>
                  <a:lnTo>
                    <a:pt x="6047" y="3628"/>
                  </a:lnTo>
                  <a:lnTo>
                    <a:pt x="6104" y="3701"/>
                  </a:lnTo>
                  <a:lnTo>
                    <a:pt x="6161" y="3774"/>
                  </a:lnTo>
                  <a:lnTo>
                    <a:pt x="6215" y="3849"/>
                  </a:lnTo>
                  <a:lnTo>
                    <a:pt x="6270" y="3924"/>
                  </a:lnTo>
                  <a:lnTo>
                    <a:pt x="6322" y="4000"/>
                  </a:lnTo>
                  <a:lnTo>
                    <a:pt x="6375" y="4076"/>
                  </a:lnTo>
                  <a:lnTo>
                    <a:pt x="6427" y="4153"/>
                  </a:lnTo>
                  <a:lnTo>
                    <a:pt x="6477" y="4232"/>
                  </a:lnTo>
                  <a:lnTo>
                    <a:pt x="6526" y="4309"/>
                  </a:lnTo>
                  <a:lnTo>
                    <a:pt x="6575" y="4388"/>
                  </a:lnTo>
                  <a:lnTo>
                    <a:pt x="6624" y="4468"/>
                  </a:lnTo>
                  <a:lnTo>
                    <a:pt x="6671" y="4548"/>
                  </a:lnTo>
                  <a:lnTo>
                    <a:pt x="6716" y="4629"/>
                  </a:lnTo>
                  <a:lnTo>
                    <a:pt x="6762" y="4711"/>
                  </a:lnTo>
                  <a:lnTo>
                    <a:pt x="6805" y="4792"/>
                  </a:lnTo>
                  <a:lnTo>
                    <a:pt x="6849" y="4874"/>
                  </a:lnTo>
                  <a:lnTo>
                    <a:pt x="6889" y="4959"/>
                  </a:lnTo>
                  <a:lnTo>
                    <a:pt x="6931" y="5042"/>
                  </a:lnTo>
                  <a:lnTo>
                    <a:pt x="6972" y="5126"/>
                  </a:lnTo>
                  <a:lnTo>
                    <a:pt x="7010" y="5211"/>
                  </a:lnTo>
                  <a:lnTo>
                    <a:pt x="7048" y="5296"/>
                  </a:lnTo>
                  <a:lnTo>
                    <a:pt x="7086" y="5382"/>
                  </a:lnTo>
                  <a:lnTo>
                    <a:pt x="7121" y="5468"/>
                  </a:lnTo>
                  <a:lnTo>
                    <a:pt x="7156" y="5556"/>
                  </a:lnTo>
                  <a:lnTo>
                    <a:pt x="7191" y="5644"/>
                  </a:lnTo>
                  <a:lnTo>
                    <a:pt x="7223" y="5732"/>
                  </a:lnTo>
                  <a:lnTo>
                    <a:pt x="7256" y="5820"/>
                  </a:lnTo>
                  <a:lnTo>
                    <a:pt x="7286" y="5909"/>
                  </a:lnTo>
                  <a:lnTo>
                    <a:pt x="7316" y="5999"/>
                  </a:lnTo>
                  <a:lnTo>
                    <a:pt x="7345" y="6089"/>
                  </a:lnTo>
                  <a:lnTo>
                    <a:pt x="7372" y="6179"/>
                  </a:lnTo>
                  <a:lnTo>
                    <a:pt x="7399" y="6270"/>
                  </a:lnTo>
                  <a:lnTo>
                    <a:pt x="7424" y="6361"/>
                  </a:lnTo>
                  <a:lnTo>
                    <a:pt x="7449" y="6452"/>
                  </a:lnTo>
                  <a:lnTo>
                    <a:pt x="7472" y="6544"/>
                  </a:lnTo>
                  <a:lnTo>
                    <a:pt x="7494" y="6637"/>
                  </a:lnTo>
                  <a:lnTo>
                    <a:pt x="7514" y="6730"/>
                  </a:lnTo>
                  <a:lnTo>
                    <a:pt x="7535" y="6823"/>
                  </a:lnTo>
                  <a:lnTo>
                    <a:pt x="7554" y="6918"/>
                  </a:lnTo>
                  <a:lnTo>
                    <a:pt x="7571" y="7013"/>
                  </a:lnTo>
                  <a:lnTo>
                    <a:pt x="7587" y="7107"/>
                  </a:lnTo>
                  <a:lnTo>
                    <a:pt x="7602" y="7201"/>
                  </a:lnTo>
                  <a:lnTo>
                    <a:pt x="7617" y="7297"/>
                  </a:lnTo>
                  <a:lnTo>
                    <a:pt x="7630" y="7394"/>
                  </a:lnTo>
                  <a:lnTo>
                    <a:pt x="7641" y="7490"/>
                  </a:lnTo>
                  <a:lnTo>
                    <a:pt x="7652" y="7586"/>
                  </a:lnTo>
                  <a:lnTo>
                    <a:pt x="7661" y="7682"/>
                  </a:lnTo>
                  <a:lnTo>
                    <a:pt x="7669" y="7780"/>
                  </a:lnTo>
                  <a:lnTo>
                    <a:pt x="7676" y="7878"/>
                  </a:lnTo>
                  <a:lnTo>
                    <a:pt x="7681" y="7974"/>
                  </a:lnTo>
                  <a:lnTo>
                    <a:pt x="7687" y="8074"/>
                  </a:lnTo>
                  <a:lnTo>
                    <a:pt x="7690" y="8172"/>
                  </a:lnTo>
                  <a:lnTo>
                    <a:pt x="7690" y="8272"/>
                  </a:lnTo>
                  <a:lnTo>
                    <a:pt x="7691" y="8371"/>
                  </a:lnTo>
                  <a:lnTo>
                    <a:pt x="8371" y="8371"/>
                  </a:lnTo>
                  <a:lnTo>
                    <a:pt x="8370" y="8263"/>
                  </a:lnTo>
                  <a:lnTo>
                    <a:pt x="8367" y="8156"/>
                  </a:lnTo>
                  <a:lnTo>
                    <a:pt x="8364" y="8050"/>
                  </a:lnTo>
                  <a:lnTo>
                    <a:pt x="8359" y="7943"/>
                  </a:lnTo>
                  <a:lnTo>
                    <a:pt x="8353" y="7835"/>
                  </a:lnTo>
                  <a:lnTo>
                    <a:pt x="8346" y="7730"/>
                  </a:lnTo>
                  <a:lnTo>
                    <a:pt x="8338" y="7624"/>
                  </a:lnTo>
                  <a:lnTo>
                    <a:pt x="8327" y="7517"/>
                  </a:lnTo>
                  <a:lnTo>
                    <a:pt x="8316" y="7413"/>
                  </a:lnTo>
                  <a:lnTo>
                    <a:pt x="8302" y="7308"/>
                  </a:lnTo>
                  <a:lnTo>
                    <a:pt x="8288" y="7204"/>
                  </a:lnTo>
                  <a:lnTo>
                    <a:pt x="8274" y="7101"/>
                  </a:lnTo>
                  <a:lnTo>
                    <a:pt x="8257" y="6996"/>
                  </a:lnTo>
                  <a:lnTo>
                    <a:pt x="8240" y="6892"/>
                  </a:lnTo>
                  <a:lnTo>
                    <a:pt x="8220" y="6791"/>
                  </a:lnTo>
                  <a:lnTo>
                    <a:pt x="8199" y="6688"/>
                  </a:lnTo>
                  <a:lnTo>
                    <a:pt x="8178" y="6587"/>
                  </a:lnTo>
                  <a:lnTo>
                    <a:pt x="8155" y="6485"/>
                  </a:lnTo>
                  <a:lnTo>
                    <a:pt x="8130" y="6385"/>
                  </a:lnTo>
                  <a:lnTo>
                    <a:pt x="8105" y="6285"/>
                  </a:lnTo>
                  <a:lnTo>
                    <a:pt x="8080" y="6183"/>
                  </a:lnTo>
                  <a:lnTo>
                    <a:pt x="8052" y="6084"/>
                  </a:lnTo>
                  <a:lnTo>
                    <a:pt x="8023" y="5985"/>
                  </a:lnTo>
                  <a:lnTo>
                    <a:pt x="7993" y="5887"/>
                  </a:lnTo>
                  <a:lnTo>
                    <a:pt x="7962" y="5789"/>
                  </a:lnTo>
                  <a:lnTo>
                    <a:pt x="7929" y="5691"/>
                  </a:lnTo>
                  <a:lnTo>
                    <a:pt x="7896" y="5594"/>
                  </a:lnTo>
                  <a:lnTo>
                    <a:pt x="7861" y="5498"/>
                  </a:lnTo>
                  <a:lnTo>
                    <a:pt x="7825" y="5402"/>
                  </a:lnTo>
                  <a:lnTo>
                    <a:pt x="7788" y="5306"/>
                  </a:lnTo>
                  <a:lnTo>
                    <a:pt x="7750" y="5213"/>
                  </a:lnTo>
                  <a:lnTo>
                    <a:pt x="7710" y="5119"/>
                  </a:lnTo>
                  <a:lnTo>
                    <a:pt x="7670" y="5025"/>
                  </a:lnTo>
                  <a:lnTo>
                    <a:pt x="7629" y="4932"/>
                  </a:lnTo>
                  <a:lnTo>
                    <a:pt x="7585" y="4839"/>
                  </a:lnTo>
                  <a:lnTo>
                    <a:pt x="7542" y="4747"/>
                  </a:lnTo>
                  <a:lnTo>
                    <a:pt x="7498" y="4656"/>
                  </a:lnTo>
                  <a:lnTo>
                    <a:pt x="7451" y="4566"/>
                  </a:lnTo>
                  <a:lnTo>
                    <a:pt x="7405" y="4476"/>
                  </a:lnTo>
                  <a:lnTo>
                    <a:pt x="7357" y="4386"/>
                  </a:lnTo>
                  <a:lnTo>
                    <a:pt x="7308" y="4297"/>
                  </a:lnTo>
                  <a:lnTo>
                    <a:pt x="7258" y="4211"/>
                  </a:lnTo>
                  <a:lnTo>
                    <a:pt x="7207" y="4123"/>
                  </a:lnTo>
                  <a:lnTo>
                    <a:pt x="7155" y="4036"/>
                  </a:lnTo>
                  <a:lnTo>
                    <a:pt x="7103" y="3950"/>
                  </a:lnTo>
                  <a:lnTo>
                    <a:pt x="7048" y="3864"/>
                  </a:lnTo>
                  <a:lnTo>
                    <a:pt x="6993" y="3781"/>
                  </a:lnTo>
                  <a:lnTo>
                    <a:pt x="6937" y="3696"/>
                  </a:lnTo>
                  <a:lnTo>
                    <a:pt x="6880" y="3612"/>
                  </a:lnTo>
                  <a:lnTo>
                    <a:pt x="6822" y="3530"/>
                  </a:lnTo>
                  <a:lnTo>
                    <a:pt x="6763" y="3450"/>
                  </a:lnTo>
                  <a:lnTo>
                    <a:pt x="6703" y="3368"/>
                  </a:lnTo>
                  <a:lnTo>
                    <a:pt x="6643" y="3287"/>
                  </a:lnTo>
                  <a:lnTo>
                    <a:pt x="6581" y="3208"/>
                  </a:lnTo>
                  <a:lnTo>
                    <a:pt x="6518" y="3130"/>
                  </a:lnTo>
                  <a:lnTo>
                    <a:pt x="6455" y="3051"/>
                  </a:lnTo>
                  <a:lnTo>
                    <a:pt x="6390" y="2975"/>
                  </a:lnTo>
                  <a:lnTo>
                    <a:pt x="6324" y="2898"/>
                  </a:lnTo>
                  <a:lnTo>
                    <a:pt x="6258" y="2823"/>
                  </a:lnTo>
                  <a:lnTo>
                    <a:pt x="6191" y="2748"/>
                  </a:lnTo>
                  <a:lnTo>
                    <a:pt x="6123" y="2675"/>
                  </a:lnTo>
                  <a:lnTo>
                    <a:pt x="6054" y="2601"/>
                  </a:lnTo>
                  <a:lnTo>
                    <a:pt x="5985" y="2529"/>
                  </a:lnTo>
                  <a:lnTo>
                    <a:pt x="5914" y="2457"/>
                  </a:lnTo>
                  <a:lnTo>
                    <a:pt x="5842" y="2386"/>
                  </a:lnTo>
                  <a:lnTo>
                    <a:pt x="5770" y="2317"/>
                  </a:lnTo>
                  <a:lnTo>
                    <a:pt x="5696" y="2248"/>
                  </a:lnTo>
                  <a:lnTo>
                    <a:pt x="5623" y="2180"/>
                  </a:lnTo>
                  <a:lnTo>
                    <a:pt x="5548" y="2113"/>
                  </a:lnTo>
                  <a:lnTo>
                    <a:pt x="5473" y="2047"/>
                  </a:lnTo>
                  <a:lnTo>
                    <a:pt x="5396" y="1981"/>
                  </a:lnTo>
                  <a:lnTo>
                    <a:pt x="5320" y="1916"/>
                  </a:lnTo>
                  <a:lnTo>
                    <a:pt x="5241" y="1853"/>
                  </a:lnTo>
                  <a:lnTo>
                    <a:pt x="5163" y="1790"/>
                  </a:lnTo>
                  <a:lnTo>
                    <a:pt x="5084" y="1728"/>
                  </a:lnTo>
                  <a:lnTo>
                    <a:pt x="5003" y="1668"/>
                  </a:lnTo>
                  <a:lnTo>
                    <a:pt x="4921" y="1608"/>
                  </a:lnTo>
                  <a:lnTo>
                    <a:pt x="4841" y="1549"/>
                  </a:lnTo>
                  <a:lnTo>
                    <a:pt x="4759" y="1491"/>
                  </a:lnTo>
                  <a:lnTo>
                    <a:pt x="4675" y="1434"/>
                  </a:lnTo>
                  <a:lnTo>
                    <a:pt x="4590" y="1378"/>
                  </a:lnTo>
                  <a:lnTo>
                    <a:pt x="4507" y="1323"/>
                  </a:lnTo>
                  <a:lnTo>
                    <a:pt x="4421" y="1268"/>
                  </a:lnTo>
                  <a:lnTo>
                    <a:pt x="4335" y="1216"/>
                  </a:lnTo>
                  <a:lnTo>
                    <a:pt x="4248" y="1164"/>
                  </a:lnTo>
                  <a:lnTo>
                    <a:pt x="4160" y="1113"/>
                  </a:lnTo>
                  <a:lnTo>
                    <a:pt x="4074" y="1063"/>
                  </a:lnTo>
                  <a:lnTo>
                    <a:pt x="3985" y="1014"/>
                  </a:lnTo>
                  <a:lnTo>
                    <a:pt x="3895" y="966"/>
                  </a:lnTo>
                  <a:lnTo>
                    <a:pt x="3805" y="920"/>
                  </a:lnTo>
                  <a:lnTo>
                    <a:pt x="3715" y="873"/>
                  </a:lnTo>
                  <a:lnTo>
                    <a:pt x="3624" y="829"/>
                  </a:lnTo>
                  <a:lnTo>
                    <a:pt x="3532" y="786"/>
                  </a:lnTo>
                  <a:lnTo>
                    <a:pt x="3439" y="742"/>
                  </a:lnTo>
                  <a:lnTo>
                    <a:pt x="3346" y="701"/>
                  </a:lnTo>
                  <a:lnTo>
                    <a:pt x="3252" y="661"/>
                  </a:lnTo>
                  <a:lnTo>
                    <a:pt x="3158" y="621"/>
                  </a:lnTo>
                  <a:lnTo>
                    <a:pt x="3065" y="583"/>
                  </a:lnTo>
                  <a:lnTo>
                    <a:pt x="2969" y="546"/>
                  </a:lnTo>
                  <a:lnTo>
                    <a:pt x="2873" y="510"/>
                  </a:lnTo>
                  <a:lnTo>
                    <a:pt x="2777" y="475"/>
                  </a:lnTo>
                  <a:lnTo>
                    <a:pt x="2680" y="442"/>
                  </a:lnTo>
                  <a:lnTo>
                    <a:pt x="2582" y="409"/>
                  </a:lnTo>
                  <a:lnTo>
                    <a:pt x="2484" y="378"/>
                  </a:lnTo>
                  <a:lnTo>
                    <a:pt x="2386" y="348"/>
                  </a:lnTo>
                  <a:lnTo>
                    <a:pt x="2287" y="319"/>
                  </a:lnTo>
                  <a:lnTo>
                    <a:pt x="2188" y="291"/>
                  </a:lnTo>
                  <a:lnTo>
                    <a:pt x="2086" y="266"/>
                  </a:lnTo>
                  <a:lnTo>
                    <a:pt x="1986" y="241"/>
                  </a:lnTo>
                  <a:lnTo>
                    <a:pt x="1886" y="216"/>
                  </a:lnTo>
                  <a:lnTo>
                    <a:pt x="1784" y="193"/>
                  </a:lnTo>
                  <a:lnTo>
                    <a:pt x="1683" y="172"/>
                  </a:lnTo>
                  <a:lnTo>
                    <a:pt x="1580" y="151"/>
                  </a:lnTo>
                  <a:lnTo>
                    <a:pt x="1479" y="131"/>
                  </a:lnTo>
                  <a:lnTo>
                    <a:pt x="1375" y="114"/>
                  </a:lnTo>
                  <a:lnTo>
                    <a:pt x="1270" y="97"/>
                  </a:lnTo>
                  <a:lnTo>
                    <a:pt x="1167" y="83"/>
                  </a:lnTo>
                  <a:lnTo>
                    <a:pt x="1063" y="69"/>
                  </a:lnTo>
                  <a:lnTo>
                    <a:pt x="958" y="55"/>
                  </a:lnTo>
                  <a:lnTo>
                    <a:pt x="854" y="44"/>
                  </a:lnTo>
                  <a:lnTo>
                    <a:pt x="747" y="33"/>
                  </a:lnTo>
                  <a:lnTo>
                    <a:pt x="641" y="25"/>
                  </a:lnTo>
                  <a:lnTo>
                    <a:pt x="536" y="18"/>
                  </a:lnTo>
                  <a:lnTo>
                    <a:pt x="428" y="12"/>
                  </a:lnTo>
                  <a:lnTo>
                    <a:pt x="321" y="7"/>
                  </a:lnTo>
                  <a:lnTo>
                    <a:pt x="215" y="4"/>
                  </a:lnTo>
                  <a:lnTo>
                    <a:pt x="10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292960" y="3873600"/>
              <a:ext cx="312120" cy="28584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680" y="8371"/>
                  </a:moveTo>
                  <a:lnTo>
                    <a:pt x="680" y="8371"/>
                  </a:lnTo>
                  <a:lnTo>
                    <a:pt x="680" y="8272"/>
                  </a:lnTo>
                  <a:lnTo>
                    <a:pt x="681" y="8172"/>
                  </a:lnTo>
                  <a:lnTo>
                    <a:pt x="684" y="8074"/>
                  </a:lnTo>
                  <a:lnTo>
                    <a:pt x="690" y="7974"/>
                  </a:lnTo>
                  <a:lnTo>
                    <a:pt x="695" y="7878"/>
                  </a:lnTo>
                  <a:lnTo>
                    <a:pt x="702" y="7780"/>
                  </a:lnTo>
                  <a:lnTo>
                    <a:pt x="710" y="7682"/>
                  </a:lnTo>
                  <a:lnTo>
                    <a:pt x="719" y="7585"/>
                  </a:lnTo>
                  <a:lnTo>
                    <a:pt x="729" y="7490"/>
                  </a:lnTo>
                  <a:lnTo>
                    <a:pt x="741" y="7394"/>
                  </a:lnTo>
                  <a:lnTo>
                    <a:pt x="754" y="7297"/>
                  </a:lnTo>
                  <a:lnTo>
                    <a:pt x="769" y="7201"/>
                  </a:lnTo>
                  <a:lnTo>
                    <a:pt x="783" y="7106"/>
                  </a:lnTo>
                  <a:lnTo>
                    <a:pt x="799" y="7013"/>
                  </a:lnTo>
                  <a:lnTo>
                    <a:pt x="817" y="6918"/>
                  </a:lnTo>
                  <a:lnTo>
                    <a:pt x="836" y="6823"/>
                  </a:lnTo>
                  <a:lnTo>
                    <a:pt x="856" y="6730"/>
                  </a:lnTo>
                  <a:lnTo>
                    <a:pt x="877" y="6637"/>
                  </a:lnTo>
                  <a:lnTo>
                    <a:pt x="899" y="6544"/>
                  </a:lnTo>
                  <a:lnTo>
                    <a:pt x="922" y="6452"/>
                  </a:lnTo>
                  <a:lnTo>
                    <a:pt x="947" y="6361"/>
                  </a:lnTo>
                  <a:lnTo>
                    <a:pt x="972" y="6270"/>
                  </a:lnTo>
                  <a:lnTo>
                    <a:pt x="998" y="6179"/>
                  </a:lnTo>
                  <a:lnTo>
                    <a:pt x="1026" y="6089"/>
                  </a:lnTo>
                  <a:lnTo>
                    <a:pt x="1055" y="5999"/>
                  </a:lnTo>
                  <a:lnTo>
                    <a:pt x="1084" y="5909"/>
                  </a:lnTo>
                  <a:lnTo>
                    <a:pt x="1115" y="5820"/>
                  </a:lnTo>
                  <a:lnTo>
                    <a:pt x="1147" y="5732"/>
                  </a:lnTo>
                  <a:lnTo>
                    <a:pt x="1180" y="5644"/>
                  </a:lnTo>
                  <a:lnTo>
                    <a:pt x="1215" y="5556"/>
                  </a:lnTo>
                  <a:lnTo>
                    <a:pt x="1248" y="5469"/>
                  </a:lnTo>
                  <a:lnTo>
                    <a:pt x="1285" y="5382"/>
                  </a:lnTo>
                  <a:lnTo>
                    <a:pt x="1323" y="5296"/>
                  </a:lnTo>
                  <a:lnTo>
                    <a:pt x="1360" y="5211"/>
                  </a:lnTo>
                  <a:lnTo>
                    <a:pt x="1399" y="5126"/>
                  </a:lnTo>
                  <a:lnTo>
                    <a:pt x="1439" y="5042"/>
                  </a:lnTo>
                  <a:lnTo>
                    <a:pt x="1481" y="4959"/>
                  </a:lnTo>
                  <a:lnTo>
                    <a:pt x="1522" y="4874"/>
                  </a:lnTo>
                  <a:lnTo>
                    <a:pt x="1565" y="4792"/>
                  </a:lnTo>
                  <a:lnTo>
                    <a:pt x="1609" y="4711"/>
                  </a:lnTo>
                  <a:lnTo>
                    <a:pt x="1654" y="4629"/>
                  </a:lnTo>
                  <a:lnTo>
                    <a:pt x="1700" y="4548"/>
                  </a:lnTo>
                  <a:lnTo>
                    <a:pt x="1747" y="4468"/>
                  </a:lnTo>
                  <a:lnTo>
                    <a:pt x="1795" y="4388"/>
                  </a:lnTo>
                  <a:lnTo>
                    <a:pt x="1845" y="4309"/>
                  </a:lnTo>
                  <a:lnTo>
                    <a:pt x="1894" y="4232"/>
                  </a:lnTo>
                  <a:lnTo>
                    <a:pt x="1944" y="4153"/>
                  </a:lnTo>
                  <a:lnTo>
                    <a:pt x="1996" y="4076"/>
                  </a:lnTo>
                  <a:lnTo>
                    <a:pt x="2048" y="3999"/>
                  </a:lnTo>
                  <a:lnTo>
                    <a:pt x="2101" y="3924"/>
                  </a:lnTo>
                  <a:lnTo>
                    <a:pt x="2154" y="3849"/>
                  </a:lnTo>
                  <a:lnTo>
                    <a:pt x="2210" y="3774"/>
                  </a:lnTo>
                  <a:lnTo>
                    <a:pt x="2266" y="3700"/>
                  </a:lnTo>
                  <a:lnTo>
                    <a:pt x="2323" y="3628"/>
                  </a:lnTo>
                  <a:lnTo>
                    <a:pt x="2381" y="3555"/>
                  </a:lnTo>
                  <a:lnTo>
                    <a:pt x="2439" y="3484"/>
                  </a:lnTo>
                  <a:lnTo>
                    <a:pt x="2499" y="3413"/>
                  </a:lnTo>
                  <a:lnTo>
                    <a:pt x="2558" y="3342"/>
                  </a:lnTo>
                  <a:lnTo>
                    <a:pt x="2619" y="3272"/>
                  </a:lnTo>
                  <a:lnTo>
                    <a:pt x="2682" y="3204"/>
                  </a:lnTo>
                  <a:lnTo>
                    <a:pt x="2744" y="3136"/>
                  </a:lnTo>
                  <a:lnTo>
                    <a:pt x="2807" y="3069"/>
                  </a:lnTo>
                  <a:lnTo>
                    <a:pt x="2872" y="3002"/>
                  </a:lnTo>
                  <a:lnTo>
                    <a:pt x="2937" y="2937"/>
                  </a:lnTo>
                  <a:lnTo>
                    <a:pt x="3002" y="2872"/>
                  </a:lnTo>
                  <a:lnTo>
                    <a:pt x="3068" y="2807"/>
                  </a:lnTo>
                  <a:lnTo>
                    <a:pt x="3136" y="2745"/>
                  </a:lnTo>
                  <a:lnTo>
                    <a:pt x="3204" y="2682"/>
                  </a:lnTo>
                  <a:lnTo>
                    <a:pt x="3273" y="2620"/>
                  </a:lnTo>
                  <a:lnTo>
                    <a:pt x="3342" y="2558"/>
                  </a:lnTo>
                  <a:lnTo>
                    <a:pt x="3412" y="2499"/>
                  </a:lnTo>
                  <a:lnTo>
                    <a:pt x="3484" y="2439"/>
                  </a:lnTo>
                  <a:lnTo>
                    <a:pt x="3555" y="2382"/>
                  </a:lnTo>
                  <a:lnTo>
                    <a:pt x="3628" y="2324"/>
                  </a:lnTo>
                  <a:lnTo>
                    <a:pt x="3700" y="2267"/>
                  </a:lnTo>
                  <a:lnTo>
                    <a:pt x="3774" y="2210"/>
                  </a:lnTo>
                  <a:lnTo>
                    <a:pt x="3848" y="2156"/>
                  </a:lnTo>
                  <a:lnTo>
                    <a:pt x="3924" y="2101"/>
                  </a:lnTo>
                  <a:lnTo>
                    <a:pt x="3998" y="2049"/>
                  </a:lnTo>
                  <a:lnTo>
                    <a:pt x="4076" y="1996"/>
                  </a:lnTo>
                  <a:lnTo>
                    <a:pt x="4152" y="1944"/>
                  </a:lnTo>
                  <a:lnTo>
                    <a:pt x="4230" y="1894"/>
                  </a:lnTo>
                  <a:lnTo>
                    <a:pt x="4309" y="1845"/>
                  </a:lnTo>
                  <a:lnTo>
                    <a:pt x="4388" y="1796"/>
                  </a:lnTo>
                  <a:lnTo>
                    <a:pt x="4468" y="1747"/>
                  </a:lnTo>
                  <a:lnTo>
                    <a:pt x="4548" y="1700"/>
                  </a:lnTo>
                  <a:lnTo>
                    <a:pt x="4629" y="1655"/>
                  </a:lnTo>
                  <a:lnTo>
                    <a:pt x="4710" y="1609"/>
                  </a:lnTo>
                  <a:lnTo>
                    <a:pt x="4791" y="1566"/>
                  </a:lnTo>
                  <a:lnTo>
                    <a:pt x="4874" y="1522"/>
                  </a:lnTo>
                  <a:lnTo>
                    <a:pt x="4958" y="1482"/>
                  </a:lnTo>
                  <a:lnTo>
                    <a:pt x="5041" y="1440"/>
                  </a:lnTo>
                  <a:lnTo>
                    <a:pt x="5126" y="1399"/>
                  </a:lnTo>
                  <a:lnTo>
                    <a:pt x="5210" y="1361"/>
                  </a:lnTo>
                  <a:lnTo>
                    <a:pt x="5296" y="1323"/>
                  </a:lnTo>
                  <a:lnTo>
                    <a:pt x="5382" y="1285"/>
                  </a:lnTo>
                  <a:lnTo>
                    <a:pt x="5469" y="1248"/>
                  </a:lnTo>
                  <a:lnTo>
                    <a:pt x="5556" y="1215"/>
                  </a:lnTo>
                  <a:lnTo>
                    <a:pt x="5643" y="1180"/>
                  </a:lnTo>
                  <a:lnTo>
                    <a:pt x="5731" y="1148"/>
                  </a:lnTo>
                  <a:lnTo>
                    <a:pt x="5820" y="1115"/>
                  </a:lnTo>
                  <a:lnTo>
                    <a:pt x="5909" y="1085"/>
                  </a:lnTo>
                  <a:lnTo>
                    <a:pt x="5998" y="1055"/>
                  </a:lnTo>
                  <a:lnTo>
                    <a:pt x="6088" y="1026"/>
                  </a:lnTo>
                  <a:lnTo>
                    <a:pt x="6179" y="999"/>
                  </a:lnTo>
                  <a:lnTo>
                    <a:pt x="6270" y="972"/>
                  </a:lnTo>
                  <a:lnTo>
                    <a:pt x="6361" y="947"/>
                  </a:lnTo>
                  <a:lnTo>
                    <a:pt x="6452" y="922"/>
                  </a:lnTo>
                  <a:lnTo>
                    <a:pt x="6544" y="899"/>
                  </a:lnTo>
                  <a:lnTo>
                    <a:pt x="6636" y="877"/>
                  </a:lnTo>
                  <a:lnTo>
                    <a:pt x="6730" y="857"/>
                  </a:lnTo>
                  <a:lnTo>
                    <a:pt x="6823" y="836"/>
                  </a:lnTo>
                  <a:lnTo>
                    <a:pt x="6918" y="817"/>
                  </a:lnTo>
                  <a:lnTo>
                    <a:pt x="7012" y="800"/>
                  </a:lnTo>
                  <a:lnTo>
                    <a:pt x="7107" y="784"/>
                  </a:lnTo>
                  <a:lnTo>
                    <a:pt x="7201" y="769"/>
                  </a:lnTo>
                  <a:lnTo>
                    <a:pt x="7296" y="754"/>
                  </a:lnTo>
                  <a:lnTo>
                    <a:pt x="7393" y="741"/>
                  </a:lnTo>
                  <a:lnTo>
                    <a:pt x="7489" y="730"/>
                  </a:lnTo>
                  <a:lnTo>
                    <a:pt x="7586" y="719"/>
                  </a:lnTo>
                  <a:lnTo>
                    <a:pt x="7682" y="710"/>
                  </a:lnTo>
                  <a:lnTo>
                    <a:pt x="7780" y="702"/>
                  </a:lnTo>
                  <a:lnTo>
                    <a:pt x="7878" y="695"/>
                  </a:lnTo>
                  <a:lnTo>
                    <a:pt x="7974" y="690"/>
                  </a:lnTo>
                  <a:lnTo>
                    <a:pt x="8073" y="684"/>
                  </a:lnTo>
                  <a:lnTo>
                    <a:pt x="8172" y="681"/>
                  </a:lnTo>
                  <a:lnTo>
                    <a:pt x="8272" y="681"/>
                  </a:lnTo>
                  <a:lnTo>
                    <a:pt x="8371" y="680"/>
                  </a:lnTo>
                  <a:lnTo>
                    <a:pt x="8371" y="0"/>
                  </a:lnTo>
                  <a:lnTo>
                    <a:pt x="8263" y="1"/>
                  </a:lnTo>
                  <a:lnTo>
                    <a:pt x="8156" y="4"/>
                  </a:lnTo>
                  <a:lnTo>
                    <a:pt x="8050" y="7"/>
                  </a:lnTo>
                  <a:lnTo>
                    <a:pt x="7943" y="12"/>
                  </a:lnTo>
                  <a:lnTo>
                    <a:pt x="7835" y="18"/>
                  </a:lnTo>
                  <a:lnTo>
                    <a:pt x="7730" y="25"/>
                  </a:lnTo>
                  <a:lnTo>
                    <a:pt x="7624" y="33"/>
                  </a:lnTo>
                  <a:lnTo>
                    <a:pt x="7517" y="44"/>
                  </a:lnTo>
                  <a:lnTo>
                    <a:pt x="7413" y="55"/>
                  </a:lnTo>
                  <a:lnTo>
                    <a:pt x="7308" y="69"/>
                  </a:lnTo>
                  <a:lnTo>
                    <a:pt x="7204" y="83"/>
                  </a:lnTo>
                  <a:lnTo>
                    <a:pt x="7100" y="97"/>
                  </a:lnTo>
                  <a:lnTo>
                    <a:pt x="6995" y="114"/>
                  </a:lnTo>
                  <a:lnTo>
                    <a:pt x="6892" y="131"/>
                  </a:lnTo>
                  <a:lnTo>
                    <a:pt x="6790" y="151"/>
                  </a:lnTo>
                  <a:lnTo>
                    <a:pt x="6688" y="172"/>
                  </a:lnTo>
                  <a:lnTo>
                    <a:pt x="6587" y="193"/>
                  </a:lnTo>
                  <a:lnTo>
                    <a:pt x="6485" y="216"/>
                  </a:lnTo>
                  <a:lnTo>
                    <a:pt x="6384" y="241"/>
                  </a:lnTo>
                  <a:lnTo>
                    <a:pt x="6285" y="266"/>
                  </a:lnTo>
                  <a:lnTo>
                    <a:pt x="6183" y="291"/>
                  </a:lnTo>
                  <a:lnTo>
                    <a:pt x="6084" y="319"/>
                  </a:lnTo>
                  <a:lnTo>
                    <a:pt x="5984" y="348"/>
                  </a:lnTo>
                  <a:lnTo>
                    <a:pt x="5886" y="378"/>
                  </a:lnTo>
                  <a:lnTo>
                    <a:pt x="5789" y="409"/>
                  </a:lnTo>
                  <a:lnTo>
                    <a:pt x="5691" y="442"/>
                  </a:lnTo>
                  <a:lnTo>
                    <a:pt x="5594" y="475"/>
                  </a:lnTo>
                  <a:lnTo>
                    <a:pt x="5498" y="510"/>
                  </a:lnTo>
                  <a:lnTo>
                    <a:pt x="5401" y="546"/>
                  </a:lnTo>
                  <a:lnTo>
                    <a:pt x="5306" y="583"/>
                  </a:lnTo>
                  <a:lnTo>
                    <a:pt x="5211" y="622"/>
                  </a:lnTo>
                  <a:lnTo>
                    <a:pt x="5119" y="661"/>
                  </a:lnTo>
                  <a:lnTo>
                    <a:pt x="5025" y="701"/>
                  </a:lnTo>
                  <a:lnTo>
                    <a:pt x="4932" y="742"/>
                  </a:lnTo>
                  <a:lnTo>
                    <a:pt x="4838" y="786"/>
                  </a:lnTo>
                  <a:lnTo>
                    <a:pt x="4747" y="829"/>
                  </a:lnTo>
                  <a:lnTo>
                    <a:pt x="4655" y="873"/>
                  </a:lnTo>
                  <a:lnTo>
                    <a:pt x="4566" y="920"/>
                  </a:lnTo>
                  <a:lnTo>
                    <a:pt x="4475" y="966"/>
                  </a:lnTo>
                  <a:lnTo>
                    <a:pt x="4386" y="1014"/>
                  </a:lnTo>
                  <a:lnTo>
                    <a:pt x="4297" y="1063"/>
                  </a:lnTo>
                  <a:lnTo>
                    <a:pt x="4210" y="1113"/>
                  </a:lnTo>
                  <a:lnTo>
                    <a:pt x="4123" y="1164"/>
                  </a:lnTo>
                  <a:lnTo>
                    <a:pt x="4035" y="1216"/>
                  </a:lnTo>
                  <a:lnTo>
                    <a:pt x="3950" y="1268"/>
                  </a:lnTo>
                  <a:lnTo>
                    <a:pt x="3864" y="1323"/>
                  </a:lnTo>
                  <a:lnTo>
                    <a:pt x="3781" y="1378"/>
                  </a:lnTo>
                  <a:lnTo>
                    <a:pt x="3696" y="1434"/>
                  </a:lnTo>
                  <a:lnTo>
                    <a:pt x="3613" y="1491"/>
                  </a:lnTo>
                  <a:lnTo>
                    <a:pt x="3530" y="1549"/>
                  </a:lnTo>
                  <a:lnTo>
                    <a:pt x="3450" y="1608"/>
                  </a:lnTo>
                  <a:lnTo>
                    <a:pt x="3368" y="1668"/>
                  </a:lnTo>
                  <a:lnTo>
                    <a:pt x="3288" y="1728"/>
                  </a:lnTo>
                  <a:lnTo>
                    <a:pt x="3208" y="1790"/>
                  </a:lnTo>
                  <a:lnTo>
                    <a:pt x="3130" y="1853"/>
                  </a:lnTo>
                  <a:lnTo>
                    <a:pt x="3051" y="1916"/>
                  </a:lnTo>
                  <a:lnTo>
                    <a:pt x="2974" y="1981"/>
                  </a:lnTo>
                  <a:lnTo>
                    <a:pt x="2898" y="2047"/>
                  </a:lnTo>
                  <a:lnTo>
                    <a:pt x="2822" y="2113"/>
                  </a:lnTo>
                  <a:lnTo>
                    <a:pt x="2748" y="2180"/>
                  </a:lnTo>
                  <a:lnTo>
                    <a:pt x="2673" y="2248"/>
                  </a:lnTo>
                  <a:lnTo>
                    <a:pt x="2601" y="2317"/>
                  </a:lnTo>
                  <a:lnTo>
                    <a:pt x="2529" y="2386"/>
                  </a:lnTo>
                  <a:lnTo>
                    <a:pt x="2457" y="2457"/>
                  </a:lnTo>
                  <a:lnTo>
                    <a:pt x="2386" y="2529"/>
                  </a:lnTo>
                  <a:lnTo>
                    <a:pt x="2317" y="2601"/>
                  </a:lnTo>
                  <a:lnTo>
                    <a:pt x="2248" y="2675"/>
                  </a:lnTo>
                  <a:lnTo>
                    <a:pt x="2180" y="2748"/>
                  </a:lnTo>
                  <a:lnTo>
                    <a:pt x="2113" y="2823"/>
                  </a:lnTo>
                  <a:lnTo>
                    <a:pt x="2046" y="2898"/>
                  </a:lnTo>
                  <a:lnTo>
                    <a:pt x="1981" y="2975"/>
                  </a:lnTo>
                  <a:lnTo>
                    <a:pt x="1916" y="3051"/>
                  </a:lnTo>
                  <a:lnTo>
                    <a:pt x="1852" y="3130"/>
                  </a:lnTo>
                  <a:lnTo>
                    <a:pt x="1789" y="3208"/>
                  </a:lnTo>
                  <a:lnTo>
                    <a:pt x="1728" y="3289"/>
                  </a:lnTo>
                  <a:lnTo>
                    <a:pt x="1668" y="3368"/>
                  </a:lnTo>
                  <a:lnTo>
                    <a:pt x="1608" y="3450"/>
                  </a:lnTo>
                  <a:lnTo>
                    <a:pt x="1549" y="3530"/>
                  </a:lnTo>
                  <a:lnTo>
                    <a:pt x="1490" y="3614"/>
                  </a:lnTo>
                  <a:lnTo>
                    <a:pt x="1434" y="3696"/>
                  </a:lnTo>
                  <a:lnTo>
                    <a:pt x="1378" y="3781"/>
                  </a:lnTo>
                  <a:lnTo>
                    <a:pt x="1323" y="3864"/>
                  </a:lnTo>
                  <a:lnTo>
                    <a:pt x="1268" y="3950"/>
                  </a:lnTo>
                  <a:lnTo>
                    <a:pt x="1216" y="4036"/>
                  </a:lnTo>
                  <a:lnTo>
                    <a:pt x="1164" y="4123"/>
                  </a:lnTo>
                  <a:lnTo>
                    <a:pt x="1113" y="4211"/>
                  </a:lnTo>
                  <a:lnTo>
                    <a:pt x="1062" y="4297"/>
                  </a:lnTo>
                  <a:lnTo>
                    <a:pt x="1014" y="4386"/>
                  </a:lnTo>
                  <a:lnTo>
                    <a:pt x="966" y="4476"/>
                  </a:lnTo>
                  <a:lnTo>
                    <a:pt x="919" y="4566"/>
                  </a:lnTo>
                  <a:lnTo>
                    <a:pt x="873" y="4656"/>
                  </a:lnTo>
                  <a:lnTo>
                    <a:pt x="829" y="4747"/>
                  </a:lnTo>
                  <a:lnTo>
                    <a:pt x="785" y="4839"/>
                  </a:lnTo>
                  <a:lnTo>
                    <a:pt x="742" y="4932"/>
                  </a:lnTo>
                  <a:lnTo>
                    <a:pt x="701" y="5025"/>
                  </a:lnTo>
                  <a:lnTo>
                    <a:pt x="660" y="5119"/>
                  </a:lnTo>
                  <a:lnTo>
                    <a:pt x="622" y="5212"/>
                  </a:lnTo>
                  <a:lnTo>
                    <a:pt x="583" y="5306"/>
                  </a:lnTo>
                  <a:lnTo>
                    <a:pt x="545" y="5402"/>
                  </a:lnTo>
                  <a:lnTo>
                    <a:pt x="510" y="5498"/>
                  </a:lnTo>
                  <a:lnTo>
                    <a:pt x="475" y="5594"/>
                  </a:lnTo>
                  <a:lnTo>
                    <a:pt x="442" y="5691"/>
                  </a:lnTo>
                  <a:lnTo>
                    <a:pt x="409" y="5789"/>
                  </a:lnTo>
                  <a:lnTo>
                    <a:pt x="378" y="5887"/>
                  </a:lnTo>
                  <a:lnTo>
                    <a:pt x="347" y="5985"/>
                  </a:lnTo>
                  <a:lnTo>
                    <a:pt x="319" y="6084"/>
                  </a:lnTo>
                  <a:lnTo>
                    <a:pt x="291" y="6183"/>
                  </a:lnTo>
                  <a:lnTo>
                    <a:pt x="266" y="6285"/>
                  </a:lnTo>
                  <a:lnTo>
                    <a:pt x="240" y="6385"/>
                  </a:lnTo>
                  <a:lnTo>
                    <a:pt x="216" y="6485"/>
                  </a:lnTo>
                  <a:lnTo>
                    <a:pt x="193" y="6587"/>
                  </a:lnTo>
                  <a:lnTo>
                    <a:pt x="172" y="6688"/>
                  </a:lnTo>
                  <a:lnTo>
                    <a:pt x="151" y="6791"/>
                  </a:lnTo>
                  <a:lnTo>
                    <a:pt x="132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2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2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80" y="83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292960" y="4159440"/>
              <a:ext cx="312120" cy="285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8371" y="7691"/>
                  </a:moveTo>
                  <a:lnTo>
                    <a:pt x="8371" y="7691"/>
                  </a:lnTo>
                  <a:lnTo>
                    <a:pt x="8272" y="7691"/>
                  </a:lnTo>
                  <a:lnTo>
                    <a:pt x="8172" y="7690"/>
                  </a:lnTo>
                  <a:lnTo>
                    <a:pt x="8073" y="7687"/>
                  </a:lnTo>
                  <a:lnTo>
                    <a:pt x="7974" y="7681"/>
                  </a:lnTo>
                  <a:lnTo>
                    <a:pt x="7878" y="7676"/>
                  </a:lnTo>
                  <a:lnTo>
                    <a:pt x="7780" y="7669"/>
                  </a:lnTo>
                  <a:lnTo>
                    <a:pt x="7682" y="7661"/>
                  </a:lnTo>
                  <a:lnTo>
                    <a:pt x="7585" y="7652"/>
                  </a:lnTo>
                  <a:lnTo>
                    <a:pt x="7489" y="7642"/>
                  </a:lnTo>
                  <a:lnTo>
                    <a:pt x="7393" y="7630"/>
                  </a:lnTo>
                  <a:lnTo>
                    <a:pt x="7296" y="7617"/>
                  </a:lnTo>
                  <a:lnTo>
                    <a:pt x="7201" y="7602"/>
                  </a:lnTo>
                  <a:lnTo>
                    <a:pt x="7106" y="7588"/>
                  </a:lnTo>
                  <a:lnTo>
                    <a:pt x="7012" y="7572"/>
                  </a:lnTo>
                  <a:lnTo>
                    <a:pt x="6918" y="7554"/>
                  </a:lnTo>
                  <a:lnTo>
                    <a:pt x="6823" y="7535"/>
                  </a:lnTo>
                  <a:lnTo>
                    <a:pt x="6730" y="7515"/>
                  </a:lnTo>
                  <a:lnTo>
                    <a:pt x="6636" y="7494"/>
                  </a:lnTo>
                  <a:lnTo>
                    <a:pt x="6544" y="7472"/>
                  </a:lnTo>
                  <a:lnTo>
                    <a:pt x="6452" y="7449"/>
                  </a:lnTo>
                  <a:lnTo>
                    <a:pt x="6361" y="7424"/>
                  </a:lnTo>
                  <a:lnTo>
                    <a:pt x="6270" y="7399"/>
                  </a:lnTo>
                  <a:lnTo>
                    <a:pt x="6179" y="7373"/>
                  </a:lnTo>
                  <a:lnTo>
                    <a:pt x="6088" y="7345"/>
                  </a:lnTo>
                  <a:lnTo>
                    <a:pt x="5998" y="7316"/>
                  </a:lnTo>
                  <a:lnTo>
                    <a:pt x="5909" y="7287"/>
                  </a:lnTo>
                  <a:lnTo>
                    <a:pt x="5820" y="7256"/>
                  </a:lnTo>
                  <a:lnTo>
                    <a:pt x="5731" y="7224"/>
                  </a:lnTo>
                  <a:lnTo>
                    <a:pt x="5643" y="7191"/>
                  </a:lnTo>
                  <a:lnTo>
                    <a:pt x="5556" y="7156"/>
                  </a:lnTo>
                  <a:lnTo>
                    <a:pt x="5469" y="7123"/>
                  </a:lnTo>
                  <a:lnTo>
                    <a:pt x="5382" y="7086"/>
                  </a:lnTo>
                  <a:lnTo>
                    <a:pt x="5296" y="7048"/>
                  </a:lnTo>
                  <a:lnTo>
                    <a:pt x="5210" y="7011"/>
                  </a:lnTo>
                  <a:lnTo>
                    <a:pt x="5126" y="6972"/>
                  </a:lnTo>
                  <a:lnTo>
                    <a:pt x="5041" y="6932"/>
                  </a:lnTo>
                  <a:lnTo>
                    <a:pt x="4958" y="6890"/>
                  </a:lnTo>
                  <a:lnTo>
                    <a:pt x="4875" y="6849"/>
                  </a:lnTo>
                  <a:lnTo>
                    <a:pt x="4791" y="6806"/>
                  </a:lnTo>
                  <a:lnTo>
                    <a:pt x="4710" y="6762"/>
                  </a:lnTo>
                  <a:lnTo>
                    <a:pt x="4629" y="6717"/>
                  </a:lnTo>
                  <a:lnTo>
                    <a:pt x="4548" y="6671"/>
                  </a:lnTo>
                  <a:lnTo>
                    <a:pt x="4468" y="6624"/>
                  </a:lnTo>
                  <a:lnTo>
                    <a:pt x="4388" y="6576"/>
                  </a:lnTo>
                  <a:lnTo>
                    <a:pt x="4309" y="6526"/>
                  </a:lnTo>
                  <a:lnTo>
                    <a:pt x="4230" y="6477"/>
                  </a:lnTo>
                  <a:lnTo>
                    <a:pt x="4154" y="6427"/>
                  </a:lnTo>
                  <a:lnTo>
                    <a:pt x="4076" y="6375"/>
                  </a:lnTo>
                  <a:lnTo>
                    <a:pt x="3998" y="6323"/>
                  </a:lnTo>
                  <a:lnTo>
                    <a:pt x="3924" y="6270"/>
                  </a:lnTo>
                  <a:lnTo>
                    <a:pt x="3848" y="6217"/>
                  </a:lnTo>
                  <a:lnTo>
                    <a:pt x="3774" y="6161"/>
                  </a:lnTo>
                  <a:lnTo>
                    <a:pt x="3700" y="6105"/>
                  </a:lnTo>
                  <a:lnTo>
                    <a:pt x="3628" y="6048"/>
                  </a:lnTo>
                  <a:lnTo>
                    <a:pt x="3555" y="5990"/>
                  </a:lnTo>
                  <a:lnTo>
                    <a:pt x="3484" y="5932"/>
                  </a:lnTo>
                  <a:lnTo>
                    <a:pt x="3412" y="5872"/>
                  </a:lnTo>
                  <a:lnTo>
                    <a:pt x="3342" y="5813"/>
                  </a:lnTo>
                  <a:lnTo>
                    <a:pt x="3273" y="5752"/>
                  </a:lnTo>
                  <a:lnTo>
                    <a:pt x="3204" y="5689"/>
                  </a:lnTo>
                  <a:lnTo>
                    <a:pt x="3136" y="5627"/>
                  </a:lnTo>
                  <a:lnTo>
                    <a:pt x="3068" y="5564"/>
                  </a:lnTo>
                  <a:lnTo>
                    <a:pt x="3002" y="5499"/>
                  </a:lnTo>
                  <a:lnTo>
                    <a:pt x="2937" y="5434"/>
                  </a:lnTo>
                  <a:lnTo>
                    <a:pt x="2872" y="5369"/>
                  </a:lnTo>
                  <a:lnTo>
                    <a:pt x="2807" y="5303"/>
                  </a:lnTo>
                  <a:lnTo>
                    <a:pt x="2744" y="5235"/>
                  </a:lnTo>
                  <a:lnTo>
                    <a:pt x="2682" y="5167"/>
                  </a:lnTo>
                  <a:lnTo>
                    <a:pt x="2619" y="5098"/>
                  </a:lnTo>
                  <a:lnTo>
                    <a:pt x="2558" y="5029"/>
                  </a:lnTo>
                  <a:lnTo>
                    <a:pt x="2499" y="4959"/>
                  </a:lnTo>
                  <a:lnTo>
                    <a:pt x="2439" y="4887"/>
                  </a:lnTo>
                  <a:lnTo>
                    <a:pt x="2381" y="4816"/>
                  </a:lnTo>
                  <a:lnTo>
                    <a:pt x="2323" y="4743"/>
                  </a:lnTo>
                  <a:lnTo>
                    <a:pt x="2266" y="4671"/>
                  </a:lnTo>
                  <a:lnTo>
                    <a:pt x="2210" y="4597"/>
                  </a:lnTo>
                  <a:lnTo>
                    <a:pt x="2154" y="4523"/>
                  </a:lnTo>
                  <a:lnTo>
                    <a:pt x="2101" y="4447"/>
                  </a:lnTo>
                  <a:lnTo>
                    <a:pt x="2048" y="4373"/>
                  </a:lnTo>
                  <a:lnTo>
                    <a:pt x="1996" y="4295"/>
                  </a:lnTo>
                  <a:lnTo>
                    <a:pt x="1944" y="4217"/>
                  </a:lnTo>
                  <a:lnTo>
                    <a:pt x="1894" y="4141"/>
                  </a:lnTo>
                  <a:lnTo>
                    <a:pt x="1845" y="4062"/>
                  </a:lnTo>
                  <a:lnTo>
                    <a:pt x="1795" y="3983"/>
                  </a:lnTo>
                  <a:lnTo>
                    <a:pt x="1747" y="3903"/>
                  </a:lnTo>
                  <a:lnTo>
                    <a:pt x="1700" y="3823"/>
                  </a:lnTo>
                  <a:lnTo>
                    <a:pt x="1654" y="3742"/>
                  </a:lnTo>
                  <a:lnTo>
                    <a:pt x="1609" y="3661"/>
                  </a:lnTo>
                  <a:lnTo>
                    <a:pt x="1565" y="3580"/>
                  </a:lnTo>
                  <a:lnTo>
                    <a:pt x="1522" y="3496"/>
                  </a:lnTo>
                  <a:lnTo>
                    <a:pt x="1481" y="3413"/>
                  </a:lnTo>
                  <a:lnTo>
                    <a:pt x="1439" y="3330"/>
                  </a:lnTo>
                  <a:lnTo>
                    <a:pt x="1399" y="3245"/>
                  </a:lnTo>
                  <a:lnTo>
                    <a:pt x="1360" y="3161"/>
                  </a:lnTo>
                  <a:lnTo>
                    <a:pt x="1323" y="3075"/>
                  </a:lnTo>
                  <a:lnTo>
                    <a:pt x="1285" y="2989"/>
                  </a:lnTo>
                  <a:lnTo>
                    <a:pt x="1248" y="2902"/>
                  </a:lnTo>
                  <a:lnTo>
                    <a:pt x="1215" y="2815"/>
                  </a:lnTo>
                  <a:lnTo>
                    <a:pt x="1180" y="2728"/>
                  </a:lnTo>
                  <a:lnTo>
                    <a:pt x="1147" y="2640"/>
                  </a:lnTo>
                  <a:lnTo>
                    <a:pt x="1115" y="2551"/>
                  </a:lnTo>
                  <a:lnTo>
                    <a:pt x="1084" y="2462"/>
                  </a:lnTo>
                  <a:lnTo>
                    <a:pt x="1055" y="2373"/>
                  </a:lnTo>
                  <a:lnTo>
                    <a:pt x="1026" y="2283"/>
                  </a:lnTo>
                  <a:lnTo>
                    <a:pt x="998" y="2192"/>
                  </a:lnTo>
                  <a:lnTo>
                    <a:pt x="972" y="2101"/>
                  </a:lnTo>
                  <a:lnTo>
                    <a:pt x="947" y="2010"/>
                  </a:lnTo>
                  <a:lnTo>
                    <a:pt x="922" y="1919"/>
                  </a:lnTo>
                  <a:lnTo>
                    <a:pt x="899" y="1827"/>
                  </a:lnTo>
                  <a:lnTo>
                    <a:pt x="877" y="1735"/>
                  </a:lnTo>
                  <a:lnTo>
                    <a:pt x="856" y="1641"/>
                  </a:lnTo>
                  <a:lnTo>
                    <a:pt x="836" y="1548"/>
                  </a:lnTo>
                  <a:lnTo>
                    <a:pt x="817" y="1453"/>
                  </a:lnTo>
                  <a:lnTo>
                    <a:pt x="799" y="1359"/>
                  </a:lnTo>
                  <a:lnTo>
                    <a:pt x="783" y="1265"/>
                  </a:lnTo>
                  <a:lnTo>
                    <a:pt x="769" y="1170"/>
                  </a:lnTo>
                  <a:lnTo>
                    <a:pt x="754" y="1075"/>
                  </a:lnTo>
                  <a:lnTo>
                    <a:pt x="741" y="978"/>
                  </a:lnTo>
                  <a:lnTo>
                    <a:pt x="729" y="882"/>
                  </a:lnTo>
                  <a:lnTo>
                    <a:pt x="719" y="786"/>
                  </a:lnTo>
                  <a:lnTo>
                    <a:pt x="710" y="689"/>
                  </a:lnTo>
                  <a:lnTo>
                    <a:pt x="702" y="591"/>
                  </a:lnTo>
                  <a:lnTo>
                    <a:pt x="695" y="493"/>
                  </a:lnTo>
                  <a:lnTo>
                    <a:pt x="690" y="397"/>
                  </a:lnTo>
                  <a:lnTo>
                    <a:pt x="684" y="298"/>
                  </a:lnTo>
                  <a:lnTo>
                    <a:pt x="681" y="199"/>
                  </a:lnTo>
                  <a:lnTo>
                    <a:pt x="680" y="99"/>
                  </a:lnTo>
                  <a:lnTo>
                    <a:pt x="680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2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2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2" y="1479"/>
                  </a:lnTo>
                  <a:lnTo>
                    <a:pt x="151" y="1581"/>
                  </a:lnTo>
                  <a:lnTo>
                    <a:pt x="172" y="1683"/>
                  </a:lnTo>
                  <a:lnTo>
                    <a:pt x="193" y="1784"/>
                  </a:lnTo>
                  <a:lnTo>
                    <a:pt x="216" y="1886"/>
                  </a:lnTo>
                  <a:lnTo>
                    <a:pt x="240" y="1987"/>
                  </a:lnTo>
                  <a:lnTo>
                    <a:pt x="266" y="2086"/>
                  </a:lnTo>
                  <a:lnTo>
                    <a:pt x="291" y="2188"/>
                  </a:lnTo>
                  <a:lnTo>
                    <a:pt x="319" y="2287"/>
                  </a:lnTo>
                  <a:lnTo>
                    <a:pt x="347" y="2387"/>
                  </a:lnTo>
                  <a:lnTo>
                    <a:pt x="378" y="2485"/>
                  </a:lnTo>
                  <a:lnTo>
                    <a:pt x="409" y="2582"/>
                  </a:lnTo>
                  <a:lnTo>
                    <a:pt x="442" y="2680"/>
                  </a:lnTo>
                  <a:lnTo>
                    <a:pt x="475" y="2777"/>
                  </a:lnTo>
                  <a:lnTo>
                    <a:pt x="510" y="2873"/>
                  </a:lnTo>
                  <a:lnTo>
                    <a:pt x="545" y="2970"/>
                  </a:lnTo>
                  <a:lnTo>
                    <a:pt x="583" y="3065"/>
                  </a:lnTo>
                  <a:lnTo>
                    <a:pt x="622" y="3160"/>
                  </a:lnTo>
                  <a:lnTo>
                    <a:pt x="660" y="3252"/>
                  </a:lnTo>
                  <a:lnTo>
                    <a:pt x="701" y="3346"/>
                  </a:lnTo>
                  <a:lnTo>
                    <a:pt x="742" y="3439"/>
                  </a:lnTo>
                  <a:lnTo>
                    <a:pt x="785" y="3533"/>
                  </a:lnTo>
                  <a:lnTo>
                    <a:pt x="829" y="3624"/>
                  </a:lnTo>
                  <a:lnTo>
                    <a:pt x="873" y="3716"/>
                  </a:lnTo>
                  <a:lnTo>
                    <a:pt x="919" y="3807"/>
                  </a:lnTo>
                  <a:lnTo>
                    <a:pt x="966" y="3896"/>
                  </a:lnTo>
                  <a:lnTo>
                    <a:pt x="1014" y="3985"/>
                  </a:lnTo>
                  <a:lnTo>
                    <a:pt x="1062" y="4074"/>
                  </a:lnTo>
                  <a:lnTo>
                    <a:pt x="1113" y="4161"/>
                  </a:lnTo>
                  <a:lnTo>
                    <a:pt x="1164" y="4248"/>
                  </a:lnTo>
                  <a:lnTo>
                    <a:pt x="1216" y="4336"/>
                  </a:lnTo>
                  <a:lnTo>
                    <a:pt x="1268" y="4421"/>
                  </a:lnTo>
                  <a:lnTo>
                    <a:pt x="1323" y="4507"/>
                  </a:lnTo>
                  <a:lnTo>
                    <a:pt x="1378" y="4591"/>
                  </a:lnTo>
                  <a:lnTo>
                    <a:pt x="1434" y="4675"/>
                  </a:lnTo>
                  <a:lnTo>
                    <a:pt x="1490" y="4758"/>
                  </a:lnTo>
                  <a:lnTo>
                    <a:pt x="1549" y="4841"/>
                  </a:lnTo>
                  <a:lnTo>
                    <a:pt x="1608" y="4921"/>
                  </a:lnTo>
                  <a:lnTo>
                    <a:pt x="1668" y="5003"/>
                  </a:lnTo>
                  <a:lnTo>
                    <a:pt x="1728" y="5083"/>
                  </a:lnTo>
                  <a:lnTo>
                    <a:pt x="1789" y="5163"/>
                  </a:lnTo>
                  <a:lnTo>
                    <a:pt x="1852" y="5241"/>
                  </a:lnTo>
                  <a:lnTo>
                    <a:pt x="1916" y="5320"/>
                  </a:lnTo>
                  <a:lnTo>
                    <a:pt x="1981" y="5397"/>
                  </a:lnTo>
                  <a:lnTo>
                    <a:pt x="2046" y="5473"/>
                  </a:lnTo>
                  <a:lnTo>
                    <a:pt x="2113" y="5549"/>
                  </a:lnTo>
                  <a:lnTo>
                    <a:pt x="2180" y="5623"/>
                  </a:lnTo>
                  <a:lnTo>
                    <a:pt x="2248" y="5698"/>
                  </a:lnTo>
                  <a:lnTo>
                    <a:pt x="2317" y="5770"/>
                  </a:lnTo>
                  <a:lnTo>
                    <a:pt x="2386" y="5842"/>
                  </a:lnTo>
                  <a:lnTo>
                    <a:pt x="2457" y="5914"/>
                  </a:lnTo>
                  <a:lnTo>
                    <a:pt x="2529" y="5985"/>
                  </a:lnTo>
                  <a:lnTo>
                    <a:pt x="2601" y="6054"/>
                  </a:lnTo>
                  <a:lnTo>
                    <a:pt x="2673" y="6123"/>
                  </a:lnTo>
                  <a:lnTo>
                    <a:pt x="2748" y="6191"/>
                  </a:lnTo>
                  <a:lnTo>
                    <a:pt x="2822" y="6258"/>
                  </a:lnTo>
                  <a:lnTo>
                    <a:pt x="2898" y="6325"/>
                  </a:lnTo>
                  <a:lnTo>
                    <a:pt x="2974" y="6390"/>
                  </a:lnTo>
                  <a:lnTo>
                    <a:pt x="3051" y="6455"/>
                  </a:lnTo>
                  <a:lnTo>
                    <a:pt x="3130" y="6519"/>
                  </a:lnTo>
                  <a:lnTo>
                    <a:pt x="3208" y="6582"/>
                  </a:lnTo>
                  <a:lnTo>
                    <a:pt x="3288" y="6643"/>
                  </a:lnTo>
                  <a:lnTo>
                    <a:pt x="3368" y="6703"/>
                  </a:lnTo>
                  <a:lnTo>
                    <a:pt x="3450" y="6763"/>
                  </a:lnTo>
                  <a:lnTo>
                    <a:pt x="3530" y="6822"/>
                  </a:lnTo>
                  <a:lnTo>
                    <a:pt x="3613" y="6881"/>
                  </a:lnTo>
                  <a:lnTo>
                    <a:pt x="3696" y="6937"/>
                  </a:lnTo>
                  <a:lnTo>
                    <a:pt x="3780" y="6993"/>
                  </a:lnTo>
                  <a:lnTo>
                    <a:pt x="3864" y="7048"/>
                  </a:lnTo>
                  <a:lnTo>
                    <a:pt x="3950" y="7103"/>
                  </a:lnTo>
                  <a:lnTo>
                    <a:pt x="4035" y="7155"/>
                  </a:lnTo>
                  <a:lnTo>
                    <a:pt x="4123" y="7207"/>
                  </a:lnTo>
                  <a:lnTo>
                    <a:pt x="4210" y="7258"/>
                  </a:lnTo>
                  <a:lnTo>
                    <a:pt x="4297" y="7309"/>
                  </a:lnTo>
                  <a:lnTo>
                    <a:pt x="4386" y="7357"/>
                  </a:lnTo>
                  <a:lnTo>
                    <a:pt x="4475" y="7405"/>
                  </a:lnTo>
                  <a:lnTo>
                    <a:pt x="4564" y="7452"/>
                  </a:lnTo>
                  <a:lnTo>
                    <a:pt x="4655" y="7498"/>
                  </a:lnTo>
                  <a:lnTo>
                    <a:pt x="4747" y="7542"/>
                  </a:lnTo>
                  <a:lnTo>
                    <a:pt x="4838" y="7586"/>
                  </a:lnTo>
                  <a:lnTo>
                    <a:pt x="4932" y="7629"/>
                  </a:lnTo>
                  <a:lnTo>
                    <a:pt x="5025" y="7670"/>
                  </a:lnTo>
                  <a:lnTo>
                    <a:pt x="5119" y="7711"/>
                  </a:lnTo>
                  <a:lnTo>
                    <a:pt x="5211" y="7749"/>
                  </a:lnTo>
                  <a:lnTo>
                    <a:pt x="5306" y="7788"/>
                  </a:lnTo>
                  <a:lnTo>
                    <a:pt x="5401" y="7826"/>
                  </a:lnTo>
                  <a:lnTo>
                    <a:pt x="5498" y="7861"/>
                  </a:lnTo>
                  <a:lnTo>
                    <a:pt x="5594" y="7896"/>
                  </a:lnTo>
                  <a:lnTo>
                    <a:pt x="5691" y="7929"/>
                  </a:lnTo>
                  <a:lnTo>
                    <a:pt x="5789" y="7962"/>
                  </a:lnTo>
                  <a:lnTo>
                    <a:pt x="5886" y="7993"/>
                  </a:lnTo>
                  <a:lnTo>
                    <a:pt x="5984" y="8024"/>
                  </a:lnTo>
                  <a:lnTo>
                    <a:pt x="6084" y="8052"/>
                  </a:lnTo>
                  <a:lnTo>
                    <a:pt x="6183" y="8080"/>
                  </a:lnTo>
                  <a:lnTo>
                    <a:pt x="6285" y="8105"/>
                  </a:lnTo>
                  <a:lnTo>
                    <a:pt x="6384" y="8131"/>
                  </a:lnTo>
                  <a:lnTo>
                    <a:pt x="6485" y="8155"/>
                  </a:lnTo>
                  <a:lnTo>
                    <a:pt x="6587" y="8178"/>
                  </a:lnTo>
                  <a:lnTo>
                    <a:pt x="6688" y="8199"/>
                  </a:lnTo>
                  <a:lnTo>
                    <a:pt x="6790" y="8220"/>
                  </a:lnTo>
                  <a:lnTo>
                    <a:pt x="6892" y="8239"/>
                  </a:lnTo>
                  <a:lnTo>
                    <a:pt x="6997" y="8257"/>
                  </a:lnTo>
                  <a:lnTo>
                    <a:pt x="7100" y="8275"/>
                  </a:lnTo>
                  <a:lnTo>
                    <a:pt x="7204" y="8289"/>
                  </a:lnTo>
                  <a:lnTo>
                    <a:pt x="7308" y="8302"/>
                  </a:lnTo>
                  <a:lnTo>
                    <a:pt x="7413" y="8316"/>
                  </a:lnTo>
                  <a:lnTo>
                    <a:pt x="7518" y="8327"/>
                  </a:lnTo>
                  <a:lnTo>
                    <a:pt x="7624" y="8338"/>
                  </a:lnTo>
                  <a:lnTo>
                    <a:pt x="7730" y="8346"/>
                  </a:lnTo>
                  <a:lnTo>
                    <a:pt x="7835" y="8353"/>
                  </a:lnTo>
                  <a:lnTo>
                    <a:pt x="7943" y="8359"/>
                  </a:lnTo>
                  <a:lnTo>
                    <a:pt x="8050" y="8364"/>
                  </a:lnTo>
                  <a:lnTo>
                    <a:pt x="8156" y="8367"/>
                  </a:lnTo>
                  <a:lnTo>
                    <a:pt x="8263" y="8370"/>
                  </a:lnTo>
                  <a:lnTo>
                    <a:pt x="8371" y="8371"/>
                  </a:lnTo>
                  <a:lnTo>
                    <a:pt x="8371" y="8371"/>
                  </a:lnTo>
                  <a:lnTo>
                    <a:pt x="8371" y="769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05080" y="4159440"/>
              <a:ext cx="311400" cy="285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7691" y="0"/>
                  </a:moveTo>
                  <a:lnTo>
                    <a:pt x="7691" y="0"/>
                  </a:lnTo>
                  <a:lnTo>
                    <a:pt x="7690" y="99"/>
                  </a:lnTo>
                  <a:lnTo>
                    <a:pt x="7690" y="199"/>
                  </a:lnTo>
                  <a:lnTo>
                    <a:pt x="7687" y="298"/>
                  </a:lnTo>
                  <a:lnTo>
                    <a:pt x="7681" y="397"/>
                  </a:lnTo>
                  <a:lnTo>
                    <a:pt x="7676" y="493"/>
                  </a:lnTo>
                  <a:lnTo>
                    <a:pt x="7669" y="591"/>
                  </a:lnTo>
                  <a:lnTo>
                    <a:pt x="7661" y="689"/>
                  </a:lnTo>
                  <a:lnTo>
                    <a:pt x="7652" y="785"/>
                  </a:lnTo>
                  <a:lnTo>
                    <a:pt x="7641" y="882"/>
                  </a:lnTo>
                  <a:lnTo>
                    <a:pt x="7630" y="978"/>
                  </a:lnTo>
                  <a:lnTo>
                    <a:pt x="7617" y="1075"/>
                  </a:lnTo>
                  <a:lnTo>
                    <a:pt x="7602" y="1170"/>
                  </a:lnTo>
                  <a:lnTo>
                    <a:pt x="7587" y="1264"/>
                  </a:lnTo>
                  <a:lnTo>
                    <a:pt x="7571" y="1359"/>
                  </a:lnTo>
                  <a:lnTo>
                    <a:pt x="7554" y="1453"/>
                  </a:lnTo>
                  <a:lnTo>
                    <a:pt x="7535" y="1548"/>
                  </a:lnTo>
                  <a:lnTo>
                    <a:pt x="7514" y="1641"/>
                  </a:lnTo>
                  <a:lnTo>
                    <a:pt x="7494" y="1735"/>
                  </a:lnTo>
                  <a:lnTo>
                    <a:pt x="7472" y="1827"/>
                  </a:lnTo>
                  <a:lnTo>
                    <a:pt x="7449" y="1919"/>
                  </a:lnTo>
                  <a:lnTo>
                    <a:pt x="7424" y="2010"/>
                  </a:lnTo>
                  <a:lnTo>
                    <a:pt x="7399" y="2101"/>
                  </a:lnTo>
                  <a:lnTo>
                    <a:pt x="7372" y="2192"/>
                  </a:lnTo>
                  <a:lnTo>
                    <a:pt x="7345" y="2283"/>
                  </a:lnTo>
                  <a:lnTo>
                    <a:pt x="7316" y="2373"/>
                  </a:lnTo>
                  <a:lnTo>
                    <a:pt x="7286" y="2462"/>
                  </a:lnTo>
                  <a:lnTo>
                    <a:pt x="7256" y="2551"/>
                  </a:lnTo>
                  <a:lnTo>
                    <a:pt x="7223" y="2640"/>
                  </a:lnTo>
                  <a:lnTo>
                    <a:pt x="7191" y="2728"/>
                  </a:lnTo>
                  <a:lnTo>
                    <a:pt x="7156" y="2815"/>
                  </a:lnTo>
                  <a:lnTo>
                    <a:pt x="7123" y="2902"/>
                  </a:lnTo>
                  <a:lnTo>
                    <a:pt x="7086" y="2989"/>
                  </a:lnTo>
                  <a:lnTo>
                    <a:pt x="7048" y="3075"/>
                  </a:lnTo>
                  <a:lnTo>
                    <a:pt x="7010" y="3161"/>
                  </a:lnTo>
                  <a:lnTo>
                    <a:pt x="6972" y="3245"/>
                  </a:lnTo>
                  <a:lnTo>
                    <a:pt x="6931" y="3330"/>
                  </a:lnTo>
                  <a:lnTo>
                    <a:pt x="6889" y="3413"/>
                  </a:lnTo>
                  <a:lnTo>
                    <a:pt x="6849" y="3497"/>
                  </a:lnTo>
                  <a:lnTo>
                    <a:pt x="6805" y="3580"/>
                  </a:lnTo>
                  <a:lnTo>
                    <a:pt x="6762" y="3661"/>
                  </a:lnTo>
                  <a:lnTo>
                    <a:pt x="6716" y="3742"/>
                  </a:lnTo>
                  <a:lnTo>
                    <a:pt x="6671" y="3823"/>
                  </a:lnTo>
                  <a:lnTo>
                    <a:pt x="6624" y="3903"/>
                  </a:lnTo>
                  <a:lnTo>
                    <a:pt x="6575" y="3983"/>
                  </a:lnTo>
                  <a:lnTo>
                    <a:pt x="6526" y="4062"/>
                  </a:lnTo>
                  <a:lnTo>
                    <a:pt x="6477" y="4141"/>
                  </a:lnTo>
                  <a:lnTo>
                    <a:pt x="6427" y="4219"/>
                  </a:lnTo>
                  <a:lnTo>
                    <a:pt x="6375" y="4295"/>
                  </a:lnTo>
                  <a:lnTo>
                    <a:pt x="6322" y="4373"/>
                  </a:lnTo>
                  <a:lnTo>
                    <a:pt x="6270" y="4447"/>
                  </a:lnTo>
                  <a:lnTo>
                    <a:pt x="6215" y="4523"/>
                  </a:lnTo>
                  <a:lnTo>
                    <a:pt x="6161" y="4597"/>
                  </a:lnTo>
                  <a:lnTo>
                    <a:pt x="6104" y="4671"/>
                  </a:lnTo>
                  <a:lnTo>
                    <a:pt x="6047" y="4743"/>
                  </a:lnTo>
                  <a:lnTo>
                    <a:pt x="5989" y="4816"/>
                  </a:lnTo>
                  <a:lnTo>
                    <a:pt x="5932" y="4887"/>
                  </a:lnTo>
                  <a:lnTo>
                    <a:pt x="5872" y="4959"/>
                  </a:lnTo>
                  <a:lnTo>
                    <a:pt x="5813" y="5029"/>
                  </a:lnTo>
                  <a:lnTo>
                    <a:pt x="5751" y="5098"/>
                  </a:lnTo>
                  <a:lnTo>
                    <a:pt x="5689" y="5167"/>
                  </a:lnTo>
                  <a:lnTo>
                    <a:pt x="5626" y="5235"/>
                  </a:lnTo>
                  <a:lnTo>
                    <a:pt x="5564" y="5303"/>
                  </a:lnTo>
                  <a:lnTo>
                    <a:pt x="5499" y="5369"/>
                  </a:lnTo>
                  <a:lnTo>
                    <a:pt x="5434" y="5434"/>
                  </a:lnTo>
                  <a:lnTo>
                    <a:pt x="5369" y="5499"/>
                  </a:lnTo>
                  <a:lnTo>
                    <a:pt x="5302" y="5564"/>
                  </a:lnTo>
                  <a:lnTo>
                    <a:pt x="5235" y="5627"/>
                  </a:lnTo>
                  <a:lnTo>
                    <a:pt x="5167" y="5689"/>
                  </a:lnTo>
                  <a:lnTo>
                    <a:pt x="5099" y="5752"/>
                  </a:lnTo>
                  <a:lnTo>
                    <a:pt x="5029" y="5813"/>
                  </a:lnTo>
                  <a:lnTo>
                    <a:pt x="4958" y="5872"/>
                  </a:lnTo>
                  <a:lnTo>
                    <a:pt x="4887" y="5932"/>
                  </a:lnTo>
                  <a:lnTo>
                    <a:pt x="4816" y="5990"/>
                  </a:lnTo>
                  <a:lnTo>
                    <a:pt x="4743" y="6048"/>
                  </a:lnTo>
                  <a:lnTo>
                    <a:pt x="4671" y="6105"/>
                  </a:lnTo>
                  <a:lnTo>
                    <a:pt x="4597" y="6161"/>
                  </a:lnTo>
                  <a:lnTo>
                    <a:pt x="4522" y="6217"/>
                  </a:lnTo>
                  <a:lnTo>
                    <a:pt x="4447" y="6270"/>
                  </a:lnTo>
                  <a:lnTo>
                    <a:pt x="4372" y="6323"/>
                  </a:lnTo>
                  <a:lnTo>
                    <a:pt x="4295" y="6375"/>
                  </a:lnTo>
                  <a:lnTo>
                    <a:pt x="4218" y="6427"/>
                  </a:lnTo>
                  <a:lnTo>
                    <a:pt x="4139" y="6477"/>
                  </a:lnTo>
                  <a:lnTo>
                    <a:pt x="4062" y="6526"/>
                  </a:lnTo>
                  <a:lnTo>
                    <a:pt x="3983" y="6576"/>
                  </a:lnTo>
                  <a:lnTo>
                    <a:pt x="3903" y="6624"/>
                  </a:lnTo>
                  <a:lnTo>
                    <a:pt x="3823" y="6671"/>
                  </a:lnTo>
                  <a:lnTo>
                    <a:pt x="3742" y="6717"/>
                  </a:lnTo>
                  <a:lnTo>
                    <a:pt x="3660" y="6762"/>
                  </a:lnTo>
                  <a:lnTo>
                    <a:pt x="3579" y="6806"/>
                  </a:lnTo>
                  <a:lnTo>
                    <a:pt x="3497" y="6849"/>
                  </a:lnTo>
                  <a:lnTo>
                    <a:pt x="3412" y="6890"/>
                  </a:lnTo>
                  <a:lnTo>
                    <a:pt x="3329" y="6932"/>
                  </a:lnTo>
                  <a:lnTo>
                    <a:pt x="3245" y="6972"/>
                  </a:lnTo>
                  <a:lnTo>
                    <a:pt x="3160" y="7011"/>
                  </a:lnTo>
                  <a:lnTo>
                    <a:pt x="3075" y="7048"/>
                  </a:lnTo>
                  <a:lnTo>
                    <a:pt x="2989" y="7086"/>
                  </a:lnTo>
                  <a:lnTo>
                    <a:pt x="2902" y="7123"/>
                  </a:lnTo>
                  <a:lnTo>
                    <a:pt x="2815" y="7156"/>
                  </a:lnTo>
                  <a:lnTo>
                    <a:pt x="2727" y="7191"/>
                  </a:lnTo>
                  <a:lnTo>
                    <a:pt x="2639" y="7224"/>
                  </a:lnTo>
                  <a:lnTo>
                    <a:pt x="2551" y="7256"/>
                  </a:lnTo>
                  <a:lnTo>
                    <a:pt x="2462" y="7287"/>
                  </a:lnTo>
                  <a:lnTo>
                    <a:pt x="2372" y="7316"/>
                  </a:lnTo>
                  <a:lnTo>
                    <a:pt x="2282" y="7345"/>
                  </a:lnTo>
                  <a:lnTo>
                    <a:pt x="2192" y="7373"/>
                  </a:lnTo>
                  <a:lnTo>
                    <a:pt x="2101" y="7399"/>
                  </a:lnTo>
                  <a:lnTo>
                    <a:pt x="2010" y="7424"/>
                  </a:lnTo>
                  <a:lnTo>
                    <a:pt x="1919" y="7449"/>
                  </a:lnTo>
                  <a:lnTo>
                    <a:pt x="1827" y="7472"/>
                  </a:lnTo>
                  <a:lnTo>
                    <a:pt x="1734" y="7494"/>
                  </a:lnTo>
                  <a:lnTo>
                    <a:pt x="1641" y="7515"/>
                  </a:lnTo>
                  <a:lnTo>
                    <a:pt x="1548" y="7535"/>
                  </a:lnTo>
                  <a:lnTo>
                    <a:pt x="1453" y="7554"/>
                  </a:lnTo>
                  <a:lnTo>
                    <a:pt x="1358" y="7572"/>
                  </a:lnTo>
                  <a:lnTo>
                    <a:pt x="1265" y="7588"/>
                  </a:lnTo>
                  <a:lnTo>
                    <a:pt x="1170" y="7602"/>
                  </a:lnTo>
                  <a:lnTo>
                    <a:pt x="1074" y="7617"/>
                  </a:lnTo>
                  <a:lnTo>
                    <a:pt x="977" y="7630"/>
                  </a:lnTo>
                  <a:lnTo>
                    <a:pt x="881" y="7642"/>
                  </a:lnTo>
                  <a:lnTo>
                    <a:pt x="786" y="7652"/>
                  </a:lnTo>
                  <a:lnTo>
                    <a:pt x="689" y="7661"/>
                  </a:lnTo>
                  <a:lnTo>
                    <a:pt x="591" y="7669"/>
                  </a:lnTo>
                  <a:lnTo>
                    <a:pt x="493" y="7676"/>
                  </a:lnTo>
                  <a:lnTo>
                    <a:pt x="397" y="7681"/>
                  </a:lnTo>
                  <a:lnTo>
                    <a:pt x="297" y="7687"/>
                  </a:lnTo>
                  <a:lnTo>
                    <a:pt x="199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8" y="8370"/>
                  </a:lnTo>
                  <a:lnTo>
                    <a:pt x="215" y="8367"/>
                  </a:lnTo>
                  <a:lnTo>
                    <a:pt x="321" y="8364"/>
                  </a:lnTo>
                  <a:lnTo>
                    <a:pt x="428" y="8359"/>
                  </a:lnTo>
                  <a:lnTo>
                    <a:pt x="536" y="8353"/>
                  </a:lnTo>
                  <a:lnTo>
                    <a:pt x="641" y="8346"/>
                  </a:lnTo>
                  <a:lnTo>
                    <a:pt x="747" y="8338"/>
                  </a:lnTo>
                  <a:lnTo>
                    <a:pt x="852" y="8327"/>
                  </a:lnTo>
                  <a:lnTo>
                    <a:pt x="958" y="8316"/>
                  </a:lnTo>
                  <a:lnTo>
                    <a:pt x="1063" y="8302"/>
                  </a:lnTo>
                  <a:lnTo>
                    <a:pt x="1167" y="8289"/>
                  </a:lnTo>
                  <a:lnTo>
                    <a:pt x="1270" y="8275"/>
                  </a:lnTo>
                  <a:lnTo>
                    <a:pt x="1374" y="8257"/>
                  </a:lnTo>
                  <a:lnTo>
                    <a:pt x="1479" y="8239"/>
                  </a:lnTo>
                  <a:lnTo>
                    <a:pt x="1580" y="8220"/>
                  </a:lnTo>
                  <a:lnTo>
                    <a:pt x="1683" y="8199"/>
                  </a:lnTo>
                  <a:lnTo>
                    <a:pt x="1784" y="8178"/>
                  </a:lnTo>
                  <a:lnTo>
                    <a:pt x="1886" y="8155"/>
                  </a:lnTo>
                  <a:lnTo>
                    <a:pt x="1986" y="8131"/>
                  </a:lnTo>
                  <a:lnTo>
                    <a:pt x="2086" y="8105"/>
                  </a:lnTo>
                  <a:lnTo>
                    <a:pt x="2188" y="8080"/>
                  </a:lnTo>
                  <a:lnTo>
                    <a:pt x="2287" y="8052"/>
                  </a:lnTo>
                  <a:lnTo>
                    <a:pt x="2386" y="8024"/>
                  </a:lnTo>
                  <a:lnTo>
                    <a:pt x="2484" y="7993"/>
                  </a:lnTo>
                  <a:lnTo>
                    <a:pt x="2582" y="7962"/>
                  </a:lnTo>
                  <a:lnTo>
                    <a:pt x="2680" y="7929"/>
                  </a:lnTo>
                  <a:lnTo>
                    <a:pt x="2777" y="7896"/>
                  </a:lnTo>
                  <a:lnTo>
                    <a:pt x="2873" y="7861"/>
                  </a:lnTo>
                  <a:lnTo>
                    <a:pt x="2969" y="7826"/>
                  </a:lnTo>
                  <a:lnTo>
                    <a:pt x="3065" y="7788"/>
                  </a:lnTo>
                  <a:lnTo>
                    <a:pt x="3159" y="7749"/>
                  </a:lnTo>
                  <a:lnTo>
                    <a:pt x="3252" y="7711"/>
                  </a:lnTo>
                  <a:lnTo>
                    <a:pt x="3346" y="7670"/>
                  </a:lnTo>
                  <a:lnTo>
                    <a:pt x="3439" y="7629"/>
                  </a:lnTo>
                  <a:lnTo>
                    <a:pt x="3532" y="7586"/>
                  </a:lnTo>
                  <a:lnTo>
                    <a:pt x="3624" y="7542"/>
                  </a:lnTo>
                  <a:lnTo>
                    <a:pt x="3715" y="7498"/>
                  </a:lnTo>
                  <a:lnTo>
                    <a:pt x="3805" y="7452"/>
                  </a:lnTo>
                  <a:lnTo>
                    <a:pt x="3895" y="7405"/>
                  </a:lnTo>
                  <a:lnTo>
                    <a:pt x="3985" y="7357"/>
                  </a:lnTo>
                  <a:lnTo>
                    <a:pt x="4074" y="7309"/>
                  </a:lnTo>
                  <a:lnTo>
                    <a:pt x="4160" y="7258"/>
                  </a:lnTo>
                  <a:lnTo>
                    <a:pt x="4248" y="7207"/>
                  </a:lnTo>
                  <a:lnTo>
                    <a:pt x="4335" y="7155"/>
                  </a:lnTo>
                  <a:lnTo>
                    <a:pt x="4421" y="7103"/>
                  </a:lnTo>
                  <a:lnTo>
                    <a:pt x="4507" y="7048"/>
                  </a:lnTo>
                  <a:lnTo>
                    <a:pt x="4590" y="6993"/>
                  </a:lnTo>
                  <a:lnTo>
                    <a:pt x="4675" y="6937"/>
                  </a:lnTo>
                  <a:lnTo>
                    <a:pt x="4757" y="6881"/>
                  </a:lnTo>
                  <a:lnTo>
                    <a:pt x="4841" y="6822"/>
                  </a:lnTo>
                  <a:lnTo>
                    <a:pt x="4921" y="6763"/>
                  </a:lnTo>
                  <a:lnTo>
                    <a:pt x="5003" y="6703"/>
                  </a:lnTo>
                  <a:lnTo>
                    <a:pt x="5082" y="6643"/>
                  </a:lnTo>
                  <a:lnTo>
                    <a:pt x="5163" y="6582"/>
                  </a:lnTo>
                  <a:lnTo>
                    <a:pt x="5241" y="6519"/>
                  </a:lnTo>
                  <a:lnTo>
                    <a:pt x="5320" y="6455"/>
                  </a:lnTo>
                  <a:lnTo>
                    <a:pt x="5396" y="6390"/>
                  </a:lnTo>
                  <a:lnTo>
                    <a:pt x="5473" y="6325"/>
                  </a:lnTo>
                  <a:lnTo>
                    <a:pt x="5548" y="6258"/>
                  </a:lnTo>
                  <a:lnTo>
                    <a:pt x="5623" y="6191"/>
                  </a:lnTo>
                  <a:lnTo>
                    <a:pt x="5696" y="6123"/>
                  </a:lnTo>
                  <a:lnTo>
                    <a:pt x="5770" y="6054"/>
                  </a:lnTo>
                  <a:lnTo>
                    <a:pt x="5842" y="5985"/>
                  </a:lnTo>
                  <a:lnTo>
                    <a:pt x="5914" y="5914"/>
                  </a:lnTo>
                  <a:lnTo>
                    <a:pt x="5985" y="5842"/>
                  </a:lnTo>
                  <a:lnTo>
                    <a:pt x="6054" y="5770"/>
                  </a:lnTo>
                  <a:lnTo>
                    <a:pt x="6123" y="5698"/>
                  </a:lnTo>
                  <a:lnTo>
                    <a:pt x="6191" y="5623"/>
                  </a:lnTo>
                  <a:lnTo>
                    <a:pt x="6258" y="5549"/>
                  </a:lnTo>
                  <a:lnTo>
                    <a:pt x="6324" y="5473"/>
                  </a:lnTo>
                  <a:lnTo>
                    <a:pt x="6390" y="5397"/>
                  </a:lnTo>
                  <a:lnTo>
                    <a:pt x="6455" y="5320"/>
                  </a:lnTo>
                  <a:lnTo>
                    <a:pt x="6518" y="5241"/>
                  </a:lnTo>
                  <a:lnTo>
                    <a:pt x="6581" y="5163"/>
                  </a:lnTo>
                  <a:lnTo>
                    <a:pt x="6643" y="5083"/>
                  </a:lnTo>
                  <a:lnTo>
                    <a:pt x="6703" y="5003"/>
                  </a:lnTo>
                  <a:lnTo>
                    <a:pt x="6763" y="4921"/>
                  </a:lnTo>
                  <a:lnTo>
                    <a:pt x="6822" y="4841"/>
                  </a:lnTo>
                  <a:lnTo>
                    <a:pt x="6880" y="4758"/>
                  </a:lnTo>
                  <a:lnTo>
                    <a:pt x="6937" y="4675"/>
                  </a:lnTo>
                  <a:lnTo>
                    <a:pt x="6993" y="4590"/>
                  </a:lnTo>
                  <a:lnTo>
                    <a:pt x="7048" y="4507"/>
                  </a:lnTo>
                  <a:lnTo>
                    <a:pt x="7103" y="4421"/>
                  </a:lnTo>
                  <a:lnTo>
                    <a:pt x="7155" y="4336"/>
                  </a:lnTo>
                  <a:lnTo>
                    <a:pt x="7207" y="4248"/>
                  </a:lnTo>
                  <a:lnTo>
                    <a:pt x="7258" y="4161"/>
                  </a:lnTo>
                  <a:lnTo>
                    <a:pt x="7308" y="4074"/>
                  </a:lnTo>
                  <a:lnTo>
                    <a:pt x="7357" y="3985"/>
                  </a:lnTo>
                  <a:lnTo>
                    <a:pt x="7405" y="3896"/>
                  </a:lnTo>
                  <a:lnTo>
                    <a:pt x="7451" y="3805"/>
                  </a:lnTo>
                  <a:lnTo>
                    <a:pt x="7498" y="3716"/>
                  </a:lnTo>
                  <a:lnTo>
                    <a:pt x="7542" y="3624"/>
                  </a:lnTo>
                  <a:lnTo>
                    <a:pt x="7585" y="3533"/>
                  </a:lnTo>
                  <a:lnTo>
                    <a:pt x="7629" y="3439"/>
                  </a:lnTo>
                  <a:lnTo>
                    <a:pt x="7670" y="3346"/>
                  </a:lnTo>
                  <a:lnTo>
                    <a:pt x="7710" y="3252"/>
                  </a:lnTo>
                  <a:lnTo>
                    <a:pt x="7749" y="3160"/>
                  </a:lnTo>
                  <a:lnTo>
                    <a:pt x="7788" y="3065"/>
                  </a:lnTo>
                  <a:lnTo>
                    <a:pt x="7825" y="2970"/>
                  </a:lnTo>
                  <a:lnTo>
                    <a:pt x="7861" y="2873"/>
                  </a:lnTo>
                  <a:lnTo>
                    <a:pt x="7896" y="2777"/>
                  </a:lnTo>
                  <a:lnTo>
                    <a:pt x="7929" y="2680"/>
                  </a:lnTo>
                  <a:lnTo>
                    <a:pt x="7962" y="2582"/>
                  </a:lnTo>
                  <a:lnTo>
                    <a:pt x="7993" y="2485"/>
                  </a:lnTo>
                  <a:lnTo>
                    <a:pt x="8023" y="2387"/>
                  </a:lnTo>
                  <a:lnTo>
                    <a:pt x="8052" y="2287"/>
                  </a:lnTo>
                  <a:lnTo>
                    <a:pt x="8080" y="2188"/>
                  </a:lnTo>
                  <a:lnTo>
                    <a:pt x="8105" y="2086"/>
                  </a:lnTo>
                  <a:lnTo>
                    <a:pt x="8130" y="1987"/>
                  </a:lnTo>
                  <a:lnTo>
                    <a:pt x="8155" y="1886"/>
                  </a:lnTo>
                  <a:lnTo>
                    <a:pt x="8178" y="1784"/>
                  </a:lnTo>
                  <a:lnTo>
                    <a:pt x="8199" y="1683"/>
                  </a:lnTo>
                  <a:lnTo>
                    <a:pt x="8220" y="1581"/>
                  </a:lnTo>
                  <a:lnTo>
                    <a:pt x="8240" y="1479"/>
                  </a:lnTo>
                  <a:lnTo>
                    <a:pt x="8257" y="1376"/>
                  </a:lnTo>
                  <a:lnTo>
                    <a:pt x="8274" y="1271"/>
                  </a:lnTo>
                  <a:lnTo>
                    <a:pt x="8288" y="1167"/>
                  </a:lnTo>
                  <a:lnTo>
                    <a:pt x="8302" y="1063"/>
                  </a:lnTo>
                  <a:lnTo>
                    <a:pt x="8316" y="958"/>
                  </a:lnTo>
                  <a:lnTo>
                    <a:pt x="8327" y="854"/>
                  </a:lnTo>
                  <a:lnTo>
                    <a:pt x="8338" y="747"/>
                  </a:lnTo>
                  <a:lnTo>
                    <a:pt x="8346" y="641"/>
                  </a:lnTo>
                  <a:lnTo>
                    <a:pt x="8353" y="536"/>
                  </a:lnTo>
                  <a:lnTo>
                    <a:pt x="8359" y="428"/>
                  </a:lnTo>
                  <a:lnTo>
                    <a:pt x="8364" y="321"/>
                  </a:lnTo>
                  <a:lnTo>
                    <a:pt x="8367" y="215"/>
                  </a:lnTo>
                  <a:lnTo>
                    <a:pt x="8370" y="108"/>
                  </a:lnTo>
                  <a:lnTo>
                    <a:pt x="8371" y="0"/>
                  </a:lnTo>
                  <a:lnTo>
                    <a:pt x="8371" y="0"/>
                  </a:lnTo>
                  <a:lnTo>
                    <a:pt x="769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556840" y="3954600"/>
              <a:ext cx="57960" cy="163440"/>
            </a:xfrm>
            <a:custGeom>
              <a:avLst/>
              <a:gdLst/>
              <a:ahLst/>
              <a:rect l="l" t="t" r="r" b="b"/>
              <a:pathLst>
                <a:path w="1576" h="4781">
                  <a:moveTo>
                    <a:pt x="151" y="1340"/>
                  </a:moveTo>
                  <a:lnTo>
                    <a:pt x="0" y="1194"/>
                  </a:lnTo>
                  <a:lnTo>
                    <a:pt x="44" y="1131"/>
                  </a:lnTo>
                  <a:lnTo>
                    <a:pt x="87" y="1071"/>
                  </a:lnTo>
                  <a:lnTo>
                    <a:pt x="128" y="1014"/>
                  </a:lnTo>
                  <a:lnTo>
                    <a:pt x="167" y="960"/>
                  </a:lnTo>
                  <a:lnTo>
                    <a:pt x="206" y="907"/>
                  </a:lnTo>
                  <a:lnTo>
                    <a:pt x="240" y="852"/>
                  </a:lnTo>
                  <a:lnTo>
                    <a:pt x="258" y="826"/>
                  </a:lnTo>
                  <a:lnTo>
                    <a:pt x="274" y="798"/>
                  </a:lnTo>
                  <a:lnTo>
                    <a:pt x="290" y="771"/>
                  </a:lnTo>
                  <a:lnTo>
                    <a:pt x="304" y="742"/>
                  </a:lnTo>
                  <a:lnTo>
                    <a:pt x="319" y="713"/>
                  </a:lnTo>
                  <a:lnTo>
                    <a:pt x="331" y="684"/>
                  </a:lnTo>
                  <a:lnTo>
                    <a:pt x="344" y="653"/>
                  </a:lnTo>
                  <a:lnTo>
                    <a:pt x="356" y="621"/>
                  </a:lnTo>
                  <a:lnTo>
                    <a:pt x="367" y="589"/>
                  </a:lnTo>
                  <a:lnTo>
                    <a:pt x="376" y="555"/>
                  </a:lnTo>
                  <a:lnTo>
                    <a:pt x="386" y="520"/>
                  </a:lnTo>
                  <a:lnTo>
                    <a:pt x="393" y="483"/>
                  </a:lnTo>
                  <a:lnTo>
                    <a:pt x="401" y="445"/>
                  </a:lnTo>
                  <a:lnTo>
                    <a:pt x="407" y="405"/>
                  </a:lnTo>
                  <a:lnTo>
                    <a:pt x="411" y="364"/>
                  </a:lnTo>
                  <a:lnTo>
                    <a:pt x="415" y="320"/>
                  </a:lnTo>
                  <a:lnTo>
                    <a:pt x="417" y="275"/>
                  </a:lnTo>
                  <a:lnTo>
                    <a:pt x="419" y="227"/>
                  </a:lnTo>
                  <a:lnTo>
                    <a:pt x="419" y="176"/>
                  </a:lnTo>
                  <a:lnTo>
                    <a:pt x="418" y="124"/>
                  </a:lnTo>
                  <a:lnTo>
                    <a:pt x="419" y="106"/>
                  </a:lnTo>
                  <a:lnTo>
                    <a:pt x="421" y="87"/>
                  </a:lnTo>
                  <a:lnTo>
                    <a:pt x="423" y="79"/>
                  </a:lnTo>
                  <a:lnTo>
                    <a:pt x="425" y="71"/>
                  </a:lnTo>
                  <a:lnTo>
                    <a:pt x="428" y="62"/>
                  </a:lnTo>
                  <a:lnTo>
                    <a:pt x="431" y="54"/>
                  </a:lnTo>
                  <a:lnTo>
                    <a:pt x="434" y="47"/>
                  </a:lnTo>
                  <a:lnTo>
                    <a:pt x="439" y="39"/>
                  </a:lnTo>
                  <a:lnTo>
                    <a:pt x="443" y="33"/>
                  </a:lnTo>
                  <a:lnTo>
                    <a:pt x="449" y="27"/>
                  </a:lnTo>
                  <a:lnTo>
                    <a:pt x="455" y="20"/>
                  </a:lnTo>
                  <a:lnTo>
                    <a:pt x="461" y="15"/>
                  </a:lnTo>
                  <a:lnTo>
                    <a:pt x="469" y="11"/>
                  </a:lnTo>
                  <a:lnTo>
                    <a:pt x="476" y="7"/>
                  </a:lnTo>
                  <a:lnTo>
                    <a:pt x="484" y="4"/>
                  </a:lnTo>
                  <a:lnTo>
                    <a:pt x="493" y="2"/>
                  </a:lnTo>
                  <a:lnTo>
                    <a:pt x="502" y="0"/>
                  </a:lnTo>
                  <a:lnTo>
                    <a:pt x="512" y="0"/>
                  </a:lnTo>
                  <a:lnTo>
                    <a:pt x="523" y="0"/>
                  </a:lnTo>
                  <a:lnTo>
                    <a:pt x="534" y="1"/>
                  </a:lnTo>
                  <a:lnTo>
                    <a:pt x="546" y="3"/>
                  </a:lnTo>
                  <a:lnTo>
                    <a:pt x="559" y="6"/>
                  </a:lnTo>
                  <a:lnTo>
                    <a:pt x="572" y="10"/>
                  </a:lnTo>
                  <a:lnTo>
                    <a:pt x="587" y="15"/>
                  </a:lnTo>
                  <a:lnTo>
                    <a:pt x="601" y="23"/>
                  </a:lnTo>
                  <a:lnTo>
                    <a:pt x="617" y="30"/>
                  </a:lnTo>
                  <a:lnTo>
                    <a:pt x="633" y="39"/>
                  </a:lnTo>
                  <a:lnTo>
                    <a:pt x="650" y="49"/>
                  </a:lnTo>
                  <a:lnTo>
                    <a:pt x="667" y="61"/>
                  </a:lnTo>
                  <a:lnTo>
                    <a:pt x="686" y="74"/>
                  </a:lnTo>
                  <a:lnTo>
                    <a:pt x="823" y="230"/>
                  </a:lnTo>
                  <a:lnTo>
                    <a:pt x="947" y="380"/>
                  </a:lnTo>
                  <a:lnTo>
                    <a:pt x="1058" y="527"/>
                  </a:lnTo>
                  <a:lnTo>
                    <a:pt x="1156" y="670"/>
                  </a:lnTo>
                  <a:lnTo>
                    <a:pt x="1242" y="810"/>
                  </a:lnTo>
                  <a:lnTo>
                    <a:pt x="1316" y="946"/>
                  </a:lnTo>
                  <a:lnTo>
                    <a:pt x="1381" y="1080"/>
                  </a:lnTo>
                  <a:lnTo>
                    <a:pt x="1434" y="1211"/>
                  </a:lnTo>
                  <a:lnTo>
                    <a:pt x="1479" y="1340"/>
                  </a:lnTo>
                  <a:lnTo>
                    <a:pt x="1514" y="1467"/>
                  </a:lnTo>
                  <a:lnTo>
                    <a:pt x="1541" y="1591"/>
                  </a:lnTo>
                  <a:lnTo>
                    <a:pt x="1560" y="1716"/>
                  </a:lnTo>
                  <a:lnTo>
                    <a:pt x="1571" y="1838"/>
                  </a:lnTo>
                  <a:lnTo>
                    <a:pt x="1576" y="1959"/>
                  </a:lnTo>
                  <a:lnTo>
                    <a:pt x="1575" y="2081"/>
                  </a:lnTo>
                  <a:lnTo>
                    <a:pt x="1567" y="2202"/>
                  </a:lnTo>
                  <a:lnTo>
                    <a:pt x="1555" y="2324"/>
                  </a:lnTo>
                  <a:lnTo>
                    <a:pt x="1538" y="2445"/>
                  </a:lnTo>
                  <a:lnTo>
                    <a:pt x="1517" y="2567"/>
                  </a:lnTo>
                  <a:lnTo>
                    <a:pt x="1493" y="2692"/>
                  </a:lnTo>
                  <a:lnTo>
                    <a:pt x="1466" y="2816"/>
                  </a:lnTo>
                  <a:lnTo>
                    <a:pt x="1436" y="2943"/>
                  </a:lnTo>
                  <a:lnTo>
                    <a:pt x="1406" y="3072"/>
                  </a:lnTo>
                  <a:lnTo>
                    <a:pt x="1374" y="3202"/>
                  </a:lnTo>
                  <a:lnTo>
                    <a:pt x="1341" y="3336"/>
                  </a:lnTo>
                  <a:lnTo>
                    <a:pt x="1309" y="3472"/>
                  </a:lnTo>
                  <a:lnTo>
                    <a:pt x="1276" y="3612"/>
                  </a:lnTo>
                  <a:lnTo>
                    <a:pt x="1246" y="3755"/>
                  </a:lnTo>
                  <a:lnTo>
                    <a:pt x="1217" y="3901"/>
                  </a:lnTo>
                  <a:lnTo>
                    <a:pt x="1190" y="4053"/>
                  </a:lnTo>
                  <a:lnTo>
                    <a:pt x="1166" y="4208"/>
                  </a:lnTo>
                  <a:lnTo>
                    <a:pt x="1146" y="4368"/>
                  </a:lnTo>
                  <a:lnTo>
                    <a:pt x="1024" y="4781"/>
                  </a:lnTo>
                  <a:lnTo>
                    <a:pt x="1015" y="4629"/>
                  </a:lnTo>
                  <a:lnTo>
                    <a:pt x="1010" y="4479"/>
                  </a:lnTo>
                  <a:lnTo>
                    <a:pt x="1008" y="4334"/>
                  </a:lnTo>
                  <a:lnTo>
                    <a:pt x="1013" y="4190"/>
                  </a:lnTo>
                  <a:lnTo>
                    <a:pt x="1019" y="4049"/>
                  </a:lnTo>
                  <a:lnTo>
                    <a:pt x="1028" y="3911"/>
                  </a:lnTo>
                  <a:lnTo>
                    <a:pt x="1040" y="3776"/>
                  </a:lnTo>
                  <a:lnTo>
                    <a:pt x="1055" y="3642"/>
                  </a:lnTo>
                  <a:lnTo>
                    <a:pt x="1069" y="3510"/>
                  </a:lnTo>
                  <a:lnTo>
                    <a:pt x="1085" y="3380"/>
                  </a:lnTo>
                  <a:lnTo>
                    <a:pt x="1102" y="3252"/>
                  </a:lnTo>
                  <a:lnTo>
                    <a:pt x="1117" y="3124"/>
                  </a:lnTo>
                  <a:lnTo>
                    <a:pt x="1133" y="2997"/>
                  </a:lnTo>
                  <a:lnTo>
                    <a:pt x="1148" y="2872"/>
                  </a:lnTo>
                  <a:lnTo>
                    <a:pt x="1160" y="2747"/>
                  </a:lnTo>
                  <a:lnTo>
                    <a:pt x="1171" y="2623"/>
                  </a:lnTo>
                  <a:lnTo>
                    <a:pt x="1179" y="2498"/>
                  </a:lnTo>
                  <a:lnTo>
                    <a:pt x="1183" y="2375"/>
                  </a:lnTo>
                  <a:lnTo>
                    <a:pt x="1184" y="2250"/>
                  </a:lnTo>
                  <a:lnTo>
                    <a:pt x="1181" y="2125"/>
                  </a:lnTo>
                  <a:lnTo>
                    <a:pt x="1174" y="1999"/>
                  </a:lnTo>
                  <a:lnTo>
                    <a:pt x="1160" y="1873"/>
                  </a:lnTo>
                  <a:lnTo>
                    <a:pt x="1142" y="1745"/>
                  </a:lnTo>
                  <a:lnTo>
                    <a:pt x="1117" y="1616"/>
                  </a:lnTo>
                  <a:lnTo>
                    <a:pt x="1086" y="1486"/>
                  </a:lnTo>
                  <a:lnTo>
                    <a:pt x="1047" y="1354"/>
                  </a:lnTo>
                  <a:lnTo>
                    <a:pt x="1000" y="1220"/>
                  </a:lnTo>
                  <a:lnTo>
                    <a:pt x="946" y="1084"/>
                  </a:lnTo>
                  <a:lnTo>
                    <a:pt x="883" y="945"/>
                  </a:lnTo>
                  <a:lnTo>
                    <a:pt x="811" y="804"/>
                  </a:lnTo>
                  <a:lnTo>
                    <a:pt x="728" y="660"/>
                  </a:lnTo>
                  <a:lnTo>
                    <a:pt x="636" y="513"/>
                  </a:lnTo>
                  <a:lnTo>
                    <a:pt x="628" y="548"/>
                  </a:lnTo>
                  <a:lnTo>
                    <a:pt x="619" y="581"/>
                  </a:lnTo>
                  <a:lnTo>
                    <a:pt x="610" y="615"/>
                  </a:lnTo>
                  <a:lnTo>
                    <a:pt x="600" y="647"/>
                  </a:lnTo>
                  <a:lnTo>
                    <a:pt x="590" y="679"/>
                  </a:lnTo>
                  <a:lnTo>
                    <a:pt x="579" y="709"/>
                  </a:lnTo>
                  <a:lnTo>
                    <a:pt x="568" y="739"/>
                  </a:lnTo>
                  <a:lnTo>
                    <a:pt x="556" y="768"/>
                  </a:lnTo>
                  <a:lnTo>
                    <a:pt x="545" y="797"/>
                  </a:lnTo>
                  <a:lnTo>
                    <a:pt x="532" y="824"/>
                  </a:lnTo>
                  <a:lnTo>
                    <a:pt x="519" y="851"/>
                  </a:lnTo>
                  <a:lnTo>
                    <a:pt x="505" y="878"/>
                  </a:lnTo>
                  <a:lnTo>
                    <a:pt x="492" y="905"/>
                  </a:lnTo>
                  <a:lnTo>
                    <a:pt x="477" y="930"/>
                  </a:lnTo>
                  <a:lnTo>
                    <a:pt x="462" y="955"/>
                  </a:lnTo>
                  <a:lnTo>
                    <a:pt x="448" y="980"/>
                  </a:lnTo>
                  <a:lnTo>
                    <a:pt x="432" y="1004"/>
                  </a:lnTo>
                  <a:lnTo>
                    <a:pt x="416" y="1028"/>
                  </a:lnTo>
                  <a:lnTo>
                    <a:pt x="399" y="1051"/>
                  </a:lnTo>
                  <a:lnTo>
                    <a:pt x="383" y="1074"/>
                  </a:lnTo>
                  <a:lnTo>
                    <a:pt x="348" y="1120"/>
                  </a:lnTo>
                  <a:lnTo>
                    <a:pt x="312" y="1165"/>
                  </a:lnTo>
                  <a:lnTo>
                    <a:pt x="274" y="1209"/>
                  </a:lnTo>
                  <a:lnTo>
                    <a:pt x="234" y="1253"/>
                  </a:lnTo>
                  <a:lnTo>
                    <a:pt x="193" y="1297"/>
                  </a:lnTo>
                  <a:lnTo>
                    <a:pt x="151" y="13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515080" y="3975480"/>
              <a:ext cx="69480" cy="144720"/>
            </a:xfrm>
            <a:custGeom>
              <a:avLst/>
              <a:gdLst/>
              <a:ahLst/>
              <a:rect l="l" t="t" r="r" b="b"/>
              <a:pathLst>
                <a:path w="1873" h="4245">
                  <a:moveTo>
                    <a:pt x="1852" y="3341"/>
                  </a:moveTo>
                  <a:lnTo>
                    <a:pt x="1857" y="3221"/>
                  </a:lnTo>
                  <a:lnTo>
                    <a:pt x="1860" y="3102"/>
                  </a:lnTo>
                  <a:lnTo>
                    <a:pt x="1863" y="2985"/>
                  </a:lnTo>
                  <a:lnTo>
                    <a:pt x="1865" y="2868"/>
                  </a:lnTo>
                  <a:lnTo>
                    <a:pt x="1865" y="2752"/>
                  </a:lnTo>
                  <a:lnTo>
                    <a:pt x="1865" y="2638"/>
                  </a:lnTo>
                  <a:lnTo>
                    <a:pt x="1863" y="2524"/>
                  </a:lnTo>
                  <a:lnTo>
                    <a:pt x="1859" y="2412"/>
                  </a:lnTo>
                  <a:lnTo>
                    <a:pt x="1853" y="2300"/>
                  </a:lnTo>
                  <a:lnTo>
                    <a:pt x="1846" y="2190"/>
                  </a:lnTo>
                  <a:lnTo>
                    <a:pt x="1836" y="2080"/>
                  </a:lnTo>
                  <a:lnTo>
                    <a:pt x="1823" y="1972"/>
                  </a:lnTo>
                  <a:lnTo>
                    <a:pt x="1807" y="1864"/>
                  </a:lnTo>
                  <a:lnTo>
                    <a:pt x="1790" y="1759"/>
                  </a:lnTo>
                  <a:lnTo>
                    <a:pt x="1769" y="1654"/>
                  </a:lnTo>
                  <a:lnTo>
                    <a:pt x="1744" y="1550"/>
                  </a:lnTo>
                  <a:lnTo>
                    <a:pt x="1715" y="1448"/>
                  </a:lnTo>
                  <a:lnTo>
                    <a:pt x="1684" y="1346"/>
                  </a:lnTo>
                  <a:lnTo>
                    <a:pt x="1647" y="1246"/>
                  </a:lnTo>
                  <a:lnTo>
                    <a:pt x="1608" y="1147"/>
                  </a:lnTo>
                  <a:lnTo>
                    <a:pt x="1563" y="1048"/>
                  </a:lnTo>
                  <a:lnTo>
                    <a:pt x="1514" y="952"/>
                  </a:lnTo>
                  <a:lnTo>
                    <a:pt x="1460" y="856"/>
                  </a:lnTo>
                  <a:lnTo>
                    <a:pt x="1401" y="761"/>
                  </a:lnTo>
                  <a:lnTo>
                    <a:pt x="1338" y="667"/>
                  </a:lnTo>
                  <a:lnTo>
                    <a:pt x="1269" y="575"/>
                  </a:lnTo>
                  <a:lnTo>
                    <a:pt x="1193" y="484"/>
                  </a:lnTo>
                  <a:lnTo>
                    <a:pt x="1113" y="394"/>
                  </a:lnTo>
                  <a:lnTo>
                    <a:pt x="1026" y="305"/>
                  </a:lnTo>
                  <a:lnTo>
                    <a:pt x="933" y="217"/>
                  </a:lnTo>
                  <a:lnTo>
                    <a:pt x="833" y="132"/>
                  </a:lnTo>
                  <a:lnTo>
                    <a:pt x="728" y="46"/>
                  </a:lnTo>
                  <a:lnTo>
                    <a:pt x="702" y="31"/>
                  </a:lnTo>
                  <a:lnTo>
                    <a:pt x="678" y="19"/>
                  </a:lnTo>
                  <a:lnTo>
                    <a:pt x="667" y="13"/>
                  </a:lnTo>
                  <a:lnTo>
                    <a:pt x="655" y="9"/>
                  </a:lnTo>
                  <a:lnTo>
                    <a:pt x="645" y="6"/>
                  </a:lnTo>
                  <a:lnTo>
                    <a:pt x="634" y="3"/>
                  </a:lnTo>
                  <a:lnTo>
                    <a:pt x="624" y="2"/>
                  </a:lnTo>
                  <a:lnTo>
                    <a:pt x="615" y="0"/>
                  </a:lnTo>
                  <a:lnTo>
                    <a:pt x="605" y="0"/>
                  </a:lnTo>
                  <a:lnTo>
                    <a:pt x="596" y="0"/>
                  </a:lnTo>
                  <a:lnTo>
                    <a:pt x="586" y="1"/>
                  </a:lnTo>
                  <a:lnTo>
                    <a:pt x="578" y="2"/>
                  </a:lnTo>
                  <a:lnTo>
                    <a:pt x="570" y="4"/>
                  </a:lnTo>
                  <a:lnTo>
                    <a:pt x="561" y="6"/>
                  </a:lnTo>
                  <a:lnTo>
                    <a:pt x="553" y="10"/>
                  </a:lnTo>
                  <a:lnTo>
                    <a:pt x="545" y="13"/>
                  </a:lnTo>
                  <a:lnTo>
                    <a:pt x="538" y="19"/>
                  </a:lnTo>
                  <a:lnTo>
                    <a:pt x="531" y="23"/>
                  </a:lnTo>
                  <a:lnTo>
                    <a:pt x="524" y="29"/>
                  </a:lnTo>
                  <a:lnTo>
                    <a:pt x="517" y="34"/>
                  </a:lnTo>
                  <a:lnTo>
                    <a:pt x="510" y="42"/>
                  </a:lnTo>
                  <a:lnTo>
                    <a:pt x="504" y="49"/>
                  </a:lnTo>
                  <a:lnTo>
                    <a:pt x="492" y="65"/>
                  </a:lnTo>
                  <a:lnTo>
                    <a:pt x="481" y="81"/>
                  </a:lnTo>
                  <a:lnTo>
                    <a:pt x="470" y="101"/>
                  </a:lnTo>
                  <a:lnTo>
                    <a:pt x="460" y="122"/>
                  </a:lnTo>
                  <a:lnTo>
                    <a:pt x="457" y="172"/>
                  </a:lnTo>
                  <a:lnTo>
                    <a:pt x="451" y="223"/>
                  </a:lnTo>
                  <a:lnTo>
                    <a:pt x="446" y="273"/>
                  </a:lnTo>
                  <a:lnTo>
                    <a:pt x="441" y="323"/>
                  </a:lnTo>
                  <a:lnTo>
                    <a:pt x="434" y="372"/>
                  </a:lnTo>
                  <a:lnTo>
                    <a:pt x="426" y="421"/>
                  </a:lnTo>
                  <a:lnTo>
                    <a:pt x="418" y="470"/>
                  </a:lnTo>
                  <a:lnTo>
                    <a:pt x="409" y="518"/>
                  </a:lnTo>
                  <a:lnTo>
                    <a:pt x="400" y="566"/>
                  </a:lnTo>
                  <a:lnTo>
                    <a:pt x="390" y="613"/>
                  </a:lnTo>
                  <a:lnTo>
                    <a:pt x="379" y="660"/>
                  </a:lnTo>
                  <a:lnTo>
                    <a:pt x="368" y="707"/>
                  </a:lnTo>
                  <a:lnTo>
                    <a:pt x="355" y="753"/>
                  </a:lnTo>
                  <a:lnTo>
                    <a:pt x="343" y="798"/>
                  </a:lnTo>
                  <a:lnTo>
                    <a:pt x="329" y="844"/>
                  </a:lnTo>
                  <a:lnTo>
                    <a:pt x="314" y="888"/>
                  </a:lnTo>
                  <a:lnTo>
                    <a:pt x="300" y="933"/>
                  </a:lnTo>
                  <a:lnTo>
                    <a:pt x="284" y="977"/>
                  </a:lnTo>
                  <a:lnTo>
                    <a:pt x="268" y="1020"/>
                  </a:lnTo>
                  <a:lnTo>
                    <a:pt x="251" y="1063"/>
                  </a:lnTo>
                  <a:lnTo>
                    <a:pt x="234" y="1106"/>
                  </a:lnTo>
                  <a:lnTo>
                    <a:pt x="216" y="1148"/>
                  </a:lnTo>
                  <a:lnTo>
                    <a:pt x="197" y="1188"/>
                  </a:lnTo>
                  <a:lnTo>
                    <a:pt x="178" y="1229"/>
                  </a:lnTo>
                  <a:lnTo>
                    <a:pt x="157" y="1270"/>
                  </a:lnTo>
                  <a:lnTo>
                    <a:pt x="137" y="1310"/>
                  </a:lnTo>
                  <a:lnTo>
                    <a:pt x="115" y="1348"/>
                  </a:lnTo>
                  <a:lnTo>
                    <a:pt x="95" y="1387"/>
                  </a:lnTo>
                  <a:lnTo>
                    <a:pt x="71" y="1425"/>
                  </a:lnTo>
                  <a:lnTo>
                    <a:pt x="48" y="1463"/>
                  </a:lnTo>
                  <a:lnTo>
                    <a:pt x="25" y="1499"/>
                  </a:lnTo>
                  <a:lnTo>
                    <a:pt x="0" y="1535"/>
                  </a:lnTo>
                  <a:lnTo>
                    <a:pt x="168" y="1878"/>
                  </a:lnTo>
                  <a:lnTo>
                    <a:pt x="215" y="1785"/>
                  </a:lnTo>
                  <a:lnTo>
                    <a:pt x="260" y="1694"/>
                  </a:lnTo>
                  <a:lnTo>
                    <a:pt x="302" y="1606"/>
                  </a:lnTo>
                  <a:lnTo>
                    <a:pt x="343" y="1519"/>
                  </a:lnTo>
                  <a:lnTo>
                    <a:pt x="380" y="1434"/>
                  </a:lnTo>
                  <a:lnTo>
                    <a:pt x="416" y="1351"/>
                  </a:lnTo>
                  <a:lnTo>
                    <a:pt x="450" y="1266"/>
                  </a:lnTo>
                  <a:lnTo>
                    <a:pt x="482" y="1182"/>
                  </a:lnTo>
                  <a:lnTo>
                    <a:pt x="512" y="1097"/>
                  </a:lnTo>
                  <a:lnTo>
                    <a:pt x="540" y="1010"/>
                  </a:lnTo>
                  <a:lnTo>
                    <a:pt x="555" y="967"/>
                  </a:lnTo>
                  <a:lnTo>
                    <a:pt x="567" y="923"/>
                  </a:lnTo>
                  <a:lnTo>
                    <a:pt x="581" y="878"/>
                  </a:lnTo>
                  <a:lnTo>
                    <a:pt x="594" y="832"/>
                  </a:lnTo>
                  <a:lnTo>
                    <a:pt x="618" y="738"/>
                  </a:lnTo>
                  <a:lnTo>
                    <a:pt x="640" y="641"/>
                  </a:lnTo>
                  <a:lnTo>
                    <a:pt x="662" y="541"/>
                  </a:lnTo>
                  <a:lnTo>
                    <a:pt x="683" y="435"/>
                  </a:lnTo>
                  <a:lnTo>
                    <a:pt x="782" y="524"/>
                  </a:lnTo>
                  <a:lnTo>
                    <a:pt x="875" y="616"/>
                  </a:lnTo>
                  <a:lnTo>
                    <a:pt x="962" y="711"/>
                  </a:lnTo>
                  <a:lnTo>
                    <a:pt x="1041" y="810"/>
                  </a:lnTo>
                  <a:lnTo>
                    <a:pt x="1115" y="911"/>
                  </a:lnTo>
                  <a:lnTo>
                    <a:pt x="1183" y="1014"/>
                  </a:lnTo>
                  <a:lnTo>
                    <a:pt x="1244" y="1120"/>
                  </a:lnTo>
                  <a:lnTo>
                    <a:pt x="1302" y="1228"/>
                  </a:lnTo>
                  <a:lnTo>
                    <a:pt x="1353" y="1339"/>
                  </a:lnTo>
                  <a:lnTo>
                    <a:pt x="1400" y="1452"/>
                  </a:lnTo>
                  <a:lnTo>
                    <a:pt x="1443" y="1566"/>
                  </a:lnTo>
                  <a:lnTo>
                    <a:pt x="1482" y="1683"/>
                  </a:lnTo>
                  <a:lnTo>
                    <a:pt x="1517" y="1802"/>
                  </a:lnTo>
                  <a:lnTo>
                    <a:pt x="1548" y="1922"/>
                  </a:lnTo>
                  <a:lnTo>
                    <a:pt x="1576" y="2043"/>
                  </a:lnTo>
                  <a:lnTo>
                    <a:pt x="1602" y="2167"/>
                  </a:lnTo>
                  <a:lnTo>
                    <a:pt x="1625" y="2291"/>
                  </a:lnTo>
                  <a:lnTo>
                    <a:pt x="1646" y="2417"/>
                  </a:lnTo>
                  <a:lnTo>
                    <a:pt x="1664" y="2544"/>
                  </a:lnTo>
                  <a:lnTo>
                    <a:pt x="1682" y="2672"/>
                  </a:lnTo>
                  <a:lnTo>
                    <a:pt x="1698" y="2801"/>
                  </a:lnTo>
                  <a:lnTo>
                    <a:pt x="1712" y="2931"/>
                  </a:lnTo>
                  <a:lnTo>
                    <a:pt x="1727" y="3060"/>
                  </a:lnTo>
                  <a:lnTo>
                    <a:pt x="1740" y="3191"/>
                  </a:lnTo>
                  <a:lnTo>
                    <a:pt x="1768" y="3455"/>
                  </a:lnTo>
                  <a:lnTo>
                    <a:pt x="1798" y="3718"/>
                  </a:lnTo>
                  <a:lnTo>
                    <a:pt x="1814" y="3850"/>
                  </a:lnTo>
                  <a:lnTo>
                    <a:pt x="1831" y="3982"/>
                  </a:lnTo>
                  <a:lnTo>
                    <a:pt x="1851" y="4113"/>
                  </a:lnTo>
                  <a:lnTo>
                    <a:pt x="1873" y="4245"/>
                  </a:lnTo>
                  <a:lnTo>
                    <a:pt x="1852" y="33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74040" y="4006440"/>
              <a:ext cx="314640" cy="135000"/>
            </a:xfrm>
            <a:custGeom>
              <a:avLst/>
              <a:gdLst/>
              <a:ahLst/>
              <a:rect l="l" t="t" r="r" b="b"/>
              <a:pathLst>
                <a:path w="8446" h="3946">
                  <a:moveTo>
                    <a:pt x="8381" y="822"/>
                  </a:moveTo>
                  <a:lnTo>
                    <a:pt x="8394" y="833"/>
                  </a:lnTo>
                  <a:lnTo>
                    <a:pt x="8404" y="843"/>
                  </a:lnTo>
                  <a:lnTo>
                    <a:pt x="8415" y="854"/>
                  </a:lnTo>
                  <a:lnTo>
                    <a:pt x="8423" y="865"/>
                  </a:lnTo>
                  <a:lnTo>
                    <a:pt x="8430" y="877"/>
                  </a:lnTo>
                  <a:lnTo>
                    <a:pt x="8437" y="888"/>
                  </a:lnTo>
                  <a:lnTo>
                    <a:pt x="8441" y="901"/>
                  </a:lnTo>
                  <a:lnTo>
                    <a:pt x="8445" y="915"/>
                  </a:lnTo>
                  <a:lnTo>
                    <a:pt x="8446" y="928"/>
                  </a:lnTo>
                  <a:lnTo>
                    <a:pt x="8446" y="942"/>
                  </a:lnTo>
                  <a:lnTo>
                    <a:pt x="8444" y="956"/>
                  </a:lnTo>
                  <a:lnTo>
                    <a:pt x="8441" y="972"/>
                  </a:lnTo>
                  <a:lnTo>
                    <a:pt x="8434" y="988"/>
                  </a:lnTo>
                  <a:lnTo>
                    <a:pt x="8427" y="1004"/>
                  </a:lnTo>
                  <a:lnTo>
                    <a:pt x="8418" y="1021"/>
                  </a:lnTo>
                  <a:lnTo>
                    <a:pt x="8406" y="1039"/>
                  </a:lnTo>
                  <a:lnTo>
                    <a:pt x="8139" y="1479"/>
                  </a:lnTo>
                  <a:lnTo>
                    <a:pt x="7968" y="1459"/>
                  </a:lnTo>
                  <a:lnTo>
                    <a:pt x="8141" y="1110"/>
                  </a:lnTo>
                  <a:lnTo>
                    <a:pt x="8144" y="1105"/>
                  </a:lnTo>
                  <a:lnTo>
                    <a:pt x="8146" y="1098"/>
                  </a:lnTo>
                  <a:lnTo>
                    <a:pt x="8147" y="1088"/>
                  </a:lnTo>
                  <a:lnTo>
                    <a:pt x="8146" y="1078"/>
                  </a:lnTo>
                  <a:lnTo>
                    <a:pt x="8142" y="1068"/>
                  </a:lnTo>
                  <a:lnTo>
                    <a:pt x="8138" y="1059"/>
                  </a:lnTo>
                  <a:lnTo>
                    <a:pt x="8135" y="1055"/>
                  </a:lnTo>
                  <a:lnTo>
                    <a:pt x="8131" y="1051"/>
                  </a:lnTo>
                  <a:lnTo>
                    <a:pt x="8127" y="1047"/>
                  </a:lnTo>
                  <a:lnTo>
                    <a:pt x="8122" y="1044"/>
                  </a:lnTo>
                  <a:lnTo>
                    <a:pt x="7934" y="972"/>
                  </a:lnTo>
                  <a:lnTo>
                    <a:pt x="7745" y="917"/>
                  </a:lnTo>
                  <a:lnTo>
                    <a:pt x="7554" y="879"/>
                  </a:lnTo>
                  <a:lnTo>
                    <a:pt x="7363" y="857"/>
                  </a:lnTo>
                  <a:lnTo>
                    <a:pt x="7170" y="851"/>
                  </a:lnTo>
                  <a:lnTo>
                    <a:pt x="6978" y="859"/>
                  </a:lnTo>
                  <a:lnTo>
                    <a:pt x="6785" y="882"/>
                  </a:lnTo>
                  <a:lnTo>
                    <a:pt x="6593" y="918"/>
                  </a:lnTo>
                  <a:lnTo>
                    <a:pt x="6400" y="967"/>
                  </a:lnTo>
                  <a:lnTo>
                    <a:pt x="6209" y="1026"/>
                  </a:lnTo>
                  <a:lnTo>
                    <a:pt x="6018" y="1099"/>
                  </a:lnTo>
                  <a:lnTo>
                    <a:pt x="5830" y="1181"/>
                  </a:lnTo>
                  <a:lnTo>
                    <a:pt x="5643" y="1273"/>
                  </a:lnTo>
                  <a:lnTo>
                    <a:pt x="5457" y="1374"/>
                  </a:lnTo>
                  <a:lnTo>
                    <a:pt x="5275" y="1484"/>
                  </a:lnTo>
                  <a:lnTo>
                    <a:pt x="5095" y="1601"/>
                  </a:lnTo>
                  <a:lnTo>
                    <a:pt x="4919" y="1725"/>
                  </a:lnTo>
                  <a:lnTo>
                    <a:pt x="4745" y="1856"/>
                  </a:lnTo>
                  <a:lnTo>
                    <a:pt x="4575" y="1992"/>
                  </a:lnTo>
                  <a:lnTo>
                    <a:pt x="4410" y="2132"/>
                  </a:lnTo>
                  <a:lnTo>
                    <a:pt x="4248" y="2278"/>
                  </a:lnTo>
                  <a:lnTo>
                    <a:pt x="4092" y="2427"/>
                  </a:lnTo>
                  <a:lnTo>
                    <a:pt x="3940" y="2578"/>
                  </a:lnTo>
                  <a:lnTo>
                    <a:pt x="3794" y="2731"/>
                  </a:lnTo>
                  <a:lnTo>
                    <a:pt x="3652" y="2886"/>
                  </a:lnTo>
                  <a:lnTo>
                    <a:pt x="3518" y="3041"/>
                  </a:lnTo>
                  <a:lnTo>
                    <a:pt x="3389" y="3197"/>
                  </a:lnTo>
                  <a:lnTo>
                    <a:pt x="3267" y="3350"/>
                  </a:lnTo>
                  <a:lnTo>
                    <a:pt x="3151" y="3503"/>
                  </a:lnTo>
                  <a:lnTo>
                    <a:pt x="3044" y="3654"/>
                  </a:lnTo>
                  <a:lnTo>
                    <a:pt x="2943" y="3803"/>
                  </a:lnTo>
                  <a:lnTo>
                    <a:pt x="2851" y="3946"/>
                  </a:lnTo>
                  <a:lnTo>
                    <a:pt x="2633" y="3824"/>
                  </a:lnTo>
                  <a:lnTo>
                    <a:pt x="2544" y="3564"/>
                  </a:lnTo>
                  <a:lnTo>
                    <a:pt x="2455" y="3302"/>
                  </a:lnTo>
                  <a:lnTo>
                    <a:pt x="2410" y="3173"/>
                  </a:lnTo>
                  <a:lnTo>
                    <a:pt x="2365" y="3043"/>
                  </a:lnTo>
                  <a:lnTo>
                    <a:pt x="2319" y="2914"/>
                  </a:lnTo>
                  <a:lnTo>
                    <a:pt x="2272" y="2785"/>
                  </a:lnTo>
                  <a:lnTo>
                    <a:pt x="2224" y="2659"/>
                  </a:lnTo>
                  <a:lnTo>
                    <a:pt x="2175" y="2533"/>
                  </a:lnTo>
                  <a:lnTo>
                    <a:pt x="2125" y="2409"/>
                  </a:lnTo>
                  <a:lnTo>
                    <a:pt x="2072" y="2285"/>
                  </a:lnTo>
                  <a:lnTo>
                    <a:pt x="2018" y="2164"/>
                  </a:lnTo>
                  <a:lnTo>
                    <a:pt x="1963" y="2045"/>
                  </a:lnTo>
                  <a:lnTo>
                    <a:pt x="1904" y="1927"/>
                  </a:lnTo>
                  <a:lnTo>
                    <a:pt x="1843" y="1812"/>
                  </a:lnTo>
                  <a:lnTo>
                    <a:pt x="1779" y="1699"/>
                  </a:lnTo>
                  <a:lnTo>
                    <a:pt x="1714" y="1589"/>
                  </a:lnTo>
                  <a:lnTo>
                    <a:pt x="1644" y="1482"/>
                  </a:lnTo>
                  <a:lnTo>
                    <a:pt x="1572" y="1377"/>
                  </a:lnTo>
                  <a:lnTo>
                    <a:pt x="1496" y="1276"/>
                  </a:lnTo>
                  <a:lnTo>
                    <a:pt x="1416" y="1177"/>
                  </a:lnTo>
                  <a:lnTo>
                    <a:pt x="1334" y="1082"/>
                  </a:lnTo>
                  <a:lnTo>
                    <a:pt x="1247" y="990"/>
                  </a:lnTo>
                  <a:lnTo>
                    <a:pt x="1155" y="902"/>
                  </a:lnTo>
                  <a:lnTo>
                    <a:pt x="1060" y="817"/>
                  </a:lnTo>
                  <a:lnTo>
                    <a:pt x="959" y="738"/>
                  </a:lnTo>
                  <a:lnTo>
                    <a:pt x="854" y="661"/>
                  </a:lnTo>
                  <a:lnTo>
                    <a:pt x="745" y="589"/>
                  </a:lnTo>
                  <a:lnTo>
                    <a:pt x="631" y="522"/>
                  </a:lnTo>
                  <a:lnTo>
                    <a:pt x="510" y="459"/>
                  </a:lnTo>
                  <a:lnTo>
                    <a:pt x="385" y="402"/>
                  </a:lnTo>
                  <a:lnTo>
                    <a:pt x="371" y="397"/>
                  </a:lnTo>
                  <a:lnTo>
                    <a:pt x="360" y="394"/>
                  </a:lnTo>
                  <a:lnTo>
                    <a:pt x="354" y="394"/>
                  </a:lnTo>
                  <a:lnTo>
                    <a:pt x="350" y="394"/>
                  </a:lnTo>
                  <a:lnTo>
                    <a:pt x="347" y="396"/>
                  </a:lnTo>
                  <a:lnTo>
                    <a:pt x="344" y="397"/>
                  </a:lnTo>
                  <a:lnTo>
                    <a:pt x="339" y="400"/>
                  </a:lnTo>
                  <a:lnTo>
                    <a:pt x="334" y="404"/>
                  </a:lnTo>
                  <a:lnTo>
                    <a:pt x="331" y="409"/>
                  </a:lnTo>
                  <a:lnTo>
                    <a:pt x="328" y="413"/>
                  </a:lnTo>
                  <a:lnTo>
                    <a:pt x="146" y="797"/>
                  </a:lnTo>
                  <a:lnTo>
                    <a:pt x="0" y="601"/>
                  </a:lnTo>
                  <a:lnTo>
                    <a:pt x="146" y="186"/>
                  </a:lnTo>
                  <a:lnTo>
                    <a:pt x="154" y="158"/>
                  </a:lnTo>
                  <a:lnTo>
                    <a:pt x="165" y="132"/>
                  </a:lnTo>
                  <a:lnTo>
                    <a:pt x="170" y="119"/>
                  </a:lnTo>
                  <a:lnTo>
                    <a:pt x="176" y="108"/>
                  </a:lnTo>
                  <a:lnTo>
                    <a:pt x="183" y="97"/>
                  </a:lnTo>
                  <a:lnTo>
                    <a:pt x="189" y="86"/>
                  </a:lnTo>
                  <a:lnTo>
                    <a:pt x="195" y="76"/>
                  </a:lnTo>
                  <a:lnTo>
                    <a:pt x="203" y="67"/>
                  </a:lnTo>
                  <a:lnTo>
                    <a:pt x="210" y="59"/>
                  </a:lnTo>
                  <a:lnTo>
                    <a:pt x="218" y="50"/>
                  </a:lnTo>
                  <a:lnTo>
                    <a:pt x="226" y="43"/>
                  </a:lnTo>
                  <a:lnTo>
                    <a:pt x="234" y="37"/>
                  </a:lnTo>
                  <a:lnTo>
                    <a:pt x="243" y="30"/>
                  </a:lnTo>
                  <a:lnTo>
                    <a:pt x="252" y="24"/>
                  </a:lnTo>
                  <a:lnTo>
                    <a:pt x="261" y="19"/>
                  </a:lnTo>
                  <a:lnTo>
                    <a:pt x="271" y="15"/>
                  </a:lnTo>
                  <a:lnTo>
                    <a:pt x="281" y="10"/>
                  </a:lnTo>
                  <a:lnTo>
                    <a:pt x="292" y="7"/>
                  </a:lnTo>
                  <a:lnTo>
                    <a:pt x="302" y="5"/>
                  </a:lnTo>
                  <a:lnTo>
                    <a:pt x="312" y="3"/>
                  </a:lnTo>
                  <a:lnTo>
                    <a:pt x="324" y="1"/>
                  </a:lnTo>
                  <a:lnTo>
                    <a:pt x="335" y="1"/>
                  </a:lnTo>
                  <a:lnTo>
                    <a:pt x="347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5" y="3"/>
                  </a:lnTo>
                  <a:lnTo>
                    <a:pt x="411" y="8"/>
                  </a:lnTo>
                  <a:lnTo>
                    <a:pt x="439" y="16"/>
                  </a:lnTo>
                  <a:lnTo>
                    <a:pt x="550" y="73"/>
                  </a:lnTo>
                  <a:lnTo>
                    <a:pt x="659" y="138"/>
                  </a:lnTo>
                  <a:lnTo>
                    <a:pt x="766" y="208"/>
                  </a:lnTo>
                  <a:lnTo>
                    <a:pt x="870" y="284"/>
                  </a:lnTo>
                  <a:lnTo>
                    <a:pt x="972" y="365"/>
                  </a:lnTo>
                  <a:lnTo>
                    <a:pt x="1071" y="451"/>
                  </a:lnTo>
                  <a:lnTo>
                    <a:pt x="1168" y="542"/>
                  </a:lnTo>
                  <a:lnTo>
                    <a:pt x="1264" y="637"/>
                  </a:lnTo>
                  <a:lnTo>
                    <a:pt x="1356" y="737"/>
                  </a:lnTo>
                  <a:lnTo>
                    <a:pt x="1445" y="840"/>
                  </a:lnTo>
                  <a:lnTo>
                    <a:pt x="1533" y="947"/>
                  </a:lnTo>
                  <a:lnTo>
                    <a:pt x="1617" y="1057"/>
                  </a:lnTo>
                  <a:lnTo>
                    <a:pt x="1700" y="1170"/>
                  </a:lnTo>
                  <a:lnTo>
                    <a:pt x="1781" y="1285"/>
                  </a:lnTo>
                  <a:lnTo>
                    <a:pt x="1858" y="1403"/>
                  </a:lnTo>
                  <a:lnTo>
                    <a:pt x="1933" y="1522"/>
                  </a:lnTo>
                  <a:lnTo>
                    <a:pt x="2007" y="1645"/>
                  </a:lnTo>
                  <a:lnTo>
                    <a:pt x="2077" y="1768"/>
                  </a:lnTo>
                  <a:lnTo>
                    <a:pt x="2145" y="1892"/>
                  </a:lnTo>
                  <a:lnTo>
                    <a:pt x="2211" y="2017"/>
                  </a:lnTo>
                  <a:lnTo>
                    <a:pt x="2273" y="2143"/>
                  </a:lnTo>
                  <a:lnTo>
                    <a:pt x="2334" y="2270"/>
                  </a:lnTo>
                  <a:lnTo>
                    <a:pt x="2393" y="2395"/>
                  </a:lnTo>
                  <a:lnTo>
                    <a:pt x="2448" y="2522"/>
                  </a:lnTo>
                  <a:lnTo>
                    <a:pt x="2501" y="2646"/>
                  </a:lnTo>
                  <a:lnTo>
                    <a:pt x="2552" y="2771"/>
                  </a:lnTo>
                  <a:lnTo>
                    <a:pt x="2601" y="2894"/>
                  </a:lnTo>
                  <a:lnTo>
                    <a:pt x="2647" y="3016"/>
                  </a:lnTo>
                  <a:lnTo>
                    <a:pt x="2690" y="3136"/>
                  </a:lnTo>
                  <a:lnTo>
                    <a:pt x="2731" y="3253"/>
                  </a:lnTo>
                  <a:lnTo>
                    <a:pt x="2769" y="3369"/>
                  </a:lnTo>
                  <a:lnTo>
                    <a:pt x="2805" y="3482"/>
                  </a:lnTo>
                  <a:lnTo>
                    <a:pt x="3005" y="3244"/>
                  </a:lnTo>
                  <a:lnTo>
                    <a:pt x="3226" y="2979"/>
                  </a:lnTo>
                  <a:lnTo>
                    <a:pt x="3345" y="2840"/>
                  </a:lnTo>
                  <a:lnTo>
                    <a:pt x="3469" y="2695"/>
                  </a:lnTo>
                  <a:lnTo>
                    <a:pt x="3598" y="2550"/>
                  </a:lnTo>
                  <a:lnTo>
                    <a:pt x="3733" y="2401"/>
                  </a:lnTo>
                  <a:lnTo>
                    <a:pt x="3873" y="2253"/>
                  </a:lnTo>
                  <a:lnTo>
                    <a:pt x="4018" y="2105"/>
                  </a:lnTo>
                  <a:lnTo>
                    <a:pt x="4168" y="1958"/>
                  </a:lnTo>
                  <a:lnTo>
                    <a:pt x="4323" y="1812"/>
                  </a:lnTo>
                  <a:lnTo>
                    <a:pt x="4483" y="1670"/>
                  </a:lnTo>
                  <a:lnTo>
                    <a:pt x="4648" y="1532"/>
                  </a:lnTo>
                  <a:lnTo>
                    <a:pt x="4817" y="1398"/>
                  </a:lnTo>
                  <a:lnTo>
                    <a:pt x="4992" y="1271"/>
                  </a:lnTo>
                  <a:lnTo>
                    <a:pt x="5171" y="1150"/>
                  </a:lnTo>
                  <a:lnTo>
                    <a:pt x="5355" y="1038"/>
                  </a:lnTo>
                  <a:lnTo>
                    <a:pt x="5543" y="934"/>
                  </a:lnTo>
                  <a:lnTo>
                    <a:pt x="5736" y="840"/>
                  </a:lnTo>
                  <a:lnTo>
                    <a:pt x="5934" y="757"/>
                  </a:lnTo>
                  <a:lnTo>
                    <a:pt x="6134" y="685"/>
                  </a:lnTo>
                  <a:lnTo>
                    <a:pt x="6341" y="626"/>
                  </a:lnTo>
                  <a:lnTo>
                    <a:pt x="6551" y="581"/>
                  </a:lnTo>
                  <a:lnTo>
                    <a:pt x="6765" y="549"/>
                  </a:lnTo>
                  <a:lnTo>
                    <a:pt x="6984" y="535"/>
                  </a:lnTo>
                  <a:lnTo>
                    <a:pt x="7207" y="536"/>
                  </a:lnTo>
                  <a:lnTo>
                    <a:pt x="7434" y="555"/>
                  </a:lnTo>
                  <a:lnTo>
                    <a:pt x="7665" y="591"/>
                  </a:lnTo>
                  <a:lnTo>
                    <a:pt x="7900" y="648"/>
                  </a:lnTo>
                  <a:lnTo>
                    <a:pt x="8138" y="724"/>
                  </a:lnTo>
                  <a:lnTo>
                    <a:pt x="8381" y="8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16600" y="4052880"/>
              <a:ext cx="185040" cy="55440"/>
            </a:xfrm>
            <a:custGeom>
              <a:avLst/>
              <a:gdLst/>
              <a:ahLst/>
              <a:rect l="l" t="t" r="r" b="b"/>
              <a:pathLst>
                <a:path w="4965" h="1648">
                  <a:moveTo>
                    <a:pt x="0" y="1648"/>
                  </a:moveTo>
                  <a:lnTo>
                    <a:pt x="146" y="1505"/>
                  </a:lnTo>
                  <a:lnTo>
                    <a:pt x="289" y="1370"/>
                  </a:lnTo>
                  <a:lnTo>
                    <a:pt x="429" y="1243"/>
                  </a:lnTo>
                  <a:lnTo>
                    <a:pt x="567" y="1121"/>
                  </a:lnTo>
                  <a:lnTo>
                    <a:pt x="703" y="1007"/>
                  </a:lnTo>
                  <a:lnTo>
                    <a:pt x="836" y="898"/>
                  </a:lnTo>
                  <a:lnTo>
                    <a:pt x="969" y="798"/>
                  </a:lnTo>
                  <a:lnTo>
                    <a:pt x="1100" y="703"/>
                  </a:lnTo>
                  <a:lnTo>
                    <a:pt x="1230" y="614"/>
                  </a:lnTo>
                  <a:lnTo>
                    <a:pt x="1359" y="532"/>
                  </a:lnTo>
                  <a:lnTo>
                    <a:pt x="1488" y="456"/>
                  </a:lnTo>
                  <a:lnTo>
                    <a:pt x="1618" y="387"/>
                  </a:lnTo>
                  <a:lnTo>
                    <a:pt x="1747" y="323"/>
                  </a:lnTo>
                  <a:lnTo>
                    <a:pt x="1877" y="265"/>
                  </a:lnTo>
                  <a:lnTo>
                    <a:pt x="2008" y="213"/>
                  </a:lnTo>
                  <a:lnTo>
                    <a:pt x="2141" y="167"/>
                  </a:lnTo>
                  <a:lnTo>
                    <a:pt x="2275" y="127"/>
                  </a:lnTo>
                  <a:lnTo>
                    <a:pt x="2411" y="93"/>
                  </a:lnTo>
                  <a:lnTo>
                    <a:pt x="2550" y="63"/>
                  </a:lnTo>
                  <a:lnTo>
                    <a:pt x="2691" y="40"/>
                  </a:lnTo>
                  <a:lnTo>
                    <a:pt x="2835" y="22"/>
                  </a:lnTo>
                  <a:lnTo>
                    <a:pt x="2982" y="9"/>
                  </a:lnTo>
                  <a:lnTo>
                    <a:pt x="3133" y="2"/>
                  </a:lnTo>
                  <a:lnTo>
                    <a:pt x="3288" y="0"/>
                  </a:lnTo>
                  <a:lnTo>
                    <a:pt x="3446" y="3"/>
                  </a:lnTo>
                  <a:lnTo>
                    <a:pt x="3610" y="10"/>
                  </a:lnTo>
                  <a:lnTo>
                    <a:pt x="3778" y="24"/>
                  </a:lnTo>
                  <a:lnTo>
                    <a:pt x="3951" y="41"/>
                  </a:lnTo>
                  <a:lnTo>
                    <a:pt x="4130" y="63"/>
                  </a:lnTo>
                  <a:lnTo>
                    <a:pt x="4314" y="91"/>
                  </a:lnTo>
                  <a:lnTo>
                    <a:pt x="4506" y="122"/>
                  </a:lnTo>
                  <a:lnTo>
                    <a:pt x="4703" y="159"/>
                  </a:lnTo>
                  <a:lnTo>
                    <a:pt x="4743" y="171"/>
                  </a:lnTo>
                  <a:lnTo>
                    <a:pt x="4781" y="184"/>
                  </a:lnTo>
                  <a:lnTo>
                    <a:pt x="4815" y="197"/>
                  </a:lnTo>
                  <a:lnTo>
                    <a:pt x="4846" y="211"/>
                  </a:lnTo>
                  <a:lnTo>
                    <a:pt x="4860" y="218"/>
                  </a:lnTo>
                  <a:lnTo>
                    <a:pt x="4873" y="227"/>
                  </a:lnTo>
                  <a:lnTo>
                    <a:pt x="4886" y="234"/>
                  </a:lnTo>
                  <a:lnTo>
                    <a:pt x="4897" y="242"/>
                  </a:lnTo>
                  <a:lnTo>
                    <a:pt x="4908" y="251"/>
                  </a:lnTo>
                  <a:lnTo>
                    <a:pt x="4918" y="259"/>
                  </a:lnTo>
                  <a:lnTo>
                    <a:pt x="4926" y="268"/>
                  </a:lnTo>
                  <a:lnTo>
                    <a:pt x="4935" y="278"/>
                  </a:lnTo>
                  <a:lnTo>
                    <a:pt x="4941" y="287"/>
                  </a:lnTo>
                  <a:lnTo>
                    <a:pt x="4947" y="297"/>
                  </a:lnTo>
                  <a:lnTo>
                    <a:pt x="4953" y="307"/>
                  </a:lnTo>
                  <a:lnTo>
                    <a:pt x="4958" y="317"/>
                  </a:lnTo>
                  <a:lnTo>
                    <a:pt x="4961" y="328"/>
                  </a:lnTo>
                  <a:lnTo>
                    <a:pt x="4963" y="339"/>
                  </a:lnTo>
                  <a:lnTo>
                    <a:pt x="4965" y="350"/>
                  </a:lnTo>
                  <a:lnTo>
                    <a:pt x="4965" y="362"/>
                  </a:lnTo>
                  <a:lnTo>
                    <a:pt x="4965" y="373"/>
                  </a:lnTo>
                  <a:lnTo>
                    <a:pt x="4964" y="386"/>
                  </a:lnTo>
                  <a:lnTo>
                    <a:pt x="4962" y="398"/>
                  </a:lnTo>
                  <a:lnTo>
                    <a:pt x="4959" y="411"/>
                  </a:lnTo>
                  <a:lnTo>
                    <a:pt x="4954" y="424"/>
                  </a:lnTo>
                  <a:lnTo>
                    <a:pt x="4948" y="438"/>
                  </a:lnTo>
                  <a:lnTo>
                    <a:pt x="4943" y="452"/>
                  </a:lnTo>
                  <a:lnTo>
                    <a:pt x="4936" y="466"/>
                  </a:lnTo>
                  <a:lnTo>
                    <a:pt x="4365" y="1455"/>
                  </a:lnTo>
                  <a:lnTo>
                    <a:pt x="4186" y="1370"/>
                  </a:lnTo>
                  <a:lnTo>
                    <a:pt x="4520" y="546"/>
                  </a:lnTo>
                  <a:lnTo>
                    <a:pt x="4526" y="535"/>
                  </a:lnTo>
                  <a:lnTo>
                    <a:pt x="4528" y="525"/>
                  </a:lnTo>
                  <a:lnTo>
                    <a:pt x="4529" y="514"/>
                  </a:lnTo>
                  <a:lnTo>
                    <a:pt x="4528" y="504"/>
                  </a:lnTo>
                  <a:lnTo>
                    <a:pt x="4525" y="495"/>
                  </a:lnTo>
                  <a:lnTo>
                    <a:pt x="4520" y="485"/>
                  </a:lnTo>
                  <a:lnTo>
                    <a:pt x="4515" y="476"/>
                  </a:lnTo>
                  <a:lnTo>
                    <a:pt x="4509" y="467"/>
                  </a:lnTo>
                  <a:lnTo>
                    <a:pt x="4501" y="459"/>
                  </a:lnTo>
                  <a:lnTo>
                    <a:pt x="4491" y="451"/>
                  </a:lnTo>
                  <a:lnTo>
                    <a:pt x="4481" y="444"/>
                  </a:lnTo>
                  <a:lnTo>
                    <a:pt x="4469" y="437"/>
                  </a:lnTo>
                  <a:lnTo>
                    <a:pt x="4458" y="432"/>
                  </a:lnTo>
                  <a:lnTo>
                    <a:pt x="4444" y="426"/>
                  </a:lnTo>
                  <a:lnTo>
                    <a:pt x="4430" y="421"/>
                  </a:lnTo>
                  <a:lnTo>
                    <a:pt x="4417" y="418"/>
                  </a:lnTo>
                  <a:lnTo>
                    <a:pt x="4234" y="379"/>
                  </a:lnTo>
                  <a:lnTo>
                    <a:pt x="4058" y="347"/>
                  </a:lnTo>
                  <a:lnTo>
                    <a:pt x="3887" y="321"/>
                  </a:lnTo>
                  <a:lnTo>
                    <a:pt x="3722" y="301"/>
                  </a:lnTo>
                  <a:lnTo>
                    <a:pt x="3562" y="286"/>
                  </a:lnTo>
                  <a:lnTo>
                    <a:pt x="3406" y="278"/>
                  </a:lnTo>
                  <a:lnTo>
                    <a:pt x="3255" y="275"/>
                  </a:lnTo>
                  <a:lnTo>
                    <a:pt x="3110" y="277"/>
                  </a:lnTo>
                  <a:lnTo>
                    <a:pt x="2967" y="284"/>
                  </a:lnTo>
                  <a:lnTo>
                    <a:pt x="2827" y="297"/>
                  </a:lnTo>
                  <a:lnTo>
                    <a:pt x="2691" y="315"/>
                  </a:lnTo>
                  <a:lnTo>
                    <a:pt x="2559" y="338"/>
                  </a:lnTo>
                  <a:lnTo>
                    <a:pt x="2428" y="365"/>
                  </a:lnTo>
                  <a:lnTo>
                    <a:pt x="2300" y="397"/>
                  </a:lnTo>
                  <a:lnTo>
                    <a:pt x="2173" y="434"/>
                  </a:lnTo>
                  <a:lnTo>
                    <a:pt x="2048" y="475"/>
                  </a:lnTo>
                  <a:lnTo>
                    <a:pt x="1924" y="521"/>
                  </a:lnTo>
                  <a:lnTo>
                    <a:pt x="1802" y="571"/>
                  </a:lnTo>
                  <a:lnTo>
                    <a:pt x="1680" y="624"/>
                  </a:lnTo>
                  <a:lnTo>
                    <a:pt x="1558" y="683"/>
                  </a:lnTo>
                  <a:lnTo>
                    <a:pt x="1436" y="745"/>
                  </a:lnTo>
                  <a:lnTo>
                    <a:pt x="1313" y="811"/>
                  </a:lnTo>
                  <a:lnTo>
                    <a:pt x="1191" y="880"/>
                  </a:lnTo>
                  <a:lnTo>
                    <a:pt x="1067" y="952"/>
                  </a:lnTo>
                  <a:lnTo>
                    <a:pt x="942" y="1028"/>
                  </a:lnTo>
                  <a:lnTo>
                    <a:pt x="814" y="1108"/>
                  </a:lnTo>
                  <a:lnTo>
                    <a:pt x="686" y="1190"/>
                  </a:lnTo>
                  <a:lnTo>
                    <a:pt x="555" y="1276"/>
                  </a:lnTo>
                  <a:lnTo>
                    <a:pt x="284" y="1456"/>
                  </a:lnTo>
                  <a:lnTo>
                    <a:pt x="0" y="16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423280" y="4017600"/>
              <a:ext cx="97560" cy="55440"/>
            </a:xfrm>
            <a:custGeom>
              <a:avLst/>
              <a:gdLst/>
              <a:ahLst/>
              <a:rect l="l" t="t" r="r" b="b"/>
              <a:pathLst>
                <a:path w="2609" h="1631">
                  <a:moveTo>
                    <a:pt x="2609" y="1631"/>
                  </a:moveTo>
                  <a:lnTo>
                    <a:pt x="2515" y="1463"/>
                  </a:lnTo>
                  <a:lnTo>
                    <a:pt x="2427" y="1305"/>
                  </a:lnTo>
                  <a:lnTo>
                    <a:pt x="2383" y="1229"/>
                  </a:lnTo>
                  <a:lnTo>
                    <a:pt x="2341" y="1156"/>
                  </a:lnTo>
                  <a:lnTo>
                    <a:pt x="2299" y="1086"/>
                  </a:lnTo>
                  <a:lnTo>
                    <a:pt x="2258" y="1018"/>
                  </a:lnTo>
                  <a:lnTo>
                    <a:pt x="2217" y="952"/>
                  </a:lnTo>
                  <a:lnTo>
                    <a:pt x="2177" y="888"/>
                  </a:lnTo>
                  <a:lnTo>
                    <a:pt x="2135" y="826"/>
                  </a:lnTo>
                  <a:lnTo>
                    <a:pt x="2094" y="767"/>
                  </a:lnTo>
                  <a:lnTo>
                    <a:pt x="2052" y="710"/>
                  </a:lnTo>
                  <a:lnTo>
                    <a:pt x="2009" y="656"/>
                  </a:lnTo>
                  <a:lnTo>
                    <a:pt x="1966" y="603"/>
                  </a:lnTo>
                  <a:lnTo>
                    <a:pt x="1921" y="552"/>
                  </a:lnTo>
                  <a:lnTo>
                    <a:pt x="1876" y="504"/>
                  </a:lnTo>
                  <a:lnTo>
                    <a:pt x="1829" y="457"/>
                  </a:lnTo>
                  <a:lnTo>
                    <a:pt x="1780" y="413"/>
                  </a:lnTo>
                  <a:lnTo>
                    <a:pt x="1730" y="370"/>
                  </a:lnTo>
                  <a:lnTo>
                    <a:pt x="1678" y="330"/>
                  </a:lnTo>
                  <a:lnTo>
                    <a:pt x="1624" y="292"/>
                  </a:lnTo>
                  <a:lnTo>
                    <a:pt x="1568" y="255"/>
                  </a:lnTo>
                  <a:lnTo>
                    <a:pt x="1508" y="221"/>
                  </a:lnTo>
                  <a:lnTo>
                    <a:pt x="1446" y="188"/>
                  </a:lnTo>
                  <a:lnTo>
                    <a:pt x="1382" y="158"/>
                  </a:lnTo>
                  <a:lnTo>
                    <a:pt x="1314" y="129"/>
                  </a:lnTo>
                  <a:lnTo>
                    <a:pt x="1244" y="101"/>
                  </a:lnTo>
                  <a:lnTo>
                    <a:pt x="1170" y="76"/>
                  </a:lnTo>
                  <a:lnTo>
                    <a:pt x="1093" y="53"/>
                  </a:lnTo>
                  <a:lnTo>
                    <a:pt x="1012" y="31"/>
                  </a:lnTo>
                  <a:lnTo>
                    <a:pt x="927" y="10"/>
                  </a:lnTo>
                  <a:lnTo>
                    <a:pt x="910" y="7"/>
                  </a:lnTo>
                  <a:lnTo>
                    <a:pt x="893" y="5"/>
                  </a:lnTo>
                  <a:lnTo>
                    <a:pt x="876" y="3"/>
                  </a:lnTo>
                  <a:lnTo>
                    <a:pt x="859" y="2"/>
                  </a:lnTo>
                  <a:lnTo>
                    <a:pt x="825" y="0"/>
                  </a:lnTo>
                  <a:lnTo>
                    <a:pt x="792" y="1"/>
                  </a:lnTo>
                  <a:lnTo>
                    <a:pt x="760" y="4"/>
                  </a:lnTo>
                  <a:lnTo>
                    <a:pt x="727" y="8"/>
                  </a:lnTo>
                  <a:lnTo>
                    <a:pt x="696" y="15"/>
                  </a:lnTo>
                  <a:lnTo>
                    <a:pt x="667" y="24"/>
                  </a:lnTo>
                  <a:lnTo>
                    <a:pt x="637" y="33"/>
                  </a:lnTo>
                  <a:lnTo>
                    <a:pt x="610" y="45"/>
                  </a:lnTo>
                  <a:lnTo>
                    <a:pt x="585" y="58"/>
                  </a:lnTo>
                  <a:lnTo>
                    <a:pt x="561" y="72"/>
                  </a:lnTo>
                  <a:lnTo>
                    <a:pt x="550" y="80"/>
                  </a:lnTo>
                  <a:lnTo>
                    <a:pt x="539" y="88"/>
                  </a:lnTo>
                  <a:lnTo>
                    <a:pt x="529" y="96"/>
                  </a:lnTo>
                  <a:lnTo>
                    <a:pt x="518" y="105"/>
                  </a:lnTo>
                  <a:lnTo>
                    <a:pt x="509" y="114"/>
                  </a:lnTo>
                  <a:lnTo>
                    <a:pt x="500" y="123"/>
                  </a:lnTo>
                  <a:lnTo>
                    <a:pt x="492" y="133"/>
                  </a:lnTo>
                  <a:lnTo>
                    <a:pt x="485" y="142"/>
                  </a:lnTo>
                  <a:lnTo>
                    <a:pt x="0" y="778"/>
                  </a:lnTo>
                  <a:lnTo>
                    <a:pt x="268" y="848"/>
                  </a:lnTo>
                  <a:lnTo>
                    <a:pt x="415" y="582"/>
                  </a:lnTo>
                  <a:lnTo>
                    <a:pt x="420" y="572"/>
                  </a:lnTo>
                  <a:lnTo>
                    <a:pt x="429" y="565"/>
                  </a:lnTo>
                  <a:lnTo>
                    <a:pt x="440" y="560"/>
                  </a:lnTo>
                  <a:lnTo>
                    <a:pt x="452" y="555"/>
                  </a:lnTo>
                  <a:lnTo>
                    <a:pt x="467" y="553"/>
                  </a:lnTo>
                  <a:lnTo>
                    <a:pt x="484" y="552"/>
                  </a:lnTo>
                  <a:lnTo>
                    <a:pt x="502" y="553"/>
                  </a:lnTo>
                  <a:lnTo>
                    <a:pt x="522" y="555"/>
                  </a:lnTo>
                  <a:lnTo>
                    <a:pt x="543" y="560"/>
                  </a:lnTo>
                  <a:lnTo>
                    <a:pt x="566" y="565"/>
                  </a:lnTo>
                  <a:lnTo>
                    <a:pt x="589" y="571"/>
                  </a:lnTo>
                  <a:lnTo>
                    <a:pt x="614" y="578"/>
                  </a:lnTo>
                  <a:lnTo>
                    <a:pt x="641" y="587"/>
                  </a:lnTo>
                  <a:lnTo>
                    <a:pt x="668" y="597"/>
                  </a:lnTo>
                  <a:lnTo>
                    <a:pt x="695" y="608"/>
                  </a:lnTo>
                  <a:lnTo>
                    <a:pt x="723" y="619"/>
                  </a:lnTo>
                  <a:lnTo>
                    <a:pt x="753" y="633"/>
                  </a:lnTo>
                  <a:lnTo>
                    <a:pt x="782" y="646"/>
                  </a:lnTo>
                  <a:lnTo>
                    <a:pt x="811" y="661"/>
                  </a:lnTo>
                  <a:lnTo>
                    <a:pt x="840" y="676"/>
                  </a:lnTo>
                  <a:lnTo>
                    <a:pt x="871" y="692"/>
                  </a:lnTo>
                  <a:lnTo>
                    <a:pt x="900" y="709"/>
                  </a:lnTo>
                  <a:lnTo>
                    <a:pt x="929" y="726"/>
                  </a:lnTo>
                  <a:lnTo>
                    <a:pt x="959" y="744"/>
                  </a:lnTo>
                  <a:lnTo>
                    <a:pt x="987" y="763"/>
                  </a:lnTo>
                  <a:lnTo>
                    <a:pt x="1015" y="781"/>
                  </a:lnTo>
                  <a:lnTo>
                    <a:pt x="1042" y="800"/>
                  </a:lnTo>
                  <a:lnTo>
                    <a:pt x="1070" y="819"/>
                  </a:lnTo>
                  <a:lnTo>
                    <a:pt x="1096" y="839"/>
                  </a:lnTo>
                  <a:lnTo>
                    <a:pt x="1120" y="859"/>
                  </a:lnTo>
                  <a:lnTo>
                    <a:pt x="1144" y="879"/>
                  </a:lnTo>
                  <a:lnTo>
                    <a:pt x="1166" y="899"/>
                  </a:lnTo>
                  <a:lnTo>
                    <a:pt x="1149" y="867"/>
                  </a:lnTo>
                  <a:lnTo>
                    <a:pt x="1132" y="836"/>
                  </a:lnTo>
                  <a:lnTo>
                    <a:pt x="1114" y="804"/>
                  </a:lnTo>
                  <a:lnTo>
                    <a:pt x="1093" y="774"/>
                  </a:lnTo>
                  <a:lnTo>
                    <a:pt x="1071" y="744"/>
                  </a:lnTo>
                  <a:lnTo>
                    <a:pt x="1048" y="714"/>
                  </a:lnTo>
                  <a:lnTo>
                    <a:pt x="1023" y="685"/>
                  </a:lnTo>
                  <a:lnTo>
                    <a:pt x="995" y="657"/>
                  </a:lnTo>
                  <a:lnTo>
                    <a:pt x="967" y="630"/>
                  </a:lnTo>
                  <a:lnTo>
                    <a:pt x="936" y="604"/>
                  </a:lnTo>
                  <a:lnTo>
                    <a:pt x="903" y="577"/>
                  </a:lnTo>
                  <a:lnTo>
                    <a:pt x="869" y="552"/>
                  </a:lnTo>
                  <a:lnTo>
                    <a:pt x="832" y="528"/>
                  </a:lnTo>
                  <a:lnTo>
                    <a:pt x="792" y="504"/>
                  </a:lnTo>
                  <a:lnTo>
                    <a:pt x="750" y="482"/>
                  </a:lnTo>
                  <a:lnTo>
                    <a:pt x="707" y="460"/>
                  </a:lnTo>
                  <a:lnTo>
                    <a:pt x="699" y="451"/>
                  </a:lnTo>
                  <a:lnTo>
                    <a:pt x="692" y="441"/>
                  </a:lnTo>
                  <a:lnTo>
                    <a:pt x="687" y="431"/>
                  </a:lnTo>
                  <a:lnTo>
                    <a:pt x="681" y="420"/>
                  </a:lnTo>
                  <a:lnTo>
                    <a:pt x="677" y="410"/>
                  </a:lnTo>
                  <a:lnTo>
                    <a:pt x="675" y="398"/>
                  </a:lnTo>
                  <a:lnTo>
                    <a:pt x="673" y="388"/>
                  </a:lnTo>
                  <a:lnTo>
                    <a:pt x="672" y="376"/>
                  </a:lnTo>
                  <a:lnTo>
                    <a:pt x="672" y="365"/>
                  </a:lnTo>
                  <a:lnTo>
                    <a:pt x="674" y="355"/>
                  </a:lnTo>
                  <a:lnTo>
                    <a:pt x="676" y="344"/>
                  </a:lnTo>
                  <a:lnTo>
                    <a:pt x="679" y="334"/>
                  </a:lnTo>
                  <a:lnTo>
                    <a:pt x="685" y="323"/>
                  </a:lnTo>
                  <a:lnTo>
                    <a:pt x="690" y="314"/>
                  </a:lnTo>
                  <a:lnTo>
                    <a:pt x="697" y="304"/>
                  </a:lnTo>
                  <a:lnTo>
                    <a:pt x="705" y="295"/>
                  </a:lnTo>
                  <a:lnTo>
                    <a:pt x="715" y="288"/>
                  </a:lnTo>
                  <a:lnTo>
                    <a:pt x="725" y="279"/>
                  </a:lnTo>
                  <a:lnTo>
                    <a:pt x="737" y="273"/>
                  </a:lnTo>
                  <a:lnTo>
                    <a:pt x="749" y="267"/>
                  </a:lnTo>
                  <a:lnTo>
                    <a:pt x="764" y="262"/>
                  </a:lnTo>
                  <a:lnTo>
                    <a:pt x="780" y="258"/>
                  </a:lnTo>
                  <a:lnTo>
                    <a:pt x="797" y="255"/>
                  </a:lnTo>
                  <a:lnTo>
                    <a:pt x="814" y="253"/>
                  </a:lnTo>
                  <a:lnTo>
                    <a:pt x="834" y="253"/>
                  </a:lnTo>
                  <a:lnTo>
                    <a:pt x="855" y="254"/>
                  </a:lnTo>
                  <a:lnTo>
                    <a:pt x="877" y="255"/>
                  </a:lnTo>
                  <a:lnTo>
                    <a:pt x="900" y="259"/>
                  </a:lnTo>
                  <a:lnTo>
                    <a:pt x="925" y="265"/>
                  </a:lnTo>
                  <a:lnTo>
                    <a:pt x="951" y="271"/>
                  </a:lnTo>
                  <a:lnTo>
                    <a:pt x="979" y="279"/>
                  </a:lnTo>
                  <a:lnTo>
                    <a:pt x="1008" y="289"/>
                  </a:lnTo>
                  <a:lnTo>
                    <a:pt x="1093" y="324"/>
                  </a:lnTo>
                  <a:lnTo>
                    <a:pt x="1173" y="360"/>
                  </a:lnTo>
                  <a:lnTo>
                    <a:pt x="1250" y="395"/>
                  </a:lnTo>
                  <a:lnTo>
                    <a:pt x="1324" y="432"/>
                  </a:lnTo>
                  <a:lnTo>
                    <a:pt x="1394" y="470"/>
                  </a:lnTo>
                  <a:lnTo>
                    <a:pt x="1462" y="507"/>
                  </a:lnTo>
                  <a:lnTo>
                    <a:pt x="1527" y="545"/>
                  </a:lnTo>
                  <a:lnTo>
                    <a:pt x="1589" y="584"/>
                  </a:lnTo>
                  <a:lnTo>
                    <a:pt x="1648" y="622"/>
                  </a:lnTo>
                  <a:lnTo>
                    <a:pt x="1705" y="662"/>
                  </a:lnTo>
                  <a:lnTo>
                    <a:pt x="1759" y="702"/>
                  </a:lnTo>
                  <a:lnTo>
                    <a:pt x="1811" y="743"/>
                  </a:lnTo>
                  <a:lnTo>
                    <a:pt x="1862" y="784"/>
                  </a:lnTo>
                  <a:lnTo>
                    <a:pt x="1910" y="824"/>
                  </a:lnTo>
                  <a:lnTo>
                    <a:pt x="1957" y="865"/>
                  </a:lnTo>
                  <a:lnTo>
                    <a:pt x="2002" y="907"/>
                  </a:lnTo>
                  <a:lnTo>
                    <a:pt x="2045" y="950"/>
                  </a:lnTo>
                  <a:lnTo>
                    <a:pt x="2087" y="993"/>
                  </a:lnTo>
                  <a:lnTo>
                    <a:pt x="2127" y="1036"/>
                  </a:lnTo>
                  <a:lnTo>
                    <a:pt x="2167" y="1080"/>
                  </a:lnTo>
                  <a:lnTo>
                    <a:pt x="2206" y="1124"/>
                  </a:lnTo>
                  <a:lnTo>
                    <a:pt x="2244" y="1168"/>
                  </a:lnTo>
                  <a:lnTo>
                    <a:pt x="2281" y="1213"/>
                  </a:lnTo>
                  <a:lnTo>
                    <a:pt x="2318" y="1258"/>
                  </a:lnTo>
                  <a:lnTo>
                    <a:pt x="2390" y="1349"/>
                  </a:lnTo>
                  <a:lnTo>
                    <a:pt x="2462" y="1442"/>
                  </a:lnTo>
                  <a:lnTo>
                    <a:pt x="2535" y="1536"/>
                  </a:lnTo>
                  <a:lnTo>
                    <a:pt x="2609" y="163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91960" y="4037760"/>
              <a:ext cx="156240" cy="265680"/>
            </a:xfrm>
            <a:custGeom>
              <a:avLst/>
              <a:gdLst/>
              <a:ahLst/>
              <a:rect l="l" t="t" r="r" b="b"/>
              <a:pathLst>
                <a:path w="4202" h="7797">
                  <a:moveTo>
                    <a:pt x="3734" y="2147"/>
                  </a:moveTo>
                  <a:lnTo>
                    <a:pt x="3656" y="2056"/>
                  </a:lnTo>
                  <a:lnTo>
                    <a:pt x="3576" y="1965"/>
                  </a:lnTo>
                  <a:lnTo>
                    <a:pt x="3496" y="1876"/>
                  </a:lnTo>
                  <a:lnTo>
                    <a:pt x="3414" y="1790"/>
                  </a:lnTo>
                  <a:lnTo>
                    <a:pt x="3332" y="1704"/>
                  </a:lnTo>
                  <a:lnTo>
                    <a:pt x="3248" y="1619"/>
                  </a:lnTo>
                  <a:lnTo>
                    <a:pt x="3163" y="1536"/>
                  </a:lnTo>
                  <a:lnTo>
                    <a:pt x="3076" y="1455"/>
                  </a:lnTo>
                  <a:lnTo>
                    <a:pt x="2988" y="1375"/>
                  </a:lnTo>
                  <a:lnTo>
                    <a:pt x="2899" y="1297"/>
                  </a:lnTo>
                  <a:lnTo>
                    <a:pt x="2809" y="1220"/>
                  </a:lnTo>
                  <a:lnTo>
                    <a:pt x="2718" y="1146"/>
                  </a:lnTo>
                  <a:lnTo>
                    <a:pt x="2625" y="1073"/>
                  </a:lnTo>
                  <a:lnTo>
                    <a:pt x="2531" y="1002"/>
                  </a:lnTo>
                  <a:lnTo>
                    <a:pt x="2435" y="933"/>
                  </a:lnTo>
                  <a:lnTo>
                    <a:pt x="2339" y="865"/>
                  </a:lnTo>
                  <a:lnTo>
                    <a:pt x="2240" y="799"/>
                  </a:lnTo>
                  <a:lnTo>
                    <a:pt x="2140" y="734"/>
                  </a:lnTo>
                  <a:lnTo>
                    <a:pt x="2038" y="672"/>
                  </a:lnTo>
                  <a:lnTo>
                    <a:pt x="1935" y="611"/>
                  </a:lnTo>
                  <a:lnTo>
                    <a:pt x="1830" y="553"/>
                  </a:lnTo>
                  <a:lnTo>
                    <a:pt x="1724" y="495"/>
                  </a:lnTo>
                  <a:lnTo>
                    <a:pt x="1617" y="441"/>
                  </a:lnTo>
                  <a:lnTo>
                    <a:pt x="1507" y="387"/>
                  </a:lnTo>
                  <a:lnTo>
                    <a:pt x="1396" y="337"/>
                  </a:lnTo>
                  <a:lnTo>
                    <a:pt x="1283" y="288"/>
                  </a:lnTo>
                  <a:lnTo>
                    <a:pt x="1169" y="241"/>
                  </a:lnTo>
                  <a:lnTo>
                    <a:pt x="1053" y="195"/>
                  </a:lnTo>
                  <a:lnTo>
                    <a:pt x="934" y="152"/>
                  </a:lnTo>
                  <a:lnTo>
                    <a:pt x="814" y="111"/>
                  </a:lnTo>
                  <a:lnTo>
                    <a:pt x="693" y="72"/>
                  </a:lnTo>
                  <a:lnTo>
                    <a:pt x="569" y="36"/>
                  </a:lnTo>
                  <a:lnTo>
                    <a:pt x="545" y="26"/>
                  </a:lnTo>
                  <a:lnTo>
                    <a:pt x="520" y="18"/>
                  </a:lnTo>
                  <a:lnTo>
                    <a:pt x="494" y="12"/>
                  </a:lnTo>
                  <a:lnTo>
                    <a:pt x="468" y="7"/>
                  </a:lnTo>
                  <a:lnTo>
                    <a:pt x="439" y="3"/>
                  </a:lnTo>
                  <a:lnTo>
                    <a:pt x="412" y="1"/>
                  </a:lnTo>
                  <a:lnTo>
                    <a:pt x="384" y="0"/>
                  </a:lnTo>
                  <a:lnTo>
                    <a:pt x="357" y="1"/>
                  </a:lnTo>
                  <a:lnTo>
                    <a:pt x="328" y="4"/>
                  </a:lnTo>
                  <a:lnTo>
                    <a:pt x="300" y="9"/>
                  </a:lnTo>
                  <a:lnTo>
                    <a:pt x="273" y="14"/>
                  </a:lnTo>
                  <a:lnTo>
                    <a:pt x="246" y="20"/>
                  </a:lnTo>
                  <a:lnTo>
                    <a:pt x="220" y="28"/>
                  </a:lnTo>
                  <a:lnTo>
                    <a:pt x="194" y="38"/>
                  </a:lnTo>
                  <a:lnTo>
                    <a:pt x="168" y="49"/>
                  </a:lnTo>
                  <a:lnTo>
                    <a:pt x="145" y="61"/>
                  </a:lnTo>
                  <a:lnTo>
                    <a:pt x="122" y="75"/>
                  </a:lnTo>
                  <a:lnTo>
                    <a:pt x="101" y="89"/>
                  </a:lnTo>
                  <a:lnTo>
                    <a:pt x="83" y="106"/>
                  </a:lnTo>
                  <a:lnTo>
                    <a:pt x="65" y="124"/>
                  </a:lnTo>
                  <a:lnTo>
                    <a:pt x="48" y="141"/>
                  </a:lnTo>
                  <a:lnTo>
                    <a:pt x="34" y="161"/>
                  </a:lnTo>
                  <a:lnTo>
                    <a:pt x="23" y="183"/>
                  </a:lnTo>
                  <a:lnTo>
                    <a:pt x="14" y="205"/>
                  </a:lnTo>
                  <a:lnTo>
                    <a:pt x="6" y="228"/>
                  </a:lnTo>
                  <a:lnTo>
                    <a:pt x="2" y="253"/>
                  </a:lnTo>
                  <a:lnTo>
                    <a:pt x="0" y="279"/>
                  </a:lnTo>
                  <a:lnTo>
                    <a:pt x="2" y="306"/>
                  </a:lnTo>
                  <a:lnTo>
                    <a:pt x="6" y="334"/>
                  </a:lnTo>
                  <a:lnTo>
                    <a:pt x="14" y="363"/>
                  </a:lnTo>
                  <a:lnTo>
                    <a:pt x="24" y="393"/>
                  </a:lnTo>
                  <a:lnTo>
                    <a:pt x="39" y="424"/>
                  </a:lnTo>
                  <a:lnTo>
                    <a:pt x="128" y="587"/>
                  </a:lnTo>
                  <a:lnTo>
                    <a:pt x="213" y="753"/>
                  </a:lnTo>
                  <a:lnTo>
                    <a:pt x="295" y="920"/>
                  </a:lnTo>
                  <a:lnTo>
                    <a:pt x="375" y="1088"/>
                  </a:lnTo>
                  <a:lnTo>
                    <a:pt x="451" y="1258"/>
                  </a:lnTo>
                  <a:lnTo>
                    <a:pt x="524" y="1430"/>
                  </a:lnTo>
                  <a:lnTo>
                    <a:pt x="594" y="1602"/>
                  </a:lnTo>
                  <a:lnTo>
                    <a:pt x="662" y="1777"/>
                  </a:lnTo>
                  <a:lnTo>
                    <a:pt x="728" y="1953"/>
                  </a:lnTo>
                  <a:lnTo>
                    <a:pt x="791" y="2129"/>
                  </a:lnTo>
                  <a:lnTo>
                    <a:pt x="851" y="2306"/>
                  </a:lnTo>
                  <a:lnTo>
                    <a:pt x="909" y="2485"/>
                  </a:lnTo>
                  <a:lnTo>
                    <a:pt x="965" y="2665"/>
                  </a:lnTo>
                  <a:lnTo>
                    <a:pt x="1019" y="2845"/>
                  </a:lnTo>
                  <a:lnTo>
                    <a:pt x="1070" y="3026"/>
                  </a:lnTo>
                  <a:lnTo>
                    <a:pt x="1120" y="3208"/>
                  </a:lnTo>
                  <a:lnTo>
                    <a:pt x="1168" y="3392"/>
                  </a:lnTo>
                  <a:lnTo>
                    <a:pt x="1214" y="3575"/>
                  </a:lnTo>
                  <a:lnTo>
                    <a:pt x="1258" y="3759"/>
                  </a:lnTo>
                  <a:lnTo>
                    <a:pt x="1301" y="3943"/>
                  </a:lnTo>
                  <a:lnTo>
                    <a:pt x="1341" y="4127"/>
                  </a:lnTo>
                  <a:lnTo>
                    <a:pt x="1381" y="4312"/>
                  </a:lnTo>
                  <a:lnTo>
                    <a:pt x="1420" y="4498"/>
                  </a:lnTo>
                  <a:lnTo>
                    <a:pt x="1458" y="4683"/>
                  </a:lnTo>
                  <a:lnTo>
                    <a:pt x="1493" y="4868"/>
                  </a:lnTo>
                  <a:lnTo>
                    <a:pt x="1528" y="5053"/>
                  </a:lnTo>
                  <a:lnTo>
                    <a:pt x="1562" y="5238"/>
                  </a:lnTo>
                  <a:lnTo>
                    <a:pt x="1596" y="5424"/>
                  </a:lnTo>
                  <a:lnTo>
                    <a:pt x="1659" y="5793"/>
                  </a:lnTo>
                  <a:lnTo>
                    <a:pt x="1721" y="6161"/>
                  </a:lnTo>
                  <a:lnTo>
                    <a:pt x="1724" y="6180"/>
                  </a:lnTo>
                  <a:lnTo>
                    <a:pt x="1727" y="6198"/>
                  </a:lnTo>
                  <a:lnTo>
                    <a:pt x="1732" y="6216"/>
                  </a:lnTo>
                  <a:lnTo>
                    <a:pt x="1737" y="6232"/>
                  </a:lnTo>
                  <a:lnTo>
                    <a:pt x="1741" y="6248"/>
                  </a:lnTo>
                  <a:lnTo>
                    <a:pt x="1747" y="6264"/>
                  </a:lnTo>
                  <a:lnTo>
                    <a:pt x="1753" y="6280"/>
                  </a:lnTo>
                  <a:lnTo>
                    <a:pt x="1759" y="6293"/>
                  </a:lnTo>
                  <a:lnTo>
                    <a:pt x="1765" y="6308"/>
                  </a:lnTo>
                  <a:lnTo>
                    <a:pt x="1772" y="6321"/>
                  </a:lnTo>
                  <a:lnTo>
                    <a:pt x="1779" y="6334"/>
                  </a:lnTo>
                  <a:lnTo>
                    <a:pt x="1787" y="6346"/>
                  </a:lnTo>
                  <a:lnTo>
                    <a:pt x="1794" y="6358"/>
                  </a:lnTo>
                  <a:lnTo>
                    <a:pt x="1803" y="6370"/>
                  </a:lnTo>
                  <a:lnTo>
                    <a:pt x="1811" y="6380"/>
                  </a:lnTo>
                  <a:lnTo>
                    <a:pt x="1820" y="6390"/>
                  </a:lnTo>
                  <a:lnTo>
                    <a:pt x="1829" y="6401"/>
                  </a:lnTo>
                  <a:lnTo>
                    <a:pt x="1838" y="6409"/>
                  </a:lnTo>
                  <a:lnTo>
                    <a:pt x="1848" y="6419"/>
                  </a:lnTo>
                  <a:lnTo>
                    <a:pt x="1857" y="6427"/>
                  </a:lnTo>
                  <a:lnTo>
                    <a:pt x="1868" y="6434"/>
                  </a:lnTo>
                  <a:lnTo>
                    <a:pt x="1878" y="6442"/>
                  </a:lnTo>
                  <a:lnTo>
                    <a:pt x="1889" y="6449"/>
                  </a:lnTo>
                  <a:lnTo>
                    <a:pt x="1899" y="6455"/>
                  </a:lnTo>
                  <a:lnTo>
                    <a:pt x="1910" y="6462"/>
                  </a:lnTo>
                  <a:lnTo>
                    <a:pt x="1921" y="6467"/>
                  </a:lnTo>
                  <a:lnTo>
                    <a:pt x="1933" y="6471"/>
                  </a:lnTo>
                  <a:lnTo>
                    <a:pt x="1944" y="6476"/>
                  </a:lnTo>
                  <a:lnTo>
                    <a:pt x="1967" y="6484"/>
                  </a:lnTo>
                  <a:lnTo>
                    <a:pt x="1991" y="6490"/>
                  </a:lnTo>
                  <a:lnTo>
                    <a:pt x="2073" y="6508"/>
                  </a:lnTo>
                  <a:lnTo>
                    <a:pt x="2152" y="6528"/>
                  </a:lnTo>
                  <a:lnTo>
                    <a:pt x="2232" y="6548"/>
                  </a:lnTo>
                  <a:lnTo>
                    <a:pt x="2309" y="6573"/>
                  </a:lnTo>
                  <a:lnTo>
                    <a:pt x="2386" y="6598"/>
                  </a:lnTo>
                  <a:lnTo>
                    <a:pt x="2462" y="6624"/>
                  </a:lnTo>
                  <a:lnTo>
                    <a:pt x="2536" y="6652"/>
                  </a:lnTo>
                  <a:lnTo>
                    <a:pt x="2611" y="6682"/>
                  </a:lnTo>
                  <a:lnTo>
                    <a:pt x="2683" y="6714"/>
                  </a:lnTo>
                  <a:lnTo>
                    <a:pt x="2755" y="6747"/>
                  </a:lnTo>
                  <a:lnTo>
                    <a:pt x="2826" y="6782"/>
                  </a:lnTo>
                  <a:lnTo>
                    <a:pt x="2896" y="6818"/>
                  </a:lnTo>
                  <a:lnTo>
                    <a:pt x="2965" y="6856"/>
                  </a:lnTo>
                  <a:lnTo>
                    <a:pt x="3034" y="6895"/>
                  </a:lnTo>
                  <a:lnTo>
                    <a:pt x="3102" y="6936"/>
                  </a:lnTo>
                  <a:lnTo>
                    <a:pt x="3170" y="6977"/>
                  </a:lnTo>
                  <a:lnTo>
                    <a:pt x="3237" y="7020"/>
                  </a:lnTo>
                  <a:lnTo>
                    <a:pt x="3304" y="7064"/>
                  </a:lnTo>
                  <a:lnTo>
                    <a:pt x="3370" y="7110"/>
                  </a:lnTo>
                  <a:lnTo>
                    <a:pt x="3435" y="7156"/>
                  </a:lnTo>
                  <a:lnTo>
                    <a:pt x="3501" y="7205"/>
                  </a:lnTo>
                  <a:lnTo>
                    <a:pt x="3565" y="7254"/>
                  </a:lnTo>
                  <a:lnTo>
                    <a:pt x="3630" y="7304"/>
                  </a:lnTo>
                  <a:lnTo>
                    <a:pt x="3694" y="7354"/>
                  </a:lnTo>
                  <a:lnTo>
                    <a:pt x="3757" y="7406"/>
                  </a:lnTo>
                  <a:lnTo>
                    <a:pt x="3821" y="7460"/>
                  </a:lnTo>
                  <a:lnTo>
                    <a:pt x="3885" y="7514"/>
                  </a:lnTo>
                  <a:lnTo>
                    <a:pt x="3949" y="7569"/>
                  </a:lnTo>
                  <a:lnTo>
                    <a:pt x="4012" y="7624"/>
                  </a:lnTo>
                  <a:lnTo>
                    <a:pt x="4076" y="7681"/>
                  </a:lnTo>
                  <a:lnTo>
                    <a:pt x="4138" y="7738"/>
                  </a:lnTo>
                  <a:lnTo>
                    <a:pt x="4202" y="7797"/>
                  </a:lnTo>
                  <a:lnTo>
                    <a:pt x="4146" y="7342"/>
                  </a:lnTo>
                  <a:lnTo>
                    <a:pt x="4055" y="7260"/>
                  </a:lnTo>
                  <a:lnTo>
                    <a:pt x="3957" y="7174"/>
                  </a:lnTo>
                  <a:lnTo>
                    <a:pt x="3906" y="7130"/>
                  </a:lnTo>
                  <a:lnTo>
                    <a:pt x="3853" y="7085"/>
                  </a:lnTo>
                  <a:lnTo>
                    <a:pt x="3799" y="7041"/>
                  </a:lnTo>
                  <a:lnTo>
                    <a:pt x="3744" y="6995"/>
                  </a:lnTo>
                  <a:lnTo>
                    <a:pt x="3686" y="6950"/>
                  </a:lnTo>
                  <a:lnTo>
                    <a:pt x="3629" y="6905"/>
                  </a:lnTo>
                  <a:lnTo>
                    <a:pt x="3569" y="6860"/>
                  </a:lnTo>
                  <a:lnTo>
                    <a:pt x="3509" y="6815"/>
                  </a:lnTo>
                  <a:lnTo>
                    <a:pt x="3448" y="6770"/>
                  </a:lnTo>
                  <a:lnTo>
                    <a:pt x="3385" y="6726"/>
                  </a:lnTo>
                  <a:lnTo>
                    <a:pt x="3321" y="6682"/>
                  </a:lnTo>
                  <a:lnTo>
                    <a:pt x="3257" y="6639"/>
                  </a:lnTo>
                  <a:lnTo>
                    <a:pt x="3191" y="6598"/>
                  </a:lnTo>
                  <a:lnTo>
                    <a:pt x="3125" y="6557"/>
                  </a:lnTo>
                  <a:lnTo>
                    <a:pt x="3058" y="6517"/>
                  </a:lnTo>
                  <a:lnTo>
                    <a:pt x="2990" y="6478"/>
                  </a:lnTo>
                  <a:lnTo>
                    <a:pt x="2921" y="6442"/>
                  </a:lnTo>
                  <a:lnTo>
                    <a:pt x="2852" y="6405"/>
                  </a:lnTo>
                  <a:lnTo>
                    <a:pt x="2783" y="6372"/>
                  </a:lnTo>
                  <a:lnTo>
                    <a:pt x="2712" y="6339"/>
                  </a:lnTo>
                  <a:lnTo>
                    <a:pt x="2642" y="6309"/>
                  </a:lnTo>
                  <a:lnTo>
                    <a:pt x="2571" y="6280"/>
                  </a:lnTo>
                  <a:lnTo>
                    <a:pt x="2499" y="6253"/>
                  </a:lnTo>
                  <a:lnTo>
                    <a:pt x="2428" y="6229"/>
                  </a:lnTo>
                  <a:lnTo>
                    <a:pt x="2355" y="6207"/>
                  </a:lnTo>
                  <a:lnTo>
                    <a:pt x="2282" y="6187"/>
                  </a:lnTo>
                  <a:lnTo>
                    <a:pt x="2210" y="6171"/>
                  </a:lnTo>
                  <a:lnTo>
                    <a:pt x="2138" y="6157"/>
                  </a:lnTo>
                  <a:lnTo>
                    <a:pt x="2120" y="6154"/>
                  </a:lnTo>
                  <a:lnTo>
                    <a:pt x="2105" y="6150"/>
                  </a:lnTo>
                  <a:lnTo>
                    <a:pt x="2093" y="6145"/>
                  </a:lnTo>
                  <a:lnTo>
                    <a:pt x="2081" y="6138"/>
                  </a:lnTo>
                  <a:lnTo>
                    <a:pt x="2071" y="6132"/>
                  </a:lnTo>
                  <a:lnTo>
                    <a:pt x="2062" y="6125"/>
                  </a:lnTo>
                  <a:lnTo>
                    <a:pt x="2055" y="6116"/>
                  </a:lnTo>
                  <a:lnTo>
                    <a:pt x="2049" y="6108"/>
                  </a:lnTo>
                  <a:lnTo>
                    <a:pt x="2044" y="6099"/>
                  </a:lnTo>
                  <a:lnTo>
                    <a:pt x="2039" y="6089"/>
                  </a:lnTo>
                  <a:lnTo>
                    <a:pt x="2035" y="6079"/>
                  </a:lnTo>
                  <a:lnTo>
                    <a:pt x="2033" y="6067"/>
                  </a:lnTo>
                  <a:lnTo>
                    <a:pt x="2028" y="6043"/>
                  </a:lnTo>
                  <a:lnTo>
                    <a:pt x="2024" y="6018"/>
                  </a:lnTo>
                  <a:lnTo>
                    <a:pt x="1996" y="5835"/>
                  </a:lnTo>
                  <a:lnTo>
                    <a:pt x="1969" y="5654"/>
                  </a:lnTo>
                  <a:lnTo>
                    <a:pt x="1941" y="5473"/>
                  </a:lnTo>
                  <a:lnTo>
                    <a:pt x="1912" y="5293"/>
                  </a:lnTo>
                  <a:lnTo>
                    <a:pt x="1881" y="5113"/>
                  </a:lnTo>
                  <a:lnTo>
                    <a:pt x="1851" y="4935"/>
                  </a:lnTo>
                  <a:lnTo>
                    <a:pt x="1820" y="4757"/>
                  </a:lnTo>
                  <a:lnTo>
                    <a:pt x="1786" y="4580"/>
                  </a:lnTo>
                  <a:lnTo>
                    <a:pt x="1753" y="4404"/>
                  </a:lnTo>
                  <a:lnTo>
                    <a:pt x="1717" y="4229"/>
                  </a:lnTo>
                  <a:lnTo>
                    <a:pt x="1680" y="4054"/>
                  </a:lnTo>
                  <a:lnTo>
                    <a:pt x="1642" y="3880"/>
                  </a:lnTo>
                  <a:lnTo>
                    <a:pt x="1603" y="3706"/>
                  </a:lnTo>
                  <a:lnTo>
                    <a:pt x="1561" y="3534"/>
                  </a:lnTo>
                  <a:lnTo>
                    <a:pt x="1518" y="3362"/>
                  </a:lnTo>
                  <a:lnTo>
                    <a:pt x="1473" y="3191"/>
                  </a:lnTo>
                  <a:lnTo>
                    <a:pt x="1426" y="3019"/>
                  </a:lnTo>
                  <a:lnTo>
                    <a:pt x="1378" y="2850"/>
                  </a:lnTo>
                  <a:lnTo>
                    <a:pt x="1327" y="2679"/>
                  </a:lnTo>
                  <a:lnTo>
                    <a:pt x="1274" y="2509"/>
                  </a:lnTo>
                  <a:lnTo>
                    <a:pt x="1219" y="2341"/>
                  </a:lnTo>
                  <a:lnTo>
                    <a:pt x="1161" y="2173"/>
                  </a:lnTo>
                  <a:lnTo>
                    <a:pt x="1102" y="2005"/>
                  </a:lnTo>
                  <a:lnTo>
                    <a:pt x="1039" y="1838"/>
                  </a:lnTo>
                  <a:lnTo>
                    <a:pt x="973" y="1670"/>
                  </a:lnTo>
                  <a:lnTo>
                    <a:pt x="905" y="1504"/>
                  </a:lnTo>
                  <a:lnTo>
                    <a:pt x="835" y="1337"/>
                  </a:lnTo>
                  <a:lnTo>
                    <a:pt x="762" y="1171"/>
                  </a:lnTo>
                  <a:lnTo>
                    <a:pt x="684" y="1006"/>
                  </a:lnTo>
                  <a:lnTo>
                    <a:pt x="605" y="840"/>
                  </a:lnTo>
                  <a:lnTo>
                    <a:pt x="522" y="675"/>
                  </a:lnTo>
                  <a:lnTo>
                    <a:pt x="436" y="511"/>
                  </a:lnTo>
                  <a:lnTo>
                    <a:pt x="432" y="507"/>
                  </a:lnTo>
                  <a:lnTo>
                    <a:pt x="430" y="501"/>
                  </a:lnTo>
                  <a:lnTo>
                    <a:pt x="428" y="497"/>
                  </a:lnTo>
                  <a:lnTo>
                    <a:pt x="427" y="492"/>
                  </a:lnTo>
                  <a:lnTo>
                    <a:pt x="426" y="488"/>
                  </a:lnTo>
                  <a:lnTo>
                    <a:pt x="426" y="483"/>
                  </a:lnTo>
                  <a:lnTo>
                    <a:pt x="427" y="478"/>
                  </a:lnTo>
                  <a:lnTo>
                    <a:pt x="428" y="473"/>
                  </a:lnTo>
                  <a:lnTo>
                    <a:pt x="431" y="464"/>
                  </a:lnTo>
                  <a:lnTo>
                    <a:pt x="436" y="454"/>
                  </a:lnTo>
                  <a:lnTo>
                    <a:pt x="444" y="445"/>
                  </a:lnTo>
                  <a:lnTo>
                    <a:pt x="453" y="437"/>
                  </a:lnTo>
                  <a:lnTo>
                    <a:pt x="463" y="428"/>
                  </a:lnTo>
                  <a:lnTo>
                    <a:pt x="476" y="421"/>
                  </a:lnTo>
                  <a:lnTo>
                    <a:pt x="490" y="416"/>
                  </a:lnTo>
                  <a:lnTo>
                    <a:pt x="504" y="410"/>
                  </a:lnTo>
                  <a:lnTo>
                    <a:pt x="521" y="406"/>
                  </a:lnTo>
                  <a:lnTo>
                    <a:pt x="539" y="404"/>
                  </a:lnTo>
                  <a:lnTo>
                    <a:pt x="557" y="404"/>
                  </a:lnTo>
                  <a:lnTo>
                    <a:pt x="576" y="405"/>
                  </a:lnTo>
                  <a:lnTo>
                    <a:pt x="659" y="416"/>
                  </a:lnTo>
                  <a:lnTo>
                    <a:pt x="743" y="432"/>
                  </a:lnTo>
                  <a:lnTo>
                    <a:pt x="830" y="452"/>
                  </a:lnTo>
                  <a:lnTo>
                    <a:pt x="919" y="477"/>
                  </a:lnTo>
                  <a:lnTo>
                    <a:pt x="1009" y="507"/>
                  </a:lnTo>
                  <a:lnTo>
                    <a:pt x="1101" y="540"/>
                  </a:lnTo>
                  <a:lnTo>
                    <a:pt x="1195" y="578"/>
                  </a:lnTo>
                  <a:lnTo>
                    <a:pt x="1290" y="620"/>
                  </a:lnTo>
                  <a:lnTo>
                    <a:pt x="1386" y="666"/>
                  </a:lnTo>
                  <a:lnTo>
                    <a:pt x="1485" y="715"/>
                  </a:lnTo>
                  <a:lnTo>
                    <a:pt x="1584" y="769"/>
                  </a:lnTo>
                  <a:lnTo>
                    <a:pt x="1685" y="826"/>
                  </a:lnTo>
                  <a:lnTo>
                    <a:pt x="1786" y="888"/>
                  </a:lnTo>
                  <a:lnTo>
                    <a:pt x="1888" y="952"/>
                  </a:lnTo>
                  <a:lnTo>
                    <a:pt x="1991" y="1020"/>
                  </a:lnTo>
                  <a:lnTo>
                    <a:pt x="2095" y="1092"/>
                  </a:lnTo>
                  <a:lnTo>
                    <a:pt x="2198" y="1166"/>
                  </a:lnTo>
                  <a:lnTo>
                    <a:pt x="2303" y="1244"/>
                  </a:lnTo>
                  <a:lnTo>
                    <a:pt x="2408" y="1325"/>
                  </a:lnTo>
                  <a:lnTo>
                    <a:pt x="2512" y="1410"/>
                  </a:lnTo>
                  <a:lnTo>
                    <a:pt x="2617" y="1497"/>
                  </a:lnTo>
                  <a:lnTo>
                    <a:pt x="2722" y="1587"/>
                  </a:lnTo>
                  <a:lnTo>
                    <a:pt x="2826" y="1679"/>
                  </a:lnTo>
                  <a:lnTo>
                    <a:pt x="2931" y="1774"/>
                  </a:lnTo>
                  <a:lnTo>
                    <a:pt x="3034" y="1871"/>
                  </a:lnTo>
                  <a:lnTo>
                    <a:pt x="3138" y="1972"/>
                  </a:lnTo>
                  <a:lnTo>
                    <a:pt x="3242" y="2074"/>
                  </a:lnTo>
                  <a:lnTo>
                    <a:pt x="3343" y="2179"/>
                  </a:lnTo>
                  <a:lnTo>
                    <a:pt x="3445" y="2287"/>
                  </a:lnTo>
                  <a:lnTo>
                    <a:pt x="3545" y="2395"/>
                  </a:lnTo>
                  <a:lnTo>
                    <a:pt x="3643" y="2506"/>
                  </a:lnTo>
                  <a:lnTo>
                    <a:pt x="3742" y="2619"/>
                  </a:lnTo>
                  <a:lnTo>
                    <a:pt x="3780" y="2620"/>
                  </a:lnTo>
                  <a:lnTo>
                    <a:pt x="3815" y="2619"/>
                  </a:lnTo>
                  <a:lnTo>
                    <a:pt x="3847" y="2618"/>
                  </a:lnTo>
                  <a:lnTo>
                    <a:pt x="3876" y="2616"/>
                  </a:lnTo>
                  <a:lnTo>
                    <a:pt x="3901" y="2613"/>
                  </a:lnTo>
                  <a:lnTo>
                    <a:pt x="3924" y="2608"/>
                  </a:lnTo>
                  <a:lnTo>
                    <a:pt x="3944" y="2603"/>
                  </a:lnTo>
                  <a:lnTo>
                    <a:pt x="3960" y="2596"/>
                  </a:lnTo>
                  <a:lnTo>
                    <a:pt x="3974" y="2589"/>
                  </a:lnTo>
                  <a:lnTo>
                    <a:pt x="3986" y="2582"/>
                  </a:lnTo>
                  <a:lnTo>
                    <a:pt x="3994" y="2572"/>
                  </a:lnTo>
                  <a:lnTo>
                    <a:pt x="4000" y="2562"/>
                  </a:lnTo>
                  <a:lnTo>
                    <a:pt x="4004" y="2550"/>
                  </a:lnTo>
                  <a:lnTo>
                    <a:pt x="4005" y="2538"/>
                  </a:lnTo>
                  <a:lnTo>
                    <a:pt x="4005" y="2525"/>
                  </a:lnTo>
                  <a:lnTo>
                    <a:pt x="4002" y="2510"/>
                  </a:lnTo>
                  <a:lnTo>
                    <a:pt x="3997" y="2496"/>
                  </a:lnTo>
                  <a:lnTo>
                    <a:pt x="3991" y="2479"/>
                  </a:lnTo>
                  <a:lnTo>
                    <a:pt x="3981" y="2462"/>
                  </a:lnTo>
                  <a:lnTo>
                    <a:pt x="3971" y="2445"/>
                  </a:lnTo>
                  <a:lnTo>
                    <a:pt x="3958" y="2425"/>
                  </a:lnTo>
                  <a:lnTo>
                    <a:pt x="3945" y="2405"/>
                  </a:lnTo>
                  <a:lnTo>
                    <a:pt x="3929" y="2384"/>
                  </a:lnTo>
                  <a:lnTo>
                    <a:pt x="3912" y="2362"/>
                  </a:lnTo>
                  <a:lnTo>
                    <a:pt x="3875" y="2314"/>
                  </a:lnTo>
                  <a:lnTo>
                    <a:pt x="3832" y="2262"/>
                  </a:lnTo>
                  <a:lnTo>
                    <a:pt x="3785" y="2207"/>
                  </a:lnTo>
                  <a:lnTo>
                    <a:pt x="3734" y="214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526600" y="4092480"/>
              <a:ext cx="290880" cy="245520"/>
            </a:xfrm>
            <a:custGeom>
              <a:avLst/>
              <a:gdLst/>
              <a:ahLst/>
              <a:rect l="l" t="t" r="r" b="b"/>
              <a:pathLst>
                <a:path w="7802" h="7187">
                  <a:moveTo>
                    <a:pt x="389" y="914"/>
                  </a:moveTo>
                  <a:lnTo>
                    <a:pt x="370" y="1207"/>
                  </a:lnTo>
                  <a:lnTo>
                    <a:pt x="363" y="1264"/>
                  </a:lnTo>
                  <a:lnTo>
                    <a:pt x="362" y="1318"/>
                  </a:lnTo>
                  <a:lnTo>
                    <a:pt x="366" y="1370"/>
                  </a:lnTo>
                  <a:lnTo>
                    <a:pt x="375" y="1422"/>
                  </a:lnTo>
                  <a:lnTo>
                    <a:pt x="387" y="1471"/>
                  </a:lnTo>
                  <a:lnTo>
                    <a:pt x="405" y="1517"/>
                  </a:lnTo>
                  <a:lnTo>
                    <a:pt x="426" y="1562"/>
                  </a:lnTo>
                  <a:lnTo>
                    <a:pt x="451" y="1605"/>
                  </a:lnTo>
                  <a:lnTo>
                    <a:pt x="479" y="1644"/>
                  </a:lnTo>
                  <a:lnTo>
                    <a:pt x="512" y="1683"/>
                  </a:lnTo>
                  <a:lnTo>
                    <a:pt x="546" y="1718"/>
                  </a:lnTo>
                  <a:lnTo>
                    <a:pt x="585" y="1750"/>
                  </a:lnTo>
                  <a:lnTo>
                    <a:pt x="626" y="1780"/>
                  </a:lnTo>
                  <a:lnTo>
                    <a:pt x="670" y="1808"/>
                  </a:lnTo>
                  <a:lnTo>
                    <a:pt x="717" y="1831"/>
                  </a:lnTo>
                  <a:lnTo>
                    <a:pt x="765" y="1852"/>
                  </a:lnTo>
                  <a:lnTo>
                    <a:pt x="815" y="1869"/>
                  </a:lnTo>
                  <a:lnTo>
                    <a:pt x="868" y="1884"/>
                  </a:lnTo>
                  <a:lnTo>
                    <a:pt x="922" y="1896"/>
                  </a:lnTo>
                  <a:lnTo>
                    <a:pt x="978" y="1903"/>
                  </a:lnTo>
                  <a:lnTo>
                    <a:pt x="1035" y="1906"/>
                  </a:lnTo>
                  <a:lnTo>
                    <a:pt x="1093" y="1907"/>
                  </a:lnTo>
                  <a:lnTo>
                    <a:pt x="1152" y="1903"/>
                  </a:lnTo>
                  <a:lnTo>
                    <a:pt x="1212" y="1896"/>
                  </a:lnTo>
                  <a:lnTo>
                    <a:pt x="1272" y="1884"/>
                  </a:lnTo>
                  <a:lnTo>
                    <a:pt x="1332" y="1868"/>
                  </a:lnTo>
                  <a:lnTo>
                    <a:pt x="1393" y="1848"/>
                  </a:lnTo>
                  <a:lnTo>
                    <a:pt x="1454" y="1823"/>
                  </a:lnTo>
                  <a:lnTo>
                    <a:pt x="1513" y="1795"/>
                  </a:lnTo>
                  <a:lnTo>
                    <a:pt x="1573" y="1762"/>
                  </a:lnTo>
                  <a:lnTo>
                    <a:pt x="1633" y="1724"/>
                  </a:lnTo>
                  <a:lnTo>
                    <a:pt x="1691" y="1681"/>
                  </a:lnTo>
                  <a:lnTo>
                    <a:pt x="1787" y="1571"/>
                  </a:lnTo>
                  <a:lnTo>
                    <a:pt x="1890" y="1463"/>
                  </a:lnTo>
                  <a:lnTo>
                    <a:pt x="1997" y="1358"/>
                  </a:lnTo>
                  <a:lnTo>
                    <a:pt x="2109" y="1253"/>
                  </a:lnTo>
                  <a:lnTo>
                    <a:pt x="2226" y="1151"/>
                  </a:lnTo>
                  <a:lnTo>
                    <a:pt x="2348" y="1050"/>
                  </a:lnTo>
                  <a:lnTo>
                    <a:pt x="2476" y="952"/>
                  </a:lnTo>
                  <a:lnTo>
                    <a:pt x="2608" y="858"/>
                  </a:lnTo>
                  <a:lnTo>
                    <a:pt x="2745" y="765"/>
                  </a:lnTo>
                  <a:lnTo>
                    <a:pt x="2886" y="679"/>
                  </a:lnTo>
                  <a:lnTo>
                    <a:pt x="3033" y="594"/>
                  </a:lnTo>
                  <a:lnTo>
                    <a:pt x="3184" y="514"/>
                  </a:lnTo>
                  <a:lnTo>
                    <a:pt x="3340" y="439"/>
                  </a:lnTo>
                  <a:lnTo>
                    <a:pt x="3500" y="369"/>
                  </a:lnTo>
                  <a:lnTo>
                    <a:pt x="3666" y="304"/>
                  </a:lnTo>
                  <a:lnTo>
                    <a:pt x="3836" y="244"/>
                  </a:lnTo>
                  <a:lnTo>
                    <a:pt x="4010" y="190"/>
                  </a:lnTo>
                  <a:lnTo>
                    <a:pt x="4189" y="142"/>
                  </a:lnTo>
                  <a:lnTo>
                    <a:pt x="4372" y="101"/>
                  </a:lnTo>
                  <a:lnTo>
                    <a:pt x="4559" y="65"/>
                  </a:lnTo>
                  <a:lnTo>
                    <a:pt x="4752" y="38"/>
                  </a:lnTo>
                  <a:lnTo>
                    <a:pt x="4949" y="17"/>
                  </a:lnTo>
                  <a:lnTo>
                    <a:pt x="5148" y="5"/>
                  </a:lnTo>
                  <a:lnTo>
                    <a:pt x="5353" y="0"/>
                  </a:lnTo>
                  <a:lnTo>
                    <a:pt x="5563" y="4"/>
                  </a:lnTo>
                  <a:lnTo>
                    <a:pt x="5776" y="15"/>
                  </a:lnTo>
                  <a:lnTo>
                    <a:pt x="5994" y="36"/>
                  </a:lnTo>
                  <a:lnTo>
                    <a:pt x="6215" y="65"/>
                  </a:lnTo>
                  <a:lnTo>
                    <a:pt x="6441" y="105"/>
                  </a:lnTo>
                  <a:lnTo>
                    <a:pt x="6670" y="154"/>
                  </a:lnTo>
                  <a:lnTo>
                    <a:pt x="6903" y="214"/>
                  </a:lnTo>
                  <a:lnTo>
                    <a:pt x="7141" y="283"/>
                  </a:lnTo>
                  <a:lnTo>
                    <a:pt x="7183" y="303"/>
                  </a:lnTo>
                  <a:lnTo>
                    <a:pt x="7224" y="322"/>
                  </a:lnTo>
                  <a:lnTo>
                    <a:pt x="7265" y="340"/>
                  </a:lnTo>
                  <a:lnTo>
                    <a:pt x="7306" y="355"/>
                  </a:lnTo>
                  <a:lnTo>
                    <a:pt x="7383" y="387"/>
                  </a:lnTo>
                  <a:lnTo>
                    <a:pt x="7457" y="417"/>
                  </a:lnTo>
                  <a:lnTo>
                    <a:pt x="7492" y="433"/>
                  </a:lnTo>
                  <a:lnTo>
                    <a:pt x="7526" y="448"/>
                  </a:lnTo>
                  <a:lnTo>
                    <a:pt x="7557" y="464"/>
                  </a:lnTo>
                  <a:lnTo>
                    <a:pt x="7589" y="481"/>
                  </a:lnTo>
                  <a:lnTo>
                    <a:pt x="7617" y="499"/>
                  </a:lnTo>
                  <a:lnTo>
                    <a:pt x="7644" y="517"/>
                  </a:lnTo>
                  <a:lnTo>
                    <a:pt x="7670" y="537"/>
                  </a:lnTo>
                  <a:lnTo>
                    <a:pt x="7693" y="559"/>
                  </a:lnTo>
                  <a:lnTo>
                    <a:pt x="7715" y="583"/>
                  </a:lnTo>
                  <a:lnTo>
                    <a:pt x="7734" y="609"/>
                  </a:lnTo>
                  <a:lnTo>
                    <a:pt x="7752" y="637"/>
                  </a:lnTo>
                  <a:lnTo>
                    <a:pt x="7766" y="666"/>
                  </a:lnTo>
                  <a:lnTo>
                    <a:pt x="7779" y="698"/>
                  </a:lnTo>
                  <a:lnTo>
                    <a:pt x="7788" y="734"/>
                  </a:lnTo>
                  <a:lnTo>
                    <a:pt x="7796" y="773"/>
                  </a:lnTo>
                  <a:lnTo>
                    <a:pt x="7800" y="814"/>
                  </a:lnTo>
                  <a:lnTo>
                    <a:pt x="7802" y="859"/>
                  </a:lnTo>
                  <a:lnTo>
                    <a:pt x="7800" y="907"/>
                  </a:lnTo>
                  <a:lnTo>
                    <a:pt x="7796" y="959"/>
                  </a:lnTo>
                  <a:lnTo>
                    <a:pt x="7788" y="1016"/>
                  </a:lnTo>
                  <a:lnTo>
                    <a:pt x="7778" y="1075"/>
                  </a:lnTo>
                  <a:lnTo>
                    <a:pt x="7764" y="1140"/>
                  </a:lnTo>
                  <a:lnTo>
                    <a:pt x="7747" y="1209"/>
                  </a:lnTo>
                  <a:lnTo>
                    <a:pt x="7727" y="1282"/>
                  </a:lnTo>
                  <a:lnTo>
                    <a:pt x="7691" y="1412"/>
                  </a:lnTo>
                  <a:lnTo>
                    <a:pt x="7659" y="1542"/>
                  </a:lnTo>
                  <a:lnTo>
                    <a:pt x="7628" y="1673"/>
                  </a:lnTo>
                  <a:lnTo>
                    <a:pt x="7601" y="1802"/>
                  </a:lnTo>
                  <a:lnTo>
                    <a:pt x="7576" y="1933"/>
                  </a:lnTo>
                  <a:lnTo>
                    <a:pt x="7554" y="2063"/>
                  </a:lnTo>
                  <a:lnTo>
                    <a:pt x="7533" y="2194"/>
                  </a:lnTo>
                  <a:lnTo>
                    <a:pt x="7515" y="2326"/>
                  </a:lnTo>
                  <a:lnTo>
                    <a:pt x="7499" y="2456"/>
                  </a:lnTo>
                  <a:lnTo>
                    <a:pt x="7485" y="2588"/>
                  </a:lnTo>
                  <a:lnTo>
                    <a:pt x="7472" y="2721"/>
                  </a:lnTo>
                  <a:lnTo>
                    <a:pt x="7463" y="2854"/>
                  </a:lnTo>
                  <a:lnTo>
                    <a:pt x="7455" y="2987"/>
                  </a:lnTo>
                  <a:lnTo>
                    <a:pt x="7449" y="3121"/>
                  </a:lnTo>
                  <a:lnTo>
                    <a:pt x="7445" y="3255"/>
                  </a:lnTo>
                  <a:lnTo>
                    <a:pt x="7443" y="3390"/>
                  </a:lnTo>
                  <a:lnTo>
                    <a:pt x="7442" y="3525"/>
                  </a:lnTo>
                  <a:lnTo>
                    <a:pt x="7443" y="3661"/>
                  </a:lnTo>
                  <a:lnTo>
                    <a:pt x="7445" y="3798"/>
                  </a:lnTo>
                  <a:lnTo>
                    <a:pt x="7450" y="3935"/>
                  </a:lnTo>
                  <a:lnTo>
                    <a:pt x="7456" y="4073"/>
                  </a:lnTo>
                  <a:lnTo>
                    <a:pt x="7463" y="4211"/>
                  </a:lnTo>
                  <a:lnTo>
                    <a:pt x="7471" y="4351"/>
                  </a:lnTo>
                  <a:lnTo>
                    <a:pt x="7482" y="4492"/>
                  </a:lnTo>
                  <a:lnTo>
                    <a:pt x="7493" y="4633"/>
                  </a:lnTo>
                  <a:lnTo>
                    <a:pt x="7506" y="4775"/>
                  </a:lnTo>
                  <a:lnTo>
                    <a:pt x="7519" y="4917"/>
                  </a:lnTo>
                  <a:lnTo>
                    <a:pt x="7535" y="5062"/>
                  </a:lnTo>
                  <a:lnTo>
                    <a:pt x="7551" y="5206"/>
                  </a:lnTo>
                  <a:lnTo>
                    <a:pt x="7568" y="5353"/>
                  </a:lnTo>
                  <a:lnTo>
                    <a:pt x="7586" y="5499"/>
                  </a:lnTo>
                  <a:lnTo>
                    <a:pt x="7605" y="5648"/>
                  </a:lnTo>
                  <a:lnTo>
                    <a:pt x="7613" y="5681"/>
                  </a:lnTo>
                  <a:lnTo>
                    <a:pt x="7619" y="5714"/>
                  </a:lnTo>
                  <a:lnTo>
                    <a:pt x="7622" y="5744"/>
                  </a:lnTo>
                  <a:lnTo>
                    <a:pt x="7625" y="5773"/>
                  </a:lnTo>
                  <a:lnTo>
                    <a:pt x="7626" y="5800"/>
                  </a:lnTo>
                  <a:lnTo>
                    <a:pt x="7625" y="5826"/>
                  </a:lnTo>
                  <a:lnTo>
                    <a:pt x="7623" y="5850"/>
                  </a:lnTo>
                  <a:lnTo>
                    <a:pt x="7620" y="5872"/>
                  </a:lnTo>
                  <a:lnTo>
                    <a:pt x="7615" y="5893"/>
                  </a:lnTo>
                  <a:lnTo>
                    <a:pt x="7608" y="5912"/>
                  </a:lnTo>
                  <a:lnTo>
                    <a:pt x="7601" y="5929"/>
                  </a:lnTo>
                  <a:lnTo>
                    <a:pt x="7592" y="5945"/>
                  </a:lnTo>
                  <a:lnTo>
                    <a:pt x="7582" y="5961"/>
                  </a:lnTo>
                  <a:lnTo>
                    <a:pt x="7571" y="5973"/>
                  </a:lnTo>
                  <a:lnTo>
                    <a:pt x="7558" y="5986"/>
                  </a:lnTo>
                  <a:lnTo>
                    <a:pt x="7545" y="5996"/>
                  </a:lnTo>
                  <a:lnTo>
                    <a:pt x="7530" y="6006"/>
                  </a:lnTo>
                  <a:lnTo>
                    <a:pt x="7514" y="6014"/>
                  </a:lnTo>
                  <a:lnTo>
                    <a:pt x="7497" y="6020"/>
                  </a:lnTo>
                  <a:lnTo>
                    <a:pt x="7480" y="6026"/>
                  </a:lnTo>
                  <a:lnTo>
                    <a:pt x="7462" y="6031"/>
                  </a:lnTo>
                  <a:lnTo>
                    <a:pt x="7442" y="6034"/>
                  </a:lnTo>
                  <a:lnTo>
                    <a:pt x="7422" y="6036"/>
                  </a:lnTo>
                  <a:lnTo>
                    <a:pt x="7401" y="6036"/>
                  </a:lnTo>
                  <a:lnTo>
                    <a:pt x="7380" y="6036"/>
                  </a:lnTo>
                  <a:lnTo>
                    <a:pt x="7358" y="6035"/>
                  </a:lnTo>
                  <a:lnTo>
                    <a:pt x="7335" y="6033"/>
                  </a:lnTo>
                  <a:lnTo>
                    <a:pt x="7312" y="6030"/>
                  </a:lnTo>
                  <a:lnTo>
                    <a:pt x="7288" y="6026"/>
                  </a:lnTo>
                  <a:lnTo>
                    <a:pt x="7264" y="6020"/>
                  </a:lnTo>
                  <a:lnTo>
                    <a:pt x="7239" y="6014"/>
                  </a:lnTo>
                  <a:lnTo>
                    <a:pt x="7214" y="6008"/>
                  </a:lnTo>
                  <a:lnTo>
                    <a:pt x="7039" y="5961"/>
                  </a:lnTo>
                  <a:lnTo>
                    <a:pt x="6861" y="5922"/>
                  </a:lnTo>
                  <a:lnTo>
                    <a:pt x="6683" y="5892"/>
                  </a:lnTo>
                  <a:lnTo>
                    <a:pt x="6504" y="5869"/>
                  </a:lnTo>
                  <a:lnTo>
                    <a:pt x="6324" y="5853"/>
                  </a:lnTo>
                  <a:lnTo>
                    <a:pt x="6145" y="5844"/>
                  </a:lnTo>
                  <a:lnTo>
                    <a:pt x="5965" y="5841"/>
                  </a:lnTo>
                  <a:lnTo>
                    <a:pt x="5786" y="5846"/>
                  </a:lnTo>
                  <a:lnTo>
                    <a:pt x="5607" y="5856"/>
                  </a:lnTo>
                  <a:lnTo>
                    <a:pt x="5429" y="5873"/>
                  </a:lnTo>
                  <a:lnTo>
                    <a:pt x="5253" y="5895"/>
                  </a:lnTo>
                  <a:lnTo>
                    <a:pt x="5079" y="5922"/>
                  </a:lnTo>
                  <a:lnTo>
                    <a:pt x="4908" y="5954"/>
                  </a:lnTo>
                  <a:lnTo>
                    <a:pt x="4739" y="5992"/>
                  </a:lnTo>
                  <a:lnTo>
                    <a:pt x="4573" y="6034"/>
                  </a:lnTo>
                  <a:lnTo>
                    <a:pt x="4410" y="6080"/>
                  </a:lnTo>
                  <a:lnTo>
                    <a:pt x="4251" y="6130"/>
                  </a:lnTo>
                  <a:lnTo>
                    <a:pt x="4096" y="6185"/>
                  </a:lnTo>
                  <a:lnTo>
                    <a:pt x="3945" y="6242"/>
                  </a:lnTo>
                  <a:lnTo>
                    <a:pt x="3799" y="6303"/>
                  </a:lnTo>
                  <a:lnTo>
                    <a:pt x="3657" y="6367"/>
                  </a:lnTo>
                  <a:lnTo>
                    <a:pt x="3521" y="6434"/>
                  </a:lnTo>
                  <a:lnTo>
                    <a:pt x="3392" y="6503"/>
                  </a:lnTo>
                  <a:lnTo>
                    <a:pt x="3267" y="6573"/>
                  </a:lnTo>
                  <a:lnTo>
                    <a:pt x="3149" y="6646"/>
                  </a:lnTo>
                  <a:lnTo>
                    <a:pt x="3038" y="6720"/>
                  </a:lnTo>
                  <a:lnTo>
                    <a:pt x="2934" y="6797"/>
                  </a:lnTo>
                  <a:lnTo>
                    <a:pt x="2838" y="6873"/>
                  </a:lnTo>
                  <a:lnTo>
                    <a:pt x="2749" y="6952"/>
                  </a:lnTo>
                  <a:lnTo>
                    <a:pt x="2668" y="7030"/>
                  </a:lnTo>
                  <a:lnTo>
                    <a:pt x="2597" y="7109"/>
                  </a:lnTo>
                  <a:lnTo>
                    <a:pt x="2533" y="7187"/>
                  </a:lnTo>
                  <a:lnTo>
                    <a:pt x="2387" y="6894"/>
                  </a:lnTo>
                  <a:lnTo>
                    <a:pt x="2476" y="6794"/>
                  </a:lnTo>
                  <a:lnTo>
                    <a:pt x="2574" y="6694"/>
                  </a:lnTo>
                  <a:lnTo>
                    <a:pt x="2683" y="6599"/>
                  </a:lnTo>
                  <a:lnTo>
                    <a:pt x="2800" y="6505"/>
                  </a:lnTo>
                  <a:lnTo>
                    <a:pt x="2926" y="6414"/>
                  </a:lnTo>
                  <a:lnTo>
                    <a:pt x="3059" y="6327"/>
                  </a:lnTo>
                  <a:lnTo>
                    <a:pt x="3199" y="6242"/>
                  </a:lnTo>
                  <a:lnTo>
                    <a:pt x="3347" y="6161"/>
                  </a:lnTo>
                  <a:lnTo>
                    <a:pt x="3499" y="6083"/>
                  </a:lnTo>
                  <a:lnTo>
                    <a:pt x="3657" y="6010"/>
                  </a:lnTo>
                  <a:lnTo>
                    <a:pt x="3821" y="5940"/>
                  </a:lnTo>
                  <a:lnTo>
                    <a:pt x="3988" y="5874"/>
                  </a:lnTo>
                  <a:lnTo>
                    <a:pt x="4158" y="5813"/>
                  </a:lnTo>
                  <a:lnTo>
                    <a:pt x="4331" y="5756"/>
                  </a:lnTo>
                  <a:lnTo>
                    <a:pt x="4507" y="5704"/>
                  </a:lnTo>
                  <a:lnTo>
                    <a:pt x="4685" y="5656"/>
                  </a:lnTo>
                  <a:lnTo>
                    <a:pt x="4864" y="5614"/>
                  </a:lnTo>
                  <a:lnTo>
                    <a:pt x="5043" y="5578"/>
                  </a:lnTo>
                  <a:lnTo>
                    <a:pt x="5222" y="5546"/>
                  </a:lnTo>
                  <a:lnTo>
                    <a:pt x="5399" y="5520"/>
                  </a:lnTo>
                  <a:lnTo>
                    <a:pt x="5576" y="5501"/>
                  </a:lnTo>
                  <a:lnTo>
                    <a:pt x="5751" y="5487"/>
                  </a:lnTo>
                  <a:lnTo>
                    <a:pt x="5924" y="5479"/>
                  </a:lnTo>
                  <a:lnTo>
                    <a:pt x="6093" y="5478"/>
                  </a:lnTo>
                  <a:lnTo>
                    <a:pt x="6259" y="5484"/>
                  </a:lnTo>
                  <a:lnTo>
                    <a:pt x="6420" y="5496"/>
                  </a:lnTo>
                  <a:lnTo>
                    <a:pt x="6576" y="5516"/>
                  </a:lnTo>
                  <a:lnTo>
                    <a:pt x="6726" y="5542"/>
                  </a:lnTo>
                  <a:lnTo>
                    <a:pt x="6871" y="5576"/>
                  </a:lnTo>
                  <a:lnTo>
                    <a:pt x="7009" y="5617"/>
                  </a:lnTo>
                  <a:lnTo>
                    <a:pt x="7140" y="5667"/>
                  </a:lnTo>
                  <a:lnTo>
                    <a:pt x="7262" y="5723"/>
                  </a:lnTo>
                  <a:lnTo>
                    <a:pt x="7247" y="5579"/>
                  </a:lnTo>
                  <a:lnTo>
                    <a:pt x="7235" y="5434"/>
                  </a:lnTo>
                  <a:lnTo>
                    <a:pt x="7222" y="5291"/>
                  </a:lnTo>
                  <a:lnTo>
                    <a:pt x="7211" y="5147"/>
                  </a:lnTo>
                  <a:lnTo>
                    <a:pt x="7199" y="5002"/>
                  </a:lnTo>
                  <a:lnTo>
                    <a:pt x="7190" y="4859"/>
                  </a:lnTo>
                  <a:lnTo>
                    <a:pt x="7181" y="4716"/>
                  </a:lnTo>
                  <a:lnTo>
                    <a:pt x="7174" y="4571"/>
                  </a:lnTo>
                  <a:lnTo>
                    <a:pt x="7167" y="4428"/>
                  </a:lnTo>
                  <a:lnTo>
                    <a:pt x="7162" y="4284"/>
                  </a:lnTo>
                  <a:lnTo>
                    <a:pt x="7156" y="4141"/>
                  </a:lnTo>
                  <a:lnTo>
                    <a:pt x="7153" y="3998"/>
                  </a:lnTo>
                  <a:lnTo>
                    <a:pt x="7151" y="3855"/>
                  </a:lnTo>
                  <a:lnTo>
                    <a:pt x="7150" y="3712"/>
                  </a:lnTo>
                  <a:lnTo>
                    <a:pt x="7150" y="3569"/>
                  </a:lnTo>
                  <a:lnTo>
                    <a:pt x="7152" y="3426"/>
                  </a:lnTo>
                  <a:lnTo>
                    <a:pt x="7154" y="3284"/>
                  </a:lnTo>
                  <a:lnTo>
                    <a:pt x="7158" y="3141"/>
                  </a:lnTo>
                  <a:lnTo>
                    <a:pt x="7164" y="2998"/>
                  </a:lnTo>
                  <a:lnTo>
                    <a:pt x="7170" y="2856"/>
                  </a:lnTo>
                  <a:lnTo>
                    <a:pt x="7178" y="2714"/>
                  </a:lnTo>
                  <a:lnTo>
                    <a:pt x="7187" y="2573"/>
                  </a:lnTo>
                  <a:lnTo>
                    <a:pt x="7198" y="2430"/>
                  </a:lnTo>
                  <a:lnTo>
                    <a:pt x="7210" y="2288"/>
                  </a:lnTo>
                  <a:lnTo>
                    <a:pt x="7223" y="2147"/>
                  </a:lnTo>
                  <a:lnTo>
                    <a:pt x="7239" y="2004"/>
                  </a:lnTo>
                  <a:lnTo>
                    <a:pt x="7256" y="1863"/>
                  </a:lnTo>
                  <a:lnTo>
                    <a:pt x="7274" y="1722"/>
                  </a:lnTo>
                  <a:lnTo>
                    <a:pt x="7293" y="1581"/>
                  </a:lnTo>
                  <a:lnTo>
                    <a:pt x="7315" y="1439"/>
                  </a:lnTo>
                  <a:lnTo>
                    <a:pt x="7338" y="1298"/>
                  </a:lnTo>
                  <a:lnTo>
                    <a:pt x="7362" y="1157"/>
                  </a:lnTo>
                  <a:lnTo>
                    <a:pt x="7372" y="1134"/>
                  </a:lnTo>
                  <a:lnTo>
                    <a:pt x="7380" y="1112"/>
                  </a:lnTo>
                  <a:lnTo>
                    <a:pt x="7388" y="1090"/>
                  </a:lnTo>
                  <a:lnTo>
                    <a:pt x="7393" y="1069"/>
                  </a:lnTo>
                  <a:lnTo>
                    <a:pt x="7397" y="1048"/>
                  </a:lnTo>
                  <a:lnTo>
                    <a:pt x="7400" y="1027"/>
                  </a:lnTo>
                  <a:lnTo>
                    <a:pt x="7402" y="1007"/>
                  </a:lnTo>
                  <a:lnTo>
                    <a:pt x="7402" y="987"/>
                  </a:lnTo>
                  <a:lnTo>
                    <a:pt x="7401" y="967"/>
                  </a:lnTo>
                  <a:lnTo>
                    <a:pt x="7399" y="949"/>
                  </a:lnTo>
                  <a:lnTo>
                    <a:pt x="7396" y="930"/>
                  </a:lnTo>
                  <a:lnTo>
                    <a:pt x="7391" y="911"/>
                  </a:lnTo>
                  <a:lnTo>
                    <a:pt x="7384" y="893"/>
                  </a:lnTo>
                  <a:lnTo>
                    <a:pt x="7377" y="875"/>
                  </a:lnTo>
                  <a:lnTo>
                    <a:pt x="7369" y="859"/>
                  </a:lnTo>
                  <a:lnTo>
                    <a:pt x="7358" y="842"/>
                  </a:lnTo>
                  <a:lnTo>
                    <a:pt x="7347" y="825"/>
                  </a:lnTo>
                  <a:lnTo>
                    <a:pt x="7334" y="808"/>
                  </a:lnTo>
                  <a:lnTo>
                    <a:pt x="7321" y="793"/>
                  </a:lnTo>
                  <a:lnTo>
                    <a:pt x="7305" y="778"/>
                  </a:lnTo>
                  <a:lnTo>
                    <a:pt x="7288" y="762"/>
                  </a:lnTo>
                  <a:lnTo>
                    <a:pt x="7270" y="748"/>
                  </a:lnTo>
                  <a:lnTo>
                    <a:pt x="7252" y="734"/>
                  </a:lnTo>
                  <a:lnTo>
                    <a:pt x="7231" y="719"/>
                  </a:lnTo>
                  <a:lnTo>
                    <a:pt x="7209" y="706"/>
                  </a:lnTo>
                  <a:lnTo>
                    <a:pt x="7186" y="693"/>
                  </a:lnTo>
                  <a:lnTo>
                    <a:pt x="7162" y="681"/>
                  </a:lnTo>
                  <a:lnTo>
                    <a:pt x="7135" y="668"/>
                  </a:lnTo>
                  <a:lnTo>
                    <a:pt x="7108" y="656"/>
                  </a:lnTo>
                  <a:lnTo>
                    <a:pt x="7080" y="644"/>
                  </a:lnTo>
                  <a:lnTo>
                    <a:pt x="7051" y="633"/>
                  </a:lnTo>
                  <a:lnTo>
                    <a:pt x="7019" y="622"/>
                  </a:lnTo>
                  <a:lnTo>
                    <a:pt x="6825" y="575"/>
                  </a:lnTo>
                  <a:lnTo>
                    <a:pt x="6632" y="533"/>
                  </a:lnTo>
                  <a:lnTo>
                    <a:pt x="6441" y="498"/>
                  </a:lnTo>
                  <a:lnTo>
                    <a:pt x="6251" y="465"/>
                  </a:lnTo>
                  <a:lnTo>
                    <a:pt x="6063" y="439"/>
                  </a:lnTo>
                  <a:lnTo>
                    <a:pt x="5877" y="418"/>
                  </a:lnTo>
                  <a:lnTo>
                    <a:pt x="5691" y="403"/>
                  </a:lnTo>
                  <a:lnTo>
                    <a:pt x="5509" y="394"/>
                  </a:lnTo>
                  <a:lnTo>
                    <a:pt x="5327" y="390"/>
                  </a:lnTo>
                  <a:lnTo>
                    <a:pt x="5148" y="392"/>
                  </a:lnTo>
                  <a:lnTo>
                    <a:pt x="4972" y="399"/>
                  </a:lnTo>
                  <a:lnTo>
                    <a:pt x="4797" y="414"/>
                  </a:lnTo>
                  <a:lnTo>
                    <a:pt x="4623" y="434"/>
                  </a:lnTo>
                  <a:lnTo>
                    <a:pt x="4451" y="461"/>
                  </a:lnTo>
                  <a:lnTo>
                    <a:pt x="4283" y="493"/>
                  </a:lnTo>
                  <a:lnTo>
                    <a:pt x="4116" y="533"/>
                  </a:lnTo>
                  <a:lnTo>
                    <a:pt x="3950" y="579"/>
                  </a:lnTo>
                  <a:lnTo>
                    <a:pt x="3788" y="633"/>
                  </a:lnTo>
                  <a:lnTo>
                    <a:pt x="3628" y="693"/>
                  </a:lnTo>
                  <a:lnTo>
                    <a:pt x="3469" y="760"/>
                  </a:lnTo>
                  <a:lnTo>
                    <a:pt x="3313" y="836"/>
                  </a:lnTo>
                  <a:lnTo>
                    <a:pt x="3160" y="917"/>
                  </a:lnTo>
                  <a:lnTo>
                    <a:pt x="3009" y="1006"/>
                  </a:lnTo>
                  <a:lnTo>
                    <a:pt x="2860" y="1103"/>
                  </a:lnTo>
                  <a:lnTo>
                    <a:pt x="2713" y="1208"/>
                  </a:lnTo>
                  <a:lnTo>
                    <a:pt x="2570" y="1320"/>
                  </a:lnTo>
                  <a:lnTo>
                    <a:pt x="2429" y="1440"/>
                  </a:lnTo>
                  <a:lnTo>
                    <a:pt x="2290" y="1569"/>
                  </a:lnTo>
                  <a:lnTo>
                    <a:pt x="2154" y="1706"/>
                  </a:lnTo>
                  <a:lnTo>
                    <a:pt x="2021" y="1851"/>
                  </a:lnTo>
                  <a:lnTo>
                    <a:pt x="1890" y="2004"/>
                  </a:lnTo>
                  <a:lnTo>
                    <a:pt x="1761" y="2166"/>
                  </a:lnTo>
                  <a:lnTo>
                    <a:pt x="1715" y="2192"/>
                  </a:lnTo>
                  <a:lnTo>
                    <a:pt x="1664" y="2216"/>
                  </a:lnTo>
                  <a:lnTo>
                    <a:pt x="1610" y="2237"/>
                  </a:lnTo>
                  <a:lnTo>
                    <a:pt x="1551" y="2254"/>
                  </a:lnTo>
                  <a:lnTo>
                    <a:pt x="1490" y="2269"/>
                  </a:lnTo>
                  <a:lnTo>
                    <a:pt x="1426" y="2281"/>
                  </a:lnTo>
                  <a:lnTo>
                    <a:pt x="1360" y="2290"/>
                  </a:lnTo>
                  <a:lnTo>
                    <a:pt x="1292" y="2296"/>
                  </a:lnTo>
                  <a:lnTo>
                    <a:pt x="1223" y="2299"/>
                  </a:lnTo>
                  <a:lnTo>
                    <a:pt x="1152" y="2299"/>
                  </a:lnTo>
                  <a:lnTo>
                    <a:pt x="1081" y="2295"/>
                  </a:lnTo>
                  <a:lnTo>
                    <a:pt x="1009" y="2289"/>
                  </a:lnTo>
                  <a:lnTo>
                    <a:pt x="937" y="2280"/>
                  </a:lnTo>
                  <a:lnTo>
                    <a:pt x="865" y="2267"/>
                  </a:lnTo>
                  <a:lnTo>
                    <a:pt x="793" y="2250"/>
                  </a:lnTo>
                  <a:lnTo>
                    <a:pt x="723" y="2230"/>
                  </a:lnTo>
                  <a:lnTo>
                    <a:pt x="653" y="2208"/>
                  </a:lnTo>
                  <a:lnTo>
                    <a:pt x="585" y="2181"/>
                  </a:lnTo>
                  <a:lnTo>
                    <a:pt x="520" y="2152"/>
                  </a:lnTo>
                  <a:lnTo>
                    <a:pt x="456" y="2118"/>
                  </a:lnTo>
                  <a:lnTo>
                    <a:pt x="395" y="2082"/>
                  </a:lnTo>
                  <a:lnTo>
                    <a:pt x="337" y="2041"/>
                  </a:lnTo>
                  <a:lnTo>
                    <a:pt x="283" y="1997"/>
                  </a:lnTo>
                  <a:lnTo>
                    <a:pt x="231" y="1949"/>
                  </a:lnTo>
                  <a:lnTo>
                    <a:pt x="185" y="1898"/>
                  </a:lnTo>
                  <a:lnTo>
                    <a:pt x="143" y="1842"/>
                  </a:lnTo>
                  <a:lnTo>
                    <a:pt x="105" y="1784"/>
                  </a:lnTo>
                  <a:lnTo>
                    <a:pt x="72" y="1720"/>
                  </a:lnTo>
                  <a:lnTo>
                    <a:pt x="45" y="1654"/>
                  </a:lnTo>
                  <a:lnTo>
                    <a:pt x="24" y="1583"/>
                  </a:lnTo>
                  <a:lnTo>
                    <a:pt x="9" y="1507"/>
                  </a:lnTo>
                  <a:lnTo>
                    <a:pt x="0" y="1429"/>
                  </a:lnTo>
                  <a:lnTo>
                    <a:pt x="26" y="965"/>
                  </a:lnTo>
                  <a:lnTo>
                    <a:pt x="389" y="9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19040" y="4110840"/>
              <a:ext cx="104760" cy="245520"/>
            </a:xfrm>
            <a:custGeom>
              <a:avLst/>
              <a:gdLst/>
              <a:ahLst/>
              <a:rect l="l" t="t" r="r" b="b"/>
              <a:pathLst>
                <a:path w="2817" h="7209">
                  <a:moveTo>
                    <a:pt x="368" y="386"/>
                  </a:moveTo>
                  <a:lnTo>
                    <a:pt x="200" y="119"/>
                  </a:lnTo>
                  <a:lnTo>
                    <a:pt x="26" y="0"/>
                  </a:lnTo>
                  <a:lnTo>
                    <a:pt x="13" y="198"/>
                  </a:lnTo>
                  <a:lnTo>
                    <a:pt x="4" y="404"/>
                  </a:lnTo>
                  <a:lnTo>
                    <a:pt x="0" y="616"/>
                  </a:lnTo>
                  <a:lnTo>
                    <a:pt x="2" y="835"/>
                  </a:lnTo>
                  <a:lnTo>
                    <a:pt x="8" y="1059"/>
                  </a:lnTo>
                  <a:lnTo>
                    <a:pt x="19" y="1288"/>
                  </a:lnTo>
                  <a:lnTo>
                    <a:pt x="32" y="1521"/>
                  </a:lnTo>
                  <a:lnTo>
                    <a:pt x="51" y="1757"/>
                  </a:lnTo>
                  <a:lnTo>
                    <a:pt x="72" y="1995"/>
                  </a:lnTo>
                  <a:lnTo>
                    <a:pt x="96" y="2235"/>
                  </a:lnTo>
                  <a:lnTo>
                    <a:pt x="123" y="2477"/>
                  </a:lnTo>
                  <a:lnTo>
                    <a:pt x="153" y="2717"/>
                  </a:lnTo>
                  <a:lnTo>
                    <a:pt x="184" y="2957"/>
                  </a:lnTo>
                  <a:lnTo>
                    <a:pt x="218" y="3195"/>
                  </a:lnTo>
                  <a:lnTo>
                    <a:pt x="253" y="3432"/>
                  </a:lnTo>
                  <a:lnTo>
                    <a:pt x="290" y="3665"/>
                  </a:lnTo>
                  <a:lnTo>
                    <a:pt x="326" y="3895"/>
                  </a:lnTo>
                  <a:lnTo>
                    <a:pt x="365" y="4120"/>
                  </a:lnTo>
                  <a:lnTo>
                    <a:pt x="403" y="4340"/>
                  </a:lnTo>
                  <a:lnTo>
                    <a:pt x="442" y="4554"/>
                  </a:lnTo>
                  <a:lnTo>
                    <a:pt x="480" y="4761"/>
                  </a:lnTo>
                  <a:lnTo>
                    <a:pt x="518" y="4960"/>
                  </a:lnTo>
                  <a:lnTo>
                    <a:pt x="556" y="5150"/>
                  </a:lnTo>
                  <a:lnTo>
                    <a:pt x="591" y="5332"/>
                  </a:lnTo>
                  <a:lnTo>
                    <a:pt x="659" y="5664"/>
                  </a:lnTo>
                  <a:lnTo>
                    <a:pt x="719" y="5949"/>
                  </a:lnTo>
                  <a:lnTo>
                    <a:pt x="769" y="6184"/>
                  </a:lnTo>
                  <a:lnTo>
                    <a:pt x="807" y="6359"/>
                  </a:lnTo>
                  <a:lnTo>
                    <a:pt x="818" y="6453"/>
                  </a:lnTo>
                  <a:lnTo>
                    <a:pt x="841" y="6541"/>
                  </a:lnTo>
                  <a:lnTo>
                    <a:pt x="874" y="6624"/>
                  </a:lnTo>
                  <a:lnTo>
                    <a:pt x="916" y="6703"/>
                  </a:lnTo>
                  <a:lnTo>
                    <a:pt x="966" y="6775"/>
                  </a:lnTo>
                  <a:lnTo>
                    <a:pt x="1023" y="6843"/>
                  </a:lnTo>
                  <a:lnTo>
                    <a:pt x="1088" y="6905"/>
                  </a:lnTo>
                  <a:lnTo>
                    <a:pt x="1159" y="6961"/>
                  </a:lnTo>
                  <a:lnTo>
                    <a:pt x="1235" y="7012"/>
                  </a:lnTo>
                  <a:lnTo>
                    <a:pt x="1316" y="7057"/>
                  </a:lnTo>
                  <a:lnTo>
                    <a:pt x="1401" y="7096"/>
                  </a:lnTo>
                  <a:lnTo>
                    <a:pt x="1489" y="7130"/>
                  </a:lnTo>
                  <a:lnTo>
                    <a:pt x="1580" y="7158"/>
                  </a:lnTo>
                  <a:lnTo>
                    <a:pt x="1672" y="7179"/>
                  </a:lnTo>
                  <a:lnTo>
                    <a:pt x="1766" y="7196"/>
                  </a:lnTo>
                  <a:lnTo>
                    <a:pt x="1860" y="7205"/>
                  </a:lnTo>
                  <a:lnTo>
                    <a:pt x="1954" y="7209"/>
                  </a:lnTo>
                  <a:lnTo>
                    <a:pt x="2046" y="7206"/>
                  </a:lnTo>
                  <a:lnTo>
                    <a:pt x="2137" y="7198"/>
                  </a:lnTo>
                  <a:lnTo>
                    <a:pt x="2225" y="7183"/>
                  </a:lnTo>
                  <a:lnTo>
                    <a:pt x="2309" y="7161"/>
                  </a:lnTo>
                  <a:lnTo>
                    <a:pt x="2390" y="7134"/>
                  </a:lnTo>
                  <a:lnTo>
                    <a:pt x="2466" y="7099"/>
                  </a:lnTo>
                  <a:lnTo>
                    <a:pt x="2536" y="7059"/>
                  </a:lnTo>
                  <a:lnTo>
                    <a:pt x="2601" y="7012"/>
                  </a:lnTo>
                  <a:lnTo>
                    <a:pt x="2659" y="6958"/>
                  </a:lnTo>
                  <a:lnTo>
                    <a:pt x="2708" y="6897"/>
                  </a:lnTo>
                  <a:lnTo>
                    <a:pt x="2750" y="6829"/>
                  </a:lnTo>
                  <a:lnTo>
                    <a:pt x="2781" y="6755"/>
                  </a:lnTo>
                  <a:lnTo>
                    <a:pt x="2804" y="6674"/>
                  </a:lnTo>
                  <a:lnTo>
                    <a:pt x="2816" y="6586"/>
                  </a:lnTo>
                  <a:lnTo>
                    <a:pt x="2817" y="6490"/>
                  </a:lnTo>
                  <a:lnTo>
                    <a:pt x="2770" y="6331"/>
                  </a:lnTo>
                  <a:lnTo>
                    <a:pt x="2725" y="6173"/>
                  </a:lnTo>
                  <a:lnTo>
                    <a:pt x="2681" y="6015"/>
                  </a:lnTo>
                  <a:lnTo>
                    <a:pt x="2639" y="5856"/>
                  </a:lnTo>
                  <a:lnTo>
                    <a:pt x="2597" y="5697"/>
                  </a:lnTo>
                  <a:lnTo>
                    <a:pt x="2557" y="5538"/>
                  </a:lnTo>
                  <a:lnTo>
                    <a:pt x="2518" y="5379"/>
                  </a:lnTo>
                  <a:lnTo>
                    <a:pt x="2480" y="5219"/>
                  </a:lnTo>
                  <a:lnTo>
                    <a:pt x="2443" y="5060"/>
                  </a:lnTo>
                  <a:lnTo>
                    <a:pt x="2409" y="4900"/>
                  </a:lnTo>
                  <a:lnTo>
                    <a:pt x="2374" y="4740"/>
                  </a:lnTo>
                  <a:lnTo>
                    <a:pt x="2342" y="4580"/>
                  </a:lnTo>
                  <a:lnTo>
                    <a:pt x="2310" y="4420"/>
                  </a:lnTo>
                  <a:lnTo>
                    <a:pt x="2280" y="4259"/>
                  </a:lnTo>
                  <a:lnTo>
                    <a:pt x="2252" y="4098"/>
                  </a:lnTo>
                  <a:lnTo>
                    <a:pt x="2224" y="3937"/>
                  </a:lnTo>
                  <a:lnTo>
                    <a:pt x="2197" y="3776"/>
                  </a:lnTo>
                  <a:lnTo>
                    <a:pt x="2172" y="3615"/>
                  </a:lnTo>
                  <a:lnTo>
                    <a:pt x="2149" y="3453"/>
                  </a:lnTo>
                  <a:lnTo>
                    <a:pt x="2126" y="3292"/>
                  </a:lnTo>
                  <a:lnTo>
                    <a:pt x="2105" y="3129"/>
                  </a:lnTo>
                  <a:lnTo>
                    <a:pt x="2086" y="2967"/>
                  </a:lnTo>
                  <a:lnTo>
                    <a:pt x="2068" y="2805"/>
                  </a:lnTo>
                  <a:lnTo>
                    <a:pt x="2051" y="2643"/>
                  </a:lnTo>
                  <a:lnTo>
                    <a:pt x="2035" y="2481"/>
                  </a:lnTo>
                  <a:lnTo>
                    <a:pt x="2022" y="2318"/>
                  </a:lnTo>
                  <a:lnTo>
                    <a:pt x="2008" y="2154"/>
                  </a:lnTo>
                  <a:lnTo>
                    <a:pt x="1998" y="1991"/>
                  </a:lnTo>
                  <a:lnTo>
                    <a:pt x="1987" y="1828"/>
                  </a:lnTo>
                  <a:lnTo>
                    <a:pt x="1979" y="1664"/>
                  </a:lnTo>
                  <a:lnTo>
                    <a:pt x="1971" y="1500"/>
                  </a:lnTo>
                  <a:lnTo>
                    <a:pt x="1966" y="1336"/>
                  </a:lnTo>
                  <a:lnTo>
                    <a:pt x="1672" y="1653"/>
                  </a:lnTo>
                  <a:lnTo>
                    <a:pt x="1672" y="1807"/>
                  </a:lnTo>
                  <a:lnTo>
                    <a:pt x="1674" y="1960"/>
                  </a:lnTo>
                  <a:lnTo>
                    <a:pt x="1678" y="2113"/>
                  </a:lnTo>
                  <a:lnTo>
                    <a:pt x="1685" y="2267"/>
                  </a:lnTo>
                  <a:lnTo>
                    <a:pt x="1693" y="2420"/>
                  </a:lnTo>
                  <a:lnTo>
                    <a:pt x="1704" y="2574"/>
                  </a:lnTo>
                  <a:lnTo>
                    <a:pt x="1716" y="2728"/>
                  </a:lnTo>
                  <a:lnTo>
                    <a:pt x="1731" y="2882"/>
                  </a:lnTo>
                  <a:lnTo>
                    <a:pt x="1746" y="3034"/>
                  </a:lnTo>
                  <a:lnTo>
                    <a:pt x="1764" y="3188"/>
                  </a:lnTo>
                  <a:lnTo>
                    <a:pt x="1784" y="3342"/>
                  </a:lnTo>
                  <a:lnTo>
                    <a:pt x="1805" y="3496"/>
                  </a:lnTo>
                  <a:lnTo>
                    <a:pt x="1828" y="3649"/>
                  </a:lnTo>
                  <a:lnTo>
                    <a:pt x="1853" y="3802"/>
                  </a:lnTo>
                  <a:lnTo>
                    <a:pt x="1879" y="3956"/>
                  </a:lnTo>
                  <a:lnTo>
                    <a:pt x="1907" y="4109"/>
                  </a:lnTo>
                  <a:lnTo>
                    <a:pt x="1936" y="4263"/>
                  </a:lnTo>
                  <a:lnTo>
                    <a:pt x="1966" y="4415"/>
                  </a:lnTo>
                  <a:lnTo>
                    <a:pt x="1999" y="4568"/>
                  </a:lnTo>
                  <a:lnTo>
                    <a:pt x="2032" y="4721"/>
                  </a:lnTo>
                  <a:lnTo>
                    <a:pt x="2067" y="4874"/>
                  </a:lnTo>
                  <a:lnTo>
                    <a:pt x="2103" y="5027"/>
                  </a:lnTo>
                  <a:lnTo>
                    <a:pt x="2140" y="5178"/>
                  </a:lnTo>
                  <a:lnTo>
                    <a:pt x="2179" y="5331"/>
                  </a:lnTo>
                  <a:lnTo>
                    <a:pt x="2218" y="5483"/>
                  </a:lnTo>
                  <a:lnTo>
                    <a:pt x="2259" y="5635"/>
                  </a:lnTo>
                  <a:lnTo>
                    <a:pt x="2301" y="5786"/>
                  </a:lnTo>
                  <a:lnTo>
                    <a:pt x="2344" y="5938"/>
                  </a:lnTo>
                  <a:lnTo>
                    <a:pt x="2387" y="6089"/>
                  </a:lnTo>
                  <a:lnTo>
                    <a:pt x="2432" y="6239"/>
                  </a:lnTo>
                  <a:lnTo>
                    <a:pt x="2478" y="6390"/>
                  </a:lnTo>
                  <a:lnTo>
                    <a:pt x="2524" y="6541"/>
                  </a:lnTo>
                  <a:lnTo>
                    <a:pt x="2511" y="6587"/>
                  </a:lnTo>
                  <a:lnTo>
                    <a:pt x="2494" y="6628"/>
                  </a:lnTo>
                  <a:lnTo>
                    <a:pt x="2468" y="6664"/>
                  </a:lnTo>
                  <a:lnTo>
                    <a:pt x="2438" y="6697"/>
                  </a:lnTo>
                  <a:lnTo>
                    <a:pt x="2402" y="6725"/>
                  </a:lnTo>
                  <a:lnTo>
                    <a:pt x="2362" y="6750"/>
                  </a:lnTo>
                  <a:lnTo>
                    <a:pt x="2317" y="6770"/>
                  </a:lnTo>
                  <a:lnTo>
                    <a:pt x="2269" y="6788"/>
                  </a:lnTo>
                  <a:lnTo>
                    <a:pt x="2216" y="6800"/>
                  </a:lnTo>
                  <a:lnTo>
                    <a:pt x="2161" y="6811"/>
                  </a:lnTo>
                  <a:lnTo>
                    <a:pt x="2103" y="6817"/>
                  </a:lnTo>
                  <a:lnTo>
                    <a:pt x="2044" y="6820"/>
                  </a:lnTo>
                  <a:lnTo>
                    <a:pt x="1982" y="6821"/>
                  </a:lnTo>
                  <a:lnTo>
                    <a:pt x="1919" y="6818"/>
                  </a:lnTo>
                  <a:lnTo>
                    <a:pt x="1855" y="6813"/>
                  </a:lnTo>
                  <a:lnTo>
                    <a:pt x="1792" y="6804"/>
                  </a:lnTo>
                  <a:lnTo>
                    <a:pt x="1729" y="6793"/>
                  </a:lnTo>
                  <a:lnTo>
                    <a:pt x="1666" y="6780"/>
                  </a:lnTo>
                  <a:lnTo>
                    <a:pt x="1603" y="6765"/>
                  </a:lnTo>
                  <a:lnTo>
                    <a:pt x="1543" y="6746"/>
                  </a:lnTo>
                  <a:lnTo>
                    <a:pt x="1485" y="6726"/>
                  </a:lnTo>
                  <a:lnTo>
                    <a:pt x="1428" y="6704"/>
                  </a:lnTo>
                  <a:lnTo>
                    <a:pt x="1375" y="6681"/>
                  </a:lnTo>
                  <a:lnTo>
                    <a:pt x="1325" y="6655"/>
                  </a:lnTo>
                  <a:lnTo>
                    <a:pt x="1279" y="6628"/>
                  </a:lnTo>
                  <a:lnTo>
                    <a:pt x="1237" y="6599"/>
                  </a:lnTo>
                  <a:lnTo>
                    <a:pt x="1199" y="6569"/>
                  </a:lnTo>
                  <a:lnTo>
                    <a:pt x="1167" y="6538"/>
                  </a:lnTo>
                  <a:lnTo>
                    <a:pt x="1141" y="6505"/>
                  </a:lnTo>
                  <a:lnTo>
                    <a:pt x="1120" y="6472"/>
                  </a:lnTo>
                  <a:lnTo>
                    <a:pt x="1105" y="6437"/>
                  </a:lnTo>
                  <a:lnTo>
                    <a:pt x="1098" y="6403"/>
                  </a:lnTo>
                  <a:lnTo>
                    <a:pt x="1072" y="6298"/>
                  </a:lnTo>
                  <a:lnTo>
                    <a:pt x="1044" y="6182"/>
                  </a:lnTo>
                  <a:lnTo>
                    <a:pt x="1016" y="6055"/>
                  </a:lnTo>
                  <a:lnTo>
                    <a:pt x="986" y="5918"/>
                  </a:lnTo>
                  <a:lnTo>
                    <a:pt x="955" y="5774"/>
                  </a:lnTo>
                  <a:lnTo>
                    <a:pt x="924" y="5620"/>
                  </a:lnTo>
                  <a:lnTo>
                    <a:pt x="893" y="5459"/>
                  </a:lnTo>
                  <a:lnTo>
                    <a:pt x="860" y="5291"/>
                  </a:lnTo>
                  <a:lnTo>
                    <a:pt x="828" y="5118"/>
                  </a:lnTo>
                  <a:lnTo>
                    <a:pt x="794" y="4939"/>
                  </a:lnTo>
                  <a:lnTo>
                    <a:pt x="761" y="4756"/>
                  </a:lnTo>
                  <a:lnTo>
                    <a:pt x="728" y="4568"/>
                  </a:lnTo>
                  <a:lnTo>
                    <a:pt x="695" y="4379"/>
                  </a:lnTo>
                  <a:lnTo>
                    <a:pt x="662" y="4186"/>
                  </a:lnTo>
                  <a:lnTo>
                    <a:pt x="631" y="3993"/>
                  </a:lnTo>
                  <a:lnTo>
                    <a:pt x="600" y="3798"/>
                  </a:lnTo>
                  <a:lnTo>
                    <a:pt x="568" y="3605"/>
                  </a:lnTo>
                  <a:lnTo>
                    <a:pt x="539" y="3411"/>
                  </a:lnTo>
                  <a:lnTo>
                    <a:pt x="510" y="3219"/>
                  </a:lnTo>
                  <a:lnTo>
                    <a:pt x="482" y="3030"/>
                  </a:lnTo>
                  <a:lnTo>
                    <a:pt x="455" y="2844"/>
                  </a:lnTo>
                  <a:lnTo>
                    <a:pt x="430" y="2662"/>
                  </a:lnTo>
                  <a:lnTo>
                    <a:pt x="407" y="2484"/>
                  </a:lnTo>
                  <a:lnTo>
                    <a:pt x="385" y="2311"/>
                  </a:lnTo>
                  <a:lnTo>
                    <a:pt x="365" y="2145"/>
                  </a:lnTo>
                  <a:lnTo>
                    <a:pt x="347" y="1986"/>
                  </a:lnTo>
                  <a:lnTo>
                    <a:pt x="332" y="1834"/>
                  </a:lnTo>
                  <a:lnTo>
                    <a:pt x="318" y="1691"/>
                  </a:lnTo>
                  <a:lnTo>
                    <a:pt x="307" y="1557"/>
                  </a:lnTo>
                  <a:lnTo>
                    <a:pt x="297" y="1432"/>
                  </a:lnTo>
                  <a:lnTo>
                    <a:pt x="291" y="1319"/>
                  </a:lnTo>
                  <a:lnTo>
                    <a:pt x="288" y="1217"/>
                  </a:lnTo>
                  <a:lnTo>
                    <a:pt x="309" y="879"/>
                  </a:lnTo>
                  <a:lnTo>
                    <a:pt x="329" y="485"/>
                  </a:lnTo>
                  <a:lnTo>
                    <a:pt x="368" y="38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" name="PlaceHolder 3"/>
          <p:cNvSpPr>
            <a:spLocks noGrp="1"/>
          </p:cNvSpPr>
          <p:nvPr>
            <p:ph type="ftr" idx="1"/>
          </p:nvPr>
        </p:nvSpPr>
        <p:spPr>
          <a:xfrm>
            <a:off x="5094360" y="6635880"/>
            <a:ext cx="387504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 Narrow"/>
              </a:rPr>
              <a:t>9 al 13 de junio de 2003 – UASLP - San Luis Potosí, SLP, Méx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1520" y="6656400"/>
            <a:ext cx="48070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 Narrow"/>
              </a:rPr>
              <a:t>I Foro Nacional sobre la Incorporación de la  Perspectiva Ambiental  a la  Formación Técnica y Profesion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1640" y="1203480"/>
            <a:ext cx="6024600" cy="56880"/>
            <a:chOff x="431640" y="1203480"/>
            <a:chExt cx="6024600" cy="56880"/>
          </a:xfrm>
        </p:grpSpPr>
        <p:sp>
          <p:nvSpPr>
            <p:cNvPr id="43" name=""/>
            <p:cNvSpPr/>
            <p:nvPr/>
          </p:nvSpPr>
          <p:spPr>
            <a:xfrm>
              <a:off x="431640" y="1203480"/>
              <a:ext cx="6024600" cy="5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9000" y="1074240"/>
            <a:ext cx="520056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5560560" y="5632200"/>
            <a:ext cx="331164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 Foro Nacional sobre la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Incorporación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de la </a:t>
            </a:r>
            <a:br>
              <a:rPr sz="1200"/>
            </a:b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Perspectiva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Ambiental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a la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ormación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Técnica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y Profesion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 al 13 de junio de 200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ASLP - San Luis Potosí, SLP, Mé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205160" y="5421240"/>
            <a:ext cx="1203480" cy="1208160"/>
            <a:chOff x="4205160" y="5421240"/>
            <a:chExt cx="1203480" cy="1208160"/>
          </a:xfrm>
        </p:grpSpPr>
        <p:sp>
          <p:nvSpPr>
            <p:cNvPr id="83" name=""/>
            <p:cNvSpPr/>
            <p:nvPr/>
          </p:nvSpPr>
          <p:spPr>
            <a:xfrm>
              <a:off x="4807080" y="5421240"/>
              <a:ext cx="601560" cy="60480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8" y="681"/>
                  </a:lnTo>
                  <a:lnTo>
                    <a:pt x="296" y="684"/>
                  </a:lnTo>
                  <a:lnTo>
                    <a:pt x="395" y="690"/>
                  </a:lnTo>
                  <a:lnTo>
                    <a:pt x="491" y="695"/>
                  </a:lnTo>
                  <a:lnTo>
                    <a:pt x="589" y="702"/>
                  </a:lnTo>
                  <a:lnTo>
                    <a:pt x="686" y="710"/>
                  </a:lnTo>
                  <a:lnTo>
                    <a:pt x="782" y="719"/>
                  </a:lnTo>
                  <a:lnTo>
                    <a:pt x="878" y="730"/>
                  </a:lnTo>
                  <a:lnTo>
                    <a:pt x="973" y="741"/>
                  </a:lnTo>
                  <a:lnTo>
                    <a:pt x="1069" y="754"/>
                  </a:lnTo>
                  <a:lnTo>
                    <a:pt x="1165" y="769"/>
                  </a:lnTo>
                  <a:lnTo>
                    <a:pt x="1259" y="784"/>
                  </a:lnTo>
                  <a:lnTo>
                    <a:pt x="1353" y="800"/>
                  </a:lnTo>
                  <a:lnTo>
                    <a:pt x="1448" y="817"/>
                  </a:lnTo>
                  <a:lnTo>
                    <a:pt x="1541" y="836"/>
                  </a:lnTo>
                  <a:lnTo>
                    <a:pt x="1634" y="857"/>
                  </a:lnTo>
                  <a:lnTo>
                    <a:pt x="1727" y="877"/>
                  </a:lnTo>
                  <a:lnTo>
                    <a:pt x="1820" y="899"/>
                  </a:lnTo>
                  <a:lnTo>
                    <a:pt x="1911" y="922"/>
                  </a:lnTo>
                  <a:lnTo>
                    <a:pt x="2002" y="947"/>
                  </a:lnTo>
                  <a:lnTo>
                    <a:pt x="2093" y="972"/>
                  </a:lnTo>
                  <a:lnTo>
                    <a:pt x="2184" y="999"/>
                  </a:lnTo>
                  <a:lnTo>
                    <a:pt x="2273" y="1026"/>
                  </a:lnTo>
                  <a:lnTo>
                    <a:pt x="2363" y="1055"/>
                  </a:lnTo>
                  <a:lnTo>
                    <a:pt x="2452" y="1085"/>
                  </a:lnTo>
                  <a:lnTo>
                    <a:pt x="2541" y="1115"/>
                  </a:lnTo>
                  <a:lnTo>
                    <a:pt x="2629" y="1148"/>
                  </a:lnTo>
                  <a:lnTo>
                    <a:pt x="2716" y="1180"/>
                  </a:lnTo>
                  <a:lnTo>
                    <a:pt x="2804" y="1215"/>
                  </a:lnTo>
                  <a:lnTo>
                    <a:pt x="2891" y="1250"/>
                  </a:lnTo>
                  <a:lnTo>
                    <a:pt x="2978" y="1285"/>
                  </a:lnTo>
                  <a:lnTo>
                    <a:pt x="3063" y="1323"/>
                  </a:lnTo>
                  <a:lnTo>
                    <a:pt x="3148" y="1361"/>
                  </a:lnTo>
                  <a:lnTo>
                    <a:pt x="3232" y="1399"/>
                  </a:lnTo>
                  <a:lnTo>
                    <a:pt x="3315" y="1440"/>
                  </a:lnTo>
                  <a:lnTo>
                    <a:pt x="3399" y="1482"/>
                  </a:lnTo>
                  <a:lnTo>
                    <a:pt x="3483" y="1522"/>
                  </a:lnTo>
                  <a:lnTo>
                    <a:pt x="3564" y="1566"/>
                  </a:lnTo>
                  <a:lnTo>
                    <a:pt x="3646" y="1609"/>
                  </a:lnTo>
                  <a:lnTo>
                    <a:pt x="3727" y="1655"/>
                  </a:lnTo>
                  <a:lnTo>
                    <a:pt x="3808" y="1700"/>
                  </a:lnTo>
                  <a:lnTo>
                    <a:pt x="3888" y="1747"/>
                  </a:lnTo>
                  <a:lnTo>
                    <a:pt x="3967" y="1796"/>
                  </a:lnTo>
                  <a:lnTo>
                    <a:pt x="4046" y="1845"/>
                  </a:lnTo>
                  <a:lnTo>
                    <a:pt x="4123" y="1894"/>
                  </a:lnTo>
                  <a:lnTo>
                    <a:pt x="4201" y="1944"/>
                  </a:lnTo>
                  <a:lnTo>
                    <a:pt x="4278" y="1996"/>
                  </a:lnTo>
                  <a:lnTo>
                    <a:pt x="4353" y="2049"/>
                  </a:lnTo>
                  <a:lnTo>
                    <a:pt x="4430" y="2101"/>
                  </a:lnTo>
                  <a:lnTo>
                    <a:pt x="4505" y="2156"/>
                  </a:lnTo>
                  <a:lnTo>
                    <a:pt x="4579" y="2210"/>
                  </a:lnTo>
                  <a:lnTo>
                    <a:pt x="4652" y="2267"/>
                  </a:lnTo>
                  <a:lnTo>
                    <a:pt x="4725" y="2324"/>
                  </a:lnTo>
                  <a:lnTo>
                    <a:pt x="4797" y="2382"/>
                  </a:lnTo>
                  <a:lnTo>
                    <a:pt x="4867" y="2439"/>
                  </a:lnTo>
                  <a:lnTo>
                    <a:pt x="4938" y="2499"/>
                  </a:lnTo>
                  <a:lnTo>
                    <a:pt x="5009" y="2558"/>
                  </a:lnTo>
                  <a:lnTo>
                    <a:pt x="5079" y="2620"/>
                  </a:lnTo>
                  <a:lnTo>
                    <a:pt x="5147" y="2682"/>
                  </a:lnTo>
                  <a:lnTo>
                    <a:pt x="5214" y="2745"/>
                  </a:lnTo>
                  <a:lnTo>
                    <a:pt x="5281" y="2807"/>
                  </a:lnTo>
                  <a:lnTo>
                    <a:pt x="5348" y="2872"/>
                  </a:lnTo>
                  <a:lnTo>
                    <a:pt x="5412" y="2937"/>
                  </a:lnTo>
                  <a:lnTo>
                    <a:pt x="5477" y="3002"/>
                  </a:lnTo>
                  <a:lnTo>
                    <a:pt x="5542" y="3069"/>
                  </a:lnTo>
                  <a:lnTo>
                    <a:pt x="5604" y="3136"/>
                  </a:lnTo>
                  <a:lnTo>
                    <a:pt x="5667" y="3204"/>
                  </a:lnTo>
                  <a:lnTo>
                    <a:pt x="5728" y="3272"/>
                  </a:lnTo>
                  <a:lnTo>
                    <a:pt x="5790" y="3342"/>
                  </a:lnTo>
                  <a:lnTo>
                    <a:pt x="5849" y="3413"/>
                  </a:lnTo>
                  <a:lnTo>
                    <a:pt x="5909" y="3484"/>
                  </a:lnTo>
                  <a:lnTo>
                    <a:pt x="5966" y="3555"/>
                  </a:lnTo>
                  <a:lnTo>
                    <a:pt x="6023" y="3628"/>
                  </a:lnTo>
                  <a:lnTo>
                    <a:pt x="6079" y="3701"/>
                  </a:lnTo>
                  <a:lnTo>
                    <a:pt x="6137" y="3774"/>
                  </a:lnTo>
                  <a:lnTo>
                    <a:pt x="6191" y="3849"/>
                  </a:lnTo>
                  <a:lnTo>
                    <a:pt x="6245" y="3924"/>
                  </a:lnTo>
                  <a:lnTo>
                    <a:pt x="6297" y="4000"/>
                  </a:lnTo>
                  <a:lnTo>
                    <a:pt x="6349" y="4076"/>
                  </a:lnTo>
                  <a:lnTo>
                    <a:pt x="6401" y="4153"/>
                  </a:lnTo>
                  <a:lnTo>
                    <a:pt x="6452" y="4232"/>
                  </a:lnTo>
                  <a:lnTo>
                    <a:pt x="6501" y="4309"/>
                  </a:lnTo>
                  <a:lnTo>
                    <a:pt x="6549" y="4388"/>
                  </a:lnTo>
                  <a:lnTo>
                    <a:pt x="6597" y="4468"/>
                  </a:lnTo>
                  <a:lnTo>
                    <a:pt x="6644" y="4548"/>
                  </a:lnTo>
                  <a:lnTo>
                    <a:pt x="6689" y="4629"/>
                  </a:lnTo>
                  <a:lnTo>
                    <a:pt x="6735" y="4711"/>
                  </a:lnTo>
                  <a:lnTo>
                    <a:pt x="6778" y="4792"/>
                  </a:lnTo>
                  <a:lnTo>
                    <a:pt x="6822" y="4874"/>
                  </a:lnTo>
                  <a:lnTo>
                    <a:pt x="6862" y="4959"/>
                  </a:lnTo>
                  <a:lnTo>
                    <a:pt x="6904" y="5042"/>
                  </a:lnTo>
                  <a:lnTo>
                    <a:pt x="6945" y="5126"/>
                  </a:lnTo>
                  <a:lnTo>
                    <a:pt x="6982" y="5211"/>
                  </a:lnTo>
                  <a:lnTo>
                    <a:pt x="7021" y="5296"/>
                  </a:lnTo>
                  <a:lnTo>
                    <a:pt x="7058" y="5382"/>
                  </a:lnTo>
                  <a:lnTo>
                    <a:pt x="7093" y="5468"/>
                  </a:lnTo>
                  <a:lnTo>
                    <a:pt x="7128" y="5556"/>
                  </a:lnTo>
                  <a:lnTo>
                    <a:pt x="7162" y="5644"/>
                  </a:lnTo>
                  <a:lnTo>
                    <a:pt x="7195" y="5732"/>
                  </a:lnTo>
                  <a:lnTo>
                    <a:pt x="7227" y="5820"/>
                  </a:lnTo>
                  <a:lnTo>
                    <a:pt x="7257" y="5909"/>
                  </a:lnTo>
                  <a:lnTo>
                    <a:pt x="7287" y="5999"/>
                  </a:lnTo>
                  <a:lnTo>
                    <a:pt x="7316" y="6089"/>
                  </a:lnTo>
                  <a:lnTo>
                    <a:pt x="7343" y="6179"/>
                  </a:lnTo>
                  <a:lnTo>
                    <a:pt x="7370" y="6270"/>
                  </a:lnTo>
                  <a:lnTo>
                    <a:pt x="7395" y="6361"/>
                  </a:lnTo>
                  <a:lnTo>
                    <a:pt x="7420" y="6452"/>
                  </a:lnTo>
                  <a:lnTo>
                    <a:pt x="7443" y="6544"/>
                  </a:lnTo>
                  <a:lnTo>
                    <a:pt x="7465" y="6637"/>
                  </a:lnTo>
                  <a:lnTo>
                    <a:pt x="7484" y="6730"/>
                  </a:lnTo>
                  <a:lnTo>
                    <a:pt x="7505" y="6823"/>
                  </a:lnTo>
                  <a:lnTo>
                    <a:pt x="7524" y="6918"/>
                  </a:lnTo>
                  <a:lnTo>
                    <a:pt x="7541" y="7013"/>
                  </a:lnTo>
                  <a:lnTo>
                    <a:pt x="7557" y="7107"/>
                  </a:lnTo>
                  <a:lnTo>
                    <a:pt x="7572" y="7201"/>
                  </a:lnTo>
                  <a:lnTo>
                    <a:pt x="7587" y="7297"/>
                  </a:lnTo>
                  <a:lnTo>
                    <a:pt x="7600" y="7394"/>
                  </a:lnTo>
                  <a:lnTo>
                    <a:pt x="7611" y="7490"/>
                  </a:lnTo>
                  <a:lnTo>
                    <a:pt x="7622" y="7586"/>
                  </a:lnTo>
                  <a:lnTo>
                    <a:pt x="7630" y="7682"/>
                  </a:lnTo>
                  <a:lnTo>
                    <a:pt x="7639" y="7780"/>
                  </a:lnTo>
                  <a:lnTo>
                    <a:pt x="7646" y="7878"/>
                  </a:lnTo>
                  <a:lnTo>
                    <a:pt x="7651" y="7974"/>
                  </a:lnTo>
                  <a:lnTo>
                    <a:pt x="7656" y="8074"/>
                  </a:lnTo>
                  <a:lnTo>
                    <a:pt x="7659" y="8172"/>
                  </a:lnTo>
                  <a:lnTo>
                    <a:pt x="7659" y="8272"/>
                  </a:lnTo>
                  <a:lnTo>
                    <a:pt x="7661" y="8371"/>
                  </a:lnTo>
                  <a:lnTo>
                    <a:pt x="8338" y="8371"/>
                  </a:lnTo>
                  <a:lnTo>
                    <a:pt x="8337" y="8263"/>
                  </a:lnTo>
                  <a:lnTo>
                    <a:pt x="8334" y="8156"/>
                  </a:lnTo>
                  <a:lnTo>
                    <a:pt x="8331" y="8050"/>
                  </a:lnTo>
                  <a:lnTo>
                    <a:pt x="8327" y="7943"/>
                  </a:lnTo>
                  <a:lnTo>
                    <a:pt x="8320" y="7835"/>
                  </a:lnTo>
                  <a:lnTo>
                    <a:pt x="8313" y="7730"/>
                  </a:lnTo>
                  <a:lnTo>
                    <a:pt x="8305" y="7624"/>
                  </a:lnTo>
                  <a:lnTo>
                    <a:pt x="8294" y="7517"/>
                  </a:lnTo>
                  <a:lnTo>
                    <a:pt x="8283" y="7413"/>
                  </a:lnTo>
                  <a:lnTo>
                    <a:pt x="8269" y="7308"/>
                  </a:lnTo>
                  <a:lnTo>
                    <a:pt x="8256" y="7204"/>
                  </a:lnTo>
                  <a:lnTo>
                    <a:pt x="8241" y="7101"/>
                  </a:lnTo>
                  <a:lnTo>
                    <a:pt x="8224" y="6996"/>
                  </a:lnTo>
                  <a:lnTo>
                    <a:pt x="8208" y="6892"/>
                  </a:lnTo>
                  <a:lnTo>
                    <a:pt x="8188" y="6791"/>
                  </a:lnTo>
                  <a:lnTo>
                    <a:pt x="8167" y="6688"/>
                  </a:lnTo>
                  <a:lnTo>
                    <a:pt x="8146" y="6587"/>
                  </a:lnTo>
                  <a:lnTo>
                    <a:pt x="8123" y="6485"/>
                  </a:lnTo>
                  <a:lnTo>
                    <a:pt x="8098" y="6385"/>
                  </a:lnTo>
                  <a:lnTo>
                    <a:pt x="8073" y="6285"/>
                  </a:lnTo>
                  <a:lnTo>
                    <a:pt x="8048" y="6183"/>
                  </a:lnTo>
                  <a:lnTo>
                    <a:pt x="8020" y="6084"/>
                  </a:lnTo>
                  <a:lnTo>
                    <a:pt x="7991" y="5985"/>
                  </a:lnTo>
                  <a:lnTo>
                    <a:pt x="7962" y="5887"/>
                  </a:lnTo>
                  <a:lnTo>
                    <a:pt x="7930" y="5789"/>
                  </a:lnTo>
                  <a:lnTo>
                    <a:pt x="7898" y="5691"/>
                  </a:lnTo>
                  <a:lnTo>
                    <a:pt x="7865" y="5594"/>
                  </a:lnTo>
                  <a:lnTo>
                    <a:pt x="7830" y="5498"/>
                  </a:lnTo>
                  <a:lnTo>
                    <a:pt x="7794" y="5402"/>
                  </a:lnTo>
                  <a:lnTo>
                    <a:pt x="7757" y="5306"/>
                  </a:lnTo>
                  <a:lnTo>
                    <a:pt x="7720" y="5213"/>
                  </a:lnTo>
                  <a:lnTo>
                    <a:pt x="7679" y="5119"/>
                  </a:lnTo>
                  <a:lnTo>
                    <a:pt x="7640" y="5025"/>
                  </a:lnTo>
                  <a:lnTo>
                    <a:pt x="7599" y="4932"/>
                  </a:lnTo>
                  <a:lnTo>
                    <a:pt x="7555" y="4839"/>
                  </a:lnTo>
                  <a:lnTo>
                    <a:pt x="7513" y="4747"/>
                  </a:lnTo>
                  <a:lnTo>
                    <a:pt x="7469" y="4656"/>
                  </a:lnTo>
                  <a:lnTo>
                    <a:pt x="7422" y="4566"/>
                  </a:lnTo>
                  <a:lnTo>
                    <a:pt x="7376" y="4476"/>
                  </a:lnTo>
                  <a:lnTo>
                    <a:pt x="7328" y="4386"/>
                  </a:lnTo>
                  <a:lnTo>
                    <a:pt x="7279" y="4297"/>
                  </a:lnTo>
                  <a:lnTo>
                    <a:pt x="7229" y="4211"/>
                  </a:lnTo>
                  <a:lnTo>
                    <a:pt x="7179" y="4123"/>
                  </a:lnTo>
                  <a:lnTo>
                    <a:pt x="7127" y="4036"/>
                  </a:lnTo>
                  <a:lnTo>
                    <a:pt x="7075" y="3950"/>
                  </a:lnTo>
                  <a:lnTo>
                    <a:pt x="7021" y="3864"/>
                  </a:lnTo>
                  <a:lnTo>
                    <a:pt x="6965" y="3781"/>
                  </a:lnTo>
                  <a:lnTo>
                    <a:pt x="6910" y="3696"/>
                  </a:lnTo>
                  <a:lnTo>
                    <a:pt x="6853" y="3612"/>
                  </a:lnTo>
                  <a:lnTo>
                    <a:pt x="6795" y="3530"/>
                  </a:lnTo>
                  <a:lnTo>
                    <a:pt x="6736" y="3450"/>
                  </a:lnTo>
                  <a:lnTo>
                    <a:pt x="6677" y="3368"/>
                  </a:lnTo>
                  <a:lnTo>
                    <a:pt x="6617" y="3287"/>
                  </a:lnTo>
                  <a:lnTo>
                    <a:pt x="6555" y="3208"/>
                  </a:lnTo>
                  <a:lnTo>
                    <a:pt x="6492" y="3130"/>
                  </a:lnTo>
                  <a:lnTo>
                    <a:pt x="6430" y="3051"/>
                  </a:lnTo>
                  <a:lnTo>
                    <a:pt x="6365" y="2975"/>
                  </a:lnTo>
                  <a:lnTo>
                    <a:pt x="6299" y="2898"/>
                  </a:lnTo>
                  <a:lnTo>
                    <a:pt x="6234" y="2823"/>
                  </a:lnTo>
                  <a:lnTo>
                    <a:pt x="6167" y="2748"/>
                  </a:lnTo>
                  <a:lnTo>
                    <a:pt x="6099" y="2675"/>
                  </a:lnTo>
                  <a:lnTo>
                    <a:pt x="6030" y="2601"/>
                  </a:lnTo>
                  <a:lnTo>
                    <a:pt x="5962" y="2529"/>
                  </a:lnTo>
                  <a:lnTo>
                    <a:pt x="5891" y="2457"/>
                  </a:lnTo>
                  <a:lnTo>
                    <a:pt x="5819" y="2386"/>
                  </a:lnTo>
                  <a:lnTo>
                    <a:pt x="5747" y="2317"/>
                  </a:lnTo>
                  <a:lnTo>
                    <a:pt x="5674" y="2248"/>
                  </a:lnTo>
                  <a:lnTo>
                    <a:pt x="5601" y="2180"/>
                  </a:lnTo>
                  <a:lnTo>
                    <a:pt x="5526" y="2113"/>
                  </a:lnTo>
                  <a:lnTo>
                    <a:pt x="5451" y="2047"/>
                  </a:lnTo>
                  <a:lnTo>
                    <a:pt x="5375" y="1981"/>
                  </a:lnTo>
                  <a:lnTo>
                    <a:pt x="5299" y="1916"/>
                  </a:lnTo>
                  <a:lnTo>
                    <a:pt x="5221" y="1853"/>
                  </a:lnTo>
                  <a:lnTo>
                    <a:pt x="5142" y="1790"/>
                  </a:lnTo>
                  <a:lnTo>
                    <a:pt x="5064" y="1728"/>
                  </a:lnTo>
                  <a:lnTo>
                    <a:pt x="4983" y="1668"/>
                  </a:lnTo>
                  <a:lnTo>
                    <a:pt x="4902" y="1608"/>
                  </a:lnTo>
                  <a:lnTo>
                    <a:pt x="4821" y="1549"/>
                  </a:lnTo>
                  <a:lnTo>
                    <a:pt x="4740" y="1491"/>
                  </a:lnTo>
                  <a:lnTo>
                    <a:pt x="4657" y="1434"/>
                  </a:lnTo>
                  <a:lnTo>
                    <a:pt x="4572" y="1378"/>
                  </a:lnTo>
                  <a:lnTo>
                    <a:pt x="4489" y="1323"/>
                  </a:lnTo>
                  <a:lnTo>
                    <a:pt x="4404" y="1268"/>
                  </a:lnTo>
                  <a:lnTo>
                    <a:pt x="4318" y="1216"/>
                  </a:lnTo>
                  <a:lnTo>
                    <a:pt x="4232" y="1164"/>
                  </a:lnTo>
                  <a:lnTo>
                    <a:pt x="4144" y="1113"/>
                  </a:lnTo>
                  <a:lnTo>
                    <a:pt x="4057" y="1063"/>
                  </a:lnTo>
                  <a:lnTo>
                    <a:pt x="3969" y="1014"/>
                  </a:lnTo>
                  <a:lnTo>
                    <a:pt x="3879" y="966"/>
                  </a:lnTo>
                  <a:lnTo>
                    <a:pt x="3790" y="920"/>
                  </a:lnTo>
                  <a:lnTo>
                    <a:pt x="3700" y="873"/>
                  </a:lnTo>
                  <a:lnTo>
                    <a:pt x="3609" y="829"/>
                  </a:lnTo>
                  <a:lnTo>
                    <a:pt x="3518" y="786"/>
                  </a:lnTo>
                  <a:lnTo>
                    <a:pt x="3426" y="742"/>
                  </a:lnTo>
                  <a:lnTo>
                    <a:pt x="3333" y="701"/>
                  </a:lnTo>
                  <a:lnTo>
                    <a:pt x="3239" y="661"/>
                  </a:lnTo>
                  <a:lnTo>
                    <a:pt x="3146" y="621"/>
                  </a:lnTo>
                  <a:lnTo>
                    <a:pt x="3053" y="583"/>
                  </a:lnTo>
                  <a:lnTo>
                    <a:pt x="2957" y="546"/>
                  </a:lnTo>
                  <a:lnTo>
                    <a:pt x="2862" y="510"/>
                  </a:lnTo>
                  <a:lnTo>
                    <a:pt x="2766" y="475"/>
                  </a:lnTo>
                  <a:lnTo>
                    <a:pt x="2669" y="442"/>
                  </a:lnTo>
                  <a:lnTo>
                    <a:pt x="2572" y="409"/>
                  </a:lnTo>
                  <a:lnTo>
                    <a:pt x="2474" y="378"/>
                  </a:lnTo>
                  <a:lnTo>
                    <a:pt x="2376" y="348"/>
                  </a:lnTo>
                  <a:lnTo>
                    <a:pt x="2278" y="319"/>
                  </a:lnTo>
                  <a:lnTo>
                    <a:pt x="2179" y="291"/>
                  </a:lnTo>
                  <a:lnTo>
                    <a:pt x="2078" y="266"/>
                  </a:lnTo>
                  <a:lnTo>
                    <a:pt x="1978" y="241"/>
                  </a:lnTo>
                  <a:lnTo>
                    <a:pt x="1878" y="216"/>
                  </a:lnTo>
                  <a:lnTo>
                    <a:pt x="1777" y="193"/>
                  </a:lnTo>
                  <a:lnTo>
                    <a:pt x="1676" y="172"/>
                  </a:lnTo>
                  <a:lnTo>
                    <a:pt x="1574" y="151"/>
                  </a:lnTo>
                  <a:lnTo>
                    <a:pt x="1473" y="131"/>
                  </a:lnTo>
                  <a:lnTo>
                    <a:pt x="1370" y="114"/>
                  </a:lnTo>
                  <a:lnTo>
                    <a:pt x="1265" y="97"/>
                  </a:lnTo>
                  <a:lnTo>
                    <a:pt x="1162" y="83"/>
                  </a:lnTo>
                  <a:lnTo>
                    <a:pt x="1059" y="69"/>
                  </a:lnTo>
                  <a:lnTo>
                    <a:pt x="955" y="55"/>
                  </a:lnTo>
                  <a:lnTo>
                    <a:pt x="850" y="44"/>
                  </a:lnTo>
                  <a:lnTo>
                    <a:pt x="744" y="33"/>
                  </a:lnTo>
                  <a:lnTo>
                    <a:pt x="639" y="25"/>
                  </a:lnTo>
                  <a:lnTo>
                    <a:pt x="534" y="18"/>
                  </a:lnTo>
                  <a:lnTo>
                    <a:pt x="426" y="12"/>
                  </a:lnTo>
                  <a:lnTo>
                    <a:pt x="320" y="7"/>
                  </a:lnTo>
                  <a:lnTo>
                    <a:pt x="214" y="4"/>
                  </a:lnTo>
                  <a:lnTo>
                    <a:pt x="10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05160" y="5421240"/>
              <a:ext cx="601920" cy="60480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677" y="8371"/>
                  </a:moveTo>
                  <a:lnTo>
                    <a:pt x="677" y="8371"/>
                  </a:lnTo>
                  <a:lnTo>
                    <a:pt x="677" y="8272"/>
                  </a:lnTo>
                  <a:lnTo>
                    <a:pt x="679" y="8172"/>
                  </a:lnTo>
                  <a:lnTo>
                    <a:pt x="682" y="8074"/>
                  </a:lnTo>
                  <a:lnTo>
                    <a:pt x="687" y="7974"/>
                  </a:lnTo>
                  <a:lnTo>
                    <a:pt x="692" y="7878"/>
                  </a:lnTo>
                  <a:lnTo>
                    <a:pt x="699" y="7780"/>
                  </a:lnTo>
                  <a:lnTo>
                    <a:pt x="708" y="7682"/>
                  </a:lnTo>
                  <a:lnTo>
                    <a:pt x="716" y="7585"/>
                  </a:lnTo>
                  <a:lnTo>
                    <a:pt x="726" y="7490"/>
                  </a:lnTo>
                  <a:lnTo>
                    <a:pt x="738" y="7394"/>
                  </a:lnTo>
                  <a:lnTo>
                    <a:pt x="751" y="7297"/>
                  </a:lnTo>
                  <a:lnTo>
                    <a:pt x="766" y="7201"/>
                  </a:lnTo>
                  <a:lnTo>
                    <a:pt x="780" y="7106"/>
                  </a:lnTo>
                  <a:lnTo>
                    <a:pt x="796" y="7013"/>
                  </a:lnTo>
                  <a:lnTo>
                    <a:pt x="814" y="6918"/>
                  </a:lnTo>
                  <a:lnTo>
                    <a:pt x="833" y="6823"/>
                  </a:lnTo>
                  <a:lnTo>
                    <a:pt x="853" y="6730"/>
                  </a:lnTo>
                  <a:lnTo>
                    <a:pt x="873" y="6637"/>
                  </a:lnTo>
                  <a:lnTo>
                    <a:pt x="895" y="6544"/>
                  </a:lnTo>
                  <a:lnTo>
                    <a:pt x="918" y="6452"/>
                  </a:lnTo>
                  <a:lnTo>
                    <a:pt x="943" y="6361"/>
                  </a:lnTo>
                  <a:lnTo>
                    <a:pt x="968" y="6270"/>
                  </a:lnTo>
                  <a:lnTo>
                    <a:pt x="994" y="6179"/>
                  </a:lnTo>
                  <a:lnTo>
                    <a:pt x="1022" y="6089"/>
                  </a:lnTo>
                  <a:lnTo>
                    <a:pt x="1051" y="5999"/>
                  </a:lnTo>
                  <a:lnTo>
                    <a:pt x="1080" y="5909"/>
                  </a:lnTo>
                  <a:lnTo>
                    <a:pt x="1111" y="5820"/>
                  </a:lnTo>
                  <a:lnTo>
                    <a:pt x="1142" y="5732"/>
                  </a:lnTo>
                  <a:lnTo>
                    <a:pt x="1176" y="5644"/>
                  </a:lnTo>
                  <a:lnTo>
                    <a:pt x="1210" y="5556"/>
                  </a:lnTo>
                  <a:lnTo>
                    <a:pt x="1243" y="5469"/>
                  </a:lnTo>
                  <a:lnTo>
                    <a:pt x="1280" y="5382"/>
                  </a:lnTo>
                  <a:lnTo>
                    <a:pt x="1317" y="5296"/>
                  </a:lnTo>
                  <a:lnTo>
                    <a:pt x="1355" y="5211"/>
                  </a:lnTo>
                  <a:lnTo>
                    <a:pt x="1393" y="5126"/>
                  </a:lnTo>
                  <a:lnTo>
                    <a:pt x="1433" y="5042"/>
                  </a:lnTo>
                  <a:lnTo>
                    <a:pt x="1475" y="4959"/>
                  </a:lnTo>
                  <a:lnTo>
                    <a:pt x="1516" y="4874"/>
                  </a:lnTo>
                  <a:lnTo>
                    <a:pt x="1559" y="4792"/>
                  </a:lnTo>
                  <a:lnTo>
                    <a:pt x="1603" y="4711"/>
                  </a:lnTo>
                  <a:lnTo>
                    <a:pt x="1648" y="4629"/>
                  </a:lnTo>
                  <a:lnTo>
                    <a:pt x="1694" y="4548"/>
                  </a:lnTo>
                  <a:lnTo>
                    <a:pt x="1741" y="4468"/>
                  </a:lnTo>
                  <a:lnTo>
                    <a:pt x="1787" y="4388"/>
                  </a:lnTo>
                  <a:lnTo>
                    <a:pt x="1837" y="4309"/>
                  </a:lnTo>
                  <a:lnTo>
                    <a:pt x="1886" y="4232"/>
                  </a:lnTo>
                  <a:lnTo>
                    <a:pt x="1937" y="4153"/>
                  </a:lnTo>
                  <a:lnTo>
                    <a:pt x="1989" y="4076"/>
                  </a:lnTo>
                  <a:lnTo>
                    <a:pt x="2040" y="3999"/>
                  </a:lnTo>
                  <a:lnTo>
                    <a:pt x="2093" y="3924"/>
                  </a:lnTo>
                  <a:lnTo>
                    <a:pt x="2146" y="3849"/>
                  </a:lnTo>
                  <a:lnTo>
                    <a:pt x="2201" y="3774"/>
                  </a:lnTo>
                  <a:lnTo>
                    <a:pt x="2258" y="3700"/>
                  </a:lnTo>
                  <a:lnTo>
                    <a:pt x="2314" y="3628"/>
                  </a:lnTo>
                  <a:lnTo>
                    <a:pt x="2371" y="3555"/>
                  </a:lnTo>
                  <a:lnTo>
                    <a:pt x="2429" y="3484"/>
                  </a:lnTo>
                  <a:lnTo>
                    <a:pt x="2489" y="3413"/>
                  </a:lnTo>
                  <a:lnTo>
                    <a:pt x="2548" y="3342"/>
                  </a:lnTo>
                  <a:lnTo>
                    <a:pt x="2609" y="3272"/>
                  </a:lnTo>
                  <a:lnTo>
                    <a:pt x="2671" y="3204"/>
                  </a:lnTo>
                  <a:lnTo>
                    <a:pt x="2733" y="3136"/>
                  </a:lnTo>
                  <a:lnTo>
                    <a:pt x="2796" y="3069"/>
                  </a:lnTo>
                  <a:lnTo>
                    <a:pt x="2861" y="3002"/>
                  </a:lnTo>
                  <a:lnTo>
                    <a:pt x="2926" y="2937"/>
                  </a:lnTo>
                  <a:lnTo>
                    <a:pt x="2990" y="2872"/>
                  </a:lnTo>
                  <a:lnTo>
                    <a:pt x="3056" y="2807"/>
                  </a:lnTo>
                  <a:lnTo>
                    <a:pt x="3124" y="2745"/>
                  </a:lnTo>
                  <a:lnTo>
                    <a:pt x="3191" y="2682"/>
                  </a:lnTo>
                  <a:lnTo>
                    <a:pt x="3260" y="2620"/>
                  </a:lnTo>
                  <a:lnTo>
                    <a:pt x="3329" y="2558"/>
                  </a:lnTo>
                  <a:lnTo>
                    <a:pt x="3399" y="2499"/>
                  </a:lnTo>
                  <a:lnTo>
                    <a:pt x="3471" y="2439"/>
                  </a:lnTo>
                  <a:lnTo>
                    <a:pt x="3541" y="2382"/>
                  </a:lnTo>
                  <a:lnTo>
                    <a:pt x="3613" y="2324"/>
                  </a:lnTo>
                  <a:lnTo>
                    <a:pt x="3685" y="2267"/>
                  </a:lnTo>
                  <a:lnTo>
                    <a:pt x="3759" y="2210"/>
                  </a:lnTo>
                  <a:lnTo>
                    <a:pt x="3832" y="2156"/>
                  </a:lnTo>
                  <a:lnTo>
                    <a:pt x="3908" y="2101"/>
                  </a:lnTo>
                  <a:lnTo>
                    <a:pt x="3982" y="2049"/>
                  </a:lnTo>
                  <a:lnTo>
                    <a:pt x="4060" y="1996"/>
                  </a:lnTo>
                  <a:lnTo>
                    <a:pt x="4136" y="1944"/>
                  </a:lnTo>
                  <a:lnTo>
                    <a:pt x="4214" y="1894"/>
                  </a:lnTo>
                  <a:lnTo>
                    <a:pt x="4292" y="1845"/>
                  </a:lnTo>
                  <a:lnTo>
                    <a:pt x="4371" y="1796"/>
                  </a:lnTo>
                  <a:lnTo>
                    <a:pt x="4450" y="1747"/>
                  </a:lnTo>
                  <a:lnTo>
                    <a:pt x="4530" y="1700"/>
                  </a:lnTo>
                  <a:lnTo>
                    <a:pt x="4611" y="1655"/>
                  </a:lnTo>
                  <a:lnTo>
                    <a:pt x="4691" y="1609"/>
                  </a:lnTo>
                  <a:lnTo>
                    <a:pt x="4772" y="1566"/>
                  </a:lnTo>
                  <a:lnTo>
                    <a:pt x="4855" y="1522"/>
                  </a:lnTo>
                  <a:lnTo>
                    <a:pt x="4938" y="1482"/>
                  </a:lnTo>
                  <a:lnTo>
                    <a:pt x="5022" y="1440"/>
                  </a:lnTo>
                  <a:lnTo>
                    <a:pt x="5106" y="1399"/>
                  </a:lnTo>
                  <a:lnTo>
                    <a:pt x="5189" y="1361"/>
                  </a:lnTo>
                  <a:lnTo>
                    <a:pt x="5275" y="1323"/>
                  </a:lnTo>
                  <a:lnTo>
                    <a:pt x="5360" y="1285"/>
                  </a:lnTo>
                  <a:lnTo>
                    <a:pt x="5448" y="1248"/>
                  </a:lnTo>
                  <a:lnTo>
                    <a:pt x="5534" y="1215"/>
                  </a:lnTo>
                  <a:lnTo>
                    <a:pt x="5621" y="1180"/>
                  </a:lnTo>
                  <a:lnTo>
                    <a:pt x="5708" y="1148"/>
                  </a:lnTo>
                  <a:lnTo>
                    <a:pt x="5797" y="1115"/>
                  </a:lnTo>
                  <a:lnTo>
                    <a:pt x="5886" y="1085"/>
                  </a:lnTo>
                  <a:lnTo>
                    <a:pt x="5974" y="1055"/>
                  </a:lnTo>
                  <a:lnTo>
                    <a:pt x="6064" y="1026"/>
                  </a:lnTo>
                  <a:lnTo>
                    <a:pt x="6154" y="999"/>
                  </a:lnTo>
                  <a:lnTo>
                    <a:pt x="6245" y="972"/>
                  </a:lnTo>
                  <a:lnTo>
                    <a:pt x="6336" y="947"/>
                  </a:lnTo>
                  <a:lnTo>
                    <a:pt x="6427" y="922"/>
                  </a:lnTo>
                  <a:lnTo>
                    <a:pt x="6518" y="899"/>
                  </a:lnTo>
                  <a:lnTo>
                    <a:pt x="6610" y="877"/>
                  </a:lnTo>
                  <a:lnTo>
                    <a:pt x="6704" y="857"/>
                  </a:lnTo>
                  <a:lnTo>
                    <a:pt x="6797" y="836"/>
                  </a:lnTo>
                  <a:lnTo>
                    <a:pt x="6890" y="817"/>
                  </a:lnTo>
                  <a:lnTo>
                    <a:pt x="6984" y="800"/>
                  </a:lnTo>
                  <a:lnTo>
                    <a:pt x="7079" y="784"/>
                  </a:lnTo>
                  <a:lnTo>
                    <a:pt x="7173" y="769"/>
                  </a:lnTo>
                  <a:lnTo>
                    <a:pt x="7268" y="754"/>
                  </a:lnTo>
                  <a:lnTo>
                    <a:pt x="7363" y="741"/>
                  </a:lnTo>
                  <a:lnTo>
                    <a:pt x="7459" y="730"/>
                  </a:lnTo>
                  <a:lnTo>
                    <a:pt x="7556" y="719"/>
                  </a:lnTo>
                  <a:lnTo>
                    <a:pt x="7652" y="710"/>
                  </a:lnTo>
                  <a:lnTo>
                    <a:pt x="7749" y="702"/>
                  </a:lnTo>
                  <a:lnTo>
                    <a:pt x="7847" y="695"/>
                  </a:lnTo>
                  <a:lnTo>
                    <a:pt x="7943" y="690"/>
                  </a:lnTo>
                  <a:lnTo>
                    <a:pt x="8041" y="684"/>
                  </a:lnTo>
                  <a:lnTo>
                    <a:pt x="8140" y="681"/>
                  </a:lnTo>
                  <a:lnTo>
                    <a:pt x="8239" y="681"/>
                  </a:lnTo>
                  <a:lnTo>
                    <a:pt x="8338" y="680"/>
                  </a:lnTo>
                  <a:lnTo>
                    <a:pt x="8338" y="0"/>
                  </a:lnTo>
                  <a:lnTo>
                    <a:pt x="8231" y="1"/>
                  </a:lnTo>
                  <a:lnTo>
                    <a:pt x="8124" y="4"/>
                  </a:lnTo>
                  <a:lnTo>
                    <a:pt x="8018" y="7"/>
                  </a:lnTo>
                  <a:lnTo>
                    <a:pt x="7912" y="12"/>
                  </a:lnTo>
                  <a:lnTo>
                    <a:pt x="7804" y="18"/>
                  </a:lnTo>
                  <a:lnTo>
                    <a:pt x="7699" y="25"/>
                  </a:lnTo>
                  <a:lnTo>
                    <a:pt x="7594" y="33"/>
                  </a:lnTo>
                  <a:lnTo>
                    <a:pt x="7488" y="44"/>
                  </a:lnTo>
                  <a:lnTo>
                    <a:pt x="7383" y="55"/>
                  </a:lnTo>
                  <a:lnTo>
                    <a:pt x="7279" y="69"/>
                  </a:lnTo>
                  <a:lnTo>
                    <a:pt x="7176" y="83"/>
                  </a:lnTo>
                  <a:lnTo>
                    <a:pt x="7072" y="97"/>
                  </a:lnTo>
                  <a:lnTo>
                    <a:pt x="6967" y="114"/>
                  </a:lnTo>
                  <a:lnTo>
                    <a:pt x="6865" y="131"/>
                  </a:lnTo>
                  <a:lnTo>
                    <a:pt x="6763" y="151"/>
                  </a:lnTo>
                  <a:lnTo>
                    <a:pt x="6662" y="172"/>
                  </a:lnTo>
                  <a:lnTo>
                    <a:pt x="6561" y="193"/>
                  </a:lnTo>
                  <a:lnTo>
                    <a:pt x="6460" y="216"/>
                  </a:lnTo>
                  <a:lnTo>
                    <a:pt x="6359" y="241"/>
                  </a:lnTo>
                  <a:lnTo>
                    <a:pt x="6260" y="266"/>
                  </a:lnTo>
                  <a:lnTo>
                    <a:pt x="6159" y="291"/>
                  </a:lnTo>
                  <a:lnTo>
                    <a:pt x="6060" y="319"/>
                  </a:lnTo>
                  <a:lnTo>
                    <a:pt x="5961" y="348"/>
                  </a:lnTo>
                  <a:lnTo>
                    <a:pt x="5863" y="378"/>
                  </a:lnTo>
                  <a:lnTo>
                    <a:pt x="5766" y="409"/>
                  </a:lnTo>
                  <a:lnTo>
                    <a:pt x="5669" y="442"/>
                  </a:lnTo>
                  <a:lnTo>
                    <a:pt x="5572" y="475"/>
                  </a:lnTo>
                  <a:lnTo>
                    <a:pt x="5476" y="510"/>
                  </a:lnTo>
                  <a:lnTo>
                    <a:pt x="5380" y="546"/>
                  </a:lnTo>
                  <a:lnTo>
                    <a:pt x="5285" y="583"/>
                  </a:lnTo>
                  <a:lnTo>
                    <a:pt x="5190" y="622"/>
                  </a:lnTo>
                  <a:lnTo>
                    <a:pt x="5099" y="661"/>
                  </a:lnTo>
                  <a:lnTo>
                    <a:pt x="5005" y="701"/>
                  </a:lnTo>
                  <a:lnTo>
                    <a:pt x="4912" y="742"/>
                  </a:lnTo>
                  <a:lnTo>
                    <a:pt x="4819" y="786"/>
                  </a:lnTo>
                  <a:lnTo>
                    <a:pt x="4729" y="829"/>
                  </a:lnTo>
                  <a:lnTo>
                    <a:pt x="4637" y="873"/>
                  </a:lnTo>
                  <a:lnTo>
                    <a:pt x="4548" y="920"/>
                  </a:lnTo>
                  <a:lnTo>
                    <a:pt x="4458" y="966"/>
                  </a:lnTo>
                  <a:lnTo>
                    <a:pt x="4369" y="1014"/>
                  </a:lnTo>
                  <a:lnTo>
                    <a:pt x="4281" y="1063"/>
                  </a:lnTo>
                  <a:lnTo>
                    <a:pt x="4193" y="1113"/>
                  </a:lnTo>
                  <a:lnTo>
                    <a:pt x="4106" y="1164"/>
                  </a:lnTo>
                  <a:lnTo>
                    <a:pt x="4019" y="1216"/>
                  </a:lnTo>
                  <a:lnTo>
                    <a:pt x="3934" y="1268"/>
                  </a:lnTo>
                  <a:lnTo>
                    <a:pt x="3849" y="1323"/>
                  </a:lnTo>
                  <a:lnTo>
                    <a:pt x="3766" y="1378"/>
                  </a:lnTo>
                  <a:lnTo>
                    <a:pt x="3681" y="1434"/>
                  </a:lnTo>
                  <a:lnTo>
                    <a:pt x="3599" y="1491"/>
                  </a:lnTo>
                  <a:lnTo>
                    <a:pt x="3517" y="1549"/>
                  </a:lnTo>
                  <a:lnTo>
                    <a:pt x="3436" y="1608"/>
                  </a:lnTo>
                  <a:lnTo>
                    <a:pt x="3355" y="1668"/>
                  </a:lnTo>
                  <a:lnTo>
                    <a:pt x="3275" y="1728"/>
                  </a:lnTo>
                  <a:lnTo>
                    <a:pt x="3196" y="1790"/>
                  </a:lnTo>
                  <a:lnTo>
                    <a:pt x="3117" y="1853"/>
                  </a:lnTo>
                  <a:lnTo>
                    <a:pt x="3039" y="1916"/>
                  </a:lnTo>
                  <a:lnTo>
                    <a:pt x="2962" y="1981"/>
                  </a:lnTo>
                  <a:lnTo>
                    <a:pt x="2887" y="2047"/>
                  </a:lnTo>
                  <a:lnTo>
                    <a:pt x="2811" y="2113"/>
                  </a:lnTo>
                  <a:lnTo>
                    <a:pt x="2737" y="2180"/>
                  </a:lnTo>
                  <a:lnTo>
                    <a:pt x="2663" y="2248"/>
                  </a:lnTo>
                  <a:lnTo>
                    <a:pt x="2591" y="2317"/>
                  </a:lnTo>
                  <a:lnTo>
                    <a:pt x="2519" y="2386"/>
                  </a:lnTo>
                  <a:lnTo>
                    <a:pt x="2447" y="2457"/>
                  </a:lnTo>
                  <a:lnTo>
                    <a:pt x="2376" y="2529"/>
                  </a:lnTo>
                  <a:lnTo>
                    <a:pt x="2308" y="2601"/>
                  </a:lnTo>
                  <a:lnTo>
                    <a:pt x="2239" y="2675"/>
                  </a:lnTo>
                  <a:lnTo>
                    <a:pt x="2171" y="2748"/>
                  </a:lnTo>
                  <a:lnTo>
                    <a:pt x="2104" y="2823"/>
                  </a:lnTo>
                  <a:lnTo>
                    <a:pt x="2038" y="2898"/>
                  </a:lnTo>
                  <a:lnTo>
                    <a:pt x="1973" y="2975"/>
                  </a:lnTo>
                  <a:lnTo>
                    <a:pt x="1908" y="3051"/>
                  </a:lnTo>
                  <a:lnTo>
                    <a:pt x="1845" y="3130"/>
                  </a:lnTo>
                  <a:lnTo>
                    <a:pt x="1782" y="3208"/>
                  </a:lnTo>
                  <a:lnTo>
                    <a:pt x="1721" y="3289"/>
                  </a:lnTo>
                  <a:lnTo>
                    <a:pt x="1661" y="3368"/>
                  </a:lnTo>
                  <a:lnTo>
                    <a:pt x="1602" y="3450"/>
                  </a:lnTo>
                  <a:lnTo>
                    <a:pt x="1543" y="3530"/>
                  </a:lnTo>
                  <a:lnTo>
                    <a:pt x="1484" y="3614"/>
                  </a:lnTo>
                  <a:lnTo>
                    <a:pt x="1428" y="3696"/>
                  </a:lnTo>
                  <a:lnTo>
                    <a:pt x="1373" y="3781"/>
                  </a:lnTo>
                  <a:lnTo>
                    <a:pt x="1317" y="3864"/>
                  </a:lnTo>
                  <a:lnTo>
                    <a:pt x="1263" y="3950"/>
                  </a:lnTo>
                  <a:lnTo>
                    <a:pt x="1211" y="4036"/>
                  </a:lnTo>
                  <a:lnTo>
                    <a:pt x="1159" y="4123"/>
                  </a:lnTo>
                  <a:lnTo>
                    <a:pt x="1109" y="4211"/>
                  </a:lnTo>
                  <a:lnTo>
                    <a:pt x="1058" y="4297"/>
                  </a:lnTo>
                  <a:lnTo>
                    <a:pt x="1010" y="4386"/>
                  </a:lnTo>
                  <a:lnTo>
                    <a:pt x="962" y="4476"/>
                  </a:lnTo>
                  <a:lnTo>
                    <a:pt x="915" y="4566"/>
                  </a:lnTo>
                  <a:lnTo>
                    <a:pt x="869" y="4656"/>
                  </a:lnTo>
                  <a:lnTo>
                    <a:pt x="825" y="4747"/>
                  </a:lnTo>
                  <a:lnTo>
                    <a:pt x="782" y="4839"/>
                  </a:lnTo>
                  <a:lnTo>
                    <a:pt x="739" y="4932"/>
                  </a:lnTo>
                  <a:lnTo>
                    <a:pt x="698" y="5025"/>
                  </a:lnTo>
                  <a:lnTo>
                    <a:pt x="658" y="5119"/>
                  </a:lnTo>
                  <a:lnTo>
                    <a:pt x="619" y="5212"/>
                  </a:lnTo>
                  <a:lnTo>
                    <a:pt x="581" y="5306"/>
                  </a:lnTo>
                  <a:lnTo>
                    <a:pt x="543" y="5402"/>
                  </a:lnTo>
                  <a:lnTo>
                    <a:pt x="508" y="5498"/>
                  </a:lnTo>
                  <a:lnTo>
                    <a:pt x="473" y="5594"/>
                  </a:lnTo>
                  <a:lnTo>
                    <a:pt x="440" y="5691"/>
                  </a:lnTo>
                  <a:lnTo>
                    <a:pt x="408" y="5789"/>
                  </a:lnTo>
                  <a:lnTo>
                    <a:pt x="376" y="5887"/>
                  </a:lnTo>
                  <a:lnTo>
                    <a:pt x="346" y="5985"/>
                  </a:lnTo>
                  <a:lnTo>
                    <a:pt x="318" y="6084"/>
                  </a:lnTo>
                  <a:lnTo>
                    <a:pt x="290" y="6183"/>
                  </a:lnTo>
                  <a:lnTo>
                    <a:pt x="265" y="6285"/>
                  </a:lnTo>
                  <a:lnTo>
                    <a:pt x="239" y="6385"/>
                  </a:lnTo>
                  <a:lnTo>
                    <a:pt x="215" y="6485"/>
                  </a:lnTo>
                  <a:lnTo>
                    <a:pt x="192" y="6587"/>
                  </a:lnTo>
                  <a:lnTo>
                    <a:pt x="171" y="6688"/>
                  </a:lnTo>
                  <a:lnTo>
                    <a:pt x="150" y="6791"/>
                  </a:lnTo>
                  <a:lnTo>
                    <a:pt x="131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1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1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77" y="837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05160" y="6026040"/>
              <a:ext cx="601920" cy="60336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8338" y="7691"/>
                  </a:moveTo>
                  <a:lnTo>
                    <a:pt x="8338" y="7691"/>
                  </a:lnTo>
                  <a:lnTo>
                    <a:pt x="8239" y="7691"/>
                  </a:lnTo>
                  <a:lnTo>
                    <a:pt x="8140" y="7690"/>
                  </a:lnTo>
                  <a:lnTo>
                    <a:pt x="8041" y="7687"/>
                  </a:lnTo>
                  <a:lnTo>
                    <a:pt x="7943" y="7681"/>
                  </a:lnTo>
                  <a:lnTo>
                    <a:pt x="7847" y="7676"/>
                  </a:lnTo>
                  <a:lnTo>
                    <a:pt x="7749" y="7669"/>
                  </a:lnTo>
                  <a:lnTo>
                    <a:pt x="7652" y="7661"/>
                  </a:lnTo>
                  <a:lnTo>
                    <a:pt x="7555" y="7652"/>
                  </a:lnTo>
                  <a:lnTo>
                    <a:pt x="7459" y="7642"/>
                  </a:lnTo>
                  <a:lnTo>
                    <a:pt x="7363" y="7630"/>
                  </a:lnTo>
                  <a:lnTo>
                    <a:pt x="7268" y="7617"/>
                  </a:lnTo>
                  <a:lnTo>
                    <a:pt x="7173" y="7602"/>
                  </a:lnTo>
                  <a:lnTo>
                    <a:pt x="7078" y="7588"/>
                  </a:lnTo>
                  <a:lnTo>
                    <a:pt x="6984" y="7572"/>
                  </a:lnTo>
                  <a:lnTo>
                    <a:pt x="6890" y="7554"/>
                  </a:lnTo>
                  <a:lnTo>
                    <a:pt x="6797" y="7535"/>
                  </a:lnTo>
                  <a:lnTo>
                    <a:pt x="6704" y="7515"/>
                  </a:lnTo>
                  <a:lnTo>
                    <a:pt x="6610" y="7494"/>
                  </a:lnTo>
                  <a:lnTo>
                    <a:pt x="6518" y="7472"/>
                  </a:lnTo>
                  <a:lnTo>
                    <a:pt x="6427" y="7449"/>
                  </a:lnTo>
                  <a:lnTo>
                    <a:pt x="6336" y="7424"/>
                  </a:lnTo>
                  <a:lnTo>
                    <a:pt x="6245" y="7399"/>
                  </a:lnTo>
                  <a:lnTo>
                    <a:pt x="6154" y="7373"/>
                  </a:lnTo>
                  <a:lnTo>
                    <a:pt x="6064" y="7345"/>
                  </a:lnTo>
                  <a:lnTo>
                    <a:pt x="5974" y="7316"/>
                  </a:lnTo>
                  <a:lnTo>
                    <a:pt x="5886" y="7287"/>
                  </a:lnTo>
                  <a:lnTo>
                    <a:pt x="5797" y="7256"/>
                  </a:lnTo>
                  <a:lnTo>
                    <a:pt x="5708" y="7224"/>
                  </a:lnTo>
                  <a:lnTo>
                    <a:pt x="5621" y="7191"/>
                  </a:lnTo>
                  <a:lnTo>
                    <a:pt x="5534" y="7156"/>
                  </a:lnTo>
                  <a:lnTo>
                    <a:pt x="5448" y="7123"/>
                  </a:lnTo>
                  <a:lnTo>
                    <a:pt x="5360" y="7086"/>
                  </a:lnTo>
                  <a:lnTo>
                    <a:pt x="5275" y="7048"/>
                  </a:lnTo>
                  <a:lnTo>
                    <a:pt x="5189" y="7011"/>
                  </a:lnTo>
                  <a:lnTo>
                    <a:pt x="5106" y="6972"/>
                  </a:lnTo>
                  <a:lnTo>
                    <a:pt x="5022" y="6932"/>
                  </a:lnTo>
                  <a:lnTo>
                    <a:pt x="4938" y="6890"/>
                  </a:lnTo>
                  <a:lnTo>
                    <a:pt x="4856" y="6849"/>
                  </a:lnTo>
                  <a:lnTo>
                    <a:pt x="4772" y="6806"/>
                  </a:lnTo>
                  <a:lnTo>
                    <a:pt x="4691" y="6762"/>
                  </a:lnTo>
                  <a:lnTo>
                    <a:pt x="4611" y="6717"/>
                  </a:lnTo>
                  <a:lnTo>
                    <a:pt x="4530" y="6671"/>
                  </a:lnTo>
                  <a:lnTo>
                    <a:pt x="4450" y="6624"/>
                  </a:lnTo>
                  <a:lnTo>
                    <a:pt x="4371" y="6576"/>
                  </a:lnTo>
                  <a:lnTo>
                    <a:pt x="4292" y="6526"/>
                  </a:lnTo>
                  <a:lnTo>
                    <a:pt x="4214" y="6477"/>
                  </a:lnTo>
                  <a:lnTo>
                    <a:pt x="4138" y="6427"/>
                  </a:lnTo>
                  <a:lnTo>
                    <a:pt x="4060" y="6375"/>
                  </a:lnTo>
                  <a:lnTo>
                    <a:pt x="3982" y="6323"/>
                  </a:lnTo>
                  <a:lnTo>
                    <a:pt x="3908" y="6270"/>
                  </a:lnTo>
                  <a:lnTo>
                    <a:pt x="3832" y="6217"/>
                  </a:lnTo>
                  <a:lnTo>
                    <a:pt x="3759" y="6161"/>
                  </a:lnTo>
                  <a:lnTo>
                    <a:pt x="3685" y="6105"/>
                  </a:lnTo>
                  <a:lnTo>
                    <a:pt x="3613" y="6048"/>
                  </a:lnTo>
                  <a:lnTo>
                    <a:pt x="3541" y="5990"/>
                  </a:lnTo>
                  <a:lnTo>
                    <a:pt x="3471" y="5932"/>
                  </a:lnTo>
                  <a:lnTo>
                    <a:pt x="3399" y="5872"/>
                  </a:lnTo>
                  <a:lnTo>
                    <a:pt x="3329" y="5813"/>
                  </a:lnTo>
                  <a:lnTo>
                    <a:pt x="3260" y="5752"/>
                  </a:lnTo>
                  <a:lnTo>
                    <a:pt x="3191" y="5689"/>
                  </a:lnTo>
                  <a:lnTo>
                    <a:pt x="3124" y="5627"/>
                  </a:lnTo>
                  <a:lnTo>
                    <a:pt x="3056" y="5564"/>
                  </a:lnTo>
                  <a:lnTo>
                    <a:pt x="2990" y="5499"/>
                  </a:lnTo>
                  <a:lnTo>
                    <a:pt x="2926" y="5434"/>
                  </a:lnTo>
                  <a:lnTo>
                    <a:pt x="2861" y="5369"/>
                  </a:lnTo>
                  <a:lnTo>
                    <a:pt x="2796" y="5303"/>
                  </a:lnTo>
                  <a:lnTo>
                    <a:pt x="2733" y="5235"/>
                  </a:lnTo>
                  <a:lnTo>
                    <a:pt x="2671" y="5167"/>
                  </a:lnTo>
                  <a:lnTo>
                    <a:pt x="2609" y="5098"/>
                  </a:lnTo>
                  <a:lnTo>
                    <a:pt x="2548" y="5029"/>
                  </a:lnTo>
                  <a:lnTo>
                    <a:pt x="2489" y="4959"/>
                  </a:lnTo>
                  <a:lnTo>
                    <a:pt x="2429" y="4887"/>
                  </a:lnTo>
                  <a:lnTo>
                    <a:pt x="2371" y="4816"/>
                  </a:lnTo>
                  <a:lnTo>
                    <a:pt x="2314" y="4743"/>
                  </a:lnTo>
                  <a:lnTo>
                    <a:pt x="2258" y="4671"/>
                  </a:lnTo>
                  <a:lnTo>
                    <a:pt x="2201" y="4597"/>
                  </a:lnTo>
                  <a:lnTo>
                    <a:pt x="2146" y="4523"/>
                  </a:lnTo>
                  <a:lnTo>
                    <a:pt x="2093" y="4447"/>
                  </a:lnTo>
                  <a:lnTo>
                    <a:pt x="2040" y="4373"/>
                  </a:lnTo>
                  <a:lnTo>
                    <a:pt x="1989" y="4295"/>
                  </a:lnTo>
                  <a:lnTo>
                    <a:pt x="1937" y="4217"/>
                  </a:lnTo>
                  <a:lnTo>
                    <a:pt x="1886" y="4141"/>
                  </a:lnTo>
                  <a:lnTo>
                    <a:pt x="1837" y="4062"/>
                  </a:lnTo>
                  <a:lnTo>
                    <a:pt x="1787" y="3983"/>
                  </a:lnTo>
                  <a:lnTo>
                    <a:pt x="1741" y="3903"/>
                  </a:lnTo>
                  <a:lnTo>
                    <a:pt x="1694" y="3823"/>
                  </a:lnTo>
                  <a:lnTo>
                    <a:pt x="1648" y="3742"/>
                  </a:lnTo>
                  <a:lnTo>
                    <a:pt x="1603" y="3661"/>
                  </a:lnTo>
                  <a:lnTo>
                    <a:pt x="1559" y="3580"/>
                  </a:lnTo>
                  <a:lnTo>
                    <a:pt x="1516" y="3496"/>
                  </a:lnTo>
                  <a:lnTo>
                    <a:pt x="1475" y="3413"/>
                  </a:lnTo>
                  <a:lnTo>
                    <a:pt x="1433" y="3330"/>
                  </a:lnTo>
                  <a:lnTo>
                    <a:pt x="1393" y="3245"/>
                  </a:lnTo>
                  <a:lnTo>
                    <a:pt x="1355" y="3161"/>
                  </a:lnTo>
                  <a:lnTo>
                    <a:pt x="1317" y="3075"/>
                  </a:lnTo>
                  <a:lnTo>
                    <a:pt x="1280" y="2989"/>
                  </a:lnTo>
                  <a:lnTo>
                    <a:pt x="1243" y="2902"/>
                  </a:lnTo>
                  <a:lnTo>
                    <a:pt x="1210" y="2815"/>
                  </a:lnTo>
                  <a:lnTo>
                    <a:pt x="1176" y="2728"/>
                  </a:lnTo>
                  <a:lnTo>
                    <a:pt x="1142" y="2640"/>
                  </a:lnTo>
                  <a:lnTo>
                    <a:pt x="1111" y="2551"/>
                  </a:lnTo>
                  <a:lnTo>
                    <a:pt x="1080" y="2462"/>
                  </a:lnTo>
                  <a:lnTo>
                    <a:pt x="1051" y="2373"/>
                  </a:lnTo>
                  <a:lnTo>
                    <a:pt x="1022" y="2283"/>
                  </a:lnTo>
                  <a:lnTo>
                    <a:pt x="994" y="2192"/>
                  </a:lnTo>
                  <a:lnTo>
                    <a:pt x="968" y="2101"/>
                  </a:lnTo>
                  <a:lnTo>
                    <a:pt x="943" y="2010"/>
                  </a:lnTo>
                  <a:lnTo>
                    <a:pt x="918" y="1919"/>
                  </a:lnTo>
                  <a:lnTo>
                    <a:pt x="895" y="1827"/>
                  </a:lnTo>
                  <a:lnTo>
                    <a:pt x="873" y="1735"/>
                  </a:lnTo>
                  <a:lnTo>
                    <a:pt x="853" y="1641"/>
                  </a:lnTo>
                  <a:lnTo>
                    <a:pt x="833" y="1548"/>
                  </a:lnTo>
                  <a:lnTo>
                    <a:pt x="814" y="1453"/>
                  </a:lnTo>
                  <a:lnTo>
                    <a:pt x="796" y="1359"/>
                  </a:lnTo>
                  <a:lnTo>
                    <a:pt x="780" y="1265"/>
                  </a:lnTo>
                  <a:lnTo>
                    <a:pt x="766" y="1170"/>
                  </a:lnTo>
                  <a:lnTo>
                    <a:pt x="751" y="1075"/>
                  </a:lnTo>
                  <a:lnTo>
                    <a:pt x="738" y="978"/>
                  </a:lnTo>
                  <a:lnTo>
                    <a:pt x="726" y="882"/>
                  </a:lnTo>
                  <a:lnTo>
                    <a:pt x="716" y="786"/>
                  </a:lnTo>
                  <a:lnTo>
                    <a:pt x="708" y="689"/>
                  </a:lnTo>
                  <a:lnTo>
                    <a:pt x="699" y="591"/>
                  </a:lnTo>
                  <a:lnTo>
                    <a:pt x="692" y="493"/>
                  </a:lnTo>
                  <a:lnTo>
                    <a:pt x="687" y="397"/>
                  </a:lnTo>
                  <a:lnTo>
                    <a:pt x="682" y="298"/>
                  </a:lnTo>
                  <a:lnTo>
                    <a:pt x="679" y="199"/>
                  </a:lnTo>
                  <a:lnTo>
                    <a:pt x="677" y="99"/>
                  </a:lnTo>
                  <a:lnTo>
                    <a:pt x="677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1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1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1" y="1479"/>
                  </a:lnTo>
                  <a:lnTo>
                    <a:pt x="150" y="1581"/>
                  </a:lnTo>
                  <a:lnTo>
                    <a:pt x="171" y="1683"/>
                  </a:lnTo>
                  <a:lnTo>
                    <a:pt x="192" y="1784"/>
                  </a:lnTo>
                  <a:lnTo>
                    <a:pt x="215" y="1886"/>
                  </a:lnTo>
                  <a:lnTo>
                    <a:pt x="239" y="1987"/>
                  </a:lnTo>
                  <a:lnTo>
                    <a:pt x="265" y="2086"/>
                  </a:lnTo>
                  <a:lnTo>
                    <a:pt x="290" y="2188"/>
                  </a:lnTo>
                  <a:lnTo>
                    <a:pt x="318" y="2287"/>
                  </a:lnTo>
                  <a:lnTo>
                    <a:pt x="346" y="2387"/>
                  </a:lnTo>
                  <a:lnTo>
                    <a:pt x="376" y="2485"/>
                  </a:lnTo>
                  <a:lnTo>
                    <a:pt x="408" y="2582"/>
                  </a:lnTo>
                  <a:lnTo>
                    <a:pt x="440" y="2680"/>
                  </a:lnTo>
                  <a:lnTo>
                    <a:pt x="473" y="2777"/>
                  </a:lnTo>
                  <a:lnTo>
                    <a:pt x="508" y="2873"/>
                  </a:lnTo>
                  <a:lnTo>
                    <a:pt x="543" y="2970"/>
                  </a:lnTo>
                  <a:lnTo>
                    <a:pt x="581" y="3065"/>
                  </a:lnTo>
                  <a:lnTo>
                    <a:pt x="619" y="3160"/>
                  </a:lnTo>
                  <a:lnTo>
                    <a:pt x="658" y="3252"/>
                  </a:lnTo>
                  <a:lnTo>
                    <a:pt x="698" y="3346"/>
                  </a:lnTo>
                  <a:lnTo>
                    <a:pt x="739" y="3439"/>
                  </a:lnTo>
                  <a:lnTo>
                    <a:pt x="782" y="3533"/>
                  </a:lnTo>
                  <a:lnTo>
                    <a:pt x="825" y="3624"/>
                  </a:lnTo>
                  <a:lnTo>
                    <a:pt x="869" y="3716"/>
                  </a:lnTo>
                  <a:lnTo>
                    <a:pt x="915" y="3807"/>
                  </a:lnTo>
                  <a:lnTo>
                    <a:pt x="962" y="3896"/>
                  </a:lnTo>
                  <a:lnTo>
                    <a:pt x="1010" y="3985"/>
                  </a:lnTo>
                  <a:lnTo>
                    <a:pt x="1058" y="4074"/>
                  </a:lnTo>
                  <a:lnTo>
                    <a:pt x="1109" y="4161"/>
                  </a:lnTo>
                  <a:lnTo>
                    <a:pt x="1159" y="4248"/>
                  </a:lnTo>
                  <a:lnTo>
                    <a:pt x="1211" y="4336"/>
                  </a:lnTo>
                  <a:lnTo>
                    <a:pt x="1263" y="4421"/>
                  </a:lnTo>
                  <a:lnTo>
                    <a:pt x="1317" y="4507"/>
                  </a:lnTo>
                  <a:lnTo>
                    <a:pt x="1373" y="4591"/>
                  </a:lnTo>
                  <a:lnTo>
                    <a:pt x="1428" y="4675"/>
                  </a:lnTo>
                  <a:lnTo>
                    <a:pt x="1484" y="4758"/>
                  </a:lnTo>
                  <a:lnTo>
                    <a:pt x="1543" y="4841"/>
                  </a:lnTo>
                  <a:lnTo>
                    <a:pt x="1602" y="4921"/>
                  </a:lnTo>
                  <a:lnTo>
                    <a:pt x="1661" y="5003"/>
                  </a:lnTo>
                  <a:lnTo>
                    <a:pt x="1721" y="5083"/>
                  </a:lnTo>
                  <a:lnTo>
                    <a:pt x="1782" y="5163"/>
                  </a:lnTo>
                  <a:lnTo>
                    <a:pt x="1845" y="5241"/>
                  </a:lnTo>
                  <a:lnTo>
                    <a:pt x="1908" y="5320"/>
                  </a:lnTo>
                  <a:lnTo>
                    <a:pt x="1973" y="5397"/>
                  </a:lnTo>
                  <a:lnTo>
                    <a:pt x="2038" y="5473"/>
                  </a:lnTo>
                  <a:lnTo>
                    <a:pt x="2104" y="5549"/>
                  </a:lnTo>
                  <a:lnTo>
                    <a:pt x="2171" y="5623"/>
                  </a:lnTo>
                  <a:lnTo>
                    <a:pt x="2239" y="5698"/>
                  </a:lnTo>
                  <a:lnTo>
                    <a:pt x="2308" y="5770"/>
                  </a:lnTo>
                  <a:lnTo>
                    <a:pt x="2376" y="5842"/>
                  </a:lnTo>
                  <a:lnTo>
                    <a:pt x="2447" y="5914"/>
                  </a:lnTo>
                  <a:lnTo>
                    <a:pt x="2519" y="5985"/>
                  </a:lnTo>
                  <a:lnTo>
                    <a:pt x="2591" y="6054"/>
                  </a:lnTo>
                  <a:lnTo>
                    <a:pt x="2663" y="6123"/>
                  </a:lnTo>
                  <a:lnTo>
                    <a:pt x="2737" y="6191"/>
                  </a:lnTo>
                  <a:lnTo>
                    <a:pt x="2811" y="6258"/>
                  </a:lnTo>
                  <a:lnTo>
                    <a:pt x="2887" y="6325"/>
                  </a:lnTo>
                  <a:lnTo>
                    <a:pt x="2962" y="6390"/>
                  </a:lnTo>
                  <a:lnTo>
                    <a:pt x="3039" y="6455"/>
                  </a:lnTo>
                  <a:lnTo>
                    <a:pt x="3117" y="6519"/>
                  </a:lnTo>
                  <a:lnTo>
                    <a:pt x="3196" y="6582"/>
                  </a:lnTo>
                  <a:lnTo>
                    <a:pt x="3275" y="6643"/>
                  </a:lnTo>
                  <a:lnTo>
                    <a:pt x="3355" y="6703"/>
                  </a:lnTo>
                  <a:lnTo>
                    <a:pt x="3436" y="6763"/>
                  </a:lnTo>
                  <a:lnTo>
                    <a:pt x="3517" y="6822"/>
                  </a:lnTo>
                  <a:lnTo>
                    <a:pt x="3599" y="6881"/>
                  </a:lnTo>
                  <a:lnTo>
                    <a:pt x="3681" y="6937"/>
                  </a:lnTo>
                  <a:lnTo>
                    <a:pt x="3765" y="6993"/>
                  </a:lnTo>
                  <a:lnTo>
                    <a:pt x="3849" y="7048"/>
                  </a:lnTo>
                  <a:lnTo>
                    <a:pt x="3934" y="7103"/>
                  </a:lnTo>
                  <a:lnTo>
                    <a:pt x="4019" y="7155"/>
                  </a:lnTo>
                  <a:lnTo>
                    <a:pt x="4106" y="7207"/>
                  </a:lnTo>
                  <a:lnTo>
                    <a:pt x="4193" y="7258"/>
                  </a:lnTo>
                  <a:lnTo>
                    <a:pt x="4281" y="7309"/>
                  </a:lnTo>
                  <a:lnTo>
                    <a:pt x="4369" y="7357"/>
                  </a:lnTo>
                  <a:lnTo>
                    <a:pt x="4458" y="7405"/>
                  </a:lnTo>
                  <a:lnTo>
                    <a:pt x="4546" y="7452"/>
                  </a:lnTo>
                  <a:lnTo>
                    <a:pt x="4637" y="7498"/>
                  </a:lnTo>
                  <a:lnTo>
                    <a:pt x="4729" y="7542"/>
                  </a:lnTo>
                  <a:lnTo>
                    <a:pt x="4819" y="7586"/>
                  </a:lnTo>
                  <a:lnTo>
                    <a:pt x="4912" y="7629"/>
                  </a:lnTo>
                  <a:lnTo>
                    <a:pt x="5005" y="7670"/>
                  </a:lnTo>
                  <a:lnTo>
                    <a:pt x="5099" y="7711"/>
                  </a:lnTo>
                  <a:lnTo>
                    <a:pt x="5190" y="7749"/>
                  </a:lnTo>
                  <a:lnTo>
                    <a:pt x="5285" y="7788"/>
                  </a:lnTo>
                  <a:lnTo>
                    <a:pt x="5380" y="7826"/>
                  </a:lnTo>
                  <a:lnTo>
                    <a:pt x="5476" y="7861"/>
                  </a:lnTo>
                  <a:lnTo>
                    <a:pt x="5572" y="7896"/>
                  </a:lnTo>
                  <a:lnTo>
                    <a:pt x="5669" y="7929"/>
                  </a:lnTo>
                  <a:lnTo>
                    <a:pt x="5766" y="7962"/>
                  </a:lnTo>
                  <a:lnTo>
                    <a:pt x="5863" y="7993"/>
                  </a:lnTo>
                  <a:lnTo>
                    <a:pt x="5961" y="8024"/>
                  </a:lnTo>
                  <a:lnTo>
                    <a:pt x="6060" y="8052"/>
                  </a:lnTo>
                  <a:lnTo>
                    <a:pt x="6159" y="8080"/>
                  </a:lnTo>
                  <a:lnTo>
                    <a:pt x="6260" y="8105"/>
                  </a:lnTo>
                  <a:lnTo>
                    <a:pt x="6359" y="8131"/>
                  </a:lnTo>
                  <a:lnTo>
                    <a:pt x="6460" y="8155"/>
                  </a:lnTo>
                  <a:lnTo>
                    <a:pt x="6561" y="8178"/>
                  </a:lnTo>
                  <a:lnTo>
                    <a:pt x="6662" y="8199"/>
                  </a:lnTo>
                  <a:lnTo>
                    <a:pt x="6763" y="8220"/>
                  </a:lnTo>
                  <a:lnTo>
                    <a:pt x="6865" y="8239"/>
                  </a:lnTo>
                  <a:lnTo>
                    <a:pt x="6970" y="8257"/>
                  </a:lnTo>
                  <a:lnTo>
                    <a:pt x="7072" y="8275"/>
                  </a:lnTo>
                  <a:lnTo>
                    <a:pt x="7176" y="8289"/>
                  </a:lnTo>
                  <a:lnTo>
                    <a:pt x="7279" y="8302"/>
                  </a:lnTo>
                  <a:lnTo>
                    <a:pt x="7383" y="8316"/>
                  </a:lnTo>
                  <a:lnTo>
                    <a:pt x="7489" y="8327"/>
                  </a:lnTo>
                  <a:lnTo>
                    <a:pt x="7594" y="8338"/>
                  </a:lnTo>
                  <a:lnTo>
                    <a:pt x="7699" y="8346"/>
                  </a:lnTo>
                  <a:lnTo>
                    <a:pt x="7804" y="8353"/>
                  </a:lnTo>
                  <a:lnTo>
                    <a:pt x="7912" y="8359"/>
                  </a:lnTo>
                  <a:lnTo>
                    <a:pt x="8018" y="8364"/>
                  </a:lnTo>
                  <a:lnTo>
                    <a:pt x="8124" y="8367"/>
                  </a:lnTo>
                  <a:lnTo>
                    <a:pt x="8231" y="8370"/>
                  </a:lnTo>
                  <a:lnTo>
                    <a:pt x="8338" y="8371"/>
                  </a:lnTo>
                  <a:lnTo>
                    <a:pt x="8338" y="8371"/>
                  </a:lnTo>
                  <a:lnTo>
                    <a:pt x="8338" y="769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7080" y="6026040"/>
              <a:ext cx="601560" cy="60336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7661" y="0"/>
                  </a:moveTo>
                  <a:lnTo>
                    <a:pt x="7661" y="0"/>
                  </a:lnTo>
                  <a:lnTo>
                    <a:pt x="7659" y="99"/>
                  </a:lnTo>
                  <a:lnTo>
                    <a:pt x="7659" y="199"/>
                  </a:lnTo>
                  <a:lnTo>
                    <a:pt x="7656" y="298"/>
                  </a:lnTo>
                  <a:lnTo>
                    <a:pt x="7651" y="397"/>
                  </a:lnTo>
                  <a:lnTo>
                    <a:pt x="7646" y="493"/>
                  </a:lnTo>
                  <a:lnTo>
                    <a:pt x="7639" y="591"/>
                  </a:lnTo>
                  <a:lnTo>
                    <a:pt x="7630" y="689"/>
                  </a:lnTo>
                  <a:lnTo>
                    <a:pt x="7622" y="785"/>
                  </a:lnTo>
                  <a:lnTo>
                    <a:pt x="7611" y="882"/>
                  </a:lnTo>
                  <a:lnTo>
                    <a:pt x="7600" y="978"/>
                  </a:lnTo>
                  <a:lnTo>
                    <a:pt x="7587" y="1075"/>
                  </a:lnTo>
                  <a:lnTo>
                    <a:pt x="7572" y="1170"/>
                  </a:lnTo>
                  <a:lnTo>
                    <a:pt x="7557" y="1264"/>
                  </a:lnTo>
                  <a:lnTo>
                    <a:pt x="7541" y="1359"/>
                  </a:lnTo>
                  <a:lnTo>
                    <a:pt x="7524" y="1453"/>
                  </a:lnTo>
                  <a:lnTo>
                    <a:pt x="7505" y="1548"/>
                  </a:lnTo>
                  <a:lnTo>
                    <a:pt x="7484" y="1641"/>
                  </a:lnTo>
                  <a:lnTo>
                    <a:pt x="7465" y="1735"/>
                  </a:lnTo>
                  <a:lnTo>
                    <a:pt x="7443" y="1827"/>
                  </a:lnTo>
                  <a:lnTo>
                    <a:pt x="7420" y="1919"/>
                  </a:lnTo>
                  <a:lnTo>
                    <a:pt x="7395" y="2010"/>
                  </a:lnTo>
                  <a:lnTo>
                    <a:pt x="7370" y="2101"/>
                  </a:lnTo>
                  <a:lnTo>
                    <a:pt x="7343" y="2192"/>
                  </a:lnTo>
                  <a:lnTo>
                    <a:pt x="7316" y="2283"/>
                  </a:lnTo>
                  <a:lnTo>
                    <a:pt x="7287" y="2373"/>
                  </a:lnTo>
                  <a:lnTo>
                    <a:pt x="7257" y="2462"/>
                  </a:lnTo>
                  <a:lnTo>
                    <a:pt x="7227" y="2551"/>
                  </a:lnTo>
                  <a:lnTo>
                    <a:pt x="7195" y="2640"/>
                  </a:lnTo>
                  <a:lnTo>
                    <a:pt x="7162" y="2728"/>
                  </a:lnTo>
                  <a:lnTo>
                    <a:pt x="7128" y="2815"/>
                  </a:lnTo>
                  <a:lnTo>
                    <a:pt x="7095" y="2902"/>
                  </a:lnTo>
                  <a:lnTo>
                    <a:pt x="7058" y="2989"/>
                  </a:lnTo>
                  <a:lnTo>
                    <a:pt x="7021" y="3075"/>
                  </a:lnTo>
                  <a:lnTo>
                    <a:pt x="6982" y="3161"/>
                  </a:lnTo>
                  <a:lnTo>
                    <a:pt x="6945" y="3245"/>
                  </a:lnTo>
                  <a:lnTo>
                    <a:pt x="6904" y="3330"/>
                  </a:lnTo>
                  <a:lnTo>
                    <a:pt x="6862" y="3413"/>
                  </a:lnTo>
                  <a:lnTo>
                    <a:pt x="6822" y="3497"/>
                  </a:lnTo>
                  <a:lnTo>
                    <a:pt x="6778" y="3580"/>
                  </a:lnTo>
                  <a:lnTo>
                    <a:pt x="6735" y="3661"/>
                  </a:lnTo>
                  <a:lnTo>
                    <a:pt x="6689" y="3742"/>
                  </a:lnTo>
                  <a:lnTo>
                    <a:pt x="6644" y="3823"/>
                  </a:lnTo>
                  <a:lnTo>
                    <a:pt x="6597" y="3903"/>
                  </a:lnTo>
                  <a:lnTo>
                    <a:pt x="6549" y="3983"/>
                  </a:lnTo>
                  <a:lnTo>
                    <a:pt x="6501" y="4062"/>
                  </a:lnTo>
                  <a:lnTo>
                    <a:pt x="6452" y="4141"/>
                  </a:lnTo>
                  <a:lnTo>
                    <a:pt x="6401" y="4219"/>
                  </a:lnTo>
                  <a:lnTo>
                    <a:pt x="6349" y="4295"/>
                  </a:lnTo>
                  <a:lnTo>
                    <a:pt x="6297" y="4373"/>
                  </a:lnTo>
                  <a:lnTo>
                    <a:pt x="6245" y="4447"/>
                  </a:lnTo>
                  <a:lnTo>
                    <a:pt x="6191" y="4523"/>
                  </a:lnTo>
                  <a:lnTo>
                    <a:pt x="6137" y="4597"/>
                  </a:lnTo>
                  <a:lnTo>
                    <a:pt x="6079" y="4671"/>
                  </a:lnTo>
                  <a:lnTo>
                    <a:pt x="6023" y="4743"/>
                  </a:lnTo>
                  <a:lnTo>
                    <a:pt x="5966" y="4816"/>
                  </a:lnTo>
                  <a:lnTo>
                    <a:pt x="5909" y="4887"/>
                  </a:lnTo>
                  <a:lnTo>
                    <a:pt x="5849" y="4959"/>
                  </a:lnTo>
                  <a:lnTo>
                    <a:pt x="5790" y="5029"/>
                  </a:lnTo>
                  <a:lnTo>
                    <a:pt x="5728" y="5098"/>
                  </a:lnTo>
                  <a:lnTo>
                    <a:pt x="5667" y="5167"/>
                  </a:lnTo>
                  <a:lnTo>
                    <a:pt x="5604" y="5235"/>
                  </a:lnTo>
                  <a:lnTo>
                    <a:pt x="5542" y="5303"/>
                  </a:lnTo>
                  <a:lnTo>
                    <a:pt x="5477" y="5369"/>
                  </a:lnTo>
                  <a:lnTo>
                    <a:pt x="5412" y="5434"/>
                  </a:lnTo>
                  <a:lnTo>
                    <a:pt x="5348" y="5499"/>
                  </a:lnTo>
                  <a:lnTo>
                    <a:pt x="5281" y="5564"/>
                  </a:lnTo>
                  <a:lnTo>
                    <a:pt x="5214" y="5627"/>
                  </a:lnTo>
                  <a:lnTo>
                    <a:pt x="5147" y="5689"/>
                  </a:lnTo>
                  <a:lnTo>
                    <a:pt x="5079" y="5752"/>
                  </a:lnTo>
                  <a:lnTo>
                    <a:pt x="5009" y="5813"/>
                  </a:lnTo>
                  <a:lnTo>
                    <a:pt x="4938" y="5872"/>
                  </a:lnTo>
                  <a:lnTo>
                    <a:pt x="4867" y="5932"/>
                  </a:lnTo>
                  <a:lnTo>
                    <a:pt x="4797" y="5990"/>
                  </a:lnTo>
                  <a:lnTo>
                    <a:pt x="4725" y="6048"/>
                  </a:lnTo>
                  <a:lnTo>
                    <a:pt x="4653" y="6105"/>
                  </a:lnTo>
                  <a:lnTo>
                    <a:pt x="4579" y="6161"/>
                  </a:lnTo>
                  <a:lnTo>
                    <a:pt x="4505" y="6217"/>
                  </a:lnTo>
                  <a:lnTo>
                    <a:pt x="4430" y="6270"/>
                  </a:lnTo>
                  <a:lnTo>
                    <a:pt x="4355" y="6323"/>
                  </a:lnTo>
                  <a:lnTo>
                    <a:pt x="4278" y="6375"/>
                  </a:lnTo>
                  <a:lnTo>
                    <a:pt x="4201" y="6427"/>
                  </a:lnTo>
                  <a:lnTo>
                    <a:pt x="4123" y="6477"/>
                  </a:lnTo>
                  <a:lnTo>
                    <a:pt x="4046" y="6526"/>
                  </a:lnTo>
                  <a:lnTo>
                    <a:pt x="3967" y="6576"/>
                  </a:lnTo>
                  <a:lnTo>
                    <a:pt x="3888" y="6624"/>
                  </a:lnTo>
                  <a:lnTo>
                    <a:pt x="3808" y="6671"/>
                  </a:lnTo>
                  <a:lnTo>
                    <a:pt x="3727" y="6717"/>
                  </a:lnTo>
                  <a:lnTo>
                    <a:pt x="3646" y="6762"/>
                  </a:lnTo>
                  <a:lnTo>
                    <a:pt x="3564" y="6806"/>
                  </a:lnTo>
                  <a:lnTo>
                    <a:pt x="3483" y="6849"/>
                  </a:lnTo>
                  <a:lnTo>
                    <a:pt x="3399" y="6890"/>
                  </a:lnTo>
                  <a:lnTo>
                    <a:pt x="3315" y="6932"/>
                  </a:lnTo>
                  <a:lnTo>
                    <a:pt x="3232" y="6972"/>
                  </a:lnTo>
                  <a:lnTo>
                    <a:pt x="3148" y="7011"/>
                  </a:lnTo>
                  <a:lnTo>
                    <a:pt x="3063" y="7048"/>
                  </a:lnTo>
                  <a:lnTo>
                    <a:pt x="2978" y="7086"/>
                  </a:lnTo>
                  <a:lnTo>
                    <a:pt x="2890" y="7123"/>
                  </a:lnTo>
                  <a:lnTo>
                    <a:pt x="2804" y="7156"/>
                  </a:lnTo>
                  <a:lnTo>
                    <a:pt x="2716" y="7191"/>
                  </a:lnTo>
                  <a:lnTo>
                    <a:pt x="2629" y="7224"/>
                  </a:lnTo>
                  <a:lnTo>
                    <a:pt x="2541" y="7256"/>
                  </a:lnTo>
                  <a:lnTo>
                    <a:pt x="2452" y="7287"/>
                  </a:lnTo>
                  <a:lnTo>
                    <a:pt x="2363" y="7316"/>
                  </a:lnTo>
                  <a:lnTo>
                    <a:pt x="2273" y="7345"/>
                  </a:lnTo>
                  <a:lnTo>
                    <a:pt x="2184" y="7373"/>
                  </a:lnTo>
                  <a:lnTo>
                    <a:pt x="2093" y="7399"/>
                  </a:lnTo>
                  <a:lnTo>
                    <a:pt x="2002" y="7424"/>
                  </a:lnTo>
                  <a:lnTo>
                    <a:pt x="1911" y="7449"/>
                  </a:lnTo>
                  <a:lnTo>
                    <a:pt x="1820" y="7472"/>
                  </a:lnTo>
                  <a:lnTo>
                    <a:pt x="1727" y="7494"/>
                  </a:lnTo>
                  <a:lnTo>
                    <a:pt x="1634" y="7515"/>
                  </a:lnTo>
                  <a:lnTo>
                    <a:pt x="1541" y="7535"/>
                  </a:lnTo>
                  <a:lnTo>
                    <a:pt x="1448" y="7554"/>
                  </a:lnTo>
                  <a:lnTo>
                    <a:pt x="1353" y="7572"/>
                  </a:lnTo>
                  <a:lnTo>
                    <a:pt x="1260" y="7588"/>
                  </a:lnTo>
                  <a:lnTo>
                    <a:pt x="1165" y="7602"/>
                  </a:lnTo>
                  <a:lnTo>
                    <a:pt x="1069" y="7617"/>
                  </a:lnTo>
                  <a:lnTo>
                    <a:pt x="973" y="7630"/>
                  </a:lnTo>
                  <a:lnTo>
                    <a:pt x="878" y="7642"/>
                  </a:lnTo>
                  <a:lnTo>
                    <a:pt x="783" y="7652"/>
                  </a:lnTo>
                  <a:lnTo>
                    <a:pt x="686" y="7661"/>
                  </a:lnTo>
                  <a:lnTo>
                    <a:pt x="589" y="7669"/>
                  </a:lnTo>
                  <a:lnTo>
                    <a:pt x="491" y="7676"/>
                  </a:lnTo>
                  <a:lnTo>
                    <a:pt x="395" y="7681"/>
                  </a:lnTo>
                  <a:lnTo>
                    <a:pt x="296" y="7687"/>
                  </a:lnTo>
                  <a:lnTo>
                    <a:pt x="198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7" y="8370"/>
                  </a:lnTo>
                  <a:lnTo>
                    <a:pt x="214" y="8367"/>
                  </a:lnTo>
                  <a:lnTo>
                    <a:pt x="320" y="8364"/>
                  </a:lnTo>
                  <a:lnTo>
                    <a:pt x="426" y="8359"/>
                  </a:lnTo>
                  <a:lnTo>
                    <a:pt x="534" y="8353"/>
                  </a:lnTo>
                  <a:lnTo>
                    <a:pt x="639" y="8346"/>
                  </a:lnTo>
                  <a:lnTo>
                    <a:pt x="744" y="8338"/>
                  </a:lnTo>
                  <a:lnTo>
                    <a:pt x="848" y="8327"/>
                  </a:lnTo>
                  <a:lnTo>
                    <a:pt x="955" y="8316"/>
                  </a:lnTo>
                  <a:lnTo>
                    <a:pt x="1059" y="8302"/>
                  </a:lnTo>
                  <a:lnTo>
                    <a:pt x="1162" y="8289"/>
                  </a:lnTo>
                  <a:lnTo>
                    <a:pt x="1265" y="8275"/>
                  </a:lnTo>
                  <a:lnTo>
                    <a:pt x="1368" y="8257"/>
                  </a:lnTo>
                  <a:lnTo>
                    <a:pt x="1473" y="8239"/>
                  </a:lnTo>
                  <a:lnTo>
                    <a:pt x="1574" y="8220"/>
                  </a:lnTo>
                  <a:lnTo>
                    <a:pt x="1676" y="8199"/>
                  </a:lnTo>
                  <a:lnTo>
                    <a:pt x="1777" y="8178"/>
                  </a:lnTo>
                  <a:lnTo>
                    <a:pt x="1878" y="8155"/>
                  </a:lnTo>
                  <a:lnTo>
                    <a:pt x="1978" y="8131"/>
                  </a:lnTo>
                  <a:lnTo>
                    <a:pt x="2078" y="8105"/>
                  </a:lnTo>
                  <a:lnTo>
                    <a:pt x="2179" y="8080"/>
                  </a:lnTo>
                  <a:lnTo>
                    <a:pt x="2278" y="8052"/>
                  </a:lnTo>
                  <a:lnTo>
                    <a:pt x="2376" y="8024"/>
                  </a:lnTo>
                  <a:lnTo>
                    <a:pt x="2474" y="7993"/>
                  </a:lnTo>
                  <a:lnTo>
                    <a:pt x="2572" y="7962"/>
                  </a:lnTo>
                  <a:lnTo>
                    <a:pt x="2669" y="7929"/>
                  </a:lnTo>
                  <a:lnTo>
                    <a:pt x="2766" y="7896"/>
                  </a:lnTo>
                  <a:lnTo>
                    <a:pt x="2862" y="7861"/>
                  </a:lnTo>
                  <a:lnTo>
                    <a:pt x="2957" y="7826"/>
                  </a:lnTo>
                  <a:lnTo>
                    <a:pt x="3053" y="7788"/>
                  </a:lnTo>
                  <a:lnTo>
                    <a:pt x="3147" y="7749"/>
                  </a:lnTo>
                  <a:lnTo>
                    <a:pt x="3239" y="7711"/>
                  </a:lnTo>
                  <a:lnTo>
                    <a:pt x="3333" y="7670"/>
                  </a:lnTo>
                  <a:lnTo>
                    <a:pt x="3426" y="7629"/>
                  </a:lnTo>
                  <a:lnTo>
                    <a:pt x="3518" y="7586"/>
                  </a:lnTo>
                  <a:lnTo>
                    <a:pt x="3609" y="7542"/>
                  </a:lnTo>
                  <a:lnTo>
                    <a:pt x="3700" y="7498"/>
                  </a:lnTo>
                  <a:lnTo>
                    <a:pt x="3790" y="7452"/>
                  </a:lnTo>
                  <a:lnTo>
                    <a:pt x="3879" y="7405"/>
                  </a:lnTo>
                  <a:lnTo>
                    <a:pt x="3969" y="7357"/>
                  </a:lnTo>
                  <a:lnTo>
                    <a:pt x="4057" y="7309"/>
                  </a:lnTo>
                  <a:lnTo>
                    <a:pt x="4144" y="7258"/>
                  </a:lnTo>
                  <a:lnTo>
                    <a:pt x="4232" y="7207"/>
                  </a:lnTo>
                  <a:lnTo>
                    <a:pt x="4318" y="7155"/>
                  </a:lnTo>
                  <a:lnTo>
                    <a:pt x="4404" y="7103"/>
                  </a:lnTo>
                  <a:lnTo>
                    <a:pt x="4489" y="7048"/>
                  </a:lnTo>
                  <a:lnTo>
                    <a:pt x="4572" y="6993"/>
                  </a:lnTo>
                  <a:lnTo>
                    <a:pt x="4657" y="6937"/>
                  </a:lnTo>
                  <a:lnTo>
                    <a:pt x="4738" y="6881"/>
                  </a:lnTo>
                  <a:lnTo>
                    <a:pt x="4821" y="6822"/>
                  </a:lnTo>
                  <a:lnTo>
                    <a:pt x="4902" y="6763"/>
                  </a:lnTo>
                  <a:lnTo>
                    <a:pt x="4983" y="6703"/>
                  </a:lnTo>
                  <a:lnTo>
                    <a:pt x="5062" y="6643"/>
                  </a:lnTo>
                  <a:lnTo>
                    <a:pt x="5142" y="6582"/>
                  </a:lnTo>
                  <a:lnTo>
                    <a:pt x="5221" y="6519"/>
                  </a:lnTo>
                  <a:lnTo>
                    <a:pt x="5299" y="6455"/>
                  </a:lnTo>
                  <a:lnTo>
                    <a:pt x="5375" y="6390"/>
                  </a:lnTo>
                  <a:lnTo>
                    <a:pt x="5451" y="6325"/>
                  </a:lnTo>
                  <a:lnTo>
                    <a:pt x="5526" y="6258"/>
                  </a:lnTo>
                  <a:lnTo>
                    <a:pt x="5601" y="6191"/>
                  </a:lnTo>
                  <a:lnTo>
                    <a:pt x="5674" y="6123"/>
                  </a:lnTo>
                  <a:lnTo>
                    <a:pt x="5747" y="6054"/>
                  </a:lnTo>
                  <a:lnTo>
                    <a:pt x="5819" y="5985"/>
                  </a:lnTo>
                  <a:lnTo>
                    <a:pt x="5891" y="5914"/>
                  </a:lnTo>
                  <a:lnTo>
                    <a:pt x="5962" y="5842"/>
                  </a:lnTo>
                  <a:lnTo>
                    <a:pt x="6030" y="5770"/>
                  </a:lnTo>
                  <a:lnTo>
                    <a:pt x="6099" y="5698"/>
                  </a:lnTo>
                  <a:lnTo>
                    <a:pt x="6167" y="5623"/>
                  </a:lnTo>
                  <a:lnTo>
                    <a:pt x="6234" y="5549"/>
                  </a:lnTo>
                  <a:lnTo>
                    <a:pt x="6299" y="5473"/>
                  </a:lnTo>
                  <a:lnTo>
                    <a:pt x="6365" y="5397"/>
                  </a:lnTo>
                  <a:lnTo>
                    <a:pt x="6430" y="5320"/>
                  </a:lnTo>
                  <a:lnTo>
                    <a:pt x="6492" y="5241"/>
                  </a:lnTo>
                  <a:lnTo>
                    <a:pt x="6555" y="5163"/>
                  </a:lnTo>
                  <a:lnTo>
                    <a:pt x="6617" y="5083"/>
                  </a:lnTo>
                  <a:lnTo>
                    <a:pt x="6677" y="5003"/>
                  </a:lnTo>
                  <a:lnTo>
                    <a:pt x="6736" y="4921"/>
                  </a:lnTo>
                  <a:lnTo>
                    <a:pt x="6795" y="4841"/>
                  </a:lnTo>
                  <a:lnTo>
                    <a:pt x="6853" y="4758"/>
                  </a:lnTo>
                  <a:lnTo>
                    <a:pt x="6910" y="4675"/>
                  </a:lnTo>
                  <a:lnTo>
                    <a:pt x="6965" y="4590"/>
                  </a:lnTo>
                  <a:lnTo>
                    <a:pt x="7021" y="4507"/>
                  </a:lnTo>
                  <a:lnTo>
                    <a:pt x="7075" y="4421"/>
                  </a:lnTo>
                  <a:lnTo>
                    <a:pt x="7127" y="4336"/>
                  </a:lnTo>
                  <a:lnTo>
                    <a:pt x="7179" y="4248"/>
                  </a:lnTo>
                  <a:lnTo>
                    <a:pt x="7229" y="4161"/>
                  </a:lnTo>
                  <a:lnTo>
                    <a:pt x="7279" y="4074"/>
                  </a:lnTo>
                  <a:lnTo>
                    <a:pt x="7328" y="3985"/>
                  </a:lnTo>
                  <a:lnTo>
                    <a:pt x="7376" y="3896"/>
                  </a:lnTo>
                  <a:lnTo>
                    <a:pt x="7422" y="3805"/>
                  </a:lnTo>
                  <a:lnTo>
                    <a:pt x="7469" y="3716"/>
                  </a:lnTo>
                  <a:lnTo>
                    <a:pt x="7513" y="3624"/>
                  </a:lnTo>
                  <a:lnTo>
                    <a:pt x="7555" y="3533"/>
                  </a:lnTo>
                  <a:lnTo>
                    <a:pt x="7599" y="3439"/>
                  </a:lnTo>
                  <a:lnTo>
                    <a:pt x="7640" y="3346"/>
                  </a:lnTo>
                  <a:lnTo>
                    <a:pt x="7679" y="3252"/>
                  </a:lnTo>
                  <a:lnTo>
                    <a:pt x="7719" y="3160"/>
                  </a:lnTo>
                  <a:lnTo>
                    <a:pt x="7757" y="3065"/>
                  </a:lnTo>
                  <a:lnTo>
                    <a:pt x="7794" y="2970"/>
                  </a:lnTo>
                  <a:lnTo>
                    <a:pt x="7830" y="2873"/>
                  </a:lnTo>
                  <a:lnTo>
                    <a:pt x="7865" y="2777"/>
                  </a:lnTo>
                  <a:lnTo>
                    <a:pt x="7898" y="2680"/>
                  </a:lnTo>
                  <a:lnTo>
                    <a:pt x="7930" y="2582"/>
                  </a:lnTo>
                  <a:lnTo>
                    <a:pt x="7962" y="2485"/>
                  </a:lnTo>
                  <a:lnTo>
                    <a:pt x="7991" y="2387"/>
                  </a:lnTo>
                  <a:lnTo>
                    <a:pt x="8020" y="2287"/>
                  </a:lnTo>
                  <a:lnTo>
                    <a:pt x="8048" y="2188"/>
                  </a:lnTo>
                  <a:lnTo>
                    <a:pt x="8073" y="2086"/>
                  </a:lnTo>
                  <a:lnTo>
                    <a:pt x="8098" y="1987"/>
                  </a:lnTo>
                  <a:lnTo>
                    <a:pt x="8123" y="1886"/>
                  </a:lnTo>
                  <a:lnTo>
                    <a:pt x="8146" y="1784"/>
                  </a:lnTo>
                  <a:lnTo>
                    <a:pt x="8167" y="1683"/>
                  </a:lnTo>
                  <a:lnTo>
                    <a:pt x="8188" y="1581"/>
                  </a:lnTo>
                  <a:lnTo>
                    <a:pt x="8208" y="1479"/>
                  </a:lnTo>
                  <a:lnTo>
                    <a:pt x="8224" y="1376"/>
                  </a:lnTo>
                  <a:lnTo>
                    <a:pt x="8241" y="1271"/>
                  </a:lnTo>
                  <a:lnTo>
                    <a:pt x="8256" y="1167"/>
                  </a:lnTo>
                  <a:lnTo>
                    <a:pt x="8269" y="1063"/>
                  </a:lnTo>
                  <a:lnTo>
                    <a:pt x="8283" y="958"/>
                  </a:lnTo>
                  <a:lnTo>
                    <a:pt x="8294" y="854"/>
                  </a:lnTo>
                  <a:lnTo>
                    <a:pt x="8305" y="747"/>
                  </a:lnTo>
                  <a:lnTo>
                    <a:pt x="8313" y="641"/>
                  </a:lnTo>
                  <a:lnTo>
                    <a:pt x="8320" y="536"/>
                  </a:lnTo>
                  <a:lnTo>
                    <a:pt x="8327" y="428"/>
                  </a:lnTo>
                  <a:lnTo>
                    <a:pt x="8331" y="321"/>
                  </a:lnTo>
                  <a:lnTo>
                    <a:pt x="8334" y="215"/>
                  </a:lnTo>
                  <a:lnTo>
                    <a:pt x="8337" y="108"/>
                  </a:lnTo>
                  <a:lnTo>
                    <a:pt x="8338" y="0"/>
                  </a:lnTo>
                  <a:lnTo>
                    <a:pt x="8338" y="0"/>
                  </a:lnTo>
                  <a:lnTo>
                    <a:pt x="7661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83080" y="5665680"/>
              <a:ext cx="576360" cy="757440"/>
            </a:xfrm>
            <a:custGeom>
              <a:avLst/>
              <a:gdLst/>
              <a:ahLst/>
              <a:rect l="l" t="t" r="r" b="b"/>
              <a:pathLst>
                <a:path w="7455" h="9447">
                  <a:moveTo>
                    <a:pt x="627" y="9297"/>
                  </a:moveTo>
                  <a:lnTo>
                    <a:pt x="637" y="9323"/>
                  </a:lnTo>
                  <a:lnTo>
                    <a:pt x="646" y="9346"/>
                  </a:lnTo>
                  <a:lnTo>
                    <a:pt x="655" y="9367"/>
                  </a:lnTo>
                  <a:lnTo>
                    <a:pt x="666" y="9384"/>
                  </a:lnTo>
                  <a:lnTo>
                    <a:pt x="675" y="9399"/>
                  </a:lnTo>
                  <a:lnTo>
                    <a:pt x="684" y="9413"/>
                  </a:lnTo>
                  <a:lnTo>
                    <a:pt x="695" y="9423"/>
                  </a:lnTo>
                  <a:lnTo>
                    <a:pt x="704" y="9431"/>
                  </a:lnTo>
                  <a:lnTo>
                    <a:pt x="714" y="9439"/>
                  </a:lnTo>
                  <a:lnTo>
                    <a:pt x="723" y="9443"/>
                  </a:lnTo>
                  <a:lnTo>
                    <a:pt x="732" y="9446"/>
                  </a:lnTo>
                  <a:lnTo>
                    <a:pt x="741" y="9447"/>
                  </a:lnTo>
                  <a:lnTo>
                    <a:pt x="750" y="9446"/>
                  </a:lnTo>
                  <a:lnTo>
                    <a:pt x="758" y="9444"/>
                  </a:lnTo>
                  <a:lnTo>
                    <a:pt x="767" y="9441"/>
                  </a:lnTo>
                  <a:lnTo>
                    <a:pt x="776" y="9436"/>
                  </a:lnTo>
                  <a:lnTo>
                    <a:pt x="783" y="9429"/>
                  </a:lnTo>
                  <a:lnTo>
                    <a:pt x="792" y="9422"/>
                  </a:lnTo>
                  <a:lnTo>
                    <a:pt x="799" y="9414"/>
                  </a:lnTo>
                  <a:lnTo>
                    <a:pt x="806" y="9404"/>
                  </a:lnTo>
                  <a:lnTo>
                    <a:pt x="814" y="9394"/>
                  </a:lnTo>
                  <a:lnTo>
                    <a:pt x="820" y="9383"/>
                  </a:lnTo>
                  <a:lnTo>
                    <a:pt x="826" y="9372"/>
                  </a:lnTo>
                  <a:lnTo>
                    <a:pt x="832" y="9359"/>
                  </a:lnTo>
                  <a:lnTo>
                    <a:pt x="843" y="9333"/>
                  </a:lnTo>
                  <a:lnTo>
                    <a:pt x="852" y="9307"/>
                  </a:lnTo>
                  <a:lnTo>
                    <a:pt x="860" y="9280"/>
                  </a:lnTo>
                  <a:lnTo>
                    <a:pt x="865" y="9252"/>
                  </a:lnTo>
                  <a:lnTo>
                    <a:pt x="885" y="9188"/>
                  </a:lnTo>
                  <a:lnTo>
                    <a:pt x="906" y="9122"/>
                  </a:lnTo>
                  <a:lnTo>
                    <a:pt x="929" y="9053"/>
                  </a:lnTo>
                  <a:lnTo>
                    <a:pt x="953" y="8982"/>
                  </a:lnTo>
                  <a:lnTo>
                    <a:pt x="978" y="8910"/>
                  </a:lnTo>
                  <a:lnTo>
                    <a:pt x="1004" y="8838"/>
                  </a:lnTo>
                  <a:lnTo>
                    <a:pt x="1030" y="8765"/>
                  </a:lnTo>
                  <a:lnTo>
                    <a:pt x="1058" y="8692"/>
                  </a:lnTo>
                  <a:lnTo>
                    <a:pt x="1085" y="8619"/>
                  </a:lnTo>
                  <a:lnTo>
                    <a:pt x="1113" y="8547"/>
                  </a:lnTo>
                  <a:lnTo>
                    <a:pt x="1140" y="8475"/>
                  </a:lnTo>
                  <a:lnTo>
                    <a:pt x="1167" y="8405"/>
                  </a:lnTo>
                  <a:lnTo>
                    <a:pt x="1194" y="8336"/>
                  </a:lnTo>
                  <a:lnTo>
                    <a:pt x="1220" y="8269"/>
                  </a:lnTo>
                  <a:lnTo>
                    <a:pt x="1246" y="8204"/>
                  </a:lnTo>
                  <a:lnTo>
                    <a:pt x="1270" y="8142"/>
                  </a:lnTo>
                  <a:lnTo>
                    <a:pt x="1354" y="8046"/>
                  </a:lnTo>
                  <a:lnTo>
                    <a:pt x="1445" y="7953"/>
                  </a:lnTo>
                  <a:lnTo>
                    <a:pt x="1542" y="7862"/>
                  </a:lnTo>
                  <a:lnTo>
                    <a:pt x="1648" y="7772"/>
                  </a:lnTo>
                  <a:lnTo>
                    <a:pt x="1758" y="7684"/>
                  </a:lnTo>
                  <a:lnTo>
                    <a:pt x="1874" y="7597"/>
                  </a:lnTo>
                  <a:lnTo>
                    <a:pt x="1996" y="7510"/>
                  </a:lnTo>
                  <a:lnTo>
                    <a:pt x="2122" y="7425"/>
                  </a:lnTo>
                  <a:lnTo>
                    <a:pt x="2252" y="7340"/>
                  </a:lnTo>
                  <a:lnTo>
                    <a:pt x="2386" y="7255"/>
                  </a:lnTo>
                  <a:lnTo>
                    <a:pt x="2524" y="7169"/>
                  </a:lnTo>
                  <a:lnTo>
                    <a:pt x="2665" y="7083"/>
                  </a:lnTo>
                  <a:lnTo>
                    <a:pt x="2952" y="6908"/>
                  </a:lnTo>
                  <a:lnTo>
                    <a:pt x="3247" y="6727"/>
                  </a:lnTo>
                  <a:lnTo>
                    <a:pt x="3396" y="6633"/>
                  </a:lnTo>
                  <a:lnTo>
                    <a:pt x="3545" y="6538"/>
                  </a:lnTo>
                  <a:lnTo>
                    <a:pt x="3694" y="6440"/>
                  </a:lnTo>
                  <a:lnTo>
                    <a:pt x="3842" y="6338"/>
                  </a:lnTo>
                  <a:lnTo>
                    <a:pt x="3989" y="6234"/>
                  </a:lnTo>
                  <a:lnTo>
                    <a:pt x="4135" y="6126"/>
                  </a:lnTo>
                  <a:lnTo>
                    <a:pt x="4278" y="6014"/>
                  </a:lnTo>
                  <a:lnTo>
                    <a:pt x="4420" y="5899"/>
                  </a:lnTo>
                  <a:lnTo>
                    <a:pt x="4557" y="5778"/>
                  </a:lnTo>
                  <a:lnTo>
                    <a:pt x="4693" y="5654"/>
                  </a:lnTo>
                  <a:lnTo>
                    <a:pt x="4824" y="5524"/>
                  </a:lnTo>
                  <a:lnTo>
                    <a:pt x="4950" y="5389"/>
                  </a:lnTo>
                  <a:lnTo>
                    <a:pt x="5073" y="5248"/>
                  </a:lnTo>
                  <a:lnTo>
                    <a:pt x="5190" y="5103"/>
                  </a:lnTo>
                  <a:lnTo>
                    <a:pt x="5302" y="4950"/>
                  </a:lnTo>
                  <a:lnTo>
                    <a:pt x="5407" y="4791"/>
                  </a:lnTo>
                  <a:lnTo>
                    <a:pt x="5440" y="4738"/>
                  </a:lnTo>
                  <a:lnTo>
                    <a:pt x="5472" y="4683"/>
                  </a:lnTo>
                  <a:lnTo>
                    <a:pt x="5503" y="4626"/>
                  </a:lnTo>
                  <a:lnTo>
                    <a:pt x="5534" y="4568"/>
                  </a:lnTo>
                  <a:lnTo>
                    <a:pt x="5564" y="4507"/>
                  </a:lnTo>
                  <a:lnTo>
                    <a:pt x="5595" y="4444"/>
                  </a:lnTo>
                  <a:lnTo>
                    <a:pt x="5624" y="4379"/>
                  </a:lnTo>
                  <a:lnTo>
                    <a:pt x="5653" y="4313"/>
                  </a:lnTo>
                  <a:lnTo>
                    <a:pt x="5682" y="4243"/>
                  </a:lnTo>
                  <a:lnTo>
                    <a:pt x="5710" y="4172"/>
                  </a:lnTo>
                  <a:lnTo>
                    <a:pt x="5738" y="4099"/>
                  </a:lnTo>
                  <a:lnTo>
                    <a:pt x="5766" y="4024"/>
                  </a:lnTo>
                  <a:lnTo>
                    <a:pt x="5795" y="3945"/>
                  </a:lnTo>
                  <a:lnTo>
                    <a:pt x="5823" y="3866"/>
                  </a:lnTo>
                  <a:lnTo>
                    <a:pt x="5851" y="3783"/>
                  </a:lnTo>
                  <a:lnTo>
                    <a:pt x="5878" y="3698"/>
                  </a:lnTo>
                  <a:lnTo>
                    <a:pt x="5906" y="3611"/>
                  </a:lnTo>
                  <a:lnTo>
                    <a:pt x="5934" y="3521"/>
                  </a:lnTo>
                  <a:lnTo>
                    <a:pt x="5961" y="3429"/>
                  </a:lnTo>
                  <a:lnTo>
                    <a:pt x="5990" y="3334"/>
                  </a:lnTo>
                  <a:lnTo>
                    <a:pt x="6047" y="3137"/>
                  </a:lnTo>
                  <a:lnTo>
                    <a:pt x="6104" y="2929"/>
                  </a:lnTo>
                  <a:lnTo>
                    <a:pt x="6164" y="2711"/>
                  </a:lnTo>
                  <a:lnTo>
                    <a:pt x="6224" y="2481"/>
                  </a:lnTo>
                  <a:lnTo>
                    <a:pt x="6288" y="2241"/>
                  </a:lnTo>
                  <a:lnTo>
                    <a:pt x="6353" y="1987"/>
                  </a:lnTo>
                  <a:lnTo>
                    <a:pt x="6376" y="1917"/>
                  </a:lnTo>
                  <a:lnTo>
                    <a:pt x="6400" y="1843"/>
                  </a:lnTo>
                  <a:lnTo>
                    <a:pt x="6424" y="1764"/>
                  </a:lnTo>
                  <a:lnTo>
                    <a:pt x="6449" y="1681"/>
                  </a:lnTo>
                  <a:lnTo>
                    <a:pt x="6474" y="1594"/>
                  </a:lnTo>
                  <a:lnTo>
                    <a:pt x="6501" y="1505"/>
                  </a:lnTo>
                  <a:lnTo>
                    <a:pt x="6528" y="1415"/>
                  </a:lnTo>
                  <a:lnTo>
                    <a:pt x="6555" y="1323"/>
                  </a:lnTo>
                  <a:lnTo>
                    <a:pt x="6585" y="1230"/>
                  </a:lnTo>
                  <a:lnTo>
                    <a:pt x="6615" y="1138"/>
                  </a:lnTo>
                  <a:lnTo>
                    <a:pt x="6646" y="1046"/>
                  </a:lnTo>
                  <a:lnTo>
                    <a:pt x="6678" y="956"/>
                  </a:lnTo>
                  <a:lnTo>
                    <a:pt x="6695" y="911"/>
                  </a:lnTo>
                  <a:lnTo>
                    <a:pt x="6712" y="867"/>
                  </a:lnTo>
                  <a:lnTo>
                    <a:pt x="6730" y="824"/>
                  </a:lnTo>
                  <a:lnTo>
                    <a:pt x="6747" y="781"/>
                  </a:lnTo>
                  <a:lnTo>
                    <a:pt x="6766" y="740"/>
                  </a:lnTo>
                  <a:lnTo>
                    <a:pt x="6785" y="699"/>
                  </a:lnTo>
                  <a:lnTo>
                    <a:pt x="6804" y="660"/>
                  </a:lnTo>
                  <a:lnTo>
                    <a:pt x="6822" y="621"/>
                  </a:lnTo>
                  <a:lnTo>
                    <a:pt x="6837" y="595"/>
                  </a:lnTo>
                  <a:lnTo>
                    <a:pt x="6851" y="571"/>
                  </a:lnTo>
                  <a:lnTo>
                    <a:pt x="6867" y="548"/>
                  </a:lnTo>
                  <a:lnTo>
                    <a:pt x="6884" y="525"/>
                  </a:lnTo>
                  <a:lnTo>
                    <a:pt x="6900" y="504"/>
                  </a:lnTo>
                  <a:lnTo>
                    <a:pt x="6918" y="483"/>
                  </a:lnTo>
                  <a:lnTo>
                    <a:pt x="6937" y="464"/>
                  </a:lnTo>
                  <a:lnTo>
                    <a:pt x="6956" y="445"/>
                  </a:lnTo>
                  <a:lnTo>
                    <a:pt x="6975" y="426"/>
                  </a:lnTo>
                  <a:lnTo>
                    <a:pt x="6995" y="410"/>
                  </a:lnTo>
                  <a:lnTo>
                    <a:pt x="7015" y="393"/>
                  </a:lnTo>
                  <a:lnTo>
                    <a:pt x="7036" y="376"/>
                  </a:lnTo>
                  <a:lnTo>
                    <a:pt x="7079" y="346"/>
                  </a:lnTo>
                  <a:lnTo>
                    <a:pt x="7122" y="316"/>
                  </a:lnTo>
                  <a:lnTo>
                    <a:pt x="7211" y="263"/>
                  </a:lnTo>
                  <a:lnTo>
                    <a:pt x="7298" y="212"/>
                  </a:lnTo>
                  <a:lnTo>
                    <a:pt x="7339" y="186"/>
                  </a:lnTo>
                  <a:lnTo>
                    <a:pt x="7380" y="158"/>
                  </a:lnTo>
                  <a:lnTo>
                    <a:pt x="7400" y="145"/>
                  </a:lnTo>
                  <a:lnTo>
                    <a:pt x="7418" y="131"/>
                  </a:lnTo>
                  <a:lnTo>
                    <a:pt x="7437" y="117"/>
                  </a:lnTo>
                  <a:lnTo>
                    <a:pt x="7455" y="102"/>
                  </a:lnTo>
                  <a:lnTo>
                    <a:pt x="7408" y="80"/>
                  </a:lnTo>
                  <a:lnTo>
                    <a:pt x="7361" y="60"/>
                  </a:lnTo>
                  <a:lnTo>
                    <a:pt x="7315" y="43"/>
                  </a:lnTo>
                  <a:lnTo>
                    <a:pt x="7268" y="29"/>
                  </a:lnTo>
                  <a:lnTo>
                    <a:pt x="7222" y="18"/>
                  </a:lnTo>
                  <a:lnTo>
                    <a:pt x="7176" y="10"/>
                  </a:lnTo>
                  <a:lnTo>
                    <a:pt x="7130" y="4"/>
                  </a:lnTo>
                  <a:lnTo>
                    <a:pt x="7083" y="0"/>
                  </a:lnTo>
                  <a:lnTo>
                    <a:pt x="7037" y="0"/>
                  </a:lnTo>
                  <a:lnTo>
                    <a:pt x="6990" y="3"/>
                  </a:lnTo>
                  <a:lnTo>
                    <a:pt x="6944" y="7"/>
                  </a:lnTo>
                  <a:lnTo>
                    <a:pt x="6898" y="14"/>
                  </a:lnTo>
                  <a:lnTo>
                    <a:pt x="6852" y="23"/>
                  </a:lnTo>
                  <a:lnTo>
                    <a:pt x="6807" y="35"/>
                  </a:lnTo>
                  <a:lnTo>
                    <a:pt x="6761" y="50"/>
                  </a:lnTo>
                  <a:lnTo>
                    <a:pt x="6715" y="65"/>
                  </a:lnTo>
                  <a:lnTo>
                    <a:pt x="6669" y="84"/>
                  </a:lnTo>
                  <a:lnTo>
                    <a:pt x="6623" y="105"/>
                  </a:lnTo>
                  <a:lnTo>
                    <a:pt x="6577" y="128"/>
                  </a:lnTo>
                  <a:lnTo>
                    <a:pt x="6531" y="152"/>
                  </a:lnTo>
                  <a:lnTo>
                    <a:pt x="6487" y="179"/>
                  </a:lnTo>
                  <a:lnTo>
                    <a:pt x="6441" y="208"/>
                  </a:lnTo>
                  <a:lnTo>
                    <a:pt x="6395" y="239"/>
                  </a:lnTo>
                  <a:lnTo>
                    <a:pt x="6350" y="271"/>
                  </a:lnTo>
                  <a:lnTo>
                    <a:pt x="6304" y="305"/>
                  </a:lnTo>
                  <a:lnTo>
                    <a:pt x="6258" y="342"/>
                  </a:lnTo>
                  <a:lnTo>
                    <a:pt x="6214" y="379"/>
                  </a:lnTo>
                  <a:lnTo>
                    <a:pt x="6168" y="418"/>
                  </a:lnTo>
                  <a:lnTo>
                    <a:pt x="6123" y="459"/>
                  </a:lnTo>
                  <a:lnTo>
                    <a:pt x="6077" y="502"/>
                  </a:lnTo>
                  <a:lnTo>
                    <a:pt x="6032" y="545"/>
                  </a:lnTo>
                  <a:lnTo>
                    <a:pt x="5987" y="591"/>
                  </a:lnTo>
                  <a:lnTo>
                    <a:pt x="5628" y="711"/>
                  </a:lnTo>
                  <a:lnTo>
                    <a:pt x="5270" y="831"/>
                  </a:lnTo>
                  <a:lnTo>
                    <a:pt x="4918" y="954"/>
                  </a:lnTo>
                  <a:lnTo>
                    <a:pt x="4571" y="1077"/>
                  </a:lnTo>
                  <a:lnTo>
                    <a:pt x="4229" y="1205"/>
                  </a:lnTo>
                  <a:lnTo>
                    <a:pt x="3894" y="1335"/>
                  </a:lnTo>
                  <a:lnTo>
                    <a:pt x="3566" y="1470"/>
                  </a:lnTo>
                  <a:lnTo>
                    <a:pt x="3248" y="1610"/>
                  </a:lnTo>
                  <a:lnTo>
                    <a:pt x="2939" y="1755"/>
                  </a:lnTo>
                  <a:lnTo>
                    <a:pt x="2640" y="1907"/>
                  </a:lnTo>
                  <a:lnTo>
                    <a:pt x="2352" y="2066"/>
                  </a:lnTo>
                  <a:lnTo>
                    <a:pt x="2077" y="2232"/>
                  </a:lnTo>
                  <a:lnTo>
                    <a:pt x="1814" y="2408"/>
                  </a:lnTo>
                  <a:lnTo>
                    <a:pt x="1565" y="2592"/>
                  </a:lnTo>
                  <a:lnTo>
                    <a:pt x="1332" y="2787"/>
                  </a:lnTo>
                  <a:lnTo>
                    <a:pt x="1114" y="2993"/>
                  </a:lnTo>
                  <a:lnTo>
                    <a:pt x="913" y="3210"/>
                  </a:lnTo>
                  <a:lnTo>
                    <a:pt x="729" y="3440"/>
                  </a:lnTo>
                  <a:lnTo>
                    <a:pt x="564" y="3682"/>
                  </a:lnTo>
                  <a:lnTo>
                    <a:pt x="418" y="3938"/>
                  </a:lnTo>
                  <a:lnTo>
                    <a:pt x="293" y="4209"/>
                  </a:lnTo>
                  <a:lnTo>
                    <a:pt x="187" y="4495"/>
                  </a:lnTo>
                  <a:lnTo>
                    <a:pt x="105" y="4796"/>
                  </a:lnTo>
                  <a:lnTo>
                    <a:pt x="46" y="5114"/>
                  </a:lnTo>
                  <a:lnTo>
                    <a:pt x="10" y="5449"/>
                  </a:lnTo>
                  <a:lnTo>
                    <a:pt x="0" y="5803"/>
                  </a:lnTo>
                  <a:lnTo>
                    <a:pt x="14" y="6175"/>
                  </a:lnTo>
                  <a:lnTo>
                    <a:pt x="55" y="6567"/>
                  </a:lnTo>
                  <a:lnTo>
                    <a:pt x="124" y="6980"/>
                  </a:lnTo>
                  <a:lnTo>
                    <a:pt x="222" y="7413"/>
                  </a:lnTo>
                  <a:lnTo>
                    <a:pt x="348" y="7867"/>
                  </a:lnTo>
                  <a:lnTo>
                    <a:pt x="504" y="8344"/>
                  </a:lnTo>
                  <a:lnTo>
                    <a:pt x="502" y="8423"/>
                  </a:lnTo>
                  <a:lnTo>
                    <a:pt x="502" y="8499"/>
                  </a:lnTo>
                  <a:lnTo>
                    <a:pt x="502" y="8572"/>
                  </a:lnTo>
                  <a:lnTo>
                    <a:pt x="504" y="8643"/>
                  </a:lnTo>
                  <a:lnTo>
                    <a:pt x="507" y="8711"/>
                  </a:lnTo>
                  <a:lnTo>
                    <a:pt x="511" y="8777"/>
                  </a:lnTo>
                  <a:lnTo>
                    <a:pt x="518" y="8840"/>
                  </a:lnTo>
                  <a:lnTo>
                    <a:pt x="525" y="8902"/>
                  </a:lnTo>
                  <a:lnTo>
                    <a:pt x="533" y="8959"/>
                  </a:lnTo>
                  <a:lnTo>
                    <a:pt x="543" y="9016"/>
                  </a:lnTo>
                  <a:lnTo>
                    <a:pt x="553" y="9069"/>
                  </a:lnTo>
                  <a:lnTo>
                    <a:pt x="566" y="9120"/>
                  </a:lnTo>
                  <a:lnTo>
                    <a:pt x="572" y="9144"/>
                  </a:lnTo>
                  <a:lnTo>
                    <a:pt x="579" y="9168"/>
                  </a:lnTo>
                  <a:lnTo>
                    <a:pt x="586" y="9191"/>
                  </a:lnTo>
                  <a:lnTo>
                    <a:pt x="594" y="9214"/>
                  </a:lnTo>
                  <a:lnTo>
                    <a:pt x="601" y="9236"/>
                  </a:lnTo>
                  <a:lnTo>
                    <a:pt x="609" y="9257"/>
                  </a:lnTo>
                  <a:lnTo>
                    <a:pt x="618" y="9278"/>
                  </a:lnTo>
                  <a:lnTo>
                    <a:pt x="627" y="92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5240" y="5775480"/>
              <a:ext cx="372960" cy="507960"/>
            </a:xfrm>
            <a:custGeom>
              <a:avLst/>
              <a:gdLst/>
              <a:ahLst/>
              <a:rect l="l" t="t" r="r" b="b"/>
              <a:pathLst>
                <a:path w="5158" h="7057">
                  <a:moveTo>
                    <a:pt x="0" y="7057"/>
                  </a:moveTo>
                  <a:lnTo>
                    <a:pt x="38" y="6778"/>
                  </a:lnTo>
                  <a:lnTo>
                    <a:pt x="87" y="6500"/>
                  </a:lnTo>
                  <a:lnTo>
                    <a:pt x="146" y="6226"/>
                  </a:lnTo>
                  <a:lnTo>
                    <a:pt x="215" y="5956"/>
                  </a:lnTo>
                  <a:lnTo>
                    <a:pt x="294" y="5688"/>
                  </a:lnTo>
                  <a:lnTo>
                    <a:pt x="384" y="5425"/>
                  </a:lnTo>
                  <a:lnTo>
                    <a:pt x="482" y="5164"/>
                  </a:lnTo>
                  <a:lnTo>
                    <a:pt x="590" y="4907"/>
                  </a:lnTo>
                  <a:lnTo>
                    <a:pt x="707" y="4652"/>
                  </a:lnTo>
                  <a:lnTo>
                    <a:pt x="831" y="4402"/>
                  </a:lnTo>
                  <a:lnTo>
                    <a:pt x="964" y="4156"/>
                  </a:lnTo>
                  <a:lnTo>
                    <a:pt x="1106" y="3914"/>
                  </a:lnTo>
                  <a:lnTo>
                    <a:pt x="1255" y="3675"/>
                  </a:lnTo>
                  <a:lnTo>
                    <a:pt x="1411" y="3441"/>
                  </a:lnTo>
                  <a:lnTo>
                    <a:pt x="1575" y="3210"/>
                  </a:lnTo>
                  <a:lnTo>
                    <a:pt x="1745" y="2984"/>
                  </a:lnTo>
                  <a:lnTo>
                    <a:pt x="1922" y="2763"/>
                  </a:lnTo>
                  <a:lnTo>
                    <a:pt x="2104" y="2545"/>
                  </a:lnTo>
                  <a:lnTo>
                    <a:pt x="2293" y="2331"/>
                  </a:lnTo>
                  <a:lnTo>
                    <a:pt x="2488" y="2123"/>
                  </a:lnTo>
                  <a:lnTo>
                    <a:pt x="2688" y="1919"/>
                  </a:lnTo>
                  <a:lnTo>
                    <a:pt x="2893" y="1719"/>
                  </a:lnTo>
                  <a:lnTo>
                    <a:pt x="3103" y="1525"/>
                  </a:lnTo>
                  <a:lnTo>
                    <a:pt x="3317" y="1334"/>
                  </a:lnTo>
                  <a:lnTo>
                    <a:pt x="3535" y="1150"/>
                  </a:lnTo>
                  <a:lnTo>
                    <a:pt x="3757" y="970"/>
                  </a:lnTo>
                  <a:lnTo>
                    <a:pt x="3984" y="795"/>
                  </a:lnTo>
                  <a:lnTo>
                    <a:pt x="4213" y="626"/>
                  </a:lnTo>
                  <a:lnTo>
                    <a:pt x="4445" y="461"/>
                  </a:lnTo>
                  <a:lnTo>
                    <a:pt x="4681" y="302"/>
                  </a:lnTo>
                  <a:lnTo>
                    <a:pt x="4919" y="149"/>
                  </a:lnTo>
                  <a:lnTo>
                    <a:pt x="5158" y="0"/>
                  </a:lnTo>
                  <a:lnTo>
                    <a:pt x="5136" y="227"/>
                  </a:lnTo>
                  <a:lnTo>
                    <a:pt x="5113" y="446"/>
                  </a:lnTo>
                  <a:lnTo>
                    <a:pt x="5087" y="659"/>
                  </a:lnTo>
                  <a:lnTo>
                    <a:pt x="5060" y="867"/>
                  </a:lnTo>
                  <a:lnTo>
                    <a:pt x="5029" y="1066"/>
                  </a:lnTo>
                  <a:lnTo>
                    <a:pt x="4996" y="1261"/>
                  </a:lnTo>
                  <a:lnTo>
                    <a:pt x="4959" y="1450"/>
                  </a:lnTo>
                  <a:lnTo>
                    <a:pt x="4920" y="1635"/>
                  </a:lnTo>
                  <a:lnTo>
                    <a:pt x="4877" y="1814"/>
                  </a:lnTo>
                  <a:lnTo>
                    <a:pt x="4831" y="1987"/>
                  </a:lnTo>
                  <a:lnTo>
                    <a:pt x="4781" y="2158"/>
                  </a:lnTo>
                  <a:lnTo>
                    <a:pt x="4728" y="2323"/>
                  </a:lnTo>
                  <a:lnTo>
                    <a:pt x="4670" y="2484"/>
                  </a:lnTo>
                  <a:lnTo>
                    <a:pt x="4609" y="2641"/>
                  </a:lnTo>
                  <a:lnTo>
                    <a:pt x="4544" y="2796"/>
                  </a:lnTo>
                  <a:lnTo>
                    <a:pt x="4475" y="2947"/>
                  </a:lnTo>
                  <a:lnTo>
                    <a:pt x="4401" y="3094"/>
                  </a:lnTo>
                  <a:lnTo>
                    <a:pt x="4321" y="3240"/>
                  </a:lnTo>
                  <a:lnTo>
                    <a:pt x="4238" y="3383"/>
                  </a:lnTo>
                  <a:lnTo>
                    <a:pt x="4150" y="3523"/>
                  </a:lnTo>
                  <a:lnTo>
                    <a:pt x="4057" y="3662"/>
                  </a:lnTo>
                  <a:lnTo>
                    <a:pt x="3959" y="3800"/>
                  </a:lnTo>
                  <a:lnTo>
                    <a:pt x="3855" y="3936"/>
                  </a:lnTo>
                  <a:lnTo>
                    <a:pt x="3746" y="4070"/>
                  </a:lnTo>
                  <a:lnTo>
                    <a:pt x="3631" y="4203"/>
                  </a:lnTo>
                  <a:lnTo>
                    <a:pt x="3510" y="4337"/>
                  </a:lnTo>
                  <a:lnTo>
                    <a:pt x="3384" y="4470"/>
                  </a:lnTo>
                  <a:lnTo>
                    <a:pt x="3252" y="4603"/>
                  </a:lnTo>
                  <a:lnTo>
                    <a:pt x="3113" y="4736"/>
                  </a:lnTo>
                  <a:lnTo>
                    <a:pt x="2968" y="4869"/>
                  </a:lnTo>
                  <a:lnTo>
                    <a:pt x="2817" y="5004"/>
                  </a:lnTo>
                  <a:lnTo>
                    <a:pt x="2659" y="5139"/>
                  </a:lnTo>
                  <a:lnTo>
                    <a:pt x="2593" y="5191"/>
                  </a:lnTo>
                  <a:lnTo>
                    <a:pt x="2527" y="5243"/>
                  </a:lnTo>
                  <a:lnTo>
                    <a:pt x="2459" y="5293"/>
                  </a:lnTo>
                  <a:lnTo>
                    <a:pt x="2388" y="5341"/>
                  </a:lnTo>
                  <a:lnTo>
                    <a:pt x="2317" y="5388"/>
                  </a:lnTo>
                  <a:lnTo>
                    <a:pt x="2244" y="5433"/>
                  </a:lnTo>
                  <a:lnTo>
                    <a:pt x="2169" y="5479"/>
                  </a:lnTo>
                  <a:lnTo>
                    <a:pt x="2094" y="5524"/>
                  </a:lnTo>
                  <a:lnTo>
                    <a:pt x="1939" y="5613"/>
                  </a:lnTo>
                  <a:lnTo>
                    <a:pt x="1778" y="5703"/>
                  </a:lnTo>
                  <a:lnTo>
                    <a:pt x="1614" y="5795"/>
                  </a:lnTo>
                  <a:lnTo>
                    <a:pt x="1445" y="5892"/>
                  </a:lnTo>
                  <a:lnTo>
                    <a:pt x="1359" y="5944"/>
                  </a:lnTo>
                  <a:lnTo>
                    <a:pt x="1273" y="5996"/>
                  </a:lnTo>
                  <a:lnTo>
                    <a:pt x="1185" y="6051"/>
                  </a:lnTo>
                  <a:lnTo>
                    <a:pt x="1097" y="6108"/>
                  </a:lnTo>
                  <a:lnTo>
                    <a:pt x="1008" y="6169"/>
                  </a:lnTo>
                  <a:lnTo>
                    <a:pt x="918" y="6230"/>
                  </a:lnTo>
                  <a:lnTo>
                    <a:pt x="829" y="6296"/>
                  </a:lnTo>
                  <a:lnTo>
                    <a:pt x="738" y="6364"/>
                  </a:lnTo>
                  <a:lnTo>
                    <a:pt x="647" y="6436"/>
                  </a:lnTo>
                  <a:lnTo>
                    <a:pt x="556" y="6513"/>
                  </a:lnTo>
                  <a:lnTo>
                    <a:pt x="464" y="6592"/>
                  </a:lnTo>
                  <a:lnTo>
                    <a:pt x="371" y="6676"/>
                  </a:lnTo>
                  <a:lnTo>
                    <a:pt x="279" y="6764"/>
                  </a:lnTo>
                  <a:lnTo>
                    <a:pt x="187" y="6857"/>
                  </a:lnTo>
                  <a:lnTo>
                    <a:pt x="93" y="6954"/>
                  </a:lnTo>
                  <a:lnTo>
                    <a:pt x="0" y="7057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0320" y="5769000"/>
              <a:ext cx="385560" cy="430200"/>
            </a:xfrm>
            <a:custGeom>
              <a:avLst/>
              <a:gdLst/>
              <a:ahLst/>
              <a:rect l="l" t="t" r="r" b="b"/>
              <a:pathLst>
                <a:path w="5357" h="5962">
                  <a:moveTo>
                    <a:pt x="5357" y="0"/>
                  </a:moveTo>
                  <a:lnTo>
                    <a:pt x="5132" y="89"/>
                  </a:lnTo>
                  <a:lnTo>
                    <a:pt x="4800" y="202"/>
                  </a:lnTo>
                  <a:lnTo>
                    <a:pt x="4474" y="316"/>
                  </a:lnTo>
                  <a:lnTo>
                    <a:pt x="4158" y="432"/>
                  </a:lnTo>
                  <a:lnTo>
                    <a:pt x="3851" y="550"/>
                  </a:lnTo>
                  <a:lnTo>
                    <a:pt x="3553" y="669"/>
                  </a:lnTo>
                  <a:lnTo>
                    <a:pt x="3265" y="793"/>
                  </a:lnTo>
                  <a:lnTo>
                    <a:pt x="2988" y="919"/>
                  </a:lnTo>
                  <a:lnTo>
                    <a:pt x="2720" y="1047"/>
                  </a:lnTo>
                  <a:lnTo>
                    <a:pt x="2464" y="1180"/>
                  </a:lnTo>
                  <a:lnTo>
                    <a:pt x="2218" y="1317"/>
                  </a:lnTo>
                  <a:lnTo>
                    <a:pt x="1982" y="1457"/>
                  </a:lnTo>
                  <a:lnTo>
                    <a:pt x="1759" y="1603"/>
                  </a:lnTo>
                  <a:lnTo>
                    <a:pt x="1549" y="1754"/>
                  </a:lnTo>
                  <a:lnTo>
                    <a:pt x="1349" y="1908"/>
                  </a:lnTo>
                  <a:lnTo>
                    <a:pt x="1162" y="2070"/>
                  </a:lnTo>
                  <a:lnTo>
                    <a:pt x="988" y="2237"/>
                  </a:lnTo>
                  <a:lnTo>
                    <a:pt x="828" y="2410"/>
                  </a:lnTo>
                  <a:lnTo>
                    <a:pt x="680" y="2590"/>
                  </a:lnTo>
                  <a:lnTo>
                    <a:pt x="545" y="2776"/>
                  </a:lnTo>
                  <a:lnTo>
                    <a:pt x="425" y="2968"/>
                  </a:lnTo>
                  <a:lnTo>
                    <a:pt x="319" y="3169"/>
                  </a:lnTo>
                  <a:lnTo>
                    <a:pt x="228" y="3379"/>
                  </a:lnTo>
                  <a:lnTo>
                    <a:pt x="151" y="3595"/>
                  </a:lnTo>
                  <a:lnTo>
                    <a:pt x="91" y="3820"/>
                  </a:lnTo>
                  <a:lnTo>
                    <a:pt x="45" y="4053"/>
                  </a:lnTo>
                  <a:lnTo>
                    <a:pt x="15" y="4297"/>
                  </a:lnTo>
                  <a:lnTo>
                    <a:pt x="0" y="4549"/>
                  </a:lnTo>
                  <a:lnTo>
                    <a:pt x="3" y="4811"/>
                  </a:lnTo>
                  <a:lnTo>
                    <a:pt x="22" y="5083"/>
                  </a:lnTo>
                  <a:lnTo>
                    <a:pt x="57" y="5366"/>
                  </a:lnTo>
                  <a:lnTo>
                    <a:pt x="111" y="5658"/>
                  </a:lnTo>
                  <a:lnTo>
                    <a:pt x="181" y="5962"/>
                  </a:lnTo>
                  <a:lnTo>
                    <a:pt x="284" y="5638"/>
                  </a:lnTo>
                  <a:lnTo>
                    <a:pt x="402" y="5320"/>
                  </a:lnTo>
                  <a:lnTo>
                    <a:pt x="537" y="5008"/>
                  </a:lnTo>
                  <a:lnTo>
                    <a:pt x="686" y="4703"/>
                  </a:lnTo>
                  <a:lnTo>
                    <a:pt x="847" y="4406"/>
                  </a:lnTo>
                  <a:lnTo>
                    <a:pt x="1020" y="4116"/>
                  </a:lnTo>
                  <a:lnTo>
                    <a:pt x="1204" y="3835"/>
                  </a:lnTo>
                  <a:lnTo>
                    <a:pt x="1397" y="3561"/>
                  </a:lnTo>
                  <a:lnTo>
                    <a:pt x="1597" y="3295"/>
                  </a:lnTo>
                  <a:lnTo>
                    <a:pt x="1803" y="3037"/>
                  </a:lnTo>
                  <a:lnTo>
                    <a:pt x="2015" y="2789"/>
                  </a:lnTo>
                  <a:lnTo>
                    <a:pt x="2230" y="2550"/>
                  </a:lnTo>
                  <a:lnTo>
                    <a:pt x="2448" y="2319"/>
                  </a:lnTo>
                  <a:lnTo>
                    <a:pt x="2668" y="2098"/>
                  </a:lnTo>
                  <a:lnTo>
                    <a:pt x="2887" y="1886"/>
                  </a:lnTo>
                  <a:lnTo>
                    <a:pt x="3106" y="1684"/>
                  </a:lnTo>
                  <a:lnTo>
                    <a:pt x="3321" y="1493"/>
                  </a:lnTo>
                  <a:lnTo>
                    <a:pt x="3532" y="1312"/>
                  </a:lnTo>
                  <a:lnTo>
                    <a:pt x="3739" y="1141"/>
                  </a:lnTo>
                  <a:lnTo>
                    <a:pt x="3939" y="982"/>
                  </a:lnTo>
                  <a:lnTo>
                    <a:pt x="4130" y="834"/>
                  </a:lnTo>
                  <a:lnTo>
                    <a:pt x="4313" y="696"/>
                  </a:lnTo>
                  <a:lnTo>
                    <a:pt x="4486" y="570"/>
                  </a:lnTo>
                  <a:lnTo>
                    <a:pt x="4646" y="457"/>
                  </a:lnTo>
                  <a:lnTo>
                    <a:pt x="4794" y="355"/>
                  </a:lnTo>
                  <a:lnTo>
                    <a:pt x="4928" y="266"/>
                  </a:lnTo>
                  <a:lnTo>
                    <a:pt x="5046" y="188"/>
                  </a:lnTo>
                  <a:lnTo>
                    <a:pt x="5148" y="124"/>
                  </a:lnTo>
                  <a:lnTo>
                    <a:pt x="5230" y="73"/>
                  </a:lnTo>
                  <a:lnTo>
                    <a:pt x="5294" y="35"/>
                  </a:lnTo>
                  <a:lnTo>
                    <a:pt x="5336" y="11"/>
                  </a:lnTo>
                  <a:lnTo>
                    <a:pt x="5357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42920" y="5433840"/>
            <a:ext cx="1208160" cy="1208160"/>
            <a:chOff x="142920" y="5433840"/>
            <a:chExt cx="1208160" cy="1208160"/>
          </a:xfrm>
        </p:grpSpPr>
        <p:sp>
          <p:nvSpPr>
            <p:cNvPr id="91" name=""/>
            <p:cNvSpPr/>
            <p:nvPr/>
          </p:nvSpPr>
          <p:spPr>
            <a:xfrm>
              <a:off x="747720" y="5433840"/>
              <a:ext cx="603360" cy="60516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9" y="681"/>
                  </a:lnTo>
                  <a:lnTo>
                    <a:pt x="297" y="684"/>
                  </a:lnTo>
                  <a:lnTo>
                    <a:pt x="397" y="690"/>
                  </a:lnTo>
                  <a:lnTo>
                    <a:pt x="493" y="695"/>
                  </a:lnTo>
                  <a:lnTo>
                    <a:pt x="591" y="702"/>
                  </a:lnTo>
                  <a:lnTo>
                    <a:pt x="689" y="710"/>
                  </a:lnTo>
                  <a:lnTo>
                    <a:pt x="785" y="719"/>
                  </a:lnTo>
                  <a:lnTo>
                    <a:pt x="881" y="730"/>
                  </a:lnTo>
                  <a:lnTo>
                    <a:pt x="977" y="741"/>
                  </a:lnTo>
                  <a:lnTo>
                    <a:pt x="1074" y="754"/>
                  </a:lnTo>
                  <a:lnTo>
                    <a:pt x="1170" y="769"/>
                  </a:lnTo>
                  <a:lnTo>
                    <a:pt x="1264" y="784"/>
                  </a:lnTo>
                  <a:lnTo>
                    <a:pt x="1358" y="800"/>
                  </a:lnTo>
                  <a:lnTo>
                    <a:pt x="1453" y="817"/>
                  </a:lnTo>
                  <a:lnTo>
                    <a:pt x="1548" y="836"/>
                  </a:lnTo>
                  <a:lnTo>
                    <a:pt x="1641" y="857"/>
                  </a:lnTo>
                  <a:lnTo>
                    <a:pt x="1734" y="877"/>
                  </a:lnTo>
                  <a:lnTo>
                    <a:pt x="1827" y="899"/>
                  </a:lnTo>
                  <a:lnTo>
                    <a:pt x="1919" y="922"/>
                  </a:lnTo>
                  <a:lnTo>
                    <a:pt x="2010" y="947"/>
                  </a:lnTo>
                  <a:lnTo>
                    <a:pt x="2101" y="972"/>
                  </a:lnTo>
                  <a:lnTo>
                    <a:pt x="2192" y="999"/>
                  </a:lnTo>
                  <a:lnTo>
                    <a:pt x="2282" y="1026"/>
                  </a:lnTo>
                  <a:lnTo>
                    <a:pt x="2372" y="1055"/>
                  </a:lnTo>
                  <a:lnTo>
                    <a:pt x="2462" y="1085"/>
                  </a:lnTo>
                  <a:lnTo>
                    <a:pt x="2551" y="1115"/>
                  </a:lnTo>
                  <a:lnTo>
                    <a:pt x="2639" y="1148"/>
                  </a:lnTo>
                  <a:lnTo>
                    <a:pt x="2727" y="1180"/>
                  </a:lnTo>
                  <a:lnTo>
                    <a:pt x="2815" y="1215"/>
                  </a:lnTo>
                  <a:lnTo>
                    <a:pt x="2903" y="1250"/>
                  </a:lnTo>
                  <a:lnTo>
                    <a:pt x="2989" y="1285"/>
                  </a:lnTo>
                  <a:lnTo>
                    <a:pt x="3075" y="1323"/>
                  </a:lnTo>
                  <a:lnTo>
                    <a:pt x="3160" y="1361"/>
                  </a:lnTo>
                  <a:lnTo>
                    <a:pt x="3245" y="1399"/>
                  </a:lnTo>
                  <a:lnTo>
                    <a:pt x="3329" y="1440"/>
                  </a:lnTo>
                  <a:lnTo>
                    <a:pt x="3412" y="1482"/>
                  </a:lnTo>
                  <a:lnTo>
                    <a:pt x="3497" y="1522"/>
                  </a:lnTo>
                  <a:lnTo>
                    <a:pt x="3579" y="1566"/>
                  </a:lnTo>
                  <a:lnTo>
                    <a:pt x="3660" y="1609"/>
                  </a:lnTo>
                  <a:lnTo>
                    <a:pt x="3742" y="1655"/>
                  </a:lnTo>
                  <a:lnTo>
                    <a:pt x="3823" y="1700"/>
                  </a:lnTo>
                  <a:lnTo>
                    <a:pt x="3903" y="1747"/>
                  </a:lnTo>
                  <a:lnTo>
                    <a:pt x="3983" y="1796"/>
                  </a:lnTo>
                  <a:lnTo>
                    <a:pt x="4062" y="1845"/>
                  </a:lnTo>
                  <a:lnTo>
                    <a:pt x="4139" y="1894"/>
                  </a:lnTo>
                  <a:lnTo>
                    <a:pt x="4218" y="1944"/>
                  </a:lnTo>
                  <a:lnTo>
                    <a:pt x="4295" y="1996"/>
                  </a:lnTo>
                  <a:lnTo>
                    <a:pt x="4371" y="2049"/>
                  </a:lnTo>
                  <a:lnTo>
                    <a:pt x="4447" y="2101"/>
                  </a:lnTo>
                  <a:lnTo>
                    <a:pt x="4522" y="2156"/>
                  </a:lnTo>
                  <a:lnTo>
                    <a:pt x="4597" y="2210"/>
                  </a:lnTo>
                  <a:lnTo>
                    <a:pt x="4670" y="2267"/>
                  </a:lnTo>
                  <a:lnTo>
                    <a:pt x="4743" y="2324"/>
                  </a:lnTo>
                  <a:lnTo>
                    <a:pt x="4816" y="2382"/>
                  </a:lnTo>
                  <a:lnTo>
                    <a:pt x="4887" y="2439"/>
                  </a:lnTo>
                  <a:lnTo>
                    <a:pt x="4958" y="2499"/>
                  </a:lnTo>
                  <a:lnTo>
                    <a:pt x="5029" y="2558"/>
                  </a:lnTo>
                  <a:lnTo>
                    <a:pt x="5099" y="2620"/>
                  </a:lnTo>
                  <a:lnTo>
                    <a:pt x="5167" y="2682"/>
                  </a:lnTo>
                  <a:lnTo>
                    <a:pt x="5235" y="2745"/>
                  </a:lnTo>
                  <a:lnTo>
                    <a:pt x="5302" y="2807"/>
                  </a:lnTo>
                  <a:lnTo>
                    <a:pt x="5369" y="2872"/>
                  </a:lnTo>
                  <a:lnTo>
                    <a:pt x="5434" y="2937"/>
                  </a:lnTo>
                  <a:lnTo>
                    <a:pt x="5499" y="3002"/>
                  </a:lnTo>
                  <a:lnTo>
                    <a:pt x="5564" y="3069"/>
                  </a:lnTo>
                  <a:lnTo>
                    <a:pt x="5626" y="3136"/>
                  </a:lnTo>
                  <a:lnTo>
                    <a:pt x="5689" y="3204"/>
                  </a:lnTo>
                  <a:lnTo>
                    <a:pt x="5751" y="3272"/>
                  </a:lnTo>
                  <a:lnTo>
                    <a:pt x="5813" y="3342"/>
                  </a:lnTo>
                  <a:lnTo>
                    <a:pt x="5872" y="3413"/>
                  </a:lnTo>
                  <a:lnTo>
                    <a:pt x="5932" y="3484"/>
                  </a:lnTo>
                  <a:lnTo>
                    <a:pt x="5989" y="3555"/>
                  </a:lnTo>
                  <a:lnTo>
                    <a:pt x="6047" y="3628"/>
                  </a:lnTo>
                  <a:lnTo>
                    <a:pt x="6104" y="3701"/>
                  </a:lnTo>
                  <a:lnTo>
                    <a:pt x="6161" y="3774"/>
                  </a:lnTo>
                  <a:lnTo>
                    <a:pt x="6215" y="3849"/>
                  </a:lnTo>
                  <a:lnTo>
                    <a:pt x="6270" y="3924"/>
                  </a:lnTo>
                  <a:lnTo>
                    <a:pt x="6322" y="4000"/>
                  </a:lnTo>
                  <a:lnTo>
                    <a:pt x="6375" y="4076"/>
                  </a:lnTo>
                  <a:lnTo>
                    <a:pt x="6427" y="4153"/>
                  </a:lnTo>
                  <a:lnTo>
                    <a:pt x="6477" y="4232"/>
                  </a:lnTo>
                  <a:lnTo>
                    <a:pt x="6526" y="4309"/>
                  </a:lnTo>
                  <a:lnTo>
                    <a:pt x="6575" y="4388"/>
                  </a:lnTo>
                  <a:lnTo>
                    <a:pt x="6624" y="4468"/>
                  </a:lnTo>
                  <a:lnTo>
                    <a:pt x="6671" y="4548"/>
                  </a:lnTo>
                  <a:lnTo>
                    <a:pt x="6716" y="4629"/>
                  </a:lnTo>
                  <a:lnTo>
                    <a:pt x="6762" y="4711"/>
                  </a:lnTo>
                  <a:lnTo>
                    <a:pt x="6805" y="4792"/>
                  </a:lnTo>
                  <a:lnTo>
                    <a:pt x="6849" y="4874"/>
                  </a:lnTo>
                  <a:lnTo>
                    <a:pt x="6889" y="4959"/>
                  </a:lnTo>
                  <a:lnTo>
                    <a:pt x="6931" y="5042"/>
                  </a:lnTo>
                  <a:lnTo>
                    <a:pt x="6972" y="5126"/>
                  </a:lnTo>
                  <a:lnTo>
                    <a:pt x="7010" y="5211"/>
                  </a:lnTo>
                  <a:lnTo>
                    <a:pt x="7048" y="5296"/>
                  </a:lnTo>
                  <a:lnTo>
                    <a:pt x="7086" y="5382"/>
                  </a:lnTo>
                  <a:lnTo>
                    <a:pt x="7121" y="5468"/>
                  </a:lnTo>
                  <a:lnTo>
                    <a:pt x="7156" y="5556"/>
                  </a:lnTo>
                  <a:lnTo>
                    <a:pt x="7191" y="5644"/>
                  </a:lnTo>
                  <a:lnTo>
                    <a:pt x="7223" y="5732"/>
                  </a:lnTo>
                  <a:lnTo>
                    <a:pt x="7256" y="5820"/>
                  </a:lnTo>
                  <a:lnTo>
                    <a:pt x="7286" y="5909"/>
                  </a:lnTo>
                  <a:lnTo>
                    <a:pt x="7316" y="5999"/>
                  </a:lnTo>
                  <a:lnTo>
                    <a:pt x="7345" y="6089"/>
                  </a:lnTo>
                  <a:lnTo>
                    <a:pt x="7372" y="6179"/>
                  </a:lnTo>
                  <a:lnTo>
                    <a:pt x="7399" y="6270"/>
                  </a:lnTo>
                  <a:lnTo>
                    <a:pt x="7424" y="6361"/>
                  </a:lnTo>
                  <a:lnTo>
                    <a:pt x="7449" y="6452"/>
                  </a:lnTo>
                  <a:lnTo>
                    <a:pt x="7472" y="6544"/>
                  </a:lnTo>
                  <a:lnTo>
                    <a:pt x="7494" y="6637"/>
                  </a:lnTo>
                  <a:lnTo>
                    <a:pt x="7514" y="6730"/>
                  </a:lnTo>
                  <a:lnTo>
                    <a:pt x="7535" y="6823"/>
                  </a:lnTo>
                  <a:lnTo>
                    <a:pt x="7554" y="6918"/>
                  </a:lnTo>
                  <a:lnTo>
                    <a:pt x="7571" y="7013"/>
                  </a:lnTo>
                  <a:lnTo>
                    <a:pt x="7587" y="7107"/>
                  </a:lnTo>
                  <a:lnTo>
                    <a:pt x="7602" y="7201"/>
                  </a:lnTo>
                  <a:lnTo>
                    <a:pt x="7617" y="7297"/>
                  </a:lnTo>
                  <a:lnTo>
                    <a:pt x="7630" y="7394"/>
                  </a:lnTo>
                  <a:lnTo>
                    <a:pt x="7641" y="7490"/>
                  </a:lnTo>
                  <a:lnTo>
                    <a:pt x="7652" y="7586"/>
                  </a:lnTo>
                  <a:lnTo>
                    <a:pt x="7661" y="7682"/>
                  </a:lnTo>
                  <a:lnTo>
                    <a:pt x="7669" y="7780"/>
                  </a:lnTo>
                  <a:lnTo>
                    <a:pt x="7676" y="7878"/>
                  </a:lnTo>
                  <a:lnTo>
                    <a:pt x="7681" y="7974"/>
                  </a:lnTo>
                  <a:lnTo>
                    <a:pt x="7687" y="8074"/>
                  </a:lnTo>
                  <a:lnTo>
                    <a:pt x="7690" y="8172"/>
                  </a:lnTo>
                  <a:lnTo>
                    <a:pt x="7690" y="8272"/>
                  </a:lnTo>
                  <a:lnTo>
                    <a:pt x="7691" y="8371"/>
                  </a:lnTo>
                  <a:lnTo>
                    <a:pt x="8371" y="8371"/>
                  </a:lnTo>
                  <a:lnTo>
                    <a:pt x="8370" y="8263"/>
                  </a:lnTo>
                  <a:lnTo>
                    <a:pt x="8367" y="8156"/>
                  </a:lnTo>
                  <a:lnTo>
                    <a:pt x="8364" y="8050"/>
                  </a:lnTo>
                  <a:lnTo>
                    <a:pt x="8359" y="7943"/>
                  </a:lnTo>
                  <a:lnTo>
                    <a:pt x="8353" y="7835"/>
                  </a:lnTo>
                  <a:lnTo>
                    <a:pt x="8346" y="7730"/>
                  </a:lnTo>
                  <a:lnTo>
                    <a:pt x="8338" y="7624"/>
                  </a:lnTo>
                  <a:lnTo>
                    <a:pt x="8327" y="7517"/>
                  </a:lnTo>
                  <a:lnTo>
                    <a:pt x="8316" y="7413"/>
                  </a:lnTo>
                  <a:lnTo>
                    <a:pt x="8302" y="7308"/>
                  </a:lnTo>
                  <a:lnTo>
                    <a:pt x="8288" y="7204"/>
                  </a:lnTo>
                  <a:lnTo>
                    <a:pt x="8274" y="7101"/>
                  </a:lnTo>
                  <a:lnTo>
                    <a:pt x="8257" y="6996"/>
                  </a:lnTo>
                  <a:lnTo>
                    <a:pt x="8240" y="6892"/>
                  </a:lnTo>
                  <a:lnTo>
                    <a:pt x="8220" y="6791"/>
                  </a:lnTo>
                  <a:lnTo>
                    <a:pt x="8199" y="6688"/>
                  </a:lnTo>
                  <a:lnTo>
                    <a:pt x="8178" y="6587"/>
                  </a:lnTo>
                  <a:lnTo>
                    <a:pt x="8155" y="6485"/>
                  </a:lnTo>
                  <a:lnTo>
                    <a:pt x="8130" y="6385"/>
                  </a:lnTo>
                  <a:lnTo>
                    <a:pt x="8105" y="6285"/>
                  </a:lnTo>
                  <a:lnTo>
                    <a:pt x="8080" y="6183"/>
                  </a:lnTo>
                  <a:lnTo>
                    <a:pt x="8052" y="6084"/>
                  </a:lnTo>
                  <a:lnTo>
                    <a:pt x="8023" y="5985"/>
                  </a:lnTo>
                  <a:lnTo>
                    <a:pt x="7993" y="5887"/>
                  </a:lnTo>
                  <a:lnTo>
                    <a:pt x="7962" y="5789"/>
                  </a:lnTo>
                  <a:lnTo>
                    <a:pt x="7929" y="5691"/>
                  </a:lnTo>
                  <a:lnTo>
                    <a:pt x="7896" y="5594"/>
                  </a:lnTo>
                  <a:lnTo>
                    <a:pt x="7861" y="5498"/>
                  </a:lnTo>
                  <a:lnTo>
                    <a:pt x="7825" y="5402"/>
                  </a:lnTo>
                  <a:lnTo>
                    <a:pt x="7788" y="5306"/>
                  </a:lnTo>
                  <a:lnTo>
                    <a:pt x="7750" y="5213"/>
                  </a:lnTo>
                  <a:lnTo>
                    <a:pt x="7710" y="5119"/>
                  </a:lnTo>
                  <a:lnTo>
                    <a:pt x="7670" y="5025"/>
                  </a:lnTo>
                  <a:lnTo>
                    <a:pt x="7629" y="4932"/>
                  </a:lnTo>
                  <a:lnTo>
                    <a:pt x="7585" y="4839"/>
                  </a:lnTo>
                  <a:lnTo>
                    <a:pt x="7542" y="4747"/>
                  </a:lnTo>
                  <a:lnTo>
                    <a:pt x="7498" y="4656"/>
                  </a:lnTo>
                  <a:lnTo>
                    <a:pt x="7451" y="4566"/>
                  </a:lnTo>
                  <a:lnTo>
                    <a:pt x="7405" y="4476"/>
                  </a:lnTo>
                  <a:lnTo>
                    <a:pt x="7357" y="4386"/>
                  </a:lnTo>
                  <a:lnTo>
                    <a:pt x="7308" y="4297"/>
                  </a:lnTo>
                  <a:lnTo>
                    <a:pt x="7258" y="4211"/>
                  </a:lnTo>
                  <a:lnTo>
                    <a:pt x="7207" y="4123"/>
                  </a:lnTo>
                  <a:lnTo>
                    <a:pt x="7155" y="4036"/>
                  </a:lnTo>
                  <a:lnTo>
                    <a:pt x="7103" y="3950"/>
                  </a:lnTo>
                  <a:lnTo>
                    <a:pt x="7048" y="3864"/>
                  </a:lnTo>
                  <a:lnTo>
                    <a:pt x="6993" y="3781"/>
                  </a:lnTo>
                  <a:lnTo>
                    <a:pt x="6937" y="3696"/>
                  </a:lnTo>
                  <a:lnTo>
                    <a:pt x="6880" y="3612"/>
                  </a:lnTo>
                  <a:lnTo>
                    <a:pt x="6822" y="3530"/>
                  </a:lnTo>
                  <a:lnTo>
                    <a:pt x="6763" y="3450"/>
                  </a:lnTo>
                  <a:lnTo>
                    <a:pt x="6703" y="3368"/>
                  </a:lnTo>
                  <a:lnTo>
                    <a:pt x="6643" y="3287"/>
                  </a:lnTo>
                  <a:lnTo>
                    <a:pt x="6581" y="3208"/>
                  </a:lnTo>
                  <a:lnTo>
                    <a:pt x="6518" y="3130"/>
                  </a:lnTo>
                  <a:lnTo>
                    <a:pt x="6455" y="3051"/>
                  </a:lnTo>
                  <a:lnTo>
                    <a:pt x="6390" y="2975"/>
                  </a:lnTo>
                  <a:lnTo>
                    <a:pt x="6324" y="2898"/>
                  </a:lnTo>
                  <a:lnTo>
                    <a:pt x="6258" y="2823"/>
                  </a:lnTo>
                  <a:lnTo>
                    <a:pt x="6191" y="2748"/>
                  </a:lnTo>
                  <a:lnTo>
                    <a:pt x="6123" y="2675"/>
                  </a:lnTo>
                  <a:lnTo>
                    <a:pt x="6054" y="2601"/>
                  </a:lnTo>
                  <a:lnTo>
                    <a:pt x="5985" y="2529"/>
                  </a:lnTo>
                  <a:lnTo>
                    <a:pt x="5914" y="2457"/>
                  </a:lnTo>
                  <a:lnTo>
                    <a:pt x="5842" y="2386"/>
                  </a:lnTo>
                  <a:lnTo>
                    <a:pt x="5770" y="2317"/>
                  </a:lnTo>
                  <a:lnTo>
                    <a:pt x="5696" y="2248"/>
                  </a:lnTo>
                  <a:lnTo>
                    <a:pt x="5623" y="2180"/>
                  </a:lnTo>
                  <a:lnTo>
                    <a:pt x="5548" y="2113"/>
                  </a:lnTo>
                  <a:lnTo>
                    <a:pt x="5473" y="2047"/>
                  </a:lnTo>
                  <a:lnTo>
                    <a:pt x="5396" y="1981"/>
                  </a:lnTo>
                  <a:lnTo>
                    <a:pt x="5320" y="1916"/>
                  </a:lnTo>
                  <a:lnTo>
                    <a:pt x="5241" y="1853"/>
                  </a:lnTo>
                  <a:lnTo>
                    <a:pt x="5163" y="1790"/>
                  </a:lnTo>
                  <a:lnTo>
                    <a:pt x="5084" y="1728"/>
                  </a:lnTo>
                  <a:lnTo>
                    <a:pt x="5003" y="1668"/>
                  </a:lnTo>
                  <a:lnTo>
                    <a:pt x="4921" y="1608"/>
                  </a:lnTo>
                  <a:lnTo>
                    <a:pt x="4841" y="1549"/>
                  </a:lnTo>
                  <a:lnTo>
                    <a:pt x="4759" y="1491"/>
                  </a:lnTo>
                  <a:lnTo>
                    <a:pt x="4675" y="1434"/>
                  </a:lnTo>
                  <a:lnTo>
                    <a:pt x="4590" y="1378"/>
                  </a:lnTo>
                  <a:lnTo>
                    <a:pt x="4507" y="1323"/>
                  </a:lnTo>
                  <a:lnTo>
                    <a:pt x="4421" y="1268"/>
                  </a:lnTo>
                  <a:lnTo>
                    <a:pt x="4335" y="1216"/>
                  </a:lnTo>
                  <a:lnTo>
                    <a:pt x="4248" y="1164"/>
                  </a:lnTo>
                  <a:lnTo>
                    <a:pt x="4160" y="1113"/>
                  </a:lnTo>
                  <a:lnTo>
                    <a:pt x="4074" y="1063"/>
                  </a:lnTo>
                  <a:lnTo>
                    <a:pt x="3985" y="1014"/>
                  </a:lnTo>
                  <a:lnTo>
                    <a:pt x="3895" y="966"/>
                  </a:lnTo>
                  <a:lnTo>
                    <a:pt x="3805" y="920"/>
                  </a:lnTo>
                  <a:lnTo>
                    <a:pt x="3715" y="873"/>
                  </a:lnTo>
                  <a:lnTo>
                    <a:pt x="3624" y="829"/>
                  </a:lnTo>
                  <a:lnTo>
                    <a:pt x="3532" y="786"/>
                  </a:lnTo>
                  <a:lnTo>
                    <a:pt x="3439" y="742"/>
                  </a:lnTo>
                  <a:lnTo>
                    <a:pt x="3346" y="701"/>
                  </a:lnTo>
                  <a:lnTo>
                    <a:pt x="3252" y="661"/>
                  </a:lnTo>
                  <a:lnTo>
                    <a:pt x="3158" y="621"/>
                  </a:lnTo>
                  <a:lnTo>
                    <a:pt x="3065" y="583"/>
                  </a:lnTo>
                  <a:lnTo>
                    <a:pt x="2969" y="546"/>
                  </a:lnTo>
                  <a:lnTo>
                    <a:pt x="2873" y="510"/>
                  </a:lnTo>
                  <a:lnTo>
                    <a:pt x="2777" y="475"/>
                  </a:lnTo>
                  <a:lnTo>
                    <a:pt x="2680" y="442"/>
                  </a:lnTo>
                  <a:lnTo>
                    <a:pt x="2582" y="409"/>
                  </a:lnTo>
                  <a:lnTo>
                    <a:pt x="2484" y="378"/>
                  </a:lnTo>
                  <a:lnTo>
                    <a:pt x="2386" y="348"/>
                  </a:lnTo>
                  <a:lnTo>
                    <a:pt x="2287" y="319"/>
                  </a:lnTo>
                  <a:lnTo>
                    <a:pt x="2188" y="291"/>
                  </a:lnTo>
                  <a:lnTo>
                    <a:pt x="2086" y="266"/>
                  </a:lnTo>
                  <a:lnTo>
                    <a:pt x="1986" y="241"/>
                  </a:lnTo>
                  <a:lnTo>
                    <a:pt x="1886" y="216"/>
                  </a:lnTo>
                  <a:lnTo>
                    <a:pt x="1784" y="193"/>
                  </a:lnTo>
                  <a:lnTo>
                    <a:pt x="1683" y="172"/>
                  </a:lnTo>
                  <a:lnTo>
                    <a:pt x="1580" y="151"/>
                  </a:lnTo>
                  <a:lnTo>
                    <a:pt x="1479" y="131"/>
                  </a:lnTo>
                  <a:lnTo>
                    <a:pt x="1375" y="114"/>
                  </a:lnTo>
                  <a:lnTo>
                    <a:pt x="1270" y="97"/>
                  </a:lnTo>
                  <a:lnTo>
                    <a:pt x="1167" y="83"/>
                  </a:lnTo>
                  <a:lnTo>
                    <a:pt x="1063" y="69"/>
                  </a:lnTo>
                  <a:lnTo>
                    <a:pt x="958" y="55"/>
                  </a:lnTo>
                  <a:lnTo>
                    <a:pt x="854" y="44"/>
                  </a:lnTo>
                  <a:lnTo>
                    <a:pt x="747" y="33"/>
                  </a:lnTo>
                  <a:lnTo>
                    <a:pt x="641" y="25"/>
                  </a:lnTo>
                  <a:lnTo>
                    <a:pt x="536" y="18"/>
                  </a:lnTo>
                  <a:lnTo>
                    <a:pt x="428" y="12"/>
                  </a:lnTo>
                  <a:lnTo>
                    <a:pt x="321" y="7"/>
                  </a:lnTo>
                  <a:lnTo>
                    <a:pt x="215" y="4"/>
                  </a:lnTo>
                  <a:lnTo>
                    <a:pt x="10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2920" y="5433840"/>
              <a:ext cx="604800" cy="60516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680" y="8371"/>
                  </a:moveTo>
                  <a:lnTo>
                    <a:pt x="680" y="8371"/>
                  </a:lnTo>
                  <a:lnTo>
                    <a:pt x="680" y="8272"/>
                  </a:lnTo>
                  <a:lnTo>
                    <a:pt x="681" y="8172"/>
                  </a:lnTo>
                  <a:lnTo>
                    <a:pt x="684" y="8074"/>
                  </a:lnTo>
                  <a:lnTo>
                    <a:pt x="690" y="7974"/>
                  </a:lnTo>
                  <a:lnTo>
                    <a:pt x="695" y="7878"/>
                  </a:lnTo>
                  <a:lnTo>
                    <a:pt x="702" y="7780"/>
                  </a:lnTo>
                  <a:lnTo>
                    <a:pt x="710" y="7682"/>
                  </a:lnTo>
                  <a:lnTo>
                    <a:pt x="719" y="7585"/>
                  </a:lnTo>
                  <a:lnTo>
                    <a:pt x="729" y="7490"/>
                  </a:lnTo>
                  <a:lnTo>
                    <a:pt x="741" y="7394"/>
                  </a:lnTo>
                  <a:lnTo>
                    <a:pt x="754" y="7297"/>
                  </a:lnTo>
                  <a:lnTo>
                    <a:pt x="769" y="7201"/>
                  </a:lnTo>
                  <a:lnTo>
                    <a:pt x="783" y="7106"/>
                  </a:lnTo>
                  <a:lnTo>
                    <a:pt x="799" y="7013"/>
                  </a:lnTo>
                  <a:lnTo>
                    <a:pt x="817" y="6918"/>
                  </a:lnTo>
                  <a:lnTo>
                    <a:pt x="836" y="6823"/>
                  </a:lnTo>
                  <a:lnTo>
                    <a:pt x="856" y="6730"/>
                  </a:lnTo>
                  <a:lnTo>
                    <a:pt x="877" y="6637"/>
                  </a:lnTo>
                  <a:lnTo>
                    <a:pt x="899" y="6544"/>
                  </a:lnTo>
                  <a:lnTo>
                    <a:pt x="922" y="6452"/>
                  </a:lnTo>
                  <a:lnTo>
                    <a:pt x="947" y="6361"/>
                  </a:lnTo>
                  <a:lnTo>
                    <a:pt x="972" y="6270"/>
                  </a:lnTo>
                  <a:lnTo>
                    <a:pt x="998" y="6179"/>
                  </a:lnTo>
                  <a:lnTo>
                    <a:pt x="1026" y="6089"/>
                  </a:lnTo>
                  <a:lnTo>
                    <a:pt x="1055" y="5999"/>
                  </a:lnTo>
                  <a:lnTo>
                    <a:pt x="1084" y="5909"/>
                  </a:lnTo>
                  <a:lnTo>
                    <a:pt x="1115" y="5820"/>
                  </a:lnTo>
                  <a:lnTo>
                    <a:pt x="1147" y="5732"/>
                  </a:lnTo>
                  <a:lnTo>
                    <a:pt x="1180" y="5644"/>
                  </a:lnTo>
                  <a:lnTo>
                    <a:pt x="1215" y="5556"/>
                  </a:lnTo>
                  <a:lnTo>
                    <a:pt x="1248" y="5469"/>
                  </a:lnTo>
                  <a:lnTo>
                    <a:pt x="1285" y="5382"/>
                  </a:lnTo>
                  <a:lnTo>
                    <a:pt x="1323" y="5296"/>
                  </a:lnTo>
                  <a:lnTo>
                    <a:pt x="1360" y="5211"/>
                  </a:lnTo>
                  <a:lnTo>
                    <a:pt x="1399" y="5126"/>
                  </a:lnTo>
                  <a:lnTo>
                    <a:pt x="1439" y="5042"/>
                  </a:lnTo>
                  <a:lnTo>
                    <a:pt x="1481" y="4959"/>
                  </a:lnTo>
                  <a:lnTo>
                    <a:pt x="1522" y="4874"/>
                  </a:lnTo>
                  <a:lnTo>
                    <a:pt x="1565" y="4792"/>
                  </a:lnTo>
                  <a:lnTo>
                    <a:pt x="1609" y="4711"/>
                  </a:lnTo>
                  <a:lnTo>
                    <a:pt x="1654" y="4629"/>
                  </a:lnTo>
                  <a:lnTo>
                    <a:pt x="1700" y="4548"/>
                  </a:lnTo>
                  <a:lnTo>
                    <a:pt x="1747" y="4468"/>
                  </a:lnTo>
                  <a:lnTo>
                    <a:pt x="1795" y="4388"/>
                  </a:lnTo>
                  <a:lnTo>
                    <a:pt x="1845" y="4309"/>
                  </a:lnTo>
                  <a:lnTo>
                    <a:pt x="1894" y="4232"/>
                  </a:lnTo>
                  <a:lnTo>
                    <a:pt x="1944" y="4153"/>
                  </a:lnTo>
                  <a:lnTo>
                    <a:pt x="1996" y="4076"/>
                  </a:lnTo>
                  <a:lnTo>
                    <a:pt x="2048" y="3999"/>
                  </a:lnTo>
                  <a:lnTo>
                    <a:pt x="2101" y="3924"/>
                  </a:lnTo>
                  <a:lnTo>
                    <a:pt x="2154" y="3849"/>
                  </a:lnTo>
                  <a:lnTo>
                    <a:pt x="2210" y="3774"/>
                  </a:lnTo>
                  <a:lnTo>
                    <a:pt x="2266" y="3700"/>
                  </a:lnTo>
                  <a:lnTo>
                    <a:pt x="2323" y="3628"/>
                  </a:lnTo>
                  <a:lnTo>
                    <a:pt x="2381" y="3555"/>
                  </a:lnTo>
                  <a:lnTo>
                    <a:pt x="2439" y="3484"/>
                  </a:lnTo>
                  <a:lnTo>
                    <a:pt x="2499" y="3413"/>
                  </a:lnTo>
                  <a:lnTo>
                    <a:pt x="2558" y="3342"/>
                  </a:lnTo>
                  <a:lnTo>
                    <a:pt x="2619" y="3272"/>
                  </a:lnTo>
                  <a:lnTo>
                    <a:pt x="2682" y="3204"/>
                  </a:lnTo>
                  <a:lnTo>
                    <a:pt x="2744" y="3136"/>
                  </a:lnTo>
                  <a:lnTo>
                    <a:pt x="2807" y="3069"/>
                  </a:lnTo>
                  <a:lnTo>
                    <a:pt x="2872" y="3002"/>
                  </a:lnTo>
                  <a:lnTo>
                    <a:pt x="2937" y="2937"/>
                  </a:lnTo>
                  <a:lnTo>
                    <a:pt x="3002" y="2872"/>
                  </a:lnTo>
                  <a:lnTo>
                    <a:pt x="3068" y="2807"/>
                  </a:lnTo>
                  <a:lnTo>
                    <a:pt x="3136" y="2745"/>
                  </a:lnTo>
                  <a:lnTo>
                    <a:pt x="3204" y="2682"/>
                  </a:lnTo>
                  <a:lnTo>
                    <a:pt x="3273" y="2620"/>
                  </a:lnTo>
                  <a:lnTo>
                    <a:pt x="3342" y="2558"/>
                  </a:lnTo>
                  <a:lnTo>
                    <a:pt x="3412" y="2499"/>
                  </a:lnTo>
                  <a:lnTo>
                    <a:pt x="3484" y="2439"/>
                  </a:lnTo>
                  <a:lnTo>
                    <a:pt x="3555" y="2382"/>
                  </a:lnTo>
                  <a:lnTo>
                    <a:pt x="3628" y="2324"/>
                  </a:lnTo>
                  <a:lnTo>
                    <a:pt x="3700" y="2267"/>
                  </a:lnTo>
                  <a:lnTo>
                    <a:pt x="3774" y="2210"/>
                  </a:lnTo>
                  <a:lnTo>
                    <a:pt x="3848" y="2156"/>
                  </a:lnTo>
                  <a:lnTo>
                    <a:pt x="3924" y="2101"/>
                  </a:lnTo>
                  <a:lnTo>
                    <a:pt x="3998" y="2049"/>
                  </a:lnTo>
                  <a:lnTo>
                    <a:pt x="4076" y="1996"/>
                  </a:lnTo>
                  <a:lnTo>
                    <a:pt x="4152" y="1944"/>
                  </a:lnTo>
                  <a:lnTo>
                    <a:pt x="4230" y="1894"/>
                  </a:lnTo>
                  <a:lnTo>
                    <a:pt x="4309" y="1845"/>
                  </a:lnTo>
                  <a:lnTo>
                    <a:pt x="4388" y="1796"/>
                  </a:lnTo>
                  <a:lnTo>
                    <a:pt x="4468" y="1747"/>
                  </a:lnTo>
                  <a:lnTo>
                    <a:pt x="4548" y="1700"/>
                  </a:lnTo>
                  <a:lnTo>
                    <a:pt x="4629" y="1655"/>
                  </a:lnTo>
                  <a:lnTo>
                    <a:pt x="4710" y="1609"/>
                  </a:lnTo>
                  <a:lnTo>
                    <a:pt x="4791" y="1566"/>
                  </a:lnTo>
                  <a:lnTo>
                    <a:pt x="4874" y="1522"/>
                  </a:lnTo>
                  <a:lnTo>
                    <a:pt x="4958" y="1482"/>
                  </a:lnTo>
                  <a:lnTo>
                    <a:pt x="5041" y="1440"/>
                  </a:lnTo>
                  <a:lnTo>
                    <a:pt x="5126" y="1399"/>
                  </a:lnTo>
                  <a:lnTo>
                    <a:pt x="5210" y="1361"/>
                  </a:lnTo>
                  <a:lnTo>
                    <a:pt x="5296" y="1323"/>
                  </a:lnTo>
                  <a:lnTo>
                    <a:pt x="5382" y="1285"/>
                  </a:lnTo>
                  <a:lnTo>
                    <a:pt x="5469" y="1248"/>
                  </a:lnTo>
                  <a:lnTo>
                    <a:pt x="5556" y="1215"/>
                  </a:lnTo>
                  <a:lnTo>
                    <a:pt x="5643" y="1180"/>
                  </a:lnTo>
                  <a:lnTo>
                    <a:pt x="5731" y="1148"/>
                  </a:lnTo>
                  <a:lnTo>
                    <a:pt x="5820" y="1115"/>
                  </a:lnTo>
                  <a:lnTo>
                    <a:pt x="5909" y="1085"/>
                  </a:lnTo>
                  <a:lnTo>
                    <a:pt x="5998" y="1055"/>
                  </a:lnTo>
                  <a:lnTo>
                    <a:pt x="6088" y="1026"/>
                  </a:lnTo>
                  <a:lnTo>
                    <a:pt x="6179" y="999"/>
                  </a:lnTo>
                  <a:lnTo>
                    <a:pt x="6270" y="972"/>
                  </a:lnTo>
                  <a:lnTo>
                    <a:pt x="6361" y="947"/>
                  </a:lnTo>
                  <a:lnTo>
                    <a:pt x="6452" y="922"/>
                  </a:lnTo>
                  <a:lnTo>
                    <a:pt x="6544" y="899"/>
                  </a:lnTo>
                  <a:lnTo>
                    <a:pt x="6636" y="877"/>
                  </a:lnTo>
                  <a:lnTo>
                    <a:pt x="6730" y="857"/>
                  </a:lnTo>
                  <a:lnTo>
                    <a:pt x="6823" y="836"/>
                  </a:lnTo>
                  <a:lnTo>
                    <a:pt x="6918" y="817"/>
                  </a:lnTo>
                  <a:lnTo>
                    <a:pt x="7012" y="800"/>
                  </a:lnTo>
                  <a:lnTo>
                    <a:pt x="7107" y="784"/>
                  </a:lnTo>
                  <a:lnTo>
                    <a:pt x="7201" y="769"/>
                  </a:lnTo>
                  <a:lnTo>
                    <a:pt x="7296" y="754"/>
                  </a:lnTo>
                  <a:lnTo>
                    <a:pt x="7393" y="741"/>
                  </a:lnTo>
                  <a:lnTo>
                    <a:pt x="7489" y="730"/>
                  </a:lnTo>
                  <a:lnTo>
                    <a:pt x="7586" y="719"/>
                  </a:lnTo>
                  <a:lnTo>
                    <a:pt x="7682" y="710"/>
                  </a:lnTo>
                  <a:lnTo>
                    <a:pt x="7780" y="702"/>
                  </a:lnTo>
                  <a:lnTo>
                    <a:pt x="7878" y="695"/>
                  </a:lnTo>
                  <a:lnTo>
                    <a:pt x="7974" y="690"/>
                  </a:lnTo>
                  <a:lnTo>
                    <a:pt x="8073" y="684"/>
                  </a:lnTo>
                  <a:lnTo>
                    <a:pt x="8172" y="681"/>
                  </a:lnTo>
                  <a:lnTo>
                    <a:pt x="8272" y="681"/>
                  </a:lnTo>
                  <a:lnTo>
                    <a:pt x="8371" y="680"/>
                  </a:lnTo>
                  <a:lnTo>
                    <a:pt x="8371" y="0"/>
                  </a:lnTo>
                  <a:lnTo>
                    <a:pt x="8263" y="1"/>
                  </a:lnTo>
                  <a:lnTo>
                    <a:pt x="8156" y="4"/>
                  </a:lnTo>
                  <a:lnTo>
                    <a:pt x="8050" y="7"/>
                  </a:lnTo>
                  <a:lnTo>
                    <a:pt x="7943" y="12"/>
                  </a:lnTo>
                  <a:lnTo>
                    <a:pt x="7835" y="18"/>
                  </a:lnTo>
                  <a:lnTo>
                    <a:pt x="7730" y="25"/>
                  </a:lnTo>
                  <a:lnTo>
                    <a:pt x="7624" y="33"/>
                  </a:lnTo>
                  <a:lnTo>
                    <a:pt x="7517" y="44"/>
                  </a:lnTo>
                  <a:lnTo>
                    <a:pt x="7413" y="55"/>
                  </a:lnTo>
                  <a:lnTo>
                    <a:pt x="7308" y="69"/>
                  </a:lnTo>
                  <a:lnTo>
                    <a:pt x="7204" y="83"/>
                  </a:lnTo>
                  <a:lnTo>
                    <a:pt x="7100" y="97"/>
                  </a:lnTo>
                  <a:lnTo>
                    <a:pt x="6995" y="114"/>
                  </a:lnTo>
                  <a:lnTo>
                    <a:pt x="6892" y="131"/>
                  </a:lnTo>
                  <a:lnTo>
                    <a:pt x="6790" y="151"/>
                  </a:lnTo>
                  <a:lnTo>
                    <a:pt x="6688" y="172"/>
                  </a:lnTo>
                  <a:lnTo>
                    <a:pt x="6587" y="193"/>
                  </a:lnTo>
                  <a:lnTo>
                    <a:pt x="6485" y="216"/>
                  </a:lnTo>
                  <a:lnTo>
                    <a:pt x="6384" y="241"/>
                  </a:lnTo>
                  <a:lnTo>
                    <a:pt x="6285" y="266"/>
                  </a:lnTo>
                  <a:lnTo>
                    <a:pt x="6183" y="291"/>
                  </a:lnTo>
                  <a:lnTo>
                    <a:pt x="6084" y="319"/>
                  </a:lnTo>
                  <a:lnTo>
                    <a:pt x="5984" y="348"/>
                  </a:lnTo>
                  <a:lnTo>
                    <a:pt x="5886" y="378"/>
                  </a:lnTo>
                  <a:lnTo>
                    <a:pt x="5789" y="409"/>
                  </a:lnTo>
                  <a:lnTo>
                    <a:pt x="5691" y="442"/>
                  </a:lnTo>
                  <a:lnTo>
                    <a:pt x="5594" y="475"/>
                  </a:lnTo>
                  <a:lnTo>
                    <a:pt x="5498" y="510"/>
                  </a:lnTo>
                  <a:lnTo>
                    <a:pt x="5401" y="546"/>
                  </a:lnTo>
                  <a:lnTo>
                    <a:pt x="5306" y="583"/>
                  </a:lnTo>
                  <a:lnTo>
                    <a:pt x="5211" y="622"/>
                  </a:lnTo>
                  <a:lnTo>
                    <a:pt x="5119" y="661"/>
                  </a:lnTo>
                  <a:lnTo>
                    <a:pt x="5025" y="701"/>
                  </a:lnTo>
                  <a:lnTo>
                    <a:pt x="4932" y="742"/>
                  </a:lnTo>
                  <a:lnTo>
                    <a:pt x="4838" y="786"/>
                  </a:lnTo>
                  <a:lnTo>
                    <a:pt x="4747" y="829"/>
                  </a:lnTo>
                  <a:lnTo>
                    <a:pt x="4655" y="873"/>
                  </a:lnTo>
                  <a:lnTo>
                    <a:pt x="4566" y="920"/>
                  </a:lnTo>
                  <a:lnTo>
                    <a:pt x="4475" y="966"/>
                  </a:lnTo>
                  <a:lnTo>
                    <a:pt x="4386" y="1014"/>
                  </a:lnTo>
                  <a:lnTo>
                    <a:pt x="4297" y="1063"/>
                  </a:lnTo>
                  <a:lnTo>
                    <a:pt x="4210" y="1113"/>
                  </a:lnTo>
                  <a:lnTo>
                    <a:pt x="4123" y="1164"/>
                  </a:lnTo>
                  <a:lnTo>
                    <a:pt x="4035" y="1216"/>
                  </a:lnTo>
                  <a:lnTo>
                    <a:pt x="3950" y="1268"/>
                  </a:lnTo>
                  <a:lnTo>
                    <a:pt x="3864" y="1323"/>
                  </a:lnTo>
                  <a:lnTo>
                    <a:pt x="3781" y="1378"/>
                  </a:lnTo>
                  <a:lnTo>
                    <a:pt x="3696" y="1434"/>
                  </a:lnTo>
                  <a:lnTo>
                    <a:pt x="3613" y="1491"/>
                  </a:lnTo>
                  <a:lnTo>
                    <a:pt x="3530" y="1549"/>
                  </a:lnTo>
                  <a:lnTo>
                    <a:pt x="3450" y="1608"/>
                  </a:lnTo>
                  <a:lnTo>
                    <a:pt x="3368" y="1668"/>
                  </a:lnTo>
                  <a:lnTo>
                    <a:pt x="3288" y="1728"/>
                  </a:lnTo>
                  <a:lnTo>
                    <a:pt x="3208" y="1790"/>
                  </a:lnTo>
                  <a:lnTo>
                    <a:pt x="3130" y="1853"/>
                  </a:lnTo>
                  <a:lnTo>
                    <a:pt x="3051" y="1916"/>
                  </a:lnTo>
                  <a:lnTo>
                    <a:pt x="2974" y="1981"/>
                  </a:lnTo>
                  <a:lnTo>
                    <a:pt x="2898" y="2047"/>
                  </a:lnTo>
                  <a:lnTo>
                    <a:pt x="2822" y="2113"/>
                  </a:lnTo>
                  <a:lnTo>
                    <a:pt x="2748" y="2180"/>
                  </a:lnTo>
                  <a:lnTo>
                    <a:pt x="2673" y="2248"/>
                  </a:lnTo>
                  <a:lnTo>
                    <a:pt x="2601" y="2317"/>
                  </a:lnTo>
                  <a:lnTo>
                    <a:pt x="2529" y="2386"/>
                  </a:lnTo>
                  <a:lnTo>
                    <a:pt x="2457" y="2457"/>
                  </a:lnTo>
                  <a:lnTo>
                    <a:pt x="2386" y="2529"/>
                  </a:lnTo>
                  <a:lnTo>
                    <a:pt x="2317" y="2601"/>
                  </a:lnTo>
                  <a:lnTo>
                    <a:pt x="2248" y="2675"/>
                  </a:lnTo>
                  <a:lnTo>
                    <a:pt x="2180" y="2748"/>
                  </a:lnTo>
                  <a:lnTo>
                    <a:pt x="2113" y="2823"/>
                  </a:lnTo>
                  <a:lnTo>
                    <a:pt x="2046" y="2898"/>
                  </a:lnTo>
                  <a:lnTo>
                    <a:pt x="1981" y="2975"/>
                  </a:lnTo>
                  <a:lnTo>
                    <a:pt x="1916" y="3051"/>
                  </a:lnTo>
                  <a:lnTo>
                    <a:pt x="1852" y="3130"/>
                  </a:lnTo>
                  <a:lnTo>
                    <a:pt x="1789" y="3208"/>
                  </a:lnTo>
                  <a:lnTo>
                    <a:pt x="1728" y="3289"/>
                  </a:lnTo>
                  <a:lnTo>
                    <a:pt x="1668" y="3368"/>
                  </a:lnTo>
                  <a:lnTo>
                    <a:pt x="1608" y="3450"/>
                  </a:lnTo>
                  <a:lnTo>
                    <a:pt x="1549" y="3530"/>
                  </a:lnTo>
                  <a:lnTo>
                    <a:pt x="1490" y="3614"/>
                  </a:lnTo>
                  <a:lnTo>
                    <a:pt x="1434" y="3696"/>
                  </a:lnTo>
                  <a:lnTo>
                    <a:pt x="1378" y="3781"/>
                  </a:lnTo>
                  <a:lnTo>
                    <a:pt x="1323" y="3864"/>
                  </a:lnTo>
                  <a:lnTo>
                    <a:pt x="1268" y="3950"/>
                  </a:lnTo>
                  <a:lnTo>
                    <a:pt x="1216" y="4036"/>
                  </a:lnTo>
                  <a:lnTo>
                    <a:pt x="1164" y="4123"/>
                  </a:lnTo>
                  <a:lnTo>
                    <a:pt x="1113" y="4211"/>
                  </a:lnTo>
                  <a:lnTo>
                    <a:pt x="1062" y="4297"/>
                  </a:lnTo>
                  <a:lnTo>
                    <a:pt x="1014" y="4386"/>
                  </a:lnTo>
                  <a:lnTo>
                    <a:pt x="966" y="4476"/>
                  </a:lnTo>
                  <a:lnTo>
                    <a:pt x="919" y="4566"/>
                  </a:lnTo>
                  <a:lnTo>
                    <a:pt x="873" y="4656"/>
                  </a:lnTo>
                  <a:lnTo>
                    <a:pt x="829" y="4747"/>
                  </a:lnTo>
                  <a:lnTo>
                    <a:pt x="785" y="4839"/>
                  </a:lnTo>
                  <a:lnTo>
                    <a:pt x="742" y="4932"/>
                  </a:lnTo>
                  <a:lnTo>
                    <a:pt x="701" y="5025"/>
                  </a:lnTo>
                  <a:lnTo>
                    <a:pt x="660" y="5119"/>
                  </a:lnTo>
                  <a:lnTo>
                    <a:pt x="622" y="5212"/>
                  </a:lnTo>
                  <a:lnTo>
                    <a:pt x="583" y="5306"/>
                  </a:lnTo>
                  <a:lnTo>
                    <a:pt x="545" y="5402"/>
                  </a:lnTo>
                  <a:lnTo>
                    <a:pt x="510" y="5498"/>
                  </a:lnTo>
                  <a:lnTo>
                    <a:pt x="475" y="5594"/>
                  </a:lnTo>
                  <a:lnTo>
                    <a:pt x="442" y="5691"/>
                  </a:lnTo>
                  <a:lnTo>
                    <a:pt x="409" y="5789"/>
                  </a:lnTo>
                  <a:lnTo>
                    <a:pt x="378" y="5887"/>
                  </a:lnTo>
                  <a:lnTo>
                    <a:pt x="347" y="5985"/>
                  </a:lnTo>
                  <a:lnTo>
                    <a:pt x="319" y="6084"/>
                  </a:lnTo>
                  <a:lnTo>
                    <a:pt x="291" y="6183"/>
                  </a:lnTo>
                  <a:lnTo>
                    <a:pt x="266" y="6285"/>
                  </a:lnTo>
                  <a:lnTo>
                    <a:pt x="240" y="6385"/>
                  </a:lnTo>
                  <a:lnTo>
                    <a:pt x="216" y="6485"/>
                  </a:lnTo>
                  <a:lnTo>
                    <a:pt x="193" y="6587"/>
                  </a:lnTo>
                  <a:lnTo>
                    <a:pt x="172" y="6688"/>
                  </a:lnTo>
                  <a:lnTo>
                    <a:pt x="151" y="6791"/>
                  </a:lnTo>
                  <a:lnTo>
                    <a:pt x="132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2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2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80" y="83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2920" y="6039000"/>
              <a:ext cx="604800" cy="6030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8371" y="7691"/>
                  </a:moveTo>
                  <a:lnTo>
                    <a:pt x="8371" y="7691"/>
                  </a:lnTo>
                  <a:lnTo>
                    <a:pt x="8272" y="7691"/>
                  </a:lnTo>
                  <a:lnTo>
                    <a:pt x="8172" y="7690"/>
                  </a:lnTo>
                  <a:lnTo>
                    <a:pt x="8073" y="7687"/>
                  </a:lnTo>
                  <a:lnTo>
                    <a:pt x="7974" y="7681"/>
                  </a:lnTo>
                  <a:lnTo>
                    <a:pt x="7878" y="7676"/>
                  </a:lnTo>
                  <a:lnTo>
                    <a:pt x="7780" y="7669"/>
                  </a:lnTo>
                  <a:lnTo>
                    <a:pt x="7682" y="7661"/>
                  </a:lnTo>
                  <a:lnTo>
                    <a:pt x="7585" y="7652"/>
                  </a:lnTo>
                  <a:lnTo>
                    <a:pt x="7489" y="7642"/>
                  </a:lnTo>
                  <a:lnTo>
                    <a:pt x="7393" y="7630"/>
                  </a:lnTo>
                  <a:lnTo>
                    <a:pt x="7296" y="7617"/>
                  </a:lnTo>
                  <a:lnTo>
                    <a:pt x="7201" y="7602"/>
                  </a:lnTo>
                  <a:lnTo>
                    <a:pt x="7106" y="7588"/>
                  </a:lnTo>
                  <a:lnTo>
                    <a:pt x="7012" y="7572"/>
                  </a:lnTo>
                  <a:lnTo>
                    <a:pt x="6918" y="7554"/>
                  </a:lnTo>
                  <a:lnTo>
                    <a:pt x="6823" y="7535"/>
                  </a:lnTo>
                  <a:lnTo>
                    <a:pt x="6730" y="7515"/>
                  </a:lnTo>
                  <a:lnTo>
                    <a:pt x="6636" y="7494"/>
                  </a:lnTo>
                  <a:lnTo>
                    <a:pt x="6544" y="7472"/>
                  </a:lnTo>
                  <a:lnTo>
                    <a:pt x="6452" y="7449"/>
                  </a:lnTo>
                  <a:lnTo>
                    <a:pt x="6361" y="7424"/>
                  </a:lnTo>
                  <a:lnTo>
                    <a:pt x="6270" y="7399"/>
                  </a:lnTo>
                  <a:lnTo>
                    <a:pt x="6179" y="7373"/>
                  </a:lnTo>
                  <a:lnTo>
                    <a:pt x="6088" y="7345"/>
                  </a:lnTo>
                  <a:lnTo>
                    <a:pt x="5998" y="7316"/>
                  </a:lnTo>
                  <a:lnTo>
                    <a:pt x="5909" y="7287"/>
                  </a:lnTo>
                  <a:lnTo>
                    <a:pt x="5820" y="7256"/>
                  </a:lnTo>
                  <a:lnTo>
                    <a:pt x="5731" y="7224"/>
                  </a:lnTo>
                  <a:lnTo>
                    <a:pt x="5643" y="7191"/>
                  </a:lnTo>
                  <a:lnTo>
                    <a:pt x="5556" y="7156"/>
                  </a:lnTo>
                  <a:lnTo>
                    <a:pt x="5469" y="7123"/>
                  </a:lnTo>
                  <a:lnTo>
                    <a:pt x="5382" y="7086"/>
                  </a:lnTo>
                  <a:lnTo>
                    <a:pt x="5296" y="7048"/>
                  </a:lnTo>
                  <a:lnTo>
                    <a:pt x="5210" y="7011"/>
                  </a:lnTo>
                  <a:lnTo>
                    <a:pt x="5126" y="6972"/>
                  </a:lnTo>
                  <a:lnTo>
                    <a:pt x="5041" y="6932"/>
                  </a:lnTo>
                  <a:lnTo>
                    <a:pt x="4958" y="6890"/>
                  </a:lnTo>
                  <a:lnTo>
                    <a:pt x="4875" y="6849"/>
                  </a:lnTo>
                  <a:lnTo>
                    <a:pt x="4791" y="6806"/>
                  </a:lnTo>
                  <a:lnTo>
                    <a:pt x="4710" y="6762"/>
                  </a:lnTo>
                  <a:lnTo>
                    <a:pt x="4629" y="6717"/>
                  </a:lnTo>
                  <a:lnTo>
                    <a:pt x="4548" y="6671"/>
                  </a:lnTo>
                  <a:lnTo>
                    <a:pt x="4468" y="6624"/>
                  </a:lnTo>
                  <a:lnTo>
                    <a:pt x="4388" y="6576"/>
                  </a:lnTo>
                  <a:lnTo>
                    <a:pt x="4309" y="6526"/>
                  </a:lnTo>
                  <a:lnTo>
                    <a:pt x="4230" y="6477"/>
                  </a:lnTo>
                  <a:lnTo>
                    <a:pt x="4154" y="6427"/>
                  </a:lnTo>
                  <a:lnTo>
                    <a:pt x="4076" y="6375"/>
                  </a:lnTo>
                  <a:lnTo>
                    <a:pt x="3998" y="6323"/>
                  </a:lnTo>
                  <a:lnTo>
                    <a:pt x="3924" y="6270"/>
                  </a:lnTo>
                  <a:lnTo>
                    <a:pt x="3848" y="6217"/>
                  </a:lnTo>
                  <a:lnTo>
                    <a:pt x="3774" y="6161"/>
                  </a:lnTo>
                  <a:lnTo>
                    <a:pt x="3700" y="6105"/>
                  </a:lnTo>
                  <a:lnTo>
                    <a:pt x="3628" y="6048"/>
                  </a:lnTo>
                  <a:lnTo>
                    <a:pt x="3555" y="5990"/>
                  </a:lnTo>
                  <a:lnTo>
                    <a:pt x="3484" y="5932"/>
                  </a:lnTo>
                  <a:lnTo>
                    <a:pt x="3412" y="5872"/>
                  </a:lnTo>
                  <a:lnTo>
                    <a:pt x="3342" y="5813"/>
                  </a:lnTo>
                  <a:lnTo>
                    <a:pt x="3273" y="5752"/>
                  </a:lnTo>
                  <a:lnTo>
                    <a:pt x="3204" y="5689"/>
                  </a:lnTo>
                  <a:lnTo>
                    <a:pt x="3136" y="5627"/>
                  </a:lnTo>
                  <a:lnTo>
                    <a:pt x="3068" y="5564"/>
                  </a:lnTo>
                  <a:lnTo>
                    <a:pt x="3002" y="5499"/>
                  </a:lnTo>
                  <a:lnTo>
                    <a:pt x="2937" y="5434"/>
                  </a:lnTo>
                  <a:lnTo>
                    <a:pt x="2872" y="5369"/>
                  </a:lnTo>
                  <a:lnTo>
                    <a:pt x="2807" y="5303"/>
                  </a:lnTo>
                  <a:lnTo>
                    <a:pt x="2744" y="5235"/>
                  </a:lnTo>
                  <a:lnTo>
                    <a:pt x="2682" y="5167"/>
                  </a:lnTo>
                  <a:lnTo>
                    <a:pt x="2619" y="5098"/>
                  </a:lnTo>
                  <a:lnTo>
                    <a:pt x="2558" y="5029"/>
                  </a:lnTo>
                  <a:lnTo>
                    <a:pt x="2499" y="4959"/>
                  </a:lnTo>
                  <a:lnTo>
                    <a:pt x="2439" y="4887"/>
                  </a:lnTo>
                  <a:lnTo>
                    <a:pt x="2381" y="4816"/>
                  </a:lnTo>
                  <a:lnTo>
                    <a:pt x="2323" y="4743"/>
                  </a:lnTo>
                  <a:lnTo>
                    <a:pt x="2266" y="4671"/>
                  </a:lnTo>
                  <a:lnTo>
                    <a:pt x="2210" y="4597"/>
                  </a:lnTo>
                  <a:lnTo>
                    <a:pt x="2154" y="4523"/>
                  </a:lnTo>
                  <a:lnTo>
                    <a:pt x="2101" y="4447"/>
                  </a:lnTo>
                  <a:lnTo>
                    <a:pt x="2048" y="4373"/>
                  </a:lnTo>
                  <a:lnTo>
                    <a:pt x="1996" y="4295"/>
                  </a:lnTo>
                  <a:lnTo>
                    <a:pt x="1944" y="4217"/>
                  </a:lnTo>
                  <a:lnTo>
                    <a:pt x="1894" y="4141"/>
                  </a:lnTo>
                  <a:lnTo>
                    <a:pt x="1845" y="4062"/>
                  </a:lnTo>
                  <a:lnTo>
                    <a:pt x="1795" y="3983"/>
                  </a:lnTo>
                  <a:lnTo>
                    <a:pt x="1747" y="3903"/>
                  </a:lnTo>
                  <a:lnTo>
                    <a:pt x="1700" y="3823"/>
                  </a:lnTo>
                  <a:lnTo>
                    <a:pt x="1654" y="3742"/>
                  </a:lnTo>
                  <a:lnTo>
                    <a:pt x="1609" y="3661"/>
                  </a:lnTo>
                  <a:lnTo>
                    <a:pt x="1565" y="3580"/>
                  </a:lnTo>
                  <a:lnTo>
                    <a:pt x="1522" y="3496"/>
                  </a:lnTo>
                  <a:lnTo>
                    <a:pt x="1481" y="3413"/>
                  </a:lnTo>
                  <a:lnTo>
                    <a:pt x="1439" y="3330"/>
                  </a:lnTo>
                  <a:lnTo>
                    <a:pt x="1399" y="3245"/>
                  </a:lnTo>
                  <a:lnTo>
                    <a:pt x="1360" y="3161"/>
                  </a:lnTo>
                  <a:lnTo>
                    <a:pt x="1323" y="3075"/>
                  </a:lnTo>
                  <a:lnTo>
                    <a:pt x="1285" y="2989"/>
                  </a:lnTo>
                  <a:lnTo>
                    <a:pt x="1248" y="2902"/>
                  </a:lnTo>
                  <a:lnTo>
                    <a:pt x="1215" y="2815"/>
                  </a:lnTo>
                  <a:lnTo>
                    <a:pt x="1180" y="2728"/>
                  </a:lnTo>
                  <a:lnTo>
                    <a:pt x="1147" y="2640"/>
                  </a:lnTo>
                  <a:lnTo>
                    <a:pt x="1115" y="2551"/>
                  </a:lnTo>
                  <a:lnTo>
                    <a:pt x="1084" y="2462"/>
                  </a:lnTo>
                  <a:lnTo>
                    <a:pt x="1055" y="2373"/>
                  </a:lnTo>
                  <a:lnTo>
                    <a:pt x="1026" y="2283"/>
                  </a:lnTo>
                  <a:lnTo>
                    <a:pt x="998" y="2192"/>
                  </a:lnTo>
                  <a:lnTo>
                    <a:pt x="972" y="2101"/>
                  </a:lnTo>
                  <a:lnTo>
                    <a:pt x="947" y="2010"/>
                  </a:lnTo>
                  <a:lnTo>
                    <a:pt x="922" y="1919"/>
                  </a:lnTo>
                  <a:lnTo>
                    <a:pt x="899" y="1827"/>
                  </a:lnTo>
                  <a:lnTo>
                    <a:pt x="877" y="1735"/>
                  </a:lnTo>
                  <a:lnTo>
                    <a:pt x="856" y="1641"/>
                  </a:lnTo>
                  <a:lnTo>
                    <a:pt x="836" y="1548"/>
                  </a:lnTo>
                  <a:lnTo>
                    <a:pt x="817" y="1453"/>
                  </a:lnTo>
                  <a:lnTo>
                    <a:pt x="799" y="1359"/>
                  </a:lnTo>
                  <a:lnTo>
                    <a:pt x="783" y="1265"/>
                  </a:lnTo>
                  <a:lnTo>
                    <a:pt x="769" y="1170"/>
                  </a:lnTo>
                  <a:lnTo>
                    <a:pt x="754" y="1075"/>
                  </a:lnTo>
                  <a:lnTo>
                    <a:pt x="741" y="978"/>
                  </a:lnTo>
                  <a:lnTo>
                    <a:pt x="729" y="882"/>
                  </a:lnTo>
                  <a:lnTo>
                    <a:pt x="719" y="786"/>
                  </a:lnTo>
                  <a:lnTo>
                    <a:pt x="710" y="689"/>
                  </a:lnTo>
                  <a:lnTo>
                    <a:pt x="702" y="591"/>
                  </a:lnTo>
                  <a:lnTo>
                    <a:pt x="695" y="493"/>
                  </a:lnTo>
                  <a:lnTo>
                    <a:pt x="690" y="397"/>
                  </a:lnTo>
                  <a:lnTo>
                    <a:pt x="684" y="298"/>
                  </a:lnTo>
                  <a:lnTo>
                    <a:pt x="681" y="199"/>
                  </a:lnTo>
                  <a:lnTo>
                    <a:pt x="680" y="99"/>
                  </a:lnTo>
                  <a:lnTo>
                    <a:pt x="680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2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2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2" y="1479"/>
                  </a:lnTo>
                  <a:lnTo>
                    <a:pt x="151" y="1581"/>
                  </a:lnTo>
                  <a:lnTo>
                    <a:pt x="172" y="1683"/>
                  </a:lnTo>
                  <a:lnTo>
                    <a:pt x="193" y="1784"/>
                  </a:lnTo>
                  <a:lnTo>
                    <a:pt x="216" y="1886"/>
                  </a:lnTo>
                  <a:lnTo>
                    <a:pt x="240" y="1987"/>
                  </a:lnTo>
                  <a:lnTo>
                    <a:pt x="266" y="2086"/>
                  </a:lnTo>
                  <a:lnTo>
                    <a:pt x="291" y="2188"/>
                  </a:lnTo>
                  <a:lnTo>
                    <a:pt x="319" y="2287"/>
                  </a:lnTo>
                  <a:lnTo>
                    <a:pt x="347" y="2387"/>
                  </a:lnTo>
                  <a:lnTo>
                    <a:pt x="378" y="2485"/>
                  </a:lnTo>
                  <a:lnTo>
                    <a:pt x="409" y="2582"/>
                  </a:lnTo>
                  <a:lnTo>
                    <a:pt x="442" y="2680"/>
                  </a:lnTo>
                  <a:lnTo>
                    <a:pt x="475" y="2777"/>
                  </a:lnTo>
                  <a:lnTo>
                    <a:pt x="510" y="2873"/>
                  </a:lnTo>
                  <a:lnTo>
                    <a:pt x="545" y="2970"/>
                  </a:lnTo>
                  <a:lnTo>
                    <a:pt x="583" y="3065"/>
                  </a:lnTo>
                  <a:lnTo>
                    <a:pt x="622" y="3160"/>
                  </a:lnTo>
                  <a:lnTo>
                    <a:pt x="660" y="3252"/>
                  </a:lnTo>
                  <a:lnTo>
                    <a:pt x="701" y="3346"/>
                  </a:lnTo>
                  <a:lnTo>
                    <a:pt x="742" y="3439"/>
                  </a:lnTo>
                  <a:lnTo>
                    <a:pt x="785" y="3533"/>
                  </a:lnTo>
                  <a:lnTo>
                    <a:pt x="829" y="3624"/>
                  </a:lnTo>
                  <a:lnTo>
                    <a:pt x="873" y="3716"/>
                  </a:lnTo>
                  <a:lnTo>
                    <a:pt x="919" y="3807"/>
                  </a:lnTo>
                  <a:lnTo>
                    <a:pt x="966" y="3896"/>
                  </a:lnTo>
                  <a:lnTo>
                    <a:pt x="1014" y="3985"/>
                  </a:lnTo>
                  <a:lnTo>
                    <a:pt x="1062" y="4074"/>
                  </a:lnTo>
                  <a:lnTo>
                    <a:pt x="1113" y="4161"/>
                  </a:lnTo>
                  <a:lnTo>
                    <a:pt x="1164" y="4248"/>
                  </a:lnTo>
                  <a:lnTo>
                    <a:pt x="1216" y="4336"/>
                  </a:lnTo>
                  <a:lnTo>
                    <a:pt x="1268" y="4421"/>
                  </a:lnTo>
                  <a:lnTo>
                    <a:pt x="1323" y="4507"/>
                  </a:lnTo>
                  <a:lnTo>
                    <a:pt x="1378" y="4591"/>
                  </a:lnTo>
                  <a:lnTo>
                    <a:pt x="1434" y="4675"/>
                  </a:lnTo>
                  <a:lnTo>
                    <a:pt x="1490" y="4758"/>
                  </a:lnTo>
                  <a:lnTo>
                    <a:pt x="1549" y="4841"/>
                  </a:lnTo>
                  <a:lnTo>
                    <a:pt x="1608" y="4921"/>
                  </a:lnTo>
                  <a:lnTo>
                    <a:pt x="1668" y="5003"/>
                  </a:lnTo>
                  <a:lnTo>
                    <a:pt x="1728" y="5083"/>
                  </a:lnTo>
                  <a:lnTo>
                    <a:pt x="1789" y="5163"/>
                  </a:lnTo>
                  <a:lnTo>
                    <a:pt x="1852" y="5241"/>
                  </a:lnTo>
                  <a:lnTo>
                    <a:pt x="1916" y="5320"/>
                  </a:lnTo>
                  <a:lnTo>
                    <a:pt x="1981" y="5397"/>
                  </a:lnTo>
                  <a:lnTo>
                    <a:pt x="2046" y="5473"/>
                  </a:lnTo>
                  <a:lnTo>
                    <a:pt x="2113" y="5549"/>
                  </a:lnTo>
                  <a:lnTo>
                    <a:pt x="2180" y="5623"/>
                  </a:lnTo>
                  <a:lnTo>
                    <a:pt x="2248" y="5698"/>
                  </a:lnTo>
                  <a:lnTo>
                    <a:pt x="2317" y="5770"/>
                  </a:lnTo>
                  <a:lnTo>
                    <a:pt x="2386" y="5842"/>
                  </a:lnTo>
                  <a:lnTo>
                    <a:pt x="2457" y="5914"/>
                  </a:lnTo>
                  <a:lnTo>
                    <a:pt x="2529" y="5985"/>
                  </a:lnTo>
                  <a:lnTo>
                    <a:pt x="2601" y="6054"/>
                  </a:lnTo>
                  <a:lnTo>
                    <a:pt x="2673" y="6123"/>
                  </a:lnTo>
                  <a:lnTo>
                    <a:pt x="2748" y="6191"/>
                  </a:lnTo>
                  <a:lnTo>
                    <a:pt x="2822" y="6258"/>
                  </a:lnTo>
                  <a:lnTo>
                    <a:pt x="2898" y="6325"/>
                  </a:lnTo>
                  <a:lnTo>
                    <a:pt x="2974" y="6390"/>
                  </a:lnTo>
                  <a:lnTo>
                    <a:pt x="3051" y="6455"/>
                  </a:lnTo>
                  <a:lnTo>
                    <a:pt x="3130" y="6519"/>
                  </a:lnTo>
                  <a:lnTo>
                    <a:pt x="3208" y="6582"/>
                  </a:lnTo>
                  <a:lnTo>
                    <a:pt x="3288" y="6643"/>
                  </a:lnTo>
                  <a:lnTo>
                    <a:pt x="3368" y="6703"/>
                  </a:lnTo>
                  <a:lnTo>
                    <a:pt x="3450" y="6763"/>
                  </a:lnTo>
                  <a:lnTo>
                    <a:pt x="3530" y="6822"/>
                  </a:lnTo>
                  <a:lnTo>
                    <a:pt x="3613" y="6881"/>
                  </a:lnTo>
                  <a:lnTo>
                    <a:pt x="3696" y="6937"/>
                  </a:lnTo>
                  <a:lnTo>
                    <a:pt x="3780" y="6993"/>
                  </a:lnTo>
                  <a:lnTo>
                    <a:pt x="3864" y="7048"/>
                  </a:lnTo>
                  <a:lnTo>
                    <a:pt x="3950" y="7103"/>
                  </a:lnTo>
                  <a:lnTo>
                    <a:pt x="4035" y="7155"/>
                  </a:lnTo>
                  <a:lnTo>
                    <a:pt x="4123" y="7207"/>
                  </a:lnTo>
                  <a:lnTo>
                    <a:pt x="4210" y="7258"/>
                  </a:lnTo>
                  <a:lnTo>
                    <a:pt x="4297" y="7309"/>
                  </a:lnTo>
                  <a:lnTo>
                    <a:pt x="4386" y="7357"/>
                  </a:lnTo>
                  <a:lnTo>
                    <a:pt x="4475" y="7405"/>
                  </a:lnTo>
                  <a:lnTo>
                    <a:pt x="4564" y="7452"/>
                  </a:lnTo>
                  <a:lnTo>
                    <a:pt x="4655" y="7498"/>
                  </a:lnTo>
                  <a:lnTo>
                    <a:pt x="4747" y="7542"/>
                  </a:lnTo>
                  <a:lnTo>
                    <a:pt x="4838" y="7586"/>
                  </a:lnTo>
                  <a:lnTo>
                    <a:pt x="4932" y="7629"/>
                  </a:lnTo>
                  <a:lnTo>
                    <a:pt x="5025" y="7670"/>
                  </a:lnTo>
                  <a:lnTo>
                    <a:pt x="5119" y="7711"/>
                  </a:lnTo>
                  <a:lnTo>
                    <a:pt x="5211" y="7749"/>
                  </a:lnTo>
                  <a:lnTo>
                    <a:pt x="5306" y="7788"/>
                  </a:lnTo>
                  <a:lnTo>
                    <a:pt x="5401" y="7826"/>
                  </a:lnTo>
                  <a:lnTo>
                    <a:pt x="5498" y="7861"/>
                  </a:lnTo>
                  <a:lnTo>
                    <a:pt x="5594" y="7896"/>
                  </a:lnTo>
                  <a:lnTo>
                    <a:pt x="5691" y="7929"/>
                  </a:lnTo>
                  <a:lnTo>
                    <a:pt x="5789" y="7962"/>
                  </a:lnTo>
                  <a:lnTo>
                    <a:pt x="5886" y="7993"/>
                  </a:lnTo>
                  <a:lnTo>
                    <a:pt x="5984" y="8024"/>
                  </a:lnTo>
                  <a:lnTo>
                    <a:pt x="6084" y="8052"/>
                  </a:lnTo>
                  <a:lnTo>
                    <a:pt x="6183" y="8080"/>
                  </a:lnTo>
                  <a:lnTo>
                    <a:pt x="6285" y="8105"/>
                  </a:lnTo>
                  <a:lnTo>
                    <a:pt x="6384" y="8131"/>
                  </a:lnTo>
                  <a:lnTo>
                    <a:pt x="6485" y="8155"/>
                  </a:lnTo>
                  <a:lnTo>
                    <a:pt x="6587" y="8178"/>
                  </a:lnTo>
                  <a:lnTo>
                    <a:pt x="6688" y="8199"/>
                  </a:lnTo>
                  <a:lnTo>
                    <a:pt x="6790" y="8220"/>
                  </a:lnTo>
                  <a:lnTo>
                    <a:pt x="6892" y="8239"/>
                  </a:lnTo>
                  <a:lnTo>
                    <a:pt x="6997" y="8257"/>
                  </a:lnTo>
                  <a:lnTo>
                    <a:pt x="7100" y="8275"/>
                  </a:lnTo>
                  <a:lnTo>
                    <a:pt x="7204" y="8289"/>
                  </a:lnTo>
                  <a:lnTo>
                    <a:pt x="7308" y="8302"/>
                  </a:lnTo>
                  <a:lnTo>
                    <a:pt x="7413" y="8316"/>
                  </a:lnTo>
                  <a:lnTo>
                    <a:pt x="7518" y="8327"/>
                  </a:lnTo>
                  <a:lnTo>
                    <a:pt x="7624" y="8338"/>
                  </a:lnTo>
                  <a:lnTo>
                    <a:pt x="7730" y="8346"/>
                  </a:lnTo>
                  <a:lnTo>
                    <a:pt x="7835" y="8353"/>
                  </a:lnTo>
                  <a:lnTo>
                    <a:pt x="7943" y="8359"/>
                  </a:lnTo>
                  <a:lnTo>
                    <a:pt x="8050" y="8364"/>
                  </a:lnTo>
                  <a:lnTo>
                    <a:pt x="8156" y="8367"/>
                  </a:lnTo>
                  <a:lnTo>
                    <a:pt x="8263" y="8370"/>
                  </a:lnTo>
                  <a:lnTo>
                    <a:pt x="8371" y="8371"/>
                  </a:lnTo>
                  <a:lnTo>
                    <a:pt x="8371" y="8371"/>
                  </a:lnTo>
                  <a:lnTo>
                    <a:pt x="8371" y="769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7720" y="6039000"/>
              <a:ext cx="603360" cy="6030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7691" y="0"/>
                  </a:moveTo>
                  <a:lnTo>
                    <a:pt x="7691" y="0"/>
                  </a:lnTo>
                  <a:lnTo>
                    <a:pt x="7690" y="99"/>
                  </a:lnTo>
                  <a:lnTo>
                    <a:pt x="7690" y="199"/>
                  </a:lnTo>
                  <a:lnTo>
                    <a:pt x="7687" y="298"/>
                  </a:lnTo>
                  <a:lnTo>
                    <a:pt x="7681" y="397"/>
                  </a:lnTo>
                  <a:lnTo>
                    <a:pt x="7676" y="493"/>
                  </a:lnTo>
                  <a:lnTo>
                    <a:pt x="7669" y="591"/>
                  </a:lnTo>
                  <a:lnTo>
                    <a:pt x="7661" y="689"/>
                  </a:lnTo>
                  <a:lnTo>
                    <a:pt x="7652" y="785"/>
                  </a:lnTo>
                  <a:lnTo>
                    <a:pt x="7641" y="882"/>
                  </a:lnTo>
                  <a:lnTo>
                    <a:pt x="7630" y="978"/>
                  </a:lnTo>
                  <a:lnTo>
                    <a:pt x="7617" y="1075"/>
                  </a:lnTo>
                  <a:lnTo>
                    <a:pt x="7602" y="1170"/>
                  </a:lnTo>
                  <a:lnTo>
                    <a:pt x="7587" y="1264"/>
                  </a:lnTo>
                  <a:lnTo>
                    <a:pt x="7571" y="1359"/>
                  </a:lnTo>
                  <a:lnTo>
                    <a:pt x="7554" y="1453"/>
                  </a:lnTo>
                  <a:lnTo>
                    <a:pt x="7535" y="1548"/>
                  </a:lnTo>
                  <a:lnTo>
                    <a:pt x="7514" y="1641"/>
                  </a:lnTo>
                  <a:lnTo>
                    <a:pt x="7494" y="1735"/>
                  </a:lnTo>
                  <a:lnTo>
                    <a:pt x="7472" y="1827"/>
                  </a:lnTo>
                  <a:lnTo>
                    <a:pt x="7449" y="1919"/>
                  </a:lnTo>
                  <a:lnTo>
                    <a:pt x="7424" y="2010"/>
                  </a:lnTo>
                  <a:lnTo>
                    <a:pt x="7399" y="2101"/>
                  </a:lnTo>
                  <a:lnTo>
                    <a:pt x="7372" y="2192"/>
                  </a:lnTo>
                  <a:lnTo>
                    <a:pt x="7345" y="2283"/>
                  </a:lnTo>
                  <a:lnTo>
                    <a:pt x="7316" y="2373"/>
                  </a:lnTo>
                  <a:lnTo>
                    <a:pt x="7286" y="2462"/>
                  </a:lnTo>
                  <a:lnTo>
                    <a:pt x="7256" y="2551"/>
                  </a:lnTo>
                  <a:lnTo>
                    <a:pt x="7223" y="2640"/>
                  </a:lnTo>
                  <a:lnTo>
                    <a:pt x="7191" y="2728"/>
                  </a:lnTo>
                  <a:lnTo>
                    <a:pt x="7156" y="2815"/>
                  </a:lnTo>
                  <a:lnTo>
                    <a:pt x="7123" y="2902"/>
                  </a:lnTo>
                  <a:lnTo>
                    <a:pt x="7086" y="2989"/>
                  </a:lnTo>
                  <a:lnTo>
                    <a:pt x="7048" y="3075"/>
                  </a:lnTo>
                  <a:lnTo>
                    <a:pt x="7010" y="3161"/>
                  </a:lnTo>
                  <a:lnTo>
                    <a:pt x="6972" y="3245"/>
                  </a:lnTo>
                  <a:lnTo>
                    <a:pt x="6931" y="3330"/>
                  </a:lnTo>
                  <a:lnTo>
                    <a:pt x="6889" y="3413"/>
                  </a:lnTo>
                  <a:lnTo>
                    <a:pt x="6849" y="3497"/>
                  </a:lnTo>
                  <a:lnTo>
                    <a:pt x="6805" y="3580"/>
                  </a:lnTo>
                  <a:lnTo>
                    <a:pt x="6762" y="3661"/>
                  </a:lnTo>
                  <a:lnTo>
                    <a:pt x="6716" y="3742"/>
                  </a:lnTo>
                  <a:lnTo>
                    <a:pt x="6671" y="3823"/>
                  </a:lnTo>
                  <a:lnTo>
                    <a:pt x="6624" y="3903"/>
                  </a:lnTo>
                  <a:lnTo>
                    <a:pt x="6575" y="3983"/>
                  </a:lnTo>
                  <a:lnTo>
                    <a:pt x="6526" y="4062"/>
                  </a:lnTo>
                  <a:lnTo>
                    <a:pt x="6477" y="4141"/>
                  </a:lnTo>
                  <a:lnTo>
                    <a:pt x="6427" y="4219"/>
                  </a:lnTo>
                  <a:lnTo>
                    <a:pt x="6375" y="4295"/>
                  </a:lnTo>
                  <a:lnTo>
                    <a:pt x="6322" y="4373"/>
                  </a:lnTo>
                  <a:lnTo>
                    <a:pt x="6270" y="4447"/>
                  </a:lnTo>
                  <a:lnTo>
                    <a:pt x="6215" y="4523"/>
                  </a:lnTo>
                  <a:lnTo>
                    <a:pt x="6161" y="4597"/>
                  </a:lnTo>
                  <a:lnTo>
                    <a:pt x="6104" y="4671"/>
                  </a:lnTo>
                  <a:lnTo>
                    <a:pt x="6047" y="4743"/>
                  </a:lnTo>
                  <a:lnTo>
                    <a:pt x="5989" y="4816"/>
                  </a:lnTo>
                  <a:lnTo>
                    <a:pt x="5932" y="4887"/>
                  </a:lnTo>
                  <a:lnTo>
                    <a:pt x="5872" y="4959"/>
                  </a:lnTo>
                  <a:lnTo>
                    <a:pt x="5813" y="5029"/>
                  </a:lnTo>
                  <a:lnTo>
                    <a:pt x="5751" y="5098"/>
                  </a:lnTo>
                  <a:lnTo>
                    <a:pt x="5689" y="5167"/>
                  </a:lnTo>
                  <a:lnTo>
                    <a:pt x="5626" y="5235"/>
                  </a:lnTo>
                  <a:lnTo>
                    <a:pt x="5564" y="5303"/>
                  </a:lnTo>
                  <a:lnTo>
                    <a:pt x="5499" y="5369"/>
                  </a:lnTo>
                  <a:lnTo>
                    <a:pt x="5434" y="5434"/>
                  </a:lnTo>
                  <a:lnTo>
                    <a:pt x="5369" y="5499"/>
                  </a:lnTo>
                  <a:lnTo>
                    <a:pt x="5302" y="5564"/>
                  </a:lnTo>
                  <a:lnTo>
                    <a:pt x="5235" y="5627"/>
                  </a:lnTo>
                  <a:lnTo>
                    <a:pt x="5167" y="5689"/>
                  </a:lnTo>
                  <a:lnTo>
                    <a:pt x="5099" y="5752"/>
                  </a:lnTo>
                  <a:lnTo>
                    <a:pt x="5029" y="5813"/>
                  </a:lnTo>
                  <a:lnTo>
                    <a:pt x="4958" y="5872"/>
                  </a:lnTo>
                  <a:lnTo>
                    <a:pt x="4887" y="5932"/>
                  </a:lnTo>
                  <a:lnTo>
                    <a:pt x="4816" y="5990"/>
                  </a:lnTo>
                  <a:lnTo>
                    <a:pt x="4743" y="6048"/>
                  </a:lnTo>
                  <a:lnTo>
                    <a:pt x="4671" y="6105"/>
                  </a:lnTo>
                  <a:lnTo>
                    <a:pt x="4597" y="6161"/>
                  </a:lnTo>
                  <a:lnTo>
                    <a:pt x="4522" y="6217"/>
                  </a:lnTo>
                  <a:lnTo>
                    <a:pt x="4447" y="6270"/>
                  </a:lnTo>
                  <a:lnTo>
                    <a:pt x="4372" y="6323"/>
                  </a:lnTo>
                  <a:lnTo>
                    <a:pt x="4295" y="6375"/>
                  </a:lnTo>
                  <a:lnTo>
                    <a:pt x="4218" y="6427"/>
                  </a:lnTo>
                  <a:lnTo>
                    <a:pt x="4139" y="6477"/>
                  </a:lnTo>
                  <a:lnTo>
                    <a:pt x="4062" y="6526"/>
                  </a:lnTo>
                  <a:lnTo>
                    <a:pt x="3983" y="6576"/>
                  </a:lnTo>
                  <a:lnTo>
                    <a:pt x="3903" y="6624"/>
                  </a:lnTo>
                  <a:lnTo>
                    <a:pt x="3823" y="6671"/>
                  </a:lnTo>
                  <a:lnTo>
                    <a:pt x="3742" y="6717"/>
                  </a:lnTo>
                  <a:lnTo>
                    <a:pt x="3660" y="6762"/>
                  </a:lnTo>
                  <a:lnTo>
                    <a:pt x="3579" y="6806"/>
                  </a:lnTo>
                  <a:lnTo>
                    <a:pt x="3497" y="6849"/>
                  </a:lnTo>
                  <a:lnTo>
                    <a:pt x="3412" y="6890"/>
                  </a:lnTo>
                  <a:lnTo>
                    <a:pt x="3329" y="6932"/>
                  </a:lnTo>
                  <a:lnTo>
                    <a:pt x="3245" y="6972"/>
                  </a:lnTo>
                  <a:lnTo>
                    <a:pt x="3160" y="7011"/>
                  </a:lnTo>
                  <a:lnTo>
                    <a:pt x="3075" y="7048"/>
                  </a:lnTo>
                  <a:lnTo>
                    <a:pt x="2989" y="7086"/>
                  </a:lnTo>
                  <a:lnTo>
                    <a:pt x="2902" y="7123"/>
                  </a:lnTo>
                  <a:lnTo>
                    <a:pt x="2815" y="7156"/>
                  </a:lnTo>
                  <a:lnTo>
                    <a:pt x="2727" y="7191"/>
                  </a:lnTo>
                  <a:lnTo>
                    <a:pt x="2639" y="7224"/>
                  </a:lnTo>
                  <a:lnTo>
                    <a:pt x="2551" y="7256"/>
                  </a:lnTo>
                  <a:lnTo>
                    <a:pt x="2462" y="7287"/>
                  </a:lnTo>
                  <a:lnTo>
                    <a:pt x="2372" y="7316"/>
                  </a:lnTo>
                  <a:lnTo>
                    <a:pt x="2282" y="7345"/>
                  </a:lnTo>
                  <a:lnTo>
                    <a:pt x="2192" y="7373"/>
                  </a:lnTo>
                  <a:lnTo>
                    <a:pt x="2101" y="7399"/>
                  </a:lnTo>
                  <a:lnTo>
                    <a:pt x="2010" y="7424"/>
                  </a:lnTo>
                  <a:lnTo>
                    <a:pt x="1919" y="7449"/>
                  </a:lnTo>
                  <a:lnTo>
                    <a:pt x="1827" y="7472"/>
                  </a:lnTo>
                  <a:lnTo>
                    <a:pt x="1734" y="7494"/>
                  </a:lnTo>
                  <a:lnTo>
                    <a:pt x="1641" y="7515"/>
                  </a:lnTo>
                  <a:lnTo>
                    <a:pt x="1548" y="7535"/>
                  </a:lnTo>
                  <a:lnTo>
                    <a:pt x="1453" y="7554"/>
                  </a:lnTo>
                  <a:lnTo>
                    <a:pt x="1358" y="7572"/>
                  </a:lnTo>
                  <a:lnTo>
                    <a:pt x="1265" y="7588"/>
                  </a:lnTo>
                  <a:lnTo>
                    <a:pt x="1170" y="7602"/>
                  </a:lnTo>
                  <a:lnTo>
                    <a:pt x="1074" y="7617"/>
                  </a:lnTo>
                  <a:lnTo>
                    <a:pt x="977" y="7630"/>
                  </a:lnTo>
                  <a:lnTo>
                    <a:pt x="881" y="7642"/>
                  </a:lnTo>
                  <a:lnTo>
                    <a:pt x="786" y="7652"/>
                  </a:lnTo>
                  <a:lnTo>
                    <a:pt x="689" y="7661"/>
                  </a:lnTo>
                  <a:lnTo>
                    <a:pt x="591" y="7669"/>
                  </a:lnTo>
                  <a:lnTo>
                    <a:pt x="493" y="7676"/>
                  </a:lnTo>
                  <a:lnTo>
                    <a:pt x="397" y="7681"/>
                  </a:lnTo>
                  <a:lnTo>
                    <a:pt x="297" y="7687"/>
                  </a:lnTo>
                  <a:lnTo>
                    <a:pt x="199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8" y="8370"/>
                  </a:lnTo>
                  <a:lnTo>
                    <a:pt x="215" y="8367"/>
                  </a:lnTo>
                  <a:lnTo>
                    <a:pt x="321" y="8364"/>
                  </a:lnTo>
                  <a:lnTo>
                    <a:pt x="428" y="8359"/>
                  </a:lnTo>
                  <a:lnTo>
                    <a:pt x="536" y="8353"/>
                  </a:lnTo>
                  <a:lnTo>
                    <a:pt x="641" y="8346"/>
                  </a:lnTo>
                  <a:lnTo>
                    <a:pt x="747" y="8338"/>
                  </a:lnTo>
                  <a:lnTo>
                    <a:pt x="852" y="8327"/>
                  </a:lnTo>
                  <a:lnTo>
                    <a:pt x="958" y="8316"/>
                  </a:lnTo>
                  <a:lnTo>
                    <a:pt x="1063" y="8302"/>
                  </a:lnTo>
                  <a:lnTo>
                    <a:pt x="1167" y="8289"/>
                  </a:lnTo>
                  <a:lnTo>
                    <a:pt x="1270" y="8275"/>
                  </a:lnTo>
                  <a:lnTo>
                    <a:pt x="1374" y="8257"/>
                  </a:lnTo>
                  <a:lnTo>
                    <a:pt x="1479" y="8239"/>
                  </a:lnTo>
                  <a:lnTo>
                    <a:pt x="1580" y="8220"/>
                  </a:lnTo>
                  <a:lnTo>
                    <a:pt x="1683" y="8199"/>
                  </a:lnTo>
                  <a:lnTo>
                    <a:pt x="1784" y="8178"/>
                  </a:lnTo>
                  <a:lnTo>
                    <a:pt x="1886" y="8155"/>
                  </a:lnTo>
                  <a:lnTo>
                    <a:pt x="1986" y="8131"/>
                  </a:lnTo>
                  <a:lnTo>
                    <a:pt x="2086" y="8105"/>
                  </a:lnTo>
                  <a:lnTo>
                    <a:pt x="2188" y="8080"/>
                  </a:lnTo>
                  <a:lnTo>
                    <a:pt x="2287" y="8052"/>
                  </a:lnTo>
                  <a:lnTo>
                    <a:pt x="2386" y="8024"/>
                  </a:lnTo>
                  <a:lnTo>
                    <a:pt x="2484" y="7993"/>
                  </a:lnTo>
                  <a:lnTo>
                    <a:pt x="2582" y="7962"/>
                  </a:lnTo>
                  <a:lnTo>
                    <a:pt x="2680" y="7929"/>
                  </a:lnTo>
                  <a:lnTo>
                    <a:pt x="2777" y="7896"/>
                  </a:lnTo>
                  <a:lnTo>
                    <a:pt x="2873" y="7861"/>
                  </a:lnTo>
                  <a:lnTo>
                    <a:pt x="2969" y="7826"/>
                  </a:lnTo>
                  <a:lnTo>
                    <a:pt x="3065" y="7788"/>
                  </a:lnTo>
                  <a:lnTo>
                    <a:pt x="3159" y="7749"/>
                  </a:lnTo>
                  <a:lnTo>
                    <a:pt x="3252" y="7711"/>
                  </a:lnTo>
                  <a:lnTo>
                    <a:pt x="3346" y="7670"/>
                  </a:lnTo>
                  <a:lnTo>
                    <a:pt x="3439" y="7629"/>
                  </a:lnTo>
                  <a:lnTo>
                    <a:pt x="3532" y="7586"/>
                  </a:lnTo>
                  <a:lnTo>
                    <a:pt x="3624" y="7542"/>
                  </a:lnTo>
                  <a:lnTo>
                    <a:pt x="3715" y="7498"/>
                  </a:lnTo>
                  <a:lnTo>
                    <a:pt x="3805" y="7452"/>
                  </a:lnTo>
                  <a:lnTo>
                    <a:pt x="3895" y="7405"/>
                  </a:lnTo>
                  <a:lnTo>
                    <a:pt x="3985" y="7357"/>
                  </a:lnTo>
                  <a:lnTo>
                    <a:pt x="4074" y="7309"/>
                  </a:lnTo>
                  <a:lnTo>
                    <a:pt x="4160" y="7258"/>
                  </a:lnTo>
                  <a:lnTo>
                    <a:pt x="4248" y="7207"/>
                  </a:lnTo>
                  <a:lnTo>
                    <a:pt x="4335" y="7155"/>
                  </a:lnTo>
                  <a:lnTo>
                    <a:pt x="4421" y="7103"/>
                  </a:lnTo>
                  <a:lnTo>
                    <a:pt x="4507" y="7048"/>
                  </a:lnTo>
                  <a:lnTo>
                    <a:pt x="4590" y="6993"/>
                  </a:lnTo>
                  <a:lnTo>
                    <a:pt x="4675" y="6937"/>
                  </a:lnTo>
                  <a:lnTo>
                    <a:pt x="4757" y="6881"/>
                  </a:lnTo>
                  <a:lnTo>
                    <a:pt x="4841" y="6822"/>
                  </a:lnTo>
                  <a:lnTo>
                    <a:pt x="4921" y="6763"/>
                  </a:lnTo>
                  <a:lnTo>
                    <a:pt x="5003" y="6703"/>
                  </a:lnTo>
                  <a:lnTo>
                    <a:pt x="5082" y="6643"/>
                  </a:lnTo>
                  <a:lnTo>
                    <a:pt x="5163" y="6582"/>
                  </a:lnTo>
                  <a:lnTo>
                    <a:pt x="5241" y="6519"/>
                  </a:lnTo>
                  <a:lnTo>
                    <a:pt x="5320" y="6455"/>
                  </a:lnTo>
                  <a:lnTo>
                    <a:pt x="5396" y="6390"/>
                  </a:lnTo>
                  <a:lnTo>
                    <a:pt x="5473" y="6325"/>
                  </a:lnTo>
                  <a:lnTo>
                    <a:pt x="5548" y="6258"/>
                  </a:lnTo>
                  <a:lnTo>
                    <a:pt x="5623" y="6191"/>
                  </a:lnTo>
                  <a:lnTo>
                    <a:pt x="5696" y="6123"/>
                  </a:lnTo>
                  <a:lnTo>
                    <a:pt x="5770" y="6054"/>
                  </a:lnTo>
                  <a:lnTo>
                    <a:pt x="5842" y="5985"/>
                  </a:lnTo>
                  <a:lnTo>
                    <a:pt x="5914" y="5914"/>
                  </a:lnTo>
                  <a:lnTo>
                    <a:pt x="5985" y="5842"/>
                  </a:lnTo>
                  <a:lnTo>
                    <a:pt x="6054" y="5770"/>
                  </a:lnTo>
                  <a:lnTo>
                    <a:pt x="6123" y="5698"/>
                  </a:lnTo>
                  <a:lnTo>
                    <a:pt x="6191" y="5623"/>
                  </a:lnTo>
                  <a:lnTo>
                    <a:pt x="6258" y="5549"/>
                  </a:lnTo>
                  <a:lnTo>
                    <a:pt x="6324" y="5473"/>
                  </a:lnTo>
                  <a:lnTo>
                    <a:pt x="6390" y="5397"/>
                  </a:lnTo>
                  <a:lnTo>
                    <a:pt x="6455" y="5320"/>
                  </a:lnTo>
                  <a:lnTo>
                    <a:pt x="6518" y="5241"/>
                  </a:lnTo>
                  <a:lnTo>
                    <a:pt x="6581" y="5163"/>
                  </a:lnTo>
                  <a:lnTo>
                    <a:pt x="6643" y="5083"/>
                  </a:lnTo>
                  <a:lnTo>
                    <a:pt x="6703" y="5003"/>
                  </a:lnTo>
                  <a:lnTo>
                    <a:pt x="6763" y="4921"/>
                  </a:lnTo>
                  <a:lnTo>
                    <a:pt x="6822" y="4841"/>
                  </a:lnTo>
                  <a:lnTo>
                    <a:pt x="6880" y="4758"/>
                  </a:lnTo>
                  <a:lnTo>
                    <a:pt x="6937" y="4675"/>
                  </a:lnTo>
                  <a:lnTo>
                    <a:pt x="6993" y="4590"/>
                  </a:lnTo>
                  <a:lnTo>
                    <a:pt x="7048" y="4507"/>
                  </a:lnTo>
                  <a:lnTo>
                    <a:pt x="7103" y="4421"/>
                  </a:lnTo>
                  <a:lnTo>
                    <a:pt x="7155" y="4336"/>
                  </a:lnTo>
                  <a:lnTo>
                    <a:pt x="7207" y="4248"/>
                  </a:lnTo>
                  <a:lnTo>
                    <a:pt x="7258" y="4161"/>
                  </a:lnTo>
                  <a:lnTo>
                    <a:pt x="7308" y="4074"/>
                  </a:lnTo>
                  <a:lnTo>
                    <a:pt x="7357" y="3985"/>
                  </a:lnTo>
                  <a:lnTo>
                    <a:pt x="7405" y="3896"/>
                  </a:lnTo>
                  <a:lnTo>
                    <a:pt x="7451" y="3805"/>
                  </a:lnTo>
                  <a:lnTo>
                    <a:pt x="7498" y="3716"/>
                  </a:lnTo>
                  <a:lnTo>
                    <a:pt x="7542" y="3624"/>
                  </a:lnTo>
                  <a:lnTo>
                    <a:pt x="7585" y="3533"/>
                  </a:lnTo>
                  <a:lnTo>
                    <a:pt x="7629" y="3439"/>
                  </a:lnTo>
                  <a:lnTo>
                    <a:pt x="7670" y="3346"/>
                  </a:lnTo>
                  <a:lnTo>
                    <a:pt x="7710" y="3252"/>
                  </a:lnTo>
                  <a:lnTo>
                    <a:pt x="7749" y="3160"/>
                  </a:lnTo>
                  <a:lnTo>
                    <a:pt x="7788" y="3065"/>
                  </a:lnTo>
                  <a:lnTo>
                    <a:pt x="7825" y="2970"/>
                  </a:lnTo>
                  <a:lnTo>
                    <a:pt x="7861" y="2873"/>
                  </a:lnTo>
                  <a:lnTo>
                    <a:pt x="7896" y="2777"/>
                  </a:lnTo>
                  <a:lnTo>
                    <a:pt x="7929" y="2680"/>
                  </a:lnTo>
                  <a:lnTo>
                    <a:pt x="7962" y="2582"/>
                  </a:lnTo>
                  <a:lnTo>
                    <a:pt x="7993" y="2485"/>
                  </a:lnTo>
                  <a:lnTo>
                    <a:pt x="8023" y="2387"/>
                  </a:lnTo>
                  <a:lnTo>
                    <a:pt x="8052" y="2287"/>
                  </a:lnTo>
                  <a:lnTo>
                    <a:pt x="8080" y="2188"/>
                  </a:lnTo>
                  <a:lnTo>
                    <a:pt x="8105" y="2086"/>
                  </a:lnTo>
                  <a:lnTo>
                    <a:pt x="8130" y="1987"/>
                  </a:lnTo>
                  <a:lnTo>
                    <a:pt x="8155" y="1886"/>
                  </a:lnTo>
                  <a:lnTo>
                    <a:pt x="8178" y="1784"/>
                  </a:lnTo>
                  <a:lnTo>
                    <a:pt x="8199" y="1683"/>
                  </a:lnTo>
                  <a:lnTo>
                    <a:pt x="8220" y="1581"/>
                  </a:lnTo>
                  <a:lnTo>
                    <a:pt x="8240" y="1479"/>
                  </a:lnTo>
                  <a:lnTo>
                    <a:pt x="8257" y="1376"/>
                  </a:lnTo>
                  <a:lnTo>
                    <a:pt x="8274" y="1271"/>
                  </a:lnTo>
                  <a:lnTo>
                    <a:pt x="8288" y="1167"/>
                  </a:lnTo>
                  <a:lnTo>
                    <a:pt x="8302" y="1063"/>
                  </a:lnTo>
                  <a:lnTo>
                    <a:pt x="8316" y="958"/>
                  </a:lnTo>
                  <a:lnTo>
                    <a:pt x="8327" y="854"/>
                  </a:lnTo>
                  <a:lnTo>
                    <a:pt x="8338" y="747"/>
                  </a:lnTo>
                  <a:lnTo>
                    <a:pt x="8346" y="641"/>
                  </a:lnTo>
                  <a:lnTo>
                    <a:pt x="8353" y="536"/>
                  </a:lnTo>
                  <a:lnTo>
                    <a:pt x="8359" y="428"/>
                  </a:lnTo>
                  <a:lnTo>
                    <a:pt x="8364" y="321"/>
                  </a:lnTo>
                  <a:lnTo>
                    <a:pt x="8367" y="215"/>
                  </a:lnTo>
                  <a:lnTo>
                    <a:pt x="8370" y="108"/>
                  </a:lnTo>
                  <a:lnTo>
                    <a:pt x="8371" y="0"/>
                  </a:lnTo>
                  <a:lnTo>
                    <a:pt x="8371" y="0"/>
                  </a:lnTo>
                  <a:lnTo>
                    <a:pt x="769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1040" y="5637240"/>
              <a:ext cx="309600" cy="860400"/>
            </a:xfrm>
            <a:custGeom>
              <a:avLst/>
              <a:gdLst/>
              <a:ahLst/>
              <a:rect l="l" t="t" r="r" b="b"/>
              <a:pathLst>
                <a:path w="4292" h="11931">
                  <a:moveTo>
                    <a:pt x="0" y="2806"/>
                  </a:moveTo>
                  <a:lnTo>
                    <a:pt x="145" y="9358"/>
                  </a:lnTo>
                  <a:lnTo>
                    <a:pt x="1884" y="11931"/>
                  </a:lnTo>
                  <a:lnTo>
                    <a:pt x="4051" y="9248"/>
                  </a:lnTo>
                  <a:lnTo>
                    <a:pt x="4046" y="9034"/>
                  </a:lnTo>
                  <a:lnTo>
                    <a:pt x="4044" y="8821"/>
                  </a:lnTo>
                  <a:lnTo>
                    <a:pt x="4043" y="8607"/>
                  </a:lnTo>
                  <a:lnTo>
                    <a:pt x="4045" y="8395"/>
                  </a:lnTo>
                  <a:lnTo>
                    <a:pt x="4047" y="8182"/>
                  </a:lnTo>
                  <a:lnTo>
                    <a:pt x="4051" y="7971"/>
                  </a:lnTo>
                  <a:lnTo>
                    <a:pt x="4058" y="7759"/>
                  </a:lnTo>
                  <a:lnTo>
                    <a:pt x="4065" y="7547"/>
                  </a:lnTo>
                  <a:lnTo>
                    <a:pt x="4072" y="7336"/>
                  </a:lnTo>
                  <a:lnTo>
                    <a:pt x="4082" y="7125"/>
                  </a:lnTo>
                  <a:lnTo>
                    <a:pt x="4091" y="6914"/>
                  </a:lnTo>
                  <a:lnTo>
                    <a:pt x="4102" y="6703"/>
                  </a:lnTo>
                  <a:lnTo>
                    <a:pt x="4124" y="6282"/>
                  </a:lnTo>
                  <a:lnTo>
                    <a:pt x="4147" y="5861"/>
                  </a:lnTo>
                  <a:lnTo>
                    <a:pt x="4171" y="5439"/>
                  </a:lnTo>
                  <a:lnTo>
                    <a:pt x="4193" y="5018"/>
                  </a:lnTo>
                  <a:lnTo>
                    <a:pt x="4203" y="4807"/>
                  </a:lnTo>
                  <a:lnTo>
                    <a:pt x="4213" y="4597"/>
                  </a:lnTo>
                  <a:lnTo>
                    <a:pt x="4222" y="4385"/>
                  </a:lnTo>
                  <a:lnTo>
                    <a:pt x="4229" y="4174"/>
                  </a:lnTo>
                  <a:lnTo>
                    <a:pt x="4237" y="3962"/>
                  </a:lnTo>
                  <a:lnTo>
                    <a:pt x="4242" y="3750"/>
                  </a:lnTo>
                  <a:lnTo>
                    <a:pt x="4246" y="3539"/>
                  </a:lnTo>
                  <a:lnTo>
                    <a:pt x="4249" y="3326"/>
                  </a:lnTo>
                  <a:lnTo>
                    <a:pt x="4250" y="3114"/>
                  </a:lnTo>
                  <a:lnTo>
                    <a:pt x="4250" y="2900"/>
                  </a:lnTo>
                  <a:lnTo>
                    <a:pt x="4248" y="2687"/>
                  </a:lnTo>
                  <a:lnTo>
                    <a:pt x="4243" y="2473"/>
                  </a:lnTo>
                  <a:lnTo>
                    <a:pt x="4264" y="2360"/>
                  </a:lnTo>
                  <a:lnTo>
                    <a:pt x="4279" y="2247"/>
                  </a:lnTo>
                  <a:lnTo>
                    <a:pt x="4288" y="2133"/>
                  </a:lnTo>
                  <a:lnTo>
                    <a:pt x="4292" y="2019"/>
                  </a:lnTo>
                  <a:lnTo>
                    <a:pt x="4289" y="1906"/>
                  </a:lnTo>
                  <a:lnTo>
                    <a:pt x="4282" y="1792"/>
                  </a:lnTo>
                  <a:lnTo>
                    <a:pt x="4268" y="1679"/>
                  </a:lnTo>
                  <a:lnTo>
                    <a:pt x="4249" y="1567"/>
                  </a:lnTo>
                  <a:lnTo>
                    <a:pt x="4224" y="1457"/>
                  </a:lnTo>
                  <a:lnTo>
                    <a:pt x="4195" y="1349"/>
                  </a:lnTo>
                  <a:lnTo>
                    <a:pt x="4158" y="1241"/>
                  </a:lnTo>
                  <a:lnTo>
                    <a:pt x="4117" y="1136"/>
                  </a:lnTo>
                  <a:lnTo>
                    <a:pt x="4070" y="1035"/>
                  </a:lnTo>
                  <a:lnTo>
                    <a:pt x="4018" y="935"/>
                  </a:lnTo>
                  <a:lnTo>
                    <a:pt x="3960" y="840"/>
                  </a:lnTo>
                  <a:lnTo>
                    <a:pt x="3898" y="747"/>
                  </a:lnTo>
                  <a:lnTo>
                    <a:pt x="3829" y="659"/>
                  </a:lnTo>
                  <a:lnTo>
                    <a:pt x="3754" y="574"/>
                  </a:lnTo>
                  <a:lnTo>
                    <a:pt x="3676" y="495"/>
                  </a:lnTo>
                  <a:lnTo>
                    <a:pt x="3591" y="419"/>
                  </a:lnTo>
                  <a:lnTo>
                    <a:pt x="3501" y="349"/>
                  </a:lnTo>
                  <a:lnTo>
                    <a:pt x="3406" y="284"/>
                  </a:lnTo>
                  <a:lnTo>
                    <a:pt x="3304" y="226"/>
                  </a:lnTo>
                  <a:lnTo>
                    <a:pt x="3199" y="173"/>
                  </a:lnTo>
                  <a:lnTo>
                    <a:pt x="3088" y="127"/>
                  </a:lnTo>
                  <a:lnTo>
                    <a:pt x="2972" y="88"/>
                  </a:lnTo>
                  <a:lnTo>
                    <a:pt x="2850" y="54"/>
                  </a:lnTo>
                  <a:lnTo>
                    <a:pt x="2724" y="29"/>
                  </a:lnTo>
                  <a:lnTo>
                    <a:pt x="2592" y="11"/>
                  </a:lnTo>
                  <a:lnTo>
                    <a:pt x="2455" y="2"/>
                  </a:lnTo>
                  <a:lnTo>
                    <a:pt x="2312" y="0"/>
                  </a:lnTo>
                  <a:lnTo>
                    <a:pt x="2166" y="7"/>
                  </a:lnTo>
                  <a:lnTo>
                    <a:pt x="2095" y="13"/>
                  </a:lnTo>
                  <a:lnTo>
                    <a:pt x="2021" y="22"/>
                  </a:lnTo>
                  <a:lnTo>
                    <a:pt x="1946" y="32"/>
                  </a:lnTo>
                  <a:lnTo>
                    <a:pt x="1869" y="46"/>
                  </a:lnTo>
                  <a:lnTo>
                    <a:pt x="1790" y="63"/>
                  </a:lnTo>
                  <a:lnTo>
                    <a:pt x="1711" y="81"/>
                  </a:lnTo>
                  <a:lnTo>
                    <a:pt x="1629" y="103"/>
                  </a:lnTo>
                  <a:lnTo>
                    <a:pt x="1549" y="130"/>
                  </a:lnTo>
                  <a:lnTo>
                    <a:pt x="1466" y="158"/>
                  </a:lnTo>
                  <a:lnTo>
                    <a:pt x="1384" y="191"/>
                  </a:lnTo>
                  <a:lnTo>
                    <a:pt x="1302" y="228"/>
                  </a:lnTo>
                  <a:lnTo>
                    <a:pt x="1220" y="269"/>
                  </a:lnTo>
                  <a:lnTo>
                    <a:pt x="1138" y="314"/>
                  </a:lnTo>
                  <a:lnTo>
                    <a:pt x="1058" y="364"/>
                  </a:lnTo>
                  <a:lnTo>
                    <a:pt x="978" y="418"/>
                  </a:lnTo>
                  <a:lnTo>
                    <a:pt x="900" y="477"/>
                  </a:lnTo>
                  <a:lnTo>
                    <a:pt x="823" y="542"/>
                  </a:lnTo>
                  <a:lnTo>
                    <a:pt x="748" y="612"/>
                  </a:lnTo>
                  <a:lnTo>
                    <a:pt x="675" y="686"/>
                  </a:lnTo>
                  <a:lnTo>
                    <a:pt x="604" y="768"/>
                  </a:lnTo>
                  <a:lnTo>
                    <a:pt x="536" y="855"/>
                  </a:lnTo>
                  <a:lnTo>
                    <a:pt x="470" y="947"/>
                  </a:lnTo>
                  <a:lnTo>
                    <a:pt x="407" y="1046"/>
                  </a:lnTo>
                  <a:lnTo>
                    <a:pt x="347" y="1152"/>
                  </a:lnTo>
                  <a:lnTo>
                    <a:pt x="292" y="1264"/>
                  </a:lnTo>
                  <a:lnTo>
                    <a:pt x="240" y="1383"/>
                  </a:lnTo>
                  <a:lnTo>
                    <a:pt x="191" y="1510"/>
                  </a:lnTo>
                  <a:lnTo>
                    <a:pt x="147" y="1643"/>
                  </a:lnTo>
                  <a:lnTo>
                    <a:pt x="108" y="1784"/>
                  </a:lnTo>
                  <a:lnTo>
                    <a:pt x="72" y="1931"/>
                  </a:lnTo>
                  <a:lnTo>
                    <a:pt x="43" y="2088"/>
                  </a:lnTo>
                  <a:lnTo>
                    <a:pt x="18" y="2253"/>
                  </a:lnTo>
                  <a:lnTo>
                    <a:pt x="7" y="2800"/>
                  </a:lnTo>
                  <a:lnTo>
                    <a:pt x="3441" y="2604"/>
                  </a:lnTo>
                  <a:lnTo>
                    <a:pt x="3356" y="2175"/>
                  </a:lnTo>
                  <a:lnTo>
                    <a:pt x="933" y="2193"/>
                  </a:lnTo>
                  <a:lnTo>
                    <a:pt x="940" y="2127"/>
                  </a:lnTo>
                  <a:lnTo>
                    <a:pt x="948" y="2062"/>
                  </a:lnTo>
                  <a:lnTo>
                    <a:pt x="959" y="1996"/>
                  </a:lnTo>
                  <a:lnTo>
                    <a:pt x="973" y="1931"/>
                  </a:lnTo>
                  <a:lnTo>
                    <a:pt x="989" y="1867"/>
                  </a:lnTo>
                  <a:lnTo>
                    <a:pt x="1008" y="1803"/>
                  </a:lnTo>
                  <a:lnTo>
                    <a:pt x="1028" y="1740"/>
                  </a:lnTo>
                  <a:lnTo>
                    <a:pt x="1051" y="1677"/>
                  </a:lnTo>
                  <a:lnTo>
                    <a:pt x="1078" y="1615"/>
                  </a:lnTo>
                  <a:lnTo>
                    <a:pt x="1105" y="1556"/>
                  </a:lnTo>
                  <a:lnTo>
                    <a:pt x="1135" y="1497"/>
                  </a:lnTo>
                  <a:lnTo>
                    <a:pt x="1169" y="1440"/>
                  </a:lnTo>
                  <a:lnTo>
                    <a:pt x="1204" y="1384"/>
                  </a:lnTo>
                  <a:lnTo>
                    <a:pt x="1242" y="1330"/>
                  </a:lnTo>
                  <a:lnTo>
                    <a:pt x="1282" y="1278"/>
                  </a:lnTo>
                  <a:lnTo>
                    <a:pt x="1324" y="1228"/>
                  </a:lnTo>
                  <a:lnTo>
                    <a:pt x="1369" y="1181"/>
                  </a:lnTo>
                  <a:lnTo>
                    <a:pt x="1416" y="1136"/>
                  </a:lnTo>
                  <a:lnTo>
                    <a:pt x="1465" y="1094"/>
                  </a:lnTo>
                  <a:lnTo>
                    <a:pt x="1517" y="1055"/>
                  </a:lnTo>
                  <a:lnTo>
                    <a:pt x="1570" y="1017"/>
                  </a:lnTo>
                  <a:lnTo>
                    <a:pt x="1627" y="983"/>
                  </a:lnTo>
                  <a:lnTo>
                    <a:pt x="1687" y="953"/>
                  </a:lnTo>
                  <a:lnTo>
                    <a:pt x="1747" y="926"/>
                  </a:lnTo>
                  <a:lnTo>
                    <a:pt x="1811" y="902"/>
                  </a:lnTo>
                  <a:lnTo>
                    <a:pt x="1876" y="882"/>
                  </a:lnTo>
                  <a:lnTo>
                    <a:pt x="1944" y="866"/>
                  </a:lnTo>
                  <a:lnTo>
                    <a:pt x="2015" y="854"/>
                  </a:lnTo>
                  <a:lnTo>
                    <a:pt x="2087" y="845"/>
                  </a:lnTo>
                  <a:lnTo>
                    <a:pt x="2163" y="841"/>
                  </a:lnTo>
                  <a:lnTo>
                    <a:pt x="2240" y="842"/>
                  </a:lnTo>
                  <a:lnTo>
                    <a:pt x="2320" y="846"/>
                  </a:lnTo>
                  <a:lnTo>
                    <a:pt x="2405" y="856"/>
                  </a:lnTo>
                  <a:lnTo>
                    <a:pt x="2487" y="868"/>
                  </a:lnTo>
                  <a:lnTo>
                    <a:pt x="2565" y="883"/>
                  </a:lnTo>
                  <a:lnTo>
                    <a:pt x="2638" y="901"/>
                  </a:lnTo>
                  <a:lnTo>
                    <a:pt x="2706" y="921"/>
                  </a:lnTo>
                  <a:lnTo>
                    <a:pt x="2771" y="944"/>
                  </a:lnTo>
                  <a:lnTo>
                    <a:pt x="2832" y="969"/>
                  </a:lnTo>
                  <a:lnTo>
                    <a:pt x="2889" y="997"/>
                  </a:lnTo>
                  <a:lnTo>
                    <a:pt x="2942" y="1028"/>
                  </a:lnTo>
                  <a:lnTo>
                    <a:pt x="2993" y="1063"/>
                  </a:lnTo>
                  <a:lnTo>
                    <a:pt x="3039" y="1100"/>
                  </a:lnTo>
                  <a:lnTo>
                    <a:pt x="3081" y="1138"/>
                  </a:lnTo>
                  <a:lnTo>
                    <a:pt x="3121" y="1181"/>
                  </a:lnTo>
                  <a:lnTo>
                    <a:pt x="3158" y="1226"/>
                  </a:lnTo>
                  <a:lnTo>
                    <a:pt x="3191" y="1273"/>
                  </a:lnTo>
                  <a:lnTo>
                    <a:pt x="3222" y="1325"/>
                  </a:lnTo>
                  <a:lnTo>
                    <a:pt x="3250" y="1378"/>
                  </a:lnTo>
                  <a:lnTo>
                    <a:pt x="3275" y="1434"/>
                  </a:lnTo>
                  <a:lnTo>
                    <a:pt x="3297" y="1493"/>
                  </a:lnTo>
                  <a:lnTo>
                    <a:pt x="3317" y="1555"/>
                  </a:lnTo>
                  <a:lnTo>
                    <a:pt x="3334" y="1620"/>
                  </a:lnTo>
                  <a:lnTo>
                    <a:pt x="3349" y="1688"/>
                  </a:lnTo>
                  <a:lnTo>
                    <a:pt x="3362" y="1758"/>
                  </a:lnTo>
                  <a:lnTo>
                    <a:pt x="3373" y="1831"/>
                  </a:lnTo>
                  <a:lnTo>
                    <a:pt x="3382" y="1907"/>
                  </a:lnTo>
                  <a:lnTo>
                    <a:pt x="3389" y="1987"/>
                  </a:lnTo>
                  <a:lnTo>
                    <a:pt x="3394" y="2070"/>
                  </a:lnTo>
                  <a:lnTo>
                    <a:pt x="3399" y="2154"/>
                  </a:lnTo>
                  <a:lnTo>
                    <a:pt x="3401" y="2242"/>
                  </a:lnTo>
                  <a:lnTo>
                    <a:pt x="3402" y="2333"/>
                  </a:lnTo>
                  <a:lnTo>
                    <a:pt x="3401" y="2427"/>
                  </a:lnTo>
                  <a:lnTo>
                    <a:pt x="3399" y="2524"/>
                  </a:lnTo>
                  <a:lnTo>
                    <a:pt x="3225" y="9257"/>
                  </a:lnTo>
                  <a:lnTo>
                    <a:pt x="2555" y="10149"/>
                  </a:lnTo>
                  <a:lnTo>
                    <a:pt x="1625" y="10206"/>
                  </a:lnTo>
                  <a:lnTo>
                    <a:pt x="999" y="9293"/>
                  </a:lnTo>
                  <a:lnTo>
                    <a:pt x="990" y="8882"/>
                  </a:lnTo>
                  <a:lnTo>
                    <a:pt x="980" y="8473"/>
                  </a:lnTo>
                  <a:lnTo>
                    <a:pt x="971" y="8064"/>
                  </a:lnTo>
                  <a:lnTo>
                    <a:pt x="963" y="7654"/>
                  </a:lnTo>
                  <a:lnTo>
                    <a:pt x="953" y="7245"/>
                  </a:lnTo>
                  <a:lnTo>
                    <a:pt x="944" y="6836"/>
                  </a:lnTo>
                  <a:lnTo>
                    <a:pt x="935" y="6427"/>
                  </a:lnTo>
                  <a:lnTo>
                    <a:pt x="926" y="6016"/>
                  </a:lnTo>
                  <a:lnTo>
                    <a:pt x="917" y="5607"/>
                  </a:lnTo>
                  <a:lnTo>
                    <a:pt x="907" y="5198"/>
                  </a:lnTo>
                  <a:lnTo>
                    <a:pt x="899" y="4789"/>
                  </a:lnTo>
                  <a:lnTo>
                    <a:pt x="889" y="4379"/>
                  </a:lnTo>
                  <a:lnTo>
                    <a:pt x="880" y="3970"/>
                  </a:lnTo>
                  <a:lnTo>
                    <a:pt x="870" y="3561"/>
                  </a:lnTo>
                  <a:lnTo>
                    <a:pt x="862" y="3150"/>
                  </a:lnTo>
                  <a:lnTo>
                    <a:pt x="853" y="2741"/>
                  </a:lnTo>
                  <a:lnTo>
                    <a:pt x="799" y="2745"/>
                  </a:lnTo>
                  <a:lnTo>
                    <a:pt x="746" y="2750"/>
                  </a:lnTo>
                  <a:lnTo>
                    <a:pt x="693" y="2754"/>
                  </a:lnTo>
                  <a:lnTo>
                    <a:pt x="639" y="2758"/>
                  </a:lnTo>
                  <a:lnTo>
                    <a:pt x="586" y="2761"/>
                  </a:lnTo>
                  <a:lnTo>
                    <a:pt x="532" y="2765"/>
                  </a:lnTo>
                  <a:lnTo>
                    <a:pt x="479" y="2770"/>
                  </a:lnTo>
                  <a:lnTo>
                    <a:pt x="426" y="2774"/>
                  </a:lnTo>
                  <a:lnTo>
                    <a:pt x="372" y="2778"/>
                  </a:lnTo>
                  <a:lnTo>
                    <a:pt x="319" y="2782"/>
                  </a:lnTo>
                  <a:lnTo>
                    <a:pt x="266" y="2786"/>
                  </a:lnTo>
                  <a:lnTo>
                    <a:pt x="212" y="2790"/>
                  </a:lnTo>
                  <a:lnTo>
                    <a:pt x="159" y="2794"/>
                  </a:lnTo>
                  <a:lnTo>
                    <a:pt x="106" y="2798"/>
                  </a:lnTo>
                  <a:lnTo>
                    <a:pt x="52" y="2802"/>
                  </a:lnTo>
                  <a:lnTo>
                    <a:pt x="0" y="28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488960" y="5421240"/>
            <a:ext cx="1208160" cy="1208160"/>
            <a:chOff x="1488960" y="5421240"/>
            <a:chExt cx="1208160" cy="1208160"/>
          </a:xfrm>
        </p:grpSpPr>
        <p:sp>
          <p:nvSpPr>
            <p:cNvPr id="97" name=""/>
            <p:cNvSpPr/>
            <p:nvPr/>
          </p:nvSpPr>
          <p:spPr>
            <a:xfrm>
              <a:off x="2093760" y="5421240"/>
              <a:ext cx="603360" cy="6048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9" y="681"/>
                  </a:lnTo>
                  <a:lnTo>
                    <a:pt x="297" y="684"/>
                  </a:lnTo>
                  <a:lnTo>
                    <a:pt x="397" y="690"/>
                  </a:lnTo>
                  <a:lnTo>
                    <a:pt x="493" y="695"/>
                  </a:lnTo>
                  <a:lnTo>
                    <a:pt x="591" y="702"/>
                  </a:lnTo>
                  <a:lnTo>
                    <a:pt x="689" y="710"/>
                  </a:lnTo>
                  <a:lnTo>
                    <a:pt x="785" y="719"/>
                  </a:lnTo>
                  <a:lnTo>
                    <a:pt x="881" y="730"/>
                  </a:lnTo>
                  <a:lnTo>
                    <a:pt x="977" y="741"/>
                  </a:lnTo>
                  <a:lnTo>
                    <a:pt x="1074" y="754"/>
                  </a:lnTo>
                  <a:lnTo>
                    <a:pt x="1170" y="769"/>
                  </a:lnTo>
                  <a:lnTo>
                    <a:pt x="1264" y="784"/>
                  </a:lnTo>
                  <a:lnTo>
                    <a:pt x="1358" y="800"/>
                  </a:lnTo>
                  <a:lnTo>
                    <a:pt x="1453" y="817"/>
                  </a:lnTo>
                  <a:lnTo>
                    <a:pt x="1548" y="836"/>
                  </a:lnTo>
                  <a:lnTo>
                    <a:pt x="1641" y="857"/>
                  </a:lnTo>
                  <a:lnTo>
                    <a:pt x="1734" y="877"/>
                  </a:lnTo>
                  <a:lnTo>
                    <a:pt x="1827" y="899"/>
                  </a:lnTo>
                  <a:lnTo>
                    <a:pt x="1919" y="922"/>
                  </a:lnTo>
                  <a:lnTo>
                    <a:pt x="2010" y="947"/>
                  </a:lnTo>
                  <a:lnTo>
                    <a:pt x="2101" y="972"/>
                  </a:lnTo>
                  <a:lnTo>
                    <a:pt x="2192" y="999"/>
                  </a:lnTo>
                  <a:lnTo>
                    <a:pt x="2282" y="1026"/>
                  </a:lnTo>
                  <a:lnTo>
                    <a:pt x="2372" y="1055"/>
                  </a:lnTo>
                  <a:lnTo>
                    <a:pt x="2462" y="1085"/>
                  </a:lnTo>
                  <a:lnTo>
                    <a:pt x="2551" y="1115"/>
                  </a:lnTo>
                  <a:lnTo>
                    <a:pt x="2639" y="1148"/>
                  </a:lnTo>
                  <a:lnTo>
                    <a:pt x="2727" y="1180"/>
                  </a:lnTo>
                  <a:lnTo>
                    <a:pt x="2815" y="1215"/>
                  </a:lnTo>
                  <a:lnTo>
                    <a:pt x="2903" y="1250"/>
                  </a:lnTo>
                  <a:lnTo>
                    <a:pt x="2989" y="1285"/>
                  </a:lnTo>
                  <a:lnTo>
                    <a:pt x="3075" y="1323"/>
                  </a:lnTo>
                  <a:lnTo>
                    <a:pt x="3160" y="1361"/>
                  </a:lnTo>
                  <a:lnTo>
                    <a:pt x="3245" y="1399"/>
                  </a:lnTo>
                  <a:lnTo>
                    <a:pt x="3329" y="1440"/>
                  </a:lnTo>
                  <a:lnTo>
                    <a:pt x="3412" y="1482"/>
                  </a:lnTo>
                  <a:lnTo>
                    <a:pt x="3497" y="1522"/>
                  </a:lnTo>
                  <a:lnTo>
                    <a:pt x="3579" y="1566"/>
                  </a:lnTo>
                  <a:lnTo>
                    <a:pt x="3660" y="1609"/>
                  </a:lnTo>
                  <a:lnTo>
                    <a:pt x="3742" y="1655"/>
                  </a:lnTo>
                  <a:lnTo>
                    <a:pt x="3823" y="1700"/>
                  </a:lnTo>
                  <a:lnTo>
                    <a:pt x="3903" y="1747"/>
                  </a:lnTo>
                  <a:lnTo>
                    <a:pt x="3983" y="1796"/>
                  </a:lnTo>
                  <a:lnTo>
                    <a:pt x="4062" y="1845"/>
                  </a:lnTo>
                  <a:lnTo>
                    <a:pt x="4139" y="1894"/>
                  </a:lnTo>
                  <a:lnTo>
                    <a:pt x="4218" y="1944"/>
                  </a:lnTo>
                  <a:lnTo>
                    <a:pt x="4295" y="1996"/>
                  </a:lnTo>
                  <a:lnTo>
                    <a:pt x="4371" y="2049"/>
                  </a:lnTo>
                  <a:lnTo>
                    <a:pt x="4447" y="2101"/>
                  </a:lnTo>
                  <a:lnTo>
                    <a:pt x="4522" y="2156"/>
                  </a:lnTo>
                  <a:lnTo>
                    <a:pt x="4597" y="2210"/>
                  </a:lnTo>
                  <a:lnTo>
                    <a:pt x="4670" y="2267"/>
                  </a:lnTo>
                  <a:lnTo>
                    <a:pt x="4743" y="2324"/>
                  </a:lnTo>
                  <a:lnTo>
                    <a:pt x="4816" y="2382"/>
                  </a:lnTo>
                  <a:lnTo>
                    <a:pt x="4887" y="2439"/>
                  </a:lnTo>
                  <a:lnTo>
                    <a:pt x="4958" y="2499"/>
                  </a:lnTo>
                  <a:lnTo>
                    <a:pt x="5029" y="2558"/>
                  </a:lnTo>
                  <a:lnTo>
                    <a:pt x="5099" y="2620"/>
                  </a:lnTo>
                  <a:lnTo>
                    <a:pt x="5167" y="2682"/>
                  </a:lnTo>
                  <a:lnTo>
                    <a:pt x="5235" y="2745"/>
                  </a:lnTo>
                  <a:lnTo>
                    <a:pt x="5302" y="2807"/>
                  </a:lnTo>
                  <a:lnTo>
                    <a:pt x="5369" y="2872"/>
                  </a:lnTo>
                  <a:lnTo>
                    <a:pt x="5434" y="2937"/>
                  </a:lnTo>
                  <a:lnTo>
                    <a:pt x="5499" y="3002"/>
                  </a:lnTo>
                  <a:lnTo>
                    <a:pt x="5564" y="3069"/>
                  </a:lnTo>
                  <a:lnTo>
                    <a:pt x="5626" y="3136"/>
                  </a:lnTo>
                  <a:lnTo>
                    <a:pt x="5689" y="3204"/>
                  </a:lnTo>
                  <a:lnTo>
                    <a:pt x="5751" y="3272"/>
                  </a:lnTo>
                  <a:lnTo>
                    <a:pt x="5813" y="3342"/>
                  </a:lnTo>
                  <a:lnTo>
                    <a:pt x="5872" y="3413"/>
                  </a:lnTo>
                  <a:lnTo>
                    <a:pt x="5932" y="3484"/>
                  </a:lnTo>
                  <a:lnTo>
                    <a:pt x="5989" y="3555"/>
                  </a:lnTo>
                  <a:lnTo>
                    <a:pt x="6047" y="3628"/>
                  </a:lnTo>
                  <a:lnTo>
                    <a:pt x="6104" y="3701"/>
                  </a:lnTo>
                  <a:lnTo>
                    <a:pt x="6161" y="3774"/>
                  </a:lnTo>
                  <a:lnTo>
                    <a:pt x="6215" y="3849"/>
                  </a:lnTo>
                  <a:lnTo>
                    <a:pt x="6270" y="3924"/>
                  </a:lnTo>
                  <a:lnTo>
                    <a:pt x="6322" y="4000"/>
                  </a:lnTo>
                  <a:lnTo>
                    <a:pt x="6375" y="4076"/>
                  </a:lnTo>
                  <a:lnTo>
                    <a:pt x="6427" y="4153"/>
                  </a:lnTo>
                  <a:lnTo>
                    <a:pt x="6477" y="4232"/>
                  </a:lnTo>
                  <a:lnTo>
                    <a:pt x="6526" y="4309"/>
                  </a:lnTo>
                  <a:lnTo>
                    <a:pt x="6575" y="4388"/>
                  </a:lnTo>
                  <a:lnTo>
                    <a:pt x="6624" y="4468"/>
                  </a:lnTo>
                  <a:lnTo>
                    <a:pt x="6671" y="4548"/>
                  </a:lnTo>
                  <a:lnTo>
                    <a:pt x="6716" y="4629"/>
                  </a:lnTo>
                  <a:lnTo>
                    <a:pt x="6762" y="4711"/>
                  </a:lnTo>
                  <a:lnTo>
                    <a:pt x="6805" y="4792"/>
                  </a:lnTo>
                  <a:lnTo>
                    <a:pt x="6849" y="4874"/>
                  </a:lnTo>
                  <a:lnTo>
                    <a:pt x="6889" y="4959"/>
                  </a:lnTo>
                  <a:lnTo>
                    <a:pt x="6931" y="5042"/>
                  </a:lnTo>
                  <a:lnTo>
                    <a:pt x="6972" y="5126"/>
                  </a:lnTo>
                  <a:lnTo>
                    <a:pt x="7010" y="5211"/>
                  </a:lnTo>
                  <a:lnTo>
                    <a:pt x="7048" y="5296"/>
                  </a:lnTo>
                  <a:lnTo>
                    <a:pt x="7086" y="5382"/>
                  </a:lnTo>
                  <a:lnTo>
                    <a:pt x="7121" y="5468"/>
                  </a:lnTo>
                  <a:lnTo>
                    <a:pt x="7156" y="5556"/>
                  </a:lnTo>
                  <a:lnTo>
                    <a:pt x="7191" y="5644"/>
                  </a:lnTo>
                  <a:lnTo>
                    <a:pt x="7223" y="5732"/>
                  </a:lnTo>
                  <a:lnTo>
                    <a:pt x="7256" y="5820"/>
                  </a:lnTo>
                  <a:lnTo>
                    <a:pt x="7286" y="5909"/>
                  </a:lnTo>
                  <a:lnTo>
                    <a:pt x="7316" y="5999"/>
                  </a:lnTo>
                  <a:lnTo>
                    <a:pt x="7345" y="6089"/>
                  </a:lnTo>
                  <a:lnTo>
                    <a:pt x="7372" y="6179"/>
                  </a:lnTo>
                  <a:lnTo>
                    <a:pt x="7399" y="6270"/>
                  </a:lnTo>
                  <a:lnTo>
                    <a:pt x="7424" y="6361"/>
                  </a:lnTo>
                  <a:lnTo>
                    <a:pt x="7449" y="6452"/>
                  </a:lnTo>
                  <a:lnTo>
                    <a:pt x="7472" y="6544"/>
                  </a:lnTo>
                  <a:lnTo>
                    <a:pt x="7494" y="6637"/>
                  </a:lnTo>
                  <a:lnTo>
                    <a:pt x="7514" y="6730"/>
                  </a:lnTo>
                  <a:lnTo>
                    <a:pt x="7535" y="6823"/>
                  </a:lnTo>
                  <a:lnTo>
                    <a:pt x="7554" y="6918"/>
                  </a:lnTo>
                  <a:lnTo>
                    <a:pt x="7571" y="7013"/>
                  </a:lnTo>
                  <a:lnTo>
                    <a:pt x="7587" y="7107"/>
                  </a:lnTo>
                  <a:lnTo>
                    <a:pt x="7602" y="7201"/>
                  </a:lnTo>
                  <a:lnTo>
                    <a:pt x="7617" y="7297"/>
                  </a:lnTo>
                  <a:lnTo>
                    <a:pt x="7630" y="7394"/>
                  </a:lnTo>
                  <a:lnTo>
                    <a:pt x="7641" y="7490"/>
                  </a:lnTo>
                  <a:lnTo>
                    <a:pt x="7652" y="7586"/>
                  </a:lnTo>
                  <a:lnTo>
                    <a:pt x="7661" y="7682"/>
                  </a:lnTo>
                  <a:lnTo>
                    <a:pt x="7669" y="7780"/>
                  </a:lnTo>
                  <a:lnTo>
                    <a:pt x="7676" y="7878"/>
                  </a:lnTo>
                  <a:lnTo>
                    <a:pt x="7681" y="7974"/>
                  </a:lnTo>
                  <a:lnTo>
                    <a:pt x="7687" y="8074"/>
                  </a:lnTo>
                  <a:lnTo>
                    <a:pt x="7690" y="8172"/>
                  </a:lnTo>
                  <a:lnTo>
                    <a:pt x="7690" y="8272"/>
                  </a:lnTo>
                  <a:lnTo>
                    <a:pt x="7691" y="8371"/>
                  </a:lnTo>
                  <a:lnTo>
                    <a:pt x="8371" y="8371"/>
                  </a:lnTo>
                  <a:lnTo>
                    <a:pt x="8370" y="8263"/>
                  </a:lnTo>
                  <a:lnTo>
                    <a:pt x="8367" y="8156"/>
                  </a:lnTo>
                  <a:lnTo>
                    <a:pt x="8364" y="8050"/>
                  </a:lnTo>
                  <a:lnTo>
                    <a:pt x="8359" y="7943"/>
                  </a:lnTo>
                  <a:lnTo>
                    <a:pt x="8353" y="7835"/>
                  </a:lnTo>
                  <a:lnTo>
                    <a:pt x="8346" y="7730"/>
                  </a:lnTo>
                  <a:lnTo>
                    <a:pt x="8338" y="7624"/>
                  </a:lnTo>
                  <a:lnTo>
                    <a:pt x="8327" y="7517"/>
                  </a:lnTo>
                  <a:lnTo>
                    <a:pt x="8316" y="7413"/>
                  </a:lnTo>
                  <a:lnTo>
                    <a:pt x="8302" y="7308"/>
                  </a:lnTo>
                  <a:lnTo>
                    <a:pt x="8288" y="7204"/>
                  </a:lnTo>
                  <a:lnTo>
                    <a:pt x="8274" y="7101"/>
                  </a:lnTo>
                  <a:lnTo>
                    <a:pt x="8257" y="6996"/>
                  </a:lnTo>
                  <a:lnTo>
                    <a:pt x="8240" y="6892"/>
                  </a:lnTo>
                  <a:lnTo>
                    <a:pt x="8220" y="6791"/>
                  </a:lnTo>
                  <a:lnTo>
                    <a:pt x="8199" y="6688"/>
                  </a:lnTo>
                  <a:lnTo>
                    <a:pt x="8178" y="6587"/>
                  </a:lnTo>
                  <a:lnTo>
                    <a:pt x="8155" y="6485"/>
                  </a:lnTo>
                  <a:lnTo>
                    <a:pt x="8130" y="6385"/>
                  </a:lnTo>
                  <a:lnTo>
                    <a:pt x="8105" y="6285"/>
                  </a:lnTo>
                  <a:lnTo>
                    <a:pt x="8080" y="6183"/>
                  </a:lnTo>
                  <a:lnTo>
                    <a:pt x="8052" y="6084"/>
                  </a:lnTo>
                  <a:lnTo>
                    <a:pt x="8023" y="5985"/>
                  </a:lnTo>
                  <a:lnTo>
                    <a:pt x="7993" y="5887"/>
                  </a:lnTo>
                  <a:lnTo>
                    <a:pt x="7962" y="5789"/>
                  </a:lnTo>
                  <a:lnTo>
                    <a:pt x="7929" y="5691"/>
                  </a:lnTo>
                  <a:lnTo>
                    <a:pt x="7896" y="5594"/>
                  </a:lnTo>
                  <a:lnTo>
                    <a:pt x="7861" y="5498"/>
                  </a:lnTo>
                  <a:lnTo>
                    <a:pt x="7825" y="5402"/>
                  </a:lnTo>
                  <a:lnTo>
                    <a:pt x="7788" y="5306"/>
                  </a:lnTo>
                  <a:lnTo>
                    <a:pt x="7750" y="5213"/>
                  </a:lnTo>
                  <a:lnTo>
                    <a:pt x="7710" y="5119"/>
                  </a:lnTo>
                  <a:lnTo>
                    <a:pt x="7670" y="5025"/>
                  </a:lnTo>
                  <a:lnTo>
                    <a:pt x="7629" y="4932"/>
                  </a:lnTo>
                  <a:lnTo>
                    <a:pt x="7585" y="4839"/>
                  </a:lnTo>
                  <a:lnTo>
                    <a:pt x="7542" y="4747"/>
                  </a:lnTo>
                  <a:lnTo>
                    <a:pt x="7498" y="4656"/>
                  </a:lnTo>
                  <a:lnTo>
                    <a:pt x="7451" y="4566"/>
                  </a:lnTo>
                  <a:lnTo>
                    <a:pt x="7405" y="4476"/>
                  </a:lnTo>
                  <a:lnTo>
                    <a:pt x="7357" y="4386"/>
                  </a:lnTo>
                  <a:lnTo>
                    <a:pt x="7308" y="4297"/>
                  </a:lnTo>
                  <a:lnTo>
                    <a:pt x="7258" y="4211"/>
                  </a:lnTo>
                  <a:lnTo>
                    <a:pt x="7207" y="4123"/>
                  </a:lnTo>
                  <a:lnTo>
                    <a:pt x="7155" y="4036"/>
                  </a:lnTo>
                  <a:lnTo>
                    <a:pt x="7103" y="3950"/>
                  </a:lnTo>
                  <a:lnTo>
                    <a:pt x="7048" y="3864"/>
                  </a:lnTo>
                  <a:lnTo>
                    <a:pt x="6993" y="3781"/>
                  </a:lnTo>
                  <a:lnTo>
                    <a:pt x="6937" y="3696"/>
                  </a:lnTo>
                  <a:lnTo>
                    <a:pt x="6880" y="3612"/>
                  </a:lnTo>
                  <a:lnTo>
                    <a:pt x="6822" y="3530"/>
                  </a:lnTo>
                  <a:lnTo>
                    <a:pt x="6763" y="3450"/>
                  </a:lnTo>
                  <a:lnTo>
                    <a:pt x="6703" y="3368"/>
                  </a:lnTo>
                  <a:lnTo>
                    <a:pt x="6643" y="3287"/>
                  </a:lnTo>
                  <a:lnTo>
                    <a:pt x="6581" y="3208"/>
                  </a:lnTo>
                  <a:lnTo>
                    <a:pt x="6518" y="3130"/>
                  </a:lnTo>
                  <a:lnTo>
                    <a:pt x="6455" y="3051"/>
                  </a:lnTo>
                  <a:lnTo>
                    <a:pt x="6390" y="2975"/>
                  </a:lnTo>
                  <a:lnTo>
                    <a:pt x="6324" y="2898"/>
                  </a:lnTo>
                  <a:lnTo>
                    <a:pt x="6258" y="2823"/>
                  </a:lnTo>
                  <a:lnTo>
                    <a:pt x="6191" y="2748"/>
                  </a:lnTo>
                  <a:lnTo>
                    <a:pt x="6123" y="2675"/>
                  </a:lnTo>
                  <a:lnTo>
                    <a:pt x="6054" y="2601"/>
                  </a:lnTo>
                  <a:lnTo>
                    <a:pt x="5985" y="2529"/>
                  </a:lnTo>
                  <a:lnTo>
                    <a:pt x="5914" y="2457"/>
                  </a:lnTo>
                  <a:lnTo>
                    <a:pt x="5842" y="2386"/>
                  </a:lnTo>
                  <a:lnTo>
                    <a:pt x="5770" y="2317"/>
                  </a:lnTo>
                  <a:lnTo>
                    <a:pt x="5696" y="2248"/>
                  </a:lnTo>
                  <a:lnTo>
                    <a:pt x="5623" y="2180"/>
                  </a:lnTo>
                  <a:lnTo>
                    <a:pt x="5548" y="2113"/>
                  </a:lnTo>
                  <a:lnTo>
                    <a:pt x="5473" y="2047"/>
                  </a:lnTo>
                  <a:lnTo>
                    <a:pt x="5396" y="1981"/>
                  </a:lnTo>
                  <a:lnTo>
                    <a:pt x="5320" y="1916"/>
                  </a:lnTo>
                  <a:lnTo>
                    <a:pt x="5241" y="1853"/>
                  </a:lnTo>
                  <a:lnTo>
                    <a:pt x="5163" y="1790"/>
                  </a:lnTo>
                  <a:lnTo>
                    <a:pt x="5084" y="1728"/>
                  </a:lnTo>
                  <a:lnTo>
                    <a:pt x="5003" y="1668"/>
                  </a:lnTo>
                  <a:lnTo>
                    <a:pt x="4921" y="1608"/>
                  </a:lnTo>
                  <a:lnTo>
                    <a:pt x="4841" y="1549"/>
                  </a:lnTo>
                  <a:lnTo>
                    <a:pt x="4759" y="1491"/>
                  </a:lnTo>
                  <a:lnTo>
                    <a:pt x="4675" y="1434"/>
                  </a:lnTo>
                  <a:lnTo>
                    <a:pt x="4590" y="1378"/>
                  </a:lnTo>
                  <a:lnTo>
                    <a:pt x="4507" y="1323"/>
                  </a:lnTo>
                  <a:lnTo>
                    <a:pt x="4421" y="1268"/>
                  </a:lnTo>
                  <a:lnTo>
                    <a:pt x="4335" y="1216"/>
                  </a:lnTo>
                  <a:lnTo>
                    <a:pt x="4248" y="1164"/>
                  </a:lnTo>
                  <a:lnTo>
                    <a:pt x="4160" y="1113"/>
                  </a:lnTo>
                  <a:lnTo>
                    <a:pt x="4074" y="1063"/>
                  </a:lnTo>
                  <a:lnTo>
                    <a:pt x="3985" y="1014"/>
                  </a:lnTo>
                  <a:lnTo>
                    <a:pt x="3895" y="966"/>
                  </a:lnTo>
                  <a:lnTo>
                    <a:pt x="3805" y="920"/>
                  </a:lnTo>
                  <a:lnTo>
                    <a:pt x="3715" y="873"/>
                  </a:lnTo>
                  <a:lnTo>
                    <a:pt x="3624" y="829"/>
                  </a:lnTo>
                  <a:lnTo>
                    <a:pt x="3532" y="786"/>
                  </a:lnTo>
                  <a:lnTo>
                    <a:pt x="3439" y="742"/>
                  </a:lnTo>
                  <a:lnTo>
                    <a:pt x="3346" y="701"/>
                  </a:lnTo>
                  <a:lnTo>
                    <a:pt x="3252" y="661"/>
                  </a:lnTo>
                  <a:lnTo>
                    <a:pt x="3158" y="621"/>
                  </a:lnTo>
                  <a:lnTo>
                    <a:pt x="3065" y="583"/>
                  </a:lnTo>
                  <a:lnTo>
                    <a:pt x="2969" y="546"/>
                  </a:lnTo>
                  <a:lnTo>
                    <a:pt x="2873" y="510"/>
                  </a:lnTo>
                  <a:lnTo>
                    <a:pt x="2777" y="475"/>
                  </a:lnTo>
                  <a:lnTo>
                    <a:pt x="2680" y="442"/>
                  </a:lnTo>
                  <a:lnTo>
                    <a:pt x="2582" y="409"/>
                  </a:lnTo>
                  <a:lnTo>
                    <a:pt x="2484" y="378"/>
                  </a:lnTo>
                  <a:lnTo>
                    <a:pt x="2386" y="348"/>
                  </a:lnTo>
                  <a:lnTo>
                    <a:pt x="2287" y="319"/>
                  </a:lnTo>
                  <a:lnTo>
                    <a:pt x="2188" y="291"/>
                  </a:lnTo>
                  <a:lnTo>
                    <a:pt x="2086" y="266"/>
                  </a:lnTo>
                  <a:lnTo>
                    <a:pt x="1986" y="241"/>
                  </a:lnTo>
                  <a:lnTo>
                    <a:pt x="1886" y="216"/>
                  </a:lnTo>
                  <a:lnTo>
                    <a:pt x="1784" y="193"/>
                  </a:lnTo>
                  <a:lnTo>
                    <a:pt x="1683" y="172"/>
                  </a:lnTo>
                  <a:lnTo>
                    <a:pt x="1580" y="151"/>
                  </a:lnTo>
                  <a:lnTo>
                    <a:pt x="1479" y="131"/>
                  </a:lnTo>
                  <a:lnTo>
                    <a:pt x="1375" y="114"/>
                  </a:lnTo>
                  <a:lnTo>
                    <a:pt x="1270" y="97"/>
                  </a:lnTo>
                  <a:lnTo>
                    <a:pt x="1167" y="83"/>
                  </a:lnTo>
                  <a:lnTo>
                    <a:pt x="1063" y="69"/>
                  </a:lnTo>
                  <a:lnTo>
                    <a:pt x="958" y="55"/>
                  </a:lnTo>
                  <a:lnTo>
                    <a:pt x="854" y="44"/>
                  </a:lnTo>
                  <a:lnTo>
                    <a:pt x="747" y="33"/>
                  </a:lnTo>
                  <a:lnTo>
                    <a:pt x="641" y="25"/>
                  </a:lnTo>
                  <a:lnTo>
                    <a:pt x="536" y="18"/>
                  </a:lnTo>
                  <a:lnTo>
                    <a:pt x="428" y="12"/>
                  </a:lnTo>
                  <a:lnTo>
                    <a:pt x="321" y="7"/>
                  </a:lnTo>
                  <a:lnTo>
                    <a:pt x="215" y="4"/>
                  </a:lnTo>
                  <a:lnTo>
                    <a:pt x="10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8960" y="5421240"/>
              <a:ext cx="604800" cy="6048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680" y="8371"/>
                  </a:moveTo>
                  <a:lnTo>
                    <a:pt x="680" y="8371"/>
                  </a:lnTo>
                  <a:lnTo>
                    <a:pt x="680" y="8272"/>
                  </a:lnTo>
                  <a:lnTo>
                    <a:pt x="681" y="8172"/>
                  </a:lnTo>
                  <a:lnTo>
                    <a:pt x="684" y="8074"/>
                  </a:lnTo>
                  <a:lnTo>
                    <a:pt x="690" y="7974"/>
                  </a:lnTo>
                  <a:lnTo>
                    <a:pt x="695" y="7878"/>
                  </a:lnTo>
                  <a:lnTo>
                    <a:pt x="702" y="7780"/>
                  </a:lnTo>
                  <a:lnTo>
                    <a:pt x="710" y="7682"/>
                  </a:lnTo>
                  <a:lnTo>
                    <a:pt x="719" y="7585"/>
                  </a:lnTo>
                  <a:lnTo>
                    <a:pt x="729" y="7490"/>
                  </a:lnTo>
                  <a:lnTo>
                    <a:pt x="741" y="7394"/>
                  </a:lnTo>
                  <a:lnTo>
                    <a:pt x="754" y="7297"/>
                  </a:lnTo>
                  <a:lnTo>
                    <a:pt x="769" y="7201"/>
                  </a:lnTo>
                  <a:lnTo>
                    <a:pt x="783" y="7106"/>
                  </a:lnTo>
                  <a:lnTo>
                    <a:pt x="799" y="7013"/>
                  </a:lnTo>
                  <a:lnTo>
                    <a:pt x="817" y="6918"/>
                  </a:lnTo>
                  <a:lnTo>
                    <a:pt x="836" y="6823"/>
                  </a:lnTo>
                  <a:lnTo>
                    <a:pt x="856" y="6730"/>
                  </a:lnTo>
                  <a:lnTo>
                    <a:pt x="877" y="6637"/>
                  </a:lnTo>
                  <a:lnTo>
                    <a:pt x="899" y="6544"/>
                  </a:lnTo>
                  <a:lnTo>
                    <a:pt x="922" y="6452"/>
                  </a:lnTo>
                  <a:lnTo>
                    <a:pt x="947" y="6361"/>
                  </a:lnTo>
                  <a:lnTo>
                    <a:pt x="972" y="6270"/>
                  </a:lnTo>
                  <a:lnTo>
                    <a:pt x="998" y="6179"/>
                  </a:lnTo>
                  <a:lnTo>
                    <a:pt x="1026" y="6089"/>
                  </a:lnTo>
                  <a:lnTo>
                    <a:pt x="1055" y="5999"/>
                  </a:lnTo>
                  <a:lnTo>
                    <a:pt x="1084" y="5909"/>
                  </a:lnTo>
                  <a:lnTo>
                    <a:pt x="1115" y="5820"/>
                  </a:lnTo>
                  <a:lnTo>
                    <a:pt x="1147" y="5732"/>
                  </a:lnTo>
                  <a:lnTo>
                    <a:pt x="1180" y="5644"/>
                  </a:lnTo>
                  <a:lnTo>
                    <a:pt x="1215" y="5556"/>
                  </a:lnTo>
                  <a:lnTo>
                    <a:pt x="1248" y="5469"/>
                  </a:lnTo>
                  <a:lnTo>
                    <a:pt x="1285" y="5382"/>
                  </a:lnTo>
                  <a:lnTo>
                    <a:pt x="1323" y="5296"/>
                  </a:lnTo>
                  <a:lnTo>
                    <a:pt x="1360" y="5211"/>
                  </a:lnTo>
                  <a:lnTo>
                    <a:pt x="1399" y="5126"/>
                  </a:lnTo>
                  <a:lnTo>
                    <a:pt x="1439" y="5042"/>
                  </a:lnTo>
                  <a:lnTo>
                    <a:pt x="1481" y="4959"/>
                  </a:lnTo>
                  <a:lnTo>
                    <a:pt x="1522" y="4874"/>
                  </a:lnTo>
                  <a:lnTo>
                    <a:pt x="1565" y="4792"/>
                  </a:lnTo>
                  <a:lnTo>
                    <a:pt x="1609" y="4711"/>
                  </a:lnTo>
                  <a:lnTo>
                    <a:pt x="1654" y="4629"/>
                  </a:lnTo>
                  <a:lnTo>
                    <a:pt x="1700" y="4548"/>
                  </a:lnTo>
                  <a:lnTo>
                    <a:pt x="1747" y="4468"/>
                  </a:lnTo>
                  <a:lnTo>
                    <a:pt x="1795" y="4388"/>
                  </a:lnTo>
                  <a:lnTo>
                    <a:pt x="1845" y="4309"/>
                  </a:lnTo>
                  <a:lnTo>
                    <a:pt x="1894" y="4232"/>
                  </a:lnTo>
                  <a:lnTo>
                    <a:pt x="1944" y="4153"/>
                  </a:lnTo>
                  <a:lnTo>
                    <a:pt x="1996" y="4076"/>
                  </a:lnTo>
                  <a:lnTo>
                    <a:pt x="2048" y="3999"/>
                  </a:lnTo>
                  <a:lnTo>
                    <a:pt x="2101" y="3924"/>
                  </a:lnTo>
                  <a:lnTo>
                    <a:pt x="2154" y="3849"/>
                  </a:lnTo>
                  <a:lnTo>
                    <a:pt x="2210" y="3774"/>
                  </a:lnTo>
                  <a:lnTo>
                    <a:pt x="2266" y="3700"/>
                  </a:lnTo>
                  <a:lnTo>
                    <a:pt x="2323" y="3628"/>
                  </a:lnTo>
                  <a:lnTo>
                    <a:pt x="2381" y="3555"/>
                  </a:lnTo>
                  <a:lnTo>
                    <a:pt x="2439" y="3484"/>
                  </a:lnTo>
                  <a:lnTo>
                    <a:pt x="2499" y="3413"/>
                  </a:lnTo>
                  <a:lnTo>
                    <a:pt x="2558" y="3342"/>
                  </a:lnTo>
                  <a:lnTo>
                    <a:pt x="2619" y="3272"/>
                  </a:lnTo>
                  <a:lnTo>
                    <a:pt x="2682" y="3204"/>
                  </a:lnTo>
                  <a:lnTo>
                    <a:pt x="2744" y="3136"/>
                  </a:lnTo>
                  <a:lnTo>
                    <a:pt x="2807" y="3069"/>
                  </a:lnTo>
                  <a:lnTo>
                    <a:pt x="2872" y="3002"/>
                  </a:lnTo>
                  <a:lnTo>
                    <a:pt x="2937" y="2937"/>
                  </a:lnTo>
                  <a:lnTo>
                    <a:pt x="3002" y="2872"/>
                  </a:lnTo>
                  <a:lnTo>
                    <a:pt x="3068" y="2807"/>
                  </a:lnTo>
                  <a:lnTo>
                    <a:pt x="3136" y="2745"/>
                  </a:lnTo>
                  <a:lnTo>
                    <a:pt x="3204" y="2682"/>
                  </a:lnTo>
                  <a:lnTo>
                    <a:pt x="3273" y="2620"/>
                  </a:lnTo>
                  <a:lnTo>
                    <a:pt x="3342" y="2558"/>
                  </a:lnTo>
                  <a:lnTo>
                    <a:pt x="3412" y="2499"/>
                  </a:lnTo>
                  <a:lnTo>
                    <a:pt x="3484" y="2439"/>
                  </a:lnTo>
                  <a:lnTo>
                    <a:pt x="3555" y="2382"/>
                  </a:lnTo>
                  <a:lnTo>
                    <a:pt x="3628" y="2324"/>
                  </a:lnTo>
                  <a:lnTo>
                    <a:pt x="3700" y="2267"/>
                  </a:lnTo>
                  <a:lnTo>
                    <a:pt x="3774" y="2210"/>
                  </a:lnTo>
                  <a:lnTo>
                    <a:pt x="3848" y="2156"/>
                  </a:lnTo>
                  <a:lnTo>
                    <a:pt x="3924" y="2101"/>
                  </a:lnTo>
                  <a:lnTo>
                    <a:pt x="3998" y="2049"/>
                  </a:lnTo>
                  <a:lnTo>
                    <a:pt x="4076" y="1996"/>
                  </a:lnTo>
                  <a:lnTo>
                    <a:pt x="4152" y="1944"/>
                  </a:lnTo>
                  <a:lnTo>
                    <a:pt x="4230" y="1894"/>
                  </a:lnTo>
                  <a:lnTo>
                    <a:pt x="4309" y="1845"/>
                  </a:lnTo>
                  <a:lnTo>
                    <a:pt x="4388" y="1796"/>
                  </a:lnTo>
                  <a:lnTo>
                    <a:pt x="4468" y="1747"/>
                  </a:lnTo>
                  <a:lnTo>
                    <a:pt x="4548" y="1700"/>
                  </a:lnTo>
                  <a:lnTo>
                    <a:pt x="4629" y="1655"/>
                  </a:lnTo>
                  <a:lnTo>
                    <a:pt x="4710" y="1609"/>
                  </a:lnTo>
                  <a:lnTo>
                    <a:pt x="4791" y="1566"/>
                  </a:lnTo>
                  <a:lnTo>
                    <a:pt x="4874" y="1522"/>
                  </a:lnTo>
                  <a:lnTo>
                    <a:pt x="4958" y="1482"/>
                  </a:lnTo>
                  <a:lnTo>
                    <a:pt x="5041" y="1440"/>
                  </a:lnTo>
                  <a:lnTo>
                    <a:pt x="5126" y="1399"/>
                  </a:lnTo>
                  <a:lnTo>
                    <a:pt x="5210" y="1361"/>
                  </a:lnTo>
                  <a:lnTo>
                    <a:pt x="5296" y="1323"/>
                  </a:lnTo>
                  <a:lnTo>
                    <a:pt x="5382" y="1285"/>
                  </a:lnTo>
                  <a:lnTo>
                    <a:pt x="5469" y="1248"/>
                  </a:lnTo>
                  <a:lnTo>
                    <a:pt x="5556" y="1215"/>
                  </a:lnTo>
                  <a:lnTo>
                    <a:pt x="5643" y="1180"/>
                  </a:lnTo>
                  <a:lnTo>
                    <a:pt x="5731" y="1148"/>
                  </a:lnTo>
                  <a:lnTo>
                    <a:pt x="5820" y="1115"/>
                  </a:lnTo>
                  <a:lnTo>
                    <a:pt x="5909" y="1085"/>
                  </a:lnTo>
                  <a:lnTo>
                    <a:pt x="5998" y="1055"/>
                  </a:lnTo>
                  <a:lnTo>
                    <a:pt x="6088" y="1026"/>
                  </a:lnTo>
                  <a:lnTo>
                    <a:pt x="6179" y="999"/>
                  </a:lnTo>
                  <a:lnTo>
                    <a:pt x="6270" y="972"/>
                  </a:lnTo>
                  <a:lnTo>
                    <a:pt x="6361" y="947"/>
                  </a:lnTo>
                  <a:lnTo>
                    <a:pt x="6452" y="922"/>
                  </a:lnTo>
                  <a:lnTo>
                    <a:pt x="6544" y="899"/>
                  </a:lnTo>
                  <a:lnTo>
                    <a:pt x="6636" y="877"/>
                  </a:lnTo>
                  <a:lnTo>
                    <a:pt x="6730" y="857"/>
                  </a:lnTo>
                  <a:lnTo>
                    <a:pt x="6823" y="836"/>
                  </a:lnTo>
                  <a:lnTo>
                    <a:pt x="6918" y="817"/>
                  </a:lnTo>
                  <a:lnTo>
                    <a:pt x="7012" y="800"/>
                  </a:lnTo>
                  <a:lnTo>
                    <a:pt x="7107" y="784"/>
                  </a:lnTo>
                  <a:lnTo>
                    <a:pt x="7201" y="769"/>
                  </a:lnTo>
                  <a:lnTo>
                    <a:pt x="7296" y="754"/>
                  </a:lnTo>
                  <a:lnTo>
                    <a:pt x="7393" y="741"/>
                  </a:lnTo>
                  <a:lnTo>
                    <a:pt x="7489" y="730"/>
                  </a:lnTo>
                  <a:lnTo>
                    <a:pt x="7586" y="719"/>
                  </a:lnTo>
                  <a:lnTo>
                    <a:pt x="7682" y="710"/>
                  </a:lnTo>
                  <a:lnTo>
                    <a:pt x="7780" y="702"/>
                  </a:lnTo>
                  <a:lnTo>
                    <a:pt x="7878" y="695"/>
                  </a:lnTo>
                  <a:lnTo>
                    <a:pt x="7974" y="690"/>
                  </a:lnTo>
                  <a:lnTo>
                    <a:pt x="8073" y="684"/>
                  </a:lnTo>
                  <a:lnTo>
                    <a:pt x="8172" y="681"/>
                  </a:lnTo>
                  <a:lnTo>
                    <a:pt x="8272" y="681"/>
                  </a:lnTo>
                  <a:lnTo>
                    <a:pt x="8371" y="680"/>
                  </a:lnTo>
                  <a:lnTo>
                    <a:pt x="8371" y="0"/>
                  </a:lnTo>
                  <a:lnTo>
                    <a:pt x="8263" y="1"/>
                  </a:lnTo>
                  <a:lnTo>
                    <a:pt x="8156" y="4"/>
                  </a:lnTo>
                  <a:lnTo>
                    <a:pt x="8050" y="7"/>
                  </a:lnTo>
                  <a:lnTo>
                    <a:pt x="7943" y="12"/>
                  </a:lnTo>
                  <a:lnTo>
                    <a:pt x="7835" y="18"/>
                  </a:lnTo>
                  <a:lnTo>
                    <a:pt x="7730" y="25"/>
                  </a:lnTo>
                  <a:lnTo>
                    <a:pt x="7624" y="33"/>
                  </a:lnTo>
                  <a:lnTo>
                    <a:pt x="7517" y="44"/>
                  </a:lnTo>
                  <a:lnTo>
                    <a:pt x="7413" y="55"/>
                  </a:lnTo>
                  <a:lnTo>
                    <a:pt x="7308" y="69"/>
                  </a:lnTo>
                  <a:lnTo>
                    <a:pt x="7204" y="83"/>
                  </a:lnTo>
                  <a:lnTo>
                    <a:pt x="7100" y="97"/>
                  </a:lnTo>
                  <a:lnTo>
                    <a:pt x="6995" y="114"/>
                  </a:lnTo>
                  <a:lnTo>
                    <a:pt x="6892" y="131"/>
                  </a:lnTo>
                  <a:lnTo>
                    <a:pt x="6790" y="151"/>
                  </a:lnTo>
                  <a:lnTo>
                    <a:pt x="6688" y="172"/>
                  </a:lnTo>
                  <a:lnTo>
                    <a:pt x="6587" y="193"/>
                  </a:lnTo>
                  <a:lnTo>
                    <a:pt x="6485" y="216"/>
                  </a:lnTo>
                  <a:lnTo>
                    <a:pt x="6384" y="241"/>
                  </a:lnTo>
                  <a:lnTo>
                    <a:pt x="6285" y="266"/>
                  </a:lnTo>
                  <a:lnTo>
                    <a:pt x="6183" y="291"/>
                  </a:lnTo>
                  <a:lnTo>
                    <a:pt x="6084" y="319"/>
                  </a:lnTo>
                  <a:lnTo>
                    <a:pt x="5984" y="348"/>
                  </a:lnTo>
                  <a:lnTo>
                    <a:pt x="5886" y="378"/>
                  </a:lnTo>
                  <a:lnTo>
                    <a:pt x="5789" y="409"/>
                  </a:lnTo>
                  <a:lnTo>
                    <a:pt x="5691" y="442"/>
                  </a:lnTo>
                  <a:lnTo>
                    <a:pt x="5594" y="475"/>
                  </a:lnTo>
                  <a:lnTo>
                    <a:pt x="5498" y="510"/>
                  </a:lnTo>
                  <a:lnTo>
                    <a:pt x="5401" y="546"/>
                  </a:lnTo>
                  <a:lnTo>
                    <a:pt x="5306" y="583"/>
                  </a:lnTo>
                  <a:lnTo>
                    <a:pt x="5211" y="622"/>
                  </a:lnTo>
                  <a:lnTo>
                    <a:pt x="5119" y="661"/>
                  </a:lnTo>
                  <a:lnTo>
                    <a:pt x="5025" y="701"/>
                  </a:lnTo>
                  <a:lnTo>
                    <a:pt x="4932" y="742"/>
                  </a:lnTo>
                  <a:lnTo>
                    <a:pt x="4838" y="786"/>
                  </a:lnTo>
                  <a:lnTo>
                    <a:pt x="4747" y="829"/>
                  </a:lnTo>
                  <a:lnTo>
                    <a:pt x="4655" y="873"/>
                  </a:lnTo>
                  <a:lnTo>
                    <a:pt x="4566" y="920"/>
                  </a:lnTo>
                  <a:lnTo>
                    <a:pt x="4475" y="966"/>
                  </a:lnTo>
                  <a:lnTo>
                    <a:pt x="4386" y="1014"/>
                  </a:lnTo>
                  <a:lnTo>
                    <a:pt x="4297" y="1063"/>
                  </a:lnTo>
                  <a:lnTo>
                    <a:pt x="4210" y="1113"/>
                  </a:lnTo>
                  <a:lnTo>
                    <a:pt x="4123" y="1164"/>
                  </a:lnTo>
                  <a:lnTo>
                    <a:pt x="4035" y="1216"/>
                  </a:lnTo>
                  <a:lnTo>
                    <a:pt x="3950" y="1268"/>
                  </a:lnTo>
                  <a:lnTo>
                    <a:pt x="3864" y="1323"/>
                  </a:lnTo>
                  <a:lnTo>
                    <a:pt x="3781" y="1378"/>
                  </a:lnTo>
                  <a:lnTo>
                    <a:pt x="3696" y="1434"/>
                  </a:lnTo>
                  <a:lnTo>
                    <a:pt x="3613" y="1491"/>
                  </a:lnTo>
                  <a:lnTo>
                    <a:pt x="3530" y="1549"/>
                  </a:lnTo>
                  <a:lnTo>
                    <a:pt x="3450" y="1608"/>
                  </a:lnTo>
                  <a:lnTo>
                    <a:pt x="3368" y="1668"/>
                  </a:lnTo>
                  <a:lnTo>
                    <a:pt x="3288" y="1728"/>
                  </a:lnTo>
                  <a:lnTo>
                    <a:pt x="3208" y="1790"/>
                  </a:lnTo>
                  <a:lnTo>
                    <a:pt x="3130" y="1853"/>
                  </a:lnTo>
                  <a:lnTo>
                    <a:pt x="3051" y="1916"/>
                  </a:lnTo>
                  <a:lnTo>
                    <a:pt x="2974" y="1981"/>
                  </a:lnTo>
                  <a:lnTo>
                    <a:pt x="2898" y="2047"/>
                  </a:lnTo>
                  <a:lnTo>
                    <a:pt x="2822" y="2113"/>
                  </a:lnTo>
                  <a:lnTo>
                    <a:pt x="2748" y="2180"/>
                  </a:lnTo>
                  <a:lnTo>
                    <a:pt x="2673" y="2248"/>
                  </a:lnTo>
                  <a:lnTo>
                    <a:pt x="2601" y="2317"/>
                  </a:lnTo>
                  <a:lnTo>
                    <a:pt x="2529" y="2386"/>
                  </a:lnTo>
                  <a:lnTo>
                    <a:pt x="2457" y="2457"/>
                  </a:lnTo>
                  <a:lnTo>
                    <a:pt x="2386" y="2529"/>
                  </a:lnTo>
                  <a:lnTo>
                    <a:pt x="2317" y="2601"/>
                  </a:lnTo>
                  <a:lnTo>
                    <a:pt x="2248" y="2675"/>
                  </a:lnTo>
                  <a:lnTo>
                    <a:pt x="2180" y="2748"/>
                  </a:lnTo>
                  <a:lnTo>
                    <a:pt x="2113" y="2823"/>
                  </a:lnTo>
                  <a:lnTo>
                    <a:pt x="2046" y="2898"/>
                  </a:lnTo>
                  <a:lnTo>
                    <a:pt x="1981" y="2975"/>
                  </a:lnTo>
                  <a:lnTo>
                    <a:pt x="1916" y="3051"/>
                  </a:lnTo>
                  <a:lnTo>
                    <a:pt x="1852" y="3130"/>
                  </a:lnTo>
                  <a:lnTo>
                    <a:pt x="1789" y="3208"/>
                  </a:lnTo>
                  <a:lnTo>
                    <a:pt x="1728" y="3289"/>
                  </a:lnTo>
                  <a:lnTo>
                    <a:pt x="1668" y="3368"/>
                  </a:lnTo>
                  <a:lnTo>
                    <a:pt x="1608" y="3450"/>
                  </a:lnTo>
                  <a:lnTo>
                    <a:pt x="1549" y="3530"/>
                  </a:lnTo>
                  <a:lnTo>
                    <a:pt x="1490" y="3614"/>
                  </a:lnTo>
                  <a:lnTo>
                    <a:pt x="1434" y="3696"/>
                  </a:lnTo>
                  <a:lnTo>
                    <a:pt x="1378" y="3781"/>
                  </a:lnTo>
                  <a:lnTo>
                    <a:pt x="1323" y="3864"/>
                  </a:lnTo>
                  <a:lnTo>
                    <a:pt x="1268" y="3950"/>
                  </a:lnTo>
                  <a:lnTo>
                    <a:pt x="1216" y="4036"/>
                  </a:lnTo>
                  <a:lnTo>
                    <a:pt x="1164" y="4123"/>
                  </a:lnTo>
                  <a:lnTo>
                    <a:pt x="1113" y="4211"/>
                  </a:lnTo>
                  <a:lnTo>
                    <a:pt x="1062" y="4297"/>
                  </a:lnTo>
                  <a:lnTo>
                    <a:pt x="1014" y="4386"/>
                  </a:lnTo>
                  <a:lnTo>
                    <a:pt x="966" y="4476"/>
                  </a:lnTo>
                  <a:lnTo>
                    <a:pt x="919" y="4566"/>
                  </a:lnTo>
                  <a:lnTo>
                    <a:pt x="873" y="4656"/>
                  </a:lnTo>
                  <a:lnTo>
                    <a:pt x="829" y="4747"/>
                  </a:lnTo>
                  <a:lnTo>
                    <a:pt x="785" y="4839"/>
                  </a:lnTo>
                  <a:lnTo>
                    <a:pt x="742" y="4932"/>
                  </a:lnTo>
                  <a:lnTo>
                    <a:pt x="701" y="5025"/>
                  </a:lnTo>
                  <a:lnTo>
                    <a:pt x="660" y="5119"/>
                  </a:lnTo>
                  <a:lnTo>
                    <a:pt x="622" y="5212"/>
                  </a:lnTo>
                  <a:lnTo>
                    <a:pt x="583" y="5306"/>
                  </a:lnTo>
                  <a:lnTo>
                    <a:pt x="545" y="5402"/>
                  </a:lnTo>
                  <a:lnTo>
                    <a:pt x="510" y="5498"/>
                  </a:lnTo>
                  <a:lnTo>
                    <a:pt x="475" y="5594"/>
                  </a:lnTo>
                  <a:lnTo>
                    <a:pt x="442" y="5691"/>
                  </a:lnTo>
                  <a:lnTo>
                    <a:pt x="409" y="5789"/>
                  </a:lnTo>
                  <a:lnTo>
                    <a:pt x="378" y="5887"/>
                  </a:lnTo>
                  <a:lnTo>
                    <a:pt x="347" y="5985"/>
                  </a:lnTo>
                  <a:lnTo>
                    <a:pt x="319" y="6084"/>
                  </a:lnTo>
                  <a:lnTo>
                    <a:pt x="291" y="6183"/>
                  </a:lnTo>
                  <a:lnTo>
                    <a:pt x="266" y="6285"/>
                  </a:lnTo>
                  <a:lnTo>
                    <a:pt x="240" y="6385"/>
                  </a:lnTo>
                  <a:lnTo>
                    <a:pt x="216" y="6485"/>
                  </a:lnTo>
                  <a:lnTo>
                    <a:pt x="193" y="6587"/>
                  </a:lnTo>
                  <a:lnTo>
                    <a:pt x="172" y="6688"/>
                  </a:lnTo>
                  <a:lnTo>
                    <a:pt x="151" y="6791"/>
                  </a:lnTo>
                  <a:lnTo>
                    <a:pt x="132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2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2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80" y="837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88960" y="6026040"/>
              <a:ext cx="604800" cy="60336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8371" y="7691"/>
                  </a:moveTo>
                  <a:lnTo>
                    <a:pt x="8371" y="7691"/>
                  </a:lnTo>
                  <a:lnTo>
                    <a:pt x="8272" y="7691"/>
                  </a:lnTo>
                  <a:lnTo>
                    <a:pt x="8172" y="7690"/>
                  </a:lnTo>
                  <a:lnTo>
                    <a:pt x="8073" y="7687"/>
                  </a:lnTo>
                  <a:lnTo>
                    <a:pt x="7974" y="7681"/>
                  </a:lnTo>
                  <a:lnTo>
                    <a:pt x="7878" y="7676"/>
                  </a:lnTo>
                  <a:lnTo>
                    <a:pt x="7780" y="7669"/>
                  </a:lnTo>
                  <a:lnTo>
                    <a:pt x="7682" y="7661"/>
                  </a:lnTo>
                  <a:lnTo>
                    <a:pt x="7585" y="7652"/>
                  </a:lnTo>
                  <a:lnTo>
                    <a:pt x="7489" y="7642"/>
                  </a:lnTo>
                  <a:lnTo>
                    <a:pt x="7393" y="7630"/>
                  </a:lnTo>
                  <a:lnTo>
                    <a:pt x="7296" y="7617"/>
                  </a:lnTo>
                  <a:lnTo>
                    <a:pt x="7201" y="7602"/>
                  </a:lnTo>
                  <a:lnTo>
                    <a:pt x="7106" y="7588"/>
                  </a:lnTo>
                  <a:lnTo>
                    <a:pt x="7012" y="7572"/>
                  </a:lnTo>
                  <a:lnTo>
                    <a:pt x="6918" y="7554"/>
                  </a:lnTo>
                  <a:lnTo>
                    <a:pt x="6823" y="7535"/>
                  </a:lnTo>
                  <a:lnTo>
                    <a:pt x="6730" y="7515"/>
                  </a:lnTo>
                  <a:lnTo>
                    <a:pt x="6636" y="7494"/>
                  </a:lnTo>
                  <a:lnTo>
                    <a:pt x="6544" y="7472"/>
                  </a:lnTo>
                  <a:lnTo>
                    <a:pt x="6452" y="7449"/>
                  </a:lnTo>
                  <a:lnTo>
                    <a:pt x="6361" y="7424"/>
                  </a:lnTo>
                  <a:lnTo>
                    <a:pt x="6270" y="7399"/>
                  </a:lnTo>
                  <a:lnTo>
                    <a:pt x="6179" y="7373"/>
                  </a:lnTo>
                  <a:lnTo>
                    <a:pt x="6088" y="7345"/>
                  </a:lnTo>
                  <a:lnTo>
                    <a:pt x="5998" y="7316"/>
                  </a:lnTo>
                  <a:lnTo>
                    <a:pt x="5909" y="7287"/>
                  </a:lnTo>
                  <a:lnTo>
                    <a:pt x="5820" y="7256"/>
                  </a:lnTo>
                  <a:lnTo>
                    <a:pt x="5731" y="7224"/>
                  </a:lnTo>
                  <a:lnTo>
                    <a:pt x="5643" y="7191"/>
                  </a:lnTo>
                  <a:lnTo>
                    <a:pt x="5556" y="7156"/>
                  </a:lnTo>
                  <a:lnTo>
                    <a:pt x="5469" y="7123"/>
                  </a:lnTo>
                  <a:lnTo>
                    <a:pt x="5382" y="7086"/>
                  </a:lnTo>
                  <a:lnTo>
                    <a:pt x="5296" y="7048"/>
                  </a:lnTo>
                  <a:lnTo>
                    <a:pt x="5210" y="7011"/>
                  </a:lnTo>
                  <a:lnTo>
                    <a:pt x="5126" y="6972"/>
                  </a:lnTo>
                  <a:lnTo>
                    <a:pt x="5041" y="6932"/>
                  </a:lnTo>
                  <a:lnTo>
                    <a:pt x="4958" y="6890"/>
                  </a:lnTo>
                  <a:lnTo>
                    <a:pt x="4875" y="6849"/>
                  </a:lnTo>
                  <a:lnTo>
                    <a:pt x="4791" y="6806"/>
                  </a:lnTo>
                  <a:lnTo>
                    <a:pt x="4710" y="6762"/>
                  </a:lnTo>
                  <a:lnTo>
                    <a:pt x="4629" y="6717"/>
                  </a:lnTo>
                  <a:lnTo>
                    <a:pt x="4548" y="6671"/>
                  </a:lnTo>
                  <a:lnTo>
                    <a:pt x="4468" y="6624"/>
                  </a:lnTo>
                  <a:lnTo>
                    <a:pt x="4388" y="6576"/>
                  </a:lnTo>
                  <a:lnTo>
                    <a:pt x="4309" y="6526"/>
                  </a:lnTo>
                  <a:lnTo>
                    <a:pt x="4230" y="6477"/>
                  </a:lnTo>
                  <a:lnTo>
                    <a:pt x="4154" y="6427"/>
                  </a:lnTo>
                  <a:lnTo>
                    <a:pt x="4076" y="6375"/>
                  </a:lnTo>
                  <a:lnTo>
                    <a:pt x="3998" y="6323"/>
                  </a:lnTo>
                  <a:lnTo>
                    <a:pt x="3924" y="6270"/>
                  </a:lnTo>
                  <a:lnTo>
                    <a:pt x="3848" y="6217"/>
                  </a:lnTo>
                  <a:lnTo>
                    <a:pt x="3774" y="6161"/>
                  </a:lnTo>
                  <a:lnTo>
                    <a:pt x="3700" y="6105"/>
                  </a:lnTo>
                  <a:lnTo>
                    <a:pt x="3628" y="6048"/>
                  </a:lnTo>
                  <a:lnTo>
                    <a:pt x="3555" y="5990"/>
                  </a:lnTo>
                  <a:lnTo>
                    <a:pt x="3484" y="5932"/>
                  </a:lnTo>
                  <a:lnTo>
                    <a:pt x="3412" y="5872"/>
                  </a:lnTo>
                  <a:lnTo>
                    <a:pt x="3342" y="5813"/>
                  </a:lnTo>
                  <a:lnTo>
                    <a:pt x="3273" y="5752"/>
                  </a:lnTo>
                  <a:lnTo>
                    <a:pt x="3204" y="5689"/>
                  </a:lnTo>
                  <a:lnTo>
                    <a:pt x="3136" y="5627"/>
                  </a:lnTo>
                  <a:lnTo>
                    <a:pt x="3068" y="5564"/>
                  </a:lnTo>
                  <a:lnTo>
                    <a:pt x="3002" y="5499"/>
                  </a:lnTo>
                  <a:lnTo>
                    <a:pt x="2937" y="5434"/>
                  </a:lnTo>
                  <a:lnTo>
                    <a:pt x="2872" y="5369"/>
                  </a:lnTo>
                  <a:lnTo>
                    <a:pt x="2807" y="5303"/>
                  </a:lnTo>
                  <a:lnTo>
                    <a:pt x="2744" y="5235"/>
                  </a:lnTo>
                  <a:lnTo>
                    <a:pt x="2682" y="5167"/>
                  </a:lnTo>
                  <a:lnTo>
                    <a:pt x="2619" y="5098"/>
                  </a:lnTo>
                  <a:lnTo>
                    <a:pt x="2558" y="5029"/>
                  </a:lnTo>
                  <a:lnTo>
                    <a:pt x="2499" y="4959"/>
                  </a:lnTo>
                  <a:lnTo>
                    <a:pt x="2439" y="4887"/>
                  </a:lnTo>
                  <a:lnTo>
                    <a:pt x="2381" y="4816"/>
                  </a:lnTo>
                  <a:lnTo>
                    <a:pt x="2323" y="4743"/>
                  </a:lnTo>
                  <a:lnTo>
                    <a:pt x="2266" y="4671"/>
                  </a:lnTo>
                  <a:lnTo>
                    <a:pt x="2210" y="4597"/>
                  </a:lnTo>
                  <a:lnTo>
                    <a:pt x="2154" y="4523"/>
                  </a:lnTo>
                  <a:lnTo>
                    <a:pt x="2101" y="4447"/>
                  </a:lnTo>
                  <a:lnTo>
                    <a:pt x="2048" y="4373"/>
                  </a:lnTo>
                  <a:lnTo>
                    <a:pt x="1996" y="4295"/>
                  </a:lnTo>
                  <a:lnTo>
                    <a:pt x="1944" y="4217"/>
                  </a:lnTo>
                  <a:lnTo>
                    <a:pt x="1894" y="4141"/>
                  </a:lnTo>
                  <a:lnTo>
                    <a:pt x="1845" y="4062"/>
                  </a:lnTo>
                  <a:lnTo>
                    <a:pt x="1795" y="3983"/>
                  </a:lnTo>
                  <a:lnTo>
                    <a:pt x="1747" y="3903"/>
                  </a:lnTo>
                  <a:lnTo>
                    <a:pt x="1700" y="3823"/>
                  </a:lnTo>
                  <a:lnTo>
                    <a:pt x="1654" y="3742"/>
                  </a:lnTo>
                  <a:lnTo>
                    <a:pt x="1609" y="3661"/>
                  </a:lnTo>
                  <a:lnTo>
                    <a:pt x="1565" y="3580"/>
                  </a:lnTo>
                  <a:lnTo>
                    <a:pt x="1522" y="3496"/>
                  </a:lnTo>
                  <a:lnTo>
                    <a:pt x="1481" y="3413"/>
                  </a:lnTo>
                  <a:lnTo>
                    <a:pt x="1439" y="3330"/>
                  </a:lnTo>
                  <a:lnTo>
                    <a:pt x="1399" y="3245"/>
                  </a:lnTo>
                  <a:lnTo>
                    <a:pt x="1360" y="3161"/>
                  </a:lnTo>
                  <a:lnTo>
                    <a:pt x="1323" y="3075"/>
                  </a:lnTo>
                  <a:lnTo>
                    <a:pt x="1285" y="2989"/>
                  </a:lnTo>
                  <a:lnTo>
                    <a:pt x="1248" y="2902"/>
                  </a:lnTo>
                  <a:lnTo>
                    <a:pt x="1215" y="2815"/>
                  </a:lnTo>
                  <a:lnTo>
                    <a:pt x="1180" y="2728"/>
                  </a:lnTo>
                  <a:lnTo>
                    <a:pt x="1147" y="2640"/>
                  </a:lnTo>
                  <a:lnTo>
                    <a:pt x="1115" y="2551"/>
                  </a:lnTo>
                  <a:lnTo>
                    <a:pt x="1084" y="2462"/>
                  </a:lnTo>
                  <a:lnTo>
                    <a:pt x="1055" y="2373"/>
                  </a:lnTo>
                  <a:lnTo>
                    <a:pt x="1026" y="2283"/>
                  </a:lnTo>
                  <a:lnTo>
                    <a:pt x="998" y="2192"/>
                  </a:lnTo>
                  <a:lnTo>
                    <a:pt x="972" y="2101"/>
                  </a:lnTo>
                  <a:lnTo>
                    <a:pt x="947" y="2010"/>
                  </a:lnTo>
                  <a:lnTo>
                    <a:pt x="922" y="1919"/>
                  </a:lnTo>
                  <a:lnTo>
                    <a:pt x="899" y="1827"/>
                  </a:lnTo>
                  <a:lnTo>
                    <a:pt x="877" y="1735"/>
                  </a:lnTo>
                  <a:lnTo>
                    <a:pt x="856" y="1641"/>
                  </a:lnTo>
                  <a:lnTo>
                    <a:pt x="836" y="1548"/>
                  </a:lnTo>
                  <a:lnTo>
                    <a:pt x="817" y="1453"/>
                  </a:lnTo>
                  <a:lnTo>
                    <a:pt x="799" y="1359"/>
                  </a:lnTo>
                  <a:lnTo>
                    <a:pt x="783" y="1265"/>
                  </a:lnTo>
                  <a:lnTo>
                    <a:pt x="769" y="1170"/>
                  </a:lnTo>
                  <a:lnTo>
                    <a:pt x="754" y="1075"/>
                  </a:lnTo>
                  <a:lnTo>
                    <a:pt x="741" y="978"/>
                  </a:lnTo>
                  <a:lnTo>
                    <a:pt x="729" y="882"/>
                  </a:lnTo>
                  <a:lnTo>
                    <a:pt x="719" y="786"/>
                  </a:lnTo>
                  <a:lnTo>
                    <a:pt x="710" y="689"/>
                  </a:lnTo>
                  <a:lnTo>
                    <a:pt x="702" y="591"/>
                  </a:lnTo>
                  <a:lnTo>
                    <a:pt x="695" y="493"/>
                  </a:lnTo>
                  <a:lnTo>
                    <a:pt x="690" y="397"/>
                  </a:lnTo>
                  <a:lnTo>
                    <a:pt x="684" y="298"/>
                  </a:lnTo>
                  <a:lnTo>
                    <a:pt x="681" y="199"/>
                  </a:lnTo>
                  <a:lnTo>
                    <a:pt x="680" y="99"/>
                  </a:lnTo>
                  <a:lnTo>
                    <a:pt x="680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2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2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2" y="1479"/>
                  </a:lnTo>
                  <a:lnTo>
                    <a:pt x="151" y="1581"/>
                  </a:lnTo>
                  <a:lnTo>
                    <a:pt x="172" y="1683"/>
                  </a:lnTo>
                  <a:lnTo>
                    <a:pt x="193" y="1784"/>
                  </a:lnTo>
                  <a:lnTo>
                    <a:pt x="216" y="1886"/>
                  </a:lnTo>
                  <a:lnTo>
                    <a:pt x="240" y="1987"/>
                  </a:lnTo>
                  <a:lnTo>
                    <a:pt x="266" y="2086"/>
                  </a:lnTo>
                  <a:lnTo>
                    <a:pt x="291" y="2188"/>
                  </a:lnTo>
                  <a:lnTo>
                    <a:pt x="319" y="2287"/>
                  </a:lnTo>
                  <a:lnTo>
                    <a:pt x="347" y="2387"/>
                  </a:lnTo>
                  <a:lnTo>
                    <a:pt x="378" y="2485"/>
                  </a:lnTo>
                  <a:lnTo>
                    <a:pt x="409" y="2582"/>
                  </a:lnTo>
                  <a:lnTo>
                    <a:pt x="442" y="2680"/>
                  </a:lnTo>
                  <a:lnTo>
                    <a:pt x="475" y="2777"/>
                  </a:lnTo>
                  <a:lnTo>
                    <a:pt x="510" y="2873"/>
                  </a:lnTo>
                  <a:lnTo>
                    <a:pt x="545" y="2970"/>
                  </a:lnTo>
                  <a:lnTo>
                    <a:pt x="583" y="3065"/>
                  </a:lnTo>
                  <a:lnTo>
                    <a:pt x="622" y="3160"/>
                  </a:lnTo>
                  <a:lnTo>
                    <a:pt x="660" y="3252"/>
                  </a:lnTo>
                  <a:lnTo>
                    <a:pt x="701" y="3346"/>
                  </a:lnTo>
                  <a:lnTo>
                    <a:pt x="742" y="3439"/>
                  </a:lnTo>
                  <a:lnTo>
                    <a:pt x="785" y="3533"/>
                  </a:lnTo>
                  <a:lnTo>
                    <a:pt x="829" y="3624"/>
                  </a:lnTo>
                  <a:lnTo>
                    <a:pt x="873" y="3716"/>
                  </a:lnTo>
                  <a:lnTo>
                    <a:pt x="919" y="3807"/>
                  </a:lnTo>
                  <a:lnTo>
                    <a:pt x="966" y="3896"/>
                  </a:lnTo>
                  <a:lnTo>
                    <a:pt x="1014" y="3985"/>
                  </a:lnTo>
                  <a:lnTo>
                    <a:pt x="1062" y="4074"/>
                  </a:lnTo>
                  <a:lnTo>
                    <a:pt x="1113" y="4161"/>
                  </a:lnTo>
                  <a:lnTo>
                    <a:pt x="1164" y="4248"/>
                  </a:lnTo>
                  <a:lnTo>
                    <a:pt x="1216" y="4336"/>
                  </a:lnTo>
                  <a:lnTo>
                    <a:pt x="1268" y="4421"/>
                  </a:lnTo>
                  <a:lnTo>
                    <a:pt x="1323" y="4507"/>
                  </a:lnTo>
                  <a:lnTo>
                    <a:pt x="1378" y="4591"/>
                  </a:lnTo>
                  <a:lnTo>
                    <a:pt x="1434" y="4675"/>
                  </a:lnTo>
                  <a:lnTo>
                    <a:pt x="1490" y="4758"/>
                  </a:lnTo>
                  <a:lnTo>
                    <a:pt x="1549" y="4841"/>
                  </a:lnTo>
                  <a:lnTo>
                    <a:pt x="1608" y="4921"/>
                  </a:lnTo>
                  <a:lnTo>
                    <a:pt x="1668" y="5003"/>
                  </a:lnTo>
                  <a:lnTo>
                    <a:pt x="1728" y="5083"/>
                  </a:lnTo>
                  <a:lnTo>
                    <a:pt x="1789" y="5163"/>
                  </a:lnTo>
                  <a:lnTo>
                    <a:pt x="1852" y="5241"/>
                  </a:lnTo>
                  <a:lnTo>
                    <a:pt x="1916" y="5320"/>
                  </a:lnTo>
                  <a:lnTo>
                    <a:pt x="1981" y="5397"/>
                  </a:lnTo>
                  <a:lnTo>
                    <a:pt x="2046" y="5473"/>
                  </a:lnTo>
                  <a:lnTo>
                    <a:pt x="2113" y="5549"/>
                  </a:lnTo>
                  <a:lnTo>
                    <a:pt x="2180" y="5623"/>
                  </a:lnTo>
                  <a:lnTo>
                    <a:pt x="2248" y="5698"/>
                  </a:lnTo>
                  <a:lnTo>
                    <a:pt x="2317" y="5770"/>
                  </a:lnTo>
                  <a:lnTo>
                    <a:pt x="2386" y="5842"/>
                  </a:lnTo>
                  <a:lnTo>
                    <a:pt x="2457" y="5914"/>
                  </a:lnTo>
                  <a:lnTo>
                    <a:pt x="2529" y="5985"/>
                  </a:lnTo>
                  <a:lnTo>
                    <a:pt x="2601" y="6054"/>
                  </a:lnTo>
                  <a:lnTo>
                    <a:pt x="2673" y="6123"/>
                  </a:lnTo>
                  <a:lnTo>
                    <a:pt x="2748" y="6191"/>
                  </a:lnTo>
                  <a:lnTo>
                    <a:pt x="2822" y="6258"/>
                  </a:lnTo>
                  <a:lnTo>
                    <a:pt x="2898" y="6325"/>
                  </a:lnTo>
                  <a:lnTo>
                    <a:pt x="2974" y="6390"/>
                  </a:lnTo>
                  <a:lnTo>
                    <a:pt x="3051" y="6455"/>
                  </a:lnTo>
                  <a:lnTo>
                    <a:pt x="3130" y="6519"/>
                  </a:lnTo>
                  <a:lnTo>
                    <a:pt x="3208" y="6582"/>
                  </a:lnTo>
                  <a:lnTo>
                    <a:pt x="3288" y="6643"/>
                  </a:lnTo>
                  <a:lnTo>
                    <a:pt x="3368" y="6703"/>
                  </a:lnTo>
                  <a:lnTo>
                    <a:pt x="3450" y="6763"/>
                  </a:lnTo>
                  <a:lnTo>
                    <a:pt x="3530" y="6822"/>
                  </a:lnTo>
                  <a:lnTo>
                    <a:pt x="3613" y="6881"/>
                  </a:lnTo>
                  <a:lnTo>
                    <a:pt x="3696" y="6937"/>
                  </a:lnTo>
                  <a:lnTo>
                    <a:pt x="3780" y="6993"/>
                  </a:lnTo>
                  <a:lnTo>
                    <a:pt x="3864" y="7048"/>
                  </a:lnTo>
                  <a:lnTo>
                    <a:pt x="3950" y="7103"/>
                  </a:lnTo>
                  <a:lnTo>
                    <a:pt x="4035" y="7155"/>
                  </a:lnTo>
                  <a:lnTo>
                    <a:pt x="4123" y="7207"/>
                  </a:lnTo>
                  <a:lnTo>
                    <a:pt x="4210" y="7258"/>
                  </a:lnTo>
                  <a:lnTo>
                    <a:pt x="4297" y="7309"/>
                  </a:lnTo>
                  <a:lnTo>
                    <a:pt x="4386" y="7357"/>
                  </a:lnTo>
                  <a:lnTo>
                    <a:pt x="4475" y="7405"/>
                  </a:lnTo>
                  <a:lnTo>
                    <a:pt x="4564" y="7452"/>
                  </a:lnTo>
                  <a:lnTo>
                    <a:pt x="4655" y="7498"/>
                  </a:lnTo>
                  <a:lnTo>
                    <a:pt x="4747" y="7542"/>
                  </a:lnTo>
                  <a:lnTo>
                    <a:pt x="4838" y="7586"/>
                  </a:lnTo>
                  <a:lnTo>
                    <a:pt x="4932" y="7629"/>
                  </a:lnTo>
                  <a:lnTo>
                    <a:pt x="5025" y="7670"/>
                  </a:lnTo>
                  <a:lnTo>
                    <a:pt x="5119" y="7711"/>
                  </a:lnTo>
                  <a:lnTo>
                    <a:pt x="5211" y="7749"/>
                  </a:lnTo>
                  <a:lnTo>
                    <a:pt x="5306" y="7788"/>
                  </a:lnTo>
                  <a:lnTo>
                    <a:pt x="5401" y="7826"/>
                  </a:lnTo>
                  <a:lnTo>
                    <a:pt x="5498" y="7861"/>
                  </a:lnTo>
                  <a:lnTo>
                    <a:pt x="5594" y="7896"/>
                  </a:lnTo>
                  <a:lnTo>
                    <a:pt x="5691" y="7929"/>
                  </a:lnTo>
                  <a:lnTo>
                    <a:pt x="5789" y="7962"/>
                  </a:lnTo>
                  <a:lnTo>
                    <a:pt x="5886" y="7993"/>
                  </a:lnTo>
                  <a:lnTo>
                    <a:pt x="5984" y="8024"/>
                  </a:lnTo>
                  <a:lnTo>
                    <a:pt x="6084" y="8052"/>
                  </a:lnTo>
                  <a:lnTo>
                    <a:pt x="6183" y="8080"/>
                  </a:lnTo>
                  <a:lnTo>
                    <a:pt x="6285" y="8105"/>
                  </a:lnTo>
                  <a:lnTo>
                    <a:pt x="6384" y="8131"/>
                  </a:lnTo>
                  <a:lnTo>
                    <a:pt x="6485" y="8155"/>
                  </a:lnTo>
                  <a:lnTo>
                    <a:pt x="6587" y="8178"/>
                  </a:lnTo>
                  <a:lnTo>
                    <a:pt x="6688" y="8199"/>
                  </a:lnTo>
                  <a:lnTo>
                    <a:pt x="6790" y="8220"/>
                  </a:lnTo>
                  <a:lnTo>
                    <a:pt x="6892" y="8239"/>
                  </a:lnTo>
                  <a:lnTo>
                    <a:pt x="6997" y="8257"/>
                  </a:lnTo>
                  <a:lnTo>
                    <a:pt x="7100" y="8275"/>
                  </a:lnTo>
                  <a:lnTo>
                    <a:pt x="7204" y="8289"/>
                  </a:lnTo>
                  <a:lnTo>
                    <a:pt x="7308" y="8302"/>
                  </a:lnTo>
                  <a:lnTo>
                    <a:pt x="7413" y="8316"/>
                  </a:lnTo>
                  <a:lnTo>
                    <a:pt x="7518" y="8327"/>
                  </a:lnTo>
                  <a:lnTo>
                    <a:pt x="7624" y="8338"/>
                  </a:lnTo>
                  <a:lnTo>
                    <a:pt x="7730" y="8346"/>
                  </a:lnTo>
                  <a:lnTo>
                    <a:pt x="7835" y="8353"/>
                  </a:lnTo>
                  <a:lnTo>
                    <a:pt x="7943" y="8359"/>
                  </a:lnTo>
                  <a:lnTo>
                    <a:pt x="8050" y="8364"/>
                  </a:lnTo>
                  <a:lnTo>
                    <a:pt x="8156" y="8367"/>
                  </a:lnTo>
                  <a:lnTo>
                    <a:pt x="8263" y="8370"/>
                  </a:lnTo>
                  <a:lnTo>
                    <a:pt x="8371" y="8371"/>
                  </a:lnTo>
                  <a:lnTo>
                    <a:pt x="8371" y="8371"/>
                  </a:lnTo>
                  <a:lnTo>
                    <a:pt x="8371" y="769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93760" y="6026040"/>
              <a:ext cx="603360" cy="60336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7691" y="0"/>
                  </a:moveTo>
                  <a:lnTo>
                    <a:pt x="7691" y="0"/>
                  </a:lnTo>
                  <a:lnTo>
                    <a:pt x="7690" y="99"/>
                  </a:lnTo>
                  <a:lnTo>
                    <a:pt x="7690" y="199"/>
                  </a:lnTo>
                  <a:lnTo>
                    <a:pt x="7687" y="298"/>
                  </a:lnTo>
                  <a:lnTo>
                    <a:pt x="7681" y="397"/>
                  </a:lnTo>
                  <a:lnTo>
                    <a:pt x="7676" y="493"/>
                  </a:lnTo>
                  <a:lnTo>
                    <a:pt x="7669" y="591"/>
                  </a:lnTo>
                  <a:lnTo>
                    <a:pt x="7661" y="689"/>
                  </a:lnTo>
                  <a:lnTo>
                    <a:pt x="7652" y="785"/>
                  </a:lnTo>
                  <a:lnTo>
                    <a:pt x="7641" y="882"/>
                  </a:lnTo>
                  <a:lnTo>
                    <a:pt x="7630" y="978"/>
                  </a:lnTo>
                  <a:lnTo>
                    <a:pt x="7617" y="1075"/>
                  </a:lnTo>
                  <a:lnTo>
                    <a:pt x="7602" y="1170"/>
                  </a:lnTo>
                  <a:lnTo>
                    <a:pt x="7587" y="1264"/>
                  </a:lnTo>
                  <a:lnTo>
                    <a:pt x="7571" y="1359"/>
                  </a:lnTo>
                  <a:lnTo>
                    <a:pt x="7554" y="1453"/>
                  </a:lnTo>
                  <a:lnTo>
                    <a:pt x="7535" y="1548"/>
                  </a:lnTo>
                  <a:lnTo>
                    <a:pt x="7514" y="1641"/>
                  </a:lnTo>
                  <a:lnTo>
                    <a:pt x="7494" y="1735"/>
                  </a:lnTo>
                  <a:lnTo>
                    <a:pt x="7472" y="1827"/>
                  </a:lnTo>
                  <a:lnTo>
                    <a:pt x="7449" y="1919"/>
                  </a:lnTo>
                  <a:lnTo>
                    <a:pt x="7424" y="2010"/>
                  </a:lnTo>
                  <a:lnTo>
                    <a:pt x="7399" y="2101"/>
                  </a:lnTo>
                  <a:lnTo>
                    <a:pt x="7372" y="2192"/>
                  </a:lnTo>
                  <a:lnTo>
                    <a:pt x="7345" y="2283"/>
                  </a:lnTo>
                  <a:lnTo>
                    <a:pt x="7316" y="2373"/>
                  </a:lnTo>
                  <a:lnTo>
                    <a:pt x="7286" y="2462"/>
                  </a:lnTo>
                  <a:lnTo>
                    <a:pt x="7256" y="2551"/>
                  </a:lnTo>
                  <a:lnTo>
                    <a:pt x="7223" y="2640"/>
                  </a:lnTo>
                  <a:lnTo>
                    <a:pt x="7191" y="2728"/>
                  </a:lnTo>
                  <a:lnTo>
                    <a:pt x="7156" y="2815"/>
                  </a:lnTo>
                  <a:lnTo>
                    <a:pt x="7123" y="2902"/>
                  </a:lnTo>
                  <a:lnTo>
                    <a:pt x="7086" y="2989"/>
                  </a:lnTo>
                  <a:lnTo>
                    <a:pt x="7048" y="3075"/>
                  </a:lnTo>
                  <a:lnTo>
                    <a:pt x="7010" y="3161"/>
                  </a:lnTo>
                  <a:lnTo>
                    <a:pt x="6972" y="3245"/>
                  </a:lnTo>
                  <a:lnTo>
                    <a:pt x="6931" y="3330"/>
                  </a:lnTo>
                  <a:lnTo>
                    <a:pt x="6889" y="3413"/>
                  </a:lnTo>
                  <a:lnTo>
                    <a:pt x="6849" y="3497"/>
                  </a:lnTo>
                  <a:lnTo>
                    <a:pt x="6805" y="3580"/>
                  </a:lnTo>
                  <a:lnTo>
                    <a:pt x="6762" y="3661"/>
                  </a:lnTo>
                  <a:lnTo>
                    <a:pt x="6716" y="3742"/>
                  </a:lnTo>
                  <a:lnTo>
                    <a:pt x="6671" y="3823"/>
                  </a:lnTo>
                  <a:lnTo>
                    <a:pt x="6624" y="3903"/>
                  </a:lnTo>
                  <a:lnTo>
                    <a:pt x="6575" y="3983"/>
                  </a:lnTo>
                  <a:lnTo>
                    <a:pt x="6526" y="4062"/>
                  </a:lnTo>
                  <a:lnTo>
                    <a:pt x="6477" y="4141"/>
                  </a:lnTo>
                  <a:lnTo>
                    <a:pt x="6427" y="4219"/>
                  </a:lnTo>
                  <a:lnTo>
                    <a:pt x="6375" y="4295"/>
                  </a:lnTo>
                  <a:lnTo>
                    <a:pt x="6322" y="4373"/>
                  </a:lnTo>
                  <a:lnTo>
                    <a:pt x="6270" y="4447"/>
                  </a:lnTo>
                  <a:lnTo>
                    <a:pt x="6215" y="4523"/>
                  </a:lnTo>
                  <a:lnTo>
                    <a:pt x="6161" y="4597"/>
                  </a:lnTo>
                  <a:lnTo>
                    <a:pt x="6104" y="4671"/>
                  </a:lnTo>
                  <a:lnTo>
                    <a:pt x="6047" y="4743"/>
                  </a:lnTo>
                  <a:lnTo>
                    <a:pt x="5989" y="4816"/>
                  </a:lnTo>
                  <a:lnTo>
                    <a:pt x="5932" y="4887"/>
                  </a:lnTo>
                  <a:lnTo>
                    <a:pt x="5872" y="4959"/>
                  </a:lnTo>
                  <a:lnTo>
                    <a:pt x="5813" y="5029"/>
                  </a:lnTo>
                  <a:lnTo>
                    <a:pt x="5751" y="5098"/>
                  </a:lnTo>
                  <a:lnTo>
                    <a:pt x="5689" y="5167"/>
                  </a:lnTo>
                  <a:lnTo>
                    <a:pt x="5626" y="5235"/>
                  </a:lnTo>
                  <a:lnTo>
                    <a:pt x="5564" y="5303"/>
                  </a:lnTo>
                  <a:lnTo>
                    <a:pt x="5499" y="5369"/>
                  </a:lnTo>
                  <a:lnTo>
                    <a:pt x="5434" y="5434"/>
                  </a:lnTo>
                  <a:lnTo>
                    <a:pt x="5369" y="5499"/>
                  </a:lnTo>
                  <a:lnTo>
                    <a:pt x="5302" y="5564"/>
                  </a:lnTo>
                  <a:lnTo>
                    <a:pt x="5235" y="5627"/>
                  </a:lnTo>
                  <a:lnTo>
                    <a:pt x="5167" y="5689"/>
                  </a:lnTo>
                  <a:lnTo>
                    <a:pt x="5099" y="5752"/>
                  </a:lnTo>
                  <a:lnTo>
                    <a:pt x="5029" y="5813"/>
                  </a:lnTo>
                  <a:lnTo>
                    <a:pt x="4958" y="5872"/>
                  </a:lnTo>
                  <a:lnTo>
                    <a:pt x="4887" y="5932"/>
                  </a:lnTo>
                  <a:lnTo>
                    <a:pt x="4816" y="5990"/>
                  </a:lnTo>
                  <a:lnTo>
                    <a:pt x="4743" y="6048"/>
                  </a:lnTo>
                  <a:lnTo>
                    <a:pt x="4671" y="6105"/>
                  </a:lnTo>
                  <a:lnTo>
                    <a:pt x="4597" y="6161"/>
                  </a:lnTo>
                  <a:lnTo>
                    <a:pt x="4522" y="6217"/>
                  </a:lnTo>
                  <a:lnTo>
                    <a:pt x="4447" y="6270"/>
                  </a:lnTo>
                  <a:lnTo>
                    <a:pt x="4372" y="6323"/>
                  </a:lnTo>
                  <a:lnTo>
                    <a:pt x="4295" y="6375"/>
                  </a:lnTo>
                  <a:lnTo>
                    <a:pt x="4218" y="6427"/>
                  </a:lnTo>
                  <a:lnTo>
                    <a:pt x="4139" y="6477"/>
                  </a:lnTo>
                  <a:lnTo>
                    <a:pt x="4062" y="6526"/>
                  </a:lnTo>
                  <a:lnTo>
                    <a:pt x="3983" y="6576"/>
                  </a:lnTo>
                  <a:lnTo>
                    <a:pt x="3903" y="6624"/>
                  </a:lnTo>
                  <a:lnTo>
                    <a:pt x="3823" y="6671"/>
                  </a:lnTo>
                  <a:lnTo>
                    <a:pt x="3742" y="6717"/>
                  </a:lnTo>
                  <a:lnTo>
                    <a:pt x="3660" y="6762"/>
                  </a:lnTo>
                  <a:lnTo>
                    <a:pt x="3579" y="6806"/>
                  </a:lnTo>
                  <a:lnTo>
                    <a:pt x="3497" y="6849"/>
                  </a:lnTo>
                  <a:lnTo>
                    <a:pt x="3412" y="6890"/>
                  </a:lnTo>
                  <a:lnTo>
                    <a:pt x="3329" y="6932"/>
                  </a:lnTo>
                  <a:lnTo>
                    <a:pt x="3245" y="6972"/>
                  </a:lnTo>
                  <a:lnTo>
                    <a:pt x="3160" y="7011"/>
                  </a:lnTo>
                  <a:lnTo>
                    <a:pt x="3075" y="7048"/>
                  </a:lnTo>
                  <a:lnTo>
                    <a:pt x="2989" y="7086"/>
                  </a:lnTo>
                  <a:lnTo>
                    <a:pt x="2902" y="7123"/>
                  </a:lnTo>
                  <a:lnTo>
                    <a:pt x="2815" y="7156"/>
                  </a:lnTo>
                  <a:lnTo>
                    <a:pt x="2727" y="7191"/>
                  </a:lnTo>
                  <a:lnTo>
                    <a:pt x="2639" y="7224"/>
                  </a:lnTo>
                  <a:lnTo>
                    <a:pt x="2551" y="7256"/>
                  </a:lnTo>
                  <a:lnTo>
                    <a:pt x="2462" y="7287"/>
                  </a:lnTo>
                  <a:lnTo>
                    <a:pt x="2372" y="7316"/>
                  </a:lnTo>
                  <a:lnTo>
                    <a:pt x="2282" y="7345"/>
                  </a:lnTo>
                  <a:lnTo>
                    <a:pt x="2192" y="7373"/>
                  </a:lnTo>
                  <a:lnTo>
                    <a:pt x="2101" y="7399"/>
                  </a:lnTo>
                  <a:lnTo>
                    <a:pt x="2010" y="7424"/>
                  </a:lnTo>
                  <a:lnTo>
                    <a:pt x="1919" y="7449"/>
                  </a:lnTo>
                  <a:lnTo>
                    <a:pt x="1827" y="7472"/>
                  </a:lnTo>
                  <a:lnTo>
                    <a:pt x="1734" y="7494"/>
                  </a:lnTo>
                  <a:lnTo>
                    <a:pt x="1641" y="7515"/>
                  </a:lnTo>
                  <a:lnTo>
                    <a:pt x="1548" y="7535"/>
                  </a:lnTo>
                  <a:lnTo>
                    <a:pt x="1453" y="7554"/>
                  </a:lnTo>
                  <a:lnTo>
                    <a:pt x="1358" y="7572"/>
                  </a:lnTo>
                  <a:lnTo>
                    <a:pt x="1265" y="7588"/>
                  </a:lnTo>
                  <a:lnTo>
                    <a:pt x="1170" y="7602"/>
                  </a:lnTo>
                  <a:lnTo>
                    <a:pt x="1074" y="7617"/>
                  </a:lnTo>
                  <a:lnTo>
                    <a:pt x="977" y="7630"/>
                  </a:lnTo>
                  <a:lnTo>
                    <a:pt x="881" y="7642"/>
                  </a:lnTo>
                  <a:lnTo>
                    <a:pt x="786" y="7652"/>
                  </a:lnTo>
                  <a:lnTo>
                    <a:pt x="689" y="7661"/>
                  </a:lnTo>
                  <a:lnTo>
                    <a:pt x="591" y="7669"/>
                  </a:lnTo>
                  <a:lnTo>
                    <a:pt x="493" y="7676"/>
                  </a:lnTo>
                  <a:lnTo>
                    <a:pt x="397" y="7681"/>
                  </a:lnTo>
                  <a:lnTo>
                    <a:pt x="297" y="7687"/>
                  </a:lnTo>
                  <a:lnTo>
                    <a:pt x="199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8" y="8370"/>
                  </a:lnTo>
                  <a:lnTo>
                    <a:pt x="215" y="8367"/>
                  </a:lnTo>
                  <a:lnTo>
                    <a:pt x="321" y="8364"/>
                  </a:lnTo>
                  <a:lnTo>
                    <a:pt x="428" y="8359"/>
                  </a:lnTo>
                  <a:lnTo>
                    <a:pt x="536" y="8353"/>
                  </a:lnTo>
                  <a:lnTo>
                    <a:pt x="641" y="8346"/>
                  </a:lnTo>
                  <a:lnTo>
                    <a:pt x="747" y="8338"/>
                  </a:lnTo>
                  <a:lnTo>
                    <a:pt x="852" y="8327"/>
                  </a:lnTo>
                  <a:lnTo>
                    <a:pt x="958" y="8316"/>
                  </a:lnTo>
                  <a:lnTo>
                    <a:pt x="1063" y="8302"/>
                  </a:lnTo>
                  <a:lnTo>
                    <a:pt x="1167" y="8289"/>
                  </a:lnTo>
                  <a:lnTo>
                    <a:pt x="1270" y="8275"/>
                  </a:lnTo>
                  <a:lnTo>
                    <a:pt x="1374" y="8257"/>
                  </a:lnTo>
                  <a:lnTo>
                    <a:pt x="1479" y="8239"/>
                  </a:lnTo>
                  <a:lnTo>
                    <a:pt x="1580" y="8220"/>
                  </a:lnTo>
                  <a:lnTo>
                    <a:pt x="1683" y="8199"/>
                  </a:lnTo>
                  <a:lnTo>
                    <a:pt x="1784" y="8178"/>
                  </a:lnTo>
                  <a:lnTo>
                    <a:pt x="1886" y="8155"/>
                  </a:lnTo>
                  <a:lnTo>
                    <a:pt x="1986" y="8131"/>
                  </a:lnTo>
                  <a:lnTo>
                    <a:pt x="2086" y="8105"/>
                  </a:lnTo>
                  <a:lnTo>
                    <a:pt x="2188" y="8080"/>
                  </a:lnTo>
                  <a:lnTo>
                    <a:pt x="2287" y="8052"/>
                  </a:lnTo>
                  <a:lnTo>
                    <a:pt x="2386" y="8024"/>
                  </a:lnTo>
                  <a:lnTo>
                    <a:pt x="2484" y="7993"/>
                  </a:lnTo>
                  <a:lnTo>
                    <a:pt x="2582" y="7962"/>
                  </a:lnTo>
                  <a:lnTo>
                    <a:pt x="2680" y="7929"/>
                  </a:lnTo>
                  <a:lnTo>
                    <a:pt x="2777" y="7896"/>
                  </a:lnTo>
                  <a:lnTo>
                    <a:pt x="2873" y="7861"/>
                  </a:lnTo>
                  <a:lnTo>
                    <a:pt x="2969" y="7826"/>
                  </a:lnTo>
                  <a:lnTo>
                    <a:pt x="3065" y="7788"/>
                  </a:lnTo>
                  <a:lnTo>
                    <a:pt x="3159" y="7749"/>
                  </a:lnTo>
                  <a:lnTo>
                    <a:pt x="3252" y="7711"/>
                  </a:lnTo>
                  <a:lnTo>
                    <a:pt x="3346" y="7670"/>
                  </a:lnTo>
                  <a:lnTo>
                    <a:pt x="3439" y="7629"/>
                  </a:lnTo>
                  <a:lnTo>
                    <a:pt x="3532" y="7586"/>
                  </a:lnTo>
                  <a:lnTo>
                    <a:pt x="3624" y="7542"/>
                  </a:lnTo>
                  <a:lnTo>
                    <a:pt x="3715" y="7498"/>
                  </a:lnTo>
                  <a:lnTo>
                    <a:pt x="3805" y="7452"/>
                  </a:lnTo>
                  <a:lnTo>
                    <a:pt x="3895" y="7405"/>
                  </a:lnTo>
                  <a:lnTo>
                    <a:pt x="3985" y="7357"/>
                  </a:lnTo>
                  <a:lnTo>
                    <a:pt x="4074" y="7309"/>
                  </a:lnTo>
                  <a:lnTo>
                    <a:pt x="4160" y="7258"/>
                  </a:lnTo>
                  <a:lnTo>
                    <a:pt x="4248" y="7207"/>
                  </a:lnTo>
                  <a:lnTo>
                    <a:pt x="4335" y="7155"/>
                  </a:lnTo>
                  <a:lnTo>
                    <a:pt x="4421" y="7103"/>
                  </a:lnTo>
                  <a:lnTo>
                    <a:pt x="4507" y="7048"/>
                  </a:lnTo>
                  <a:lnTo>
                    <a:pt x="4590" y="6993"/>
                  </a:lnTo>
                  <a:lnTo>
                    <a:pt x="4675" y="6937"/>
                  </a:lnTo>
                  <a:lnTo>
                    <a:pt x="4757" y="6881"/>
                  </a:lnTo>
                  <a:lnTo>
                    <a:pt x="4841" y="6822"/>
                  </a:lnTo>
                  <a:lnTo>
                    <a:pt x="4921" y="6763"/>
                  </a:lnTo>
                  <a:lnTo>
                    <a:pt x="5003" y="6703"/>
                  </a:lnTo>
                  <a:lnTo>
                    <a:pt x="5082" y="6643"/>
                  </a:lnTo>
                  <a:lnTo>
                    <a:pt x="5163" y="6582"/>
                  </a:lnTo>
                  <a:lnTo>
                    <a:pt x="5241" y="6519"/>
                  </a:lnTo>
                  <a:lnTo>
                    <a:pt x="5320" y="6455"/>
                  </a:lnTo>
                  <a:lnTo>
                    <a:pt x="5396" y="6390"/>
                  </a:lnTo>
                  <a:lnTo>
                    <a:pt x="5473" y="6325"/>
                  </a:lnTo>
                  <a:lnTo>
                    <a:pt x="5548" y="6258"/>
                  </a:lnTo>
                  <a:lnTo>
                    <a:pt x="5623" y="6191"/>
                  </a:lnTo>
                  <a:lnTo>
                    <a:pt x="5696" y="6123"/>
                  </a:lnTo>
                  <a:lnTo>
                    <a:pt x="5770" y="6054"/>
                  </a:lnTo>
                  <a:lnTo>
                    <a:pt x="5842" y="5985"/>
                  </a:lnTo>
                  <a:lnTo>
                    <a:pt x="5914" y="5914"/>
                  </a:lnTo>
                  <a:lnTo>
                    <a:pt x="5985" y="5842"/>
                  </a:lnTo>
                  <a:lnTo>
                    <a:pt x="6054" y="5770"/>
                  </a:lnTo>
                  <a:lnTo>
                    <a:pt x="6123" y="5698"/>
                  </a:lnTo>
                  <a:lnTo>
                    <a:pt x="6191" y="5623"/>
                  </a:lnTo>
                  <a:lnTo>
                    <a:pt x="6258" y="5549"/>
                  </a:lnTo>
                  <a:lnTo>
                    <a:pt x="6324" y="5473"/>
                  </a:lnTo>
                  <a:lnTo>
                    <a:pt x="6390" y="5397"/>
                  </a:lnTo>
                  <a:lnTo>
                    <a:pt x="6455" y="5320"/>
                  </a:lnTo>
                  <a:lnTo>
                    <a:pt x="6518" y="5241"/>
                  </a:lnTo>
                  <a:lnTo>
                    <a:pt x="6581" y="5163"/>
                  </a:lnTo>
                  <a:lnTo>
                    <a:pt x="6643" y="5083"/>
                  </a:lnTo>
                  <a:lnTo>
                    <a:pt x="6703" y="5003"/>
                  </a:lnTo>
                  <a:lnTo>
                    <a:pt x="6763" y="4921"/>
                  </a:lnTo>
                  <a:lnTo>
                    <a:pt x="6822" y="4841"/>
                  </a:lnTo>
                  <a:lnTo>
                    <a:pt x="6880" y="4758"/>
                  </a:lnTo>
                  <a:lnTo>
                    <a:pt x="6937" y="4675"/>
                  </a:lnTo>
                  <a:lnTo>
                    <a:pt x="6993" y="4590"/>
                  </a:lnTo>
                  <a:lnTo>
                    <a:pt x="7048" y="4507"/>
                  </a:lnTo>
                  <a:lnTo>
                    <a:pt x="7103" y="4421"/>
                  </a:lnTo>
                  <a:lnTo>
                    <a:pt x="7155" y="4336"/>
                  </a:lnTo>
                  <a:lnTo>
                    <a:pt x="7207" y="4248"/>
                  </a:lnTo>
                  <a:lnTo>
                    <a:pt x="7258" y="4161"/>
                  </a:lnTo>
                  <a:lnTo>
                    <a:pt x="7308" y="4074"/>
                  </a:lnTo>
                  <a:lnTo>
                    <a:pt x="7357" y="3985"/>
                  </a:lnTo>
                  <a:lnTo>
                    <a:pt x="7405" y="3896"/>
                  </a:lnTo>
                  <a:lnTo>
                    <a:pt x="7451" y="3805"/>
                  </a:lnTo>
                  <a:lnTo>
                    <a:pt x="7498" y="3716"/>
                  </a:lnTo>
                  <a:lnTo>
                    <a:pt x="7542" y="3624"/>
                  </a:lnTo>
                  <a:lnTo>
                    <a:pt x="7585" y="3533"/>
                  </a:lnTo>
                  <a:lnTo>
                    <a:pt x="7629" y="3439"/>
                  </a:lnTo>
                  <a:lnTo>
                    <a:pt x="7670" y="3346"/>
                  </a:lnTo>
                  <a:lnTo>
                    <a:pt x="7710" y="3252"/>
                  </a:lnTo>
                  <a:lnTo>
                    <a:pt x="7749" y="3160"/>
                  </a:lnTo>
                  <a:lnTo>
                    <a:pt x="7788" y="3065"/>
                  </a:lnTo>
                  <a:lnTo>
                    <a:pt x="7825" y="2970"/>
                  </a:lnTo>
                  <a:lnTo>
                    <a:pt x="7861" y="2873"/>
                  </a:lnTo>
                  <a:lnTo>
                    <a:pt x="7896" y="2777"/>
                  </a:lnTo>
                  <a:lnTo>
                    <a:pt x="7929" y="2680"/>
                  </a:lnTo>
                  <a:lnTo>
                    <a:pt x="7962" y="2582"/>
                  </a:lnTo>
                  <a:lnTo>
                    <a:pt x="7993" y="2485"/>
                  </a:lnTo>
                  <a:lnTo>
                    <a:pt x="8023" y="2387"/>
                  </a:lnTo>
                  <a:lnTo>
                    <a:pt x="8052" y="2287"/>
                  </a:lnTo>
                  <a:lnTo>
                    <a:pt x="8080" y="2188"/>
                  </a:lnTo>
                  <a:lnTo>
                    <a:pt x="8105" y="2086"/>
                  </a:lnTo>
                  <a:lnTo>
                    <a:pt x="8130" y="1987"/>
                  </a:lnTo>
                  <a:lnTo>
                    <a:pt x="8155" y="1886"/>
                  </a:lnTo>
                  <a:lnTo>
                    <a:pt x="8178" y="1784"/>
                  </a:lnTo>
                  <a:lnTo>
                    <a:pt x="8199" y="1683"/>
                  </a:lnTo>
                  <a:lnTo>
                    <a:pt x="8220" y="1581"/>
                  </a:lnTo>
                  <a:lnTo>
                    <a:pt x="8240" y="1479"/>
                  </a:lnTo>
                  <a:lnTo>
                    <a:pt x="8257" y="1376"/>
                  </a:lnTo>
                  <a:lnTo>
                    <a:pt x="8274" y="1271"/>
                  </a:lnTo>
                  <a:lnTo>
                    <a:pt x="8288" y="1167"/>
                  </a:lnTo>
                  <a:lnTo>
                    <a:pt x="8302" y="1063"/>
                  </a:lnTo>
                  <a:lnTo>
                    <a:pt x="8316" y="958"/>
                  </a:lnTo>
                  <a:lnTo>
                    <a:pt x="8327" y="854"/>
                  </a:lnTo>
                  <a:lnTo>
                    <a:pt x="8338" y="747"/>
                  </a:lnTo>
                  <a:lnTo>
                    <a:pt x="8346" y="641"/>
                  </a:lnTo>
                  <a:lnTo>
                    <a:pt x="8353" y="536"/>
                  </a:lnTo>
                  <a:lnTo>
                    <a:pt x="8359" y="428"/>
                  </a:lnTo>
                  <a:lnTo>
                    <a:pt x="8364" y="321"/>
                  </a:lnTo>
                  <a:lnTo>
                    <a:pt x="8367" y="215"/>
                  </a:lnTo>
                  <a:lnTo>
                    <a:pt x="8370" y="108"/>
                  </a:lnTo>
                  <a:lnTo>
                    <a:pt x="8371" y="0"/>
                  </a:lnTo>
                  <a:lnTo>
                    <a:pt x="8371" y="0"/>
                  </a:lnTo>
                  <a:lnTo>
                    <a:pt x="769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17880" y="5999040"/>
              <a:ext cx="129960" cy="422280"/>
            </a:xfrm>
            <a:custGeom>
              <a:avLst/>
              <a:gdLst/>
              <a:ahLst/>
              <a:rect l="l" t="t" r="r" b="b"/>
              <a:pathLst>
                <a:path w="1800" h="5856">
                  <a:moveTo>
                    <a:pt x="1792" y="5395"/>
                  </a:moveTo>
                  <a:lnTo>
                    <a:pt x="1795" y="5338"/>
                  </a:lnTo>
                  <a:lnTo>
                    <a:pt x="1797" y="5255"/>
                  </a:lnTo>
                  <a:lnTo>
                    <a:pt x="1799" y="5156"/>
                  </a:lnTo>
                  <a:lnTo>
                    <a:pt x="1800" y="5053"/>
                  </a:lnTo>
                  <a:lnTo>
                    <a:pt x="1800" y="4957"/>
                  </a:lnTo>
                  <a:lnTo>
                    <a:pt x="1799" y="4879"/>
                  </a:lnTo>
                  <a:lnTo>
                    <a:pt x="1798" y="4850"/>
                  </a:lnTo>
                  <a:lnTo>
                    <a:pt x="1796" y="4830"/>
                  </a:lnTo>
                  <a:lnTo>
                    <a:pt x="1795" y="4822"/>
                  </a:lnTo>
                  <a:lnTo>
                    <a:pt x="1794" y="4819"/>
                  </a:lnTo>
                  <a:lnTo>
                    <a:pt x="1793" y="4818"/>
                  </a:lnTo>
                  <a:lnTo>
                    <a:pt x="1791" y="4820"/>
                  </a:lnTo>
                  <a:lnTo>
                    <a:pt x="1766" y="4873"/>
                  </a:lnTo>
                  <a:lnTo>
                    <a:pt x="1739" y="4923"/>
                  </a:lnTo>
                  <a:lnTo>
                    <a:pt x="1707" y="4969"/>
                  </a:lnTo>
                  <a:lnTo>
                    <a:pt x="1672" y="5012"/>
                  </a:lnTo>
                  <a:lnTo>
                    <a:pt x="1636" y="5053"/>
                  </a:lnTo>
                  <a:lnTo>
                    <a:pt x="1595" y="5090"/>
                  </a:lnTo>
                  <a:lnTo>
                    <a:pt x="1553" y="5124"/>
                  </a:lnTo>
                  <a:lnTo>
                    <a:pt x="1509" y="5155"/>
                  </a:lnTo>
                  <a:lnTo>
                    <a:pt x="1463" y="5183"/>
                  </a:lnTo>
                  <a:lnTo>
                    <a:pt x="1416" y="5209"/>
                  </a:lnTo>
                  <a:lnTo>
                    <a:pt x="1367" y="5232"/>
                  </a:lnTo>
                  <a:lnTo>
                    <a:pt x="1318" y="5250"/>
                  </a:lnTo>
                  <a:lnTo>
                    <a:pt x="1268" y="5266"/>
                  </a:lnTo>
                  <a:lnTo>
                    <a:pt x="1218" y="5280"/>
                  </a:lnTo>
                  <a:lnTo>
                    <a:pt x="1168" y="5290"/>
                  </a:lnTo>
                  <a:lnTo>
                    <a:pt x="1119" y="5298"/>
                  </a:lnTo>
                  <a:lnTo>
                    <a:pt x="1070" y="5302"/>
                  </a:lnTo>
                  <a:lnTo>
                    <a:pt x="1022" y="5303"/>
                  </a:lnTo>
                  <a:lnTo>
                    <a:pt x="975" y="5302"/>
                  </a:lnTo>
                  <a:lnTo>
                    <a:pt x="930" y="5296"/>
                  </a:lnTo>
                  <a:lnTo>
                    <a:pt x="886" y="5289"/>
                  </a:lnTo>
                  <a:lnTo>
                    <a:pt x="846" y="5279"/>
                  </a:lnTo>
                  <a:lnTo>
                    <a:pt x="807" y="5266"/>
                  </a:lnTo>
                  <a:lnTo>
                    <a:pt x="771" y="5249"/>
                  </a:lnTo>
                  <a:lnTo>
                    <a:pt x="738" y="5231"/>
                  </a:lnTo>
                  <a:lnTo>
                    <a:pt x="709" y="5209"/>
                  </a:lnTo>
                  <a:lnTo>
                    <a:pt x="682" y="5183"/>
                  </a:lnTo>
                  <a:lnTo>
                    <a:pt x="659" y="5156"/>
                  </a:lnTo>
                  <a:lnTo>
                    <a:pt x="642" y="5126"/>
                  </a:lnTo>
                  <a:lnTo>
                    <a:pt x="628" y="5092"/>
                  </a:lnTo>
                  <a:lnTo>
                    <a:pt x="619" y="5056"/>
                  </a:lnTo>
                  <a:lnTo>
                    <a:pt x="615" y="5016"/>
                  </a:lnTo>
                  <a:lnTo>
                    <a:pt x="612" y="4857"/>
                  </a:lnTo>
                  <a:lnTo>
                    <a:pt x="610" y="4699"/>
                  </a:lnTo>
                  <a:lnTo>
                    <a:pt x="609" y="4541"/>
                  </a:lnTo>
                  <a:lnTo>
                    <a:pt x="610" y="4383"/>
                  </a:lnTo>
                  <a:lnTo>
                    <a:pt x="612" y="4225"/>
                  </a:lnTo>
                  <a:lnTo>
                    <a:pt x="615" y="4068"/>
                  </a:lnTo>
                  <a:lnTo>
                    <a:pt x="620" y="3911"/>
                  </a:lnTo>
                  <a:lnTo>
                    <a:pt x="625" y="3755"/>
                  </a:lnTo>
                  <a:lnTo>
                    <a:pt x="631" y="3598"/>
                  </a:lnTo>
                  <a:lnTo>
                    <a:pt x="637" y="3442"/>
                  </a:lnTo>
                  <a:lnTo>
                    <a:pt x="645" y="3286"/>
                  </a:lnTo>
                  <a:lnTo>
                    <a:pt x="653" y="3130"/>
                  </a:lnTo>
                  <a:lnTo>
                    <a:pt x="670" y="2820"/>
                  </a:lnTo>
                  <a:lnTo>
                    <a:pt x="687" y="2508"/>
                  </a:lnTo>
                  <a:lnTo>
                    <a:pt x="704" y="2197"/>
                  </a:lnTo>
                  <a:lnTo>
                    <a:pt x="721" y="1886"/>
                  </a:lnTo>
                  <a:lnTo>
                    <a:pt x="728" y="1730"/>
                  </a:lnTo>
                  <a:lnTo>
                    <a:pt x="736" y="1575"/>
                  </a:lnTo>
                  <a:lnTo>
                    <a:pt x="742" y="1419"/>
                  </a:lnTo>
                  <a:lnTo>
                    <a:pt x="748" y="1262"/>
                  </a:lnTo>
                  <a:lnTo>
                    <a:pt x="754" y="1105"/>
                  </a:lnTo>
                  <a:lnTo>
                    <a:pt x="758" y="949"/>
                  </a:lnTo>
                  <a:lnTo>
                    <a:pt x="761" y="791"/>
                  </a:lnTo>
                  <a:lnTo>
                    <a:pt x="763" y="634"/>
                  </a:lnTo>
                  <a:lnTo>
                    <a:pt x="764" y="476"/>
                  </a:lnTo>
                  <a:lnTo>
                    <a:pt x="763" y="318"/>
                  </a:lnTo>
                  <a:lnTo>
                    <a:pt x="762" y="159"/>
                  </a:lnTo>
                  <a:lnTo>
                    <a:pt x="759" y="0"/>
                  </a:lnTo>
                  <a:lnTo>
                    <a:pt x="130" y="12"/>
                  </a:lnTo>
                  <a:lnTo>
                    <a:pt x="0" y="5023"/>
                  </a:lnTo>
                  <a:lnTo>
                    <a:pt x="1" y="5090"/>
                  </a:lnTo>
                  <a:lnTo>
                    <a:pt x="10" y="5156"/>
                  </a:lnTo>
                  <a:lnTo>
                    <a:pt x="26" y="5220"/>
                  </a:lnTo>
                  <a:lnTo>
                    <a:pt x="48" y="5283"/>
                  </a:lnTo>
                  <a:lnTo>
                    <a:pt x="78" y="5344"/>
                  </a:lnTo>
                  <a:lnTo>
                    <a:pt x="113" y="5401"/>
                  </a:lnTo>
                  <a:lnTo>
                    <a:pt x="154" y="5457"/>
                  </a:lnTo>
                  <a:lnTo>
                    <a:pt x="200" y="5510"/>
                  </a:lnTo>
                  <a:lnTo>
                    <a:pt x="251" y="5560"/>
                  </a:lnTo>
                  <a:lnTo>
                    <a:pt x="306" y="5607"/>
                  </a:lnTo>
                  <a:lnTo>
                    <a:pt x="365" y="5651"/>
                  </a:lnTo>
                  <a:lnTo>
                    <a:pt x="428" y="5691"/>
                  </a:lnTo>
                  <a:lnTo>
                    <a:pt x="493" y="5728"/>
                  </a:lnTo>
                  <a:lnTo>
                    <a:pt x="562" y="5760"/>
                  </a:lnTo>
                  <a:lnTo>
                    <a:pt x="633" y="5788"/>
                  </a:lnTo>
                  <a:lnTo>
                    <a:pt x="705" y="5811"/>
                  </a:lnTo>
                  <a:lnTo>
                    <a:pt x="780" y="5830"/>
                  </a:lnTo>
                  <a:lnTo>
                    <a:pt x="855" y="5845"/>
                  </a:lnTo>
                  <a:lnTo>
                    <a:pt x="930" y="5853"/>
                  </a:lnTo>
                  <a:lnTo>
                    <a:pt x="1007" y="5856"/>
                  </a:lnTo>
                  <a:lnTo>
                    <a:pt x="1083" y="5854"/>
                  </a:lnTo>
                  <a:lnTo>
                    <a:pt x="1159" y="5847"/>
                  </a:lnTo>
                  <a:lnTo>
                    <a:pt x="1233" y="5832"/>
                  </a:lnTo>
                  <a:lnTo>
                    <a:pt x="1306" y="5812"/>
                  </a:lnTo>
                  <a:lnTo>
                    <a:pt x="1377" y="5785"/>
                  </a:lnTo>
                  <a:lnTo>
                    <a:pt x="1446" y="5752"/>
                  </a:lnTo>
                  <a:lnTo>
                    <a:pt x="1513" y="5711"/>
                  </a:lnTo>
                  <a:lnTo>
                    <a:pt x="1576" y="5663"/>
                  </a:lnTo>
                  <a:lnTo>
                    <a:pt x="1636" y="5608"/>
                  </a:lnTo>
                  <a:lnTo>
                    <a:pt x="1692" y="5544"/>
                  </a:lnTo>
                  <a:lnTo>
                    <a:pt x="1743" y="5474"/>
                  </a:lnTo>
                  <a:lnTo>
                    <a:pt x="1792" y="539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17880" y="5999040"/>
              <a:ext cx="129960" cy="422280"/>
            </a:xfrm>
            <a:custGeom>
              <a:avLst/>
              <a:gdLst/>
              <a:ahLst/>
              <a:rect l="l" t="t" r="r" b="b"/>
              <a:pathLst>
                <a:path w="1800" h="5856">
                  <a:moveTo>
                    <a:pt x="1792" y="5395"/>
                  </a:moveTo>
                  <a:lnTo>
                    <a:pt x="1795" y="5338"/>
                  </a:lnTo>
                  <a:lnTo>
                    <a:pt x="1797" y="5255"/>
                  </a:lnTo>
                  <a:lnTo>
                    <a:pt x="1799" y="5156"/>
                  </a:lnTo>
                  <a:lnTo>
                    <a:pt x="1800" y="5053"/>
                  </a:lnTo>
                  <a:lnTo>
                    <a:pt x="1800" y="4957"/>
                  </a:lnTo>
                  <a:lnTo>
                    <a:pt x="1799" y="4879"/>
                  </a:lnTo>
                  <a:lnTo>
                    <a:pt x="1798" y="4850"/>
                  </a:lnTo>
                  <a:lnTo>
                    <a:pt x="1796" y="4830"/>
                  </a:lnTo>
                  <a:lnTo>
                    <a:pt x="1795" y="4822"/>
                  </a:lnTo>
                  <a:lnTo>
                    <a:pt x="1794" y="4819"/>
                  </a:lnTo>
                  <a:lnTo>
                    <a:pt x="1793" y="4818"/>
                  </a:lnTo>
                  <a:lnTo>
                    <a:pt x="1791" y="4820"/>
                  </a:lnTo>
                  <a:lnTo>
                    <a:pt x="1766" y="4873"/>
                  </a:lnTo>
                  <a:lnTo>
                    <a:pt x="1739" y="4923"/>
                  </a:lnTo>
                  <a:lnTo>
                    <a:pt x="1707" y="4969"/>
                  </a:lnTo>
                  <a:lnTo>
                    <a:pt x="1672" y="5012"/>
                  </a:lnTo>
                  <a:lnTo>
                    <a:pt x="1636" y="5053"/>
                  </a:lnTo>
                  <a:lnTo>
                    <a:pt x="1595" y="5090"/>
                  </a:lnTo>
                  <a:lnTo>
                    <a:pt x="1553" y="5124"/>
                  </a:lnTo>
                  <a:lnTo>
                    <a:pt x="1509" y="5155"/>
                  </a:lnTo>
                  <a:lnTo>
                    <a:pt x="1463" y="5183"/>
                  </a:lnTo>
                  <a:lnTo>
                    <a:pt x="1416" y="5209"/>
                  </a:lnTo>
                  <a:lnTo>
                    <a:pt x="1367" y="5232"/>
                  </a:lnTo>
                  <a:lnTo>
                    <a:pt x="1318" y="5250"/>
                  </a:lnTo>
                  <a:lnTo>
                    <a:pt x="1268" y="5266"/>
                  </a:lnTo>
                  <a:lnTo>
                    <a:pt x="1218" y="5280"/>
                  </a:lnTo>
                  <a:lnTo>
                    <a:pt x="1168" y="5290"/>
                  </a:lnTo>
                  <a:lnTo>
                    <a:pt x="1119" y="5298"/>
                  </a:lnTo>
                  <a:lnTo>
                    <a:pt x="1070" y="5302"/>
                  </a:lnTo>
                  <a:lnTo>
                    <a:pt x="1022" y="5303"/>
                  </a:lnTo>
                  <a:lnTo>
                    <a:pt x="975" y="5302"/>
                  </a:lnTo>
                  <a:lnTo>
                    <a:pt x="930" y="5296"/>
                  </a:lnTo>
                  <a:lnTo>
                    <a:pt x="886" y="5289"/>
                  </a:lnTo>
                  <a:lnTo>
                    <a:pt x="846" y="5279"/>
                  </a:lnTo>
                  <a:lnTo>
                    <a:pt x="807" y="5266"/>
                  </a:lnTo>
                  <a:lnTo>
                    <a:pt x="771" y="5249"/>
                  </a:lnTo>
                  <a:lnTo>
                    <a:pt x="738" y="5231"/>
                  </a:lnTo>
                  <a:lnTo>
                    <a:pt x="709" y="5209"/>
                  </a:lnTo>
                  <a:lnTo>
                    <a:pt x="682" y="5183"/>
                  </a:lnTo>
                  <a:lnTo>
                    <a:pt x="659" y="5156"/>
                  </a:lnTo>
                  <a:lnTo>
                    <a:pt x="642" y="5126"/>
                  </a:lnTo>
                  <a:lnTo>
                    <a:pt x="628" y="5092"/>
                  </a:lnTo>
                  <a:lnTo>
                    <a:pt x="619" y="5056"/>
                  </a:lnTo>
                  <a:lnTo>
                    <a:pt x="615" y="5016"/>
                  </a:lnTo>
                  <a:lnTo>
                    <a:pt x="612" y="4857"/>
                  </a:lnTo>
                  <a:lnTo>
                    <a:pt x="610" y="4699"/>
                  </a:lnTo>
                  <a:lnTo>
                    <a:pt x="609" y="4541"/>
                  </a:lnTo>
                  <a:lnTo>
                    <a:pt x="610" y="4383"/>
                  </a:lnTo>
                  <a:lnTo>
                    <a:pt x="612" y="4225"/>
                  </a:lnTo>
                  <a:lnTo>
                    <a:pt x="615" y="4068"/>
                  </a:lnTo>
                  <a:lnTo>
                    <a:pt x="620" y="3911"/>
                  </a:lnTo>
                  <a:lnTo>
                    <a:pt x="625" y="3755"/>
                  </a:lnTo>
                  <a:lnTo>
                    <a:pt x="631" y="3598"/>
                  </a:lnTo>
                  <a:lnTo>
                    <a:pt x="637" y="3442"/>
                  </a:lnTo>
                  <a:lnTo>
                    <a:pt x="645" y="3286"/>
                  </a:lnTo>
                  <a:lnTo>
                    <a:pt x="653" y="3130"/>
                  </a:lnTo>
                  <a:lnTo>
                    <a:pt x="670" y="2820"/>
                  </a:lnTo>
                  <a:lnTo>
                    <a:pt x="687" y="2508"/>
                  </a:lnTo>
                  <a:lnTo>
                    <a:pt x="704" y="2197"/>
                  </a:lnTo>
                  <a:lnTo>
                    <a:pt x="721" y="1886"/>
                  </a:lnTo>
                  <a:lnTo>
                    <a:pt x="728" y="1730"/>
                  </a:lnTo>
                  <a:lnTo>
                    <a:pt x="736" y="1575"/>
                  </a:lnTo>
                  <a:lnTo>
                    <a:pt x="742" y="1419"/>
                  </a:lnTo>
                  <a:lnTo>
                    <a:pt x="748" y="1262"/>
                  </a:lnTo>
                  <a:lnTo>
                    <a:pt x="754" y="1105"/>
                  </a:lnTo>
                  <a:lnTo>
                    <a:pt x="758" y="949"/>
                  </a:lnTo>
                  <a:lnTo>
                    <a:pt x="761" y="791"/>
                  </a:lnTo>
                  <a:lnTo>
                    <a:pt x="763" y="634"/>
                  </a:lnTo>
                  <a:lnTo>
                    <a:pt x="764" y="476"/>
                  </a:lnTo>
                  <a:lnTo>
                    <a:pt x="763" y="318"/>
                  </a:lnTo>
                  <a:lnTo>
                    <a:pt x="762" y="159"/>
                  </a:lnTo>
                  <a:lnTo>
                    <a:pt x="759" y="0"/>
                  </a:lnTo>
                  <a:lnTo>
                    <a:pt x="130" y="12"/>
                  </a:lnTo>
                  <a:lnTo>
                    <a:pt x="0" y="5023"/>
                  </a:lnTo>
                  <a:lnTo>
                    <a:pt x="1" y="5090"/>
                  </a:lnTo>
                  <a:lnTo>
                    <a:pt x="10" y="5156"/>
                  </a:lnTo>
                  <a:lnTo>
                    <a:pt x="26" y="5220"/>
                  </a:lnTo>
                  <a:lnTo>
                    <a:pt x="48" y="5283"/>
                  </a:lnTo>
                  <a:lnTo>
                    <a:pt x="78" y="5344"/>
                  </a:lnTo>
                  <a:lnTo>
                    <a:pt x="113" y="5401"/>
                  </a:lnTo>
                  <a:lnTo>
                    <a:pt x="154" y="5457"/>
                  </a:lnTo>
                  <a:lnTo>
                    <a:pt x="200" y="5510"/>
                  </a:lnTo>
                  <a:lnTo>
                    <a:pt x="251" y="5560"/>
                  </a:lnTo>
                  <a:lnTo>
                    <a:pt x="306" y="5607"/>
                  </a:lnTo>
                  <a:lnTo>
                    <a:pt x="365" y="5651"/>
                  </a:lnTo>
                  <a:lnTo>
                    <a:pt x="428" y="5691"/>
                  </a:lnTo>
                  <a:lnTo>
                    <a:pt x="493" y="5728"/>
                  </a:lnTo>
                  <a:lnTo>
                    <a:pt x="562" y="5760"/>
                  </a:lnTo>
                  <a:lnTo>
                    <a:pt x="633" y="5788"/>
                  </a:lnTo>
                  <a:lnTo>
                    <a:pt x="705" y="5811"/>
                  </a:lnTo>
                  <a:lnTo>
                    <a:pt x="780" y="5830"/>
                  </a:lnTo>
                  <a:lnTo>
                    <a:pt x="855" y="5845"/>
                  </a:lnTo>
                  <a:lnTo>
                    <a:pt x="930" y="5853"/>
                  </a:lnTo>
                  <a:lnTo>
                    <a:pt x="1007" y="5856"/>
                  </a:lnTo>
                  <a:lnTo>
                    <a:pt x="1083" y="5854"/>
                  </a:lnTo>
                  <a:lnTo>
                    <a:pt x="1159" y="5847"/>
                  </a:lnTo>
                  <a:lnTo>
                    <a:pt x="1233" y="5832"/>
                  </a:lnTo>
                  <a:lnTo>
                    <a:pt x="1306" y="5812"/>
                  </a:lnTo>
                  <a:lnTo>
                    <a:pt x="1377" y="5785"/>
                  </a:lnTo>
                  <a:lnTo>
                    <a:pt x="1446" y="5752"/>
                  </a:lnTo>
                  <a:lnTo>
                    <a:pt x="1513" y="5711"/>
                  </a:lnTo>
                  <a:lnTo>
                    <a:pt x="1576" y="5663"/>
                  </a:lnTo>
                  <a:lnTo>
                    <a:pt x="1636" y="5608"/>
                  </a:lnTo>
                  <a:lnTo>
                    <a:pt x="1692" y="5544"/>
                  </a:lnTo>
                  <a:lnTo>
                    <a:pt x="1743" y="5474"/>
                  </a:lnTo>
                  <a:lnTo>
                    <a:pt x="1792" y="5395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87680" y="5630760"/>
              <a:ext cx="780840" cy="559080"/>
            </a:xfrm>
            <a:custGeom>
              <a:avLst/>
              <a:gdLst/>
              <a:ahLst/>
              <a:rect l="l" t="t" r="r" b="b"/>
              <a:pathLst>
                <a:path w="10827" h="7754">
                  <a:moveTo>
                    <a:pt x="3622" y="6244"/>
                  </a:moveTo>
                  <a:lnTo>
                    <a:pt x="3510" y="6322"/>
                  </a:lnTo>
                  <a:lnTo>
                    <a:pt x="3400" y="6397"/>
                  </a:lnTo>
                  <a:lnTo>
                    <a:pt x="3291" y="6469"/>
                  </a:lnTo>
                  <a:lnTo>
                    <a:pt x="3184" y="6537"/>
                  </a:lnTo>
                  <a:lnTo>
                    <a:pt x="3079" y="6603"/>
                  </a:lnTo>
                  <a:lnTo>
                    <a:pt x="2978" y="6664"/>
                  </a:lnTo>
                  <a:lnTo>
                    <a:pt x="2879" y="6720"/>
                  </a:lnTo>
                  <a:lnTo>
                    <a:pt x="2783" y="6773"/>
                  </a:lnTo>
                  <a:lnTo>
                    <a:pt x="2690" y="6820"/>
                  </a:lnTo>
                  <a:lnTo>
                    <a:pt x="2601" y="6861"/>
                  </a:lnTo>
                  <a:lnTo>
                    <a:pt x="2516" y="6896"/>
                  </a:lnTo>
                  <a:lnTo>
                    <a:pt x="2435" y="6925"/>
                  </a:lnTo>
                  <a:lnTo>
                    <a:pt x="2358" y="6948"/>
                  </a:lnTo>
                  <a:lnTo>
                    <a:pt x="2285" y="6962"/>
                  </a:lnTo>
                  <a:lnTo>
                    <a:pt x="2218" y="6970"/>
                  </a:lnTo>
                  <a:lnTo>
                    <a:pt x="2155" y="6970"/>
                  </a:lnTo>
                  <a:lnTo>
                    <a:pt x="2098" y="6960"/>
                  </a:lnTo>
                  <a:lnTo>
                    <a:pt x="2046" y="6943"/>
                  </a:lnTo>
                  <a:lnTo>
                    <a:pt x="1999" y="6917"/>
                  </a:lnTo>
                  <a:lnTo>
                    <a:pt x="1960" y="6881"/>
                  </a:lnTo>
                  <a:lnTo>
                    <a:pt x="1926" y="6836"/>
                  </a:lnTo>
                  <a:lnTo>
                    <a:pt x="1899" y="6779"/>
                  </a:lnTo>
                  <a:lnTo>
                    <a:pt x="1878" y="6713"/>
                  </a:lnTo>
                  <a:lnTo>
                    <a:pt x="1865" y="6636"/>
                  </a:lnTo>
                  <a:lnTo>
                    <a:pt x="1858" y="6547"/>
                  </a:lnTo>
                  <a:lnTo>
                    <a:pt x="1859" y="6446"/>
                  </a:lnTo>
                  <a:lnTo>
                    <a:pt x="1869" y="6333"/>
                  </a:lnTo>
                  <a:lnTo>
                    <a:pt x="1885" y="6208"/>
                  </a:lnTo>
                  <a:lnTo>
                    <a:pt x="1911" y="6070"/>
                  </a:lnTo>
                  <a:lnTo>
                    <a:pt x="1944" y="5918"/>
                  </a:lnTo>
                  <a:lnTo>
                    <a:pt x="1987" y="5753"/>
                  </a:lnTo>
                  <a:lnTo>
                    <a:pt x="2038" y="5573"/>
                  </a:lnTo>
                  <a:lnTo>
                    <a:pt x="1855" y="5541"/>
                  </a:lnTo>
                  <a:lnTo>
                    <a:pt x="1680" y="5507"/>
                  </a:lnTo>
                  <a:lnTo>
                    <a:pt x="1514" y="5469"/>
                  </a:lnTo>
                  <a:lnTo>
                    <a:pt x="1357" y="5429"/>
                  </a:lnTo>
                  <a:lnTo>
                    <a:pt x="1208" y="5385"/>
                  </a:lnTo>
                  <a:lnTo>
                    <a:pt x="1068" y="5339"/>
                  </a:lnTo>
                  <a:lnTo>
                    <a:pt x="936" y="5289"/>
                  </a:lnTo>
                  <a:lnTo>
                    <a:pt x="814" y="5237"/>
                  </a:lnTo>
                  <a:lnTo>
                    <a:pt x="700" y="5181"/>
                  </a:lnTo>
                  <a:lnTo>
                    <a:pt x="594" y="5123"/>
                  </a:lnTo>
                  <a:lnTo>
                    <a:pt x="497" y="5061"/>
                  </a:lnTo>
                  <a:lnTo>
                    <a:pt x="409" y="4997"/>
                  </a:lnTo>
                  <a:lnTo>
                    <a:pt x="328" y="4929"/>
                  </a:lnTo>
                  <a:lnTo>
                    <a:pt x="257" y="4859"/>
                  </a:lnTo>
                  <a:lnTo>
                    <a:pt x="196" y="4786"/>
                  </a:lnTo>
                  <a:lnTo>
                    <a:pt x="141" y="4708"/>
                  </a:lnTo>
                  <a:lnTo>
                    <a:pt x="96" y="4629"/>
                  </a:lnTo>
                  <a:lnTo>
                    <a:pt x="60" y="4547"/>
                  </a:lnTo>
                  <a:lnTo>
                    <a:pt x="31" y="4461"/>
                  </a:lnTo>
                  <a:lnTo>
                    <a:pt x="12" y="4372"/>
                  </a:lnTo>
                  <a:lnTo>
                    <a:pt x="2" y="4281"/>
                  </a:lnTo>
                  <a:lnTo>
                    <a:pt x="0" y="4186"/>
                  </a:lnTo>
                  <a:lnTo>
                    <a:pt x="6" y="4089"/>
                  </a:lnTo>
                  <a:lnTo>
                    <a:pt x="22" y="3988"/>
                  </a:lnTo>
                  <a:lnTo>
                    <a:pt x="45" y="3885"/>
                  </a:lnTo>
                  <a:lnTo>
                    <a:pt x="77" y="3778"/>
                  </a:lnTo>
                  <a:lnTo>
                    <a:pt x="119" y="3669"/>
                  </a:lnTo>
                  <a:lnTo>
                    <a:pt x="168" y="3556"/>
                  </a:lnTo>
                  <a:lnTo>
                    <a:pt x="227" y="3441"/>
                  </a:lnTo>
                  <a:lnTo>
                    <a:pt x="294" y="3323"/>
                  </a:lnTo>
                  <a:lnTo>
                    <a:pt x="369" y="3200"/>
                  </a:lnTo>
                  <a:lnTo>
                    <a:pt x="454" y="3076"/>
                  </a:lnTo>
                  <a:lnTo>
                    <a:pt x="457" y="2999"/>
                  </a:lnTo>
                  <a:lnTo>
                    <a:pt x="461" y="2922"/>
                  </a:lnTo>
                  <a:lnTo>
                    <a:pt x="468" y="2847"/>
                  </a:lnTo>
                  <a:lnTo>
                    <a:pt x="476" y="2772"/>
                  </a:lnTo>
                  <a:lnTo>
                    <a:pt x="486" y="2699"/>
                  </a:lnTo>
                  <a:lnTo>
                    <a:pt x="498" y="2628"/>
                  </a:lnTo>
                  <a:lnTo>
                    <a:pt x="513" y="2559"/>
                  </a:lnTo>
                  <a:lnTo>
                    <a:pt x="530" y="2492"/>
                  </a:lnTo>
                  <a:lnTo>
                    <a:pt x="550" y="2426"/>
                  </a:lnTo>
                  <a:lnTo>
                    <a:pt x="573" y="2363"/>
                  </a:lnTo>
                  <a:lnTo>
                    <a:pt x="599" y="2303"/>
                  </a:lnTo>
                  <a:lnTo>
                    <a:pt x="630" y="2245"/>
                  </a:lnTo>
                  <a:lnTo>
                    <a:pt x="663" y="2190"/>
                  </a:lnTo>
                  <a:lnTo>
                    <a:pt x="700" y="2137"/>
                  </a:lnTo>
                  <a:lnTo>
                    <a:pt x="742" y="2088"/>
                  </a:lnTo>
                  <a:lnTo>
                    <a:pt x="788" y="2042"/>
                  </a:lnTo>
                  <a:lnTo>
                    <a:pt x="838" y="2000"/>
                  </a:lnTo>
                  <a:lnTo>
                    <a:pt x="892" y="1961"/>
                  </a:lnTo>
                  <a:lnTo>
                    <a:pt x="952" y="1926"/>
                  </a:lnTo>
                  <a:lnTo>
                    <a:pt x="1018" y="1895"/>
                  </a:lnTo>
                  <a:lnTo>
                    <a:pt x="1088" y="1867"/>
                  </a:lnTo>
                  <a:lnTo>
                    <a:pt x="1164" y="1843"/>
                  </a:lnTo>
                  <a:lnTo>
                    <a:pt x="1246" y="1824"/>
                  </a:lnTo>
                  <a:lnTo>
                    <a:pt x="1334" y="1810"/>
                  </a:lnTo>
                  <a:lnTo>
                    <a:pt x="1428" y="1800"/>
                  </a:lnTo>
                  <a:lnTo>
                    <a:pt x="1529" y="1795"/>
                  </a:lnTo>
                  <a:lnTo>
                    <a:pt x="1635" y="1796"/>
                  </a:lnTo>
                  <a:lnTo>
                    <a:pt x="1749" y="1800"/>
                  </a:lnTo>
                  <a:lnTo>
                    <a:pt x="1871" y="1812"/>
                  </a:lnTo>
                  <a:lnTo>
                    <a:pt x="1998" y="1828"/>
                  </a:lnTo>
                  <a:lnTo>
                    <a:pt x="2134" y="1849"/>
                  </a:lnTo>
                  <a:lnTo>
                    <a:pt x="2278" y="1876"/>
                  </a:lnTo>
                  <a:lnTo>
                    <a:pt x="2318" y="1785"/>
                  </a:lnTo>
                  <a:lnTo>
                    <a:pt x="2359" y="1696"/>
                  </a:lnTo>
                  <a:lnTo>
                    <a:pt x="2402" y="1608"/>
                  </a:lnTo>
                  <a:lnTo>
                    <a:pt x="2448" y="1521"/>
                  </a:lnTo>
                  <a:lnTo>
                    <a:pt x="2498" y="1437"/>
                  </a:lnTo>
                  <a:lnTo>
                    <a:pt x="2550" y="1356"/>
                  </a:lnTo>
                  <a:lnTo>
                    <a:pt x="2605" y="1277"/>
                  </a:lnTo>
                  <a:lnTo>
                    <a:pt x="2664" y="1201"/>
                  </a:lnTo>
                  <a:lnTo>
                    <a:pt x="2728" y="1128"/>
                  </a:lnTo>
                  <a:lnTo>
                    <a:pt x="2795" y="1059"/>
                  </a:lnTo>
                  <a:lnTo>
                    <a:pt x="2867" y="992"/>
                  </a:lnTo>
                  <a:lnTo>
                    <a:pt x="2944" y="930"/>
                  </a:lnTo>
                  <a:lnTo>
                    <a:pt x="3026" y="871"/>
                  </a:lnTo>
                  <a:lnTo>
                    <a:pt x="3114" y="817"/>
                  </a:lnTo>
                  <a:lnTo>
                    <a:pt x="3207" y="767"/>
                  </a:lnTo>
                  <a:lnTo>
                    <a:pt x="3306" y="722"/>
                  </a:lnTo>
                  <a:lnTo>
                    <a:pt x="3413" y="681"/>
                  </a:lnTo>
                  <a:lnTo>
                    <a:pt x="3525" y="646"/>
                  </a:lnTo>
                  <a:lnTo>
                    <a:pt x="3645" y="616"/>
                  </a:lnTo>
                  <a:lnTo>
                    <a:pt x="3772" y="592"/>
                  </a:lnTo>
                  <a:lnTo>
                    <a:pt x="3907" y="574"/>
                  </a:lnTo>
                  <a:lnTo>
                    <a:pt x="4049" y="562"/>
                  </a:lnTo>
                  <a:lnTo>
                    <a:pt x="4200" y="555"/>
                  </a:lnTo>
                  <a:lnTo>
                    <a:pt x="4359" y="555"/>
                  </a:lnTo>
                  <a:lnTo>
                    <a:pt x="4526" y="563"/>
                  </a:lnTo>
                  <a:lnTo>
                    <a:pt x="4704" y="576"/>
                  </a:lnTo>
                  <a:lnTo>
                    <a:pt x="4891" y="598"/>
                  </a:lnTo>
                  <a:lnTo>
                    <a:pt x="5086" y="626"/>
                  </a:lnTo>
                  <a:lnTo>
                    <a:pt x="5292" y="663"/>
                  </a:lnTo>
                  <a:lnTo>
                    <a:pt x="5509" y="707"/>
                  </a:lnTo>
                  <a:lnTo>
                    <a:pt x="5736" y="759"/>
                  </a:lnTo>
                  <a:lnTo>
                    <a:pt x="5975" y="820"/>
                  </a:lnTo>
                  <a:lnTo>
                    <a:pt x="6144" y="666"/>
                  </a:lnTo>
                  <a:lnTo>
                    <a:pt x="6306" y="529"/>
                  </a:lnTo>
                  <a:lnTo>
                    <a:pt x="6460" y="410"/>
                  </a:lnTo>
                  <a:lnTo>
                    <a:pt x="6606" y="306"/>
                  </a:lnTo>
                  <a:lnTo>
                    <a:pt x="6744" y="218"/>
                  </a:lnTo>
                  <a:lnTo>
                    <a:pt x="6875" y="146"/>
                  </a:lnTo>
                  <a:lnTo>
                    <a:pt x="6999" y="89"/>
                  </a:lnTo>
                  <a:lnTo>
                    <a:pt x="7115" y="46"/>
                  </a:lnTo>
                  <a:lnTo>
                    <a:pt x="7225" y="17"/>
                  </a:lnTo>
                  <a:lnTo>
                    <a:pt x="7329" y="2"/>
                  </a:lnTo>
                  <a:lnTo>
                    <a:pt x="7426" y="0"/>
                  </a:lnTo>
                  <a:lnTo>
                    <a:pt x="7517" y="10"/>
                  </a:lnTo>
                  <a:lnTo>
                    <a:pt x="7602" y="32"/>
                  </a:lnTo>
                  <a:lnTo>
                    <a:pt x="7681" y="67"/>
                  </a:lnTo>
                  <a:lnTo>
                    <a:pt x="7756" y="112"/>
                  </a:lnTo>
                  <a:lnTo>
                    <a:pt x="7826" y="167"/>
                  </a:lnTo>
                  <a:lnTo>
                    <a:pt x="7890" y="233"/>
                  </a:lnTo>
                  <a:lnTo>
                    <a:pt x="7949" y="308"/>
                  </a:lnTo>
                  <a:lnTo>
                    <a:pt x="8005" y="393"/>
                  </a:lnTo>
                  <a:lnTo>
                    <a:pt x="8056" y="486"/>
                  </a:lnTo>
                  <a:lnTo>
                    <a:pt x="8102" y="589"/>
                  </a:lnTo>
                  <a:lnTo>
                    <a:pt x="8146" y="698"/>
                  </a:lnTo>
                  <a:lnTo>
                    <a:pt x="8186" y="815"/>
                  </a:lnTo>
                  <a:lnTo>
                    <a:pt x="8222" y="938"/>
                  </a:lnTo>
                  <a:lnTo>
                    <a:pt x="8256" y="1068"/>
                  </a:lnTo>
                  <a:lnTo>
                    <a:pt x="8286" y="1204"/>
                  </a:lnTo>
                  <a:lnTo>
                    <a:pt x="8314" y="1345"/>
                  </a:lnTo>
                  <a:lnTo>
                    <a:pt x="8339" y="1492"/>
                  </a:lnTo>
                  <a:lnTo>
                    <a:pt x="8364" y="1642"/>
                  </a:lnTo>
                  <a:lnTo>
                    <a:pt x="8384" y="1797"/>
                  </a:lnTo>
                  <a:lnTo>
                    <a:pt x="8404" y="1955"/>
                  </a:lnTo>
                  <a:lnTo>
                    <a:pt x="8423" y="2116"/>
                  </a:lnTo>
                  <a:lnTo>
                    <a:pt x="8630" y="2220"/>
                  </a:lnTo>
                  <a:lnTo>
                    <a:pt x="8830" y="2326"/>
                  </a:lnTo>
                  <a:lnTo>
                    <a:pt x="9022" y="2435"/>
                  </a:lnTo>
                  <a:lnTo>
                    <a:pt x="9205" y="2545"/>
                  </a:lnTo>
                  <a:lnTo>
                    <a:pt x="9381" y="2658"/>
                  </a:lnTo>
                  <a:lnTo>
                    <a:pt x="9547" y="2774"/>
                  </a:lnTo>
                  <a:lnTo>
                    <a:pt x="9705" y="2892"/>
                  </a:lnTo>
                  <a:lnTo>
                    <a:pt x="9854" y="3012"/>
                  </a:lnTo>
                  <a:lnTo>
                    <a:pt x="9993" y="3137"/>
                  </a:lnTo>
                  <a:lnTo>
                    <a:pt x="10123" y="3262"/>
                  </a:lnTo>
                  <a:lnTo>
                    <a:pt x="10242" y="3392"/>
                  </a:lnTo>
                  <a:lnTo>
                    <a:pt x="10351" y="3524"/>
                  </a:lnTo>
                  <a:lnTo>
                    <a:pt x="10450" y="3660"/>
                  </a:lnTo>
                  <a:lnTo>
                    <a:pt x="10538" y="3798"/>
                  </a:lnTo>
                  <a:lnTo>
                    <a:pt x="10614" y="3939"/>
                  </a:lnTo>
                  <a:lnTo>
                    <a:pt x="10679" y="4085"/>
                  </a:lnTo>
                  <a:lnTo>
                    <a:pt x="10734" y="4233"/>
                  </a:lnTo>
                  <a:lnTo>
                    <a:pt x="10775" y="4385"/>
                  </a:lnTo>
                  <a:lnTo>
                    <a:pt x="10805" y="4540"/>
                  </a:lnTo>
                  <a:lnTo>
                    <a:pt x="10823" y="4699"/>
                  </a:lnTo>
                  <a:lnTo>
                    <a:pt x="10827" y="4862"/>
                  </a:lnTo>
                  <a:lnTo>
                    <a:pt x="10818" y="5028"/>
                  </a:lnTo>
                  <a:lnTo>
                    <a:pt x="10796" y="5198"/>
                  </a:lnTo>
                  <a:lnTo>
                    <a:pt x="10762" y="5373"/>
                  </a:lnTo>
                  <a:lnTo>
                    <a:pt x="10713" y="5551"/>
                  </a:lnTo>
                  <a:lnTo>
                    <a:pt x="10649" y="5733"/>
                  </a:lnTo>
                  <a:lnTo>
                    <a:pt x="10571" y="5920"/>
                  </a:lnTo>
                  <a:lnTo>
                    <a:pt x="10479" y="6110"/>
                  </a:lnTo>
                  <a:lnTo>
                    <a:pt x="10373" y="6305"/>
                  </a:lnTo>
                  <a:lnTo>
                    <a:pt x="10250" y="6505"/>
                  </a:lnTo>
                  <a:lnTo>
                    <a:pt x="10113" y="6709"/>
                  </a:lnTo>
                  <a:lnTo>
                    <a:pt x="9959" y="6917"/>
                  </a:lnTo>
                  <a:lnTo>
                    <a:pt x="9872" y="6991"/>
                  </a:lnTo>
                  <a:lnTo>
                    <a:pt x="9786" y="7065"/>
                  </a:lnTo>
                  <a:lnTo>
                    <a:pt x="9699" y="7135"/>
                  </a:lnTo>
                  <a:lnTo>
                    <a:pt x="9613" y="7203"/>
                  </a:lnTo>
                  <a:lnTo>
                    <a:pt x="9527" y="7269"/>
                  </a:lnTo>
                  <a:lnTo>
                    <a:pt x="9441" y="7332"/>
                  </a:lnTo>
                  <a:lnTo>
                    <a:pt x="9357" y="7391"/>
                  </a:lnTo>
                  <a:lnTo>
                    <a:pt x="9272" y="7447"/>
                  </a:lnTo>
                  <a:lnTo>
                    <a:pt x="9188" y="7499"/>
                  </a:lnTo>
                  <a:lnTo>
                    <a:pt x="9104" y="7548"/>
                  </a:lnTo>
                  <a:lnTo>
                    <a:pt x="9021" y="7591"/>
                  </a:lnTo>
                  <a:lnTo>
                    <a:pt x="8938" y="7631"/>
                  </a:lnTo>
                  <a:lnTo>
                    <a:pt x="8856" y="7665"/>
                  </a:lnTo>
                  <a:lnTo>
                    <a:pt x="8775" y="7695"/>
                  </a:lnTo>
                  <a:lnTo>
                    <a:pt x="8694" y="7719"/>
                  </a:lnTo>
                  <a:lnTo>
                    <a:pt x="8615" y="7736"/>
                  </a:lnTo>
                  <a:lnTo>
                    <a:pt x="8535" y="7748"/>
                  </a:lnTo>
                  <a:lnTo>
                    <a:pt x="8457" y="7754"/>
                  </a:lnTo>
                  <a:lnTo>
                    <a:pt x="8379" y="7753"/>
                  </a:lnTo>
                  <a:lnTo>
                    <a:pt x="8303" y="7745"/>
                  </a:lnTo>
                  <a:lnTo>
                    <a:pt x="8228" y="7730"/>
                  </a:lnTo>
                  <a:lnTo>
                    <a:pt x="8152" y="7708"/>
                  </a:lnTo>
                  <a:lnTo>
                    <a:pt x="8078" y="7678"/>
                  </a:lnTo>
                  <a:lnTo>
                    <a:pt x="8006" y="7639"/>
                  </a:lnTo>
                  <a:lnTo>
                    <a:pt x="7933" y="7593"/>
                  </a:lnTo>
                  <a:lnTo>
                    <a:pt x="7862" y="7539"/>
                  </a:lnTo>
                  <a:lnTo>
                    <a:pt x="7793" y="7475"/>
                  </a:lnTo>
                  <a:lnTo>
                    <a:pt x="7724" y="7402"/>
                  </a:lnTo>
                  <a:lnTo>
                    <a:pt x="7657" y="7319"/>
                  </a:lnTo>
                  <a:lnTo>
                    <a:pt x="7591" y="7227"/>
                  </a:lnTo>
                  <a:lnTo>
                    <a:pt x="7526" y="7125"/>
                  </a:lnTo>
                  <a:lnTo>
                    <a:pt x="7463" y="7013"/>
                  </a:lnTo>
                  <a:lnTo>
                    <a:pt x="7330" y="7002"/>
                  </a:lnTo>
                  <a:lnTo>
                    <a:pt x="7203" y="6987"/>
                  </a:lnTo>
                  <a:lnTo>
                    <a:pt x="7084" y="6972"/>
                  </a:lnTo>
                  <a:lnTo>
                    <a:pt x="6971" y="6953"/>
                  </a:lnTo>
                  <a:lnTo>
                    <a:pt x="6864" y="6933"/>
                  </a:lnTo>
                  <a:lnTo>
                    <a:pt x="6765" y="6910"/>
                  </a:lnTo>
                  <a:lnTo>
                    <a:pt x="6673" y="6885"/>
                  </a:lnTo>
                  <a:lnTo>
                    <a:pt x="6587" y="6856"/>
                  </a:lnTo>
                  <a:lnTo>
                    <a:pt x="6507" y="6827"/>
                  </a:lnTo>
                  <a:lnTo>
                    <a:pt x="6435" y="6796"/>
                  </a:lnTo>
                  <a:lnTo>
                    <a:pt x="6369" y="6761"/>
                  </a:lnTo>
                  <a:lnTo>
                    <a:pt x="6311" y="6725"/>
                  </a:lnTo>
                  <a:lnTo>
                    <a:pt x="6258" y="6687"/>
                  </a:lnTo>
                  <a:lnTo>
                    <a:pt x="6213" y="6645"/>
                  </a:lnTo>
                  <a:lnTo>
                    <a:pt x="6175" y="6602"/>
                  </a:lnTo>
                  <a:lnTo>
                    <a:pt x="6143" y="6557"/>
                  </a:lnTo>
                  <a:lnTo>
                    <a:pt x="6117" y="6509"/>
                  </a:lnTo>
                  <a:lnTo>
                    <a:pt x="6099" y="6460"/>
                  </a:lnTo>
                  <a:lnTo>
                    <a:pt x="6088" y="6408"/>
                  </a:lnTo>
                  <a:lnTo>
                    <a:pt x="6082" y="6353"/>
                  </a:lnTo>
                  <a:lnTo>
                    <a:pt x="6085" y="6297"/>
                  </a:lnTo>
                  <a:lnTo>
                    <a:pt x="6093" y="6237"/>
                  </a:lnTo>
                  <a:lnTo>
                    <a:pt x="6109" y="6176"/>
                  </a:lnTo>
                  <a:lnTo>
                    <a:pt x="6131" y="6113"/>
                  </a:lnTo>
                  <a:lnTo>
                    <a:pt x="6159" y="6048"/>
                  </a:lnTo>
                  <a:lnTo>
                    <a:pt x="6195" y="5980"/>
                  </a:lnTo>
                  <a:lnTo>
                    <a:pt x="6237" y="5910"/>
                  </a:lnTo>
                  <a:lnTo>
                    <a:pt x="6286" y="5837"/>
                  </a:lnTo>
                  <a:lnTo>
                    <a:pt x="6342" y="5762"/>
                  </a:lnTo>
                  <a:lnTo>
                    <a:pt x="6405" y="5686"/>
                  </a:lnTo>
                  <a:lnTo>
                    <a:pt x="6475" y="5606"/>
                  </a:lnTo>
                  <a:lnTo>
                    <a:pt x="6551" y="5524"/>
                  </a:lnTo>
                  <a:lnTo>
                    <a:pt x="6611" y="5500"/>
                  </a:lnTo>
                  <a:lnTo>
                    <a:pt x="6671" y="5476"/>
                  </a:lnTo>
                  <a:lnTo>
                    <a:pt x="6730" y="5453"/>
                  </a:lnTo>
                  <a:lnTo>
                    <a:pt x="6791" y="5429"/>
                  </a:lnTo>
                  <a:lnTo>
                    <a:pt x="6850" y="5405"/>
                  </a:lnTo>
                  <a:lnTo>
                    <a:pt x="6911" y="5381"/>
                  </a:lnTo>
                  <a:lnTo>
                    <a:pt x="6971" y="5357"/>
                  </a:lnTo>
                  <a:lnTo>
                    <a:pt x="7030" y="5333"/>
                  </a:lnTo>
                  <a:lnTo>
                    <a:pt x="6968" y="5420"/>
                  </a:lnTo>
                  <a:lnTo>
                    <a:pt x="6910" y="5504"/>
                  </a:lnTo>
                  <a:lnTo>
                    <a:pt x="6858" y="5585"/>
                  </a:lnTo>
                  <a:lnTo>
                    <a:pt x="6812" y="5663"/>
                  </a:lnTo>
                  <a:lnTo>
                    <a:pt x="6771" y="5738"/>
                  </a:lnTo>
                  <a:lnTo>
                    <a:pt x="6735" y="5810"/>
                  </a:lnTo>
                  <a:lnTo>
                    <a:pt x="6706" y="5879"/>
                  </a:lnTo>
                  <a:lnTo>
                    <a:pt x="6683" y="5945"/>
                  </a:lnTo>
                  <a:lnTo>
                    <a:pt x="6664" y="6008"/>
                  </a:lnTo>
                  <a:lnTo>
                    <a:pt x="6652" y="6068"/>
                  </a:lnTo>
                  <a:lnTo>
                    <a:pt x="6644" y="6125"/>
                  </a:lnTo>
                  <a:lnTo>
                    <a:pt x="6643" y="6178"/>
                  </a:lnTo>
                  <a:lnTo>
                    <a:pt x="6647" y="6230"/>
                  </a:lnTo>
                  <a:lnTo>
                    <a:pt x="6658" y="6278"/>
                  </a:lnTo>
                  <a:lnTo>
                    <a:pt x="6674" y="6323"/>
                  </a:lnTo>
                  <a:lnTo>
                    <a:pt x="6695" y="6365"/>
                  </a:lnTo>
                  <a:lnTo>
                    <a:pt x="6722" y="6404"/>
                  </a:lnTo>
                  <a:lnTo>
                    <a:pt x="6754" y="6440"/>
                  </a:lnTo>
                  <a:lnTo>
                    <a:pt x="6792" y="6474"/>
                  </a:lnTo>
                  <a:lnTo>
                    <a:pt x="6836" y="6503"/>
                  </a:lnTo>
                  <a:lnTo>
                    <a:pt x="6885" y="6530"/>
                  </a:lnTo>
                  <a:lnTo>
                    <a:pt x="6939" y="6554"/>
                  </a:lnTo>
                  <a:lnTo>
                    <a:pt x="7000" y="6575"/>
                  </a:lnTo>
                  <a:lnTo>
                    <a:pt x="7067" y="6593"/>
                  </a:lnTo>
                  <a:lnTo>
                    <a:pt x="7138" y="6609"/>
                  </a:lnTo>
                  <a:lnTo>
                    <a:pt x="7216" y="6620"/>
                  </a:lnTo>
                  <a:lnTo>
                    <a:pt x="7299" y="6629"/>
                  </a:lnTo>
                  <a:lnTo>
                    <a:pt x="7387" y="6635"/>
                  </a:lnTo>
                  <a:lnTo>
                    <a:pt x="7483" y="6638"/>
                  </a:lnTo>
                  <a:lnTo>
                    <a:pt x="7582" y="6638"/>
                  </a:lnTo>
                  <a:lnTo>
                    <a:pt x="7688" y="6635"/>
                  </a:lnTo>
                  <a:lnTo>
                    <a:pt x="7799" y="6629"/>
                  </a:lnTo>
                  <a:lnTo>
                    <a:pt x="7863" y="6739"/>
                  </a:lnTo>
                  <a:lnTo>
                    <a:pt x="7927" y="6838"/>
                  </a:lnTo>
                  <a:lnTo>
                    <a:pt x="7991" y="6925"/>
                  </a:lnTo>
                  <a:lnTo>
                    <a:pt x="8054" y="7001"/>
                  </a:lnTo>
                  <a:lnTo>
                    <a:pt x="8117" y="7067"/>
                  </a:lnTo>
                  <a:lnTo>
                    <a:pt x="8179" y="7123"/>
                  </a:lnTo>
                  <a:lnTo>
                    <a:pt x="8241" y="7170"/>
                  </a:lnTo>
                  <a:lnTo>
                    <a:pt x="8302" y="7207"/>
                  </a:lnTo>
                  <a:lnTo>
                    <a:pt x="8361" y="7236"/>
                  </a:lnTo>
                  <a:lnTo>
                    <a:pt x="8421" y="7257"/>
                  </a:lnTo>
                  <a:lnTo>
                    <a:pt x="8480" y="7270"/>
                  </a:lnTo>
                  <a:lnTo>
                    <a:pt x="8538" y="7275"/>
                  </a:lnTo>
                  <a:lnTo>
                    <a:pt x="8595" y="7274"/>
                  </a:lnTo>
                  <a:lnTo>
                    <a:pt x="8650" y="7266"/>
                  </a:lnTo>
                  <a:lnTo>
                    <a:pt x="8706" y="7252"/>
                  </a:lnTo>
                  <a:lnTo>
                    <a:pt x="8759" y="7232"/>
                  </a:lnTo>
                  <a:lnTo>
                    <a:pt x="8812" y="7207"/>
                  </a:lnTo>
                  <a:lnTo>
                    <a:pt x="8864" y="7177"/>
                  </a:lnTo>
                  <a:lnTo>
                    <a:pt x="8914" y="7142"/>
                  </a:lnTo>
                  <a:lnTo>
                    <a:pt x="8963" y="7103"/>
                  </a:lnTo>
                  <a:lnTo>
                    <a:pt x="9010" y="7062"/>
                  </a:lnTo>
                  <a:lnTo>
                    <a:pt x="9057" y="7017"/>
                  </a:lnTo>
                  <a:lnTo>
                    <a:pt x="9101" y="6968"/>
                  </a:lnTo>
                  <a:lnTo>
                    <a:pt x="9145" y="6918"/>
                  </a:lnTo>
                  <a:lnTo>
                    <a:pt x="9187" y="6867"/>
                  </a:lnTo>
                  <a:lnTo>
                    <a:pt x="9227" y="6813"/>
                  </a:lnTo>
                  <a:lnTo>
                    <a:pt x="9266" y="6758"/>
                  </a:lnTo>
                  <a:lnTo>
                    <a:pt x="9302" y="6704"/>
                  </a:lnTo>
                  <a:lnTo>
                    <a:pt x="9338" y="6648"/>
                  </a:lnTo>
                  <a:lnTo>
                    <a:pt x="9370" y="6593"/>
                  </a:lnTo>
                  <a:lnTo>
                    <a:pt x="9402" y="6538"/>
                  </a:lnTo>
                  <a:lnTo>
                    <a:pt x="9431" y="6485"/>
                  </a:lnTo>
                  <a:lnTo>
                    <a:pt x="9573" y="6331"/>
                  </a:lnTo>
                  <a:lnTo>
                    <a:pt x="9699" y="6179"/>
                  </a:lnTo>
                  <a:lnTo>
                    <a:pt x="9811" y="6030"/>
                  </a:lnTo>
                  <a:lnTo>
                    <a:pt x="9909" y="5882"/>
                  </a:lnTo>
                  <a:lnTo>
                    <a:pt x="9992" y="5737"/>
                  </a:lnTo>
                  <a:lnTo>
                    <a:pt x="10062" y="5594"/>
                  </a:lnTo>
                  <a:lnTo>
                    <a:pt x="10117" y="5451"/>
                  </a:lnTo>
                  <a:lnTo>
                    <a:pt x="10160" y="5311"/>
                  </a:lnTo>
                  <a:lnTo>
                    <a:pt x="10191" y="5173"/>
                  </a:lnTo>
                  <a:lnTo>
                    <a:pt x="10207" y="5037"/>
                  </a:lnTo>
                  <a:lnTo>
                    <a:pt x="10211" y="4902"/>
                  </a:lnTo>
                  <a:lnTo>
                    <a:pt x="10204" y="4769"/>
                  </a:lnTo>
                  <a:lnTo>
                    <a:pt x="10184" y="4637"/>
                  </a:lnTo>
                  <a:lnTo>
                    <a:pt x="10153" y="4507"/>
                  </a:lnTo>
                  <a:lnTo>
                    <a:pt x="10110" y="4380"/>
                  </a:lnTo>
                  <a:lnTo>
                    <a:pt x="10056" y="4252"/>
                  </a:lnTo>
                  <a:lnTo>
                    <a:pt x="9991" y="4128"/>
                  </a:lnTo>
                  <a:lnTo>
                    <a:pt x="9915" y="4004"/>
                  </a:lnTo>
                  <a:lnTo>
                    <a:pt x="9830" y="3882"/>
                  </a:lnTo>
                  <a:lnTo>
                    <a:pt x="9733" y="3760"/>
                  </a:lnTo>
                  <a:lnTo>
                    <a:pt x="9628" y="3641"/>
                  </a:lnTo>
                  <a:lnTo>
                    <a:pt x="9512" y="3523"/>
                  </a:lnTo>
                  <a:lnTo>
                    <a:pt x="9388" y="3406"/>
                  </a:lnTo>
                  <a:lnTo>
                    <a:pt x="9254" y="3289"/>
                  </a:lnTo>
                  <a:lnTo>
                    <a:pt x="9112" y="3175"/>
                  </a:lnTo>
                  <a:lnTo>
                    <a:pt x="8961" y="3062"/>
                  </a:lnTo>
                  <a:lnTo>
                    <a:pt x="8803" y="2949"/>
                  </a:lnTo>
                  <a:lnTo>
                    <a:pt x="8636" y="2838"/>
                  </a:lnTo>
                  <a:lnTo>
                    <a:pt x="8461" y="2729"/>
                  </a:lnTo>
                  <a:lnTo>
                    <a:pt x="8280" y="2620"/>
                  </a:lnTo>
                  <a:lnTo>
                    <a:pt x="8090" y="2511"/>
                  </a:lnTo>
                  <a:lnTo>
                    <a:pt x="7895" y="2404"/>
                  </a:lnTo>
                  <a:lnTo>
                    <a:pt x="7885" y="2236"/>
                  </a:lnTo>
                  <a:lnTo>
                    <a:pt x="7873" y="2077"/>
                  </a:lnTo>
                  <a:lnTo>
                    <a:pt x="7855" y="1926"/>
                  </a:lnTo>
                  <a:lnTo>
                    <a:pt x="7835" y="1784"/>
                  </a:lnTo>
                  <a:lnTo>
                    <a:pt x="7810" y="1650"/>
                  </a:lnTo>
                  <a:lnTo>
                    <a:pt x="7783" y="1524"/>
                  </a:lnTo>
                  <a:lnTo>
                    <a:pt x="7750" y="1408"/>
                  </a:lnTo>
                  <a:lnTo>
                    <a:pt x="7715" y="1300"/>
                  </a:lnTo>
                  <a:lnTo>
                    <a:pt x="7675" y="1201"/>
                  </a:lnTo>
                  <a:lnTo>
                    <a:pt x="7632" y="1111"/>
                  </a:lnTo>
                  <a:lnTo>
                    <a:pt x="7585" y="1028"/>
                  </a:lnTo>
                  <a:lnTo>
                    <a:pt x="7535" y="955"/>
                  </a:lnTo>
                  <a:lnTo>
                    <a:pt x="7480" y="890"/>
                  </a:lnTo>
                  <a:lnTo>
                    <a:pt x="7422" y="835"/>
                  </a:lnTo>
                  <a:lnTo>
                    <a:pt x="7360" y="786"/>
                  </a:lnTo>
                  <a:lnTo>
                    <a:pt x="7295" y="748"/>
                  </a:lnTo>
                  <a:lnTo>
                    <a:pt x="7225" y="717"/>
                  </a:lnTo>
                  <a:lnTo>
                    <a:pt x="7152" y="696"/>
                  </a:lnTo>
                  <a:lnTo>
                    <a:pt x="7075" y="683"/>
                  </a:lnTo>
                  <a:lnTo>
                    <a:pt x="6995" y="679"/>
                  </a:lnTo>
                  <a:lnTo>
                    <a:pt x="6910" y="683"/>
                  </a:lnTo>
                  <a:lnTo>
                    <a:pt x="6822" y="696"/>
                  </a:lnTo>
                  <a:lnTo>
                    <a:pt x="6730" y="717"/>
                  </a:lnTo>
                  <a:lnTo>
                    <a:pt x="6635" y="748"/>
                  </a:lnTo>
                  <a:lnTo>
                    <a:pt x="6536" y="786"/>
                  </a:lnTo>
                  <a:lnTo>
                    <a:pt x="6432" y="835"/>
                  </a:lnTo>
                  <a:lnTo>
                    <a:pt x="6325" y="890"/>
                  </a:lnTo>
                  <a:lnTo>
                    <a:pt x="6214" y="955"/>
                  </a:lnTo>
                  <a:lnTo>
                    <a:pt x="6100" y="1028"/>
                  </a:lnTo>
                  <a:lnTo>
                    <a:pt x="5982" y="1110"/>
                  </a:lnTo>
                  <a:lnTo>
                    <a:pt x="5861" y="1201"/>
                  </a:lnTo>
                  <a:lnTo>
                    <a:pt x="5735" y="1300"/>
                  </a:lnTo>
                  <a:lnTo>
                    <a:pt x="5564" y="1249"/>
                  </a:lnTo>
                  <a:lnTo>
                    <a:pt x="5399" y="1204"/>
                  </a:lnTo>
                  <a:lnTo>
                    <a:pt x="5240" y="1165"/>
                  </a:lnTo>
                  <a:lnTo>
                    <a:pt x="5085" y="1134"/>
                  </a:lnTo>
                  <a:lnTo>
                    <a:pt x="4937" y="1108"/>
                  </a:lnTo>
                  <a:lnTo>
                    <a:pt x="4793" y="1088"/>
                  </a:lnTo>
                  <a:lnTo>
                    <a:pt x="4655" y="1074"/>
                  </a:lnTo>
                  <a:lnTo>
                    <a:pt x="4521" y="1067"/>
                  </a:lnTo>
                  <a:lnTo>
                    <a:pt x="4393" y="1065"/>
                  </a:lnTo>
                  <a:lnTo>
                    <a:pt x="4269" y="1069"/>
                  </a:lnTo>
                  <a:lnTo>
                    <a:pt x="4150" y="1078"/>
                  </a:lnTo>
                  <a:lnTo>
                    <a:pt x="4036" y="1093"/>
                  </a:lnTo>
                  <a:lnTo>
                    <a:pt x="3926" y="1113"/>
                  </a:lnTo>
                  <a:lnTo>
                    <a:pt x="3820" y="1138"/>
                  </a:lnTo>
                  <a:lnTo>
                    <a:pt x="3719" y="1168"/>
                  </a:lnTo>
                  <a:lnTo>
                    <a:pt x="3622" y="1204"/>
                  </a:lnTo>
                  <a:lnTo>
                    <a:pt x="3529" y="1245"/>
                  </a:lnTo>
                  <a:lnTo>
                    <a:pt x="3440" y="1290"/>
                  </a:lnTo>
                  <a:lnTo>
                    <a:pt x="3356" y="1339"/>
                  </a:lnTo>
                  <a:lnTo>
                    <a:pt x="3274" y="1393"/>
                  </a:lnTo>
                  <a:lnTo>
                    <a:pt x="3197" y="1452"/>
                  </a:lnTo>
                  <a:lnTo>
                    <a:pt x="3123" y="1515"/>
                  </a:lnTo>
                  <a:lnTo>
                    <a:pt x="3053" y="1582"/>
                  </a:lnTo>
                  <a:lnTo>
                    <a:pt x="2986" y="1653"/>
                  </a:lnTo>
                  <a:lnTo>
                    <a:pt x="2923" y="1728"/>
                  </a:lnTo>
                  <a:lnTo>
                    <a:pt x="2864" y="1808"/>
                  </a:lnTo>
                  <a:lnTo>
                    <a:pt x="2806" y="1890"/>
                  </a:lnTo>
                  <a:lnTo>
                    <a:pt x="2753" y="1977"/>
                  </a:lnTo>
                  <a:lnTo>
                    <a:pt x="2702" y="2067"/>
                  </a:lnTo>
                  <a:lnTo>
                    <a:pt x="2653" y="2160"/>
                  </a:lnTo>
                  <a:lnTo>
                    <a:pt x="2608" y="2257"/>
                  </a:lnTo>
                  <a:lnTo>
                    <a:pt x="2566" y="2356"/>
                  </a:lnTo>
                  <a:lnTo>
                    <a:pt x="2471" y="2318"/>
                  </a:lnTo>
                  <a:lnTo>
                    <a:pt x="2380" y="2284"/>
                  </a:lnTo>
                  <a:lnTo>
                    <a:pt x="2291" y="2255"/>
                  </a:lnTo>
                  <a:lnTo>
                    <a:pt x="2206" y="2230"/>
                  </a:lnTo>
                  <a:lnTo>
                    <a:pt x="2123" y="2211"/>
                  </a:lnTo>
                  <a:lnTo>
                    <a:pt x="2043" y="2194"/>
                  </a:lnTo>
                  <a:lnTo>
                    <a:pt x="1967" y="2183"/>
                  </a:lnTo>
                  <a:lnTo>
                    <a:pt x="1894" y="2176"/>
                  </a:lnTo>
                  <a:lnTo>
                    <a:pt x="1824" y="2174"/>
                  </a:lnTo>
                  <a:lnTo>
                    <a:pt x="1756" y="2176"/>
                  </a:lnTo>
                  <a:lnTo>
                    <a:pt x="1691" y="2183"/>
                  </a:lnTo>
                  <a:lnTo>
                    <a:pt x="1630" y="2194"/>
                  </a:lnTo>
                  <a:lnTo>
                    <a:pt x="1572" y="2211"/>
                  </a:lnTo>
                  <a:lnTo>
                    <a:pt x="1516" y="2230"/>
                  </a:lnTo>
                  <a:lnTo>
                    <a:pt x="1464" y="2255"/>
                  </a:lnTo>
                  <a:lnTo>
                    <a:pt x="1414" y="2284"/>
                  </a:lnTo>
                  <a:lnTo>
                    <a:pt x="1367" y="2318"/>
                  </a:lnTo>
                  <a:lnTo>
                    <a:pt x="1324" y="2356"/>
                  </a:lnTo>
                  <a:lnTo>
                    <a:pt x="1283" y="2399"/>
                  </a:lnTo>
                  <a:lnTo>
                    <a:pt x="1246" y="2446"/>
                  </a:lnTo>
                  <a:lnTo>
                    <a:pt x="1212" y="2498"/>
                  </a:lnTo>
                  <a:lnTo>
                    <a:pt x="1180" y="2555"/>
                  </a:lnTo>
                  <a:lnTo>
                    <a:pt x="1151" y="2616"/>
                  </a:lnTo>
                  <a:lnTo>
                    <a:pt x="1126" y="2680"/>
                  </a:lnTo>
                  <a:lnTo>
                    <a:pt x="1103" y="2751"/>
                  </a:lnTo>
                  <a:lnTo>
                    <a:pt x="1084" y="2825"/>
                  </a:lnTo>
                  <a:lnTo>
                    <a:pt x="1067" y="2903"/>
                  </a:lnTo>
                  <a:lnTo>
                    <a:pt x="1054" y="2986"/>
                  </a:lnTo>
                  <a:lnTo>
                    <a:pt x="1043" y="3074"/>
                  </a:lnTo>
                  <a:lnTo>
                    <a:pt x="1036" y="3166"/>
                  </a:lnTo>
                  <a:lnTo>
                    <a:pt x="1032" y="3263"/>
                  </a:lnTo>
                  <a:lnTo>
                    <a:pt x="1030" y="3365"/>
                  </a:lnTo>
                  <a:lnTo>
                    <a:pt x="949" y="3474"/>
                  </a:lnTo>
                  <a:lnTo>
                    <a:pt x="880" y="3578"/>
                  </a:lnTo>
                  <a:lnTo>
                    <a:pt x="820" y="3678"/>
                  </a:lnTo>
                  <a:lnTo>
                    <a:pt x="772" y="3774"/>
                  </a:lnTo>
                  <a:lnTo>
                    <a:pt x="733" y="3866"/>
                  </a:lnTo>
                  <a:lnTo>
                    <a:pt x="704" y="3953"/>
                  </a:lnTo>
                  <a:lnTo>
                    <a:pt x="685" y="4038"/>
                  </a:lnTo>
                  <a:lnTo>
                    <a:pt x="675" y="4117"/>
                  </a:lnTo>
                  <a:lnTo>
                    <a:pt x="673" y="4193"/>
                  </a:lnTo>
                  <a:lnTo>
                    <a:pt x="680" y="4267"/>
                  </a:lnTo>
                  <a:lnTo>
                    <a:pt x="695" y="4337"/>
                  </a:lnTo>
                  <a:lnTo>
                    <a:pt x="718" y="4403"/>
                  </a:lnTo>
                  <a:lnTo>
                    <a:pt x="748" y="4466"/>
                  </a:lnTo>
                  <a:lnTo>
                    <a:pt x="786" y="4526"/>
                  </a:lnTo>
                  <a:lnTo>
                    <a:pt x="831" y="4584"/>
                  </a:lnTo>
                  <a:lnTo>
                    <a:pt x="883" y="4638"/>
                  </a:lnTo>
                  <a:lnTo>
                    <a:pt x="941" y="4690"/>
                  </a:lnTo>
                  <a:lnTo>
                    <a:pt x="1004" y="4740"/>
                  </a:lnTo>
                  <a:lnTo>
                    <a:pt x="1075" y="4787"/>
                  </a:lnTo>
                  <a:lnTo>
                    <a:pt x="1150" y="4831"/>
                  </a:lnTo>
                  <a:lnTo>
                    <a:pt x="1230" y="4874"/>
                  </a:lnTo>
                  <a:lnTo>
                    <a:pt x="1315" y="4914"/>
                  </a:lnTo>
                  <a:lnTo>
                    <a:pt x="1406" y="4953"/>
                  </a:lnTo>
                  <a:lnTo>
                    <a:pt x="1500" y="4990"/>
                  </a:lnTo>
                  <a:lnTo>
                    <a:pt x="1599" y="5025"/>
                  </a:lnTo>
                  <a:lnTo>
                    <a:pt x="1700" y="5059"/>
                  </a:lnTo>
                  <a:lnTo>
                    <a:pt x="1806" y="5091"/>
                  </a:lnTo>
                  <a:lnTo>
                    <a:pt x="1915" y="5123"/>
                  </a:lnTo>
                  <a:lnTo>
                    <a:pt x="2026" y="5153"/>
                  </a:lnTo>
                  <a:lnTo>
                    <a:pt x="2140" y="5181"/>
                  </a:lnTo>
                  <a:lnTo>
                    <a:pt x="2256" y="5209"/>
                  </a:lnTo>
                  <a:lnTo>
                    <a:pt x="2374" y="5237"/>
                  </a:lnTo>
                  <a:lnTo>
                    <a:pt x="2346" y="5363"/>
                  </a:lnTo>
                  <a:lnTo>
                    <a:pt x="2323" y="5479"/>
                  </a:lnTo>
                  <a:lnTo>
                    <a:pt x="2307" y="5586"/>
                  </a:lnTo>
                  <a:lnTo>
                    <a:pt x="2298" y="5685"/>
                  </a:lnTo>
                  <a:lnTo>
                    <a:pt x="2294" y="5773"/>
                  </a:lnTo>
                  <a:lnTo>
                    <a:pt x="2296" y="5854"/>
                  </a:lnTo>
                  <a:lnTo>
                    <a:pt x="2303" y="5926"/>
                  </a:lnTo>
                  <a:lnTo>
                    <a:pt x="2316" y="5991"/>
                  </a:lnTo>
                  <a:lnTo>
                    <a:pt x="2333" y="6048"/>
                  </a:lnTo>
                  <a:lnTo>
                    <a:pt x="2356" y="6097"/>
                  </a:lnTo>
                  <a:lnTo>
                    <a:pt x="2384" y="6139"/>
                  </a:lnTo>
                  <a:lnTo>
                    <a:pt x="2416" y="6173"/>
                  </a:lnTo>
                  <a:lnTo>
                    <a:pt x="2453" y="6201"/>
                  </a:lnTo>
                  <a:lnTo>
                    <a:pt x="2493" y="6222"/>
                  </a:lnTo>
                  <a:lnTo>
                    <a:pt x="2538" y="6238"/>
                  </a:lnTo>
                  <a:lnTo>
                    <a:pt x="2589" y="6248"/>
                  </a:lnTo>
                  <a:lnTo>
                    <a:pt x="2641" y="6252"/>
                  </a:lnTo>
                  <a:lnTo>
                    <a:pt x="2697" y="6251"/>
                  </a:lnTo>
                  <a:lnTo>
                    <a:pt x="2757" y="6243"/>
                  </a:lnTo>
                  <a:lnTo>
                    <a:pt x="2821" y="6232"/>
                  </a:lnTo>
                  <a:lnTo>
                    <a:pt x="2887" y="6216"/>
                  </a:lnTo>
                  <a:lnTo>
                    <a:pt x="2956" y="6196"/>
                  </a:lnTo>
                  <a:lnTo>
                    <a:pt x="3027" y="6171"/>
                  </a:lnTo>
                  <a:lnTo>
                    <a:pt x="3101" y="6143"/>
                  </a:lnTo>
                  <a:lnTo>
                    <a:pt x="3179" y="6111"/>
                  </a:lnTo>
                  <a:lnTo>
                    <a:pt x="3257" y="6077"/>
                  </a:lnTo>
                  <a:lnTo>
                    <a:pt x="3338" y="6038"/>
                  </a:lnTo>
                  <a:lnTo>
                    <a:pt x="3420" y="5997"/>
                  </a:lnTo>
                  <a:lnTo>
                    <a:pt x="3505" y="5955"/>
                  </a:lnTo>
                  <a:lnTo>
                    <a:pt x="3591" y="5910"/>
                  </a:lnTo>
                  <a:lnTo>
                    <a:pt x="3678" y="5861"/>
                  </a:lnTo>
                  <a:lnTo>
                    <a:pt x="3766" y="5813"/>
                  </a:lnTo>
                  <a:lnTo>
                    <a:pt x="3748" y="5867"/>
                  </a:lnTo>
                  <a:lnTo>
                    <a:pt x="3730" y="5921"/>
                  </a:lnTo>
                  <a:lnTo>
                    <a:pt x="3712" y="5974"/>
                  </a:lnTo>
                  <a:lnTo>
                    <a:pt x="3695" y="6029"/>
                  </a:lnTo>
                  <a:lnTo>
                    <a:pt x="3676" y="6083"/>
                  </a:lnTo>
                  <a:lnTo>
                    <a:pt x="3658" y="6137"/>
                  </a:lnTo>
                  <a:lnTo>
                    <a:pt x="3640" y="6191"/>
                  </a:lnTo>
                  <a:lnTo>
                    <a:pt x="3622" y="62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87680" y="5630760"/>
              <a:ext cx="780840" cy="559080"/>
            </a:xfrm>
            <a:custGeom>
              <a:avLst/>
              <a:gdLst/>
              <a:ahLst/>
              <a:rect l="l" t="t" r="r" b="b"/>
              <a:pathLst>
                <a:path w="10827" h="7754">
                  <a:moveTo>
                    <a:pt x="3622" y="6244"/>
                  </a:moveTo>
                  <a:lnTo>
                    <a:pt x="3510" y="6322"/>
                  </a:lnTo>
                  <a:lnTo>
                    <a:pt x="3400" y="6397"/>
                  </a:lnTo>
                  <a:lnTo>
                    <a:pt x="3291" y="6469"/>
                  </a:lnTo>
                  <a:lnTo>
                    <a:pt x="3184" y="6537"/>
                  </a:lnTo>
                  <a:lnTo>
                    <a:pt x="3079" y="6603"/>
                  </a:lnTo>
                  <a:lnTo>
                    <a:pt x="2978" y="6664"/>
                  </a:lnTo>
                  <a:lnTo>
                    <a:pt x="2879" y="6720"/>
                  </a:lnTo>
                  <a:lnTo>
                    <a:pt x="2783" y="6773"/>
                  </a:lnTo>
                  <a:lnTo>
                    <a:pt x="2690" y="6820"/>
                  </a:lnTo>
                  <a:lnTo>
                    <a:pt x="2601" y="6861"/>
                  </a:lnTo>
                  <a:lnTo>
                    <a:pt x="2516" y="6896"/>
                  </a:lnTo>
                  <a:lnTo>
                    <a:pt x="2435" y="6925"/>
                  </a:lnTo>
                  <a:lnTo>
                    <a:pt x="2358" y="6948"/>
                  </a:lnTo>
                  <a:lnTo>
                    <a:pt x="2285" y="6962"/>
                  </a:lnTo>
                  <a:lnTo>
                    <a:pt x="2218" y="6970"/>
                  </a:lnTo>
                  <a:lnTo>
                    <a:pt x="2155" y="6970"/>
                  </a:lnTo>
                  <a:lnTo>
                    <a:pt x="2098" y="6960"/>
                  </a:lnTo>
                  <a:lnTo>
                    <a:pt x="2046" y="6943"/>
                  </a:lnTo>
                  <a:lnTo>
                    <a:pt x="1999" y="6917"/>
                  </a:lnTo>
                  <a:lnTo>
                    <a:pt x="1960" y="6881"/>
                  </a:lnTo>
                  <a:lnTo>
                    <a:pt x="1926" y="6836"/>
                  </a:lnTo>
                  <a:lnTo>
                    <a:pt x="1899" y="6779"/>
                  </a:lnTo>
                  <a:lnTo>
                    <a:pt x="1878" y="6713"/>
                  </a:lnTo>
                  <a:lnTo>
                    <a:pt x="1865" y="6636"/>
                  </a:lnTo>
                  <a:lnTo>
                    <a:pt x="1858" y="6547"/>
                  </a:lnTo>
                  <a:lnTo>
                    <a:pt x="1859" y="6446"/>
                  </a:lnTo>
                  <a:lnTo>
                    <a:pt x="1869" y="6333"/>
                  </a:lnTo>
                  <a:lnTo>
                    <a:pt x="1885" y="6208"/>
                  </a:lnTo>
                  <a:lnTo>
                    <a:pt x="1911" y="6070"/>
                  </a:lnTo>
                  <a:lnTo>
                    <a:pt x="1944" y="5918"/>
                  </a:lnTo>
                  <a:lnTo>
                    <a:pt x="1987" y="5753"/>
                  </a:lnTo>
                  <a:lnTo>
                    <a:pt x="2038" y="5573"/>
                  </a:lnTo>
                  <a:lnTo>
                    <a:pt x="1855" y="5541"/>
                  </a:lnTo>
                  <a:lnTo>
                    <a:pt x="1680" y="5507"/>
                  </a:lnTo>
                  <a:lnTo>
                    <a:pt x="1514" y="5469"/>
                  </a:lnTo>
                  <a:lnTo>
                    <a:pt x="1357" y="5429"/>
                  </a:lnTo>
                  <a:lnTo>
                    <a:pt x="1208" y="5385"/>
                  </a:lnTo>
                  <a:lnTo>
                    <a:pt x="1068" y="5339"/>
                  </a:lnTo>
                  <a:lnTo>
                    <a:pt x="936" y="5289"/>
                  </a:lnTo>
                  <a:lnTo>
                    <a:pt x="814" y="5237"/>
                  </a:lnTo>
                  <a:lnTo>
                    <a:pt x="700" y="5181"/>
                  </a:lnTo>
                  <a:lnTo>
                    <a:pt x="594" y="5123"/>
                  </a:lnTo>
                  <a:lnTo>
                    <a:pt x="497" y="5061"/>
                  </a:lnTo>
                  <a:lnTo>
                    <a:pt x="409" y="4997"/>
                  </a:lnTo>
                  <a:lnTo>
                    <a:pt x="328" y="4929"/>
                  </a:lnTo>
                  <a:lnTo>
                    <a:pt x="257" y="4859"/>
                  </a:lnTo>
                  <a:lnTo>
                    <a:pt x="196" y="4786"/>
                  </a:lnTo>
                  <a:lnTo>
                    <a:pt x="141" y="4708"/>
                  </a:lnTo>
                  <a:lnTo>
                    <a:pt x="96" y="4629"/>
                  </a:lnTo>
                  <a:lnTo>
                    <a:pt x="60" y="4547"/>
                  </a:lnTo>
                  <a:lnTo>
                    <a:pt x="31" y="4461"/>
                  </a:lnTo>
                  <a:lnTo>
                    <a:pt x="12" y="4372"/>
                  </a:lnTo>
                  <a:lnTo>
                    <a:pt x="2" y="4281"/>
                  </a:lnTo>
                  <a:lnTo>
                    <a:pt x="0" y="4186"/>
                  </a:lnTo>
                  <a:lnTo>
                    <a:pt x="6" y="4089"/>
                  </a:lnTo>
                  <a:lnTo>
                    <a:pt x="22" y="3988"/>
                  </a:lnTo>
                  <a:lnTo>
                    <a:pt x="45" y="3885"/>
                  </a:lnTo>
                  <a:lnTo>
                    <a:pt x="77" y="3778"/>
                  </a:lnTo>
                  <a:lnTo>
                    <a:pt x="119" y="3669"/>
                  </a:lnTo>
                  <a:lnTo>
                    <a:pt x="168" y="3556"/>
                  </a:lnTo>
                  <a:lnTo>
                    <a:pt x="227" y="3441"/>
                  </a:lnTo>
                  <a:lnTo>
                    <a:pt x="294" y="3323"/>
                  </a:lnTo>
                  <a:lnTo>
                    <a:pt x="369" y="3200"/>
                  </a:lnTo>
                  <a:lnTo>
                    <a:pt x="454" y="3076"/>
                  </a:lnTo>
                  <a:lnTo>
                    <a:pt x="457" y="2999"/>
                  </a:lnTo>
                  <a:lnTo>
                    <a:pt x="461" y="2922"/>
                  </a:lnTo>
                  <a:lnTo>
                    <a:pt x="468" y="2847"/>
                  </a:lnTo>
                  <a:lnTo>
                    <a:pt x="476" y="2772"/>
                  </a:lnTo>
                  <a:lnTo>
                    <a:pt x="486" y="2699"/>
                  </a:lnTo>
                  <a:lnTo>
                    <a:pt x="498" y="2628"/>
                  </a:lnTo>
                  <a:lnTo>
                    <a:pt x="513" y="2559"/>
                  </a:lnTo>
                  <a:lnTo>
                    <a:pt x="530" y="2492"/>
                  </a:lnTo>
                  <a:lnTo>
                    <a:pt x="550" y="2426"/>
                  </a:lnTo>
                  <a:lnTo>
                    <a:pt x="573" y="2363"/>
                  </a:lnTo>
                  <a:lnTo>
                    <a:pt x="599" y="2303"/>
                  </a:lnTo>
                  <a:lnTo>
                    <a:pt x="630" y="2245"/>
                  </a:lnTo>
                  <a:lnTo>
                    <a:pt x="663" y="2190"/>
                  </a:lnTo>
                  <a:lnTo>
                    <a:pt x="700" y="2137"/>
                  </a:lnTo>
                  <a:lnTo>
                    <a:pt x="742" y="2088"/>
                  </a:lnTo>
                  <a:lnTo>
                    <a:pt x="788" y="2042"/>
                  </a:lnTo>
                  <a:lnTo>
                    <a:pt x="838" y="2000"/>
                  </a:lnTo>
                  <a:lnTo>
                    <a:pt x="892" y="1961"/>
                  </a:lnTo>
                  <a:lnTo>
                    <a:pt x="952" y="1926"/>
                  </a:lnTo>
                  <a:lnTo>
                    <a:pt x="1018" y="1895"/>
                  </a:lnTo>
                  <a:lnTo>
                    <a:pt x="1088" y="1867"/>
                  </a:lnTo>
                  <a:lnTo>
                    <a:pt x="1164" y="1843"/>
                  </a:lnTo>
                  <a:lnTo>
                    <a:pt x="1246" y="1824"/>
                  </a:lnTo>
                  <a:lnTo>
                    <a:pt x="1334" y="1810"/>
                  </a:lnTo>
                  <a:lnTo>
                    <a:pt x="1428" y="1800"/>
                  </a:lnTo>
                  <a:lnTo>
                    <a:pt x="1529" y="1795"/>
                  </a:lnTo>
                  <a:lnTo>
                    <a:pt x="1635" y="1796"/>
                  </a:lnTo>
                  <a:lnTo>
                    <a:pt x="1749" y="1800"/>
                  </a:lnTo>
                  <a:lnTo>
                    <a:pt x="1871" y="1812"/>
                  </a:lnTo>
                  <a:lnTo>
                    <a:pt x="1998" y="1828"/>
                  </a:lnTo>
                  <a:lnTo>
                    <a:pt x="2134" y="1849"/>
                  </a:lnTo>
                  <a:lnTo>
                    <a:pt x="2278" y="1876"/>
                  </a:lnTo>
                  <a:lnTo>
                    <a:pt x="2318" y="1785"/>
                  </a:lnTo>
                  <a:lnTo>
                    <a:pt x="2359" y="1696"/>
                  </a:lnTo>
                  <a:lnTo>
                    <a:pt x="2402" y="1608"/>
                  </a:lnTo>
                  <a:lnTo>
                    <a:pt x="2448" y="1521"/>
                  </a:lnTo>
                  <a:lnTo>
                    <a:pt x="2498" y="1437"/>
                  </a:lnTo>
                  <a:lnTo>
                    <a:pt x="2550" y="1356"/>
                  </a:lnTo>
                  <a:lnTo>
                    <a:pt x="2605" y="1277"/>
                  </a:lnTo>
                  <a:lnTo>
                    <a:pt x="2664" y="1201"/>
                  </a:lnTo>
                  <a:lnTo>
                    <a:pt x="2728" y="1128"/>
                  </a:lnTo>
                  <a:lnTo>
                    <a:pt x="2795" y="1059"/>
                  </a:lnTo>
                  <a:lnTo>
                    <a:pt x="2867" y="992"/>
                  </a:lnTo>
                  <a:lnTo>
                    <a:pt x="2944" y="930"/>
                  </a:lnTo>
                  <a:lnTo>
                    <a:pt x="3026" y="871"/>
                  </a:lnTo>
                  <a:lnTo>
                    <a:pt x="3114" y="817"/>
                  </a:lnTo>
                  <a:lnTo>
                    <a:pt x="3207" y="767"/>
                  </a:lnTo>
                  <a:lnTo>
                    <a:pt x="3306" y="722"/>
                  </a:lnTo>
                  <a:lnTo>
                    <a:pt x="3413" y="681"/>
                  </a:lnTo>
                  <a:lnTo>
                    <a:pt x="3525" y="646"/>
                  </a:lnTo>
                  <a:lnTo>
                    <a:pt x="3645" y="616"/>
                  </a:lnTo>
                  <a:lnTo>
                    <a:pt x="3772" y="592"/>
                  </a:lnTo>
                  <a:lnTo>
                    <a:pt x="3907" y="574"/>
                  </a:lnTo>
                  <a:lnTo>
                    <a:pt x="4049" y="562"/>
                  </a:lnTo>
                  <a:lnTo>
                    <a:pt x="4200" y="555"/>
                  </a:lnTo>
                  <a:lnTo>
                    <a:pt x="4359" y="555"/>
                  </a:lnTo>
                  <a:lnTo>
                    <a:pt x="4526" y="563"/>
                  </a:lnTo>
                  <a:lnTo>
                    <a:pt x="4704" y="576"/>
                  </a:lnTo>
                  <a:lnTo>
                    <a:pt x="4891" y="598"/>
                  </a:lnTo>
                  <a:lnTo>
                    <a:pt x="5086" y="626"/>
                  </a:lnTo>
                  <a:lnTo>
                    <a:pt x="5292" y="663"/>
                  </a:lnTo>
                  <a:lnTo>
                    <a:pt x="5509" y="707"/>
                  </a:lnTo>
                  <a:lnTo>
                    <a:pt x="5736" y="759"/>
                  </a:lnTo>
                  <a:lnTo>
                    <a:pt x="5975" y="820"/>
                  </a:lnTo>
                  <a:lnTo>
                    <a:pt x="6144" y="666"/>
                  </a:lnTo>
                  <a:lnTo>
                    <a:pt x="6306" y="529"/>
                  </a:lnTo>
                  <a:lnTo>
                    <a:pt x="6460" y="410"/>
                  </a:lnTo>
                  <a:lnTo>
                    <a:pt x="6606" y="306"/>
                  </a:lnTo>
                  <a:lnTo>
                    <a:pt x="6744" y="218"/>
                  </a:lnTo>
                  <a:lnTo>
                    <a:pt x="6875" y="146"/>
                  </a:lnTo>
                  <a:lnTo>
                    <a:pt x="6999" y="89"/>
                  </a:lnTo>
                  <a:lnTo>
                    <a:pt x="7115" y="46"/>
                  </a:lnTo>
                  <a:lnTo>
                    <a:pt x="7225" y="17"/>
                  </a:lnTo>
                  <a:lnTo>
                    <a:pt x="7329" y="2"/>
                  </a:lnTo>
                  <a:lnTo>
                    <a:pt x="7426" y="0"/>
                  </a:lnTo>
                  <a:lnTo>
                    <a:pt x="7517" y="10"/>
                  </a:lnTo>
                  <a:lnTo>
                    <a:pt x="7602" y="32"/>
                  </a:lnTo>
                  <a:lnTo>
                    <a:pt x="7681" y="67"/>
                  </a:lnTo>
                  <a:lnTo>
                    <a:pt x="7756" y="112"/>
                  </a:lnTo>
                  <a:lnTo>
                    <a:pt x="7826" y="167"/>
                  </a:lnTo>
                  <a:lnTo>
                    <a:pt x="7890" y="233"/>
                  </a:lnTo>
                  <a:lnTo>
                    <a:pt x="7949" y="308"/>
                  </a:lnTo>
                  <a:lnTo>
                    <a:pt x="8005" y="393"/>
                  </a:lnTo>
                  <a:lnTo>
                    <a:pt x="8056" y="486"/>
                  </a:lnTo>
                  <a:lnTo>
                    <a:pt x="8102" y="589"/>
                  </a:lnTo>
                  <a:lnTo>
                    <a:pt x="8146" y="698"/>
                  </a:lnTo>
                  <a:lnTo>
                    <a:pt x="8186" y="815"/>
                  </a:lnTo>
                  <a:lnTo>
                    <a:pt x="8222" y="938"/>
                  </a:lnTo>
                  <a:lnTo>
                    <a:pt x="8256" y="1068"/>
                  </a:lnTo>
                  <a:lnTo>
                    <a:pt x="8286" y="1204"/>
                  </a:lnTo>
                  <a:lnTo>
                    <a:pt x="8314" y="1345"/>
                  </a:lnTo>
                  <a:lnTo>
                    <a:pt x="8339" y="1492"/>
                  </a:lnTo>
                  <a:lnTo>
                    <a:pt x="8364" y="1642"/>
                  </a:lnTo>
                  <a:lnTo>
                    <a:pt x="8384" y="1797"/>
                  </a:lnTo>
                  <a:lnTo>
                    <a:pt x="8404" y="1955"/>
                  </a:lnTo>
                  <a:lnTo>
                    <a:pt x="8423" y="2116"/>
                  </a:lnTo>
                  <a:lnTo>
                    <a:pt x="8630" y="2220"/>
                  </a:lnTo>
                  <a:lnTo>
                    <a:pt x="8830" y="2326"/>
                  </a:lnTo>
                  <a:lnTo>
                    <a:pt x="9022" y="2435"/>
                  </a:lnTo>
                  <a:lnTo>
                    <a:pt x="9205" y="2545"/>
                  </a:lnTo>
                  <a:lnTo>
                    <a:pt x="9381" y="2658"/>
                  </a:lnTo>
                  <a:lnTo>
                    <a:pt x="9547" y="2774"/>
                  </a:lnTo>
                  <a:lnTo>
                    <a:pt x="9705" y="2892"/>
                  </a:lnTo>
                  <a:lnTo>
                    <a:pt x="9854" y="3012"/>
                  </a:lnTo>
                  <a:lnTo>
                    <a:pt x="9993" y="3137"/>
                  </a:lnTo>
                  <a:lnTo>
                    <a:pt x="10123" y="3262"/>
                  </a:lnTo>
                  <a:lnTo>
                    <a:pt x="10242" y="3392"/>
                  </a:lnTo>
                  <a:lnTo>
                    <a:pt x="10351" y="3524"/>
                  </a:lnTo>
                  <a:lnTo>
                    <a:pt x="10450" y="3660"/>
                  </a:lnTo>
                  <a:lnTo>
                    <a:pt x="10538" y="3798"/>
                  </a:lnTo>
                  <a:lnTo>
                    <a:pt x="10614" y="3939"/>
                  </a:lnTo>
                  <a:lnTo>
                    <a:pt x="10679" y="4085"/>
                  </a:lnTo>
                  <a:lnTo>
                    <a:pt x="10734" y="4233"/>
                  </a:lnTo>
                  <a:lnTo>
                    <a:pt x="10775" y="4385"/>
                  </a:lnTo>
                  <a:lnTo>
                    <a:pt x="10805" y="4540"/>
                  </a:lnTo>
                  <a:lnTo>
                    <a:pt x="10823" y="4699"/>
                  </a:lnTo>
                  <a:lnTo>
                    <a:pt x="10827" y="4862"/>
                  </a:lnTo>
                  <a:lnTo>
                    <a:pt x="10818" y="5028"/>
                  </a:lnTo>
                  <a:lnTo>
                    <a:pt x="10796" y="5198"/>
                  </a:lnTo>
                  <a:lnTo>
                    <a:pt x="10762" y="5373"/>
                  </a:lnTo>
                  <a:lnTo>
                    <a:pt x="10713" y="5551"/>
                  </a:lnTo>
                  <a:lnTo>
                    <a:pt x="10649" y="5733"/>
                  </a:lnTo>
                  <a:lnTo>
                    <a:pt x="10571" y="5920"/>
                  </a:lnTo>
                  <a:lnTo>
                    <a:pt x="10479" y="6110"/>
                  </a:lnTo>
                  <a:lnTo>
                    <a:pt x="10373" y="6305"/>
                  </a:lnTo>
                  <a:lnTo>
                    <a:pt x="10250" y="6505"/>
                  </a:lnTo>
                  <a:lnTo>
                    <a:pt x="10113" y="6709"/>
                  </a:lnTo>
                  <a:lnTo>
                    <a:pt x="9959" y="6917"/>
                  </a:lnTo>
                  <a:lnTo>
                    <a:pt x="9872" y="6991"/>
                  </a:lnTo>
                  <a:lnTo>
                    <a:pt x="9786" y="7065"/>
                  </a:lnTo>
                  <a:lnTo>
                    <a:pt x="9699" y="7135"/>
                  </a:lnTo>
                  <a:lnTo>
                    <a:pt x="9613" y="7203"/>
                  </a:lnTo>
                  <a:lnTo>
                    <a:pt x="9527" y="7269"/>
                  </a:lnTo>
                  <a:lnTo>
                    <a:pt x="9441" y="7332"/>
                  </a:lnTo>
                  <a:lnTo>
                    <a:pt x="9357" y="7391"/>
                  </a:lnTo>
                  <a:lnTo>
                    <a:pt x="9272" y="7447"/>
                  </a:lnTo>
                  <a:lnTo>
                    <a:pt x="9188" y="7499"/>
                  </a:lnTo>
                  <a:lnTo>
                    <a:pt x="9104" y="7548"/>
                  </a:lnTo>
                  <a:lnTo>
                    <a:pt x="9021" y="7591"/>
                  </a:lnTo>
                  <a:lnTo>
                    <a:pt x="8938" y="7631"/>
                  </a:lnTo>
                  <a:lnTo>
                    <a:pt x="8856" y="7665"/>
                  </a:lnTo>
                  <a:lnTo>
                    <a:pt x="8775" y="7695"/>
                  </a:lnTo>
                  <a:lnTo>
                    <a:pt x="8694" y="7719"/>
                  </a:lnTo>
                  <a:lnTo>
                    <a:pt x="8615" y="7736"/>
                  </a:lnTo>
                  <a:lnTo>
                    <a:pt x="8535" y="7748"/>
                  </a:lnTo>
                  <a:lnTo>
                    <a:pt x="8457" y="7754"/>
                  </a:lnTo>
                  <a:lnTo>
                    <a:pt x="8379" y="7753"/>
                  </a:lnTo>
                  <a:lnTo>
                    <a:pt x="8303" y="7745"/>
                  </a:lnTo>
                  <a:lnTo>
                    <a:pt x="8228" y="7730"/>
                  </a:lnTo>
                  <a:lnTo>
                    <a:pt x="8152" y="7708"/>
                  </a:lnTo>
                  <a:lnTo>
                    <a:pt x="8078" y="7678"/>
                  </a:lnTo>
                  <a:lnTo>
                    <a:pt x="8006" y="7639"/>
                  </a:lnTo>
                  <a:lnTo>
                    <a:pt x="7933" y="7593"/>
                  </a:lnTo>
                  <a:lnTo>
                    <a:pt x="7862" y="7539"/>
                  </a:lnTo>
                  <a:lnTo>
                    <a:pt x="7793" y="7475"/>
                  </a:lnTo>
                  <a:lnTo>
                    <a:pt x="7724" y="7402"/>
                  </a:lnTo>
                  <a:lnTo>
                    <a:pt x="7657" y="7319"/>
                  </a:lnTo>
                  <a:lnTo>
                    <a:pt x="7591" y="7227"/>
                  </a:lnTo>
                  <a:lnTo>
                    <a:pt x="7526" y="7125"/>
                  </a:lnTo>
                  <a:lnTo>
                    <a:pt x="7463" y="7013"/>
                  </a:lnTo>
                  <a:lnTo>
                    <a:pt x="7330" y="7002"/>
                  </a:lnTo>
                  <a:lnTo>
                    <a:pt x="7203" y="6987"/>
                  </a:lnTo>
                  <a:lnTo>
                    <a:pt x="7084" y="6972"/>
                  </a:lnTo>
                  <a:lnTo>
                    <a:pt x="6971" y="6953"/>
                  </a:lnTo>
                  <a:lnTo>
                    <a:pt x="6864" y="6933"/>
                  </a:lnTo>
                  <a:lnTo>
                    <a:pt x="6765" y="6910"/>
                  </a:lnTo>
                  <a:lnTo>
                    <a:pt x="6673" y="6885"/>
                  </a:lnTo>
                  <a:lnTo>
                    <a:pt x="6587" y="6856"/>
                  </a:lnTo>
                  <a:lnTo>
                    <a:pt x="6507" y="6827"/>
                  </a:lnTo>
                  <a:lnTo>
                    <a:pt x="6435" y="6796"/>
                  </a:lnTo>
                  <a:lnTo>
                    <a:pt x="6369" y="6761"/>
                  </a:lnTo>
                  <a:lnTo>
                    <a:pt x="6311" y="6725"/>
                  </a:lnTo>
                  <a:lnTo>
                    <a:pt x="6258" y="6687"/>
                  </a:lnTo>
                  <a:lnTo>
                    <a:pt x="6213" y="6645"/>
                  </a:lnTo>
                  <a:lnTo>
                    <a:pt x="6175" y="6602"/>
                  </a:lnTo>
                  <a:lnTo>
                    <a:pt x="6143" y="6557"/>
                  </a:lnTo>
                  <a:lnTo>
                    <a:pt x="6117" y="6509"/>
                  </a:lnTo>
                  <a:lnTo>
                    <a:pt x="6099" y="6460"/>
                  </a:lnTo>
                  <a:lnTo>
                    <a:pt x="6088" y="6408"/>
                  </a:lnTo>
                  <a:lnTo>
                    <a:pt x="6082" y="6353"/>
                  </a:lnTo>
                  <a:lnTo>
                    <a:pt x="6085" y="6297"/>
                  </a:lnTo>
                  <a:lnTo>
                    <a:pt x="6093" y="6237"/>
                  </a:lnTo>
                  <a:lnTo>
                    <a:pt x="6109" y="6176"/>
                  </a:lnTo>
                  <a:lnTo>
                    <a:pt x="6131" y="6113"/>
                  </a:lnTo>
                  <a:lnTo>
                    <a:pt x="6159" y="6048"/>
                  </a:lnTo>
                  <a:lnTo>
                    <a:pt x="6195" y="5980"/>
                  </a:lnTo>
                  <a:lnTo>
                    <a:pt x="6237" y="5910"/>
                  </a:lnTo>
                  <a:lnTo>
                    <a:pt x="6286" y="5837"/>
                  </a:lnTo>
                  <a:lnTo>
                    <a:pt x="6342" y="5762"/>
                  </a:lnTo>
                  <a:lnTo>
                    <a:pt x="6405" y="5686"/>
                  </a:lnTo>
                  <a:lnTo>
                    <a:pt x="6475" y="5606"/>
                  </a:lnTo>
                  <a:lnTo>
                    <a:pt x="6551" y="5524"/>
                  </a:lnTo>
                  <a:lnTo>
                    <a:pt x="6611" y="5500"/>
                  </a:lnTo>
                  <a:lnTo>
                    <a:pt x="6671" y="5476"/>
                  </a:lnTo>
                  <a:lnTo>
                    <a:pt x="6730" y="5453"/>
                  </a:lnTo>
                  <a:lnTo>
                    <a:pt x="6791" y="5429"/>
                  </a:lnTo>
                  <a:lnTo>
                    <a:pt x="6850" y="5405"/>
                  </a:lnTo>
                  <a:lnTo>
                    <a:pt x="6911" y="5381"/>
                  </a:lnTo>
                  <a:lnTo>
                    <a:pt x="6971" y="5357"/>
                  </a:lnTo>
                  <a:lnTo>
                    <a:pt x="7030" y="5333"/>
                  </a:lnTo>
                  <a:lnTo>
                    <a:pt x="6968" y="5420"/>
                  </a:lnTo>
                  <a:lnTo>
                    <a:pt x="6910" y="5504"/>
                  </a:lnTo>
                  <a:lnTo>
                    <a:pt x="6858" y="5585"/>
                  </a:lnTo>
                  <a:lnTo>
                    <a:pt x="6812" y="5663"/>
                  </a:lnTo>
                  <a:lnTo>
                    <a:pt x="6771" y="5738"/>
                  </a:lnTo>
                  <a:lnTo>
                    <a:pt x="6735" y="5810"/>
                  </a:lnTo>
                  <a:lnTo>
                    <a:pt x="6706" y="5879"/>
                  </a:lnTo>
                  <a:lnTo>
                    <a:pt x="6683" y="5945"/>
                  </a:lnTo>
                  <a:lnTo>
                    <a:pt x="6664" y="6008"/>
                  </a:lnTo>
                  <a:lnTo>
                    <a:pt x="6652" y="6068"/>
                  </a:lnTo>
                  <a:lnTo>
                    <a:pt x="6644" y="6125"/>
                  </a:lnTo>
                  <a:lnTo>
                    <a:pt x="6643" y="6178"/>
                  </a:lnTo>
                  <a:lnTo>
                    <a:pt x="6647" y="6230"/>
                  </a:lnTo>
                  <a:lnTo>
                    <a:pt x="6658" y="6278"/>
                  </a:lnTo>
                  <a:lnTo>
                    <a:pt x="6674" y="6323"/>
                  </a:lnTo>
                  <a:lnTo>
                    <a:pt x="6695" y="6365"/>
                  </a:lnTo>
                  <a:lnTo>
                    <a:pt x="6722" y="6404"/>
                  </a:lnTo>
                  <a:lnTo>
                    <a:pt x="6754" y="6440"/>
                  </a:lnTo>
                  <a:lnTo>
                    <a:pt x="6792" y="6474"/>
                  </a:lnTo>
                  <a:lnTo>
                    <a:pt x="6836" y="6503"/>
                  </a:lnTo>
                  <a:lnTo>
                    <a:pt x="6885" y="6530"/>
                  </a:lnTo>
                  <a:lnTo>
                    <a:pt x="6939" y="6554"/>
                  </a:lnTo>
                  <a:lnTo>
                    <a:pt x="7000" y="6575"/>
                  </a:lnTo>
                  <a:lnTo>
                    <a:pt x="7067" y="6593"/>
                  </a:lnTo>
                  <a:lnTo>
                    <a:pt x="7138" y="6609"/>
                  </a:lnTo>
                  <a:lnTo>
                    <a:pt x="7216" y="6620"/>
                  </a:lnTo>
                  <a:lnTo>
                    <a:pt x="7299" y="6629"/>
                  </a:lnTo>
                  <a:lnTo>
                    <a:pt x="7387" y="6635"/>
                  </a:lnTo>
                  <a:lnTo>
                    <a:pt x="7483" y="6638"/>
                  </a:lnTo>
                  <a:lnTo>
                    <a:pt x="7582" y="6638"/>
                  </a:lnTo>
                  <a:lnTo>
                    <a:pt x="7688" y="6635"/>
                  </a:lnTo>
                  <a:lnTo>
                    <a:pt x="7799" y="6629"/>
                  </a:lnTo>
                  <a:lnTo>
                    <a:pt x="7863" y="6739"/>
                  </a:lnTo>
                  <a:lnTo>
                    <a:pt x="7927" y="6838"/>
                  </a:lnTo>
                  <a:lnTo>
                    <a:pt x="7991" y="6925"/>
                  </a:lnTo>
                  <a:lnTo>
                    <a:pt x="8054" y="7001"/>
                  </a:lnTo>
                  <a:lnTo>
                    <a:pt x="8117" y="7067"/>
                  </a:lnTo>
                  <a:lnTo>
                    <a:pt x="8179" y="7123"/>
                  </a:lnTo>
                  <a:lnTo>
                    <a:pt x="8241" y="7170"/>
                  </a:lnTo>
                  <a:lnTo>
                    <a:pt x="8302" y="7207"/>
                  </a:lnTo>
                  <a:lnTo>
                    <a:pt x="8361" y="7236"/>
                  </a:lnTo>
                  <a:lnTo>
                    <a:pt x="8421" y="7257"/>
                  </a:lnTo>
                  <a:lnTo>
                    <a:pt x="8480" y="7270"/>
                  </a:lnTo>
                  <a:lnTo>
                    <a:pt x="8538" y="7275"/>
                  </a:lnTo>
                  <a:lnTo>
                    <a:pt x="8595" y="7274"/>
                  </a:lnTo>
                  <a:lnTo>
                    <a:pt x="8650" y="7266"/>
                  </a:lnTo>
                  <a:lnTo>
                    <a:pt x="8706" y="7252"/>
                  </a:lnTo>
                  <a:lnTo>
                    <a:pt x="8759" y="7232"/>
                  </a:lnTo>
                  <a:lnTo>
                    <a:pt x="8812" y="7207"/>
                  </a:lnTo>
                  <a:lnTo>
                    <a:pt x="8864" y="7177"/>
                  </a:lnTo>
                  <a:lnTo>
                    <a:pt x="8914" y="7142"/>
                  </a:lnTo>
                  <a:lnTo>
                    <a:pt x="8963" y="7103"/>
                  </a:lnTo>
                  <a:lnTo>
                    <a:pt x="9010" y="7062"/>
                  </a:lnTo>
                  <a:lnTo>
                    <a:pt x="9057" y="7017"/>
                  </a:lnTo>
                  <a:lnTo>
                    <a:pt x="9101" y="6968"/>
                  </a:lnTo>
                  <a:lnTo>
                    <a:pt x="9145" y="6918"/>
                  </a:lnTo>
                  <a:lnTo>
                    <a:pt x="9187" y="6867"/>
                  </a:lnTo>
                  <a:lnTo>
                    <a:pt x="9227" y="6813"/>
                  </a:lnTo>
                  <a:lnTo>
                    <a:pt x="9266" y="6758"/>
                  </a:lnTo>
                  <a:lnTo>
                    <a:pt x="9302" y="6704"/>
                  </a:lnTo>
                  <a:lnTo>
                    <a:pt x="9338" y="6648"/>
                  </a:lnTo>
                  <a:lnTo>
                    <a:pt x="9370" y="6593"/>
                  </a:lnTo>
                  <a:lnTo>
                    <a:pt x="9402" y="6538"/>
                  </a:lnTo>
                  <a:lnTo>
                    <a:pt x="9431" y="6485"/>
                  </a:lnTo>
                  <a:lnTo>
                    <a:pt x="9573" y="6331"/>
                  </a:lnTo>
                  <a:lnTo>
                    <a:pt x="9699" y="6179"/>
                  </a:lnTo>
                  <a:lnTo>
                    <a:pt x="9811" y="6030"/>
                  </a:lnTo>
                  <a:lnTo>
                    <a:pt x="9909" y="5882"/>
                  </a:lnTo>
                  <a:lnTo>
                    <a:pt x="9992" y="5737"/>
                  </a:lnTo>
                  <a:lnTo>
                    <a:pt x="10062" y="5594"/>
                  </a:lnTo>
                  <a:lnTo>
                    <a:pt x="10117" y="5451"/>
                  </a:lnTo>
                  <a:lnTo>
                    <a:pt x="10160" y="5311"/>
                  </a:lnTo>
                  <a:lnTo>
                    <a:pt x="10191" y="5173"/>
                  </a:lnTo>
                  <a:lnTo>
                    <a:pt x="10207" y="5037"/>
                  </a:lnTo>
                  <a:lnTo>
                    <a:pt x="10211" y="4902"/>
                  </a:lnTo>
                  <a:lnTo>
                    <a:pt x="10204" y="4769"/>
                  </a:lnTo>
                  <a:lnTo>
                    <a:pt x="10184" y="4637"/>
                  </a:lnTo>
                  <a:lnTo>
                    <a:pt x="10153" y="4507"/>
                  </a:lnTo>
                  <a:lnTo>
                    <a:pt x="10110" y="4380"/>
                  </a:lnTo>
                  <a:lnTo>
                    <a:pt x="10056" y="4252"/>
                  </a:lnTo>
                  <a:lnTo>
                    <a:pt x="9991" y="4128"/>
                  </a:lnTo>
                  <a:lnTo>
                    <a:pt x="9915" y="4004"/>
                  </a:lnTo>
                  <a:lnTo>
                    <a:pt x="9830" y="3882"/>
                  </a:lnTo>
                  <a:lnTo>
                    <a:pt x="9733" y="3760"/>
                  </a:lnTo>
                  <a:lnTo>
                    <a:pt x="9628" y="3641"/>
                  </a:lnTo>
                  <a:lnTo>
                    <a:pt x="9512" y="3523"/>
                  </a:lnTo>
                  <a:lnTo>
                    <a:pt x="9388" y="3406"/>
                  </a:lnTo>
                  <a:lnTo>
                    <a:pt x="9254" y="3289"/>
                  </a:lnTo>
                  <a:lnTo>
                    <a:pt x="9112" y="3175"/>
                  </a:lnTo>
                  <a:lnTo>
                    <a:pt x="8961" y="3062"/>
                  </a:lnTo>
                  <a:lnTo>
                    <a:pt x="8803" y="2949"/>
                  </a:lnTo>
                  <a:lnTo>
                    <a:pt x="8636" y="2838"/>
                  </a:lnTo>
                  <a:lnTo>
                    <a:pt x="8461" y="2729"/>
                  </a:lnTo>
                  <a:lnTo>
                    <a:pt x="8280" y="2620"/>
                  </a:lnTo>
                  <a:lnTo>
                    <a:pt x="8090" y="2511"/>
                  </a:lnTo>
                  <a:lnTo>
                    <a:pt x="7895" y="2404"/>
                  </a:lnTo>
                  <a:lnTo>
                    <a:pt x="7885" y="2236"/>
                  </a:lnTo>
                  <a:lnTo>
                    <a:pt x="7873" y="2077"/>
                  </a:lnTo>
                  <a:lnTo>
                    <a:pt x="7855" y="1926"/>
                  </a:lnTo>
                  <a:lnTo>
                    <a:pt x="7835" y="1784"/>
                  </a:lnTo>
                  <a:lnTo>
                    <a:pt x="7810" y="1650"/>
                  </a:lnTo>
                  <a:lnTo>
                    <a:pt x="7783" y="1524"/>
                  </a:lnTo>
                  <a:lnTo>
                    <a:pt x="7750" y="1408"/>
                  </a:lnTo>
                  <a:lnTo>
                    <a:pt x="7715" y="1300"/>
                  </a:lnTo>
                  <a:lnTo>
                    <a:pt x="7675" y="1201"/>
                  </a:lnTo>
                  <a:lnTo>
                    <a:pt x="7632" y="1111"/>
                  </a:lnTo>
                  <a:lnTo>
                    <a:pt x="7585" y="1028"/>
                  </a:lnTo>
                  <a:lnTo>
                    <a:pt x="7535" y="955"/>
                  </a:lnTo>
                  <a:lnTo>
                    <a:pt x="7480" y="890"/>
                  </a:lnTo>
                  <a:lnTo>
                    <a:pt x="7422" y="835"/>
                  </a:lnTo>
                  <a:lnTo>
                    <a:pt x="7360" y="786"/>
                  </a:lnTo>
                  <a:lnTo>
                    <a:pt x="7295" y="748"/>
                  </a:lnTo>
                  <a:lnTo>
                    <a:pt x="7225" y="717"/>
                  </a:lnTo>
                  <a:lnTo>
                    <a:pt x="7152" y="696"/>
                  </a:lnTo>
                  <a:lnTo>
                    <a:pt x="7075" y="683"/>
                  </a:lnTo>
                  <a:lnTo>
                    <a:pt x="6995" y="679"/>
                  </a:lnTo>
                  <a:lnTo>
                    <a:pt x="6910" y="683"/>
                  </a:lnTo>
                  <a:lnTo>
                    <a:pt x="6822" y="696"/>
                  </a:lnTo>
                  <a:lnTo>
                    <a:pt x="6730" y="717"/>
                  </a:lnTo>
                  <a:lnTo>
                    <a:pt x="6635" y="748"/>
                  </a:lnTo>
                  <a:lnTo>
                    <a:pt x="6536" y="786"/>
                  </a:lnTo>
                  <a:lnTo>
                    <a:pt x="6432" y="835"/>
                  </a:lnTo>
                  <a:lnTo>
                    <a:pt x="6325" y="890"/>
                  </a:lnTo>
                  <a:lnTo>
                    <a:pt x="6214" y="955"/>
                  </a:lnTo>
                  <a:lnTo>
                    <a:pt x="6100" y="1028"/>
                  </a:lnTo>
                  <a:lnTo>
                    <a:pt x="5982" y="1110"/>
                  </a:lnTo>
                  <a:lnTo>
                    <a:pt x="5861" y="1201"/>
                  </a:lnTo>
                  <a:lnTo>
                    <a:pt x="5735" y="1300"/>
                  </a:lnTo>
                  <a:lnTo>
                    <a:pt x="5564" y="1249"/>
                  </a:lnTo>
                  <a:lnTo>
                    <a:pt x="5399" y="1204"/>
                  </a:lnTo>
                  <a:lnTo>
                    <a:pt x="5240" y="1165"/>
                  </a:lnTo>
                  <a:lnTo>
                    <a:pt x="5085" y="1134"/>
                  </a:lnTo>
                  <a:lnTo>
                    <a:pt x="4937" y="1108"/>
                  </a:lnTo>
                  <a:lnTo>
                    <a:pt x="4793" y="1088"/>
                  </a:lnTo>
                  <a:lnTo>
                    <a:pt x="4655" y="1074"/>
                  </a:lnTo>
                  <a:lnTo>
                    <a:pt x="4521" y="1067"/>
                  </a:lnTo>
                  <a:lnTo>
                    <a:pt x="4393" y="1065"/>
                  </a:lnTo>
                  <a:lnTo>
                    <a:pt x="4269" y="1069"/>
                  </a:lnTo>
                  <a:lnTo>
                    <a:pt x="4150" y="1078"/>
                  </a:lnTo>
                  <a:lnTo>
                    <a:pt x="4036" y="1093"/>
                  </a:lnTo>
                  <a:lnTo>
                    <a:pt x="3926" y="1113"/>
                  </a:lnTo>
                  <a:lnTo>
                    <a:pt x="3820" y="1138"/>
                  </a:lnTo>
                  <a:lnTo>
                    <a:pt x="3719" y="1168"/>
                  </a:lnTo>
                  <a:lnTo>
                    <a:pt x="3622" y="1204"/>
                  </a:lnTo>
                  <a:lnTo>
                    <a:pt x="3529" y="1245"/>
                  </a:lnTo>
                  <a:lnTo>
                    <a:pt x="3440" y="1290"/>
                  </a:lnTo>
                  <a:lnTo>
                    <a:pt x="3356" y="1339"/>
                  </a:lnTo>
                  <a:lnTo>
                    <a:pt x="3274" y="1393"/>
                  </a:lnTo>
                  <a:lnTo>
                    <a:pt x="3197" y="1452"/>
                  </a:lnTo>
                  <a:lnTo>
                    <a:pt x="3123" y="1515"/>
                  </a:lnTo>
                  <a:lnTo>
                    <a:pt x="3053" y="1582"/>
                  </a:lnTo>
                  <a:lnTo>
                    <a:pt x="2986" y="1653"/>
                  </a:lnTo>
                  <a:lnTo>
                    <a:pt x="2923" y="1728"/>
                  </a:lnTo>
                  <a:lnTo>
                    <a:pt x="2864" y="1808"/>
                  </a:lnTo>
                  <a:lnTo>
                    <a:pt x="2806" y="1890"/>
                  </a:lnTo>
                  <a:lnTo>
                    <a:pt x="2753" y="1977"/>
                  </a:lnTo>
                  <a:lnTo>
                    <a:pt x="2702" y="2067"/>
                  </a:lnTo>
                  <a:lnTo>
                    <a:pt x="2653" y="2160"/>
                  </a:lnTo>
                  <a:lnTo>
                    <a:pt x="2608" y="2257"/>
                  </a:lnTo>
                  <a:lnTo>
                    <a:pt x="2566" y="2356"/>
                  </a:lnTo>
                  <a:lnTo>
                    <a:pt x="2471" y="2318"/>
                  </a:lnTo>
                  <a:lnTo>
                    <a:pt x="2380" y="2284"/>
                  </a:lnTo>
                  <a:lnTo>
                    <a:pt x="2291" y="2255"/>
                  </a:lnTo>
                  <a:lnTo>
                    <a:pt x="2206" y="2230"/>
                  </a:lnTo>
                  <a:lnTo>
                    <a:pt x="2123" y="2211"/>
                  </a:lnTo>
                  <a:lnTo>
                    <a:pt x="2043" y="2194"/>
                  </a:lnTo>
                  <a:lnTo>
                    <a:pt x="1967" y="2183"/>
                  </a:lnTo>
                  <a:lnTo>
                    <a:pt x="1894" y="2176"/>
                  </a:lnTo>
                  <a:lnTo>
                    <a:pt x="1824" y="2174"/>
                  </a:lnTo>
                  <a:lnTo>
                    <a:pt x="1756" y="2176"/>
                  </a:lnTo>
                  <a:lnTo>
                    <a:pt x="1691" y="2183"/>
                  </a:lnTo>
                  <a:lnTo>
                    <a:pt x="1630" y="2194"/>
                  </a:lnTo>
                  <a:lnTo>
                    <a:pt x="1572" y="2211"/>
                  </a:lnTo>
                  <a:lnTo>
                    <a:pt x="1516" y="2230"/>
                  </a:lnTo>
                  <a:lnTo>
                    <a:pt x="1464" y="2255"/>
                  </a:lnTo>
                  <a:lnTo>
                    <a:pt x="1414" y="2284"/>
                  </a:lnTo>
                  <a:lnTo>
                    <a:pt x="1367" y="2318"/>
                  </a:lnTo>
                  <a:lnTo>
                    <a:pt x="1324" y="2356"/>
                  </a:lnTo>
                  <a:lnTo>
                    <a:pt x="1283" y="2399"/>
                  </a:lnTo>
                  <a:lnTo>
                    <a:pt x="1246" y="2446"/>
                  </a:lnTo>
                  <a:lnTo>
                    <a:pt x="1212" y="2498"/>
                  </a:lnTo>
                  <a:lnTo>
                    <a:pt x="1180" y="2555"/>
                  </a:lnTo>
                  <a:lnTo>
                    <a:pt x="1151" y="2616"/>
                  </a:lnTo>
                  <a:lnTo>
                    <a:pt x="1126" y="2680"/>
                  </a:lnTo>
                  <a:lnTo>
                    <a:pt x="1103" y="2751"/>
                  </a:lnTo>
                  <a:lnTo>
                    <a:pt x="1084" y="2825"/>
                  </a:lnTo>
                  <a:lnTo>
                    <a:pt x="1067" y="2903"/>
                  </a:lnTo>
                  <a:lnTo>
                    <a:pt x="1054" y="2986"/>
                  </a:lnTo>
                  <a:lnTo>
                    <a:pt x="1043" y="3074"/>
                  </a:lnTo>
                  <a:lnTo>
                    <a:pt x="1036" y="3166"/>
                  </a:lnTo>
                  <a:lnTo>
                    <a:pt x="1032" y="3263"/>
                  </a:lnTo>
                  <a:lnTo>
                    <a:pt x="1030" y="3365"/>
                  </a:lnTo>
                  <a:lnTo>
                    <a:pt x="949" y="3474"/>
                  </a:lnTo>
                  <a:lnTo>
                    <a:pt x="880" y="3578"/>
                  </a:lnTo>
                  <a:lnTo>
                    <a:pt x="820" y="3678"/>
                  </a:lnTo>
                  <a:lnTo>
                    <a:pt x="772" y="3774"/>
                  </a:lnTo>
                  <a:lnTo>
                    <a:pt x="733" y="3866"/>
                  </a:lnTo>
                  <a:lnTo>
                    <a:pt x="704" y="3953"/>
                  </a:lnTo>
                  <a:lnTo>
                    <a:pt x="685" y="4038"/>
                  </a:lnTo>
                  <a:lnTo>
                    <a:pt x="675" y="4117"/>
                  </a:lnTo>
                  <a:lnTo>
                    <a:pt x="673" y="4193"/>
                  </a:lnTo>
                  <a:lnTo>
                    <a:pt x="680" y="4267"/>
                  </a:lnTo>
                  <a:lnTo>
                    <a:pt x="695" y="4337"/>
                  </a:lnTo>
                  <a:lnTo>
                    <a:pt x="718" y="4403"/>
                  </a:lnTo>
                  <a:lnTo>
                    <a:pt x="748" y="4466"/>
                  </a:lnTo>
                  <a:lnTo>
                    <a:pt x="786" y="4526"/>
                  </a:lnTo>
                  <a:lnTo>
                    <a:pt x="831" y="4584"/>
                  </a:lnTo>
                  <a:lnTo>
                    <a:pt x="883" y="4638"/>
                  </a:lnTo>
                  <a:lnTo>
                    <a:pt x="941" y="4690"/>
                  </a:lnTo>
                  <a:lnTo>
                    <a:pt x="1004" y="4740"/>
                  </a:lnTo>
                  <a:lnTo>
                    <a:pt x="1075" y="4787"/>
                  </a:lnTo>
                  <a:lnTo>
                    <a:pt x="1150" y="4831"/>
                  </a:lnTo>
                  <a:lnTo>
                    <a:pt x="1230" y="4874"/>
                  </a:lnTo>
                  <a:lnTo>
                    <a:pt x="1315" y="4914"/>
                  </a:lnTo>
                  <a:lnTo>
                    <a:pt x="1406" y="4953"/>
                  </a:lnTo>
                  <a:lnTo>
                    <a:pt x="1500" y="4990"/>
                  </a:lnTo>
                  <a:lnTo>
                    <a:pt x="1599" y="5025"/>
                  </a:lnTo>
                  <a:lnTo>
                    <a:pt x="1700" y="5059"/>
                  </a:lnTo>
                  <a:lnTo>
                    <a:pt x="1806" y="5091"/>
                  </a:lnTo>
                  <a:lnTo>
                    <a:pt x="1915" y="5123"/>
                  </a:lnTo>
                  <a:lnTo>
                    <a:pt x="2026" y="5153"/>
                  </a:lnTo>
                  <a:lnTo>
                    <a:pt x="2140" y="5181"/>
                  </a:lnTo>
                  <a:lnTo>
                    <a:pt x="2256" y="5209"/>
                  </a:lnTo>
                  <a:lnTo>
                    <a:pt x="2374" y="5237"/>
                  </a:lnTo>
                  <a:lnTo>
                    <a:pt x="2346" y="5363"/>
                  </a:lnTo>
                  <a:lnTo>
                    <a:pt x="2323" y="5479"/>
                  </a:lnTo>
                  <a:lnTo>
                    <a:pt x="2307" y="5586"/>
                  </a:lnTo>
                  <a:lnTo>
                    <a:pt x="2298" y="5685"/>
                  </a:lnTo>
                  <a:lnTo>
                    <a:pt x="2294" y="5773"/>
                  </a:lnTo>
                  <a:lnTo>
                    <a:pt x="2296" y="5854"/>
                  </a:lnTo>
                  <a:lnTo>
                    <a:pt x="2303" y="5926"/>
                  </a:lnTo>
                  <a:lnTo>
                    <a:pt x="2316" y="5991"/>
                  </a:lnTo>
                  <a:lnTo>
                    <a:pt x="2333" y="6048"/>
                  </a:lnTo>
                  <a:lnTo>
                    <a:pt x="2356" y="6097"/>
                  </a:lnTo>
                  <a:lnTo>
                    <a:pt x="2384" y="6139"/>
                  </a:lnTo>
                  <a:lnTo>
                    <a:pt x="2416" y="6173"/>
                  </a:lnTo>
                  <a:lnTo>
                    <a:pt x="2453" y="6201"/>
                  </a:lnTo>
                  <a:lnTo>
                    <a:pt x="2493" y="6222"/>
                  </a:lnTo>
                  <a:lnTo>
                    <a:pt x="2538" y="6238"/>
                  </a:lnTo>
                  <a:lnTo>
                    <a:pt x="2589" y="6248"/>
                  </a:lnTo>
                  <a:lnTo>
                    <a:pt x="2641" y="6252"/>
                  </a:lnTo>
                  <a:lnTo>
                    <a:pt x="2697" y="6251"/>
                  </a:lnTo>
                  <a:lnTo>
                    <a:pt x="2757" y="6243"/>
                  </a:lnTo>
                  <a:lnTo>
                    <a:pt x="2821" y="6232"/>
                  </a:lnTo>
                  <a:lnTo>
                    <a:pt x="2887" y="6216"/>
                  </a:lnTo>
                  <a:lnTo>
                    <a:pt x="2956" y="6196"/>
                  </a:lnTo>
                  <a:lnTo>
                    <a:pt x="3027" y="6171"/>
                  </a:lnTo>
                  <a:lnTo>
                    <a:pt x="3101" y="6143"/>
                  </a:lnTo>
                  <a:lnTo>
                    <a:pt x="3179" y="6111"/>
                  </a:lnTo>
                  <a:lnTo>
                    <a:pt x="3257" y="6077"/>
                  </a:lnTo>
                  <a:lnTo>
                    <a:pt x="3338" y="6038"/>
                  </a:lnTo>
                  <a:lnTo>
                    <a:pt x="3420" y="5997"/>
                  </a:lnTo>
                  <a:lnTo>
                    <a:pt x="3505" y="5955"/>
                  </a:lnTo>
                  <a:lnTo>
                    <a:pt x="3591" y="5910"/>
                  </a:lnTo>
                  <a:lnTo>
                    <a:pt x="3678" y="5861"/>
                  </a:lnTo>
                  <a:lnTo>
                    <a:pt x="3766" y="5813"/>
                  </a:lnTo>
                  <a:lnTo>
                    <a:pt x="3748" y="5867"/>
                  </a:lnTo>
                  <a:lnTo>
                    <a:pt x="3730" y="5921"/>
                  </a:lnTo>
                  <a:lnTo>
                    <a:pt x="3712" y="5974"/>
                  </a:lnTo>
                  <a:lnTo>
                    <a:pt x="3695" y="6029"/>
                  </a:lnTo>
                  <a:lnTo>
                    <a:pt x="3676" y="6083"/>
                  </a:lnTo>
                  <a:lnTo>
                    <a:pt x="3658" y="6137"/>
                  </a:lnTo>
                  <a:lnTo>
                    <a:pt x="3640" y="6191"/>
                  </a:lnTo>
                  <a:lnTo>
                    <a:pt x="3622" y="6244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87480" y="6012000"/>
              <a:ext cx="130320" cy="422280"/>
            </a:xfrm>
            <a:custGeom>
              <a:avLst/>
              <a:gdLst/>
              <a:ahLst/>
              <a:rect l="l" t="t" r="r" b="b"/>
              <a:pathLst>
                <a:path w="1799" h="5856">
                  <a:moveTo>
                    <a:pt x="9" y="5394"/>
                  </a:moveTo>
                  <a:lnTo>
                    <a:pt x="6" y="5337"/>
                  </a:lnTo>
                  <a:lnTo>
                    <a:pt x="3" y="5253"/>
                  </a:lnTo>
                  <a:lnTo>
                    <a:pt x="1" y="5155"/>
                  </a:lnTo>
                  <a:lnTo>
                    <a:pt x="0" y="5053"/>
                  </a:lnTo>
                  <a:lnTo>
                    <a:pt x="0" y="4956"/>
                  </a:lnTo>
                  <a:lnTo>
                    <a:pt x="1" y="4878"/>
                  </a:lnTo>
                  <a:lnTo>
                    <a:pt x="2" y="4848"/>
                  </a:lnTo>
                  <a:lnTo>
                    <a:pt x="4" y="4829"/>
                  </a:lnTo>
                  <a:lnTo>
                    <a:pt x="5" y="4822"/>
                  </a:lnTo>
                  <a:lnTo>
                    <a:pt x="6" y="4818"/>
                  </a:lnTo>
                  <a:lnTo>
                    <a:pt x="7" y="4817"/>
                  </a:lnTo>
                  <a:lnTo>
                    <a:pt x="9" y="4819"/>
                  </a:lnTo>
                  <a:lnTo>
                    <a:pt x="33" y="4871"/>
                  </a:lnTo>
                  <a:lnTo>
                    <a:pt x="61" y="4922"/>
                  </a:lnTo>
                  <a:lnTo>
                    <a:pt x="93" y="4968"/>
                  </a:lnTo>
                  <a:lnTo>
                    <a:pt x="127" y="5012"/>
                  </a:lnTo>
                  <a:lnTo>
                    <a:pt x="164" y="5051"/>
                  </a:lnTo>
                  <a:lnTo>
                    <a:pt x="205" y="5089"/>
                  </a:lnTo>
                  <a:lnTo>
                    <a:pt x="247" y="5124"/>
                  </a:lnTo>
                  <a:lnTo>
                    <a:pt x="291" y="5154"/>
                  </a:lnTo>
                  <a:lnTo>
                    <a:pt x="337" y="5183"/>
                  </a:lnTo>
                  <a:lnTo>
                    <a:pt x="384" y="5208"/>
                  </a:lnTo>
                  <a:lnTo>
                    <a:pt x="433" y="5230"/>
                  </a:lnTo>
                  <a:lnTo>
                    <a:pt x="482" y="5249"/>
                  </a:lnTo>
                  <a:lnTo>
                    <a:pt x="531" y="5266"/>
                  </a:lnTo>
                  <a:lnTo>
                    <a:pt x="581" y="5279"/>
                  </a:lnTo>
                  <a:lnTo>
                    <a:pt x="632" y="5289"/>
                  </a:lnTo>
                  <a:lnTo>
                    <a:pt x="681" y="5296"/>
                  </a:lnTo>
                  <a:lnTo>
                    <a:pt x="730" y="5300"/>
                  </a:lnTo>
                  <a:lnTo>
                    <a:pt x="777" y="5302"/>
                  </a:lnTo>
                  <a:lnTo>
                    <a:pt x="824" y="5300"/>
                  </a:lnTo>
                  <a:lnTo>
                    <a:pt x="869" y="5296"/>
                  </a:lnTo>
                  <a:lnTo>
                    <a:pt x="912" y="5289"/>
                  </a:lnTo>
                  <a:lnTo>
                    <a:pt x="954" y="5279"/>
                  </a:lnTo>
                  <a:lnTo>
                    <a:pt x="993" y="5265"/>
                  </a:lnTo>
                  <a:lnTo>
                    <a:pt x="1028" y="5248"/>
                  </a:lnTo>
                  <a:lnTo>
                    <a:pt x="1062" y="5229"/>
                  </a:lnTo>
                  <a:lnTo>
                    <a:pt x="1091" y="5207"/>
                  </a:lnTo>
                  <a:lnTo>
                    <a:pt x="1117" y="5182"/>
                  </a:lnTo>
                  <a:lnTo>
                    <a:pt x="1140" y="5155"/>
                  </a:lnTo>
                  <a:lnTo>
                    <a:pt x="1158" y="5125"/>
                  </a:lnTo>
                  <a:lnTo>
                    <a:pt x="1172" y="5091"/>
                  </a:lnTo>
                  <a:lnTo>
                    <a:pt x="1181" y="5055"/>
                  </a:lnTo>
                  <a:lnTo>
                    <a:pt x="1184" y="5016"/>
                  </a:lnTo>
                  <a:lnTo>
                    <a:pt x="1187" y="4857"/>
                  </a:lnTo>
                  <a:lnTo>
                    <a:pt x="1189" y="4698"/>
                  </a:lnTo>
                  <a:lnTo>
                    <a:pt x="1189" y="4540"/>
                  </a:lnTo>
                  <a:lnTo>
                    <a:pt x="1189" y="4382"/>
                  </a:lnTo>
                  <a:lnTo>
                    <a:pt x="1187" y="4225"/>
                  </a:lnTo>
                  <a:lnTo>
                    <a:pt x="1184" y="4068"/>
                  </a:lnTo>
                  <a:lnTo>
                    <a:pt x="1179" y="3911"/>
                  </a:lnTo>
                  <a:lnTo>
                    <a:pt x="1175" y="3754"/>
                  </a:lnTo>
                  <a:lnTo>
                    <a:pt x="1168" y="3598"/>
                  </a:lnTo>
                  <a:lnTo>
                    <a:pt x="1162" y="3441"/>
                  </a:lnTo>
                  <a:lnTo>
                    <a:pt x="1155" y="3285"/>
                  </a:lnTo>
                  <a:lnTo>
                    <a:pt x="1146" y="3129"/>
                  </a:lnTo>
                  <a:lnTo>
                    <a:pt x="1130" y="2818"/>
                  </a:lnTo>
                  <a:lnTo>
                    <a:pt x="1113" y="2508"/>
                  </a:lnTo>
                  <a:lnTo>
                    <a:pt x="1095" y="2196"/>
                  </a:lnTo>
                  <a:lnTo>
                    <a:pt x="1079" y="1885"/>
                  </a:lnTo>
                  <a:lnTo>
                    <a:pt x="1071" y="1729"/>
                  </a:lnTo>
                  <a:lnTo>
                    <a:pt x="1064" y="1573"/>
                  </a:lnTo>
                  <a:lnTo>
                    <a:pt x="1058" y="1417"/>
                  </a:lnTo>
                  <a:lnTo>
                    <a:pt x="1051" y="1260"/>
                  </a:lnTo>
                  <a:lnTo>
                    <a:pt x="1046" y="1105"/>
                  </a:lnTo>
                  <a:lnTo>
                    <a:pt x="1042" y="948"/>
                  </a:lnTo>
                  <a:lnTo>
                    <a:pt x="1039" y="791"/>
                  </a:lnTo>
                  <a:lnTo>
                    <a:pt x="1037" y="633"/>
                  </a:lnTo>
                  <a:lnTo>
                    <a:pt x="1036" y="475"/>
                  </a:lnTo>
                  <a:lnTo>
                    <a:pt x="1037" y="317"/>
                  </a:lnTo>
                  <a:lnTo>
                    <a:pt x="1038" y="159"/>
                  </a:lnTo>
                  <a:lnTo>
                    <a:pt x="1042" y="0"/>
                  </a:lnTo>
                  <a:lnTo>
                    <a:pt x="1670" y="12"/>
                  </a:lnTo>
                  <a:lnTo>
                    <a:pt x="1799" y="5022"/>
                  </a:lnTo>
                  <a:lnTo>
                    <a:pt x="1798" y="5090"/>
                  </a:lnTo>
                  <a:lnTo>
                    <a:pt x="1790" y="5155"/>
                  </a:lnTo>
                  <a:lnTo>
                    <a:pt x="1773" y="5219"/>
                  </a:lnTo>
                  <a:lnTo>
                    <a:pt x="1751" y="5282"/>
                  </a:lnTo>
                  <a:lnTo>
                    <a:pt x="1722" y="5342"/>
                  </a:lnTo>
                  <a:lnTo>
                    <a:pt x="1686" y="5400"/>
                  </a:lnTo>
                  <a:lnTo>
                    <a:pt x="1646" y="5456"/>
                  </a:lnTo>
                  <a:lnTo>
                    <a:pt x="1600" y="5509"/>
                  </a:lnTo>
                  <a:lnTo>
                    <a:pt x="1548" y="5559"/>
                  </a:lnTo>
                  <a:lnTo>
                    <a:pt x="1494" y="5606"/>
                  </a:lnTo>
                  <a:lnTo>
                    <a:pt x="1434" y="5650"/>
                  </a:lnTo>
                  <a:lnTo>
                    <a:pt x="1371" y="5690"/>
                  </a:lnTo>
                  <a:lnTo>
                    <a:pt x="1306" y="5726"/>
                  </a:lnTo>
                  <a:lnTo>
                    <a:pt x="1237" y="5759"/>
                  </a:lnTo>
                  <a:lnTo>
                    <a:pt x="1166" y="5787"/>
                  </a:lnTo>
                  <a:lnTo>
                    <a:pt x="1094" y="5810"/>
                  </a:lnTo>
                  <a:lnTo>
                    <a:pt x="1020" y="5830"/>
                  </a:lnTo>
                  <a:lnTo>
                    <a:pt x="945" y="5844"/>
                  </a:lnTo>
                  <a:lnTo>
                    <a:pt x="868" y="5852"/>
                  </a:lnTo>
                  <a:lnTo>
                    <a:pt x="793" y="5856"/>
                  </a:lnTo>
                  <a:lnTo>
                    <a:pt x="716" y="5854"/>
                  </a:lnTo>
                  <a:lnTo>
                    <a:pt x="641" y="5846"/>
                  </a:lnTo>
                  <a:lnTo>
                    <a:pt x="567" y="5831"/>
                  </a:lnTo>
                  <a:lnTo>
                    <a:pt x="494" y="5811"/>
                  </a:lnTo>
                  <a:lnTo>
                    <a:pt x="422" y="5784"/>
                  </a:lnTo>
                  <a:lnTo>
                    <a:pt x="353" y="5750"/>
                  </a:lnTo>
                  <a:lnTo>
                    <a:pt x="286" y="5710"/>
                  </a:lnTo>
                  <a:lnTo>
                    <a:pt x="224" y="5663"/>
                  </a:lnTo>
                  <a:lnTo>
                    <a:pt x="164" y="5607"/>
                  </a:lnTo>
                  <a:lnTo>
                    <a:pt x="107" y="5544"/>
                  </a:lnTo>
                  <a:lnTo>
                    <a:pt x="56" y="5473"/>
                  </a:lnTo>
                  <a:lnTo>
                    <a:pt x="9" y="53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87480" y="6012000"/>
              <a:ext cx="130320" cy="422280"/>
            </a:xfrm>
            <a:custGeom>
              <a:avLst/>
              <a:gdLst/>
              <a:ahLst/>
              <a:rect l="l" t="t" r="r" b="b"/>
              <a:pathLst>
                <a:path w="1799" h="5856">
                  <a:moveTo>
                    <a:pt x="9" y="5394"/>
                  </a:moveTo>
                  <a:lnTo>
                    <a:pt x="6" y="5337"/>
                  </a:lnTo>
                  <a:lnTo>
                    <a:pt x="3" y="5253"/>
                  </a:lnTo>
                  <a:lnTo>
                    <a:pt x="1" y="5155"/>
                  </a:lnTo>
                  <a:lnTo>
                    <a:pt x="0" y="5053"/>
                  </a:lnTo>
                  <a:lnTo>
                    <a:pt x="0" y="4956"/>
                  </a:lnTo>
                  <a:lnTo>
                    <a:pt x="1" y="4878"/>
                  </a:lnTo>
                  <a:lnTo>
                    <a:pt x="2" y="4848"/>
                  </a:lnTo>
                  <a:lnTo>
                    <a:pt x="4" y="4829"/>
                  </a:lnTo>
                  <a:lnTo>
                    <a:pt x="5" y="4822"/>
                  </a:lnTo>
                  <a:lnTo>
                    <a:pt x="6" y="4818"/>
                  </a:lnTo>
                  <a:lnTo>
                    <a:pt x="7" y="4817"/>
                  </a:lnTo>
                  <a:lnTo>
                    <a:pt x="9" y="4819"/>
                  </a:lnTo>
                  <a:lnTo>
                    <a:pt x="33" y="4871"/>
                  </a:lnTo>
                  <a:lnTo>
                    <a:pt x="61" y="4922"/>
                  </a:lnTo>
                  <a:lnTo>
                    <a:pt x="93" y="4968"/>
                  </a:lnTo>
                  <a:lnTo>
                    <a:pt x="127" y="5012"/>
                  </a:lnTo>
                  <a:lnTo>
                    <a:pt x="164" y="5051"/>
                  </a:lnTo>
                  <a:lnTo>
                    <a:pt x="205" y="5089"/>
                  </a:lnTo>
                  <a:lnTo>
                    <a:pt x="247" y="5124"/>
                  </a:lnTo>
                  <a:lnTo>
                    <a:pt x="291" y="5154"/>
                  </a:lnTo>
                  <a:lnTo>
                    <a:pt x="337" y="5183"/>
                  </a:lnTo>
                  <a:lnTo>
                    <a:pt x="384" y="5208"/>
                  </a:lnTo>
                  <a:lnTo>
                    <a:pt x="433" y="5230"/>
                  </a:lnTo>
                  <a:lnTo>
                    <a:pt x="482" y="5249"/>
                  </a:lnTo>
                  <a:lnTo>
                    <a:pt x="531" y="5266"/>
                  </a:lnTo>
                  <a:lnTo>
                    <a:pt x="581" y="5279"/>
                  </a:lnTo>
                  <a:lnTo>
                    <a:pt x="632" y="5289"/>
                  </a:lnTo>
                  <a:lnTo>
                    <a:pt x="681" y="5296"/>
                  </a:lnTo>
                  <a:lnTo>
                    <a:pt x="730" y="5300"/>
                  </a:lnTo>
                  <a:lnTo>
                    <a:pt x="777" y="5302"/>
                  </a:lnTo>
                  <a:lnTo>
                    <a:pt x="824" y="5300"/>
                  </a:lnTo>
                  <a:lnTo>
                    <a:pt x="869" y="5296"/>
                  </a:lnTo>
                  <a:lnTo>
                    <a:pt x="912" y="5289"/>
                  </a:lnTo>
                  <a:lnTo>
                    <a:pt x="954" y="5279"/>
                  </a:lnTo>
                  <a:lnTo>
                    <a:pt x="993" y="5265"/>
                  </a:lnTo>
                  <a:lnTo>
                    <a:pt x="1028" y="5248"/>
                  </a:lnTo>
                  <a:lnTo>
                    <a:pt x="1062" y="5229"/>
                  </a:lnTo>
                  <a:lnTo>
                    <a:pt x="1091" y="5207"/>
                  </a:lnTo>
                  <a:lnTo>
                    <a:pt x="1117" y="5182"/>
                  </a:lnTo>
                  <a:lnTo>
                    <a:pt x="1140" y="5155"/>
                  </a:lnTo>
                  <a:lnTo>
                    <a:pt x="1158" y="5125"/>
                  </a:lnTo>
                  <a:lnTo>
                    <a:pt x="1172" y="5091"/>
                  </a:lnTo>
                  <a:lnTo>
                    <a:pt x="1181" y="5055"/>
                  </a:lnTo>
                  <a:lnTo>
                    <a:pt x="1184" y="5016"/>
                  </a:lnTo>
                  <a:lnTo>
                    <a:pt x="1187" y="4857"/>
                  </a:lnTo>
                  <a:lnTo>
                    <a:pt x="1189" y="4698"/>
                  </a:lnTo>
                  <a:lnTo>
                    <a:pt x="1189" y="4540"/>
                  </a:lnTo>
                  <a:lnTo>
                    <a:pt x="1189" y="4382"/>
                  </a:lnTo>
                  <a:lnTo>
                    <a:pt x="1187" y="4225"/>
                  </a:lnTo>
                  <a:lnTo>
                    <a:pt x="1184" y="4068"/>
                  </a:lnTo>
                  <a:lnTo>
                    <a:pt x="1179" y="3911"/>
                  </a:lnTo>
                  <a:lnTo>
                    <a:pt x="1175" y="3754"/>
                  </a:lnTo>
                  <a:lnTo>
                    <a:pt x="1168" y="3598"/>
                  </a:lnTo>
                  <a:lnTo>
                    <a:pt x="1162" y="3441"/>
                  </a:lnTo>
                  <a:lnTo>
                    <a:pt x="1155" y="3285"/>
                  </a:lnTo>
                  <a:lnTo>
                    <a:pt x="1146" y="3129"/>
                  </a:lnTo>
                  <a:lnTo>
                    <a:pt x="1130" y="2818"/>
                  </a:lnTo>
                  <a:lnTo>
                    <a:pt x="1113" y="2508"/>
                  </a:lnTo>
                  <a:lnTo>
                    <a:pt x="1095" y="2196"/>
                  </a:lnTo>
                  <a:lnTo>
                    <a:pt x="1079" y="1885"/>
                  </a:lnTo>
                  <a:lnTo>
                    <a:pt x="1071" y="1729"/>
                  </a:lnTo>
                  <a:lnTo>
                    <a:pt x="1064" y="1573"/>
                  </a:lnTo>
                  <a:lnTo>
                    <a:pt x="1058" y="1417"/>
                  </a:lnTo>
                  <a:lnTo>
                    <a:pt x="1051" y="1260"/>
                  </a:lnTo>
                  <a:lnTo>
                    <a:pt x="1046" y="1105"/>
                  </a:lnTo>
                  <a:lnTo>
                    <a:pt x="1042" y="948"/>
                  </a:lnTo>
                  <a:lnTo>
                    <a:pt x="1039" y="791"/>
                  </a:lnTo>
                  <a:lnTo>
                    <a:pt x="1037" y="633"/>
                  </a:lnTo>
                  <a:lnTo>
                    <a:pt x="1036" y="475"/>
                  </a:lnTo>
                  <a:lnTo>
                    <a:pt x="1037" y="317"/>
                  </a:lnTo>
                  <a:lnTo>
                    <a:pt x="1038" y="159"/>
                  </a:lnTo>
                  <a:lnTo>
                    <a:pt x="1042" y="0"/>
                  </a:lnTo>
                  <a:lnTo>
                    <a:pt x="1670" y="12"/>
                  </a:lnTo>
                  <a:lnTo>
                    <a:pt x="1799" y="5022"/>
                  </a:lnTo>
                  <a:lnTo>
                    <a:pt x="1798" y="5090"/>
                  </a:lnTo>
                  <a:lnTo>
                    <a:pt x="1790" y="5155"/>
                  </a:lnTo>
                  <a:lnTo>
                    <a:pt x="1773" y="5219"/>
                  </a:lnTo>
                  <a:lnTo>
                    <a:pt x="1751" y="5282"/>
                  </a:lnTo>
                  <a:lnTo>
                    <a:pt x="1722" y="5342"/>
                  </a:lnTo>
                  <a:lnTo>
                    <a:pt x="1686" y="5400"/>
                  </a:lnTo>
                  <a:lnTo>
                    <a:pt x="1646" y="5456"/>
                  </a:lnTo>
                  <a:lnTo>
                    <a:pt x="1600" y="5509"/>
                  </a:lnTo>
                  <a:lnTo>
                    <a:pt x="1548" y="5559"/>
                  </a:lnTo>
                  <a:lnTo>
                    <a:pt x="1494" y="5606"/>
                  </a:lnTo>
                  <a:lnTo>
                    <a:pt x="1434" y="5650"/>
                  </a:lnTo>
                  <a:lnTo>
                    <a:pt x="1371" y="5690"/>
                  </a:lnTo>
                  <a:lnTo>
                    <a:pt x="1306" y="5726"/>
                  </a:lnTo>
                  <a:lnTo>
                    <a:pt x="1237" y="5759"/>
                  </a:lnTo>
                  <a:lnTo>
                    <a:pt x="1166" y="5787"/>
                  </a:lnTo>
                  <a:lnTo>
                    <a:pt x="1094" y="5810"/>
                  </a:lnTo>
                  <a:lnTo>
                    <a:pt x="1020" y="5830"/>
                  </a:lnTo>
                  <a:lnTo>
                    <a:pt x="945" y="5844"/>
                  </a:lnTo>
                  <a:lnTo>
                    <a:pt x="868" y="5852"/>
                  </a:lnTo>
                  <a:lnTo>
                    <a:pt x="793" y="5856"/>
                  </a:lnTo>
                  <a:lnTo>
                    <a:pt x="716" y="5854"/>
                  </a:lnTo>
                  <a:lnTo>
                    <a:pt x="641" y="5846"/>
                  </a:lnTo>
                  <a:lnTo>
                    <a:pt x="567" y="5831"/>
                  </a:lnTo>
                  <a:lnTo>
                    <a:pt x="494" y="5811"/>
                  </a:lnTo>
                  <a:lnTo>
                    <a:pt x="422" y="5784"/>
                  </a:lnTo>
                  <a:lnTo>
                    <a:pt x="353" y="5750"/>
                  </a:lnTo>
                  <a:lnTo>
                    <a:pt x="286" y="5710"/>
                  </a:lnTo>
                  <a:lnTo>
                    <a:pt x="224" y="5663"/>
                  </a:lnTo>
                  <a:lnTo>
                    <a:pt x="164" y="5607"/>
                  </a:lnTo>
                  <a:lnTo>
                    <a:pt x="107" y="5544"/>
                  </a:lnTo>
                  <a:lnTo>
                    <a:pt x="56" y="5473"/>
                  </a:lnTo>
                  <a:lnTo>
                    <a:pt x="9" y="5394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09800" y="5465880"/>
            <a:ext cx="1208160" cy="1207800"/>
            <a:chOff x="2809800" y="5465880"/>
            <a:chExt cx="1208160" cy="1207800"/>
          </a:xfrm>
        </p:grpSpPr>
        <p:sp>
          <p:nvSpPr>
            <p:cNvPr id="108" name=""/>
            <p:cNvSpPr/>
            <p:nvPr/>
          </p:nvSpPr>
          <p:spPr>
            <a:xfrm>
              <a:off x="3414600" y="5465880"/>
              <a:ext cx="603360" cy="6048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9" y="681"/>
                  </a:lnTo>
                  <a:lnTo>
                    <a:pt x="297" y="684"/>
                  </a:lnTo>
                  <a:lnTo>
                    <a:pt x="397" y="690"/>
                  </a:lnTo>
                  <a:lnTo>
                    <a:pt x="493" y="695"/>
                  </a:lnTo>
                  <a:lnTo>
                    <a:pt x="591" y="702"/>
                  </a:lnTo>
                  <a:lnTo>
                    <a:pt x="689" y="710"/>
                  </a:lnTo>
                  <a:lnTo>
                    <a:pt x="785" y="719"/>
                  </a:lnTo>
                  <a:lnTo>
                    <a:pt x="881" y="730"/>
                  </a:lnTo>
                  <a:lnTo>
                    <a:pt x="977" y="741"/>
                  </a:lnTo>
                  <a:lnTo>
                    <a:pt x="1074" y="754"/>
                  </a:lnTo>
                  <a:lnTo>
                    <a:pt x="1170" y="769"/>
                  </a:lnTo>
                  <a:lnTo>
                    <a:pt x="1264" y="784"/>
                  </a:lnTo>
                  <a:lnTo>
                    <a:pt x="1358" y="800"/>
                  </a:lnTo>
                  <a:lnTo>
                    <a:pt x="1453" y="817"/>
                  </a:lnTo>
                  <a:lnTo>
                    <a:pt x="1548" y="836"/>
                  </a:lnTo>
                  <a:lnTo>
                    <a:pt x="1641" y="857"/>
                  </a:lnTo>
                  <a:lnTo>
                    <a:pt x="1734" y="877"/>
                  </a:lnTo>
                  <a:lnTo>
                    <a:pt x="1827" y="899"/>
                  </a:lnTo>
                  <a:lnTo>
                    <a:pt x="1919" y="922"/>
                  </a:lnTo>
                  <a:lnTo>
                    <a:pt x="2010" y="947"/>
                  </a:lnTo>
                  <a:lnTo>
                    <a:pt x="2101" y="972"/>
                  </a:lnTo>
                  <a:lnTo>
                    <a:pt x="2192" y="999"/>
                  </a:lnTo>
                  <a:lnTo>
                    <a:pt x="2282" y="1026"/>
                  </a:lnTo>
                  <a:lnTo>
                    <a:pt x="2372" y="1055"/>
                  </a:lnTo>
                  <a:lnTo>
                    <a:pt x="2462" y="1085"/>
                  </a:lnTo>
                  <a:lnTo>
                    <a:pt x="2551" y="1115"/>
                  </a:lnTo>
                  <a:lnTo>
                    <a:pt x="2639" y="1148"/>
                  </a:lnTo>
                  <a:lnTo>
                    <a:pt x="2727" y="1180"/>
                  </a:lnTo>
                  <a:lnTo>
                    <a:pt x="2815" y="1215"/>
                  </a:lnTo>
                  <a:lnTo>
                    <a:pt x="2903" y="1250"/>
                  </a:lnTo>
                  <a:lnTo>
                    <a:pt x="2989" y="1285"/>
                  </a:lnTo>
                  <a:lnTo>
                    <a:pt x="3075" y="1323"/>
                  </a:lnTo>
                  <a:lnTo>
                    <a:pt x="3160" y="1361"/>
                  </a:lnTo>
                  <a:lnTo>
                    <a:pt x="3245" y="1399"/>
                  </a:lnTo>
                  <a:lnTo>
                    <a:pt x="3329" y="1440"/>
                  </a:lnTo>
                  <a:lnTo>
                    <a:pt x="3412" y="1482"/>
                  </a:lnTo>
                  <a:lnTo>
                    <a:pt x="3497" y="1522"/>
                  </a:lnTo>
                  <a:lnTo>
                    <a:pt x="3579" y="1566"/>
                  </a:lnTo>
                  <a:lnTo>
                    <a:pt x="3660" y="1609"/>
                  </a:lnTo>
                  <a:lnTo>
                    <a:pt x="3742" y="1655"/>
                  </a:lnTo>
                  <a:lnTo>
                    <a:pt x="3823" y="1700"/>
                  </a:lnTo>
                  <a:lnTo>
                    <a:pt x="3903" y="1747"/>
                  </a:lnTo>
                  <a:lnTo>
                    <a:pt x="3983" y="1796"/>
                  </a:lnTo>
                  <a:lnTo>
                    <a:pt x="4062" y="1845"/>
                  </a:lnTo>
                  <a:lnTo>
                    <a:pt x="4139" y="1894"/>
                  </a:lnTo>
                  <a:lnTo>
                    <a:pt x="4218" y="1944"/>
                  </a:lnTo>
                  <a:lnTo>
                    <a:pt x="4295" y="1996"/>
                  </a:lnTo>
                  <a:lnTo>
                    <a:pt x="4371" y="2049"/>
                  </a:lnTo>
                  <a:lnTo>
                    <a:pt x="4447" y="2101"/>
                  </a:lnTo>
                  <a:lnTo>
                    <a:pt x="4522" y="2156"/>
                  </a:lnTo>
                  <a:lnTo>
                    <a:pt x="4597" y="2210"/>
                  </a:lnTo>
                  <a:lnTo>
                    <a:pt x="4670" y="2267"/>
                  </a:lnTo>
                  <a:lnTo>
                    <a:pt x="4743" y="2324"/>
                  </a:lnTo>
                  <a:lnTo>
                    <a:pt x="4816" y="2382"/>
                  </a:lnTo>
                  <a:lnTo>
                    <a:pt x="4887" y="2439"/>
                  </a:lnTo>
                  <a:lnTo>
                    <a:pt x="4958" y="2499"/>
                  </a:lnTo>
                  <a:lnTo>
                    <a:pt x="5029" y="2558"/>
                  </a:lnTo>
                  <a:lnTo>
                    <a:pt x="5099" y="2620"/>
                  </a:lnTo>
                  <a:lnTo>
                    <a:pt x="5167" y="2682"/>
                  </a:lnTo>
                  <a:lnTo>
                    <a:pt x="5235" y="2745"/>
                  </a:lnTo>
                  <a:lnTo>
                    <a:pt x="5302" y="2807"/>
                  </a:lnTo>
                  <a:lnTo>
                    <a:pt x="5369" y="2872"/>
                  </a:lnTo>
                  <a:lnTo>
                    <a:pt x="5434" y="2937"/>
                  </a:lnTo>
                  <a:lnTo>
                    <a:pt x="5499" y="3002"/>
                  </a:lnTo>
                  <a:lnTo>
                    <a:pt x="5564" y="3069"/>
                  </a:lnTo>
                  <a:lnTo>
                    <a:pt x="5626" y="3136"/>
                  </a:lnTo>
                  <a:lnTo>
                    <a:pt x="5689" y="3204"/>
                  </a:lnTo>
                  <a:lnTo>
                    <a:pt x="5751" y="3272"/>
                  </a:lnTo>
                  <a:lnTo>
                    <a:pt x="5813" y="3342"/>
                  </a:lnTo>
                  <a:lnTo>
                    <a:pt x="5872" y="3413"/>
                  </a:lnTo>
                  <a:lnTo>
                    <a:pt x="5932" y="3484"/>
                  </a:lnTo>
                  <a:lnTo>
                    <a:pt x="5989" y="3555"/>
                  </a:lnTo>
                  <a:lnTo>
                    <a:pt x="6047" y="3628"/>
                  </a:lnTo>
                  <a:lnTo>
                    <a:pt x="6104" y="3701"/>
                  </a:lnTo>
                  <a:lnTo>
                    <a:pt x="6161" y="3774"/>
                  </a:lnTo>
                  <a:lnTo>
                    <a:pt x="6215" y="3849"/>
                  </a:lnTo>
                  <a:lnTo>
                    <a:pt x="6270" y="3924"/>
                  </a:lnTo>
                  <a:lnTo>
                    <a:pt x="6322" y="4000"/>
                  </a:lnTo>
                  <a:lnTo>
                    <a:pt x="6375" y="4076"/>
                  </a:lnTo>
                  <a:lnTo>
                    <a:pt x="6427" y="4153"/>
                  </a:lnTo>
                  <a:lnTo>
                    <a:pt x="6477" y="4232"/>
                  </a:lnTo>
                  <a:lnTo>
                    <a:pt x="6526" y="4309"/>
                  </a:lnTo>
                  <a:lnTo>
                    <a:pt x="6575" y="4388"/>
                  </a:lnTo>
                  <a:lnTo>
                    <a:pt x="6624" y="4468"/>
                  </a:lnTo>
                  <a:lnTo>
                    <a:pt x="6671" y="4548"/>
                  </a:lnTo>
                  <a:lnTo>
                    <a:pt x="6716" y="4629"/>
                  </a:lnTo>
                  <a:lnTo>
                    <a:pt x="6762" y="4711"/>
                  </a:lnTo>
                  <a:lnTo>
                    <a:pt x="6805" y="4792"/>
                  </a:lnTo>
                  <a:lnTo>
                    <a:pt x="6849" y="4874"/>
                  </a:lnTo>
                  <a:lnTo>
                    <a:pt x="6889" y="4959"/>
                  </a:lnTo>
                  <a:lnTo>
                    <a:pt x="6931" y="5042"/>
                  </a:lnTo>
                  <a:lnTo>
                    <a:pt x="6972" y="5126"/>
                  </a:lnTo>
                  <a:lnTo>
                    <a:pt x="7010" y="5211"/>
                  </a:lnTo>
                  <a:lnTo>
                    <a:pt x="7048" y="5296"/>
                  </a:lnTo>
                  <a:lnTo>
                    <a:pt x="7086" y="5382"/>
                  </a:lnTo>
                  <a:lnTo>
                    <a:pt x="7121" y="5468"/>
                  </a:lnTo>
                  <a:lnTo>
                    <a:pt x="7156" y="5556"/>
                  </a:lnTo>
                  <a:lnTo>
                    <a:pt x="7191" y="5644"/>
                  </a:lnTo>
                  <a:lnTo>
                    <a:pt x="7223" y="5732"/>
                  </a:lnTo>
                  <a:lnTo>
                    <a:pt x="7256" y="5820"/>
                  </a:lnTo>
                  <a:lnTo>
                    <a:pt x="7286" y="5909"/>
                  </a:lnTo>
                  <a:lnTo>
                    <a:pt x="7316" y="5999"/>
                  </a:lnTo>
                  <a:lnTo>
                    <a:pt x="7345" y="6089"/>
                  </a:lnTo>
                  <a:lnTo>
                    <a:pt x="7372" y="6179"/>
                  </a:lnTo>
                  <a:lnTo>
                    <a:pt x="7399" y="6270"/>
                  </a:lnTo>
                  <a:lnTo>
                    <a:pt x="7424" y="6361"/>
                  </a:lnTo>
                  <a:lnTo>
                    <a:pt x="7449" y="6452"/>
                  </a:lnTo>
                  <a:lnTo>
                    <a:pt x="7472" y="6544"/>
                  </a:lnTo>
                  <a:lnTo>
                    <a:pt x="7494" y="6637"/>
                  </a:lnTo>
                  <a:lnTo>
                    <a:pt x="7514" y="6730"/>
                  </a:lnTo>
                  <a:lnTo>
                    <a:pt x="7535" y="6823"/>
                  </a:lnTo>
                  <a:lnTo>
                    <a:pt x="7554" y="6918"/>
                  </a:lnTo>
                  <a:lnTo>
                    <a:pt x="7571" y="7013"/>
                  </a:lnTo>
                  <a:lnTo>
                    <a:pt x="7587" y="7107"/>
                  </a:lnTo>
                  <a:lnTo>
                    <a:pt x="7602" y="7201"/>
                  </a:lnTo>
                  <a:lnTo>
                    <a:pt x="7617" y="7297"/>
                  </a:lnTo>
                  <a:lnTo>
                    <a:pt x="7630" y="7394"/>
                  </a:lnTo>
                  <a:lnTo>
                    <a:pt x="7641" y="7490"/>
                  </a:lnTo>
                  <a:lnTo>
                    <a:pt x="7652" y="7586"/>
                  </a:lnTo>
                  <a:lnTo>
                    <a:pt x="7661" y="7682"/>
                  </a:lnTo>
                  <a:lnTo>
                    <a:pt x="7669" y="7780"/>
                  </a:lnTo>
                  <a:lnTo>
                    <a:pt x="7676" y="7878"/>
                  </a:lnTo>
                  <a:lnTo>
                    <a:pt x="7681" y="7974"/>
                  </a:lnTo>
                  <a:lnTo>
                    <a:pt x="7687" y="8074"/>
                  </a:lnTo>
                  <a:lnTo>
                    <a:pt x="7690" y="8172"/>
                  </a:lnTo>
                  <a:lnTo>
                    <a:pt x="7690" y="8272"/>
                  </a:lnTo>
                  <a:lnTo>
                    <a:pt x="7691" y="8371"/>
                  </a:lnTo>
                  <a:lnTo>
                    <a:pt x="8371" y="8371"/>
                  </a:lnTo>
                  <a:lnTo>
                    <a:pt x="8370" y="8263"/>
                  </a:lnTo>
                  <a:lnTo>
                    <a:pt x="8367" y="8156"/>
                  </a:lnTo>
                  <a:lnTo>
                    <a:pt x="8364" y="8050"/>
                  </a:lnTo>
                  <a:lnTo>
                    <a:pt x="8359" y="7943"/>
                  </a:lnTo>
                  <a:lnTo>
                    <a:pt x="8353" y="7835"/>
                  </a:lnTo>
                  <a:lnTo>
                    <a:pt x="8346" y="7730"/>
                  </a:lnTo>
                  <a:lnTo>
                    <a:pt x="8338" y="7624"/>
                  </a:lnTo>
                  <a:lnTo>
                    <a:pt x="8327" y="7517"/>
                  </a:lnTo>
                  <a:lnTo>
                    <a:pt x="8316" y="7413"/>
                  </a:lnTo>
                  <a:lnTo>
                    <a:pt x="8302" y="7308"/>
                  </a:lnTo>
                  <a:lnTo>
                    <a:pt x="8288" y="7204"/>
                  </a:lnTo>
                  <a:lnTo>
                    <a:pt x="8274" y="7101"/>
                  </a:lnTo>
                  <a:lnTo>
                    <a:pt x="8257" y="6996"/>
                  </a:lnTo>
                  <a:lnTo>
                    <a:pt x="8240" y="6892"/>
                  </a:lnTo>
                  <a:lnTo>
                    <a:pt x="8220" y="6791"/>
                  </a:lnTo>
                  <a:lnTo>
                    <a:pt x="8199" y="6688"/>
                  </a:lnTo>
                  <a:lnTo>
                    <a:pt x="8178" y="6587"/>
                  </a:lnTo>
                  <a:lnTo>
                    <a:pt x="8155" y="6485"/>
                  </a:lnTo>
                  <a:lnTo>
                    <a:pt x="8130" y="6385"/>
                  </a:lnTo>
                  <a:lnTo>
                    <a:pt x="8105" y="6285"/>
                  </a:lnTo>
                  <a:lnTo>
                    <a:pt x="8080" y="6183"/>
                  </a:lnTo>
                  <a:lnTo>
                    <a:pt x="8052" y="6084"/>
                  </a:lnTo>
                  <a:lnTo>
                    <a:pt x="8023" y="5985"/>
                  </a:lnTo>
                  <a:lnTo>
                    <a:pt x="7993" y="5887"/>
                  </a:lnTo>
                  <a:lnTo>
                    <a:pt x="7962" y="5789"/>
                  </a:lnTo>
                  <a:lnTo>
                    <a:pt x="7929" y="5691"/>
                  </a:lnTo>
                  <a:lnTo>
                    <a:pt x="7896" y="5594"/>
                  </a:lnTo>
                  <a:lnTo>
                    <a:pt x="7861" y="5498"/>
                  </a:lnTo>
                  <a:lnTo>
                    <a:pt x="7825" y="5402"/>
                  </a:lnTo>
                  <a:lnTo>
                    <a:pt x="7788" y="5306"/>
                  </a:lnTo>
                  <a:lnTo>
                    <a:pt x="7750" y="5213"/>
                  </a:lnTo>
                  <a:lnTo>
                    <a:pt x="7710" y="5119"/>
                  </a:lnTo>
                  <a:lnTo>
                    <a:pt x="7670" y="5025"/>
                  </a:lnTo>
                  <a:lnTo>
                    <a:pt x="7629" y="4932"/>
                  </a:lnTo>
                  <a:lnTo>
                    <a:pt x="7585" y="4839"/>
                  </a:lnTo>
                  <a:lnTo>
                    <a:pt x="7542" y="4747"/>
                  </a:lnTo>
                  <a:lnTo>
                    <a:pt x="7498" y="4656"/>
                  </a:lnTo>
                  <a:lnTo>
                    <a:pt x="7451" y="4566"/>
                  </a:lnTo>
                  <a:lnTo>
                    <a:pt x="7405" y="4476"/>
                  </a:lnTo>
                  <a:lnTo>
                    <a:pt x="7357" y="4386"/>
                  </a:lnTo>
                  <a:lnTo>
                    <a:pt x="7308" y="4297"/>
                  </a:lnTo>
                  <a:lnTo>
                    <a:pt x="7258" y="4211"/>
                  </a:lnTo>
                  <a:lnTo>
                    <a:pt x="7207" y="4123"/>
                  </a:lnTo>
                  <a:lnTo>
                    <a:pt x="7155" y="4036"/>
                  </a:lnTo>
                  <a:lnTo>
                    <a:pt x="7103" y="3950"/>
                  </a:lnTo>
                  <a:lnTo>
                    <a:pt x="7048" y="3864"/>
                  </a:lnTo>
                  <a:lnTo>
                    <a:pt x="6993" y="3781"/>
                  </a:lnTo>
                  <a:lnTo>
                    <a:pt x="6937" y="3696"/>
                  </a:lnTo>
                  <a:lnTo>
                    <a:pt x="6880" y="3612"/>
                  </a:lnTo>
                  <a:lnTo>
                    <a:pt x="6822" y="3530"/>
                  </a:lnTo>
                  <a:lnTo>
                    <a:pt x="6763" y="3450"/>
                  </a:lnTo>
                  <a:lnTo>
                    <a:pt x="6703" y="3368"/>
                  </a:lnTo>
                  <a:lnTo>
                    <a:pt x="6643" y="3287"/>
                  </a:lnTo>
                  <a:lnTo>
                    <a:pt x="6581" y="3208"/>
                  </a:lnTo>
                  <a:lnTo>
                    <a:pt x="6518" y="3130"/>
                  </a:lnTo>
                  <a:lnTo>
                    <a:pt x="6455" y="3051"/>
                  </a:lnTo>
                  <a:lnTo>
                    <a:pt x="6390" y="2975"/>
                  </a:lnTo>
                  <a:lnTo>
                    <a:pt x="6324" y="2898"/>
                  </a:lnTo>
                  <a:lnTo>
                    <a:pt x="6258" y="2823"/>
                  </a:lnTo>
                  <a:lnTo>
                    <a:pt x="6191" y="2748"/>
                  </a:lnTo>
                  <a:lnTo>
                    <a:pt x="6123" y="2675"/>
                  </a:lnTo>
                  <a:lnTo>
                    <a:pt x="6054" y="2601"/>
                  </a:lnTo>
                  <a:lnTo>
                    <a:pt x="5985" y="2529"/>
                  </a:lnTo>
                  <a:lnTo>
                    <a:pt x="5914" y="2457"/>
                  </a:lnTo>
                  <a:lnTo>
                    <a:pt x="5842" y="2386"/>
                  </a:lnTo>
                  <a:lnTo>
                    <a:pt x="5770" y="2317"/>
                  </a:lnTo>
                  <a:lnTo>
                    <a:pt x="5696" y="2248"/>
                  </a:lnTo>
                  <a:lnTo>
                    <a:pt x="5623" y="2180"/>
                  </a:lnTo>
                  <a:lnTo>
                    <a:pt x="5548" y="2113"/>
                  </a:lnTo>
                  <a:lnTo>
                    <a:pt x="5473" y="2047"/>
                  </a:lnTo>
                  <a:lnTo>
                    <a:pt x="5396" y="1981"/>
                  </a:lnTo>
                  <a:lnTo>
                    <a:pt x="5320" y="1916"/>
                  </a:lnTo>
                  <a:lnTo>
                    <a:pt x="5241" y="1853"/>
                  </a:lnTo>
                  <a:lnTo>
                    <a:pt x="5163" y="1790"/>
                  </a:lnTo>
                  <a:lnTo>
                    <a:pt x="5084" y="1728"/>
                  </a:lnTo>
                  <a:lnTo>
                    <a:pt x="5003" y="1668"/>
                  </a:lnTo>
                  <a:lnTo>
                    <a:pt x="4921" y="1608"/>
                  </a:lnTo>
                  <a:lnTo>
                    <a:pt x="4841" y="1549"/>
                  </a:lnTo>
                  <a:lnTo>
                    <a:pt x="4759" y="1491"/>
                  </a:lnTo>
                  <a:lnTo>
                    <a:pt x="4675" y="1434"/>
                  </a:lnTo>
                  <a:lnTo>
                    <a:pt x="4590" y="1378"/>
                  </a:lnTo>
                  <a:lnTo>
                    <a:pt x="4507" y="1323"/>
                  </a:lnTo>
                  <a:lnTo>
                    <a:pt x="4421" y="1268"/>
                  </a:lnTo>
                  <a:lnTo>
                    <a:pt x="4335" y="1216"/>
                  </a:lnTo>
                  <a:lnTo>
                    <a:pt x="4248" y="1164"/>
                  </a:lnTo>
                  <a:lnTo>
                    <a:pt x="4160" y="1113"/>
                  </a:lnTo>
                  <a:lnTo>
                    <a:pt x="4074" y="1063"/>
                  </a:lnTo>
                  <a:lnTo>
                    <a:pt x="3985" y="1014"/>
                  </a:lnTo>
                  <a:lnTo>
                    <a:pt x="3895" y="966"/>
                  </a:lnTo>
                  <a:lnTo>
                    <a:pt x="3805" y="920"/>
                  </a:lnTo>
                  <a:lnTo>
                    <a:pt x="3715" y="873"/>
                  </a:lnTo>
                  <a:lnTo>
                    <a:pt x="3624" y="829"/>
                  </a:lnTo>
                  <a:lnTo>
                    <a:pt x="3532" y="786"/>
                  </a:lnTo>
                  <a:lnTo>
                    <a:pt x="3439" y="742"/>
                  </a:lnTo>
                  <a:lnTo>
                    <a:pt x="3346" y="701"/>
                  </a:lnTo>
                  <a:lnTo>
                    <a:pt x="3252" y="661"/>
                  </a:lnTo>
                  <a:lnTo>
                    <a:pt x="3158" y="621"/>
                  </a:lnTo>
                  <a:lnTo>
                    <a:pt x="3065" y="583"/>
                  </a:lnTo>
                  <a:lnTo>
                    <a:pt x="2969" y="546"/>
                  </a:lnTo>
                  <a:lnTo>
                    <a:pt x="2873" y="510"/>
                  </a:lnTo>
                  <a:lnTo>
                    <a:pt x="2777" y="475"/>
                  </a:lnTo>
                  <a:lnTo>
                    <a:pt x="2680" y="442"/>
                  </a:lnTo>
                  <a:lnTo>
                    <a:pt x="2582" y="409"/>
                  </a:lnTo>
                  <a:lnTo>
                    <a:pt x="2484" y="378"/>
                  </a:lnTo>
                  <a:lnTo>
                    <a:pt x="2386" y="348"/>
                  </a:lnTo>
                  <a:lnTo>
                    <a:pt x="2287" y="319"/>
                  </a:lnTo>
                  <a:lnTo>
                    <a:pt x="2188" y="291"/>
                  </a:lnTo>
                  <a:lnTo>
                    <a:pt x="2086" y="266"/>
                  </a:lnTo>
                  <a:lnTo>
                    <a:pt x="1986" y="241"/>
                  </a:lnTo>
                  <a:lnTo>
                    <a:pt x="1886" y="216"/>
                  </a:lnTo>
                  <a:lnTo>
                    <a:pt x="1784" y="193"/>
                  </a:lnTo>
                  <a:lnTo>
                    <a:pt x="1683" y="172"/>
                  </a:lnTo>
                  <a:lnTo>
                    <a:pt x="1580" y="151"/>
                  </a:lnTo>
                  <a:lnTo>
                    <a:pt x="1479" y="131"/>
                  </a:lnTo>
                  <a:lnTo>
                    <a:pt x="1375" y="114"/>
                  </a:lnTo>
                  <a:lnTo>
                    <a:pt x="1270" y="97"/>
                  </a:lnTo>
                  <a:lnTo>
                    <a:pt x="1167" y="83"/>
                  </a:lnTo>
                  <a:lnTo>
                    <a:pt x="1063" y="69"/>
                  </a:lnTo>
                  <a:lnTo>
                    <a:pt x="958" y="55"/>
                  </a:lnTo>
                  <a:lnTo>
                    <a:pt x="854" y="44"/>
                  </a:lnTo>
                  <a:lnTo>
                    <a:pt x="747" y="33"/>
                  </a:lnTo>
                  <a:lnTo>
                    <a:pt x="641" y="25"/>
                  </a:lnTo>
                  <a:lnTo>
                    <a:pt x="536" y="18"/>
                  </a:lnTo>
                  <a:lnTo>
                    <a:pt x="428" y="12"/>
                  </a:lnTo>
                  <a:lnTo>
                    <a:pt x="321" y="7"/>
                  </a:lnTo>
                  <a:lnTo>
                    <a:pt x="215" y="4"/>
                  </a:lnTo>
                  <a:lnTo>
                    <a:pt x="10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09800" y="5465880"/>
              <a:ext cx="604800" cy="6048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680" y="8371"/>
                  </a:moveTo>
                  <a:lnTo>
                    <a:pt x="680" y="8371"/>
                  </a:lnTo>
                  <a:lnTo>
                    <a:pt x="680" y="8272"/>
                  </a:lnTo>
                  <a:lnTo>
                    <a:pt x="681" y="8172"/>
                  </a:lnTo>
                  <a:lnTo>
                    <a:pt x="684" y="8074"/>
                  </a:lnTo>
                  <a:lnTo>
                    <a:pt x="690" y="7974"/>
                  </a:lnTo>
                  <a:lnTo>
                    <a:pt x="695" y="7878"/>
                  </a:lnTo>
                  <a:lnTo>
                    <a:pt x="702" y="7780"/>
                  </a:lnTo>
                  <a:lnTo>
                    <a:pt x="710" y="7682"/>
                  </a:lnTo>
                  <a:lnTo>
                    <a:pt x="719" y="7585"/>
                  </a:lnTo>
                  <a:lnTo>
                    <a:pt x="729" y="7490"/>
                  </a:lnTo>
                  <a:lnTo>
                    <a:pt x="741" y="7394"/>
                  </a:lnTo>
                  <a:lnTo>
                    <a:pt x="754" y="7297"/>
                  </a:lnTo>
                  <a:lnTo>
                    <a:pt x="769" y="7201"/>
                  </a:lnTo>
                  <a:lnTo>
                    <a:pt x="783" y="7106"/>
                  </a:lnTo>
                  <a:lnTo>
                    <a:pt x="799" y="7013"/>
                  </a:lnTo>
                  <a:lnTo>
                    <a:pt x="817" y="6918"/>
                  </a:lnTo>
                  <a:lnTo>
                    <a:pt x="836" y="6823"/>
                  </a:lnTo>
                  <a:lnTo>
                    <a:pt x="856" y="6730"/>
                  </a:lnTo>
                  <a:lnTo>
                    <a:pt x="877" y="6637"/>
                  </a:lnTo>
                  <a:lnTo>
                    <a:pt x="899" y="6544"/>
                  </a:lnTo>
                  <a:lnTo>
                    <a:pt x="922" y="6452"/>
                  </a:lnTo>
                  <a:lnTo>
                    <a:pt x="947" y="6361"/>
                  </a:lnTo>
                  <a:lnTo>
                    <a:pt x="972" y="6270"/>
                  </a:lnTo>
                  <a:lnTo>
                    <a:pt x="998" y="6179"/>
                  </a:lnTo>
                  <a:lnTo>
                    <a:pt x="1026" y="6089"/>
                  </a:lnTo>
                  <a:lnTo>
                    <a:pt x="1055" y="5999"/>
                  </a:lnTo>
                  <a:lnTo>
                    <a:pt x="1084" y="5909"/>
                  </a:lnTo>
                  <a:lnTo>
                    <a:pt x="1115" y="5820"/>
                  </a:lnTo>
                  <a:lnTo>
                    <a:pt x="1147" y="5732"/>
                  </a:lnTo>
                  <a:lnTo>
                    <a:pt x="1180" y="5644"/>
                  </a:lnTo>
                  <a:lnTo>
                    <a:pt x="1215" y="5556"/>
                  </a:lnTo>
                  <a:lnTo>
                    <a:pt x="1248" y="5469"/>
                  </a:lnTo>
                  <a:lnTo>
                    <a:pt x="1285" y="5382"/>
                  </a:lnTo>
                  <a:lnTo>
                    <a:pt x="1323" y="5296"/>
                  </a:lnTo>
                  <a:lnTo>
                    <a:pt x="1360" y="5211"/>
                  </a:lnTo>
                  <a:lnTo>
                    <a:pt x="1399" y="5126"/>
                  </a:lnTo>
                  <a:lnTo>
                    <a:pt x="1439" y="5042"/>
                  </a:lnTo>
                  <a:lnTo>
                    <a:pt x="1481" y="4959"/>
                  </a:lnTo>
                  <a:lnTo>
                    <a:pt x="1522" y="4874"/>
                  </a:lnTo>
                  <a:lnTo>
                    <a:pt x="1565" y="4792"/>
                  </a:lnTo>
                  <a:lnTo>
                    <a:pt x="1609" y="4711"/>
                  </a:lnTo>
                  <a:lnTo>
                    <a:pt x="1654" y="4629"/>
                  </a:lnTo>
                  <a:lnTo>
                    <a:pt x="1700" y="4548"/>
                  </a:lnTo>
                  <a:lnTo>
                    <a:pt x="1747" y="4468"/>
                  </a:lnTo>
                  <a:lnTo>
                    <a:pt x="1795" y="4388"/>
                  </a:lnTo>
                  <a:lnTo>
                    <a:pt x="1845" y="4309"/>
                  </a:lnTo>
                  <a:lnTo>
                    <a:pt x="1894" y="4232"/>
                  </a:lnTo>
                  <a:lnTo>
                    <a:pt x="1944" y="4153"/>
                  </a:lnTo>
                  <a:lnTo>
                    <a:pt x="1996" y="4076"/>
                  </a:lnTo>
                  <a:lnTo>
                    <a:pt x="2048" y="3999"/>
                  </a:lnTo>
                  <a:lnTo>
                    <a:pt x="2101" y="3924"/>
                  </a:lnTo>
                  <a:lnTo>
                    <a:pt x="2154" y="3849"/>
                  </a:lnTo>
                  <a:lnTo>
                    <a:pt x="2210" y="3774"/>
                  </a:lnTo>
                  <a:lnTo>
                    <a:pt x="2266" y="3700"/>
                  </a:lnTo>
                  <a:lnTo>
                    <a:pt x="2323" y="3628"/>
                  </a:lnTo>
                  <a:lnTo>
                    <a:pt x="2381" y="3555"/>
                  </a:lnTo>
                  <a:lnTo>
                    <a:pt x="2439" y="3484"/>
                  </a:lnTo>
                  <a:lnTo>
                    <a:pt x="2499" y="3413"/>
                  </a:lnTo>
                  <a:lnTo>
                    <a:pt x="2558" y="3342"/>
                  </a:lnTo>
                  <a:lnTo>
                    <a:pt x="2619" y="3272"/>
                  </a:lnTo>
                  <a:lnTo>
                    <a:pt x="2682" y="3204"/>
                  </a:lnTo>
                  <a:lnTo>
                    <a:pt x="2744" y="3136"/>
                  </a:lnTo>
                  <a:lnTo>
                    <a:pt x="2807" y="3069"/>
                  </a:lnTo>
                  <a:lnTo>
                    <a:pt x="2872" y="3002"/>
                  </a:lnTo>
                  <a:lnTo>
                    <a:pt x="2937" y="2937"/>
                  </a:lnTo>
                  <a:lnTo>
                    <a:pt x="3002" y="2872"/>
                  </a:lnTo>
                  <a:lnTo>
                    <a:pt x="3068" y="2807"/>
                  </a:lnTo>
                  <a:lnTo>
                    <a:pt x="3136" y="2745"/>
                  </a:lnTo>
                  <a:lnTo>
                    <a:pt x="3204" y="2682"/>
                  </a:lnTo>
                  <a:lnTo>
                    <a:pt x="3273" y="2620"/>
                  </a:lnTo>
                  <a:lnTo>
                    <a:pt x="3342" y="2558"/>
                  </a:lnTo>
                  <a:lnTo>
                    <a:pt x="3412" y="2499"/>
                  </a:lnTo>
                  <a:lnTo>
                    <a:pt x="3484" y="2439"/>
                  </a:lnTo>
                  <a:lnTo>
                    <a:pt x="3555" y="2382"/>
                  </a:lnTo>
                  <a:lnTo>
                    <a:pt x="3628" y="2324"/>
                  </a:lnTo>
                  <a:lnTo>
                    <a:pt x="3700" y="2267"/>
                  </a:lnTo>
                  <a:lnTo>
                    <a:pt x="3774" y="2210"/>
                  </a:lnTo>
                  <a:lnTo>
                    <a:pt x="3848" y="2156"/>
                  </a:lnTo>
                  <a:lnTo>
                    <a:pt x="3924" y="2101"/>
                  </a:lnTo>
                  <a:lnTo>
                    <a:pt x="3998" y="2049"/>
                  </a:lnTo>
                  <a:lnTo>
                    <a:pt x="4076" y="1996"/>
                  </a:lnTo>
                  <a:lnTo>
                    <a:pt x="4152" y="1944"/>
                  </a:lnTo>
                  <a:lnTo>
                    <a:pt x="4230" y="1894"/>
                  </a:lnTo>
                  <a:lnTo>
                    <a:pt x="4309" y="1845"/>
                  </a:lnTo>
                  <a:lnTo>
                    <a:pt x="4388" y="1796"/>
                  </a:lnTo>
                  <a:lnTo>
                    <a:pt x="4468" y="1747"/>
                  </a:lnTo>
                  <a:lnTo>
                    <a:pt x="4548" y="1700"/>
                  </a:lnTo>
                  <a:lnTo>
                    <a:pt x="4629" y="1655"/>
                  </a:lnTo>
                  <a:lnTo>
                    <a:pt x="4710" y="1609"/>
                  </a:lnTo>
                  <a:lnTo>
                    <a:pt x="4791" y="1566"/>
                  </a:lnTo>
                  <a:lnTo>
                    <a:pt x="4874" y="1522"/>
                  </a:lnTo>
                  <a:lnTo>
                    <a:pt x="4958" y="1482"/>
                  </a:lnTo>
                  <a:lnTo>
                    <a:pt x="5041" y="1440"/>
                  </a:lnTo>
                  <a:lnTo>
                    <a:pt x="5126" y="1399"/>
                  </a:lnTo>
                  <a:lnTo>
                    <a:pt x="5210" y="1361"/>
                  </a:lnTo>
                  <a:lnTo>
                    <a:pt x="5296" y="1323"/>
                  </a:lnTo>
                  <a:lnTo>
                    <a:pt x="5382" y="1285"/>
                  </a:lnTo>
                  <a:lnTo>
                    <a:pt x="5469" y="1248"/>
                  </a:lnTo>
                  <a:lnTo>
                    <a:pt x="5556" y="1215"/>
                  </a:lnTo>
                  <a:lnTo>
                    <a:pt x="5643" y="1180"/>
                  </a:lnTo>
                  <a:lnTo>
                    <a:pt x="5731" y="1148"/>
                  </a:lnTo>
                  <a:lnTo>
                    <a:pt x="5820" y="1115"/>
                  </a:lnTo>
                  <a:lnTo>
                    <a:pt x="5909" y="1085"/>
                  </a:lnTo>
                  <a:lnTo>
                    <a:pt x="5998" y="1055"/>
                  </a:lnTo>
                  <a:lnTo>
                    <a:pt x="6088" y="1026"/>
                  </a:lnTo>
                  <a:lnTo>
                    <a:pt x="6179" y="999"/>
                  </a:lnTo>
                  <a:lnTo>
                    <a:pt x="6270" y="972"/>
                  </a:lnTo>
                  <a:lnTo>
                    <a:pt x="6361" y="947"/>
                  </a:lnTo>
                  <a:lnTo>
                    <a:pt x="6452" y="922"/>
                  </a:lnTo>
                  <a:lnTo>
                    <a:pt x="6544" y="899"/>
                  </a:lnTo>
                  <a:lnTo>
                    <a:pt x="6636" y="877"/>
                  </a:lnTo>
                  <a:lnTo>
                    <a:pt x="6730" y="857"/>
                  </a:lnTo>
                  <a:lnTo>
                    <a:pt x="6823" y="836"/>
                  </a:lnTo>
                  <a:lnTo>
                    <a:pt x="6918" y="817"/>
                  </a:lnTo>
                  <a:lnTo>
                    <a:pt x="7012" y="800"/>
                  </a:lnTo>
                  <a:lnTo>
                    <a:pt x="7107" y="784"/>
                  </a:lnTo>
                  <a:lnTo>
                    <a:pt x="7201" y="769"/>
                  </a:lnTo>
                  <a:lnTo>
                    <a:pt x="7296" y="754"/>
                  </a:lnTo>
                  <a:lnTo>
                    <a:pt x="7393" y="741"/>
                  </a:lnTo>
                  <a:lnTo>
                    <a:pt x="7489" y="730"/>
                  </a:lnTo>
                  <a:lnTo>
                    <a:pt x="7586" y="719"/>
                  </a:lnTo>
                  <a:lnTo>
                    <a:pt x="7682" y="710"/>
                  </a:lnTo>
                  <a:lnTo>
                    <a:pt x="7780" y="702"/>
                  </a:lnTo>
                  <a:lnTo>
                    <a:pt x="7878" y="695"/>
                  </a:lnTo>
                  <a:lnTo>
                    <a:pt x="7974" y="690"/>
                  </a:lnTo>
                  <a:lnTo>
                    <a:pt x="8073" y="684"/>
                  </a:lnTo>
                  <a:lnTo>
                    <a:pt x="8172" y="681"/>
                  </a:lnTo>
                  <a:lnTo>
                    <a:pt x="8272" y="681"/>
                  </a:lnTo>
                  <a:lnTo>
                    <a:pt x="8371" y="680"/>
                  </a:lnTo>
                  <a:lnTo>
                    <a:pt x="8371" y="0"/>
                  </a:lnTo>
                  <a:lnTo>
                    <a:pt x="8263" y="1"/>
                  </a:lnTo>
                  <a:lnTo>
                    <a:pt x="8156" y="4"/>
                  </a:lnTo>
                  <a:lnTo>
                    <a:pt x="8050" y="7"/>
                  </a:lnTo>
                  <a:lnTo>
                    <a:pt x="7943" y="12"/>
                  </a:lnTo>
                  <a:lnTo>
                    <a:pt x="7835" y="18"/>
                  </a:lnTo>
                  <a:lnTo>
                    <a:pt x="7730" y="25"/>
                  </a:lnTo>
                  <a:lnTo>
                    <a:pt x="7624" y="33"/>
                  </a:lnTo>
                  <a:lnTo>
                    <a:pt x="7517" y="44"/>
                  </a:lnTo>
                  <a:lnTo>
                    <a:pt x="7413" y="55"/>
                  </a:lnTo>
                  <a:lnTo>
                    <a:pt x="7308" y="69"/>
                  </a:lnTo>
                  <a:lnTo>
                    <a:pt x="7204" y="83"/>
                  </a:lnTo>
                  <a:lnTo>
                    <a:pt x="7100" y="97"/>
                  </a:lnTo>
                  <a:lnTo>
                    <a:pt x="6995" y="114"/>
                  </a:lnTo>
                  <a:lnTo>
                    <a:pt x="6892" y="131"/>
                  </a:lnTo>
                  <a:lnTo>
                    <a:pt x="6790" y="151"/>
                  </a:lnTo>
                  <a:lnTo>
                    <a:pt x="6688" y="172"/>
                  </a:lnTo>
                  <a:lnTo>
                    <a:pt x="6587" y="193"/>
                  </a:lnTo>
                  <a:lnTo>
                    <a:pt x="6485" y="216"/>
                  </a:lnTo>
                  <a:lnTo>
                    <a:pt x="6384" y="241"/>
                  </a:lnTo>
                  <a:lnTo>
                    <a:pt x="6285" y="266"/>
                  </a:lnTo>
                  <a:lnTo>
                    <a:pt x="6183" y="291"/>
                  </a:lnTo>
                  <a:lnTo>
                    <a:pt x="6084" y="319"/>
                  </a:lnTo>
                  <a:lnTo>
                    <a:pt x="5984" y="348"/>
                  </a:lnTo>
                  <a:lnTo>
                    <a:pt x="5886" y="378"/>
                  </a:lnTo>
                  <a:lnTo>
                    <a:pt x="5789" y="409"/>
                  </a:lnTo>
                  <a:lnTo>
                    <a:pt x="5691" y="442"/>
                  </a:lnTo>
                  <a:lnTo>
                    <a:pt x="5594" y="475"/>
                  </a:lnTo>
                  <a:lnTo>
                    <a:pt x="5498" y="510"/>
                  </a:lnTo>
                  <a:lnTo>
                    <a:pt x="5401" y="546"/>
                  </a:lnTo>
                  <a:lnTo>
                    <a:pt x="5306" y="583"/>
                  </a:lnTo>
                  <a:lnTo>
                    <a:pt x="5211" y="622"/>
                  </a:lnTo>
                  <a:lnTo>
                    <a:pt x="5119" y="661"/>
                  </a:lnTo>
                  <a:lnTo>
                    <a:pt x="5025" y="701"/>
                  </a:lnTo>
                  <a:lnTo>
                    <a:pt x="4932" y="742"/>
                  </a:lnTo>
                  <a:lnTo>
                    <a:pt x="4838" y="786"/>
                  </a:lnTo>
                  <a:lnTo>
                    <a:pt x="4747" y="829"/>
                  </a:lnTo>
                  <a:lnTo>
                    <a:pt x="4655" y="873"/>
                  </a:lnTo>
                  <a:lnTo>
                    <a:pt x="4566" y="920"/>
                  </a:lnTo>
                  <a:lnTo>
                    <a:pt x="4475" y="966"/>
                  </a:lnTo>
                  <a:lnTo>
                    <a:pt x="4386" y="1014"/>
                  </a:lnTo>
                  <a:lnTo>
                    <a:pt x="4297" y="1063"/>
                  </a:lnTo>
                  <a:lnTo>
                    <a:pt x="4210" y="1113"/>
                  </a:lnTo>
                  <a:lnTo>
                    <a:pt x="4123" y="1164"/>
                  </a:lnTo>
                  <a:lnTo>
                    <a:pt x="4035" y="1216"/>
                  </a:lnTo>
                  <a:lnTo>
                    <a:pt x="3950" y="1268"/>
                  </a:lnTo>
                  <a:lnTo>
                    <a:pt x="3864" y="1323"/>
                  </a:lnTo>
                  <a:lnTo>
                    <a:pt x="3781" y="1378"/>
                  </a:lnTo>
                  <a:lnTo>
                    <a:pt x="3696" y="1434"/>
                  </a:lnTo>
                  <a:lnTo>
                    <a:pt x="3613" y="1491"/>
                  </a:lnTo>
                  <a:lnTo>
                    <a:pt x="3530" y="1549"/>
                  </a:lnTo>
                  <a:lnTo>
                    <a:pt x="3450" y="1608"/>
                  </a:lnTo>
                  <a:lnTo>
                    <a:pt x="3368" y="1668"/>
                  </a:lnTo>
                  <a:lnTo>
                    <a:pt x="3288" y="1728"/>
                  </a:lnTo>
                  <a:lnTo>
                    <a:pt x="3208" y="1790"/>
                  </a:lnTo>
                  <a:lnTo>
                    <a:pt x="3130" y="1853"/>
                  </a:lnTo>
                  <a:lnTo>
                    <a:pt x="3051" y="1916"/>
                  </a:lnTo>
                  <a:lnTo>
                    <a:pt x="2974" y="1981"/>
                  </a:lnTo>
                  <a:lnTo>
                    <a:pt x="2898" y="2047"/>
                  </a:lnTo>
                  <a:lnTo>
                    <a:pt x="2822" y="2113"/>
                  </a:lnTo>
                  <a:lnTo>
                    <a:pt x="2748" y="2180"/>
                  </a:lnTo>
                  <a:lnTo>
                    <a:pt x="2673" y="2248"/>
                  </a:lnTo>
                  <a:lnTo>
                    <a:pt x="2601" y="2317"/>
                  </a:lnTo>
                  <a:lnTo>
                    <a:pt x="2529" y="2386"/>
                  </a:lnTo>
                  <a:lnTo>
                    <a:pt x="2457" y="2457"/>
                  </a:lnTo>
                  <a:lnTo>
                    <a:pt x="2386" y="2529"/>
                  </a:lnTo>
                  <a:lnTo>
                    <a:pt x="2317" y="2601"/>
                  </a:lnTo>
                  <a:lnTo>
                    <a:pt x="2248" y="2675"/>
                  </a:lnTo>
                  <a:lnTo>
                    <a:pt x="2180" y="2748"/>
                  </a:lnTo>
                  <a:lnTo>
                    <a:pt x="2113" y="2823"/>
                  </a:lnTo>
                  <a:lnTo>
                    <a:pt x="2046" y="2898"/>
                  </a:lnTo>
                  <a:lnTo>
                    <a:pt x="1981" y="2975"/>
                  </a:lnTo>
                  <a:lnTo>
                    <a:pt x="1916" y="3051"/>
                  </a:lnTo>
                  <a:lnTo>
                    <a:pt x="1852" y="3130"/>
                  </a:lnTo>
                  <a:lnTo>
                    <a:pt x="1789" y="3208"/>
                  </a:lnTo>
                  <a:lnTo>
                    <a:pt x="1728" y="3289"/>
                  </a:lnTo>
                  <a:lnTo>
                    <a:pt x="1668" y="3368"/>
                  </a:lnTo>
                  <a:lnTo>
                    <a:pt x="1608" y="3450"/>
                  </a:lnTo>
                  <a:lnTo>
                    <a:pt x="1549" y="3530"/>
                  </a:lnTo>
                  <a:lnTo>
                    <a:pt x="1490" y="3614"/>
                  </a:lnTo>
                  <a:lnTo>
                    <a:pt x="1434" y="3696"/>
                  </a:lnTo>
                  <a:lnTo>
                    <a:pt x="1378" y="3781"/>
                  </a:lnTo>
                  <a:lnTo>
                    <a:pt x="1323" y="3864"/>
                  </a:lnTo>
                  <a:lnTo>
                    <a:pt x="1268" y="3950"/>
                  </a:lnTo>
                  <a:lnTo>
                    <a:pt x="1216" y="4036"/>
                  </a:lnTo>
                  <a:lnTo>
                    <a:pt x="1164" y="4123"/>
                  </a:lnTo>
                  <a:lnTo>
                    <a:pt x="1113" y="4211"/>
                  </a:lnTo>
                  <a:lnTo>
                    <a:pt x="1062" y="4297"/>
                  </a:lnTo>
                  <a:lnTo>
                    <a:pt x="1014" y="4386"/>
                  </a:lnTo>
                  <a:lnTo>
                    <a:pt x="966" y="4476"/>
                  </a:lnTo>
                  <a:lnTo>
                    <a:pt x="919" y="4566"/>
                  </a:lnTo>
                  <a:lnTo>
                    <a:pt x="873" y="4656"/>
                  </a:lnTo>
                  <a:lnTo>
                    <a:pt x="829" y="4747"/>
                  </a:lnTo>
                  <a:lnTo>
                    <a:pt x="785" y="4839"/>
                  </a:lnTo>
                  <a:lnTo>
                    <a:pt x="742" y="4932"/>
                  </a:lnTo>
                  <a:lnTo>
                    <a:pt x="701" y="5025"/>
                  </a:lnTo>
                  <a:lnTo>
                    <a:pt x="660" y="5119"/>
                  </a:lnTo>
                  <a:lnTo>
                    <a:pt x="622" y="5212"/>
                  </a:lnTo>
                  <a:lnTo>
                    <a:pt x="583" y="5306"/>
                  </a:lnTo>
                  <a:lnTo>
                    <a:pt x="545" y="5402"/>
                  </a:lnTo>
                  <a:lnTo>
                    <a:pt x="510" y="5498"/>
                  </a:lnTo>
                  <a:lnTo>
                    <a:pt x="475" y="5594"/>
                  </a:lnTo>
                  <a:lnTo>
                    <a:pt x="442" y="5691"/>
                  </a:lnTo>
                  <a:lnTo>
                    <a:pt x="409" y="5789"/>
                  </a:lnTo>
                  <a:lnTo>
                    <a:pt x="378" y="5887"/>
                  </a:lnTo>
                  <a:lnTo>
                    <a:pt x="347" y="5985"/>
                  </a:lnTo>
                  <a:lnTo>
                    <a:pt x="319" y="6084"/>
                  </a:lnTo>
                  <a:lnTo>
                    <a:pt x="291" y="6183"/>
                  </a:lnTo>
                  <a:lnTo>
                    <a:pt x="266" y="6285"/>
                  </a:lnTo>
                  <a:lnTo>
                    <a:pt x="240" y="6385"/>
                  </a:lnTo>
                  <a:lnTo>
                    <a:pt x="216" y="6485"/>
                  </a:lnTo>
                  <a:lnTo>
                    <a:pt x="193" y="6587"/>
                  </a:lnTo>
                  <a:lnTo>
                    <a:pt x="172" y="6688"/>
                  </a:lnTo>
                  <a:lnTo>
                    <a:pt x="151" y="6791"/>
                  </a:lnTo>
                  <a:lnTo>
                    <a:pt x="132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2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2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80" y="83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9800" y="6070680"/>
              <a:ext cx="604800" cy="6030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8371" y="7691"/>
                  </a:moveTo>
                  <a:lnTo>
                    <a:pt x="8371" y="7691"/>
                  </a:lnTo>
                  <a:lnTo>
                    <a:pt x="8272" y="7691"/>
                  </a:lnTo>
                  <a:lnTo>
                    <a:pt x="8172" y="7690"/>
                  </a:lnTo>
                  <a:lnTo>
                    <a:pt x="8073" y="7687"/>
                  </a:lnTo>
                  <a:lnTo>
                    <a:pt x="7974" y="7681"/>
                  </a:lnTo>
                  <a:lnTo>
                    <a:pt x="7878" y="7676"/>
                  </a:lnTo>
                  <a:lnTo>
                    <a:pt x="7780" y="7669"/>
                  </a:lnTo>
                  <a:lnTo>
                    <a:pt x="7682" y="7661"/>
                  </a:lnTo>
                  <a:lnTo>
                    <a:pt x="7585" y="7652"/>
                  </a:lnTo>
                  <a:lnTo>
                    <a:pt x="7489" y="7642"/>
                  </a:lnTo>
                  <a:lnTo>
                    <a:pt x="7393" y="7630"/>
                  </a:lnTo>
                  <a:lnTo>
                    <a:pt x="7296" y="7617"/>
                  </a:lnTo>
                  <a:lnTo>
                    <a:pt x="7201" y="7602"/>
                  </a:lnTo>
                  <a:lnTo>
                    <a:pt x="7106" y="7588"/>
                  </a:lnTo>
                  <a:lnTo>
                    <a:pt x="7012" y="7572"/>
                  </a:lnTo>
                  <a:lnTo>
                    <a:pt x="6918" y="7554"/>
                  </a:lnTo>
                  <a:lnTo>
                    <a:pt x="6823" y="7535"/>
                  </a:lnTo>
                  <a:lnTo>
                    <a:pt x="6730" y="7515"/>
                  </a:lnTo>
                  <a:lnTo>
                    <a:pt x="6636" y="7494"/>
                  </a:lnTo>
                  <a:lnTo>
                    <a:pt x="6544" y="7472"/>
                  </a:lnTo>
                  <a:lnTo>
                    <a:pt x="6452" y="7449"/>
                  </a:lnTo>
                  <a:lnTo>
                    <a:pt x="6361" y="7424"/>
                  </a:lnTo>
                  <a:lnTo>
                    <a:pt x="6270" y="7399"/>
                  </a:lnTo>
                  <a:lnTo>
                    <a:pt x="6179" y="7373"/>
                  </a:lnTo>
                  <a:lnTo>
                    <a:pt x="6088" y="7345"/>
                  </a:lnTo>
                  <a:lnTo>
                    <a:pt x="5998" y="7316"/>
                  </a:lnTo>
                  <a:lnTo>
                    <a:pt x="5909" y="7287"/>
                  </a:lnTo>
                  <a:lnTo>
                    <a:pt x="5820" y="7256"/>
                  </a:lnTo>
                  <a:lnTo>
                    <a:pt x="5731" y="7224"/>
                  </a:lnTo>
                  <a:lnTo>
                    <a:pt x="5643" y="7191"/>
                  </a:lnTo>
                  <a:lnTo>
                    <a:pt x="5556" y="7156"/>
                  </a:lnTo>
                  <a:lnTo>
                    <a:pt x="5469" y="7123"/>
                  </a:lnTo>
                  <a:lnTo>
                    <a:pt x="5382" y="7086"/>
                  </a:lnTo>
                  <a:lnTo>
                    <a:pt x="5296" y="7048"/>
                  </a:lnTo>
                  <a:lnTo>
                    <a:pt x="5210" y="7011"/>
                  </a:lnTo>
                  <a:lnTo>
                    <a:pt x="5126" y="6972"/>
                  </a:lnTo>
                  <a:lnTo>
                    <a:pt x="5041" y="6932"/>
                  </a:lnTo>
                  <a:lnTo>
                    <a:pt x="4958" y="6890"/>
                  </a:lnTo>
                  <a:lnTo>
                    <a:pt x="4875" y="6849"/>
                  </a:lnTo>
                  <a:lnTo>
                    <a:pt x="4791" y="6806"/>
                  </a:lnTo>
                  <a:lnTo>
                    <a:pt x="4710" y="6762"/>
                  </a:lnTo>
                  <a:lnTo>
                    <a:pt x="4629" y="6717"/>
                  </a:lnTo>
                  <a:lnTo>
                    <a:pt x="4548" y="6671"/>
                  </a:lnTo>
                  <a:lnTo>
                    <a:pt x="4468" y="6624"/>
                  </a:lnTo>
                  <a:lnTo>
                    <a:pt x="4388" y="6576"/>
                  </a:lnTo>
                  <a:lnTo>
                    <a:pt x="4309" y="6526"/>
                  </a:lnTo>
                  <a:lnTo>
                    <a:pt x="4230" y="6477"/>
                  </a:lnTo>
                  <a:lnTo>
                    <a:pt x="4154" y="6427"/>
                  </a:lnTo>
                  <a:lnTo>
                    <a:pt x="4076" y="6375"/>
                  </a:lnTo>
                  <a:lnTo>
                    <a:pt x="3998" y="6323"/>
                  </a:lnTo>
                  <a:lnTo>
                    <a:pt x="3924" y="6270"/>
                  </a:lnTo>
                  <a:lnTo>
                    <a:pt x="3848" y="6217"/>
                  </a:lnTo>
                  <a:lnTo>
                    <a:pt x="3774" y="6161"/>
                  </a:lnTo>
                  <a:lnTo>
                    <a:pt x="3700" y="6105"/>
                  </a:lnTo>
                  <a:lnTo>
                    <a:pt x="3628" y="6048"/>
                  </a:lnTo>
                  <a:lnTo>
                    <a:pt x="3555" y="5990"/>
                  </a:lnTo>
                  <a:lnTo>
                    <a:pt x="3484" y="5932"/>
                  </a:lnTo>
                  <a:lnTo>
                    <a:pt x="3412" y="5872"/>
                  </a:lnTo>
                  <a:lnTo>
                    <a:pt x="3342" y="5813"/>
                  </a:lnTo>
                  <a:lnTo>
                    <a:pt x="3273" y="5752"/>
                  </a:lnTo>
                  <a:lnTo>
                    <a:pt x="3204" y="5689"/>
                  </a:lnTo>
                  <a:lnTo>
                    <a:pt x="3136" y="5627"/>
                  </a:lnTo>
                  <a:lnTo>
                    <a:pt x="3068" y="5564"/>
                  </a:lnTo>
                  <a:lnTo>
                    <a:pt x="3002" y="5499"/>
                  </a:lnTo>
                  <a:lnTo>
                    <a:pt x="2937" y="5434"/>
                  </a:lnTo>
                  <a:lnTo>
                    <a:pt x="2872" y="5369"/>
                  </a:lnTo>
                  <a:lnTo>
                    <a:pt x="2807" y="5303"/>
                  </a:lnTo>
                  <a:lnTo>
                    <a:pt x="2744" y="5235"/>
                  </a:lnTo>
                  <a:lnTo>
                    <a:pt x="2682" y="5167"/>
                  </a:lnTo>
                  <a:lnTo>
                    <a:pt x="2619" y="5098"/>
                  </a:lnTo>
                  <a:lnTo>
                    <a:pt x="2558" y="5029"/>
                  </a:lnTo>
                  <a:lnTo>
                    <a:pt x="2499" y="4959"/>
                  </a:lnTo>
                  <a:lnTo>
                    <a:pt x="2439" y="4887"/>
                  </a:lnTo>
                  <a:lnTo>
                    <a:pt x="2381" y="4816"/>
                  </a:lnTo>
                  <a:lnTo>
                    <a:pt x="2323" y="4743"/>
                  </a:lnTo>
                  <a:lnTo>
                    <a:pt x="2266" y="4671"/>
                  </a:lnTo>
                  <a:lnTo>
                    <a:pt x="2210" y="4597"/>
                  </a:lnTo>
                  <a:lnTo>
                    <a:pt x="2154" y="4523"/>
                  </a:lnTo>
                  <a:lnTo>
                    <a:pt x="2101" y="4447"/>
                  </a:lnTo>
                  <a:lnTo>
                    <a:pt x="2048" y="4373"/>
                  </a:lnTo>
                  <a:lnTo>
                    <a:pt x="1996" y="4295"/>
                  </a:lnTo>
                  <a:lnTo>
                    <a:pt x="1944" y="4217"/>
                  </a:lnTo>
                  <a:lnTo>
                    <a:pt x="1894" y="4141"/>
                  </a:lnTo>
                  <a:lnTo>
                    <a:pt x="1845" y="4062"/>
                  </a:lnTo>
                  <a:lnTo>
                    <a:pt x="1795" y="3983"/>
                  </a:lnTo>
                  <a:lnTo>
                    <a:pt x="1747" y="3903"/>
                  </a:lnTo>
                  <a:lnTo>
                    <a:pt x="1700" y="3823"/>
                  </a:lnTo>
                  <a:lnTo>
                    <a:pt x="1654" y="3742"/>
                  </a:lnTo>
                  <a:lnTo>
                    <a:pt x="1609" y="3661"/>
                  </a:lnTo>
                  <a:lnTo>
                    <a:pt x="1565" y="3580"/>
                  </a:lnTo>
                  <a:lnTo>
                    <a:pt x="1522" y="3496"/>
                  </a:lnTo>
                  <a:lnTo>
                    <a:pt x="1481" y="3413"/>
                  </a:lnTo>
                  <a:lnTo>
                    <a:pt x="1439" y="3330"/>
                  </a:lnTo>
                  <a:lnTo>
                    <a:pt x="1399" y="3245"/>
                  </a:lnTo>
                  <a:lnTo>
                    <a:pt x="1360" y="3161"/>
                  </a:lnTo>
                  <a:lnTo>
                    <a:pt x="1323" y="3075"/>
                  </a:lnTo>
                  <a:lnTo>
                    <a:pt x="1285" y="2989"/>
                  </a:lnTo>
                  <a:lnTo>
                    <a:pt x="1248" y="2902"/>
                  </a:lnTo>
                  <a:lnTo>
                    <a:pt x="1215" y="2815"/>
                  </a:lnTo>
                  <a:lnTo>
                    <a:pt x="1180" y="2728"/>
                  </a:lnTo>
                  <a:lnTo>
                    <a:pt x="1147" y="2640"/>
                  </a:lnTo>
                  <a:lnTo>
                    <a:pt x="1115" y="2551"/>
                  </a:lnTo>
                  <a:lnTo>
                    <a:pt x="1084" y="2462"/>
                  </a:lnTo>
                  <a:lnTo>
                    <a:pt x="1055" y="2373"/>
                  </a:lnTo>
                  <a:lnTo>
                    <a:pt x="1026" y="2283"/>
                  </a:lnTo>
                  <a:lnTo>
                    <a:pt x="998" y="2192"/>
                  </a:lnTo>
                  <a:lnTo>
                    <a:pt x="972" y="2101"/>
                  </a:lnTo>
                  <a:lnTo>
                    <a:pt x="947" y="2010"/>
                  </a:lnTo>
                  <a:lnTo>
                    <a:pt x="922" y="1919"/>
                  </a:lnTo>
                  <a:lnTo>
                    <a:pt x="899" y="1827"/>
                  </a:lnTo>
                  <a:lnTo>
                    <a:pt x="877" y="1735"/>
                  </a:lnTo>
                  <a:lnTo>
                    <a:pt x="856" y="1641"/>
                  </a:lnTo>
                  <a:lnTo>
                    <a:pt x="836" y="1548"/>
                  </a:lnTo>
                  <a:lnTo>
                    <a:pt x="817" y="1453"/>
                  </a:lnTo>
                  <a:lnTo>
                    <a:pt x="799" y="1359"/>
                  </a:lnTo>
                  <a:lnTo>
                    <a:pt x="783" y="1265"/>
                  </a:lnTo>
                  <a:lnTo>
                    <a:pt x="769" y="1170"/>
                  </a:lnTo>
                  <a:lnTo>
                    <a:pt x="754" y="1075"/>
                  </a:lnTo>
                  <a:lnTo>
                    <a:pt x="741" y="978"/>
                  </a:lnTo>
                  <a:lnTo>
                    <a:pt x="729" y="882"/>
                  </a:lnTo>
                  <a:lnTo>
                    <a:pt x="719" y="786"/>
                  </a:lnTo>
                  <a:lnTo>
                    <a:pt x="710" y="689"/>
                  </a:lnTo>
                  <a:lnTo>
                    <a:pt x="702" y="591"/>
                  </a:lnTo>
                  <a:lnTo>
                    <a:pt x="695" y="493"/>
                  </a:lnTo>
                  <a:lnTo>
                    <a:pt x="690" y="397"/>
                  </a:lnTo>
                  <a:lnTo>
                    <a:pt x="684" y="298"/>
                  </a:lnTo>
                  <a:lnTo>
                    <a:pt x="681" y="199"/>
                  </a:lnTo>
                  <a:lnTo>
                    <a:pt x="680" y="99"/>
                  </a:lnTo>
                  <a:lnTo>
                    <a:pt x="680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2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2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2" y="1479"/>
                  </a:lnTo>
                  <a:lnTo>
                    <a:pt x="151" y="1581"/>
                  </a:lnTo>
                  <a:lnTo>
                    <a:pt x="172" y="1683"/>
                  </a:lnTo>
                  <a:lnTo>
                    <a:pt x="193" y="1784"/>
                  </a:lnTo>
                  <a:lnTo>
                    <a:pt x="216" y="1886"/>
                  </a:lnTo>
                  <a:lnTo>
                    <a:pt x="240" y="1987"/>
                  </a:lnTo>
                  <a:lnTo>
                    <a:pt x="266" y="2086"/>
                  </a:lnTo>
                  <a:lnTo>
                    <a:pt x="291" y="2188"/>
                  </a:lnTo>
                  <a:lnTo>
                    <a:pt x="319" y="2287"/>
                  </a:lnTo>
                  <a:lnTo>
                    <a:pt x="347" y="2387"/>
                  </a:lnTo>
                  <a:lnTo>
                    <a:pt x="378" y="2485"/>
                  </a:lnTo>
                  <a:lnTo>
                    <a:pt x="409" y="2582"/>
                  </a:lnTo>
                  <a:lnTo>
                    <a:pt x="442" y="2680"/>
                  </a:lnTo>
                  <a:lnTo>
                    <a:pt x="475" y="2777"/>
                  </a:lnTo>
                  <a:lnTo>
                    <a:pt x="510" y="2873"/>
                  </a:lnTo>
                  <a:lnTo>
                    <a:pt x="545" y="2970"/>
                  </a:lnTo>
                  <a:lnTo>
                    <a:pt x="583" y="3065"/>
                  </a:lnTo>
                  <a:lnTo>
                    <a:pt x="622" y="3160"/>
                  </a:lnTo>
                  <a:lnTo>
                    <a:pt x="660" y="3252"/>
                  </a:lnTo>
                  <a:lnTo>
                    <a:pt x="701" y="3346"/>
                  </a:lnTo>
                  <a:lnTo>
                    <a:pt x="742" y="3439"/>
                  </a:lnTo>
                  <a:lnTo>
                    <a:pt x="785" y="3533"/>
                  </a:lnTo>
                  <a:lnTo>
                    <a:pt x="829" y="3624"/>
                  </a:lnTo>
                  <a:lnTo>
                    <a:pt x="873" y="3716"/>
                  </a:lnTo>
                  <a:lnTo>
                    <a:pt x="919" y="3807"/>
                  </a:lnTo>
                  <a:lnTo>
                    <a:pt x="966" y="3896"/>
                  </a:lnTo>
                  <a:lnTo>
                    <a:pt x="1014" y="3985"/>
                  </a:lnTo>
                  <a:lnTo>
                    <a:pt x="1062" y="4074"/>
                  </a:lnTo>
                  <a:lnTo>
                    <a:pt x="1113" y="4161"/>
                  </a:lnTo>
                  <a:lnTo>
                    <a:pt x="1164" y="4248"/>
                  </a:lnTo>
                  <a:lnTo>
                    <a:pt x="1216" y="4336"/>
                  </a:lnTo>
                  <a:lnTo>
                    <a:pt x="1268" y="4421"/>
                  </a:lnTo>
                  <a:lnTo>
                    <a:pt x="1323" y="4507"/>
                  </a:lnTo>
                  <a:lnTo>
                    <a:pt x="1378" y="4591"/>
                  </a:lnTo>
                  <a:lnTo>
                    <a:pt x="1434" y="4675"/>
                  </a:lnTo>
                  <a:lnTo>
                    <a:pt x="1490" y="4758"/>
                  </a:lnTo>
                  <a:lnTo>
                    <a:pt x="1549" y="4841"/>
                  </a:lnTo>
                  <a:lnTo>
                    <a:pt x="1608" y="4921"/>
                  </a:lnTo>
                  <a:lnTo>
                    <a:pt x="1668" y="5003"/>
                  </a:lnTo>
                  <a:lnTo>
                    <a:pt x="1728" y="5083"/>
                  </a:lnTo>
                  <a:lnTo>
                    <a:pt x="1789" y="5163"/>
                  </a:lnTo>
                  <a:lnTo>
                    <a:pt x="1852" y="5241"/>
                  </a:lnTo>
                  <a:lnTo>
                    <a:pt x="1916" y="5320"/>
                  </a:lnTo>
                  <a:lnTo>
                    <a:pt x="1981" y="5397"/>
                  </a:lnTo>
                  <a:lnTo>
                    <a:pt x="2046" y="5473"/>
                  </a:lnTo>
                  <a:lnTo>
                    <a:pt x="2113" y="5549"/>
                  </a:lnTo>
                  <a:lnTo>
                    <a:pt x="2180" y="5623"/>
                  </a:lnTo>
                  <a:lnTo>
                    <a:pt x="2248" y="5698"/>
                  </a:lnTo>
                  <a:lnTo>
                    <a:pt x="2317" y="5770"/>
                  </a:lnTo>
                  <a:lnTo>
                    <a:pt x="2386" y="5842"/>
                  </a:lnTo>
                  <a:lnTo>
                    <a:pt x="2457" y="5914"/>
                  </a:lnTo>
                  <a:lnTo>
                    <a:pt x="2529" y="5985"/>
                  </a:lnTo>
                  <a:lnTo>
                    <a:pt x="2601" y="6054"/>
                  </a:lnTo>
                  <a:lnTo>
                    <a:pt x="2673" y="6123"/>
                  </a:lnTo>
                  <a:lnTo>
                    <a:pt x="2748" y="6191"/>
                  </a:lnTo>
                  <a:lnTo>
                    <a:pt x="2822" y="6258"/>
                  </a:lnTo>
                  <a:lnTo>
                    <a:pt x="2898" y="6325"/>
                  </a:lnTo>
                  <a:lnTo>
                    <a:pt x="2974" y="6390"/>
                  </a:lnTo>
                  <a:lnTo>
                    <a:pt x="3051" y="6455"/>
                  </a:lnTo>
                  <a:lnTo>
                    <a:pt x="3130" y="6519"/>
                  </a:lnTo>
                  <a:lnTo>
                    <a:pt x="3208" y="6582"/>
                  </a:lnTo>
                  <a:lnTo>
                    <a:pt x="3288" y="6643"/>
                  </a:lnTo>
                  <a:lnTo>
                    <a:pt x="3368" y="6703"/>
                  </a:lnTo>
                  <a:lnTo>
                    <a:pt x="3450" y="6763"/>
                  </a:lnTo>
                  <a:lnTo>
                    <a:pt x="3530" y="6822"/>
                  </a:lnTo>
                  <a:lnTo>
                    <a:pt x="3613" y="6881"/>
                  </a:lnTo>
                  <a:lnTo>
                    <a:pt x="3696" y="6937"/>
                  </a:lnTo>
                  <a:lnTo>
                    <a:pt x="3780" y="6993"/>
                  </a:lnTo>
                  <a:lnTo>
                    <a:pt x="3864" y="7048"/>
                  </a:lnTo>
                  <a:lnTo>
                    <a:pt x="3950" y="7103"/>
                  </a:lnTo>
                  <a:lnTo>
                    <a:pt x="4035" y="7155"/>
                  </a:lnTo>
                  <a:lnTo>
                    <a:pt x="4123" y="7207"/>
                  </a:lnTo>
                  <a:lnTo>
                    <a:pt x="4210" y="7258"/>
                  </a:lnTo>
                  <a:lnTo>
                    <a:pt x="4297" y="7309"/>
                  </a:lnTo>
                  <a:lnTo>
                    <a:pt x="4386" y="7357"/>
                  </a:lnTo>
                  <a:lnTo>
                    <a:pt x="4475" y="7405"/>
                  </a:lnTo>
                  <a:lnTo>
                    <a:pt x="4564" y="7452"/>
                  </a:lnTo>
                  <a:lnTo>
                    <a:pt x="4655" y="7498"/>
                  </a:lnTo>
                  <a:lnTo>
                    <a:pt x="4747" y="7542"/>
                  </a:lnTo>
                  <a:lnTo>
                    <a:pt x="4838" y="7586"/>
                  </a:lnTo>
                  <a:lnTo>
                    <a:pt x="4932" y="7629"/>
                  </a:lnTo>
                  <a:lnTo>
                    <a:pt x="5025" y="7670"/>
                  </a:lnTo>
                  <a:lnTo>
                    <a:pt x="5119" y="7711"/>
                  </a:lnTo>
                  <a:lnTo>
                    <a:pt x="5211" y="7749"/>
                  </a:lnTo>
                  <a:lnTo>
                    <a:pt x="5306" y="7788"/>
                  </a:lnTo>
                  <a:lnTo>
                    <a:pt x="5401" y="7826"/>
                  </a:lnTo>
                  <a:lnTo>
                    <a:pt x="5498" y="7861"/>
                  </a:lnTo>
                  <a:lnTo>
                    <a:pt x="5594" y="7896"/>
                  </a:lnTo>
                  <a:lnTo>
                    <a:pt x="5691" y="7929"/>
                  </a:lnTo>
                  <a:lnTo>
                    <a:pt x="5789" y="7962"/>
                  </a:lnTo>
                  <a:lnTo>
                    <a:pt x="5886" y="7993"/>
                  </a:lnTo>
                  <a:lnTo>
                    <a:pt x="5984" y="8024"/>
                  </a:lnTo>
                  <a:lnTo>
                    <a:pt x="6084" y="8052"/>
                  </a:lnTo>
                  <a:lnTo>
                    <a:pt x="6183" y="8080"/>
                  </a:lnTo>
                  <a:lnTo>
                    <a:pt x="6285" y="8105"/>
                  </a:lnTo>
                  <a:lnTo>
                    <a:pt x="6384" y="8131"/>
                  </a:lnTo>
                  <a:lnTo>
                    <a:pt x="6485" y="8155"/>
                  </a:lnTo>
                  <a:lnTo>
                    <a:pt x="6587" y="8178"/>
                  </a:lnTo>
                  <a:lnTo>
                    <a:pt x="6688" y="8199"/>
                  </a:lnTo>
                  <a:lnTo>
                    <a:pt x="6790" y="8220"/>
                  </a:lnTo>
                  <a:lnTo>
                    <a:pt x="6892" y="8239"/>
                  </a:lnTo>
                  <a:lnTo>
                    <a:pt x="6997" y="8257"/>
                  </a:lnTo>
                  <a:lnTo>
                    <a:pt x="7100" y="8275"/>
                  </a:lnTo>
                  <a:lnTo>
                    <a:pt x="7204" y="8289"/>
                  </a:lnTo>
                  <a:lnTo>
                    <a:pt x="7308" y="8302"/>
                  </a:lnTo>
                  <a:lnTo>
                    <a:pt x="7413" y="8316"/>
                  </a:lnTo>
                  <a:lnTo>
                    <a:pt x="7518" y="8327"/>
                  </a:lnTo>
                  <a:lnTo>
                    <a:pt x="7624" y="8338"/>
                  </a:lnTo>
                  <a:lnTo>
                    <a:pt x="7730" y="8346"/>
                  </a:lnTo>
                  <a:lnTo>
                    <a:pt x="7835" y="8353"/>
                  </a:lnTo>
                  <a:lnTo>
                    <a:pt x="7943" y="8359"/>
                  </a:lnTo>
                  <a:lnTo>
                    <a:pt x="8050" y="8364"/>
                  </a:lnTo>
                  <a:lnTo>
                    <a:pt x="8156" y="8367"/>
                  </a:lnTo>
                  <a:lnTo>
                    <a:pt x="8263" y="8370"/>
                  </a:lnTo>
                  <a:lnTo>
                    <a:pt x="8371" y="8371"/>
                  </a:lnTo>
                  <a:lnTo>
                    <a:pt x="8371" y="8371"/>
                  </a:lnTo>
                  <a:lnTo>
                    <a:pt x="8371" y="769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14600" y="6070680"/>
              <a:ext cx="603360" cy="60300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7691" y="0"/>
                  </a:moveTo>
                  <a:lnTo>
                    <a:pt x="7691" y="0"/>
                  </a:lnTo>
                  <a:lnTo>
                    <a:pt x="7690" y="99"/>
                  </a:lnTo>
                  <a:lnTo>
                    <a:pt x="7690" y="199"/>
                  </a:lnTo>
                  <a:lnTo>
                    <a:pt x="7687" y="298"/>
                  </a:lnTo>
                  <a:lnTo>
                    <a:pt x="7681" y="397"/>
                  </a:lnTo>
                  <a:lnTo>
                    <a:pt x="7676" y="493"/>
                  </a:lnTo>
                  <a:lnTo>
                    <a:pt x="7669" y="591"/>
                  </a:lnTo>
                  <a:lnTo>
                    <a:pt x="7661" y="689"/>
                  </a:lnTo>
                  <a:lnTo>
                    <a:pt x="7652" y="785"/>
                  </a:lnTo>
                  <a:lnTo>
                    <a:pt x="7641" y="882"/>
                  </a:lnTo>
                  <a:lnTo>
                    <a:pt x="7630" y="978"/>
                  </a:lnTo>
                  <a:lnTo>
                    <a:pt x="7617" y="1075"/>
                  </a:lnTo>
                  <a:lnTo>
                    <a:pt x="7602" y="1170"/>
                  </a:lnTo>
                  <a:lnTo>
                    <a:pt x="7587" y="1264"/>
                  </a:lnTo>
                  <a:lnTo>
                    <a:pt x="7571" y="1359"/>
                  </a:lnTo>
                  <a:lnTo>
                    <a:pt x="7554" y="1453"/>
                  </a:lnTo>
                  <a:lnTo>
                    <a:pt x="7535" y="1548"/>
                  </a:lnTo>
                  <a:lnTo>
                    <a:pt x="7514" y="1641"/>
                  </a:lnTo>
                  <a:lnTo>
                    <a:pt x="7494" y="1735"/>
                  </a:lnTo>
                  <a:lnTo>
                    <a:pt x="7472" y="1827"/>
                  </a:lnTo>
                  <a:lnTo>
                    <a:pt x="7449" y="1919"/>
                  </a:lnTo>
                  <a:lnTo>
                    <a:pt x="7424" y="2010"/>
                  </a:lnTo>
                  <a:lnTo>
                    <a:pt x="7399" y="2101"/>
                  </a:lnTo>
                  <a:lnTo>
                    <a:pt x="7372" y="2192"/>
                  </a:lnTo>
                  <a:lnTo>
                    <a:pt x="7345" y="2283"/>
                  </a:lnTo>
                  <a:lnTo>
                    <a:pt x="7316" y="2373"/>
                  </a:lnTo>
                  <a:lnTo>
                    <a:pt x="7286" y="2462"/>
                  </a:lnTo>
                  <a:lnTo>
                    <a:pt x="7256" y="2551"/>
                  </a:lnTo>
                  <a:lnTo>
                    <a:pt x="7223" y="2640"/>
                  </a:lnTo>
                  <a:lnTo>
                    <a:pt x="7191" y="2728"/>
                  </a:lnTo>
                  <a:lnTo>
                    <a:pt x="7156" y="2815"/>
                  </a:lnTo>
                  <a:lnTo>
                    <a:pt x="7123" y="2902"/>
                  </a:lnTo>
                  <a:lnTo>
                    <a:pt x="7086" y="2989"/>
                  </a:lnTo>
                  <a:lnTo>
                    <a:pt x="7048" y="3075"/>
                  </a:lnTo>
                  <a:lnTo>
                    <a:pt x="7010" y="3161"/>
                  </a:lnTo>
                  <a:lnTo>
                    <a:pt x="6972" y="3245"/>
                  </a:lnTo>
                  <a:lnTo>
                    <a:pt x="6931" y="3330"/>
                  </a:lnTo>
                  <a:lnTo>
                    <a:pt x="6889" y="3413"/>
                  </a:lnTo>
                  <a:lnTo>
                    <a:pt x="6849" y="3497"/>
                  </a:lnTo>
                  <a:lnTo>
                    <a:pt x="6805" y="3580"/>
                  </a:lnTo>
                  <a:lnTo>
                    <a:pt x="6762" y="3661"/>
                  </a:lnTo>
                  <a:lnTo>
                    <a:pt x="6716" y="3742"/>
                  </a:lnTo>
                  <a:lnTo>
                    <a:pt x="6671" y="3823"/>
                  </a:lnTo>
                  <a:lnTo>
                    <a:pt x="6624" y="3903"/>
                  </a:lnTo>
                  <a:lnTo>
                    <a:pt x="6575" y="3983"/>
                  </a:lnTo>
                  <a:lnTo>
                    <a:pt x="6526" y="4062"/>
                  </a:lnTo>
                  <a:lnTo>
                    <a:pt x="6477" y="4141"/>
                  </a:lnTo>
                  <a:lnTo>
                    <a:pt x="6427" y="4219"/>
                  </a:lnTo>
                  <a:lnTo>
                    <a:pt x="6375" y="4295"/>
                  </a:lnTo>
                  <a:lnTo>
                    <a:pt x="6322" y="4373"/>
                  </a:lnTo>
                  <a:lnTo>
                    <a:pt x="6270" y="4447"/>
                  </a:lnTo>
                  <a:lnTo>
                    <a:pt x="6215" y="4523"/>
                  </a:lnTo>
                  <a:lnTo>
                    <a:pt x="6161" y="4597"/>
                  </a:lnTo>
                  <a:lnTo>
                    <a:pt x="6104" y="4671"/>
                  </a:lnTo>
                  <a:lnTo>
                    <a:pt x="6047" y="4743"/>
                  </a:lnTo>
                  <a:lnTo>
                    <a:pt x="5989" y="4816"/>
                  </a:lnTo>
                  <a:lnTo>
                    <a:pt x="5932" y="4887"/>
                  </a:lnTo>
                  <a:lnTo>
                    <a:pt x="5872" y="4959"/>
                  </a:lnTo>
                  <a:lnTo>
                    <a:pt x="5813" y="5029"/>
                  </a:lnTo>
                  <a:lnTo>
                    <a:pt x="5751" y="5098"/>
                  </a:lnTo>
                  <a:lnTo>
                    <a:pt x="5689" y="5167"/>
                  </a:lnTo>
                  <a:lnTo>
                    <a:pt x="5626" y="5235"/>
                  </a:lnTo>
                  <a:lnTo>
                    <a:pt x="5564" y="5303"/>
                  </a:lnTo>
                  <a:lnTo>
                    <a:pt x="5499" y="5369"/>
                  </a:lnTo>
                  <a:lnTo>
                    <a:pt x="5434" y="5434"/>
                  </a:lnTo>
                  <a:lnTo>
                    <a:pt x="5369" y="5499"/>
                  </a:lnTo>
                  <a:lnTo>
                    <a:pt x="5302" y="5564"/>
                  </a:lnTo>
                  <a:lnTo>
                    <a:pt x="5235" y="5627"/>
                  </a:lnTo>
                  <a:lnTo>
                    <a:pt x="5167" y="5689"/>
                  </a:lnTo>
                  <a:lnTo>
                    <a:pt x="5099" y="5752"/>
                  </a:lnTo>
                  <a:lnTo>
                    <a:pt x="5029" y="5813"/>
                  </a:lnTo>
                  <a:lnTo>
                    <a:pt x="4958" y="5872"/>
                  </a:lnTo>
                  <a:lnTo>
                    <a:pt x="4887" y="5932"/>
                  </a:lnTo>
                  <a:lnTo>
                    <a:pt x="4816" y="5990"/>
                  </a:lnTo>
                  <a:lnTo>
                    <a:pt x="4743" y="6048"/>
                  </a:lnTo>
                  <a:lnTo>
                    <a:pt x="4671" y="6105"/>
                  </a:lnTo>
                  <a:lnTo>
                    <a:pt x="4597" y="6161"/>
                  </a:lnTo>
                  <a:lnTo>
                    <a:pt x="4522" y="6217"/>
                  </a:lnTo>
                  <a:lnTo>
                    <a:pt x="4447" y="6270"/>
                  </a:lnTo>
                  <a:lnTo>
                    <a:pt x="4372" y="6323"/>
                  </a:lnTo>
                  <a:lnTo>
                    <a:pt x="4295" y="6375"/>
                  </a:lnTo>
                  <a:lnTo>
                    <a:pt x="4218" y="6427"/>
                  </a:lnTo>
                  <a:lnTo>
                    <a:pt x="4139" y="6477"/>
                  </a:lnTo>
                  <a:lnTo>
                    <a:pt x="4062" y="6526"/>
                  </a:lnTo>
                  <a:lnTo>
                    <a:pt x="3983" y="6576"/>
                  </a:lnTo>
                  <a:lnTo>
                    <a:pt x="3903" y="6624"/>
                  </a:lnTo>
                  <a:lnTo>
                    <a:pt x="3823" y="6671"/>
                  </a:lnTo>
                  <a:lnTo>
                    <a:pt x="3742" y="6717"/>
                  </a:lnTo>
                  <a:lnTo>
                    <a:pt x="3660" y="6762"/>
                  </a:lnTo>
                  <a:lnTo>
                    <a:pt x="3579" y="6806"/>
                  </a:lnTo>
                  <a:lnTo>
                    <a:pt x="3497" y="6849"/>
                  </a:lnTo>
                  <a:lnTo>
                    <a:pt x="3412" y="6890"/>
                  </a:lnTo>
                  <a:lnTo>
                    <a:pt x="3329" y="6932"/>
                  </a:lnTo>
                  <a:lnTo>
                    <a:pt x="3245" y="6972"/>
                  </a:lnTo>
                  <a:lnTo>
                    <a:pt x="3160" y="7011"/>
                  </a:lnTo>
                  <a:lnTo>
                    <a:pt x="3075" y="7048"/>
                  </a:lnTo>
                  <a:lnTo>
                    <a:pt x="2989" y="7086"/>
                  </a:lnTo>
                  <a:lnTo>
                    <a:pt x="2902" y="7123"/>
                  </a:lnTo>
                  <a:lnTo>
                    <a:pt x="2815" y="7156"/>
                  </a:lnTo>
                  <a:lnTo>
                    <a:pt x="2727" y="7191"/>
                  </a:lnTo>
                  <a:lnTo>
                    <a:pt x="2639" y="7224"/>
                  </a:lnTo>
                  <a:lnTo>
                    <a:pt x="2551" y="7256"/>
                  </a:lnTo>
                  <a:lnTo>
                    <a:pt x="2462" y="7287"/>
                  </a:lnTo>
                  <a:lnTo>
                    <a:pt x="2372" y="7316"/>
                  </a:lnTo>
                  <a:lnTo>
                    <a:pt x="2282" y="7345"/>
                  </a:lnTo>
                  <a:lnTo>
                    <a:pt x="2192" y="7373"/>
                  </a:lnTo>
                  <a:lnTo>
                    <a:pt x="2101" y="7399"/>
                  </a:lnTo>
                  <a:lnTo>
                    <a:pt x="2010" y="7424"/>
                  </a:lnTo>
                  <a:lnTo>
                    <a:pt x="1919" y="7449"/>
                  </a:lnTo>
                  <a:lnTo>
                    <a:pt x="1827" y="7472"/>
                  </a:lnTo>
                  <a:lnTo>
                    <a:pt x="1734" y="7494"/>
                  </a:lnTo>
                  <a:lnTo>
                    <a:pt x="1641" y="7515"/>
                  </a:lnTo>
                  <a:lnTo>
                    <a:pt x="1548" y="7535"/>
                  </a:lnTo>
                  <a:lnTo>
                    <a:pt x="1453" y="7554"/>
                  </a:lnTo>
                  <a:lnTo>
                    <a:pt x="1358" y="7572"/>
                  </a:lnTo>
                  <a:lnTo>
                    <a:pt x="1265" y="7588"/>
                  </a:lnTo>
                  <a:lnTo>
                    <a:pt x="1170" y="7602"/>
                  </a:lnTo>
                  <a:lnTo>
                    <a:pt x="1074" y="7617"/>
                  </a:lnTo>
                  <a:lnTo>
                    <a:pt x="977" y="7630"/>
                  </a:lnTo>
                  <a:lnTo>
                    <a:pt x="881" y="7642"/>
                  </a:lnTo>
                  <a:lnTo>
                    <a:pt x="786" y="7652"/>
                  </a:lnTo>
                  <a:lnTo>
                    <a:pt x="689" y="7661"/>
                  </a:lnTo>
                  <a:lnTo>
                    <a:pt x="591" y="7669"/>
                  </a:lnTo>
                  <a:lnTo>
                    <a:pt x="493" y="7676"/>
                  </a:lnTo>
                  <a:lnTo>
                    <a:pt x="397" y="7681"/>
                  </a:lnTo>
                  <a:lnTo>
                    <a:pt x="297" y="7687"/>
                  </a:lnTo>
                  <a:lnTo>
                    <a:pt x="199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8" y="8370"/>
                  </a:lnTo>
                  <a:lnTo>
                    <a:pt x="215" y="8367"/>
                  </a:lnTo>
                  <a:lnTo>
                    <a:pt x="321" y="8364"/>
                  </a:lnTo>
                  <a:lnTo>
                    <a:pt x="428" y="8359"/>
                  </a:lnTo>
                  <a:lnTo>
                    <a:pt x="536" y="8353"/>
                  </a:lnTo>
                  <a:lnTo>
                    <a:pt x="641" y="8346"/>
                  </a:lnTo>
                  <a:lnTo>
                    <a:pt x="747" y="8338"/>
                  </a:lnTo>
                  <a:lnTo>
                    <a:pt x="852" y="8327"/>
                  </a:lnTo>
                  <a:lnTo>
                    <a:pt x="958" y="8316"/>
                  </a:lnTo>
                  <a:lnTo>
                    <a:pt x="1063" y="8302"/>
                  </a:lnTo>
                  <a:lnTo>
                    <a:pt x="1167" y="8289"/>
                  </a:lnTo>
                  <a:lnTo>
                    <a:pt x="1270" y="8275"/>
                  </a:lnTo>
                  <a:lnTo>
                    <a:pt x="1374" y="8257"/>
                  </a:lnTo>
                  <a:lnTo>
                    <a:pt x="1479" y="8239"/>
                  </a:lnTo>
                  <a:lnTo>
                    <a:pt x="1580" y="8220"/>
                  </a:lnTo>
                  <a:lnTo>
                    <a:pt x="1683" y="8199"/>
                  </a:lnTo>
                  <a:lnTo>
                    <a:pt x="1784" y="8178"/>
                  </a:lnTo>
                  <a:lnTo>
                    <a:pt x="1886" y="8155"/>
                  </a:lnTo>
                  <a:lnTo>
                    <a:pt x="1986" y="8131"/>
                  </a:lnTo>
                  <a:lnTo>
                    <a:pt x="2086" y="8105"/>
                  </a:lnTo>
                  <a:lnTo>
                    <a:pt x="2188" y="8080"/>
                  </a:lnTo>
                  <a:lnTo>
                    <a:pt x="2287" y="8052"/>
                  </a:lnTo>
                  <a:lnTo>
                    <a:pt x="2386" y="8024"/>
                  </a:lnTo>
                  <a:lnTo>
                    <a:pt x="2484" y="7993"/>
                  </a:lnTo>
                  <a:lnTo>
                    <a:pt x="2582" y="7962"/>
                  </a:lnTo>
                  <a:lnTo>
                    <a:pt x="2680" y="7929"/>
                  </a:lnTo>
                  <a:lnTo>
                    <a:pt x="2777" y="7896"/>
                  </a:lnTo>
                  <a:lnTo>
                    <a:pt x="2873" y="7861"/>
                  </a:lnTo>
                  <a:lnTo>
                    <a:pt x="2969" y="7826"/>
                  </a:lnTo>
                  <a:lnTo>
                    <a:pt x="3065" y="7788"/>
                  </a:lnTo>
                  <a:lnTo>
                    <a:pt x="3159" y="7749"/>
                  </a:lnTo>
                  <a:lnTo>
                    <a:pt x="3252" y="7711"/>
                  </a:lnTo>
                  <a:lnTo>
                    <a:pt x="3346" y="7670"/>
                  </a:lnTo>
                  <a:lnTo>
                    <a:pt x="3439" y="7629"/>
                  </a:lnTo>
                  <a:lnTo>
                    <a:pt x="3532" y="7586"/>
                  </a:lnTo>
                  <a:lnTo>
                    <a:pt x="3624" y="7542"/>
                  </a:lnTo>
                  <a:lnTo>
                    <a:pt x="3715" y="7498"/>
                  </a:lnTo>
                  <a:lnTo>
                    <a:pt x="3805" y="7452"/>
                  </a:lnTo>
                  <a:lnTo>
                    <a:pt x="3895" y="7405"/>
                  </a:lnTo>
                  <a:lnTo>
                    <a:pt x="3985" y="7357"/>
                  </a:lnTo>
                  <a:lnTo>
                    <a:pt x="4074" y="7309"/>
                  </a:lnTo>
                  <a:lnTo>
                    <a:pt x="4160" y="7258"/>
                  </a:lnTo>
                  <a:lnTo>
                    <a:pt x="4248" y="7207"/>
                  </a:lnTo>
                  <a:lnTo>
                    <a:pt x="4335" y="7155"/>
                  </a:lnTo>
                  <a:lnTo>
                    <a:pt x="4421" y="7103"/>
                  </a:lnTo>
                  <a:lnTo>
                    <a:pt x="4507" y="7048"/>
                  </a:lnTo>
                  <a:lnTo>
                    <a:pt x="4590" y="6993"/>
                  </a:lnTo>
                  <a:lnTo>
                    <a:pt x="4675" y="6937"/>
                  </a:lnTo>
                  <a:lnTo>
                    <a:pt x="4757" y="6881"/>
                  </a:lnTo>
                  <a:lnTo>
                    <a:pt x="4841" y="6822"/>
                  </a:lnTo>
                  <a:lnTo>
                    <a:pt x="4921" y="6763"/>
                  </a:lnTo>
                  <a:lnTo>
                    <a:pt x="5003" y="6703"/>
                  </a:lnTo>
                  <a:lnTo>
                    <a:pt x="5082" y="6643"/>
                  </a:lnTo>
                  <a:lnTo>
                    <a:pt x="5163" y="6582"/>
                  </a:lnTo>
                  <a:lnTo>
                    <a:pt x="5241" y="6519"/>
                  </a:lnTo>
                  <a:lnTo>
                    <a:pt x="5320" y="6455"/>
                  </a:lnTo>
                  <a:lnTo>
                    <a:pt x="5396" y="6390"/>
                  </a:lnTo>
                  <a:lnTo>
                    <a:pt x="5473" y="6325"/>
                  </a:lnTo>
                  <a:lnTo>
                    <a:pt x="5548" y="6258"/>
                  </a:lnTo>
                  <a:lnTo>
                    <a:pt x="5623" y="6191"/>
                  </a:lnTo>
                  <a:lnTo>
                    <a:pt x="5696" y="6123"/>
                  </a:lnTo>
                  <a:lnTo>
                    <a:pt x="5770" y="6054"/>
                  </a:lnTo>
                  <a:lnTo>
                    <a:pt x="5842" y="5985"/>
                  </a:lnTo>
                  <a:lnTo>
                    <a:pt x="5914" y="5914"/>
                  </a:lnTo>
                  <a:lnTo>
                    <a:pt x="5985" y="5842"/>
                  </a:lnTo>
                  <a:lnTo>
                    <a:pt x="6054" y="5770"/>
                  </a:lnTo>
                  <a:lnTo>
                    <a:pt x="6123" y="5698"/>
                  </a:lnTo>
                  <a:lnTo>
                    <a:pt x="6191" y="5623"/>
                  </a:lnTo>
                  <a:lnTo>
                    <a:pt x="6258" y="5549"/>
                  </a:lnTo>
                  <a:lnTo>
                    <a:pt x="6324" y="5473"/>
                  </a:lnTo>
                  <a:lnTo>
                    <a:pt x="6390" y="5397"/>
                  </a:lnTo>
                  <a:lnTo>
                    <a:pt x="6455" y="5320"/>
                  </a:lnTo>
                  <a:lnTo>
                    <a:pt x="6518" y="5241"/>
                  </a:lnTo>
                  <a:lnTo>
                    <a:pt x="6581" y="5163"/>
                  </a:lnTo>
                  <a:lnTo>
                    <a:pt x="6643" y="5083"/>
                  </a:lnTo>
                  <a:lnTo>
                    <a:pt x="6703" y="5003"/>
                  </a:lnTo>
                  <a:lnTo>
                    <a:pt x="6763" y="4921"/>
                  </a:lnTo>
                  <a:lnTo>
                    <a:pt x="6822" y="4841"/>
                  </a:lnTo>
                  <a:lnTo>
                    <a:pt x="6880" y="4758"/>
                  </a:lnTo>
                  <a:lnTo>
                    <a:pt x="6937" y="4675"/>
                  </a:lnTo>
                  <a:lnTo>
                    <a:pt x="6993" y="4590"/>
                  </a:lnTo>
                  <a:lnTo>
                    <a:pt x="7048" y="4507"/>
                  </a:lnTo>
                  <a:lnTo>
                    <a:pt x="7103" y="4421"/>
                  </a:lnTo>
                  <a:lnTo>
                    <a:pt x="7155" y="4336"/>
                  </a:lnTo>
                  <a:lnTo>
                    <a:pt x="7207" y="4248"/>
                  </a:lnTo>
                  <a:lnTo>
                    <a:pt x="7258" y="4161"/>
                  </a:lnTo>
                  <a:lnTo>
                    <a:pt x="7308" y="4074"/>
                  </a:lnTo>
                  <a:lnTo>
                    <a:pt x="7357" y="3985"/>
                  </a:lnTo>
                  <a:lnTo>
                    <a:pt x="7405" y="3896"/>
                  </a:lnTo>
                  <a:lnTo>
                    <a:pt x="7451" y="3805"/>
                  </a:lnTo>
                  <a:lnTo>
                    <a:pt x="7498" y="3716"/>
                  </a:lnTo>
                  <a:lnTo>
                    <a:pt x="7542" y="3624"/>
                  </a:lnTo>
                  <a:lnTo>
                    <a:pt x="7585" y="3533"/>
                  </a:lnTo>
                  <a:lnTo>
                    <a:pt x="7629" y="3439"/>
                  </a:lnTo>
                  <a:lnTo>
                    <a:pt x="7670" y="3346"/>
                  </a:lnTo>
                  <a:lnTo>
                    <a:pt x="7710" y="3252"/>
                  </a:lnTo>
                  <a:lnTo>
                    <a:pt x="7749" y="3160"/>
                  </a:lnTo>
                  <a:lnTo>
                    <a:pt x="7788" y="3065"/>
                  </a:lnTo>
                  <a:lnTo>
                    <a:pt x="7825" y="2970"/>
                  </a:lnTo>
                  <a:lnTo>
                    <a:pt x="7861" y="2873"/>
                  </a:lnTo>
                  <a:lnTo>
                    <a:pt x="7896" y="2777"/>
                  </a:lnTo>
                  <a:lnTo>
                    <a:pt x="7929" y="2680"/>
                  </a:lnTo>
                  <a:lnTo>
                    <a:pt x="7962" y="2582"/>
                  </a:lnTo>
                  <a:lnTo>
                    <a:pt x="7993" y="2485"/>
                  </a:lnTo>
                  <a:lnTo>
                    <a:pt x="8023" y="2387"/>
                  </a:lnTo>
                  <a:lnTo>
                    <a:pt x="8052" y="2287"/>
                  </a:lnTo>
                  <a:lnTo>
                    <a:pt x="8080" y="2188"/>
                  </a:lnTo>
                  <a:lnTo>
                    <a:pt x="8105" y="2086"/>
                  </a:lnTo>
                  <a:lnTo>
                    <a:pt x="8130" y="1987"/>
                  </a:lnTo>
                  <a:lnTo>
                    <a:pt x="8155" y="1886"/>
                  </a:lnTo>
                  <a:lnTo>
                    <a:pt x="8178" y="1784"/>
                  </a:lnTo>
                  <a:lnTo>
                    <a:pt x="8199" y="1683"/>
                  </a:lnTo>
                  <a:lnTo>
                    <a:pt x="8220" y="1581"/>
                  </a:lnTo>
                  <a:lnTo>
                    <a:pt x="8240" y="1479"/>
                  </a:lnTo>
                  <a:lnTo>
                    <a:pt x="8257" y="1376"/>
                  </a:lnTo>
                  <a:lnTo>
                    <a:pt x="8274" y="1271"/>
                  </a:lnTo>
                  <a:lnTo>
                    <a:pt x="8288" y="1167"/>
                  </a:lnTo>
                  <a:lnTo>
                    <a:pt x="8302" y="1063"/>
                  </a:lnTo>
                  <a:lnTo>
                    <a:pt x="8316" y="958"/>
                  </a:lnTo>
                  <a:lnTo>
                    <a:pt x="8327" y="854"/>
                  </a:lnTo>
                  <a:lnTo>
                    <a:pt x="8338" y="747"/>
                  </a:lnTo>
                  <a:lnTo>
                    <a:pt x="8346" y="641"/>
                  </a:lnTo>
                  <a:lnTo>
                    <a:pt x="8353" y="536"/>
                  </a:lnTo>
                  <a:lnTo>
                    <a:pt x="8359" y="428"/>
                  </a:lnTo>
                  <a:lnTo>
                    <a:pt x="8364" y="321"/>
                  </a:lnTo>
                  <a:lnTo>
                    <a:pt x="8367" y="215"/>
                  </a:lnTo>
                  <a:lnTo>
                    <a:pt x="8370" y="108"/>
                  </a:lnTo>
                  <a:lnTo>
                    <a:pt x="8371" y="0"/>
                  </a:lnTo>
                  <a:lnTo>
                    <a:pt x="8371" y="0"/>
                  </a:lnTo>
                  <a:lnTo>
                    <a:pt x="769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21000" y="5637240"/>
              <a:ext cx="112680" cy="345960"/>
            </a:xfrm>
            <a:custGeom>
              <a:avLst/>
              <a:gdLst/>
              <a:ahLst/>
              <a:rect l="l" t="t" r="r" b="b"/>
              <a:pathLst>
                <a:path w="1576" h="4781">
                  <a:moveTo>
                    <a:pt x="151" y="1340"/>
                  </a:moveTo>
                  <a:lnTo>
                    <a:pt x="0" y="1194"/>
                  </a:lnTo>
                  <a:lnTo>
                    <a:pt x="44" y="1131"/>
                  </a:lnTo>
                  <a:lnTo>
                    <a:pt x="87" y="1071"/>
                  </a:lnTo>
                  <a:lnTo>
                    <a:pt x="128" y="1014"/>
                  </a:lnTo>
                  <a:lnTo>
                    <a:pt x="167" y="960"/>
                  </a:lnTo>
                  <a:lnTo>
                    <a:pt x="206" y="907"/>
                  </a:lnTo>
                  <a:lnTo>
                    <a:pt x="240" y="852"/>
                  </a:lnTo>
                  <a:lnTo>
                    <a:pt x="258" y="826"/>
                  </a:lnTo>
                  <a:lnTo>
                    <a:pt x="274" y="798"/>
                  </a:lnTo>
                  <a:lnTo>
                    <a:pt x="290" y="771"/>
                  </a:lnTo>
                  <a:lnTo>
                    <a:pt x="304" y="742"/>
                  </a:lnTo>
                  <a:lnTo>
                    <a:pt x="319" y="713"/>
                  </a:lnTo>
                  <a:lnTo>
                    <a:pt x="331" y="684"/>
                  </a:lnTo>
                  <a:lnTo>
                    <a:pt x="344" y="653"/>
                  </a:lnTo>
                  <a:lnTo>
                    <a:pt x="356" y="621"/>
                  </a:lnTo>
                  <a:lnTo>
                    <a:pt x="367" y="589"/>
                  </a:lnTo>
                  <a:lnTo>
                    <a:pt x="376" y="555"/>
                  </a:lnTo>
                  <a:lnTo>
                    <a:pt x="386" y="520"/>
                  </a:lnTo>
                  <a:lnTo>
                    <a:pt x="393" y="483"/>
                  </a:lnTo>
                  <a:lnTo>
                    <a:pt x="401" y="445"/>
                  </a:lnTo>
                  <a:lnTo>
                    <a:pt x="407" y="405"/>
                  </a:lnTo>
                  <a:lnTo>
                    <a:pt x="411" y="364"/>
                  </a:lnTo>
                  <a:lnTo>
                    <a:pt x="415" y="320"/>
                  </a:lnTo>
                  <a:lnTo>
                    <a:pt x="417" y="275"/>
                  </a:lnTo>
                  <a:lnTo>
                    <a:pt x="419" y="227"/>
                  </a:lnTo>
                  <a:lnTo>
                    <a:pt x="419" y="176"/>
                  </a:lnTo>
                  <a:lnTo>
                    <a:pt x="418" y="124"/>
                  </a:lnTo>
                  <a:lnTo>
                    <a:pt x="419" y="106"/>
                  </a:lnTo>
                  <a:lnTo>
                    <a:pt x="421" y="87"/>
                  </a:lnTo>
                  <a:lnTo>
                    <a:pt x="423" y="79"/>
                  </a:lnTo>
                  <a:lnTo>
                    <a:pt x="425" y="71"/>
                  </a:lnTo>
                  <a:lnTo>
                    <a:pt x="428" y="62"/>
                  </a:lnTo>
                  <a:lnTo>
                    <a:pt x="431" y="54"/>
                  </a:lnTo>
                  <a:lnTo>
                    <a:pt x="434" y="47"/>
                  </a:lnTo>
                  <a:lnTo>
                    <a:pt x="439" y="39"/>
                  </a:lnTo>
                  <a:lnTo>
                    <a:pt x="443" y="33"/>
                  </a:lnTo>
                  <a:lnTo>
                    <a:pt x="449" y="27"/>
                  </a:lnTo>
                  <a:lnTo>
                    <a:pt x="455" y="20"/>
                  </a:lnTo>
                  <a:lnTo>
                    <a:pt x="461" y="15"/>
                  </a:lnTo>
                  <a:lnTo>
                    <a:pt x="469" y="11"/>
                  </a:lnTo>
                  <a:lnTo>
                    <a:pt x="476" y="7"/>
                  </a:lnTo>
                  <a:lnTo>
                    <a:pt x="484" y="4"/>
                  </a:lnTo>
                  <a:lnTo>
                    <a:pt x="493" y="2"/>
                  </a:lnTo>
                  <a:lnTo>
                    <a:pt x="502" y="0"/>
                  </a:lnTo>
                  <a:lnTo>
                    <a:pt x="512" y="0"/>
                  </a:lnTo>
                  <a:lnTo>
                    <a:pt x="523" y="0"/>
                  </a:lnTo>
                  <a:lnTo>
                    <a:pt x="534" y="1"/>
                  </a:lnTo>
                  <a:lnTo>
                    <a:pt x="546" y="3"/>
                  </a:lnTo>
                  <a:lnTo>
                    <a:pt x="559" y="6"/>
                  </a:lnTo>
                  <a:lnTo>
                    <a:pt x="572" y="10"/>
                  </a:lnTo>
                  <a:lnTo>
                    <a:pt x="587" y="15"/>
                  </a:lnTo>
                  <a:lnTo>
                    <a:pt x="601" y="23"/>
                  </a:lnTo>
                  <a:lnTo>
                    <a:pt x="617" y="30"/>
                  </a:lnTo>
                  <a:lnTo>
                    <a:pt x="633" y="39"/>
                  </a:lnTo>
                  <a:lnTo>
                    <a:pt x="650" y="49"/>
                  </a:lnTo>
                  <a:lnTo>
                    <a:pt x="667" y="61"/>
                  </a:lnTo>
                  <a:lnTo>
                    <a:pt x="686" y="74"/>
                  </a:lnTo>
                  <a:lnTo>
                    <a:pt x="823" y="230"/>
                  </a:lnTo>
                  <a:lnTo>
                    <a:pt x="947" y="380"/>
                  </a:lnTo>
                  <a:lnTo>
                    <a:pt x="1058" y="527"/>
                  </a:lnTo>
                  <a:lnTo>
                    <a:pt x="1156" y="670"/>
                  </a:lnTo>
                  <a:lnTo>
                    <a:pt x="1242" y="810"/>
                  </a:lnTo>
                  <a:lnTo>
                    <a:pt x="1316" y="946"/>
                  </a:lnTo>
                  <a:lnTo>
                    <a:pt x="1381" y="1080"/>
                  </a:lnTo>
                  <a:lnTo>
                    <a:pt x="1434" y="1211"/>
                  </a:lnTo>
                  <a:lnTo>
                    <a:pt x="1479" y="1340"/>
                  </a:lnTo>
                  <a:lnTo>
                    <a:pt x="1514" y="1467"/>
                  </a:lnTo>
                  <a:lnTo>
                    <a:pt x="1541" y="1591"/>
                  </a:lnTo>
                  <a:lnTo>
                    <a:pt x="1560" y="1716"/>
                  </a:lnTo>
                  <a:lnTo>
                    <a:pt x="1571" y="1838"/>
                  </a:lnTo>
                  <a:lnTo>
                    <a:pt x="1576" y="1959"/>
                  </a:lnTo>
                  <a:lnTo>
                    <a:pt x="1575" y="2081"/>
                  </a:lnTo>
                  <a:lnTo>
                    <a:pt x="1567" y="2202"/>
                  </a:lnTo>
                  <a:lnTo>
                    <a:pt x="1555" y="2324"/>
                  </a:lnTo>
                  <a:lnTo>
                    <a:pt x="1538" y="2445"/>
                  </a:lnTo>
                  <a:lnTo>
                    <a:pt x="1517" y="2567"/>
                  </a:lnTo>
                  <a:lnTo>
                    <a:pt x="1493" y="2692"/>
                  </a:lnTo>
                  <a:lnTo>
                    <a:pt x="1466" y="2816"/>
                  </a:lnTo>
                  <a:lnTo>
                    <a:pt x="1436" y="2943"/>
                  </a:lnTo>
                  <a:lnTo>
                    <a:pt x="1406" y="3072"/>
                  </a:lnTo>
                  <a:lnTo>
                    <a:pt x="1374" y="3202"/>
                  </a:lnTo>
                  <a:lnTo>
                    <a:pt x="1341" y="3336"/>
                  </a:lnTo>
                  <a:lnTo>
                    <a:pt x="1309" y="3472"/>
                  </a:lnTo>
                  <a:lnTo>
                    <a:pt x="1276" y="3612"/>
                  </a:lnTo>
                  <a:lnTo>
                    <a:pt x="1246" y="3755"/>
                  </a:lnTo>
                  <a:lnTo>
                    <a:pt x="1217" y="3901"/>
                  </a:lnTo>
                  <a:lnTo>
                    <a:pt x="1190" y="4053"/>
                  </a:lnTo>
                  <a:lnTo>
                    <a:pt x="1166" y="4208"/>
                  </a:lnTo>
                  <a:lnTo>
                    <a:pt x="1146" y="4368"/>
                  </a:lnTo>
                  <a:lnTo>
                    <a:pt x="1024" y="4781"/>
                  </a:lnTo>
                  <a:lnTo>
                    <a:pt x="1015" y="4629"/>
                  </a:lnTo>
                  <a:lnTo>
                    <a:pt x="1010" y="4479"/>
                  </a:lnTo>
                  <a:lnTo>
                    <a:pt x="1008" y="4334"/>
                  </a:lnTo>
                  <a:lnTo>
                    <a:pt x="1013" y="4190"/>
                  </a:lnTo>
                  <a:lnTo>
                    <a:pt x="1019" y="4049"/>
                  </a:lnTo>
                  <a:lnTo>
                    <a:pt x="1028" y="3911"/>
                  </a:lnTo>
                  <a:lnTo>
                    <a:pt x="1040" y="3776"/>
                  </a:lnTo>
                  <a:lnTo>
                    <a:pt x="1055" y="3642"/>
                  </a:lnTo>
                  <a:lnTo>
                    <a:pt x="1069" y="3510"/>
                  </a:lnTo>
                  <a:lnTo>
                    <a:pt x="1085" y="3380"/>
                  </a:lnTo>
                  <a:lnTo>
                    <a:pt x="1102" y="3252"/>
                  </a:lnTo>
                  <a:lnTo>
                    <a:pt x="1117" y="3124"/>
                  </a:lnTo>
                  <a:lnTo>
                    <a:pt x="1133" y="2997"/>
                  </a:lnTo>
                  <a:lnTo>
                    <a:pt x="1148" y="2872"/>
                  </a:lnTo>
                  <a:lnTo>
                    <a:pt x="1160" y="2747"/>
                  </a:lnTo>
                  <a:lnTo>
                    <a:pt x="1171" y="2623"/>
                  </a:lnTo>
                  <a:lnTo>
                    <a:pt x="1179" y="2498"/>
                  </a:lnTo>
                  <a:lnTo>
                    <a:pt x="1183" y="2375"/>
                  </a:lnTo>
                  <a:lnTo>
                    <a:pt x="1184" y="2250"/>
                  </a:lnTo>
                  <a:lnTo>
                    <a:pt x="1181" y="2125"/>
                  </a:lnTo>
                  <a:lnTo>
                    <a:pt x="1174" y="1999"/>
                  </a:lnTo>
                  <a:lnTo>
                    <a:pt x="1160" y="1873"/>
                  </a:lnTo>
                  <a:lnTo>
                    <a:pt x="1142" y="1745"/>
                  </a:lnTo>
                  <a:lnTo>
                    <a:pt x="1117" y="1616"/>
                  </a:lnTo>
                  <a:lnTo>
                    <a:pt x="1086" y="1486"/>
                  </a:lnTo>
                  <a:lnTo>
                    <a:pt x="1047" y="1354"/>
                  </a:lnTo>
                  <a:lnTo>
                    <a:pt x="1000" y="1220"/>
                  </a:lnTo>
                  <a:lnTo>
                    <a:pt x="946" y="1084"/>
                  </a:lnTo>
                  <a:lnTo>
                    <a:pt x="883" y="945"/>
                  </a:lnTo>
                  <a:lnTo>
                    <a:pt x="811" y="804"/>
                  </a:lnTo>
                  <a:lnTo>
                    <a:pt x="728" y="660"/>
                  </a:lnTo>
                  <a:lnTo>
                    <a:pt x="636" y="513"/>
                  </a:lnTo>
                  <a:lnTo>
                    <a:pt x="628" y="548"/>
                  </a:lnTo>
                  <a:lnTo>
                    <a:pt x="619" y="581"/>
                  </a:lnTo>
                  <a:lnTo>
                    <a:pt x="610" y="615"/>
                  </a:lnTo>
                  <a:lnTo>
                    <a:pt x="600" y="647"/>
                  </a:lnTo>
                  <a:lnTo>
                    <a:pt x="590" y="679"/>
                  </a:lnTo>
                  <a:lnTo>
                    <a:pt x="579" y="709"/>
                  </a:lnTo>
                  <a:lnTo>
                    <a:pt x="568" y="739"/>
                  </a:lnTo>
                  <a:lnTo>
                    <a:pt x="556" y="768"/>
                  </a:lnTo>
                  <a:lnTo>
                    <a:pt x="545" y="797"/>
                  </a:lnTo>
                  <a:lnTo>
                    <a:pt x="532" y="824"/>
                  </a:lnTo>
                  <a:lnTo>
                    <a:pt x="519" y="851"/>
                  </a:lnTo>
                  <a:lnTo>
                    <a:pt x="505" y="878"/>
                  </a:lnTo>
                  <a:lnTo>
                    <a:pt x="492" y="905"/>
                  </a:lnTo>
                  <a:lnTo>
                    <a:pt x="477" y="930"/>
                  </a:lnTo>
                  <a:lnTo>
                    <a:pt x="462" y="955"/>
                  </a:lnTo>
                  <a:lnTo>
                    <a:pt x="448" y="980"/>
                  </a:lnTo>
                  <a:lnTo>
                    <a:pt x="432" y="1004"/>
                  </a:lnTo>
                  <a:lnTo>
                    <a:pt x="416" y="1028"/>
                  </a:lnTo>
                  <a:lnTo>
                    <a:pt x="399" y="1051"/>
                  </a:lnTo>
                  <a:lnTo>
                    <a:pt x="383" y="1074"/>
                  </a:lnTo>
                  <a:lnTo>
                    <a:pt x="348" y="1120"/>
                  </a:lnTo>
                  <a:lnTo>
                    <a:pt x="312" y="1165"/>
                  </a:lnTo>
                  <a:lnTo>
                    <a:pt x="274" y="1209"/>
                  </a:lnTo>
                  <a:lnTo>
                    <a:pt x="234" y="1253"/>
                  </a:lnTo>
                  <a:lnTo>
                    <a:pt x="193" y="1297"/>
                  </a:lnTo>
                  <a:lnTo>
                    <a:pt x="151" y="13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000" y="5681520"/>
              <a:ext cx="135000" cy="306360"/>
            </a:xfrm>
            <a:custGeom>
              <a:avLst/>
              <a:gdLst/>
              <a:ahLst/>
              <a:rect l="l" t="t" r="r" b="b"/>
              <a:pathLst>
                <a:path w="1873" h="4245">
                  <a:moveTo>
                    <a:pt x="1852" y="3341"/>
                  </a:moveTo>
                  <a:lnTo>
                    <a:pt x="1857" y="3221"/>
                  </a:lnTo>
                  <a:lnTo>
                    <a:pt x="1860" y="3102"/>
                  </a:lnTo>
                  <a:lnTo>
                    <a:pt x="1863" y="2985"/>
                  </a:lnTo>
                  <a:lnTo>
                    <a:pt x="1865" y="2868"/>
                  </a:lnTo>
                  <a:lnTo>
                    <a:pt x="1865" y="2752"/>
                  </a:lnTo>
                  <a:lnTo>
                    <a:pt x="1865" y="2638"/>
                  </a:lnTo>
                  <a:lnTo>
                    <a:pt x="1863" y="2524"/>
                  </a:lnTo>
                  <a:lnTo>
                    <a:pt x="1859" y="2412"/>
                  </a:lnTo>
                  <a:lnTo>
                    <a:pt x="1853" y="2300"/>
                  </a:lnTo>
                  <a:lnTo>
                    <a:pt x="1846" y="2190"/>
                  </a:lnTo>
                  <a:lnTo>
                    <a:pt x="1836" y="2080"/>
                  </a:lnTo>
                  <a:lnTo>
                    <a:pt x="1823" y="1972"/>
                  </a:lnTo>
                  <a:lnTo>
                    <a:pt x="1807" y="1864"/>
                  </a:lnTo>
                  <a:lnTo>
                    <a:pt x="1790" y="1759"/>
                  </a:lnTo>
                  <a:lnTo>
                    <a:pt x="1769" y="1654"/>
                  </a:lnTo>
                  <a:lnTo>
                    <a:pt x="1744" y="1550"/>
                  </a:lnTo>
                  <a:lnTo>
                    <a:pt x="1715" y="1448"/>
                  </a:lnTo>
                  <a:lnTo>
                    <a:pt x="1684" y="1346"/>
                  </a:lnTo>
                  <a:lnTo>
                    <a:pt x="1647" y="1246"/>
                  </a:lnTo>
                  <a:lnTo>
                    <a:pt x="1608" y="1147"/>
                  </a:lnTo>
                  <a:lnTo>
                    <a:pt x="1563" y="1048"/>
                  </a:lnTo>
                  <a:lnTo>
                    <a:pt x="1514" y="952"/>
                  </a:lnTo>
                  <a:lnTo>
                    <a:pt x="1460" y="856"/>
                  </a:lnTo>
                  <a:lnTo>
                    <a:pt x="1401" y="761"/>
                  </a:lnTo>
                  <a:lnTo>
                    <a:pt x="1338" y="667"/>
                  </a:lnTo>
                  <a:lnTo>
                    <a:pt x="1269" y="575"/>
                  </a:lnTo>
                  <a:lnTo>
                    <a:pt x="1193" y="484"/>
                  </a:lnTo>
                  <a:lnTo>
                    <a:pt x="1113" y="394"/>
                  </a:lnTo>
                  <a:lnTo>
                    <a:pt x="1026" y="305"/>
                  </a:lnTo>
                  <a:lnTo>
                    <a:pt x="933" y="217"/>
                  </a:lnTo>
                  <a:lnTo>
                    <a:pt x="833" y="132"/>
                  </a:lnTo>
                  <a:lnTo>
                    <a:pt x="728" y="46"/>
                  </a:lnTo>
                  <a:lnTo>
                    <a:pt x="702" y="31"/>
                  </a:lnTo>
                  <a:lnTo>
                    <a:pt x="678" y="19"/>
                  </a:lnTo>
                  <a:lnTo>
                    <a:pt x="667" y="13"/>
                  </a:lnTo>
                  <a:lnTo>
                    <a:pt x="655" y="9"/>
                  </a:lnTo>
                  <a:lnTo>
                    <a:pt x="645" y="6"/>
                  </a:lnTo>
                  <a:lnTo>
                    <a:pt x="634" y="3"/>
                  </a:lnTo>
                  <a:lnTo>
                    <a:pt x="624" y="2"/>
                  </a:lnTo>
                  <a:lnTo>
                    <a:pt x="615" y="0"/>
                  </a:lnTo>
                  <a:lnTo>
                    <a:pt x="605" y="0"/>
                  </a:lnTo>
                  <a:lnTo>
                    <a:pt x="596" y="0"/>
                  </a:lnTo>
                  <a:lnTo>
                    <a:pt x="586" y="1"/>
                  </a:lnTo>
                  <a:lnTo>
                    <a:pt x="578" y="2"/>
                  </a:lnTo>
                  <a:lnTo>
                    <a:pt x="570" y="4"/>
                  </a:lnTo>
                  <a:lnTo>
                    <a:pt x="561" y="6"/>
                  </a:lnTo>
                  <a:lnTo>
                    <a:pt x="553" y="10"/>
                  </a:lnTo>
                  <a:lnTo>
                    <a:pt x="545" y="13"/>
                  </a:lnTo>
                  <a:lnTo>
                    <a:pt x="538" y="19"/>
                  </a:lnTo>
                  <a:lnTo>
                    <a:pt x="531" y="23"/>
                  </a:lnTo>
                  <a:lnTo>
                    <a:pt x="524" y="29"/>
                  </a:lnTo>
                  <a:lnTo>
                    <a:pt x="517" y="34"/>
                  </a:lnTo>
                  <a:lnTo>
                    <a:pt x="510" y="42"/>
                  </a:lnTo>
                  <a:lnTo>
                    <a:pt x="504" y="49"/>
                  </a:lnTo>
                  <a:lnTo>
                    <a:pt x="492" y="65"/>
                  </a:lnTo>
                  <a:lnTo>
                    <a:pt x="481" y="81"/>
                  </a:lnTo>
                  <a:lnTo>
                    <a:pt x="470" y="101"/>
                  </a:lnTo>
                  <a:lnTo>
                    <a:pt x="460" y="122"/>
                  </a:lnTo>
                  <a:lnTo>
                    <a:pt x="457" y="172"/>
                  </a:lnTo>
                  <a:lnTo>
                    <a:pt x="451" y="223"/>
                  </a:lnTo>
                  <a:lnTo>
                    <a:pt x="446" y="273"/>
                  </a:lnTo>
                  <a:lnTo>
                    <a:pt x="441" y="323"/>
                  </a:lnTo>
                  <a:lnTo>
                    <a:pt x="434" y="372"/>
                  </a:lnTo>
                  <a:lnTo>
                    <a:pt x="426" y="421"/>
                  </a:lnTo>
                  <a:lnTo>
                    <a:pt x="418" y="470"/>
                  </a:lnTo>
                  <a:lnTo>
                    <a:pt x="409" y="518"/>
                  </a:lnTo>
                  <a:lnTo>
                    <a:pt x="400" y="566"/>
                  </a:lnTo>
                  <a:lnTo>
                    <a:pt x="390" y="613"/>
                  </a:lnTo>
                  <a:lnTo>
                    <a:pt x="379" y="660"/>
                  </a:lnTo>
                  <a:lnTo>
                    <a:pt x="368" y="707"/>
                  </a:lnTo>
                  <a:lnTo>
                    <a:pt x="355" y="753"/>
                  </a:lnTo>
                  <a:lnTo>
                    <a:pt x="343" y="798"/>
                  </a:lnTo>
                  <a:lnTo>
                    <a:pt x="329" y="844"/>
                  </a:lnTo>
                  <a:lnTo>
                    <a:pt x="314" y="888"/>
                  </a:lnTo>
                  <a:lnTo>
                    <a:pt x="300" y="933"/>
                  </a:lnTo>
                  <a:lnTo>
                    <a:pt x="284" y="977"/>
                  </a:lnTo>
                  <a:lnTo>
                    <a:pt x="268" y="1020"/>
                  </a:lnTo>
                  <a:lnTo>
                    <a:pt x="251" y="1063"/>
                  </a:lnTo>
                  <a:lnTo>
                    <a:pt x="234" y="1106"/>
                  </a:lnTo>
                  <a:lnTo>
                    <a:pt x="216" y="1148"/>
                  </a:lnTo>
                  <a:lnTo>
                    <a:pt x="197" y="1188"/>
                  </a:lnTo>
                  <a:lnTo>
                    <a:pt x="178" y="1229"/>
                  </a:lnTo>
                  <a:lnTo>
                    <a:pt x="157" y="1270"/>
                  </a:lnTo>
                  <a:lnTo>
                    <a:pt x="137" y="1310"/>
                  </a:lnTo>
                  <a:lnTo>
                    <a:pt x="115" y="1348"/>
                  </a:lnTo>
                  <a:lnTo>
                    <a:pt x="95" y="1387"/>
                  </a:lnTo>
                  <a:lnTo>
                    <a:pt x="71" y="1425"/>
                  </a:lnTo>
                  <a:lnTo>
                    <a:pt x="48" y="1463"/>
                  </a:lnTo>
                  <a:lnTo>
                    <a:pt x="25" y="1499"/>
                  </a:lnTo>
                  <a:lnTo>
                    <a:pt x="0" y="1535"/>
                  </a:lnTo>
                  <a:lnTo>
                    <a:pt x="168" y="1878"/>
                  </a:lnTo>
                  <a:lnTo>
                    <a:pt x="215" y="1785"/>
                  </a:lnTo>
                  <a:lnTo>
                    <a:pt x="260" y="1694"/>
                  </a:lnTo>
                  <a:lnTo>
                    <a:pt x="302" y="1606"/>
                  </a:lnTo>
                  <a:lnTo>
                    <a:pt x="343" y="1519"/>
                  </a:lnTo>
                  <a:lnTo>
                    <a:pt x="380" y="1434"/>
                  </a:lnTo>
                  <a:lnTo>
                    <a:pt x="416" y="1351"/>
                  </a:lnTo>
                  <a:lnTo>
                    <a:pt x="450" y="1266"/>
                  </a:lnTo>
                  <a:lnTo>
                    <a:pt x="482" y="1182"/>
                  </a:lnTo>
                  <a:lnTo>
                    <a:pt x="512" y="1097"/>
                  </a:lnTo>
                  <a:lnTo>
                    <a:pt x="540" y="1010"/>
                  </a:lnTo>
                  <a:lnTo>
                    <a:pt x="555" y="967"/>
                  </a:lnTo>
                  <a:lnTo>
                    <a:pt x="567" y="923"/>
                  </a:lnTo>
                  <a:lnTo>
                    <a:pt x="581" y="878"/>
                  </a:lnTo>
                  <a:lnTo>
                    <a:pt x="594" y="832"/>
                  </a:lnTo>
                  <a:lnTo>
                    <a:pt x="618" y="738"/>
                  </a:lnTo>
                  <a:lnTo>
                    <a:pt x="640" y="641"/>
                  </a:lnTo>
                  <a:lnTo>
                    <a:pt x="662" y="541"/>
                  </a:lnTo>
                  <a:lnTo>
                    <a:pt x="683" y="435"/>
                  </a:lnTo>
                  <a:lnTo>
                    <a:pt x="782" y="524"/>
                  </a:lnTo>
                  <a:lnTo>
                    <a:pt x="875" y="616"/>
                  </a:lnTo>
                  <a:lnTo>
                    <a:pt x="962" y="711"/>
                  </a:lnTo>
                  <a:lnTo>
                    <a:pt x="1041" y="810"/>
                  </a:lnTo>
                  <a:lnTo>
                    <a:pt x="1115" y="911"/>
                  </a:lnTo>
                  <a:lnTo>
                    <a:pt x="1183" y="1014"/>
                  </a:lnTo>
                  <a:lnTo>
                    <a:pt x="1244" y="1120"/>
                  </a:lnTo>
                  <a:lnTo>
                    <a:pt x="1302" y="1228"/>
                  </a:lnTo>
                  <a:lnTo>
                    <a:pt x="1353" y="1339"/>
                  </a:lnTo>
                  <a:lnTo>
                    <a:pt x="1400" y="1452"/>
                  </a:lnTo>
                  <a:lnTo>
                    <a:pt x="1443" y="1566"/>
                  </a:lnTo>
                  <a:lnTo>
                    <a:pt x="1482" y="1683"/>
                  </a:lnTo>
                  <a:lnTo>
                    <a:pt x="1517" y="1802"/>
                  </a:lnTo>
                  <a:lnTo>
                    <a:pt x="1548" y="1922"/>
                  </a:lnTo>
                  <a:lnTo>
                    <a:pt x="1576" y="2043"/>
                  </a:lnTo>
                  <a:lnTo>
                    <a:pt x="1602" y="2167"/>
                  </a:lnTo>
                  <a:lnTo>
                    <a:pt x="1625" y="2291"/>
                  </a:lnTo>
                  <a:lnTo>
                    <a:pt x="1646" y="2417"/>
                  </a:lnTo>
                  <a:lnTo>
                    <a:pt x="1664" y="2544"/>
                  </a:lnTo>
                  <a:lnTo>
                    <a:pt x="1682" y="2672"/>
                  </a:lnTo>
                  <a:lnTo>
                    <a:pt x="1698" y="2801"/>
                  </a:lnTo>
                  <a:lnTo>
                    <a:pt x="1712" y="2931"/>
                  </a:lnTo>
                  <a:lnTo>
                    <a:pt x="1727" y="3060"/>
                  </a:lnTo>
                  <a:lnTo>
                    <a:pt x="1740" y="3191"/>
                  </a:lnTo>
                  <a:lnTo>
                    <a:pt x="1768" y="3455"/>
                  </a:lnTo>
                  <a:lnTo>
                    <a:pt x="1798" y="3718"/>
                  </a:lnTo>
                  <a:lnTo>
                    <a:pt x="1814" y="3850"/>
                  </a:lnTo>
                  <a:lnTo>
                    <a:pt x="1831" y="3982"/>
                  </a:lnTo>
                  <a:lnTo>
                    <a:pt x="1851" y="4113"/>
                  </a:lnTo>
                  <a:lnTo>
                    <a:pt x="1873" y="4245"/>
                  </a:lnTo>
                  <a:lnTo>
                    <a:pt x="1852" y="33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60800" y="5746680"/>
              <a:ext cx="609480" cy="285840"/>
            </a:xfrm>
            <a:custGeom>
              <a:avLst/>
              <a:gdLst/>
              <a:ahLst/>
              <a:rect l="l" t="t" r="r" b="b"/>
              <a:pathLst>
                <a:path w="8446" h="3946">
                  <a:moveTo>
                    <a:pt x="8381" y="822"/>
                  </a:moveTo>
                  <a:lnTo>
                    <a:pt x="8394" y="833"/>
                  </a:lnTo>
                  <a:lnTo>
                    <a:pt x="8404" y="843"/>
                  </a:lnTo>
                  <a:lnTo>
                    <a:pt x="8415" y="854"/>
                  </a:lnTo>
                  <a:lnTo>
                    <a:pt x="8423" y="865"/>
                  </a:lnTo>
                  <a:lnTo>
                    <a:pt x="8430" y="877"/>
                  </a:lnTo>
                  <a:lnTo>
                    <a:pt x="8437" y="888"/>
                  </a:lnTo>
                  <a:lnTo>
                    <a:pt x="8441" y="901"/>
                  </a:lnTo>
                  <a:lnTo>
                    <a:pt x="8445" y="915"/>
                  </a:lnTo>
                  <a:lnTo>
                    <a:pt x="8446" y="928"/>
                  </a:lnTo>
                  <a:lnTo>
                    <a:pt x="8446" y="942"/>
                  </a:lnTo>
                  <a:lnTo>
                    <a:pt x="8444" y="956"/>
                  </a:lnTo>
                  <a:lnTo>
                    <a:pt x="8441" y="972"/>
                  </a:lnTo>
                  <a:lnTo>
                    <a:pt x="8434" y="988"/>
                  </a:lnTo>
                  <a:lnTo>
                    <a:pt x="8427" y="1004"/>
                  </a:lnTo>
                  <a:lnTo>
                    <a:pt x="8418" y="1021"/>
                  </a:lnTo>
                  <a:lnTo>
                    <a:pt x="8406" y="1039"/>
                  </a:lnTo>
                  <a:lnTo>
                    <a:pt x="8139" y="1479"/>
                  </a:lnTo>
                  <a:lnTo>
                    <a:pt x="7968" y="1459"/>
                  </a:lnTo>
                  <a:lnTo>
                    <a:pt x="8141" y="1110"/>
                  </a:lnTo>
                  <a:lnTo>
                    <a:pt x="8144" y="1105"/>
                  </a:lnTo>
                  <a:lnTo>
                    <a:pt x="8146" y="1098"/>
                  </a:lnTo>
                  <a:lnTo>
                    <a:pt x="8147" y="1088"/>
                  </a:lnTo>
                  <a:lnTo>
                    <a:pt x="8146" y="1078"/>
                  </a:lnTo>
                  <a:lnTo>
                    <a:pt x="8142" y="1068"/>
                  </a:lnTo>
                  <a:lnTo>
                    <a:pt x="8138" y="1059"/>
                  </a:lnTo>
                  <a:lnTo>
                    <a:pt x="8135" y="1055"/>
                  </a:lnTo>
                  <a:lnTo>
                    <a:pt x="8131" y="1051"/>
                  </a:lnTo>
                  <a:lnTo>
                    <a:pt x="8127" y="1047"/>
                  </a:lnTo>
                  <a:lnTo>
                    <a:pt x="8122" y="1044"/>
                  </a:lnTo>
                  <a:lnTo>
                    <a:pt x="7934" y="972"/>
                  </a:lnTo>
                  <a:lnTo>
                    <a:pt x="7745" y="917"/>
                  </a:lnTo>
                  <a:lnTo>
                    <a:pt x="7554" y="879"/>
                  </a:lnTo>
                  <a:lnTo>
                    <a:pt x="7363" y="857"/>
                  </a:lnTo>
                  <a:lnTo>
                    <a:pt x="7170" y="851"/>
                  </a:lnTo>
                  <a:lnTo>
                    <a:pt x="6978" y="859"/>
                  </a:lnTo>
                  <a:lnTo>
                    <a:pt x="6785" y="882"/>
                  </a:lnTo>
                  <a:lnTo>
                    <a:pt x="6593" y="918"/>
                  </a:lnTo>
                  <a:lnTo>
                    <a:pt x="6400" y="967"/>
                  </a:lnTo>
                  <a:lnTo>
                    <a:pt x="6209" y="1026"/>
                  </a:lnTo>
                  <a:lnTo>
                    <a:pt x="6018" y="1099"/>
                  </a:lnTo>
                  <a:lnTo>
                    <a:pt x="5830" y="1181"/>
                  </a:lnTo>
                  <a:lnTo>
                    <a:pt x="5643" y="1273"/>
                  </a:lnTo>
                  <a:lnTo>
                    <a:pt x="5457" y="1374"/>
                  </a:lnTo>
                  <a:lnTo>
                    <a:pt x="5275" y="1484"/>
                  </a:lnTo>
                  <a:lnTo>
                    <a:pt x="5095" y="1601"/>
                  </a:lnTo>
                  <a:lnTo>
                    <a:pt x="4919" y="1725"/>
                  </a:lnTo>
                  <a:lnTo>
                    <a:pt x="4745" y="1856"/>
                  </a:lnTo>
                  <a:lnTo>
                    <a:pt x="4575" y="1992"/>
                  </a:lnTo>
                  <a:lnTo>
                    <a:pt x="4410" y="2132"/>
                  </a:lnTo>
                  <a:lnTo>
                    <a:pt x="4248" y="2278"/>
                  </a:lnTo>
                  <a:lnTo>
                    <a:pt x="4092" y="2427"/>
                  </a:lnTo>
                  <a:lnTo>
                    <a:pt x="3940" y="2578"/>
                  </a:lnTo>
                  <a:lnTo>
                    <a:pt x="3794" y="2731"/>
                  </a:lnTo>
                  <a:lnTo>
                    <a:pt x="3652" y="2886"/>
                  </a:lnTo>
                  <a:lnTo>
                    <a:pt x="3518" y="3041"/>
                  </a:lnTo>
                  <a:lnTo>
                    <a:pt x="3389" y="3197"/>
                  </a:lnTo>
                  <a:lnTo>
                    <a:pt x="3267" y="3350"/>
                  </a:lnTo>
                  <a:lnTo>
                    <a:pt x="3151" y="3503"/>
                  </a:lnTo>
                  <a:lnTo>
                    <a:pt x="3044" y="3654"/>
                  </a:lnTo>
                  <a:lnTo>
                    <a:pt x="2943" y="3803"/>
                  </a:lnTo>
                  <a:lnTo>
                    <a:pt x="2851" y="3946"/>
                  </a:lnTo>
                  <a:lnTo>
                    <a:pt x="2633" y="3824"/>
                  </a:lnTo>
                  <a:lnTo>
                    <a:pt x="2544" y="3564"/>
                  </a:lnTo>
                  <a:lnTo>
                    <a:pt x="2455" y="3302"/>
                  </a:lnTo>
                  <a:lnTo>
                    <a:pt x="2410" y="3173"/>
                  </a:lnTo>
                  <a:lnTo>
                    <a:pt x="2365" y="3043"/>
                  </a:lnTo>
                  <a:lnTo>
                    <a:pt x="2319" y="2914"/>
                  </a:lnTo>
                  <a:lnTo>
                    <a:pt x="2272" y="2785"/>
                  </a:lnTo>
                  <a:lnTo>
                    <a:pt x="2224" y="2659"/>
                  </a:lnTo>
                  <a:lnTo>
                    <a:pt x="2175" y="2533"/>
                  </a:lnTo>
                  <a:lnTo>
                    <a:pt x="2125" y="2409"/>
                  </a:lnTo>
                  <a:lnTo>
                    <a:pt x="2072" y="2285"/>
                  </a:lnTo>
                  <a:lnTo>
                    <a:pt x="2018" y="2164"/>
                  </a:lnTo>
                  <a:lnTo>
                    <a:pt x="1963" y="2045"/>
                  </a:lnTo>
                  <a:lnTo>
                    <a:pt x="1904" y="1927"/>
                  </a:lnTo>
                  <a:lnTo>
                    <a:pt x="1843" y="1812"/>
                  </a:lnTo>
                  <a:lnTo>
                    <a:pt x="1779" y="1699"/>
                  </a:lnTo>
                  <a:lnTo>
                    <a:pt x="1714" y="1589"/>
                  </a:lnTo>
                  <a:lnTo>
                    <a:pt x="1644" y="1482"/>
                  </a:lnTo>
                  <a:lnTo>
                    <a:pt x="1572" y="1377"/>
                  </a:lnTo>
                  <a:lnTo>
                    <a:pt x="1496" y="1276"/>
                  </a:lnTo>
                  <a:lnTo>
                    <a:pt x="1416" y="1177"/>
                  </a:lnTo>
                  <a:lnTo>
                    <a:pt x="1334" y="1082"/>
                  </a:lnTo>
                  <a:lnTo>
                    <a:pt x="1247" y="990"/>
                  </a:lnTo>
                  <a:lnTo>
                    <a:pt x="1155" y="902"/>
                  </a:lnTo>
                  <a:lnTo>
                    <a:pt x="1060" y="817"/>
                  </a:lnTo>
                  <a:lnTo>
                    <a:pt x="959" y="738"/>
                  </a:lnTo>
                  <a:lnTo>
                    <a:pt x="854" y="661"/>
                  </a:lnTo>
                  <a:lnTo>
                    <a:pt x="745" y="589"/>
                  </a:lnTo>
                  <a:lnTo>
                    <a:pt x="631" y="522"/>
                  </a:lnTo>
                  <a:lnTo>
                    <a:pt x="510" y="459"/>
                  </a:lnTo>
                  <a:lnTo>
                    <a:pt x="385" y="402"/>
                  </a:lnTo>
                  <a:lnTo>
                    <a:pt x="371" y="397"/>
                  </a:lnTo>
                  <a:lnTo>
                    <a:pt x="360" y="394"/>
                  </a:lnTo>
                  <a:lnTo>
                    <a:pt x="354" y="394"/>
                  </a:lnTo>
                  <a:lnTo>
                    <a:pt x="350" y="394"/>
                  </a:lnTo>
                  <a:lnTo>
                    <a:pt x="347" y="396"/>
                  </a:lnTo>
                  <a:lnTo>
                    <a:pt x="344" y="397"/>
                  </a:lnTo>
                  <a:lnTo>
                    <a:pt x="339" y="400"/>
                  </a:lnTo>
                  <a:lnTo>
                    <a:pt x="334" y="404"/>
                  </a:lnTo>
                  <a:lnTo>
                    <a:pt x="331" y="409"/>
                  </a:lnTo>
                  <a:lnTo>
                    <a:pt x="328" y="413"/>
                  </a:lnTo>
                  <a:lnTo>
                    <a:pt x="146" y="797"/>
                  </a:lnTo>
                  <a:lnTo>
                    <a:pt x="0" y="601"/>
                  </a:lnTo>
                  <a:lnTo>
                    <a:pt x="146" y="186"/>
                  </a:lnTo>
                  <a:lnTo>
                    <a:pt x="154" y="158"/>
                  </a:lnTo>
                  <a:lnTo>
                    <a:pt x="165" y="132"/>
                  </a:lnTo>
                  <a:lnTo>
                    <a:pt x="170" y="119"/>
                  </a:lnTo>
                  <a:lnTo>
                    <a:pt x="176" y="108"/>
                  </a:lnTo>
                  <a:lnTo>
                    <a:pt x="183" y="97"/>
                  </a:lnTo>
                  <a:lnTo>
                    <a:pt x="189" y="86"/>
                  </a:lnTo>
                  <a:lnTo>
                    <a:pt x="195" y="76"/>
                  </a:lnTo>
                  <a:lnTo>
                    <a:pt x="203" y="67"/>
                  </a:lnTo>
                  <a:lnTo>
                    <a:pt x="210" y="59"/>
                  </a:lnTo>
                  <a:lnTo>
                    <a:pt x="218" y="50"/>
                  </a:lnTo>
                  <a:lnTo>
                    <a:pt x="226" y="43"/>
                  </a:lnTo>
                  <a:lnTo>
                    <a:pt x="234" y="37"/>
                  </a:lnTo>
                  <a:lnTo>
                    <a:pt x="243" y="30"/>
                  </a:lnTo>
                  <a:lnTo>
                    <a:pt x="252" y="24"/>
                  </a:lnTo>
                  <a:lnTo>
                    <a:pt x="261" y="19"/>
                  </a:lnTo>
                  <a:lnTo>
                    <a:pt x="271" y="15"/>
                  </a:lnTo>
                  <a:lnTo>
                    <a:pt x="281" y="10"/>
                  </a:lnTo>
                  <a:lnTo>
                    <a:pt x="292" y="7"/>
                  </a:lnTo>
                  <a:lnTo>
                    <a:pt x="302" y="5"/>
                  </a:lnTo>
                  <a:lnTo>
                    <a:pt x="312" y="3"/>
                  </a:lnTo>
                  <a:lnTo>
                    <a:pt x="324" y="1"/>
                  </a:lnTo>
                  <a:lnTo>
                    <a:pt x="335" y="1"/>
                  </a:lnTo>
                  <a:lnTo>
                    <a:pt x="347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5" y="3"/>
                  </a:lnTo>
                  <a:lnTo>
                    <a:pt x="411" y="8"/>
                  </a:lnTo>
                  <a:lnTo>
                    <a:pt x="439" y="16"/>
                  </a:lnTo>
                  <a:lnTo>
                    <a:pt x="550" y="73"/>
                  </a:lnTo>
                  <a:lnTo>
                    <a:pt x="659" y="138"/>
                  </a:lnTo>
                  <a:lnTo>
                    <a:pt x="766" y="208"/>
                  </a:lnTo>
                  <a:lnTo>
                    <a:pt x="870" y="284"/>
                  </a:lnTo>
                  <a:lnTo>
                    <a:pt x="972" y="365"/>
                  </a:lnTo>
                  <a:lnTo>
                    <a:pt x="1071" y="451"/>
                  </a:lnTo>
                  <a:lnTo>
                    <a:pt x="1168" y="542"/>
                  </a:lnTo>
                  <a:lnTo>
                    <a:pt x="1264" y="637"/>
                  </a:lnTo>
                  <a:lnTo>
                    <a:pt x="1356" y="737"/>
                  </a:lnTo>
                  <a:lnTo>
                    <a:pt x="1445" y="840"/>
                  </a:lnTo>
                  <a:lnTo>
                    <a:pt x="1533" y="947"/>
                  </a:lnTo>
                  <a:lnTo>
                    <a:pt x="1617" y="1057"/>
                  </a:lnTo>
                  <a:lnTo>
                    <a:pt x="1700" y="1170"/>
                  </a:lnTo>
                  <a:lnTo>
                    <a:pt x="1781" y="1285"/>
                  </a:lnTo>
                  <a:lnTo>
                    <a:pt x="1858" y="1403"/>
                  </a:lnTo>
                  <a:lnTo>
                    <a:pt x="1933" y="1522"/>
                  </a:lnTo>
                  <a:lnTo>
                    <a:pt x="2007" y="1645"/>
                  </a:lnTo>
                  <a:lnTo>
                    <a:pt x="2077" y="1768"/>
                  </a:lnTo>
                  <a:lnTo>
                    <a:pt x="2145" y="1892"/>
                  </a:lnTo>
                  <a:lnTo>
                    <a:pt x="2211" y="2017"/>
                  </a:lnTo>
                  <a:lnTo>
                    <a:pt x="2273" y="2143"/>
                  </a:lnTo>
                  <a:lnTo>
                    <a:pt x="2334" y="2270"/>
                  </a:lnTo>
                  <a:lnTo>
                    <a:pt x="2393" y="2395"/>
                  </a:lnTo>
                  <a:lnTo>
                    <a:pt x="2448" y="2522"/>
                  </a:lnTo>
                  <a:lnTo>
                    <a:pt x="2501" y="2646"/>
                  </a:lnTo>
                  <a:lnTo>
                    <a:pt x="2552" y="2771"/>
                  </a:lnTo>
                  <a:lnTo>
                    <a:pt x="2601" y="2894"/>
                  </a:lnTo>
                  <a:lnTo>
                    <a:pt x="2647" y="3016"/>
                  </a:lnTo>
                  <a:lnTo>
                    <a:pt x="2690" y="3136"/>
                  </a:lnTo>
                  <a:lnTo>
                    <a:pt x="2731" y="3253"/>
                  </a:lnTo>
                  <a:lnTo>
                    <a:pt x="2769" y="3369"/>
                  </a:lnTo>
                  <a:lnTo>
                    <a:pt x="2805" y="3482"/>
                  </a:lnTo>
                  <a:lnTo>
                    <a:pt x="3005" y="3244"/>
                  </a:lnTo>
                  <a:lnTo>
                    <a:pt x="3226" y="2979"/>
                  </a:lnTo>
                  <a:lnTo>
                    <a:pt x="3345" y="2840"/>
                  </a:lnTo>
                  <a:lnTo>
                    <a:pt x="3469" y="2695"/>
                  </a:lnTo>
                  <a:lnTo>
                    <a:pt x="3598" y="2550"/>
                  </a:lnTo>
                  <a:lnTo>
                    <a:pt x="3733" y="2401"/>
                  </a:lnTo>
                  <a:lnTo>
                    <a:pt x="3873" y="2253"/>
                  </a:lnTo>
                  <a:lnTo>
                    <a:pt x="4018" y="2105"/>
                  </a:lnTo>
                  <a:lnTo>
                    <a:pt x="4168" y="1958"/>
                  </a:lnTo>
                  <a:lnTo>
                    <a:pt x="4323" y="1812"/>
                  </a:lnTo>
                  <a:lnTo>
                    <a:pt x="4483" y="1670"/>
                  </a:lnTo>
                  <a:lnTo>
                    <a:pt x="4648" y="1532"/>
                  </a:lnTo>
                  <a:lnTo>
                    <a:pt x="4817" y="1398"/>
                  </a:lnTo>
                  <a:lnTo>
                    <a:pt x="4992" y="1271"/>
                  </a:lnTo>
                  <a:lnTo>
                    <a:pt x="5171" y="1150"/>
                  </a:lnTo>
                  <a:lnTo>
                    <a:pt x="5355" y="1038"/>
                  </a:lnTo>
                  <a:lnTo>
                    <a:pt x="5543" y="934"/>
                  </a:lnTo>
                  <a:lnTo>
                    <a:pt x="5736" y="840"/>
                  </a:lnTo>
                  <a:lnTo>
                    <a:pt x="5934" y="757"/>
                  </a:lnTo>
                  <a:lnTo>
                    <a:pt x="6134" y="685"/>
                  </a:lnTo>
                  <a:lnTo>
                    <a:pt x="6341" y="626"/>
                  </a:lnTo>
                  <a:lnTo>
                    <a:pt x="6551" y="581"/>
                  </a:lnTo>
                  <a:lnTo>
                    <a:pt x="6765" y="549"/>
                  </a:lnTo>
                  <a:lnTo>
                    <a:pt x="6984" y="535"/>
                  </a:lnTo>
                  <a:lnTo>
                    <a:pt x="7207" y="536"/>
                  </a:lnTo>
                  <a:lnTo>
                    <a:pt x="7434" y="555"/>
                  </a:lnTo>
                  <a:lnTo>
                    <a:pt x="7665" y="591"/>
                  </a:lnTo>
                  <a:lnTo>
                    <a:pt x="7900" y="648"/>
                  </a:lnTo>
                  <a:lnTo>
                    <a:pt x="8138" y="724"/>
                  </a:lnTo>
                  <a:lnTo>
                    <a:pt x="8381" y="8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36920" y="5845320"/>
              <a:ext cx="358920" cy="117360"/>
            </a:xfrm>
            <a:custGeom>
              <a:avLst/>
              <a:gdLst/>
              <a:ahLst/>
              <a:rect l="l" t="t" r="r" b="b"/>
              <a:pathLst>
                <a:path w="4965" h="1648">
                  <a:moveTo>
                    <a:pt x="0" y="1648"/>
                  </a:moveTo>
                  <a:lnTo>
                    <a:pt x="146" y="1505"/>
                  </a:lnTo>
                  <a:lnTo>
                    <a:pt x="289" y="1370"/>
                  </a:lnTo>
                  <a:lnTo>
                    <a:pt x="429" y="1243"/>
                  </a:lnTo>
                  <a:lnTo>
                    <a:pt x="567" y="1121"/>
                  </a:lnTo>
                  <a:lnTo>
                    <a:pt x="703" y="1007"/>
                  </a:lnTo>
                  <a:lnTo>
                    <a:pt x="836" y="898"/>
                  </a:lnTo>
                  <a:lnTo>
                    <a:pt x="969" y="798"/>
                  </a:lnTo>
                  <a:lnTo>
                    <a:pt x="1100" y="703"/>
                  </a:lnTo>
                  <a:lnTo>
                    <a:pt x="1230" y="614"/>
                  </a:lnTo>
                  <a:lnTo>
                    <a:pt x="1359" y="532"/>
                  </a:lnTo>
                  <a:lnTo>
                    <a:pt x="1488" y="456"/>
                  </a:lnTo>
                  <a:lnTo>
                    <a:pt x="1618" y="387"/>
                  </a:lnTo>
                  <a:lnTo>
                    <a:pt x="1747" y="323"/>
                  </a:lnTo>
                  <a:lnTo>
                    <a:pt x="1877" y="265"/>
                  </a:lnTo>
                  <a:lnTo>
                    <a:pt x="2008" y="213"/>
                  </a:lnTo>
                  <a:lnTo>
                    <a:pt x="2141" y="167"/>
                  </a:lnTo>
                  <a:lnTo>
                    <a:pt x="2275" y="127"/>
                  </a:lnTo>
                  <a:lnTo>
                    <a:pt x="2411" y="93"/>
                  </a:lnTo>
                  <a:lnTo>
                    <a:pt x="2550" y="63"/>
                  </a:lnTo>
                  <a:lnTo>
                    <a:pt x="2691" y="40"/>
                  </a:lnTo>
                  <a:lnTo>
                    <a:pt x="2835" y="22"/>
                  </a:lnTo>
                  <a:lnTo>
                    <a:pt x="2982" y="9"/>
                  </a:lnTo>
                  <a:lnTo>
                    <a:pt x="3133" y="2"/>
                  </a:lnTo>
                  <a:lnTo>
                    <a:pt x="3288" y="0"/>
                  </a:lnTo>
                  <a:lnTo>
                    <a:pt x="3446" y="3"/>
                  </a:lnTo>
                  <a:lnTo>
                    <a:pt x="3610" y="10"/>
                  </a:lnTo>
                  <a:lnTo>
                    <a:pt x="3778" y="24"/>
                  </a:lnTo>
                  <a:lnTo>
                    <a:pt x="3951" y="41"/>
                  </a:lnTo>
                  <a:lnTo>
                    <a:pt x="4130" y="63"/>
                  </a:lnTo>
                  <a:lnTo>
                    <a:pt x="4314" y="91"/>
                  </a:lnTo>
                  <a:lnTo>
                    <a:pt x="4506" y="122"/>
                  </a:lnTo>
                  <a:lnTo>
                    <a:pt x="4703" y="159"/>
                  </a:lnTo>
                  <a:lnTo>
                    <a:pt x="4743" y="171"/>
                  </a:lnTo>
                  <a:lnTo>
                    <a:pt x="4781" y="184"/>
                  </a:lnTo>
                  <a:lnTo>
                    <a:pt x="4815" y="197"/>
                  </a:lnTo>
                  <a:lnTo>
                    <a:pt x="4846" y="211"/>
                  </a:lnTo>
                  <a:lnTo>
                    <a:pt x="4860" y="218"/>
                  </a:lnTo>
                  <a:lnTo>
                    <a:pt x="4873" y="227"/>
                  </a:lnTo>
                  <a:lnTo>
                    <a:pt x="4886" y="234"/>
                  </a:lnTo>
                  <a:lnTo>
                    <a:pt x="4897" y="242"/>
                  </a:lnTo>
                  <a:lnTo>
                    <a:pt x="4908" y="251"/>
                  </a:lnTo>
                  <a:lnTo>
                    <a:pt x="4918" y="259"/>
                  </a:lnTo>
                  <a:lnTo>
                    <a:pt x="4926" y="268"/>
                  </a:lnTo>
                  <a:lnTo>
                    <a:pt x="4935" y="278"/>
                  </a:lnTo>
                  <a:lnTo>
                    <a:pt x="4941" y="287"/>
                  </a:lnTo>
                  <a:lnTo>
                    <a:pt x="4947" y="297"/>
                  </a:lnTo>
                  <a:lnTo>
                    <a:pt x="4953" y="307"/>
                  </a:lnTo>
                  <a:lnTo>
                    <a:pt x="4958" y="317"/>
                  </a:lnTo>
                  <a:lnTo>
                    <a:pt x="4961" y="328"/>
                  </a:lnTo>
                  <a:lnTo>
                    <a:pt x="4963" y="339"/>
                  </a:lnTo>
                  <a:lnTo>
                    <a:pt x="4965" y="350"/>
                  </a:lnTo>
                  <a:lnTo>
                    <a:pt x="4965" y="362"/>
                  </a:lnTo>
                  <a:lnTo>
                    <a:pt x="4965" y="373"/>
                  </a:lnTo>
                  <a:lnTo>
                    <a:pt x="4964" y="386"/>
                  </a:lnTo>
                  <a:lnTo>
                    <a:pt x="4962" y="398"/>
                  </a:lnTo>
                  <a:lnTo>
                    <a:pt x="4959" y="411"/>
                  </a:lnTo>
                  <a:lnTo>
                    <a:pt x="4954" y="424"/>
                  </a:lnTo>
                  <a:lnTo>
                    <a:pt x="4948" y="438"/>
                  </a:lnTo>
                  <a:lnTo>
                    <a:pt x="4943" y="452"/>
                  </a:lnTo>
                  <a:lnTo>
                    <a:pt x="4936" y="466"/>
                  </a:lnTo>
                  <a:lnTo>
                    <a:pt x="4365" y="1455"/>
                  </a:lnTo>
                  <a:lnTo>
                    <a:pt x="4186" y="1370"/>
                  </a:lnTo>
                  <a:lnTo>
                    <a:pt x="4520" y="546"/>
                  </a:lnTo>
                  <a:lnTo>
                    <a:pt x="4526" y="535"/>
                  </a:lnTo>
                  <a:lnTo>
                    <a:pt x="4528" y="525"/>
                  </a:lnTo>
                  <a:lnTo>
                    <a:pt x="4529" y="514"/>
                  </a:lnTo>
                  <a:lnTo>
                    <a:pt x="4528" y="504"/>
                  </a:lnTo>
                  <a:lnTo>
                    <a:pt x="4525" y="495"/>
                  </a:lnTo>
                  <a:lnTo>
                    <a:pt x="4520" y="485"/>
                  </a:lnTo>
                  <a:lnTo>
                    <a:pt x="4515" y="476"/>
                  </a:lnTo>
                  <a:lnTo>
                    <a:pt x="4509" y="467"/>
                  </a:lnTo>
                  <a:lnTo>
                    <a:pt x="4501" y="459"/>
                  </a:lnTo>
                  <a:lnTo>
                    <a:pt x="4491" y="451"/>
                  </a:lnTo>
                  <a:lnTo>
                    <a:pt x="4481" y="444"/>
                  </a:lnTo>
                  <a:lnTo>
                    <a:pt x="4469" y="437"/>
                  </a:lnTo>
                  <a:lnTo>
                    <a:pt x="4458" y="432"/>
                  </a:lnTo>
                  <a:lnTo>
                    <a:pt x="4444" y="426"/>
                  </a:lnTo>
                  <a:lnTo>
                    <a:pt x="4430" y="421"/>
                  </a:lnTo>
                  <a:lnTo>
                    <a:pt x="4417" y="418"/>
                  </a:lnTo>
                  <a:lnTo>
                    <a:pt x="4234" y="379"/>
                  </a:lnTo>
                  <a:lnTo>
                    <a:pt x="4058" y="347"/>
                  </a:lnTo>
                  <a:lnTo>
                    <a:pt x="3887" y="321"/>
                  </a:lnTo>
                  <a:lnTo>
                    <a:pt x="3722" y="301"/>
                  </a:lnTo>
                  <a:lnTo>
                    <a:pt x="3562" y="286"/>
                  </a:lnTo>
                  <a:lnTo>
                    <a:pt x="3406" y="278"/>
                  </a:lnTo>
                  <a:lnTo>
                    <a:pt x="3255" y="275"/>
                  </a:lnTo>
                  <a:lnTo>
                    <a:pt x="3110" y="277"/>
                  </a:lnTo>
                  <a:lnTo>
                    <a:pt x="2967" y="284"/>
                  </a:lnTo>
                  <a:lnTo>
                    <a:pt x="2827" y="297"/>
                  </a:lnTo>
                  <a:lnTo>
                    <a:pt x="2691" y="315"/>
                  </a:lnTo>
                  <a:lnTo>
                    <a:pt x="2559" y="338"/>
                  </a:lnTo>
                  <a:lnTo>
                    <a:pt x="2428" y="365"/>
                  </a:lnTo>
                  <a:lnTo>
                    <a:pt x="2300" y="397"/>
                  </a:lnTo>
                  <a:lnTo>
                    <a:pt x="2173" y="434"/>
                  </a:lnTo>
                  <a:lnTo>
                    <a:pt x="2048" y="475"/>
                  </a:lnTo>
                  <a:lnTo>
                    <a:pt x="1924" y="521"/>
                  </a:lnTo>
                  <a:lnTo>
                    <a:pt x="1802" y="571"/>
                  </a:lnTo>
                  <a:lnTo>
                    <a:pt x="1680" y="624"/>
                  </a:lnTo>
                  <a:lnTo>
                    <a:pt x="1558" y="683"/>
                  </a:lnTo>
                  <a:lnTo>
                    <a:pt x="1436" y="745"/>
                  </a:lnTo>
                  <a:lnTo>
                    <a:pt x="1313" y="811"/>
                  </a:lnTo>
                  <a:lnTo>
                    <a:pt x="1191" y="880"/>
                  </a:lnTo>
                  <a:lnTo>
                    <a:pt x="1067" y="952"/>
                  </a:lnTo>
                  <a:lnTo>
                    <a:pt x="942" y="1028"/>
                  </a:lnTo>
                  <a:lnTo>
                    <a:pt x="814" y="1108"/>
                  </a:lnTo>
                  <a:lnTo>
                    <a:pt x="686" y="1190"/>
                  </a:lnTo>
                  <a:lnTo>
                    <a:pt x="555" y="1276"/>
                  </a:lnTo>
                  <a:lnTo>
                    <a:pt x="284" y="1456"/>
                  </a:lnTo>
                  <a:lnTo>
                    <a:pt x="0" y="16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62160" y="5770440"/>
              <a:ext cx="189000" cy="117720"/>
            </a:xfrm>
            <a:custGeom>
              <a:avLst/>
              <a:gdLst/>
              <a:ahLst/>
              <a:rect l="l" t="t" r="r" b="b"/>
              <a:pathLst>
                <a:path w="2609" h="1631">
                  <a:moveTo>
                    <a:pt x="2609" y="1631"/>
                  </a:moveTo>
                  <a:lnTo>
                    <a:pt x="2515" y="1463"/>
                  </a:lnTo>
                  <a:lnTo>
                    <a:pt x="2427" y="1305"/>
                  </a:lnTo>
                  <a:lnTo>
                    <a:pt x="2383" y="1229"/>
                  </a:lnTo>
                  <a:lnTo>
                    <a:pt x="2341" y="1156"/>
                  </a:lnTo>
                  <a:lnTo>
                    <a:pt x="2299" y="1086"/>
                  </a:lnTo>
                  <a:lnTo>
                    <a:pt x="2258" y="1018"/>
                  </a:lnTo>
                  <a:lnTo>
                    <a:pt x="2217" y="952"/>
                  </a:lnTo>
                  <a:lnTo>
                    <a:pt x="2177" y="888"/>
                  </a:lnTo>
                  <a:lnTo>
                    <a:pt x="2135" y="826"/>
                  </a:lnTo>
                  <a:lnTo>
                    <a:pt x="2094" y="767"/>
                  </a:lnTo>
                  <a:lnTo>
                    <a:pt x="2052" y="710"/>
                  </a:lnTo>
                  <a:lnTo>
                    <a:pt x="2009" y="656"/>
                  </a:lnTo>
                  <a:lnTo>
                    <a:pt x="1966" y="603"/>
                  </a:lnTo>
                  <a:lnTo>
                    <a:pt x="1921" y="552"/>
                  </a:lnTo>
                  <a:lnTo>
                    <a:pt x="1876" y="504"/>
                  </a:lnTo>
                  <a:lnTo>
                    <a:pt x="1829" y="457"/>
                  </a:lnTo>
                  <a:lnTo>
                    <a:pt x="1780" y="413"/>
                  </a:lnTo>
                  <a:lnTo>
                    <a:pt x="1730" y="370"/>
                  </a:lnTo>
                  <a:lnTo>
                    <a:pt x="1678" y="330"/>
                  </a:lnTo>
                  <a:lnTo>
                    <a:pt x="1624" y="292"/>
                  </a:lnTo>
                  <a:lnTo>
                    <a:pt x="1568" y="255"/>
                  </a:lnTo>
                  <a:lnTo>
                    <a:pt x="1508" y="221"/>
                  </a:lnTo>
                  <a:lnTo>
                    <a:pt x="1446" y="188"/>
                  </a:lnTo>
                  <a:lnTo>
                    <a:pt x="1382" y="158"/>
                  </a:lnTo>
                  <a:lnTo>
                    <a:pt x="1314" y="129"/>
                  </a:lnTo>
                  <a:lnTo>
                    <a:pt x="1244" y="101"/>
                  </a:lnTo>
                  <a:lnTo>
                    <a:pt x="1170" y="76"/>
                  </a:lnTo>
                  <a:lnTo>
                    <a:pt x="1093" y="53"/>
                  </a:lnTo>
                  <a:lnTo>
                    <a:pt x="1012" y="31"/>
                  </a:lnTo>
                  <a:lnTo>
                    <a:pt x="927" y="10"/>
                  </a:lnTo>
                  <a:lnTo>
                    <a:pt x="910" y="7"/>
                  </a:lnTo>
                  <a:lnTo>
                    <a:pt x="893" y="5"/>
                  </a:lnTo>
                  <a:lnTo>
                    <a:pt x="876" y="3"/>
                  </a:lnTo>
                  <a:lnTo>
                    <a:pt x="859" y="2"/>
                  </a:lnTo>
                  <a:lnTo>
                    <a:pt x="825" y="0"/>
                  </a:lnTo>
                  <a:lnTo>
                    <a:pt x="792" y="1"/>
                  </a:lnTo>
                  <a:lnTo>
                    <a:pt x="760" y="4"/>
                  </a:lnTo>
                  <a:lnTo>
                    <a:pt x="727" y="8"/>
                  </a:lnTo>
                  <a:lnTo>
                    <a:pt x="696" y="15"/>
                  </a:lnTo>
                  <a:lnTo>
                    <a:pt x="667" y="24"/>
                  </a:lnTo>
                  <a:lnTo>
                    <a:pt x="637" y="33"/>
                  </a:lnTo>
                  <a:lnTo>
                    <a:pt x="610" y="45"/>
                  </a:lnTo>
                  <a:lnTo>
                    <a:pt x="585" y="58"/>
                  </a:lnTo>
                  <a:lnTo>
                    <a:pt x="561" y="72"/>
                  </a:lnTo>
                  <a:lnTo>
                    <a:pt x="550" y="80"/>
                  </a:lnTo>
                  <a:lnTo>
                    <a:pt x="539" y="88"/>
                  </a:lnTo>
                  <a:lnTo>
                    <a:pt x="529" y="96"/>
                  </a:lnTo>
                  <a:lnTo>
                    <a:pt x="518" y="105"/>
                  </a:lnTo>
                  <a:lnTo>
                    <a:pt x="509" y="114"/>
                  </a:lnTo>
                  <a:lnTo>
                    <a:pt x="500" y="123"/>
                  </a:lnTo>
                  <a:lnTo>
                    <a:pt x="492" y="133"/>
                  </a:lnTo>
                  <a:lnTo>
                    <a:pt x="485" y="142"/>
                  </a:lnTo>
                  <a:lnTo>
                    <a:pt x="0" y="778"/>
                  </a:lnTo>
                  <a:lnTo>
                    <a:pt x="268" y="848"/>
                  </a:lnTo>
                  <a:lnTo>
                    <a:pt x="415" y="582"/>
                  </a:lnTo>
                  <a:lnTo>
                    <a:pt x="420" y="572"/>
                  </a:lnTo>
                  <a:lnTo>
                    <a:pt x="429" y="565"/>
                  </a:lnTo>
                  <a:lnTo>
                    <a:pt x="440" y="560"/>
                  </a:lnTo>
                  <a:lnTo>
                    <a:pt x="452" y="555"/>
                  </a:lnTo>
                  <a:lnTo>
                    <a:pt x="467" y="553"/>
                  </a:lnTo>
                  <a:lnTo>
                    <a:pt x="484" y="552"/>
                  </a:lnTo>
                  <a:lnTo>
                    <a:pt x="502" y="553"/>
                  </a:lnTo>
                  <a:lnTo>
                    <a:pt x="522" y="555"/>
                  </a:lnTo>
                  <a:lnTo>
                    <a:pt x="543" y="560"/>
                  </a:lnTo>
                  <a:lnTo>
                    <a:pt x="566" y="565"/>
                  </a:lnTo>
                  <a:lnTo>
                    <a:pt x="589" y="571"/>
                  </a:lnTo>
                  <a:lnTo>
                    <a:pt x="614" y="578"/>
                  </a:lnTo>
                  <a:lnTo>
                    <a:pt x="641" y="587"/>
                  </a:lnTo>
                  <a:lnTo>
                    <a:pt x="668" y="597"/>
                  </a:lnTo>
                  <a:lnTo>
                    <a:pt x="695" y="608"/>
                  </a:lnTo>
                  <a:lnTo>
                    <a:pt x="723" y="619"/>
                  </a:lnTo>
                  <a:lnTo>
                    <a:pt x="753" y="633"/>
                  </a:lnTo>
                  <a:lnTo>
                    <a:pt x="782" y="646"/>
                  </a:lnTo>
                  <a:lnTo>
                    <a:pt x="811" y="661"/>
                  </a:lnTo>
                  <a:lnTo>
                    <a:pt x="840" y="676"/>
                  </a:lnTo>
                  <a:lnTo>
                    <a:pt x="871" y="692"/>
                  </a:lnTo>
                  <a:lnTo>
                    <a:pt x="900" y="709"/>
                  </a:lnTo>
                  <a:lnTo>
                    <a:pt x="929" y="726"/>
                  </a:lnTo>
                  <a:lnTo>
                    <a:pt x="959" y="744"/>
                  </a:lnTo>
                  <a:lnTo>
                    <a:pt x="987" y="763"/>
                  </a:lnTo>
                  <a:lnTo>
                    <a:pt x="1015" y="781"/>
                  </a:lnTo>
                  <a:lnTo>
                    <a:pt x="1042" y="800"/>
                  </a:lnTo>
                  <a:lnTo>
                    <a:pt x="1070" y="819"/>
                  </a:lnTo>
                  <a:lnTo>
                    <a:pt x="1096" y="839"/>
                  </a:lnTo>
                  <a:lnTo>
                    <a:pt x="1120" y="859"/>
                  </a:lnTo>
                  <a:lnTo>
                    <a:pt x="1144" y="879"/>
                  </a:lnTo>
                  <a:lnTo>
                    <a:pt x="1166" y="899"/>
                  </a:lnTo>
                  <a:lnTo>
                    <a:pt x="1149" y="867"/>
                  </a:lnTo>
                  <a:lnTo>
                    <a:pt x="1132" y="836"/>
                  </a:lnTo>
                  <a:lnTo>
                    <a:pt x="1114" y="804"/>
                  </a:lnTo>
                  <a:lnTo>
                    <a:pt x="1093" y="774"/>
                  </a:lnTo>
                  <a:lnTo>
                    <a:pt x="1071" y="744"/>
                  </a:lnTo>
                  <a:lnTo>
                    <a:pt x="1048" y="714"/>
                  </a:lnTo>
                  <a:lnTo>
                    <a:pt x="1023" y="685"/>
                  </a:lnTo>
                  <a:lnTo>
                    <a:pt x="995" y="657"/>
                  </a:lnTo>
                  <a:lnTo>
                    <a:pt x="967" y="630"/>
                  </a:lnTo>
                  <a:lnTo>
                    <a:pt x="936" y="604"/>
                  </a:lnTo>
                  <a:lnTo>
                    <a:pt x="903" y="577"/>
                  </a:lnTo>
                  <a:lnTo>
                    <a:pt x="869" y="552"/>
                  </a:lnTo>
                  <a:lnTo>
                    <a:pt x="832" y="528"/>
                  </a:lnTo>
                  <a:lnTo>
                    <a:pt x="792" y="504"/>
                  </a:lnTo>
                  <a:lnTo>
                    <a:pt x="750" y="482"/>
                  </a:lnTo>
                  <a:lnTo>
                    <a:pt x="707" y="460"/>
                  </a:lnTo>
                  <a:lnTo>
                    <a:pt x="699" y="451"/>
                  </a:lnTo>
                  <a:lnTo>
                    <a:pt x="692" y="441"/>
                  </a:lnTo>
                  <a:lnTo>
                    <a:pt x="687" y="431"/>
                  </a:lnTo>
                  <a:lnTo>
                    <a:pt x="681" y="420"/>
                  </a:lnTo>
                  <a:lnTo>
                    <a:pt x="677" y="410"/>
                  </a:lnTo>
                  <a:lnTo>
                    <a:pt x="675" y="398"/>
                  </a:lnTo>
                  <a:lnTo>
                    <a:pt x="673" y="388"/>
                  </a:lnTo>
                  <a:lnTo>
                    <a:pt x="672" y="376"/>
                  </a:lnTo>
                  <a:lnTo>
                    <a:pt x="672" y="365"/>
                  </a:lnTo>
                  <a:lnTo>
                    <a:pt x="674" y="355"/>
                  </a:lnTo>
                  <a:lnTo>
                    <a:pt x="676" y="344"/>
                  </a:lnTo>
                  <a:lnTo>
                    <a:pt x="679" y="334"/>
                  </a:lnTo>
                  <a:lnTo>
                    <a:pt x="685" y="323"/>
                  </a:lnTo>
                  <a:lnTo>
                    <a:pt x="690" y="314"/>
                  </a:lnTo>
                  <a:lnTo>
                    <a:pt x="697" y="304"/>
                  </a:lnTo>
                  <a:lnTo>
                    <a:pt x="705" y="295"/>
                  </a:lnTo>
                  <a:lnTo>
                    <a:pt x="715" y="288"/>
                  </a:lnTo>
                  <a:lnTo>
                    <a:pt x="725" y="279"/>
                  </a:lnTo>
                  <a:lnTo>
                    <a:pt x="737" y="273"/>
                  </a:lnTo>
                  <a:lnTo>
                    <a:pt x="749" y="267"/>
                  </a:lnTo>
                  <a:lnTo>
                    <a:pt x="764" y="262"/>
                  </a:lnTo>
                  <a:lnTo>
                    <a:pt x="780" y="258"/>
                  </a:lnTo>
                  <a:lnTo>
                    <a:pt x="797" y="255"/>
                  </a:lnTo>
                  <a:lnTo>
                    <a:pt x="814" y="253"/>
                  </a:lnTo>
                  <a:lnTo>
                    <a:pt x="834" y="253"/>
                  </a:lnTo>
                  <a:lnTo>
                    <a:pt x="855" y="254"/>
                  </a:lnTo>
                  <a:lnTo>
                    <a:pt x="877" y="255"/>
                  </a:lnTo>
                  <a:lnTo>
                    <a:pt x="900" y="259"/>
                  </a:lnTo>
                  <a:lnTo>
                    <a:pt x="925" y="265"/>
                  </a:lnTo>
                  <a:lnTo>
                    <a:pt x="951" y="271"/>
                  </a:lnTo>
                  <a:lnTo>
                    <a:pt x="979" y="279"/>
                  </a:lnTo>
                  <a:lnTo>
                    <a:pt x="1008" y="289"/>
                  </a:lnTo>
                  <a:lnTo>
                    <a:pt x="1093" y="324"/>
                  </a:lnTo>
                  <a:lnTo>
                    <a:pt x="1173" y="360"/>
                  </a:lnTo>
                  <a:lnTo>
                    <a:pt x="1250" y="395"/>
                  </a:lnTo>
                  <a:lnTo>
                    <a:pt x="1324" y="432"/>
                  </a:lnTo>
                  <a:lnTo>
                    <a:pt x="1394" y="470"/>
                  </a:lnTo>
                  <a:lnTo>
                    <a:pt x="1462" y="507"/>
                  </a:lnTo>
                  <a:lnTo>
                    <a:pt x="1527" y="545"/>
                  </a:lnTo>
                  <a:lnTo>
                    <a:pt x="1589" y="584"/>
                  </a:lnTo>
                  <a:lnTo>
                    <a:pt x="1648" y="622"/>
                  </a:lnTo>
                  <a:lnTo>
                    <a:pt x="1705" y="662"/>
                  </a:lnTo>
                  <a:lnTo>
                    <a:pt x="1759" y="702"/>
                  </a:lnTo>
                  <a:lnTo>
                    <a:pt x="1811" y="743"/>
                  </a:lnTo>
                  <a:lnTo>
                    <a:pt x="1862" y="784"/>
                  </a:lnTo>
                  <a:lnTo>
                    <a:pt x="1910" y="824"/>
                  </a:lnTo>
                  <a:lnTo>
                    <a:pt x="1957" y="865"/>
                  </a:lnTo>
                  <a:lnTo>
                    <a:pt x="2002" y="907"/>
                  </a:lnTo>
                  <a:lnTo>
                    <a:pt x="2045" y="950"/>
                  </a:lnTo>
                  <a:lnTo>
                    <a:pt x="2087" y="993"/>
                  </a:lnTo>
                  <a:lnTo>
                    <a:pt x="2127" y="1036"/>
                  </a:lnTo>
                  <a:lnTo>
                    <a:pt x="2167" y="1080"/>
                  </a:lnTo>
                  <a:lnTo>
                    <a:pt x="2206" y="1124"/>
                  </a:lnTo>
                  <a:lnTo>
                    <a:pt x="2244" y="1168"/>
                  </a:lnTo>
                  <a:lnTo>
                    <a:pt x="2281" y="1213"/>
                  </a:lnTo>
                  <a:lnTo>
                    <a:pt x="2318" y="1258"/>
                  </a:lnTo>
                  <a:lnTo>
                    <a:pt x="2390" y="1349"/>
                  </a:lnTo>
                  <a:lnTo>
                    <a:pt x="2462" y="1442"/>
                  </a:lnTo>
                  <a:lnTo>
                    <a:pt x="2535" y="1536"/>
                  </a:lnTo>
                  <a:lnTo>
                    <a:pt x="2609" y="163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02040" y="5813280"/>
              <a:ext cx="303120" cy="561960"/>
            </a:xfrm>
            <a:custGeom>
              <a:avLst/>
              <a:gdLst/>
              <a:ahLst/>
              <a:rect l="l" t="t" r="r" b="b"/>
              <a:pathLst>
                <a:path w="4202" h="7797">
                  <a:moveTo>
                    <a:pt x="3734" y="2147"/>
                  </a:moveTo>
                  <a:lnTo>
                    <a:pt x="3656" y="2056"/>
                  </a:lnTo>
                  <a:lnTo>
                    <a:pt x="3576" y="1965"/>
                  </a:lnTo>
                  <a:lnTo>
                    <a:pt x="3496" y="1876"/>
                  </a:lnTo>
                  <a:lnTo>
                    <a:pt x="3414" y="1790"/>
                  </a:lnTo>
                  <a:lnTo>
                    <a:pt x="3332" y="1704"/>
                  </a:lnTo>
                  <a:lnTo>
                    <a:pt x="3248" y="1619"/>
                  </a:lnTo>
                  <a:lnTo>
                    <a:pt x="3163" y="1536"/>
                  </a:lnTo>
                  <a:lnTo>
                    <a:pt x="3076" y="1455"/>
                  </a:lnTo>
                  <a:lnTo>
                    <a:pt x="2988" y="1375"/>
                  </a:lnTo>
                  <a:lnTo>
                    <a:pt x="2899" y="1297"/>
                  </a:lnTo>
                  <a:lnTo>
                    <a:pt x="2809" y="1220"/>
                  </a:lnTo>
                  <a:lnTo>
                    <a:pt x="2718" y="1146"/>
                  </a:lnTo>
                  <a:lnTo>
                    <a:pt x="2625" y="1073"/>
                  </a:lnTo>
                  <a:lnTo>
                    <a:pt x="2531" y="1002"/>
                  </a:lnTo>
                  <a:lnTo>
                    <a:pt x="2435" y="933"/>
                  </a:lnTo>
                  <a:lnTo>
                    <a:pt x="2339" y="865"/>
                  </a:lnTo>
                  <a:lnTo>
                    <a:pt x="2240" y="799"/>
                  </a:lnTo>
                  <a:lnTo>
                    <a:pt x="2140" y="734"/>
                  </a:lnTo>
                  <a:lnTo>
                    <a:pt x="2038" y="672"/>
                  </a:lnTo>
                  <a:lnTo>
                    <a:pt x="1935" y="611"/>
                  </a:lnTo>
                  <a:lnTo>
                    <a:pt x="1830" y="553"/>
                  </a:lnTo>
                  <a:lnTo>
                    <a:pt x="1724" y="495"/>
                  </a:lnTo>
                  <a:lnTo>
                    <a:pt x="1617" y="441"/>
                  </a:lnTo>
                  <a:lnTo>
                    <a:pt x="1507" y="387"/>
                  </a:lnTo>
                  <a:lnTo>
                    <a:pt x="1396" y="337"/>
                  </a:lnTo>
                  <a:lnTo>
                    <a:pt x="1283" y="288"/>
                  </a:lnTo>
                  <a:lnTo>
                    <a:pt x="1169" y="241"/>
                  </a:lnTo>
                  <a:lnTo>
                    <a:pt x="1053" y="195"/>
                  </a:lnTo>
                  <a:lnTo>
                    <a:pt x="934" y="152"/>
                  </a:lnTo>
                  <a:lnTo>
                    <a:pt x="814" y="111"/>
                  </a:lnTo>
                  <a:lnTo>
                    <a:pt x="693" y="72"/>
                  </a:lnTo>
                  <a:lnTo>
                    <a:pt x="569" y="36"/>
                  </a:lnTo>
                  <a:lnTo>
                    <a:pt x="545" y="26"/>
                  </a:lnTo>
                  <a:lnTo>
                    <a:pt x="520" y="18"/>
                  </a:lnTo>
                  <a:lnTo>
                    <a:pt x="494" y="12"/>
                  </a:lnTo>
                  <a:lnTo>
                    <a:pt x="468" y="7"/>
                  </a:lnTo>
                  <a:lnTo>
                    <a:pt x="439" y="3"/>
                  </a:lnTo>
                  <a:lnTo>
                    <a:pt x="412" y="1"/>
                  </a:lnTo>
                  <a:lnTo>
                    <a:pt x="384" y="0"/>
                  </a:lnTo>
                  <a:lnTo>
                    <a:pt x="357" y="1"/>
                  </a:lnTo>
                  <a:lnTo>
                    <a:pt x="328" y="4"/>
                  </a:lnTo>
                  <a:lnTo>
                    <a:pt x="300" y="9"/>
                  </a:lnTo>
                  <a:lnTo>
                    <a:pt x="273" y="14"/>
                  </a:lnTo>
                  <a:lnTo>
                    <a:pt x="246" y="20"/>
                  </a:lnTo>
                  <a:lnTo>
                    <a:pt x="220" y="28"/>
                  </a:lnTo>
                  <a:lnTo>
                    <a:pt x="194" y="38"/>
                  </a:lnTo>
                  <a:lnTo>
                    <a:pt x="168" y="49"/>
                  </a:lnTo>
                  <a:lnTo>
                    <a:pt x="145" y="61"/>
                  </a:lnTo>
                  <a:lnTo>
                    <a:pt x="122" y="75"/>
                  </a:lnTo>
                  <a:lnTo>
                    <a:pt x="101" y="89"/>
                  </a:lnTo>
                  <a:lnTo>
                    <a:pt x="83" y="106"/>
                  </a:lnTo>
                  <a:lnTo>
                    <a:pt x="65" y="124"/>
                  </a:lnTo>
                  <a:lnTo>
                    <a:pt x="48" y="141"/>
                  </a:lnTo>
                  <a:lnTo>
                    <a:pt x="34" y="161"/>
                  </a:lnTo>
                  <a:lnTo>
                    <a:pt x="23" y="183"/>
                  </a:lnTo>
                  <a:lnTo>
                    <a:pt x="14" y="205"/>
                  </a:lnTo>
                  <a:lnTo>
                    <a:pt x="6" y="228"/>
                  </a:lnTo>
                  <a:lnTo>
                    <a:pt x="2" y="253"/>
                  </a:lnTo>
                  <a:lnTo>
                    <a:pt x="0" y="279"/>
                  </a:lnTo>
                  <a:lnTo>
                    <a:pt x="2" y="306"/>
                  </a:lnTo>
                  <a:lnTo>
                    <a:pt x="6" y="334"/>
                  </a:lnTo>
                  <a:lnTo>
                    <a:pt x="14" y="363"/>
                  </a:lnTo>
                  <a:lnTo>
                    <a:pt x="24" y="393"/>
                  </a:lnTo>
                  <a:lnTo>
                    <a:pt x="39" y="424"/>
                  </a:lnTo>
                  <a:lnTo>
                    <a:pt x="128" y="587"/>
                  </a:lnTo>
                  <a:lnTo>
                    <a:pt x="213" y="753"/>
                  </a:lnTo>
                  <a:lnTo>
                    <a:pt x="295" y="920"/>
                  </a:lnTo>
                  <a:lnTo>
                    <a:pt x="375" y="1088"/>
                  </a:lnTo>
                  <a:lnTo>
                    <a:pt x="451" y="1258"/>
                  </a:lnTo>
                  <a:lnTo>
                    <a:pt x="524" y="1430"/>
                  </a:lnTo>
                  <a:lnTo>
                    <a:pt x="594" y="1602"/>
                  </a:lnTo>
                  <a:lnTo>
                    <a:pt x="662" y="1777"/>
                  </a:lnTo>
                  <a:lnTo>
                    <a:pt x="728" y="1953"/>
                  </a:lnTo>
                  <a:lnTo>
                    <a:pt x="791" y="2129"/>
                  </a:lnTo>
                  <a:lnTo>
                    <a:pt x="851" y="2306"/>
                  </a:lnTo>
                  <a:lnTo>
                    <a:pt x="909" y="2485"/>
                  </a:lnTo>
                  <a:lnTo>
                    <a:pt x="965" y="2665"/>
                  </a:lnTo>
                  <a:lnTo>
                    <a:pt x="1019" y="2845"/>
                  </a:lnTo>
                  <a:lnTo>
                    <a:pt x="1070" y="3026"/>
                  </a:lnTo>
                  <a:lnTo>
                    <a:pt x="1120" y="3208"/>
                  </a:lnTo>
                  <a:lnTo>
                    <a:pt x="1168" y="3392"/>
                  </a:lnTo>
                  <a:lnTo>
                    <a:pt x="1214" y="3575"/>
                  </a:lnTo>
                  <a:lnTo>
                    <a:pt x="1258" y="3759"/>
                  </a:lnTo>
                  <a:lnTo>
                    <a:pt x="1301" y="3943"/>
                  </a:lnTo>
                  <a:lnTo>
                    <a:pt x="1341" y="4127"/>
                  </a:lnTo>
                  <a:lnTo>
                    <a:pt x="1381" y="4312"/>
                  </a:lnTo>
                  <a:lnTo>
                    <a:pt x="1420" y="4498"/>
                  </a:lnTo>
                  <a:lnTo>
                    <a:pt x="1458" y="4683"/>
                  </a:lnTo>
                  <a:lnTo>
                    <a:pt x="1493" y="4868"/>
                  </a:lnTo>
                  <a:lnTo>
                    <a:pt x="1528" y="5053"/>
                  </a:lnTo>
                  <a:lnTo>
                    <a:pt x="1562" y="5238"/>
                  </a:lnTo>
                  <a:lnTo>
                    <a:pt x="1596" y="5424"/>
                  </a:lnTo>
                  <a:lnTo>
                    <a:pt x="1659" y="5793"/>
                  </a:lnTo>
                  <a:lnTo>
                    <a:pt x="1721" y="6161"/>
                  </a:lnTo>
                  <a:lnTo>
                    <a:pt x="1724" y="6180"/>
                  </a:lnTo>
                  <a:lnTo>
                    <a:pt x="1727" y="6198"/>
                  </a:lnTo>
                  <a:lnTo>
                    <a:pt x="1732" y="6216"/>
                  </a:lnTo>
                  <a:lnTo>
                    <a:pt x="1737" y="6232"/>
                  </a:lnTo>
                  <a:lnTo>
                    <a:pt x="1741" y="6248"/>
                  </a:lnTo>
                  <a:lnTo>
                    <a:pt x="1747" y="6264"/>
                  </a:lnTo>
                  <a:lnTo>
                    <a:pt x="1753" y="6280"/>
                  </a:lnTo>
                  <a:lnTo>
                    <a:pt x="1759" y="6293"/>
                  </a:lnTo>
                  <a:lnTo>
                    <a:pt x="1765" y="6308"/>
                  </a:lnTo>
                  <a:lnTo>
                    <a:pt x="1772" y="6321"/>
                  </a:lnTo>
                  <a:lnTo>
                    <a:pt x="1779" y="6334"/>
                  </a:lnTo>
                  <a:lnTo>
                    <a:pt x="1787" y="6346"/>
                  </a:lnTo>
                  <a:lnTo>
                    <a:pt x="1794" y="6358"/>
                  </a:lnTo>
                  <a:lnTo>
                    <a:pt x="1803" y="6370"/>
                  </a:lnTo>
                  <a:lnTo>
                    <a:pt x="1811" y="6380"/>
                  </a:lnTo>
                  <a:lnTo>
                    <a:pt x="1820" y="6390"/>
                  </a:lnTo>
                  <a:lnTo>
                    <a:pt x="1829" y="6401"/>
                  </a:lnTo>
                  <a:lnTo>
                    <a:pt x="1838" y="6409"/>
                  </a:lnTo>
                  <a:lnTo>
                    <a:pt x="1848" y="6419"/>
                  </a:lnTo>
                  <a:lnTo>
                    <a:pt x="1857" y="6427"/>
                  </a:lnTo>
                  <a:lnTo>
                    <a:pt x="1868" y="6434"/>
                  </a:lnTo>
                  <a:lnTo>
                    <a:pt x="1878" y="6442"/>
                  </a:lnTo>
                  <a:lnTo>
                    <a:pt x="1889" y="6449"/>
                  </a:lnTo>
                  <a:lnTo>
                    <a:pt x="1899" y="6455"/>
                  </a:lnTo>
                  <a:lnTo>
                    <a:pt x="1910" y="6462"/>
                  </a:lnTo>
                  <a:lnTo>
                    <a:pt x="1921" y="6467"/>
                  </a:lnTo>
                  <a:lnTo>
                    <a:pt x="1933" y="6471"/>
                  </a:lnTo>
                  <a:lnTo>
                    <a:pt x="1944" y="6476"/>
                  </a:lnTo>
                  <a:lnTo>
                    <a:pt x="1967" y="6484"/>
                  </a:lnTo>
                  <a:lnTo>
                    <a:pt x="1991" y="6490"/>
                  </a:lnTo>
                  <a:lnTo>
                    <a:pt x="2073" y="6508"/>
                  </a:lnTo>
                  <a:lnTo>
                    <a:pt x="2152" y="6528"/>
                  </a:lnTo>
                  <a:lnTo>
                    <a:pt x="2232" y="6548"/>
                  </a:lnTo>
                  <a:lnTo>
                    <a:pt x="2309" y="6573"/>
                  </a:lnTo>
                  <a:lnTo>
                    <a:pt x="2386" y="6598"/>
                  </a:lnTo>
                  <a:lnTo>
                    <a:pt x="2462" y="6624"/>
                  </a:lnTo>
                  <a:lnTo>
                    <a:pt x="2536" y="6652"/>
                  </a:lnTo>
                  <a:lnTo>
                    <a:pt x="2611" y="6682"/>
                  </a:lnTo>
                  <a:lnTo>
                    <a:pt x="2683" y="6714"/>
                  </a:lnTo>
                  <a:lnTo>
                    <a:pt x="2755" y="6747"/>
                  </a:lnTo>
                  <a:lnTo>
                    <a:pt x="2826" y="6782"/>
                  </a:lnTo>
                  <a:lnTo>
                    <a:pt x="2896" y="6818"/>
                  </a:lnTo>
                  <a:lnTo>
                    <a:pt x="2965" y="6856"/>
                  </a:lnTo>
                  <a:lnTo>
                    <a:pt x="3034" y="6895"/>
                  </a:lnTo>
                  <a:lnTo>
                    <a:pt x="3102" y="6936"/>
                  </a:lnTo>
                  <a:lnTo>
                    <a:pt x="3170" y="6977"/>
                  </a:lnTo>
                  <a:lnTo>
                    <a:pt x="3237" y="7020"/>
                  </a:lnTo>
                  <a:lnTo>
                    <a:pt x="3304" y="7064"/>
                  </a:lnTo>
                  <a:lnTo>
                    <a:pt x="3370" y="7110"/>
                  </a:lnTo>
                  <a:lnTo>
                    <a:pt x="3435" y="7156"/>
                  </a:lnTo>
                  <a:lnTo>
                    <a:pt x="3501" y="7205"/>
                  </a:lnTo>
                  <a:lnTo>
                    <a:pt x="3565" y="7254"/>
                  </a:lnTo>
                  <a:lnTo>
                    <a:pt x="3630" y="7304"/>
                  </a:lnTo>
                  <a:lnTo>
                    <a:pt x="3694" y="7354"/>
                  </a:lnTo>
                  <a:lnTo>
                    <a:pt x="3757" y="7406"/>
                  </a:lnTo>
                  <a:lnTo>
                    <a:pt x="3821" y="7460"/>
                  </a:lnTo>
                  <a:lnTo>
                    <a:pt x="3885" y="7514"/>
                  </a:lnTo>
                  <a:lnTo>
                    <a:pt x="3949" y="7569"/>
                  </a:lnTo>
                  <a:lnTo>
                    <a:pt x="4012" y="7624"/>
                  </a:lnTo>
                  <a:lnTo>
                    <a:pt x="4076" y="7681"/>
                  </a:lnTo>
                  <a:lnTo>
                    <a:pt x="4138" y="7738"/>
                  </a:lnTo>
                  <a:lnTo>
                    <a:pt x="4202" y="7797"/>
                  </a:lnTo>
                  <a:lnTo>
                    <a:pt x="4146" y="7342"/>
                  </a:lnTo>
                  <a:lnTo>
                    <a:pt x="4055" y="7260"/>
                  </a:lnTo>
                  <a:lnTo>
                    <a:pt x="3957" y="7174"/>
                  </a:lnTo>
                  <a:lnTo>
                    <a:pt x="3906" y="7130"/>
                  </a:lnTo>
                  <a:lnTo>
                    <a:pt x="3853" y="7085"/>
                  </a:lnTo>
                  <a:lnTo>
                    <a:pt x="3799" y="7041"/>
                  </a:lnTo>
                  <a:lnTo>
                    <a:pt x="3744" y="6995"/>
                  </a:lnTo>
                  <a:lnTo>
                    <a:pt x="3686" y="6950"/>
                  </a:lnTo>
                  <a:lnTo>
                    <a:pt x="3629" y="6905"/>
                  </a:lnTo>
                  <a:lnTo>
                    <a:pt x="3569" y="6860"/>
                  </a:lnTo>
                  <a:lnTo>
                    <a:pt x="3509" y="6815"/>
                  </a:lnTo>
                  <a:lnTo>
                    <a:pt x="3448" y="6770"/>
                  </a:lnTo>
                  <a:lnTo>
                    <a:pt x="3385" y="6726"/>
                  </a:lnTo>
                  <a:lnTo>
                    <a:pt x="3321" y="6682"/>
                  </a:lnTo>
                  <a:lnTo>
                    <a:pt x="3257" y="6639"/>
                  </a:lnTo>
                  <a:lnTo>
                    <a:pt x="3191" y="6598"/>
                  </a:lnTo>
                  <a:lnTo>
                    <a:pt x="3125" y="6557"/>
                  </a:lnTo>
                  <a:lnTo>
                    <a:pt x="3058" y="6517"/>
                  </a:lnTo>
                  <a:lnTo>
                    <a:pt x="2990" y="6478"/>
                  </a:lnTo>
                  <a:lnTo>
                    <a:pt x="2921" y="6442"/>
                  </a:lnTo>
                  <a:lnTo>
                    <a:pt x="2852" y="6405"/>
                  </a:lnTo>
                  <a:lnTo>
                    <a:pt x="2783" y="6372"/>
                  </a:lnTo>
                  <a:lnTo>
                    <a:pt x="2712" y="6339"/>
                  </a:lnTo>
                  <a:lnTo>
                    <a:pt x="2642" y="6309"/>
                  </a:lnTo>
                  <a:lnTo>
                    <a:pt x="2571" y="6280"/>
                  </a:lnTo>
                  <a:lnTo>
                    <a:pt x="2499" y="6253"/>
                  </a:lnTo>
                  <a:lnTo>
                    <a:pt x="2428" y="6229"/>
                  </a:lnTo>
                  <a:lnTo>
                    <a:pt x="2355" y="6207"/>
                  </a:lnTo>
                  <a:lnTo>
                    <a:pt x="2282" y="6187"/>
                  </a:lnTo>
                  <a:lnTo>
                    <a:pt x="2210" y="6171"/>
                  </a:lnTo>
                  <a:lnTo>
                    <a:pt x="2138" y="6157"/>
                  </a:lnTo>
                  <a:lnTo>
                    <a:pt x="2120" y="6154"/>
                  </a:lnTo>
                  <a:lnTo>
                    <a:pt x="2105" y="6150"/>
                  </a:lnTo>
                  <a:lnTo>
                    <a:pt x="2093" y="6145"/>
                  </a:lnTo>
                  <a:lnTo>
                    <a:pt x="2081" y="6138"/>
                  </a:lnTo>
                  <a:lnTo>
                    <a:pt x="2071" y="6132"/>
                  </a:lnTo>
                  <a:lnTo>
                    <a:pt x="2062" y="6125"/>
                  </a:lnTo>
                  <a:lnTo>
                    <a:pt x="2055" y="6116"/>
                  </a:lnTo>
                  <a:lnTo>
                    <a:pt x="2049" y="6108"/>
                  </a:lnTo>
                  <a:lnTo>
                    <a:pt x="2044" y="6099"/>
                  </a:lnTo>
                  <a:lnTo>
                    <a:pt x="2039" y="6089"/>
                  </a:lnTo>
                  <a:lnTo>
                    <a:pt x="2035" y="6079"/>
                  </a:lnTo>
                  <a:lnTo>
                    <a:pt x="2033" y="6067"/>
                  </a:lnTo>
                  <a:lnTo>
                    <a:pt x="2028" y="6043"/>
                  </a:lnTo>
                  <a:lnTo>
                    <a:pt x="2024" y="6018"/>
                  </a:lnTo>
                  <a:lnTo>
                    <a:pt x="1996" y="5835"/>
                  </a:lnTo>
                  <a:lnTo>
                    <a:pt x="1969" y="5654"/>
                  </a:lnTo>
                  <a:lnTo>
                    <a:pt x="1941" y="5473"/>
                  </a:lnTo>
                  <a:lnTo>
                    <a:pt x="1912" y="5293"/>
                  </a:lnTo>
                  <a:lnTo>
                    <a:pt x="1881" y="5113"/>
                  </a:lnTo>
                  <a:lnTo>
                    <a:pt x="1851" y="4935"/>
                  </a:lnTo>
                  <a:lnTo>
                    <a:pt x="1820" y="4757"/>
                  </a:lnTo>
                  <a:lnTo>
                    <a:pt x="1786" y="4580"/>
                  </a:lnTo>
                  <a:lnTo>
                    <a:pt x="1753" y="4404"/>
                  </a:lnTo>
                  <a:lnTo>
                    <a:pt x="1717" y="4229"/>
                  </a:lnTo>
                  <a:lnTo>
                    <a:pt x="1680" y="4054"/>
                  </a:lnTo>
                  <a:lnTo>
                    <a:pt x="1642" y="3880"/>
                  </a:lnTo>
                  <a:lnTo>
                    <a:pt x="1603" y="3706"/>
                  </a:lnTo>
                  <a:lnTo>
                    <a:pt x="1561" y="3534"/>
                  </a:lnTo>
                  <a:lnTo>
                    <a:pt x="1518" y="3362"/>
                  </a:lnTo>
                  <a:lnTo>
                    <a:pt x="1473" y="3191"/>
                  </a:lnTo>
                  <a:lnTo>
                    <a:pt x="1426" y="3019"/>
                  </a:lnTo>
                  <a:lnTo>
                    <a:pt x="1378" y="2850"/>
                  </a:lnTo>
                  <a:lnTo>
                    <a:pt x="1327" y="2679"/>
                  </a:lnTo>
                  <a:lnTo>
                    <a:pt x="1274" y="2509"/>
                  </a:lnTo>
                  <a:lnTo>
                    <a:pt x="1219" y="2341"/>
                  </a:lnTo>
                  <a:lnTo>
                    <a:pt x="1161" y="2173"/>
                  </a:lnTo>
                  <a:lnTo>
                    <a:pt x="1102" y="2005"/>
                  </a:lnTo>
                  <a:lnTo>
                    <a:pt x="1039" y="1838"/>
                  </a:lnTo>
                  <a:lnTo>
                    <a:pt x="973" y="1670"/>
                  </a:lnTo>
                  <a:lnTo>
                    <a:pt x="905" y="1504"/>
                  </a:lnTo>
                  <a:lnTo>
                    <a:pt x="835" y="1337"/>
                  </a:lnTo>
                  <a:lnTo>
                    <a:pt x="762" y="1171"/>
                  </a:lnTo>
                  <a:lnTo>
                    <a:pt x="684" y="1006"/>
                  </a:lnTo>
                  <a:lnTo>
                    <a:pt x="605" y="840"/>
                  </a:lnTo>
                  <a:lnTo>
                    <a:pt x="522" y="675"/>
                  </a:lnTo>
                  <a:lnTo>
                    <a:pt x="436" y="511"/>
                  </a:lnTo>
                  <a:lnTo>
                    <a:pt x="432" y="507"/>
                  </a:lnTo>
                  <a:lnTo>
                    <a:pt x="430" y="501"/>
                  </a:lnTo>
                  <a:lnTo>
                    <a:pt x="428" y="497"/>
                  </a:lnTo>
                  <a:lnTo>
                    <a:pt x="427" y="492"/>
                  </a:lnTo>
                  <a:lnTo>
                    <a:pt x="426" y="488"/>
                  </a:lnTo>
                  <a:lnTo>
                    <a:pt x="426" y="483"/>
                  </a:lnTo>
                  <a:lnTo>
                    <a:pt x="427" y="478"/>
                  </a:lnTo>
                  <a:lnTo>
                    <a:pt x="428" y="473"/>
                  </a:lnTo>
                  <a:lnTo>
                    <a:pt x="431" y="464"/>
                  </a:lnTo>
                  <a:lnTo>
                    <a:pt x="436" y="454"/>
                  </a:lnTo>
                  <a:lnTo>
                    <a:pt x="444" y="445"/>
                  </a:lnTo>
                  <a:lnTo>
                    <a:pt x="453" y="437"/>
                  </a:lnTo>
                  <a:lnTo>
                    <a:pt x="463" y="428"/>
                  </a:lnTo>
                  <a:lnTo>
                    <a:pt x="476" y="421"/>
                  </a:lnTo>
                  <a:lnTo>
                    <a:pt x="490" y="416"/>
                  </a:lnTo>
                  <a:lnTo>
                    <a:pt x="504" y="410"/>
                  </a:lnTo>
                  <a:lnTo>
                    <a:pt x="521" y="406"/>
                  </a:lnTo>
                  <a:lnTo>
                    <a:pt x="539" y="404"/>
                  </a:lnTo>
                  <a:lnTo>
                    <a:pt x="557" y="404"/>
                  </a:lnTo>
                  <a:lnTo>
                    <a:pt x="576" y="405"/>
                  </a:lnTo>
                  <a:lnTo>
                    <a:pt x="659" y="416"/>
                  </a:lnTo>
                  <a:lnTo>
                    <a:pt x="743" y="432"/>
                  </a:lnTo>
                  <a:lnTo>
                    <a:pt x="830" y="452"/>
                  </a:lnTo>
                  <a:lnTo>
                    <a:pt x="919" y="477"/>
                  </a:lnTo>
                  <a:lnTo>
                    <a:pt x="1009" y="507"/>
                  </a:lnTo>
                  <a:lnTo>
                    <a:pt x="1101" y="540"/>
                  </a:lnTo>
                  <a:lnTo>
                    <a:pt x="1195" y="578"/>
                  </a:lnTo>
                  <a:lnTo>
                    <a:pt x="1290" y="620"/>
                  </a:lnTo>
                  <a:lnTo>
                    <a:pt x="1386" y="666"/>
                  </a:lnTo>
                  <a:lnTo>
                    <a:pt x="1485" y="715"/>
                  </a:lnTo>
                  <a:lnTo>
                    <a:pt x="1584" y="769"/>
                  </a:lnTo>
                  <a:lnTo>
                    <a:pt x="1685" y="826"/>
                  </a:lnTo>
                  <a:lnTo>
                    <a:pt x="1786" y="888"/>
                  </a:lnTo>
                  <a:lnTo>
                    <a:pt x="1888" y="952"/>
                  </a:lnTo>
                  <a:lnTo>
                    <a:pt x="1991" y="1020"/>
                  </a:lnTo>
                  <a:lnTo>
                    <a:pt x="2095" y="1092"/>
                  </a:lnTo>
                  <a:lnTo>
                    <a:pt x="2198" y="1166"/>
                  </a:lnTo>
                  <a:lnTo>
                    <a:pt x="2303" y="1244"/>
                  </a:lnTo>
                  <a:lnTo>
                    <a:pt x="2408" y="1325"/>
                  </a:lnTo>
                  <a:lnTo>
                    <a:pt x="2512" y="1410"/>
                  </a:lnTo>
                  <a:lnTo>
                    <a:pt x="2617" y="1497"/>
                  </a:lnTo>
                  <a:lnTo>
                    <a:pt x="2722" y="1587"/>
                  </a:lnTo>
                  <a:lnTo>
                    <a:pt x="2826" y="1679"/>
                  </a:lnTo>
                  <a:lnTo>
                    <a:pt x="2931" y="1774"/>
                  </a:lnTo>
                  <a:lnTo>
                    <a:pt x="3034" y="1871"/>
                  </a:lnTo>
                  <a:lnTo>
                    <a:pt x="3138" y="1972"/>
                  </a:lnTo>
                  <a:lnTo>
                    <a:pt x="3242" y="2074"/>
                  </a:lnTo>
                  <a:lnTo>
                    <a:pt x="3343" y="2179"/>
                  </a:lnTo>
                  <a:lnTo>
                    <a:pt x="3445" y="2287"/>
                  </a:lnTo>
                  <a:lnTo>
                    <a:pt x="3545" y="2395"/>
                  </a:lnTo>
                  <a:lnTo>
                    <a:pt x="3643" y="2506"/>
                  </a:lnTo>
                  <a:lnTo>
                    <a:pt x="3742" y="2619"/>
                  </a:lnTo>
                  <a:lnTo>
                    <a:pt x="3780" y="2620"/>
                  </a:lnTo>
                  <a:lnTo>
                    <a:pt x="3815" y="2619"/>
                  </a:lnTo>
                  <a:lnTo>
                    <a:pt x="3847" y="2618"/>
                  </a:lnTo>
                  <a:lnTo>
                    <a:pt x="3876" y="2616"/>
                  </a:lnTo>
                  <a:lnTo>
                    <a:pt x="3901" y="2613"/>
                  </a:lnTo>
                  <a:lnTo>
                    <a:pt x="3924" y="2608"/>
                  </a:lnTo>
                  <a:lnTo>
                    <a:pt x="3944" y="2603"/>
                  </a:lnTo>
                  <a:lnTo>
                    <a:pt x="3960" y="2596"/>
                  </a:lnTo>
                  <a:lnTo>
                    <a:pt x="3974" y="2589"/>
                  </a:lnTo>
                  <a:lnTo>
                    <a:pt x="3986" y="2582"/>
                  </a:lnTo>
                  <a:lnTo>
                    <a:pt x="3994" y="2572"/>
                  </a:lnTo>
                  <a:lnTo>
                    <a:pt x="4000" y="2562"/>
                  </a:lnTo>
                  <a:lnTo>
                    <a:pt x="4004" y="2550"/>
                  </a:lnTo>
                  <a:lnTo>
                    <a:pt x="4005" y="2538"/>
                  </a:lnTo>
                  <a:lnTo>
                    <a:pt x="4005" y="2525"/>
                  </a:lnTo>
                  <a:lnTo>
                    <a:pt x="4002" y="2510"/>
                  </a:lnTo>
                  <a:lnTo>
                    <a:pt x="3997" y="2496"/>
                  </a:lnTo>
                  <a:lnTo>
                    <a:pt x="3991" y="2479"/>
                  </a:lnTo>
                  <a:lnTo>
                    <a:pt x="3981" y="2462"/>
                  </a:lnTo>
                  <a:lnTo>
                    <a:pt x="3971" y="2445"/>
                  </a:lnTo>
                  <a:lnTo>
                    <a:pt x="3958" y="2425"/>
                  </a:lnTo>
                  <a:lnTo>
                    <a:pt x="3945" y="2405"/>
                  </a:lnTo>
                  <a:lnTo>
                    <a:pt x="3929" y="2384"/>
                  </a:lnTo>
                  <a:lnTo>
                    <a:pt x="3912" y="2362"/>
                  </a:lnTo>
                  <a:lnTo>
                    <a:pt x="3875" y="2314"/>
                  </a:lnTo>
                  <a:lnTo>
                    <a:pt x="3832" y="2262"/>
                  </a:lnTo>
                  <a:lnTo>
                    <a:pt x="3785" y="2207"/>
                  </a:lnTo>
                  <a:lnTo>
                    <a:pt x="3734" y="214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2320" y="5929200"/>
              <a:ext cx="563400" cy="519120"/>
            </a:xfrm>
            <a:custGeom>
              <a:avLst/>
              <a:gdLst/>
              <a:ahLst/>
              <a:rect l="l" t="t" r="r" b="b"/>
              <a:pathLst>
                <a:path w="7802" h="7187">
                  <a:moveTo>
                    <a:pt x="389" y="914"/>
                  </a:moveTo>
                  <a:lnTo>
                    <a:pt x="370" y="1207"/>
                  </a:lnTo>
                  <a:lnTo>
                    <a:pt x="363" y="1264"/>
                  </a:lnTo>
                  <a:lnTo>
                    <a:pt x="362" y="1318"/>
                  </a:lnTo>
                  <a:lnTo>
                    <a:pt x="366" y="1370"/>
                  </a:lnTo>
                  <a:lnTo>
                    <a:pt x="375" y="1422"/>
                  </a:lnTo>
                  <a:lnTo>
                    <a:pt x="387" y="1471"/>
                  </a:lnTo>
                  <a:lnTo>
                    <a:pt x="405" y="1517"/>
                  </a:lnTo>
                  <a:lnTo>
                    <a:pt x="426" y="1562"/>
                  </a:lnTo>
                  <a:lnTo>
                    <a:pt x="451" y="1605"/>
                  </a:lnTo>
                  <a:lnTo>
                    <a:pt x="479" y="1644"/>
                  </a:lnTo>
                  <a:lnTo>
                    <a:pt x="512" y="1683"/>
                  </a:lnTo>
                  <a:lnTo>
                    <a:pt x="546" y="1718"/>
                  </a:lnTo>
                  <a:lnTo>
                    <a:pt x="585" y="1750"/>
                  </a:lnTo>
                  <a:lnTo>
                    <a:pt x="626" y="1780"/>
                  </a:lnTo>
                  <a:lnTo>
                    <a:pt x="670" y="1808"/>
                  </a:lnTo>
                  <a:lnTo>
                    <a:pt x="717" y="1831"/>
                  </a:lnTo>
                  <a:lnTo>
                    <a:pt x="765" y="1852"/>
                  </a:lnTo>
                  <a:lnTo>
                    <a:pt x="815" y="1869"/>
                  </a:lnTo>
                  <a:lnTo>
                    <a:pt x="868" y="1884"/>
                  </a:lnTo>
                  <a:lnTo>
                    <a:pt x="922" y="1896"/>
                  </a:lnTo>
                  <a:lnTo>
                    <a:pt x="978" y="1903"/>
                  </a:lnTo>
                  <a:lnTo>
                    <a:pt x="1035" y="1906"/>
                  </a:lnTo>
                  <a:lnTo>
                    <a:pt x="1093" y="1907"/>
                  </a:lnTo>
                  <a:lnTo>
                    <a:pt x="1152" y="1903"/>
                  </a:lnTo>
                  <a:lnTo>
                    <a:pt x="1212" y="1896"/>
                  </a:lnTo>
                  <a:lnTo>
                    <a:pt x="1272" y="1884"/>
                  </a:lnTo>
                  <a:lnTo>
                    <a:pt x="1332" y="1868"/>
                  </a:lnTo>
                  <a:lnTo>
                    <a:pt x="1393" y="1848"/>
                  </a:lnTo>
                  <a:lnTo>
                    <a:pt x="1454" y="1823"/>
                  </a:lnTo>
                  <a:lnTo>
                    <a:pt x="1513" y="1795"/>
                  </a:lnTo>
                  <a:lnTo>
                    <a:pt x="1573" y="1762"/>
                  </a:lnTo>
                  <a:lnTo>
                    <a:pt x="1633" y="1724"/>
                  </a:lnTo>
                  <a:lnTo>
                    <a:pt x="1691" y="1681"/>
                  </a:lnTo>
                  <a:lnTo>
                    <a:pt x="1787" y="1571"/>
                  </a:lnTo>
                  <a:lnTo>
                    <a:pt x="1890" y="1463"/>
                  </a:lnTo>
                  <a:lnTo>
                    <a:pt x="1997" y="1358"/>
                  </a:lnTo>
                  <a:lnTo>
                    <a:pt x="2109" y="1253"/>
                  </a:lnTo>
                  <a:lnTo>
                    <a:pt x="2226" y="1151"/>
                  </a:lnTo>
                  <a:lnTo>
                    <a:pt x="2348" y="1050"/>
                  </a:lnTo>
                  <a:lnTo>
                    <a:pt x="2476" y="952"/>
                  </a:lnTo>
                  <a:lnTo>
                    <a:pt x="2608" y="858"/>
                  </a:lnTo>
                  <a:lnTo>
                    <a:pt x="2745" y="765"/>
                  </a:lnTo>
                  <a:lnTo>
                    <a:pt x="2886" y="679"/>
                  </a:lnTo>
                  <a:lnTo>
                    <a:pt x="3033" y="594"/>
                  </a:lnTo>
                  <a:lnTo>
                    <a:pt x="3184" y="514"/>
                  </a:lnTo>
                  <a:lnTo>
                    <a:pt x="3340" y="439"/>
                  </a:lnTo>
                  <a:lnTo>
                    <a:pt x="3500" y="369"/>
                  </a:lnTo>
                  <a:lnTo>
                    <a:pt x="3666" y="304"/>
                  </a:lnTo>
                  <a:lnTo>
                    <a:pt x="3836" y="244"/>
                  </a:lnTo>
                  <a:lnTo>
                    <a:pt x="4010" y="190"/>
                  </a:lnTo>
                  <a:lnTo>
                    <a:pt x="4189" y="142"/>
                  </a:lnTo>
                  <a:lnTo>
                    <a:pt x="4372" y="101"/>
                  </a:lnTo>
                  <a:lnTo>
                    <a:pt x="4559" y="65"/>
                  </a:lnTo>
                  <a:lnTo>
                    <a:pt x="4752" y="38"/>
                  </a:lnTo>
                  <a:lnTo>
                    <a:pt x="4949" y="17"/>
                  </a:lnTo>
                  <a:lnTo>
                    <a:pt x="5148" y="5"/>
                  </a:lnTo>
                  <a:lnTo>
                    <a:pt x="5353" y="0"/>
                  </a:lnTo>
                  <a:lnTo>
                    <a:pt x="5563" y="4"/>
                  </a:lnTo>
                  <a:lnTo>
                    <a:pt x="5776" y="15"/>
                  </a:lnTo>
                  <a:lnTo>
                    <a:pt x="5994" y="36"/>
                  </a:lnTo>
                  <a:lnTo>
                    <a:pt x="6215" y="65"/>
                  </a:lnTo>
                  <a:lnTo>
                    <a:pt x="6441" y="105"/>
                  </a:lnTo>
                  <a:lnTo>
                    <a:pt x="6670" y="154"/>
                  </a:lnTo>
                  <a:lnTo>
                    <a:pt x="6903" y="214"/>
                  </a:lnTo>
                  <a:lnTo>
                    <a:pt x="7141" y="283"/>
                  </a:lnTo>
                  <a:lnTo>
                    <a:pt x="7183" y="303"/>
                  </a:lnTo>
                  <a:lnTo>
                    <a:pt x="7224" y="322"/>
                  </a:lnTo>
                  <a:lnTo>
                    <a:pt x="7265" y="340"/>
                  </a:lnTo>
                  <a:lnTo>
                    <a:pt x="7306" y="355"/>
                  </a:lnTo>
                  <a:lnTo>
                    <a:pt x="7383" y="387"/>
                  </a:lnTo>
                  <a:lnTo>
                    <a:pt x="7457" y="417"/>
                  </a:lnTo>
                  <a:lnTo>
                    <a:pt x="7492" y="433"/>
                  </a:lnTo>
                  <a:lnTo>
                    <a:pt x="7526" y="448"/>
                  </a:lnTo>
                  <a:lnTo>
                    <a:pt x="7557" y="464"/>
                  </a:lnTo>
                  <a:lnTo>
                    <a:pt x="7589" y="481"/>
                  </a:lnTo>
                  <a:lnTo>
                    <a:pt x="7617" y="499"/>
                  </a:lnTo>
                  <a:lnTo>
                    <a:pt x="7644" y="517"/>
                  </a:lnTo>
                  <a:lnTo>
                    <a:pt x="7670" y="537"/>
                  </a:lnTo>
                  <a:lnTo>
                    <a:pt x="7693" y="559"/>
                  </a:lnTo>
                  <a:lnTo>
                    <a:pt x="7715" y="583"/>
                  </a:lnTo>
                  <a:lnTo>
                    <a:pt x="7734" y="609"/>
                  </a:lnTo>
                  <a:lnTo>
                    <a:pt x="7752" y="637"/>
                  </a:lnTo>
                  <a:lnTo>
                    <a:pt x="7766" y="666"/>
                  </a:lnTo>
                  <a:lnTo>
                    <a:pt x="7779" y="698"/>
                  </a:lnTo>
                  <a:lnTo>
                    <a:pt x="7788" y="734"/>
                  </a:lnTo>
                  <a:lnTo>
                    <a:pt x="7796" y="773"/>
                  </a:lnTo>
                  <a:lnTo>
                    <a:pt x="7800" y="814"/>
                  </a:lnTo>
                  <a:lnTo>
                    <a:pt x="7802" y="859"/>
                  </a:lnTo>
                  <a:lnTo>
                    <a:pt x="7800" y="907"/>
                  </a:lnTo>
                  <a:lnTo>
                    <a:pt x="7796" y="959"/>
                  </a:lnTo>
                  <a:lnTo>
                    <a:pt x="7788" y="1016"/>
                  </a:lnTo>
                  <a:lnTo>
                    <a:pt x="7778" y="1075"/>
                  </a:lnTo>
                  <a:lnTo>
                    <a:pt x="7764" y="1140"/>
                  </a:lnTo>
                  <a:lnTo>
                    <a:pt x="7747" y="1209"/>
                  </a:lnTo>
                  <a:lnTo>
                    <a:pt x="7727" y="1282"/>
                  </a:lnTo>
                  <a:lnTo>
                    <a:pt x="7691" y="1412"/>
                  </a:lnTo>
                  <a:lnTo>
                    <a:pt x="7659" y="1542"/>
                  </a:lnTo>
                  <a:lnTo>
                    <a:pt x="7628" y="1673"/>
                  </a:lnTo>
                  <a:lnTo>
                    <a:pt x="7601" y="1802"/>
                  </a:lnTo>
                  <a:lnTo>
                    <a:pt x="7576" y="1933"/>
                  </a:lnTo>
                  <a:lnTo>
                    <a:pt x="7554" y="2063"/>
                  </a:lnTo>
                  <a:lnTo>
                    <a:pt x="7533" y="2194"/>
                  </a:lnTo>
                  <a:lnTo>
                    <a:pt x="7515" y="2326"/>
                  </a:lnTo>
                  <a:lnTo>
                    <a:pt x="7499" y="2456"/>
                  </a:lnTo>
                  <a:lnTo>
                    <a:pt x="7485" y="2588"/>
                  </a:lnTo>
                  <a:lnTo>
                    <a:pt x="7472" y="2721"/>
                  </a:lnTo>
                  <a:lnTo>
                    <a:pt x="7463" y="2854"/>
                  </a:lnTo>
                  <a:lnTo>
                    <a:pt x="7455" y="2987"/>
                  </a:lnTo>
                  <a:lnTo>
                    <a:pt x="7449" y="3121"/>
                  </a:lnTo>
                  <a:lnTo>
                    <a:pt x="7445" y="3255"/>
                  </a:lnTo>
                  <a:lnTo>
                    <a:pt x="7443" y="3390"/>
                  </a:lnTo>
                  <a:lnTo>
                    <a:pt x="7442" y="3525"/>
                  </a:lnTo>
                  <a:lnTo>
                    <a:pt x="7443" y="3661"/>
                  </a:lnTo>
                  <a:lnTo>
                    <a:pt x="7445" y="3798"/>
                  </a:lnTo>
                  <a:lnTo>
                    <a:pt x="7450" y="3935"/>
                  </a:lnTo>
                  <a:lnTo>
                    <a:pt x="7456" y="4073"/>
                  </a:lnTo>
                  <a:lnTo>
                    <a:pt x="7463" y="4211"/>
                  </a:lnTo>
                  <a:lnTo>
                    <a:pt x="7471" y="4351"/>
                  </a:lnTo>
                  <a:lnTo>
                    <a:pt x="7482" y="4492"/>
                  </a:lnTo>
                  <a:lnTo>
                    <a:pt x="7493" y="4633"/>
                  </a:lnTo>
                  <a:lnTo>
                    <a:pt x="7506" y="4775"/>
                  </a:lnTo>
                  <a:lnTo>
                    <a:pt x="7519" y="4917"/>
                  </a:lnTo>
                  <a:lnTo>
                    <a:pt x="7535" y="5062"/>
                  </a:lnTo>
                  <a:lnTo>
                    <a:pt x="7551" y="5206"/>
                  </a:lnTo>
                  <a:lnTo>
                    <a:pt x="7568" y="5353"/>
                  </a:lnTo>
                  <a:lnTo>
                    <a:pt x="7586" y="5499"/>
                  </a:lnTo>
                  <a:lnTo>
                    <a:pt x="7605" y="5648"/>
                  </a:lnTo>
                  <a:lnTo>
                    <a:pt x="7613" y="5681"/>
                  </a:lnTo>
                  <a:lnTo>
                    <a:pt x="7619" y="5714"/>
                  </a:lnTo>
                  <a:lnTo>
                    <a:pt x="7622" y="5744"/>
                  </a:lnTo>
                  <a:lnTo>
                    <a:pt x="7625" y="5773"/>
                  </a:lnTo>
                  <a:lnTo>
                    <a:pt x="7626" y="5800"/>
                  </a:lnTo>
                  <a:lnTo>
                    <a:pt x="7625" y="5826"/>
                  </a:lnTo>
                  <a:lnTo>
                    <a:pt x="7623" y="5850"/>
                  </a:lnTo>
                  <a:lnTo>
                    <a:pt x="7620" y="5872"/>
                  </a:lnTo>
                  <a:lnTo>
                    <a:pt x="7615" y="5893"/>
                  </a:lnTo>
                  <a:lnTo>
                    <a:pt x="7608" y="5912"/>
                  </a:lnTo>
                  <a:lnTo>
                    <a:pt x="7601" y="5929"/>
                  </a:lnTo>
                  <a:lnTo>
                    <a:pt x="7592" y="5945"/>
                  </a:lnTo>
                  <a:lnTo>
                    <a:pt x="7582" y="5961"/>
                  </a:lnTo>
                  <a:lnTo>
                    <a:pt x="7571" y="5973"/>
                  </a:lnTo>
                  <a:lnTo>
                    <a:pt x="7558" y="5986"/>
                  </a:lnTo>
                  <a:lnTo>
                    <a:pt x="7545" y="5996"/>
                  </a:lnTo>
                  <a:lnTo>
                    <a:pt x="7530" y="6006"/>
                  </a:lnTo>
                  <a:lnTo>
                    <a:pt x="7514" y="6014"/>
                  </a:lnTo>
                  <a:lnTo>
                    <a:pt x="7497" y="6020"/>
                  </a:lnTo>
                  <a:lnTo>
                    <a:pt x="7480" y="6026"/>
                  </a:lnTo>
                  <a:lnTo>
                    <a:pt x="7462" y="6031"/>
                  </a:lnTo>
                  <a:lnTo>
                    <a:pt x="7442" y="6034"/>
                  </a:lnTo>
                  <a:lnTo>
                    <a:pt x="7422" y="6036"/>
                  </a:lnTo>
                  <a:lnTo>
                    <a:pt x="7401" y="6036"/>
                  </a:lnTo>
                  <a:lnTo>
                    <a:pt x="7380" y="6036"/>
                  </a:lnTo>
                  <a:lnTo>
                    <a:pt x="7358" y="6035"/>
                  </a:lnTo>
                  <a:lnTo>
                    <a:pt x="7335" y="6033"/>
                  </a:lnTo>
                  <a:lnTo>
                    <a:pt x="7312" y="6030"/>
                  </a:lnTo>
                  <a:lnTo>
                    <a:pt x="7288" y="6026"/>
                  </a:lnTo>
                  <a:lnTo>
                    <a:pt x="7264" y="6020"/>
                  </a:lnTo>
                  <a:lnTo>
                    <a:pt x="7239" y="6014"/>
                  </a:lnTo>
                  <a:lnTo>
                    <a:pt x="7214" y="6008"/>
                  </a:lnTo>
                  <a:lnTo>
                    <a:pt x="7039" y="5961"/>
                  </a:lnTo>
                  <a:lnTo>
                    <a:pt x="6861" y="5922"/>
                  </a:lnTo>
                  <a:lnTo>
                    <a:pt x="6683" y="5892"/>
                  </a:lnTo>
                  <a:lnTo>
                    <a:pt x="6504" y="5869"/>
                  </a:lnTo>
                  <a:lnTo>
                    <a:pt x="6324" y="5853"/>
                  </a:lnTo>
                  <a:lnTo>
                    <a:pt x="6145" y="5844"/>
                  </a:lnTo>
                  <a:lnTo>
                    <a:pt x="5965" y="5841"/>
                  </a:lnTo>
                  <a:lnTo>
                    <a:pt x="5786" y="5846"/>
                  </a:lnTo>
                  <a:lnTo>
                    <a:pt x="5607" y="5856"/>
                  </a:lnTo>
                  <a:lnTo>
                    <a:pt x="5429" y="5873"/>
                  </a:lnTo>
                  <a:lnTo>
                    <a:pt x="5253" y="5895"/>
                  </a:lnTo>
                  <a:lnTo>
                    <a:pt x="5079" y="5922"/>
                  </a:lnTo>
                  <a:lnTo>
                    <a:pt x="4908" y="5954"/>
                  </a:lnTo>
                  <a:lnTo>
                    <a:pt x="4739" y="5992"/>
                  </a:lnTo>
                  <a:lnTo>
                    <a:pt x="4573" y="6034"/>
                  </a:lnTo>
                  <a:lnTo>
                    <a:pt x="4410" y="6080"/>
                  </a:lnTo>
                  <a:lnTo>
                    <a:pt x="4251" y="6130"/>
                  </a:lnTo>
                  <a:lnTo>
                    <a:pt x="4096" y="6185"/>
                  </a:lnTo>
                  <a:lnTo>
                    <a:pt x="3945" y="6242"/>
                  </a:lnTo>
                  <a:lnTo>
                    <a:pt x="3799" y="6303"/>
                  </a:lnTo>
                  <a:lnTo>
                    <a:pt x="3657" y="6367"/>
                  </a:lnTo>
                  <a:lnTo>
                    <a:pt x="3521" y="6434"/>
                  </a:lnTo>
                  <a:lnTo>
                    <a:pt x="3392" y="6503"/>
                  </a:lnTo>
                  <a:lnTo>
                    <a:pt x="3267" y="6573"/>
                  </a:lnTo>
                  <a:lnTo>
                    <a:pt x="3149" y="6646"/>
                  </a:lnTo>
                  <a:lnTo>
                    <a:pt x="3038" y="6720"/>
                  </a:lnTo>
                  <a:lnTo>
                    <a:pt x="2934" y="6797"/>
                  </a:lnTo>
                  <a:lnTo>
                    <a:pt x="2838" y="6873"/>
                  </a:lnTo>
                  <a:lnTo>
                    <a:pt x="2749" y="6952"/>
                  </a:lnTo>
                  <a:lnTo>
                    <a:pt x="2668" y="7030"/>
                  </a:lnTo>
                  <a:lnTo>
                    <a:pt x="2597" y="7109"/>
                  </a:lnTo>
                  <a:lnTo>
                    <a:pt x="2533" y="7187"/>
                  </a:lnTo>
                  <a:lnTo>
                    <a:pt x="2387" y="6894"/>
                  </a:lnTo>
                  <a:lnTo>
                    <a:pt x="2476" y="6794"/>
                  </a:lnTo>
                  <a:lnTo>
                    <a:pt x="2574" y="6694"/>
                  </a:lnTo>
                  <a:lnTo>
                    <a:pt x="2683" y="6599"/>
                  </a:lnTo>
                  <a:lnTo>
                    <a:pt x="2800" y="6505"/>
                  </a:lnTo>
                  <a:lnTo>
                    <a:pt x="2926" y="6414"/>
                  </a:lnTo>
                  <a:lnTo>
                    <a:pt x="3059" y="6327"/>
                  </a:lnTo>
                  <a:lnTo>
                    <a:pt x="3199" y="6242"/>
                  </a:lnTo>
                  <a:lnTo>
                    <a:pt x="3347" y="6161"/>
                  </a:lnTo>
                  <a:lnTo>
                    <a:pt x="3499" y="6083"/>
                  </a:lnTo>
                  <a:lnTo>
                    <a:pt x="3657" y="6010"/>
                  </a:lnTo>
                  <a:lnTo>
                    <a:pt x="3821" y="5940"/>
                  </a:lnTo>
                  <a:lnTo>
                    <a:pt x="3988" y="5874"/>
                  </a:lnTo>
                  <a:lnTo>
                    <a:pt x="4158" y="5813"/>
                  </a:lnTo>
                  <a:lnTo>
                    <a:pt x="4331" y="5756"/>
                  </a:lnTo>
                  <a:lnTo>
                    <a:pt x="4507" y="5704"/>
                  </a:lnTo>
                  <a:lnTo>
                    <a:pt x="4685" y="5656"/>
                  </a:lnTo>
                  <a:lnTo>
                    <a:pt x="4864" y="5614"/>
                  </a:lnTo>
                  <a:lnTo>
                    <a:pt x="5043" y="5578"/>
                  </a:lnTo>
                  <a:lnTo>
                    <a:pt x="5222" y="5546"/>
                  </a:lnTo>
                  <a:lnTo>
                    <a:pt x="5399" y="5520"/>
                  </a:lnTo>
                  <a:lnTo>
                    <a:pt x="5576" y="5501"/>
                  </a:lnTo>
                  <a:lnTo>
                    <a:pt x="5751" y="5487"/>
                  </a:lnTo>
                  <a:lnTo>
                    <a:pt x="5924" y="5479"/>
                  </a:lnTo>
                  <a:lnTo>
                    <a:pt x="6093" y="5478"/>
                  </a:lnTo>
                  <a:lnTo>
                    <a:pt x="6259" y="5484"/>
                  </a:lnTo>
                  <a:lnTo>
                    <a:pt x="6420" y="5496"/>
                  </a:lnTo>
                  <a:lnTo>
                    <a:pt x="6576" y="5516"/>
                  </a:lnTo>
                  <a:lnTo>
                    <a:pt x="6726" y="5542"/>
                  </a:lnTo>
                  <a:lnTo>
                    <a:pt x="6871" y="5576"/>
                  </a:lnTo>
                  <a:lnTo>
                    <a:pt x="7009" y="5617"/>
                  </a:lnTo>
                  <a:lnTo>
                    <a:pt x="7140" y="5667"/>
                  </a:lnTo>
                  <a:lnTo>
                    <a:pt x="7262" y="5723"/>
                  </a:lnTo>
                  <a:lnTo>
                    <a:pt x="7247" y="5579"/>
                  </a:lnTo>
                  <a:lnTo>
                    <a:pt x="7235" y="5434"/>
                  </a:lnTo>
                  <a:lnTo>
                    <a:pt x="7222" y="5291"/>
                  </a:lnTo>
                  <a:lnTo>
                    <a:pt x="7211" y="5147"/>
                  </a:lnTo>
                  <a:lnTo>
                    <a:pt x="7199" y="5002"/>
                  </a:lnTo>
                  <a:lnTo>
                    <a:pt x="7190" y="4859"/>
                  </a:lnTo>
                  <a:lnTo>
                    <a:pt x="7181" y="4716"/>
                  </a:lnTo>
                  <a:lnTo>
                    <a:pt x="7174" y="4571"/>
                  </a:lnTo>
                  <a:lnTo>
                    <a:pt x="7167" y="4428"/>
                  </a:lnTo>
                  <a:lnTo>
                    <a:pt x="7162" y="4284"/>
                  </a:lnTo>
                  <a:lnTo>
                    <a:pt x="7156" y="4141"/>
                  </a:lnTo>
                  <a:lnTo>
                    <a:pt x="7153" y="3998"/>
                  </a:lnTo>
                  <a:lnTo>
                    <a:pt x="7151" y="3855"/>
                  </a:lnTo>
                  <a:lnTo>
                    <a:pt x="7150" y="3712"/>
                  </a:lnTo>
                  <a:lnTo>
                    <a:pt x="7150" y="3569"/>
                  </a:lnTo>
                  <a:lnTo>
                    <a:pt x="7152" y="3426"/>
                  </a:lnTo>
                  <a:lnTo>
                    <a:pt x="7154" y="3284"/>
                  </a:lnTo>
                  <a:lnTo>
                    <a:pt x="7158" y="3141"/>
                  </a:lnTo>
                  <a:lnTo>
                    <a:pt x="7164" y="2998"/>
                  </a:lnTo>
                  <a:lnTo>
                    <a:pt x="7170" y="2856"/>
                  </a:lnTo>
                  <a:lnTo>
                    <a:pt x="7178" y="2714"/>
                  </a:lnTo>
                  <a:lnTo>
                    <a:pt x="7187" y="2573"/>
                  </a:lnTo>
                  <a:lnTo>
                    <a:pt x="7198" y="2430"/>
                  </a:lnTo>
                  <a:lnTo>
                    <a:pt x="7210" y="2288"/>
                  </a:lnTo>
                  <a:lnTo>
                    <a:pt x="7223" y="2147"/>
                  </a:lnTo>
                  <a:lnTo>
                    <a:pt x="7239" y="2004"/>
                  </a:lnTo>
                  <a:lnTo>
                    <a:pt x="7256" y="1863"/>
                  </a:lnTo>
                  <a:lnTo>
                    <a:pt x="7274" y="1722"/>
                  </a:lnTo>
                  <a:lnTo>
                    <a:pt x="7293" y="1581"/>
                  </a:lnTo>
                  <a:lnTo>
                    <a:pt x="7315" y="1439"/>
                  </a:lnTo>
                  <a:lnTo>
                    <a:pt x="7338" y="1298"/>
                  </a:lnTo>
                  <a:lnTo>
                    <a:pt x="7362" y="1157"/>
                  </a:lnTo>
                  <a:lnTo>
                    <a:pt x="7372" y="1134"/>
                  </a:lnTo>
                  <a:lnTo>
                    <a:pt x="7380" y="1112"/>
                  </a:lnTo>
                  <a:lnTo>
                    <a:pt x="7388" y="1090"/>
                  </a:lnTo>
                  <a:lnTo>
                    <a:pt x="7393" y="1069"/>
                  </a:lnTo>
                  <a:lnTo>
                    <a:pt x="7397" y="1048"/>
                  </a:lnTo>
                  <a:lnTo>
                    <a:pt x="7400" y="1027"/>
                  </a:lnTo>
                  <a:lnTo>
                    <a:pt x="7402" y="1007"/>
                  </a:lnTo>
                  <a:lnTo>
                    <a:pt x="7402" y="987"/>
                  </a:lnTo>
                  <a:lnTo>
                    <a:pt x="7401" y="967"/>
                  </a:lnTo>
                  <a:lnTo>
                    <a:pt x="7399" y="949"/>
                  </a:lnTo>
                  <a:lnTo>
                    <a:pt x="7396" y="930"/>
                  </a:lnTo>
                  <a:lnTo>
                    <a:pt x="7391" y="911"/>
                  </a:lnTo>
                  <a:lnTo>
                    <a:pt x="7384" y="893"/>
                  </a:lnTo>
                  <a:lnTo>
                    <a:pt x="7377" y="875"/>
                  </a:lnTo>
                  <a:lnTo>
                    <a:pt x="7369" y="859"/>
                  </a:lnTo>
                  <a:lnTo>
                    <a:pt x="7358" y="842"/>
                  </a:lnTo>
                  <a:lnTo>
                    <a:pt x="7347" y="825"/>
                  </a:lnTo>
                  <a:lnTo>
                    <a:pt x="7334" y="808"/>
                  </a:lnTo>
                  <a:lnTo>
                    <a:pt x="7321" y="793"/>
                  </a:lnTo>
                  <a:lnTo>
                    <a:pt x="7305" y="778"/>
                  </a:lnTo>
                  <a:lnTo>
                    <a:pt x="7288" y="762"/>
                  </a:lnTo>
                  <a:lnTo>
                    <a:pt x="7270" y="748"/>
                  </a:lnTo>
                  <a:lnTo>
                    <a:pt x="7252" y="734"/>
                  </a:lnTo>
                  <a:lnTo>
                    <a:pt x="7231" y="719"/>
                  </a:lnTo>
                  <a:lnTo>
                    <a:pt x="7209" y="706"/>
                  </a:lnTo>
                  <a:lnTo>
                    <a:pt x="7186" y="693"/>
                  </a:lnTo>
                  <a:lnTo>
                    <a:pt x="7162" y="681"/>
                  </a:lnTo>
                  <a:lnTo>
                    <a:pt x="7135" y="668"/>
                  </a:lnTo>
                  <a:lnTo>
                    <a:pt x="7108" y="656"/>
                  </a:lnTo>
                  <a:lnTo>
                    <a:pt x="7080" y="644"/>
                  </a:lnTo>
                  <a:lnTo>
                    <a:pt x="7051" y="633"/>
                  </a:lnTo>
                  <a:lnTo>
                    <a:pt x="7019" y="622"/>
                  </a:lnTo>
                  <a:lnTo>
                    <a:pt x="6825" y="575"/>
                  </a:lnTo>
                  <a:lnTo>
                    <a:pt x="6632" y="533"/>
                  </a:lnTo>
                  <a:lnTo>
                    <a:pt x="6441" y="498"/>
                  </a:lnTo>
                  <a:lnTo>
                    <a:pt x="6251" y="465"/>
                  </a:lnTo>
                  <a:lnTo>
                    <a:pt x="6063" y="439"/>
                  </a:lnTo>
                  <a:lnTo>
                    <a:pt x="5877" y="418"/>
                  </a:lnTo>
                  <a:lnTo>
                    <a:pt x="5691" y="403"/>
                  </a:lnTo>
                  <a:lnTo>
                    <a:pt x="5509" y="394"/>
                  </a:lnTo>
                  <a:lnTo>
                    <a:pt x="5327" y="390"/>
                  </a:lnTo>
                  <a:lnTo>
                    <a:pt x="5148" y="392"/>
                  </a:lnTo>
                  <a:lnTo>
                    <a:pt x="4972" y="399"/>
                  </a:lnTo>
                  <a:lnTo>
                    <a:pt x="4797" y="414"/>
                  </a:lnTo>
                  <a:lnTo>
                    <a:pt x="4623" y="434"/>
                  </a:lnTo>
                  <a:lnTo>
                    <a:pt x="4451" y="461"/>
                  </a:lnTo>
                  <a:lnTo>
                    <a:pt x="4283" y="493"/>
                  </a:lnTo>
                  <a:lnTo>
                    <a:pt x="4116" y="533"/>
                  </a:lnTo>
                  <a:lnTo>
                    <a:pt x="3950" y="579"/>
                  </a:lnTo>
                  <a:lnTo>
                    <a:pt x="3788" y="633"/>
                  </a:lnTo>
                  <a:lnTo>
                    <a:pt x="3628" y="693"/>
                  </a:lnTo>
                  <a:lnTo>
                    <a:pt x="3469" y="760"/>
                  </a:lnTo>
                  <a:lnTo>
                    <a:pt x="3313" y="836"/>
                  </a:lnTo>
                  <a:lnTo>
                    <a:pt x="3160" y="917"/>
                  </a:lnTo>
                  <a:lnTo>
                    <a:pt x="3009" y="1006"/>
                  </a:lnTo>
                  <a:lnTo>
                    <a:pt x="2860" y="1103"/>
                  </a:lnTo>
                  <a:lnTo>
                    <a:pt x="2713" y="1208"/>
                  </a:lnTo>
                  <a:lnTo>
                    <a:pt x="2570" y="1320"/>
                  </a:lnTo>
                  <a:lnTo>
                    <a:pt x="2429" y="1440"/>
                  </a:lnTo>
                  <a:lnTo>
                    <a:pt x="2290" y="1569"/>
                  </a:lnTo>
                  <a:lnTo>
                    <a:pt x="2154" y="1706"/>
                  </a:lnTo>
                  <a:lnTo>
                    <a:pt x="2021" y="1851"/>
                  </a:lnTo>
                  <a:lnTo>
                    <a:pt x="1890" y="2004"/>
                  </a:lnTo>
                  <a:lnTo>
                    <a:pt x="1761" y="2166"/>
                  </a:lnTo>
                  <a:lnTo>
                    <a:pt x="1715" y="2192"/>
                  </a:lnTo>
                  <a:lnTo>
                    <a:pt x="1664" y="2216"/>
                  </a:lnTo>
                  <a:lnTo>
                    <a:pt x="1610" y="2237"/>
                  </a:lnTo>
                  <a:lnTo>
                    <a:pt x="1551" y="2254"/>
                  </a:lnTo>
                  <a:lnTo>
                    <a:pt x="1490" y="2269"/>
                  </a:lnTo>
                  <a:lnTo>
                    <a:pt x="1426" y="2281"/>
                  </a:lnTo>
                  <a:lnTo>
                    <a:pt x="1360" y="2290"/>
                  </a:lnTo>
                  <a:lnTo>
                    <a:pt x="1292" y="2296"/>
                  </a:lnTo>
                  <a:lnTo>
                    <a:pt x="1223" y="2299"/>
                  </a:lnTo>
                  <a:lnTo>
                    <a:pt x="1152" y="2299"/>
                  </a:lnTo>
                  <a:lnTo>
                    <a:pt x="1081" y="2295"/>
                  </a:lnTo>
                  <a:lnTo>
                    <a:pt x="1009" y="2289"/>
                  </a:lnTo>
                  <a:lnTo>
                    <a:pt x="937" y="2280"/>
                  </a:lnTo>
                  <a:lnTo>
                    <a:pt x="865" y="2267"/>
                  </a:lnTo>
                  <a:lnTo>
                    <a:pt x="793" y="2250"/>
                  </a:lnTo>
                  <a:lnTo>
                    <a:pt x="723" y="2230"/>
                  </a:lnTo>
                  <a:lnTo>
                    <a:pt x="653" y="2208"/>
                  </a:lnTo>
                  <a:lnTo>
                    <a:pt x="585" y="2181"/>
                  </a:lnTo>
                  <a:lnTo>
                    <a:pt x="520" y="2152"/>
                  </a:lnTo>
                  <a:lnTo>
                    <a:pt x="456" y="2118"/>
                  </a:lnTo>
                  <a:lnTo>
                    <a:pt x="395" y="2082"/>
                  </a:lnTo>
                  <a:lnTo>
                    <a:pt x="337" y="2041"/>
                  </a:lnTo>
                  <a:lnTo>
                    <a:pt x="283" y="1997"/>
                  </a:lnTo>
                  <a:lnTo>
                    <a:pt x="231" y="1949"/>
                  </a:lnTo>
                  <a:lnTo>
                    <a:pt x="185" y="1898"/>
                  </a:lnTo>
                  <a:lnTo>
                    <a:pt x="143" y="1842"/>
                  </a:lnTo>
                  <a:lnTo>
                    <a:pt x="105" y="1784"/>
                  </a:lnTo>
                  <a:lnTo>
                    <a:pt x="72" y="1720"/>
                  </a:lnTo>
                  <a:lnTo>
                    <a:pt x="45" y="1654"/>
                  </a:lnTo>
                  <a:lnTo>
                    <a:pt x="24" y="1583"/>
                  </a:lnTo>
                  <a:lnTo>
                    <a:pt x="9" y="1507"/>
                  </a:lnTo>
                  <a:lnTo>
                    <a:pt x="0" y="1429"/>
                  </a:lnTo>
                  <a:lnTo>
                    <a:pt x="26" y="965"/>
                  </a:lnTo>
                  <a:lnTo>
                    <a:pt x="389" y="9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7920" y="5967360"/>
              <a:ext cx="203400" cy="519120"/>
            </a:xfrm>
            <a:custGeom>
              <a:avLst/>
              <a:gdLst/>
              <a:ahLst/>
              <a:rect l="l" t="t" r="r" b="b"/>
              <a:pathLst>
                <a:path w="2817" h="7209">
                  <a:moveTo>
                    <a:pt x="368" y="386"/>
                  </a:moveTo>
                  <a:lnTo>
                    <a:pt x="200" y="119"/>
                  </a:lnTo>
                  <a:lnTo>
                    <a:pt x="26" y="0"/>
                  </a:lnTo>
                  <a:lnTo>
                    <a:pt x="13" y="198"/>
                  </a:lnTo>
                  <a:lnTo>
                    <a:pt x="4" y="404"/>
                  </a:lnTo>
                  <a:lnTo>
                    <a:pt x="0" y="616"/>
                  </a:lnTo>
                  <a:lnTo>
                    <a:pt x="2" y="835"/>
                  </a:lnTo>
                  <a:lnTo>
                    <a:pt x="8" y="1059"/>
                  </a:lnTo>
                  <a:lnTo>
                    <a:pt x="19" y="1288"/>
                  </a:lnTo>
                  <a:lnTo>
                    <a:pt x="32" y="1521"/>
                  </a:lnTo>
                  <a:lnTo>
                    <a:pt x="51" y="1757"/>
                  </a:lnTo>
                  <a:lnTo>
                    <a:pt x="72" y="1995"/>
                  </a:lnTo>
                  <a:lnTo>
                    <a:pt x="96" y="2235"/>
                  </a:lnTo>
                  <a:lnTo>
                    <a:pt x="123" y="2477"/>
                  </a:lnTo>
                  <a:lnTo>
                    <a:pt x="153" y="2717"/>
                  </a:lnTo>
                  <a:lnTo>
                    <a:pt x="184" y="2957"/>
                  </a:lnTo>
                  <a:lnTo>
                    <a:pt x="218" y="3195"/>
                  </a:lnTo>
                  <a:lnTo>
                    <a:pt x="253" y="3432"/>
                  </a:lnTo>
                  <a:lnTo>
                    <a:pt x="290" y="3665"/>
                  </a:lnTo>
                  <a:lnTo>
                    <a:pt x="326" y="3895"/>
                  </a:lnTo>
                  <a:lnTo>
                    <a:pt x="365" y="4120"/>
                  </a:lnTo>
                  <a:lnTo>
                    <a:pt x="403" y="4340"/>
                  </a:lnTo>
                  <a:lnTo>
                    <a:pt x="442" y="4554"/>
                  </a:lnTo>
                  <a:lnTo>
                    <a:pt x="480" y="4761"/>
                  </a:lnTo>
                  <a:lnTo>
                    <a:pt x="518" y="4960"/>
                  </a:lnTo>
                  <a:lnTo>
                    <a:pt x="556" y="5150"/>
                  </a:lnTo>
                  <a:lnTo>
                    <a:pt x="591" y="5332"/>
                  </a:lnTo>
                  <a:lnTo>
                    <a:pt x="659" y="5664"/>
                  </a:lnTo>
                  <a:lnTo>
                    <a:pt x="719" y="5949"/>
                  </a:lnTo>
                  <a:lnTo>
                    <a:pt x="769" y="6184"/>
                  </a:lnTo>
                  <a:lnTo>
                    <a:pt x="807" y="6359"/>
                  </a:lnTo>
                  <a:lnTo>
                    <a:pt x="818" y="6453"/>
                  </a:lnTo>
                  <a:lnTo>
                    <a:pt x="841" y="6541"/>
                  </a:lnTo>
                  <a:lnTo>
                    <a:pt x="874" y="6624"/>
                  </a:lnTo>
                  <a:lnTo>
                    <a:pt x="916" y="6703"/>
                  </a:lnTo>
                  <a:lnTo>
                    <a:pt x="966" y="6775"/>
                  </a:lnTo>
                  <a:lnTo>
                    <a:pt x="1023" y="6843"/>
                  </a:lnTo>
                  <a:lnTo>
                    <a:pt x="1088" y="6905"/>
                  </a:lnTo>
                  <a:lnTo>
                    <a:pt x="1159" y="6961"/>
                  </a:lnTo>
                  <a:lnTo>
                    <a:pt x="1235" y="7012"/>
                  </a:lnTo>
                  <a:lnTo>
                    <a:pt x="1316" y="7057"/>
                  </a:lnTo>
                  <a:lnTo>
                    <a:pt x="1401" y="7096"/>
                  </a:lnTo>
                  <a:lnTo>
                    <a:pt x="1489" y="7130"/>
                  </a:lnTo>
                  <a:lnTo>
                    <a:pt x="1580" y="7158"/>
                  </a:lnTo>
                  <a:lnTo>
                    <a:pt x="1672" y="7179"/>
                  </a:lnTo>
                  <a:lnTo>
                    <a:pt x="1766" y="7196"/>
                  </a:lnTo>
                  <a:lnTo>
                    <a:pt x="1860" y="7205"/>
                  </a:lnTo>
                  <a:lnTo>
                    <a:pt x="1954" y="7209"/>
                  </a:lnTo>
                  <a:lnTo>
                    <a:pt x="2046" y="7206"/>
                  </a:lnTo>
                  <a:lnTo>
                    <a:pt x="2137" y="7198"/>
                  </a:lnTo>
                  <a:lnTo>
                    <a:pt x="2225" y="7183"/>
                  </a:lnTo>
                  <a:lnTo>
                    <a:pt x="2309" y="7161"/>
                  </a:lnTo>
                  <a:lnTo>
                    <a:pt x="2390" y="7134"/>
                  </a:lnTo>
                  <a:lnTo>
                    <a:pt x="2466" y="7099"/>
                  </a:lnTo>
                  <a:lnTo>
                    <a:pt x="2536" y="7059"/>
                  </a:lnTo>
                  <a:lnTo>
                    <a:pt x="2601" y="7012"/>
                  </a:lnTo>
                  <a:lnTo>
                    <a:pt x="2659" y="6958"/>
                  </a:lnTo>
                  <a:lnTo>
                    <a:pt x="2708" y="6897"/>
                  </a:lnTo>
                  <a:lnTo>
                    <a:pt x="2750" y="6829"/>
                  </a:lnTo>
                  <a:lnTo>
                    <a:pt x="2781" y="6755"/>
                  </a:lnTo>
                  <a:lnTo>
                    <a:pt x="2804" y="6674"/>
                  </a:lnTo>
                  <a:lnTo>
                    <a:pt x="2816" y="6586"/>
                  </a:lnTo>
                  <a:lnTo>
                    <a:pt x="2817" y="6490"/>
                  </a:lnTo>
                  <a:lnTo>
                    <a:pt x="2770" y="6331"/>
                  </a:lnTo>
                  <a:lnTo>
                    <a:pt x="2725" y="6173"/>
                  </a:lnTo>
                  <a:lnTo>
                    <a:pt x="2681" y="6015"/>
                  </a:lnTo>
                  <a:lnTo>
                    <a:pt x="2639" y="5856"/>
                  </a:lnTo>
                  <a:lnTo>
                    <a:pt x="2597" y="5697"/>
                  </a:lnTo>
                  <a:lnTo>
                    <a:pt x="2557" y="5538"/>
                  </a:lnTo>
                  <a:lnTo>
                    <a:pt x="2518" y="5379"/>
                  </a:lnTo>
                  <a:lnTo>
                    <a:pt x="2480" y="5219"/>
                  </a:lnTo>
                  <a:lnTo>
                    <a:pt x="2443" y="5060"/>
                  </a:lnTo>
                  <a:lnTo>
                    <a:pt x="2409" y="4900"/>
                  </a:lnTo>
                  <a:lnTo>
                    <a:pt x="2374" y="4740"/>
                  </a:lnTo>
                  <a:lnTo>
                    <a:pt x="2342" y="4580"/>
                  </a:lnTo>
                  <a:lnTo>
                    <a:pt x="2310" y="4420"/>
                  </a:lnTo>
                  <a:lnTo>
                    <a:pt x="2280" y="4259"/>
                  </a:lnTo>
                  <a:lnTo>
                    <a:pt x="2252" y="4098"/>
                  </a:lnTo>
                  <a:lnTo>
                    <a:pt x="2224" y="3937"/>
                  </a:lnTo>
                  <a:lnTo>
                    <a:pt x="2197" y="3776"/>
                  </a:lnTo>
                  <a:lnTo>
                    <a:pt x="2172" y="3615"/>
                  </a:lnTo>
                  <a:lnTo>
                    <a:pt x="2149" y="3453"/>
                  </a:lnTo>
                  <a:lnTo>
                    <a:pt x="2126" y="3292"/>
                  </a:lnTo>
                  <a:lnTo>
                    <a:pt x="2105" y="3129"/>
                  </a:lnTo>
                  <a:lnTo>
                    <a:pt x="2086" y="2967"/>
                  </a:lnTo>
                  <a:lnTo>
                    <a:pt x="2068" y="2805"/>
                  </a:lnTo>
                  <a:lnTo>
                    <a:pt x="2051" y="2643"/>
                  </a:lnTo>
                  <a:lnTo>
                    <a:pt x="2035" y="2481"/>
                  </a:lnTo>
                  <a:lnTo>
                    <a:pt x="2022" y="2318"/>
                  </a:lnTo>
                  <a:lnTo>
                    <a:pt x="2008" y="2154"/>
                  </a:lnTo>
                  <a:lnTo>
                    <a:pt x="1998" y="1991"/>
                  </a:lnTo>
                  <a:lnTo>
                    <a:pt x="1987" y="1828"/>
                  </a:lnTo>
                  <a:lnTo>
                    <a:pt x="1979" y="1664"/>
                  </a:lnTo>
                  <a:lnTo>
                    <a:pt x="1971" y="1500"/>
                  </a:lnTo>
                  <a:lnTo>
                    <a:pt x="1966" y="1336"/>
                  </a:lnTo>
                  <a:lnTo>
                    <a:pt x="1672" y="1653"/>
                  </a:lnTo>
                  <a:lnTo>
                    <a:pt x="1672" y="1807"/>
                  </a:lnTo>
                  <a:lnTo>
                    <a:pt x="1674" y="1960"/>
                  </a:lnTo>
                  <a:lnTo>
                    <a:pt x="1678" y="2113"/>
                  </a:lnTo>
                  <a:lnTo>
                    <a:pt x="1685" y="2267"/>
                  </a:lnTo>
                  <a:lnTo>
                    <a:pt x="1693" y="2420"/>
                  </a:lnTo>
                  <a:lnTo>
                    <a:pt x="1704" y="2574"/>
                  </a:lnTo>
                  <a:lnTo>
                    <a:pt x="1716" y="2728"/>
                  </a:lnTo>
                  <a:lnTo>
                    <a:pt x="1731" y="2882"/>
                  </a:lnTo>
                  <a:lnTo>
                    <a:pt x="1746" y="3034"/>
                  </a:lnTo>
                  <a:lnTo>
                    <a:pt x="1764" y="3188"/>
                  </a:lnTo>
                  <a:lnTo>
                    <a:pt x="1784" y="3342"/>
                  </a:lnTo>
                  <a:lnTo>
                    <a:pt x="1805" y="3496"/>
                  </a:lnTo>
                  <a:lnTo>
                    <a:pt x="1828" y="3649"/>
                  </a:lnTo>
                  <a:lnTo>
                    <a:pt x="1853" y="3802"/>
                  </a:lnTo>
                  <a:lnTo>
                    <a:pt x="1879" y="3956"/>
                  </a:lnTo>
                  <a:lnTo>
                    <a:pt x="1907" y="4109"/>
                  </a:lnTo>
                  <a:lnTo>
                    <a:pt x="1936" y="4263"/>
                  </a:lnTo>
                  <a:lnTo>
                    <a:pt x="1966" y="4415"/>
                  </a:lnTo>
                  <a:lnTo>
                    <a:pt x="1999" y="4568"/>
                  </a:lnTo>
                  <a:lnTo>
                    <a:pt x="2032" y="4721"/>
                  </a:lnTo>
                  <a:lnTo>
                    <a:pt x="2067" y="4874"/>
                  </a:lnTo>
                  <a:lnTo>
                    <a:pt x="2103" y="5027"/>
                  </a:lnTo>
                  <a:lnTo>
                    <a:pt x="2140" y="5178"/>
                  </a:lnTo>
                  <a:lnTo>
                    <a:pt x="2179" y="5331"/>
                  </a:lnTo>
                  <a:lnTo>
                    <a:pt x="2218" y="5483"/>
                  </a:lnTo>
                  <a:lnTo>
                    <a:pt x="2259" y="5635"/>
                  </a:lnTo>
                  <a:lnTo>
                    <a:pt x="2301" y="5786"/>
                  </a:lnTo>
                  <a:lnTo>
                    <a:pt x="2344" y="5938"/>
                  </a:lnTo>
                  <a:lnTo>
                    <a:pt x="2387" y="6089"/>
                  </a:lnTo>
                  <a:lnTo>
                    <a:pt x="2432" y="6239"/>
                  </a:lnTo>
                  <a:lnTo>
                    <a:pt x="2478" y="6390"/>
                  </a:lnTo>
                  <a:lnTo>
                    <a:pt x="2524" y="6541"/>
                  </a:lnTo>
                  <a:lnTo>
                    <a:pt x="2511" y="6587"/>
                  </a:lnTo>
                  <a:lnTo>
                    <a:pt x="2494" y="6628"/>
                  </a:lnTo>
                  <a:lnTo>
                    <a:pt x="2468" y="6664"/>
                  </a:lnTo>
                  <a:lnTo>
                    <a:pt x="2438" y="6697"/>
                  </a:lnTo>
                  <a:lnTo>
                    <a:pt x="2402" y="6725"/>
                  </a:lnTo>
                  <a:lnTo>
                    <a:pt x="2362" y="6750"/>
                  </a:lnTo>
                  <a:lnTo>
                    <a:pt x="2317" y="6770"/>
                  </a:lnTo>
                  <a:lnTo>
                    <a:pt x="2269" y="6788"/>
                  </a:lnTo>
                  <a:lnTo>
                    <a:pt x="2216" y="6800"/>
                  </a:lnTo>
                  <a:lnTo>
                    <a:pt x="2161" y="6811"/>
                  </a:lnTo>
                  <a:lnTo>
                    <a:pt x="2103" y="6817"/>
                  </a:lnTo>
                  <a:lnTo>
                    <a:pt x="2044" y="6820"/>
                  </a:lnTo>
                  <a:lnTo>
                    <a:pt x="1982" y="6821"/>
                  </a:lnTo>
                  <a:lnTo>
                    <a:pt x="1919" y="6818"/>
                  </a:lnTo>
                  <a:lnTo>
                    <a:pt x="1855" y="6813"/>
                  </a:lnTo>
                  <a:lnTo>
                    <a:pt x="1792" y="6804"/>
                  </a:lnTo>
                  <a:lnTo>
                    <a:pt x="1729" y="6793"/>
                  </a:lnTo>
                  <a:lnTo>
                    <a:pt x="1666" y="6780"/>
                  </a:lnTo>
                  <a:lnTo>
                    <a:pt x="1603" y="6765"/>
                  </a:lnTo>
                  <a:lnTo>
                    <a:pt x="1543" y="6746"/>
                  </a:lnTo>
                  <a:lnTo>
                    <a:pt x="1485" y="6726"/>
                  </a:lnTo>
                  <a:lnTo>
                    <a:pt x="1428" y="6704"/>
                  </a:lnTo>
                  <a:lnTo>
                    <a:pt x="1375" y="6681"/>
                  </a:lnTo>
                  <a:lnTo>
                    <a:pt x="1325" y="6655"/>
                  </a:lnTo>
                  <a:lnTo>
                    <a:pt x="1279" y="6628"/>
                  </a:lnTo>
                  <a:lnTo>
                    <a:pt x="1237" y="6599"/>
                  </a:lnTo>
                  <a:lnTo>
                    <a:pt x="1199" y="6569"/>
                  </a:lnTo>
                  <a:lnTo>
                    <a:pt x="1167" y="6538"/>
                  </a:lnTo>
                  <a:lnTo>
                    <a:pt x="1141" y="6505"/>
                  </a:lnTo>
                  <a:lnTo>
                    <a:pt x="1120" y="6472"/>
                  </a:lnTo>
                  <a:lnTo>
                    <a:pt x="1105" y="6437"/>
                  </a:lnTo>
                  <a:lnTo>
                    <a:pt x="1098" y="6403"/>
                  </a:lnTo>
                  <a:lnTo>
                    <a:pt x="1072" y="6298"/>
                  </a:lnTo>
                  <a:lnTo>
                    <a:pt x="1044" y="6182"/>
                  </a:lnTo>
                  <a:lnTo>
                    <a:pt x="1016" y="6055"/>
                  </a:lnTo>
                  <a:lnTo>
                    <a:pt x="986" y="5918"/>
                  </a:lnTo>
                  <a:lnTo>
                    <a:pt x="955" y="5774"/>
                  </a:lnTo>
                  <a:lnTo>
                    <a:pt x="924" y="5620"/>
                  </a:lnTo>
                  <a:lnTo>
                    <a:pt x="893" y="5459"/>
                  </a:lnTo>
                  <a:lnTo>
                    <a:pt x="860" y="5291"/>
                  </a:lnTo>
                  <a:lnTo>
                    <a:pt x="828" y="5118"/>
                  </a:lnTo>
                  <a:lnTo>
                    <a:pt x="794" y="4939"/>
                  </a:lnTo>
                  <a:lnTo>
                    <a:pt x="761" y="4756"/>
                  </a:lnTo>
                  <a:lnTo>
                    <a:pt x="728" y="4568"/>
                  </a:lnTo>
                  <a:lnTo>
                    <a:pt x="695" y="4379"/>
                  </a:lnTo>
                  <a:lnTo>
                    <a:pt x="662" y="4186"/>
                  </a:lnTo>
                  <a:lnTo>
                    <a:pt x="631" y="3993"/>
                  </a:lnTo>
                  <a:lnTo>
                    <a:pt x="600" y="3798"/>
                  </a:lnTo>
                  <a:lnTo>
                    <a:pt x="568" y="3605"/>
                  </a:lnTo>
                  <a:lnTo>
                    <a:pt x="539" y="3411"/>
                  </a:lnTo>
                  <a:lnTo>
                    <a:pt x="510" y="3219"/>
                  </a:lnTo>
                  <a:lnTo>
                    <a:pt x="482" y="3030"/>
                  </a:lnTo>
                  <a:lnTo>
                    <a:pt x="455" y="2844"/>
                  </a:lnTo>
                  <a:lnTo>
                    <a:pt x="430" y="2662"/>
                  </a:lnTo>
                  <a:lnTo>
                    <a:pt x="407" y="2484"/>
                  </a:lnTo>
                  <a:lnTo>
                    <a:pt x="385" y="2311"/>
                  </a:lnTo>
                  <a:lnTo>
                    <a:pt x="365" y="2145"/>
                  </a:lnTo>
                  <a:lnTo>
                    <a:pt x="347" y="1986"/>
                  </a:lnTo>
                  <a:lnTo>
                    <a:pt x="332" y="1834"/>
                  </a:lnTo>
                  <a:lnTo>
                    <a:pt x="318" y="1691"/>
                  </a:lnTo>
                  <a:lnTo>
                    <a:pt x="307" y="1557"/>
                  </a:lnTo>
                  <a:lnTo>
                    <a:pt x="297" y="1432"/>
                  </a:lnTo>
                  <a:lnTo>
                    <a:pt x="291" y="1319"/>
                  </a:lnTo>
                  <a:lnTo>
                    <a:pt x="288" y="1217"/>
                  </a:lnTo>
                  <a:lnTo>
                    <a:pt x="309" y="879"/>
                  </a:lnTo>
                  <a:lnTo>
                    <a:pt x="329" y="485"/>
                  </a:lnTo>
                  <a:lnTo>
                    <a:pt x="368" y="38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233960" y="2828880"/>
            <a:ext cx="4674960" cy="66600"/>
            <a:chOff x="4233960" y="2828880"/>
            <a:chExt cx="4674960" cy="66600"/>
          </a:xfrm>
        </p:grpSpPr>
        <p:sp>
          <p:nvSpPr>
            <p:cNvPr id="121" name=""/>
            <p:cNvSpPr/>
            <p:nvPr/>
          </p:nvSpPr>
          <p:spPr>
            <a:xfrm>
              <a:off x="4233960" y="2828880"/>
              <a:ext cx="4674960" cy="66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mbiental.uaslp.mx/foroslp/desc.htm" TargetMode="External"/><Relationship Id="rId2" Type="http://schemas.openxmlformats.org/officeDocument/2006/relationships/hyperlink" Target="http://mx.groups.yahoo.com/group/pots/links" TargetMode="External"/><Relationship Id="rId3" Type="http://schemas.openxmlformats.org/officeDocument/2006/relationships/hyperlink" Target="http://enlaces.ucv.cl/pags/enla_rura/docs/6PowerPoint.pdf" TargetMode="External"/><Relationship Id="rId4" Type="http://schemas.openxmlformats.org/officeDocument/2006/relationships/hyperlink" Target="http://enlaces.ucv.cl/pags/enla_rura/docs/6PowerPoint.pdf" TargetMode="External"/><Relationship Id="rId5" Type="http://schemas.openxmlformats.org/officeDocument/2006/relationships/hyperlink" Target="http://enlaces.ucv.cl/pags/enla_rura/docs/6PowerPoint.pdf" TargetMode="External"/><Relationship Id="rId6" Type="http://schemas.openxmlformats.org/officeDocument/2006/relationships/hyperlink" Target="http://enlaces.ucv.cl/pags/enla_rura/docs/6PowerPoint.pdf" TargetMode="External"/><Relationship Id="rId7" Type="http://schemas.openxmlformats.org/officeDocument/2006/relationships/hyperlink" Target="http://enlaces.ucv.cl/pags/enla_rura/docs/6PowerPoint.pdf" TargetMode="External"/><Relationship Id="rId8" Type="http://schemas.openxmlformats.org/officeDocument/2006/relationships/hyperlink" Target="http://enlaces.ucv.cl/pags/enla_rura/docs/6PowerPoint.pdf" TargetMode="External"/><Relationship Id="rId9" Type="http://schemas.openxmlformats.org/officeDocument/2006/relationships/hyperlink" Target="http://enlaces.ucv.cl/pags/enla_rura/docs/6PowerPoint.pdf" TargetMode="External"/><Relationship Id="rId10" Type="http://schemas.openxmlformats.org/officeDocument/2006/relationships/hyperlink" Target="http://enlaces.ucv.cl/pags/enla_rura/docs/6PowerPoint.pdf" TargetMode="External"/><Relationship Id="rId11" Type="http://schemas.openxmlformats.org/officeDocument/2006/relationships/hyperlink" Target="http://enlaces.ucv.cl/pags/enla_rura/docs/6PowerPoint.pdf" TargetMode="External"/><Relationship Id="rId12" Type="http://schemas.openxmlformats.org/officeDocument/2006/relationships/hyperlink" Target="http://enlaces.ucv.cl/pags/enla_rura/docs/6PowerPoint.pdf" TargetMode="External"/><Relationship Id="rId13" Type="http://schemas.openxmlformats.org/officeDocument/2006/relationships/hyperlink" Target="http://enlaces.ucv.cl/pags/enla_rura/docs/6PowerPoint.pdf" TargetMode="External"/><Relationship Id="rId14" Type="http://schemas.openxmlformats.org/officeDocument/2006/relationships/hyperlink" Target="http://enlaces.ucv.cl/pags/enla_rura/docs/6PowerPoint.pdf" TargetMode="External"/><Relationship Id="rId15" Type="http://schemas.openxmlformats.org/officeDocument/2006/relationships/hyperlink" Target="http://enlaces.ucv.cl/pags/enla_rura/docs/6PowerPoint.pdf" TargetMode="External"/><Relationship Id="rId16" Type="http://schemas.openxmlformats.org/officeDocument/2006/relationships/hyperlink" Target="http://enlaces.ucv.cl/pags/enla_rura/docs/6PowerPoint.pdf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mbiental.uaslp.mx/" TargetMode="External"/><Relationship Id="rId3" Type="http://schemas.openxmlformats.org/officeDocument/2006/relationships/hyperlink" Target="http://www.ambiental.ws/complexus" TargetMode="External"/><Relationship Id="rId4" Type="http://schemas.openxmlformats.org/officeDocument/2006/relationships/hyperlink" Target="http://www.ugto.mx/pimaug/" TargetMode="External"/><Relationship Id="rId5" Type="http://schemas.openxmlformats.org/officeDocument/2006/relationships/hyperlink" Target="http://www.anuies.mx/" TargetMode="External"/><Relationship Id="rId6" Type="http://schemas.openxmlformats.org/officeDocument/2006/relationships/hyperlink" Target="http://www.unam.mx/cesu/" TargetMode="External"/><Relationship Id="rId7" Type="http://schemas.openxmlformats.org/officeDocument/2006/relationships/hyperlink" Target="http://www.sesic.sep.gob.mx/" TargetMode="External"/><Relationship Id="rId8" Type="http://schemas.openxmlformats.org/officeDocument/2006/relationships/hyperlink" Target="http://www.semarnat.gob.mx/" TargetMode="External"/><Relationship Id="rId9" Type="http://schemas.openxmlformats.org/officeDocument/2006/relationships/hyperlink" Target="http://www.segam.gob.mx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3240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nstrucciones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1415880"/>
            <a:ext cx="68072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Cuando hayas terminado de revisar estas instrucciones, puedes borrar la página.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sta plantilla contiene cuatro tipos de diapositivas: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 Narrow"/>
              </a:rPr>
              <a:t>1 para título principal (incorporada al “patrón”)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 Narrow"/>
              </a:rPr>
              <a:t>1 para texto normal (idem)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 Narrow"/>
              </a:rPr>
              <a:t>1 para transición entre temas (necesitas copiar y pegar para crear varias)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 Narrow"/>
              </a:rPr>
              <a:t>1 para colocar gráficas o esquemas (idem)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Además contiene 13 combinaciones de colores que se ajustan automáticamente, incluyendo el logotipo (Menú “ver”, opción “barra de tareas”, ventana “estilo de diapositiva”, opción “combinaciones de colores”)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res libre de realizar los cambios que gustes. En ese caso te recomendamos: 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 Narrow"/>
              </a:rPr>
              <a:t>Ajustar las combinaciones de colores para homogeneizar los resultados en todas las diapositivas.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 Narrow"/>
              </a:rPr>
              <a:t>No mezclar demasiados colores y demasiados tipos de letras. 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 Narrow"/>
              </a:rPr>
              <a:t>Ajustar la tipografía directamente sobre el patrón (Menú “ver”, opción “patrón”, etc. Los patrones son las formatos básicos en que se basan todas las diapositivas y están “detrás” de todas las demás.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Las imágenes que están fuera de cuadro no se proyectarán. Para modificarlas, es necesario ir a la vista “patrón” en menú “Ver”, opción “patrón de diapositivas”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Más plantillas, tips, etc. aquí: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1"/>
              </a:rPr>
              <a:t>http://ambiental.uaslp.mx/foroslp/desc.htm</a:t>
            </a:r>
            <a:r>
              <a:rPr b="0" lang="es-MX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2"/>
              </a:rPr>
              <a:t>http://mx.groups.yahoo.com/group/pots/links</a:t>
            </a:r>
            <a:r>
              <a:rPr b="0" lang="es-MX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Te recomendamos este excelente manual sobre PowerPoint: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3"/>
              </a:rPr>
              <a:t>http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4"/>
              </a:rPr>
              <a:t>://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5"/>
              </a:rPr>
              <a:t>enlaces.ucv.cl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6"/>
              </a:rPr>
              <a:t>/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7"/>
              </a:rPr>
              <a:t>pags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8"/>
              </a:rPr>
              <a:t>/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9"/>
              </a:rPr>
              <a:t>enla_rura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10"/>
              </a:rPr>
              <a:t>/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11"/>
              </a:rPr>
              <a:t>docs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12"/>
              </a:rPr>
              <a:t>/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13"/>
              </a:rPr>
              <a:t>6PowerPoint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14"/>
              </a:rPr>
              <a:t>.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15"/>
              </a:rPr>
              <a:t>pdf</a:t>
            </a:r>
            <a:r>
              <a:rPr b="0" lang="es-MX" sz="1400" spc="-1" strike="noStrike" u="sng">
                <a:solidFill>
                  <a:srgbClr val="009900"/>
                </a:solidFill>
                <a:uFillTx/>
                <a:latin typeface="Arial Narrow"/>
                <a:hlinkClick r:id="rId16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99000" y="1074240"/>
            <a:ext cx="520056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216320" y="3169800"/>
            <a:ext cx="46864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102360" y="5483160"/>
            <a:ext cx="1085400" cy="1022040"/>
            <a:chOff x="6102360" y="5483160"/>
            <a:chExt cx="1085400" cy="1022040"/>
          </a:xfrm>
        </p:grpSpPr>
        <p:sp>
          <p:nvSpPr>
            <p:cNvPr id="165" name=""/>
            <p:cNvSpPr/>
            <p:nvPr/>
          </p:nvSpPr>
          <p:spPr>
            <a:xfrm>
              <a:off x="6645240" y="5483160"/>
              <a:ext cx="542520" cy="51156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8" y="681"/>
                  </a:lnTo>
                  <a:lnTo>
                    <a:pt x="296" y="684"/>
                  </a:lnTo>
                  <a:lnTo>
                    <a:pt x="395" y="690"/>
                  </a:lnTo>
                  <a:lnTo>
                    <a:pt x="491" y="695"/>
                  </a:lnTo>
                  <a:lnTo>
                    <a:pt x="589" y="702"/>
                  </a:lnTo>
                  <a:lnTo>
                    <a:pt x="686" y="710"/>
                  </a:lnTo>
                  <a:lnTo>
                    <a:pt x="782" y="719"/>
                  </a:lnTo>
                  <a:lnTo>
                    <a:pt x="878" y="730"/>
                  </a:lnTo>
                  <a:lnTo>
                    <a:pt x="973" y="741"/>
                  </a:lnTo>
                  <a:lnTo>
                    <a:pt x="1069" y="754"/>
                  </a:lnTo>
                  <a:lnTo>
                    <a:pt x="1165" y="769"/>
                  </a:lnTo>
                  <a:lnTo>
                    <a:pt x="1259" y="784"/>
                  </a:lnTo>
                  <a:lnTo>
                    <a:pt x="1353" y="800"/>
                  </a:lnTo>
                  <a:lnTo>
                    <a:pt x="1448" y="817"/>
                  </a:lnTo>
                  <a:lnTo>
                    <a:pt x="1541" y="836"/>
                  </a:lnTo>
                  <a:lnTo>
                    <a:pt x="1634" y="857"/>
                  </a:lnTo>
                  <a:lnTo>
                    <a:pt x="1727" y="877"/>
                  </a:lnTo>
                  <a:lnTo>
                    <a:pt x="1820" y="899"/>
                  </a:lnTo>
                  <a:lnTo>
                    <a:pt x="1911" y="922"/>
                  </a:lnTo>
                  <a:lnTo>
                    <a:pt x="2002" y="947"/>
                  </a:lnTo>
                  <a:lnTo>
                    <a:pt x="2093" y="972"/>
                  </a:lnTo>
                  <a:lnTo>
                    <a:pt x="2184" y="999"/>
                  </a:lnTo>
                  <a:lnTo>
                    <a:pt x="2273" y="1026"/>
                  </a:lnTo>
                  <a:lnTo>
                    <a:pt x="2363" y="1055"/>
                  </a:lnTo>
                  <a:lnTo>
                    <a:pt x="2452" y="1085"/>
                  </a:lnTo>
                  <a:lnTo>
                    <a:pt x="2541" y="1115"/>
                  </a:lnTo>
                  <a:lnTo>
                    <a:pt x="2629" y="1148"/>
                  </a:lnTo>
                  <a:lnTo>
                    <a:pt x="2716" y="1180"/>
                  </a:lnTo>
                  <a:lnTo>
                    <a:pt x="2804" y="1215"/>
                  </a:lnTo>
                  <a:lnTo>
                    <a:pt x="2891" y="1250"/>
                  </a:lnTo>
                  <a:lnTo>
                    <a:pt x="2978" y="1285"/>
                  </a:lnTo>
                  <a:lnTo>
                    <a:pt x="3063" y="1323"/>
                  </a:lnTo>
                  <a:lnTo>
                    <a:pt x="3148" y="1361"/>
                  </a:lnTo>
                  <a:lnTo>
                    <a:pt x="3232" y="1399"/>
                  </a:lnTo>
                  <a:lnTo>
                    <a:pt x="3315" y="1440"/>
                  </a:lnTo>
                  <a:lnTo>
                    <a:pt x="3399" y="1482"/>
                  </a:lnTo>
                  <a:lnTo>
                    <a:pt x="3483" y="1522"/>
                  </a:lnTo>
                  <a:lnTo>
                    <a:pt x="3564" y="1566"/>
                  </a:lnTo>
                  <a:lnTo>
                    <a:pt x="3646" y="1609"/>
                  </a:lnTo>
                  <a:lnTo>
                    <a:pt x="3727" y="1655"/>
                  </a:lnTo>
                  <a:lnTo>
                    <a:pt x="3808" y="1700"/>
                  </a:lnTo>
                  <a:lnTo>
                    <a:pt x="3888" y="1747"/>
                  </a:lnTo>
                  <a:lnTo>
                    <a:pt x="3967" y="1796"/>
                  </a:lnTo>
                  <a:lnTo>
                    <a:pt x="4046" y="1845"/>
                  </a:lnTo>
                  <a:lnTo>
                    <a:pt x="4123" y="1894"/>
                  </a:lnTo>
                  <a:lnTo>
                    <a:pt x="4201" y="1944"/>
                  </a:lnTo>
                  <a:lnTo>
                    <a:pt x="4278" y="1996"/>
                  </a:lnTo>
                  <a:lnTo>
                    <a:pt x="4353" y="2049"/>
                  </a:lnTo>
                  <a:lnTo>
                    <a:pt x="4430" y="2101"/>
                  </a:lnTo>
                  <a:lnTo>
                    <a:pt x="4505" y="2156"/>
                  </a:lnTo>
                  <a:lnTo>
                    <a:pt x="4579" y="2210"/>
                  </a:lnTo>
                  <a:lnTo>
                    <a:pt x="4652" y="2267"/>
                  </a:lnTo>
                  <a:lnTo>
                    <a:pt x="4725" y="2324"/>
                  </a:lnTo>
                  <a:lnTo>
                    <a:pt x="4797" y="2382"/>
                  </a:lnTo>
                  <a:lnTo>
                    <a:pt x="4867" y="2439"/>
                  </a:lnTo>
                  <a:lnTo>
                    <a:pt x="4938" y="2499"/>
                  </a:lnTo>
                  <a:lnTo>
                    <a:pt x="5009" y="2558"/>
                  </a:lnTo>
                  <a:lnTo>
                    <a:pt x="5079" y="2620"/>
                  </a:lnTo>
                  <a:lnTo>
                    <a:pt x="5147" y="2682"/>
                  </a:lnTo>
                  <a:lnTo>
                    <a:pt x="5214" y="2745"/>
                  </a:lnTo>
                  <a:lnTo>
                    <a:pt x="5281" y="2807"/>
                  </a:lnTo>
                  <a:lnTo>
                    <a:pt x="5348" y="2872"/>
                  </a:lnTo>
                  <a:lnTo>
                    <a:pt x="5412" y="2937"/>
                  </a:lnTo>
                  <a:lnTo>
                    <a:pt x="5477" y="3002"/>
                  </a:lnTo>
                  <a:lnTo>
                    <a:pt x="5542" y="3069"/>
                  </a:lnTo>
                  <a:lnTo>
                    <a:pt x="5604" y="3136"/>
                  </a:lnTo>
                  <a:lnTo>
                    <a:pt x="5667" y="3204"/>
                  </a:lnTo>
                  <a:lnTo>
                    <a:pt x="5728" y="3272"/>
                  </a:lnTo>
                  <a:lnTo>
                    <a:pt x="5790" y="3342"/>
                  </a:lnTo>
                  <a:lnTo>
                    <a:pt x="5849" y="3413"/>
                  </a:lnTo>
                  <a:lnTo>
                    <a:pt x="5909" y="3484"/>
                  </a:lnTo>
                  <a:lnTo>
                    <a:pt x="5966" y="3555"/>
                  </a:lnTo>
                  <a:lnTo>
                    <a:pt x="6023" y="3628"/>
                  </a:lnTo>
                  <a:lnTo>
                    <a:pt x="6079" y="3701"/>
                  </a:lnTo>
                  <a:lnTo>
                    <a:pt x="6137" y="3774"/>
                  </a:lnTo>
                  <a:lnTo>
                    <a:pt x="6191" y="3849"/>
                  </a:lnTo>
                  <a:lnTo>
                    <a:pt x="6245" y="3924"/>
                  </a:lnTo>
                  <a:lnTo>
                    <a:pt x="6297" y="4000"/>
                  </a:lnTo>
                  <a:lnTo>
                    <a:pt x="6349" y="4076"/>
                  </a:lnTo>
                  <a:lnTo>
                    <a:pt x="6401" y="4153"/>
                  </a:lnTo>
                  <a:lnTo>
                    <a:pt x="6452" y="4232"/>
                  </a:lnTo>
                  <a:lnTo>
                    <a:pt x="6501" y="4309"/>
                  </a:lnTo>
                  <a:lnTo>
                    <a:pt x="6549" y="4388"/>
                  </a:lnTo>
                  <a:lnTo>
                    <a:pt x="6597" y="4468"/>
                  </a:lnTo>
                  <a:lnTo>
                    <a:pt x="6644" y="4548"/>
                  </a:lnTo>
                  <a:lnTo>
                    <a:pt x="6689" y="4629"/>
                  </a:lnTo>
                  <a:lnTo>
                    <a:pt x="6735" y="4711"/>
                  </a:lnTo>
                  <a:lnTo>
                    <a:pt x="6778" y="4792"/>
                  </a:lnTo>
                  <a:lnTo>
                    <a:pt x="6822" y="4874"/>
                  </a:lnTo>
                  <a:lnTo>
                    <a:pt x="6862" y="4959"/>
                  </a:lnTo>
                  <a:lnTo>
                    <a:pt x="6904" y="5042"/>
                  </a:lnTo>
                  <a:lnTo>
                    <a:pt x="6945" y="5126"/>
                  </a:lnTo>
                  <a:lnTo>
                    <a:pt x="6982" y="5211"/>
                  </a:lnTo>
                  <a:lnTo>
                    <a:pt x="7021" y="5296"/>
                  </a:lnTo>
                  <a:lnTo>
                    <a:pt x="7058" y="5382"/>
                  </a:lnTo>
                  <a:lnTo>
                    <a:pt x="7093" y="5468"/>
                  </a:lnTo>
                  <a:lnTo>
                    <a:pt x="7128" y="5556"/>
                  </a:lnTo>
                  <a:lnTo>
                    <a:pt x="7162" y="5644"/>
                  </a:lnTo>
                  <a:lnTo>
                    <a:pt x="7195" y="5732"/>
                  </a:lnTo>
                  <a:lnTo>
                    <a:pt x="7227" y="5820"/>
                  </a:lnTo>
                  <a:lnTo>
                    <a:pt x="7257" y="5909"/>
                  </a:lnTo>
                  <a:lnTo>
                    <a:pt x="7287" y="5999"/>
                  </a:lnTo>
                  <a:lnTo>
                    <a:pt x="7316" y="6089"/>
                  </a:lnTo>
                  <a:lnTo>
                    <a:pt x="7343" y="6179"/>
                  </a:lnTo>
                  <a:lnTo>
                    <a:pt x="7370" y="6270"/>
                  </a:lnTo>
                  <a:lnTo>
                    <a:pt x="7395" y="6361"/>
                  </a:lnTo>
                  <a:lnTo>
                    <a:pt x="7420" y="6452"/>
                  </a:lnTo>
                  <a:lnTo>
                    <a:pt x="7443" y="6544"/>
                  </a:lnTo>
                  <a:lnTo>
                    <a:pt x="7465" y="6637"/>
                  </a:lnTo>
                  <a:lnTo>
                    <a:pt x="7484" y="6730"/>
                  </a:lnTo>
                  <a:lnTo>
                    <a:pt x="7505" y="6823"/>
                  </a:lnTo>
                  <a:lnTo>
                    <a:pt x="7524" y="6918"/>
                  </a:lnTo>
                  <a:lnTo>
                    <a:pt x="7541" y="7013"/>
                  </a:lnTo>
                  <a:lnTo>
                    <a:pt x="7557" y="7107"/>
                  </a:lnTo>
                  <a:lnTo>
                    <a:pt x="7572" y="7201"/>
                  </a:lnTo>
                  <a:lnTo>
                    <a:pt x="7587" y="7297"/>
                  </a:lnTo>
                  <a:lnTo>
                    <a:pt x="7600" y="7394"/>
                  </a:lnTo>
                  <a:lnTo>
                    <a:pt x="7611" y="7490"/>
                  </a:lnTo>
                  <a:lnTo>
                    <a:pt x="7622" y="7586"/>
                  </a:lnTo>
                  <a:lnTo>
                    <a:pt x="7630" y="7682"/>
                  </a:lnTo>
                  <a:lnTo>
                    <a:pt x="7639" y="7780"/>
                  </a:lnTo>
                  <a:lnTo>
                    <a:pt x="7646" y="7878"/>
                  </a:lnTo>
                  <a:lnTo>
                    <a:pt x="7651" y="7974"/>
                  </a:lnTo>
                  <a:lnTo>
                    <a:pt x="7656" y="8074"/>
                  </a:lnTo>
                  <a:lnTo>
                    <a:pt x="7659" y="8172"/>
                  </a:lnTo>
                  <a:lnTo>
                    <a:pt x="7659" y="8272"/>
                  </a:lnTo>
                  <a:lnTo>
                    <a:pt x="7661" y="8371"/>
                  </a:lnTo>
                  <a:lnTo>
                    <a:pt x="8338" y="8371"/>
                  </a:lnTo>
                  <a:lnTo>
                    <a:pt x="8337" y="8263"/>
                  </a:lnTo>
                  <a:lnTo>
                    <a:pt x="8334" y="8156"/>
                  </a:lnTo>
                  <a:lnTo>
                    <a:pt x="8331" y="8050"/>
                  </a:lnTo>
                  <a:lnTo>
                    <a:pt x="8327" y="7943"/>
                  </a:lnTo>
                  <a:lnTo>
                    <a:pt x="8320" y="7835"/>
                  </a:lnTo>
                  <a:lnTo>
                    <a:pt x="8313" y="7730"/>
                  </a:lnTo>
                  <a:lnTo>
                    <a:pt x="8305" y="7624"/>
                  </a:lnTo>
                  <a:lnTo>
                    <a:pt x="8294" y="7517"/>
                  </a:lnTo>
                  <a:lnTo>
                    <a:pt x="8283" y="7413"/>
                  </a:lnTo>
                  <a:lnTo>
                    <a:pt x="8269" y="7308"/>
                  </a:lnTo>
                  <a:lnTo>
                    <a:pt x="8256" y="7204"/>
                  </a:lnTo>
                  <a:lnTo>
                    <a:pt x="8241" y="7101"/>
                  </a:lnTo>
                  <a:lnTo>
                    <a:pt x="8224" y="6996"/>
                  </a:lnTo>
                  <a:lnTo>
                    <a:pt x="8208" y="6892"/>
                  </a:lnTo>
                  <a:lnTo>
                    <a:pt x="8188" y="6791"/>
                  </a:lnTo>
                  <a:lnTo>
                    <a:pt x="8167" y="6688"/>
                  </a:lnTo>
                  <a:lnTo>
                    <a:pt x="8146" y="6587"/>
                  </a:lnTo>
                  <a:lnTo>
                    <a:pt x="8123" y="6485"/>
                  </a:lnTo>
                  <a:lnTo>
                    <a:pt x="8098" y="6385"/>
                  </a:lnTo>
                  <a:lnTo>
                    <a:pt x="8073" y="6285"/>
                  </a:lnTo>
                  <a:lnTo>
                    <a:pt x="8048" y="6183"/>
                  </a:lnTo>
                  <a:lnTo>
                    <a:pt x="8020" y="6084"/>
                  </a:lnTo>
                  <a:lnTo>
                    <a:pt x="7991" y="5985"/>
                  </a:lnTo>
                  <a:lnTo>
                    <a:pt x="7962" y="5887"/>
                  </a:lnTo>
                  <a:lnTo>
                    <a:pt x="7930" y="5789"/>
                  </a:lnTo>
                  <a:lnTo>
                    <a:pt x="7898" y="5691"/>
                  </a:lnTo>
                  <a:lnTo>
                    <a:pt x="7865" y="5594"/>
                  </a:lnTo>
                  <a:lnTo>
                    <a:pt x="7830" y="5498"/>
                  </a:lnTo>
                  <a:lnTo>
                    <a:pt x="7794" y="5402"/>
                  </a:lnTo>
                  <a:lnTo>
                    <a:pt x="7757" y="5306"/>
                  </a:lnTo>
                  <a:lnTo>
                    <a:pt x="7720" y="5213"/>
                  </a:lnTo>
                  <a:lnTo>
                    <a:pt x="7679" y="5119"/>
                  </a:lnTo>
                  <a:lnTo>
                    <a:pt x="7640" y="5025"/>
                  </a:lnTo>
                  <a:lnTo>
                    <a:pt x="7599" y="4932"/>
                  </a:lnTo>
                  <a:lnTo>
                    <a:pt x="7555" y="4839"/>
                  </a:lnTo>
                  <a:lnTo>
                    <a:pt x="7513" y="4747"/>
                  </a:lnTo>
                  <a:lnTo>
                    <a:pt x="7469" y="4656"/>
                  </a:lnTo>
                  <a:lnTo>
                    <a:pt x="7422" y="4566"/>
                  </a:lnTo>
                  <a:lnTo>
                    <a:pt x="7376" y="4476"/>
                  </a:lnTo>
                  <a:lnTo>
                    <a:pt x="7328" y="4386"/>
                  </a:lnTo>
                  <a:lnTo>
                    <a:pt x="7279" y="4297"/>
                  </a:lnTo>
                  <a:lnTo>
                    <a:pt x="7229" y="4211"/>
                  </a:lnTo>
                  <a:lnTo>
                    <a:pt x="7179" y="4123"/>
                  </a:lnTo>
                  <a:lnTo>
                    <a:pt x="7127" y="4036"/>
                  </a:lnTo>
                  <a:lnTo>
                    <a:pt x="7075" y="3950"/>
                  </a:lnTo>
                  <a:lnTo>
                    <a:pt x="7021" y="3864"/>
                  </a:lnTo>
                  <a:lnTo>
                    <a:pt x="6965" y="3781"/>
                  </a:lnTo>
                  <a:lnTo>
                    <a:pt x="6910" y="3696"/>
                  </a:lnTo>
                  <a:lnTo>
                    <a:pt x="6853" y="3612"/>
                  </a:lnTo>
                  <a:lnTo>
                    <a:pt x="6795" y="3530"/>
                  </a:lnTo>
                  <a:lnTo>
                    <a:pt x="6736" y="3450"/>
                  </a:lnTo>
                  <a:lnTo>
                    <a:pt x="6677" y="3368"/>
                  </a:lnTo>
                  <a:lnTo>
                    <a:pt x="6617" y="3287"/>
                  </a:lnTo>
                  <a:lnTo>
                    <a:pt x="6555" y="3208"/>
                  </a:lnTo>
                  <a:lnTo>
                    <a:pt x="6492" y="3130"/>
                  </a:lnTo>
                  <a:lnTo>
                    <a:pt x="6430" y="3051"/>
                  </a:lnTo>
                  <a:lnTo>
                    <a:pt x="6365" y="2975"/>
                  </a:lnTo>
                  <a:lnTo>
                    <a:pt x="6299" y="2898"/>
                  </a:lnTo>
                  <a:lnTo>
                    <a:pt x="6234" y="2823"/>
                  </a:lnTo>
                  <a:lnTo>
                    <a:pt x="6167" y="2748"/>
                  </a:lnTo>
                  <a:lnTo>
                    <a:pt x="6099" y="2675"/>
                  </a:lnTo>
                  <a:lnTo>
                    <a:pt x="6030" y="2601"/>
                  </a:lnTo>
                  <a:lnTo>
                    <a:pt x="5962" y="2529"/>
                  </a:lnTo>
                  <a:lnTo>
                    <a:pt x="5891" y="2457"/>
                  </a:lnTo>
                  <a:lnTo>
                    <a:pt x="5819" y="2386"/>
                  </a:lnTo>
                  <a:lnTo>
                    <a:pt x="5747" y="2317"/>
                  </a:lnTo>
                  <a:lnTo>
                    <a:pt x="5674" y="2248"/>
                  </a:lnTo>
                  <a:lnTo>
                    <a:pt x="5601" y="2180"/>
                  </a:lnTo>
                  <a:lnTo>
                    <a:pt x="5526" y="2113"/>
                  </a:lnTo>
                  <a:lnTo>
                    <a:pt x="5451" y="2047"/>
                  </a:lnTo>
                  <a:lnTo>
                    <a:pt x="5375" y="1981"/>
                  </a:lnTo>
                  <a:lnTo>
                    <a:pt x="5299" y="1916"/>
                  </a:lnTo>
                  <a:lnTo>
                    <a:pt x="5221" y="1853"/>
                  </a:lnTo>
                  <a:lnTo>
                    <a:pt x="5142" y="1790"/>
                  </a:lnTo>
                  <a:lnTo>
                    <a:pt x="5064" y="1728"/>
                  </a:lnTo>
                  <a:lnTo>
                    <a:pt x="4983" y="1668"/>
                  </a:lnTo>
                  <a:lnTo>
                    <a:pt x="4902" y="1608"/>
                  </a:lnTo>
                  <a:lnTo>
                    <a:pt x="4821" y="1549"/>
                  </a:lnTo>
                  <a:lnTo>
                    <a:pt x="4740" y="1491"/>
                  </a:lnTo>
                  <a:lnTo>
                    <a:pt x="4657" y="1434"/>
                  </a:lnTo>
                  <a:lnTo>
                    <a:pt x="4572" y="1378"/>
                  </a:lnTo>
                  <a:lnTo>
                    <a:pt x="4489" y="1323"/>
                  </a:lnTo>
                  <a:lnTo>
                    <a:pt x="4404" y="1268"/>
                  </a:lnTo>
                  <a:lnTo>
                    <a:pt x="4318" y="1216"/>
                  </a:lnTo>
                  <a:lnTo>
                    <a:pt x="4232" y="1164"/>
                  </a:lnTo>
                  <a:lnTo>
                    <a:pt x="4144" y="1113"/>
                  </a:lnTo>
                  <a:lnTo>
                    <a:pt x="4057" y="1063"/>
                  </a:lnTo>
                  <a:lnTo>
                    <a:pt x="3969" y="1014"/>
                  </a:lnTo>
                  <a:lnTo>
                    <a:pt x="3879" y="966"/>
                  </a:lnTo>
                  <a:lnTo>
                    <a:pt x="3790" y="920"/>
                  </a:lnTo>
                  <a:lnTo>
                    <a:pt x="3700" y="873"/>
                  </a:lnTo>
                  <a:lnTo>
                    <a:pt x="3609" y="829"/>
                  </a:lnTo>
                  <a:lnTo>
                    <a:pt x="3518" y="786"/>
                  </a:lnTo>
                  <a:lnTo>
                    <a:pt x="3426" y="742"/>
                  </a:lnTo>
                  <a:lnTo>
                    <a:pt x="3333" y="701"/>
                  </a:lnTo>
                  <a:lnTo>
                    <a:pt x="3239" y="661"/>
                  </a:lnTo>
                  <a:lnTo>
                    <a:pt x="3146" y="621"/>
                  </a:lnTo>
                  <a:lnTo>
                    <a:pt x="3053" y="583"/>
                  </a:lnTo>
                  <a:lnTo>
                    <a:pt x="2957" y="546"/>
                  </a:lnTo>
                  <a:lnTo>
                    <a:pt x="2862" y="510"/>
                  </a:lnTo>
                  <a:lnTo>
                    <a:pt x="2766" y="475"/>
                  </a:lnTo>
                  <a:lnTo>
                    <a:pt x="2669" y="442"/>
                  </a:lnTo>
                  <a:lnTo>
                    <a:pt x="2572" y="409"/>
                  </a:lnTo>
                  <a:lnTo>
                    <a:pt x="2474" y="378"/>
                  </a:lnTo>
                  <a:lnTo>
                    <a:pt x="2376" y="348"/>
                  </a:lnTo>
                  <a:lnTo>
                    <a:pt x="2278" y="319"/>
                  </a:lnTo>
                  <a:lnTo>
                    <a:pt x="2179" y="291"/>
                  </a:lnTo>
                  <a:lnTo>
                    <a:pt x="2078" y="266"/>
                  </a:lnTo>
                  <a:lnTo>
                    <a:pt x="1978" y="241"/>
                  </a:lnTo>
                  <a:lnTo>
                    <a:pt x="1878" y="216"/>
                  </a:lnTo>
                  <a:lnTo>
                    <a:pt x="1777" y="193"/>
                  </a:lnTo>
                  <a:lnTo>
                    <a:pt x="1676" y="172"/>
                  </a:lnTo>
                  <a:lnTo>
                    <a:pt x="1574" y="151"/>
                  </a:lnTo>
                  <a:lnTo>
                    <a:pt x="1473" y="131"/>
                  </a:lnTo>
                  <a:lnTo>
                    <a:pt x="1370" y="114"/>
                  </a:lnTo>
                  <a:lnTo>
                    <a:pt x="1265" y="97"/>
                  </a:lnTo>
                  <a:lnTo>
                    <a:pt x="1162" y="83"/>
                  </a:lnTo>
                  <a:lnTo>
                    <a:pt x="1059" y="69"/>
                  </a:lnTo>
                  <a:lnTo>
                    <a:pt x="955" y="55"/>
                  </a:lnTo>
                  <a:lnTo>
                    <a:pt x="850" y="44"/>
                  </a:lnTo>
                  <a:lnTo>
                    <a:pt x="744" y="33"/>
                  </a:lnTo>
                  <a:lnTo>
                    <a:pt x="639" y="25"/>
                  </a:lnTo>
                  <a:lnTo>
                    <a:pt x="534" y="18"/>
                  </a:lnTo>
                  <a:lnTo>
                    <a:pt x="426" y="12"/>
                  </a:lnTo>
                  <a:lnTo>
                    <a:pt x="320" y="7"/>
                  </a:lnTo>
                  <a:lnTo>
                    <a:pt x="214" y="4"/>
                  </a:lnTo>
                  <a:lnTo>
                    <a:pt x="10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02360" y="5483160"/>
              <a:ext cx="542880" cy="51156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677" y="8371"/>
                  </a:moveTo>
                  <a:lnTo>
                    <a:pt x="677" y="8371"/>
                  </a:lnTo>
                  <a:lnTo>
                    <a:pt x="677" y="8272"/>
                  </a:lnTo>
                  <a:lnTo>
                    <a:pt x="679" y="8172"/>
                  </a:lnTo>
                  <a:lnTo>
                    <a:pt x="682" y="8074"/>
                  </a:lnTo>
                  <a:lnTo>
                    <a:pt x="687" y="7974"/>
                  </a:lnTo>
                  <a:lnTo>
                    <a:pt x="692" y="7878"/>
                  </a:lnTo>
                  <a:lnTo>
                    <a:pt x="699" y="7780"/>
                  </a:lnTo>
                  <a:lnTo>
                    <a:pt x="708" y="7682"/>
                  </a:lnTo>
                  <a:lnTo>
                    <a:pt x="716" y="7585"/>
                  </a:lnTo>
                  <a:lnTo>
                    <a:pt x="726" y="7490"/>
                  </a:lnTo>
                  <a:lnTo>
                    <a:pt x="738" y="7394"/>
                  </a:lnTo>
                  <a:lnTo>
                    <a:pt x="751" y="7297"/>
                  </a:lnTo>
                  <a:lnTo>
                    <a:pt x="766" y="7201"/>
                  </a:lnTo>
                  <a:lnTo>
                    <a:pt x="780" y="7106"/>
                  </a:lnTo>
                  <a:lnTo>
                    <a:pt x="796" y="7013"/>
                  </a:lnTo>
                  <a:lnTo>
                    <a:pt x="814" y="6918"/>
                  </a:lnTo>
                  <a:lnTo>
                    <a:pt x="833" y="6823"/>
                  </a:lnTo>
                  <a:lnTo>
                    <a:pt x="853" y="6730"/>
                  </a:lnTo>
                  <a:lnTo>
                    <a:pt x="873" y="6637"/>
                  </a:lnTo>
                  <a:lnTo>
                    <a:pt x="895" y="6544"/>
                  </a:lnTo>
                  <a:lnTo>
                    <a:pt x="918" y="6452"/>
                  </a:lnTo>
                  <a:lnTo>
                    <a:pt x="943" y="6361"/>
                  </a:lnTo>
                  <a:lnTo>
                    <a:pt x="968" y="6270"/>
                  </a:lnTo>
                  <a:lnTo>
                    <a:pt x="994" y="6179"/>
                  </a:lnTo>
                  <a:lnTo>
                    <a:pt x="1022" y="6089"/>
                  </a:lnTo>
                  <a:lnTo>
                    <a:pt x="1051" y="5999"/>
                  </a:lnTo>
                  <a:lnTo>
                    <a:pt x="1080" y="5909"/>
                  </a:lnTo>
                  <a:lnTo>
                    <a:pt x="1111" y="5820"/>
                  </a:lnTo>
                  <a:lnTo>
                    <a:pt x="1142" y="5732"/>
                  </a:lnTo>
                  <a:lnTo>
                    <a:pt x="1176" y="5644"/>
                  </a:lnTo>
                  <a:lnTo>
                    <a:pt x="1210" y="5556"/>
                  </a:lnTo>
                  <a:lnTo>
                    <a:pt x="1243" y="5469"/>
                  </a:lnTo>
                  <a:lnTo>
                    <a:pt x="1280" y="5382"/>
                  </a:lnTo>
                  <a:lnTo>
                    <a:pt x="1317" y="5296"/>
                  </a:lnTo>
                  <a:lnTo>
                    <a:pt x="1355" y="5211"/>
                  </a:lnTo>
                  <a:lnTo>
                    <a:pt x="1393" y="5126"/>
                  </a:lnTo>
                  <a:lnTo>
                    <a:pt x="1433" y="5042"/>
                  </a:lnTo>
                  <a:lnTo>
                    <a:pt x="1475" y="4959"/>
                  </a:lnTo>
                  <a:lnTo>
                    <a:pt x="1516" y="4874"/>
                  </a:lnTo>
                  <a:lnTo>
                    <a:pt x="1559" y="4792"/>
                  </a:lnTo>
                  <a:lnTo>
                    <a:pt x="1603" y="4711"/>
                  </a:lnTo>
                  <a:lnTo>
                    <a:pt x="1648" y="4629"/>
                  </a:lnTo>
                  <a:lnTo>
                    <a:pt x="1694" y="4548"/>
                  </a:lnTo>
                  <a:lnTo>
                    <a:pt x="1741" y="4468"/>
                  </a:lnTo>
                  <a:lnTo>
                    <a:pt x="1787" y="4388"/>
                  </a:lnTo>
                  <a:lnTo>
                    <a:pt x="1837" y="4309"/>
                  </a:lnTo>
                  <a:lnTo>
                    <a:pt x="1886" y="4232"/>
                  </a:lnTo>
                  <a:lnTo>
                    <a:pt x="1937" y="4153"/>
                  </a:lnTo>
                  <a:lnTo>
                    <a:pt x="1989" y="4076"/>
                  </a:lnTo>
                  <a:lnTo>
                    <a:pt x="2040" y="3999"/>
                  </a:lnTo>
                  <a:lnTo>
                    <a:pt x="2093" y="3924"/>
                  </a:lnTo>
                  <a:lnTo>
                    <a:pt x="2146" y="3849"/>
                  </a:lnTo>
                  <a:lnTo>
                    <a:pt x="2201" y="3774"/>
                  </a:lnTo>
                  <a:lnTo>
                    <a:pt x="2258" y="3700"/>
                  </a:lnTo>
                  <a:lnTo>
                    <a:pt x="2314" y="3628"/>
                  </a:lnTo>
                  <a:lnTo>
                    <a:pt x="2371" y="3555"/>
                  </a:lnTo>
                  <a:lnTo>
                    <a:pt x="2429" y="3484"/>
                  </a:lnTo>
                  <a:lnTo>
                    <a:pt x="2489" y="3413"/>
                  </a:lnTo>
                  <a:lnTo>
                    <a:pt x="2548" y="3342"/>
                  </a:lnTo>
                  <a:lnTo>
                    <a:pt x="2609" y="3272"/>
                  </a:lnTo>
                  <a:lnTo>
                    <a:pt x="2671" y="3204"/>
                  </a:lnTo>
                  <a:lnTo>
                    <a:pt x="2733" y="3136"/>
                  </a:lnTo>
                  <a:lnTo>
                    <a:pt x="2796" y="3069"/>
                  </a:lnTo>
                  <a:lnTo>
                    <a:pt x="2861" y="3002"/>
                  </a:lnTo>
                  <a:lnTo>
                    <a:pt x="2926" y="2937"/>
                  </a:lnTo>
                  <a:lnTo>
                    <a:pt x="2990" y="2872"/>
                  </a:lnTo>
                  <a:lnTo>
                    <a:pt x="3056" y="2807"/>
                  </a:lnTo>
                  <a:lnTo>
                    <a:pt x="3124" y="2745"/>
                  </a:lnTo>
                  <a:lnTo>
                    <a:pt x="3191" y="2682"/>
                  </a:lnTo>
                  <a:lnTo>
                    <a:pt x="3260" y="2620"/>
                  </a:lnTo>
                  <a:lnTo>
                    <a:pt x="3329" y="2558"/>
                  </a:lnTo>
                  <a:lnTo>
                    <a:pt x="3399" y="2499"/>
                  </a:lnTo>
                  <a:lnTo>
                    <a:pt x="3471" y="2439"/>
                  </a:lnTo>
                  <a:lnTo>
                    <a:pt x="3541" y="2382"/>
                  </a:lnTo>
                  <a:lnTo>
                    <a:pt x="3613" y="2324"/>
                  </a:lnTo>
                  <a:lnTo>
                    <a:pt x="3685" y="2267"/>
                  </a:lnTo>
                  <a:lnTo>
                    <a:pt x="3759" y="2210"/>
                  </a:lnTo>
                  <a:lnTo>
                    <a:pt x="3832" y="2156"/>
                  </a:lnTo>
                  <a:lnTo>
                    <a:pt x="3908" y="2101"/>
                  </a:lnTo>
                  <a:lnTo>
                    <a:pt x="3982" y="2049"/>
                  </a:lnTo>
                  <a:lnTo>
                    <a:pt x="4060" y="1996"/>
                  </a:lnTo>
                  <a:lnTo>
                    <a:pt x="4136" y="1944"/>
                  </a:lnTo>
                  <a:lnTo>
                    <a:pt x="4214" y="1894"/>
                  </a:lnTo>
                  <a:lnTo>
                    <a:pt x="4292" y="1845"/>
                  </a:lnTo>
                  <a:lnTo>
                    <a:pt x="4371" y="1796"/>
                  </a:lnTo>
                  <a:lnTo>
                    <a:pt x="4450" y="1747"/>
                  </a:lnTo>
                  <a:lnTo>
                    <a:pt x="4530" y="1700"/>
                  </a:lnTo>
                  <a:lnTo>
                    <a:pt x="4611" y="1655"/>
                  </a:lnTo>
                  <a:lnTo>
                    <a:pt x="4691" y="1609"/>
                  </a:lnTo>
                  <a:lnTo>
                    <a:pt x="4772" y="1566"/>
                  </a:lnTo>
                  <a:lnTo>
                    <a:pt x="4855" y="1522"/>
                  </a:lnTo>
                  <a:lnTo>
                    <a:pt x="4938" y="1482"/>
                  </a:lnTo>
                  <a:lnTo>
                    <a:pt x="5022" y="1440"/>
                  </a:lnTo>
                  <a:lnTo>
                    <a:pt x="5106" y="1399"/>
                  </a:lnTo>
                  <a:lnTo>
                    <a:pt x="5189" y="1361"/>
                  </a:lnTo>
                  <a:lnTo>
                    <a:pt x="5275" y="1323"/>
                  </a:lnTo>
                  <a:lnTo>
                    <a:pt x="5360" y="1285"/>
                  </a:lnTo>
                  <a:lnTo>
                    <a:pt x="5448" y="1248"/>
                  </a:lnTo>
                  <a:lnTo>
                    <a:pt x="5534" y="1215"/>
                  </a:lnTo>
                  <a:lnTo>
                    <a:pt x="5621" y="1180"/>
                  </a:lnTo>
                  <a:lnTo>
                    <a:pt x="5708" y="1148"/>
                  </a:lnTo>
                  <a:lnTo>
                    <a:pt x="5797" y="1115"/>
                  </a:lnTo>
                  <a:lnTo>
                    <a:pt x="5886" y="1085"/>
                  </a:lnTo>
                  <a:lnTo>
                    <a:pt x="5974" y="1055"/>
                  </a:lnTo>
                  <a:lnTo>
                    <a:pt x="6064" y="1026"/>
                  </a:lnTo>
                  <a:lnTo>
                    <a:pt x="6154" y="999"/>
                  </a:lnTo>
                  <a:lnTo>
                    <a:pt x="6245" y="972"/>
                  </a:lnTo>
                  <a:lnTo>
                    <a:pt x="6336" y="947"/>
                  </a:lnTo>
                  <a:lnTo>
                    <a:pt x="6427" y="922"/>
                  </a:lnTo>
                  <a:lnTo>
                    <a:pt x="6518" y="899"/>
                  </a:lnTo>
                  <a:lnTo>
                    <a:pt x="6610" y="877"/>
                  </a:lnTo>
                  <a:lnTo>
                    <a:pt x="6704" y="857"/>
                  </a:lnTo>
                  <a:lnTo>
                    <a:pt x="6797" y="836"/>
                  </a:lnTo>
                  <a:lnTo>
                    <a:pt x="6890" y="817"/>
                  </a:lnTo>
                  <a:lnTo>
                    <a:pt x="6984" y="800"/>
                  </a:lnTo>
                  <a:lnTo>
                    <a:pt x="7079" y="784"/>
                  </a:lnTo>
                  <a:lnTo>
                    <a:pt x="7173" y="769"/>
                  </a:lnTo>
                  <a:lnTo>
                    <a:pt x="7268" y="754"/>
                  </a:lnTo>
                  <a:lnTo>
                    <a:pt x="7363" y="741"/>
                  </a:lnTo>
                  <a:lnTo>
                    <a:pt x="7459" y="730"/>
                  </a:lnTo>
                  <a:lnTo>
                    <a:pt x="7556" y="719"/>
                  </a:lnTo>
                  <a:lnTo>
                    <a:pt x="7652" y="710"/>
                  </a:lnTo>
                  <a:lnTo>
                    <a:pt x="7749" y="702"/>
                  </a:lnTo>
                  <a:lnTo>
                    <a:pt x="7847" y="695"/>
                  </a:lnTo>
                  <a:lnTo>
                    <a:pt x="7943" y="690"/>
                  </a:lnTo>
                  <a:lnTo>
                    <a:pt x="8041" y="684"/>
                  </a:lnTo>
                  <a:lnTo>
                    <a:pt x="8140" y="681"/>
                  </a:lnTo>
                  <a:lnTo>
                    <a:pt x="8239" y="681"/>
                  </a:lnTo>
                  <a:lnTo>
                    <a:pt x="8338" y="680"/>
                  </a:lnTo>
                  <a:lnTo>
                    <a:pt x="8338" y="0"/>
                  </a:lnTo>
                  <a:lnTo>
                    <a:pt x="8231" y="1"/>
                  </a:lnTo>
                  <a:lnTo>
                    <a:pt x="8124" y="4"/>
                  </a:lnTo>
                  <a:lnTo>
                    <a:pt x="8018" y="7"/>
                  </a:lnTo>
                  <a:lnTo>
                    <a:pt x="7912" y="12"/>
                  </a:lnTo>
                  <a:lnTo>
                    <a:pt x="7804" y="18"/>
                  </a:lnTo>
                  <a:lnTo>
                    <a:pt x="7699" y="25"/>
                  </a:lnTo>
                  <a:lnTo>
                    <a:pt x="7594" y="33"/>
                  </a:lnTo>
                  <a:lnTo>
                    <a:pt x="7488" y="44"/>
                  </a:lnTo>
                  <a:lnTo>
                    <a:pt x="7383" y="55"/>
                  </a:lnTo>
                  <a:lnTo>
                    <a:pt x="7279" y="69"/>
                  </a:lnTo>
                  <a:lnTo>
                    <a:pt x="7176" y="83"/>
                  </a:lnTo>
                  <a:lnTo>
                    <a:pt x="7072" y="97"/>
                  </a:lnTo>
                  <a:lnTo>
                    <a:pt x="6967" y="114"/>
                  </a:lnTo>
                  <a:lnTo>
                    <a:pt x="6865" y="131"/>
                  </a:lnTo>
                  <a:lnTo>
                    <a:pt x="6763" y="151"/>
                  </a:lnTo>
                  <a:lnTo>
                    <a:pt x="6662" y="172"/>
                  </a:lnTo>
                  <a:lnTo>
                    <a:pt x="6561" y="193"/>
                  </a:lnTo>
                  <a:lnTo>
                    <a:pt x="6460" y="216"/>
                  </a:lnTo>
                  <a:lnTo>
                    <a:pt x="6359" y="241"/>
                  </a:lnTo>
                  <a:lnTo>
                    <a:pt x="6260" y="266"/>
                  </a:lnTo>
                  <a:lnTo>
                    <a:pt x="6159" y="291"/>
                  </a:lnTo>
                  <a:lnTo>
                    <a:pt x="6060" y="319"/>
                  </a:lnTo>
                  <a:lnTo>
                    <a:pt x="5961" y="348"/>
                  </a:lnTo>
                  <a:lnTo>
                    <a:pt x="5863" y="378"/>
                  </a:lnTo>
                  <a:lnTo>
                    <a:pt x="5766" y="409"/>
                  </a:lnTo>
                  <a:lnTo>
                    <a:pt x="5669" y="442"/>
                  </a:lnTo>
                  <a:lnTo>
                    <a:pt x="5572" y="475"/>
                  </a:lnTo>
                  <a:lnTo>
                    <a:pt x="5476" y="510"/>
                  </a:lnTo>
                  <a:lnTo>
                    <a:pt x="5380" y="546"/>
                  </a:lnTo>
                  <a:lnTo>
                    <a:pt x="5285" y="583"/>
                  </a:lnTo>
                  <a:lnTo>
                    <a:pt x="5190" y="622"/>
                  </a:lnTo>
                  <a:lnTo>
                    <a:pt x="5099" y="661"/>
                  </a:lnTo>
                  <a:lnTo>
                    <a:pt x="5005" y="701"/>
                  </a:lnTo>
                  <a:lnTo>
                    <a:pt x="4912" y="742"/>
                  </a:lnTo>
                  <a:lnTo>
                    <a:pt x="4819" y="786"/>
                  </a:lnTo>
                  <a:lnTo>
                    <a:pt x="4729" y="829"/>
                  </a:lnTo>
                  <a:lnTo>
                    <a:pt x="4637" y="873"/>
                  </a:lnTo>
                  <a:lnTo>
                    <a:pt x="4548" y="920"/>
                  </a:lnTo>
                  <a:lnTo>
                    <a:pt x="4458" y="966"/>
                  </a:lnTo>
                  <a:lnTo>
                    <a:pt x="4369" y="1014"/>
                  </a:lnTo>
                  <a:lnTo>
                    <a:pt x="4281" y="1063"/>
                  </a:lnTo>
                  <a:lnTo>
                    <a:pt x="4193" y="1113"/>
                  </a:lnTo>
                  <a:lnTo>
                    <a:pt x="4106" y="1164"/>
                  </a:lnTo>
                  <a:lnTo>
                    <a:pt x="4019" y="1216"/>
                  </a:lnTo>
                  <a:lnTo>
                    <a:pt x="3934" y="1268"/>
                  </a:lnTo>
                  <a:lnTo>
                    <a:pt x="3849" y="1323"/>
                  </a:lnTo>
                  <a:lnTo>
                    <a:pt x="3766" y="1378"/>
                  </a:lnTo>
                  <a:lnTo>
                    <a:pt x="3681" y="1434"/>
                  </a:lnTo>
                  <a:lnTo>
                    <a:pt x="3599" y="1491"/>
                  </a:lnTo>
                  <a:lnTo>
                    <a:pt x="3517" y="1549"/>
                  </a:lnTo>
                  <a:lnTo>
                    <a:pt x="3436" y="1608"/>
                  </a:lnTo>
                  <a:lnTo>
                    <a:pt x="3355" y="1668"/>
                  </a:lnTo>
                  <a:lnTo>
                    <a:pt x="3275" y="1728"/>
                  </a:lnTo>
                  <a:lnTo>
                    <a:pt x="3196" y="1790"/>
                  </a:lnTo>
                  <a:lnTo>
                    <a:pt x="3117" y="1853"/>
                  </a:lnTo>
                  <a:lnTo>
                    <a:pt x="3039" y="1916"/>
                  </a:lnTo>
                  <a:lnTo>
                    <a:pt x="2962" y="1981"/>
                  </a:lnTo>
                  <a:lnTo>
                    <a:pt x="2887" y="2047"/>
                  </a:lnTo>
                  <a:lnTo>
                    <a:pt x="2811" y="2113"/>
                  </a:lnTo>
                  <a:lnTo>
                    <a:pt x="2737" y="2180"/>
                  </a:lnTo>
                  <a:lnTo>
                    <a:pt x="2663" y="2248"/>
                  </a:lnTo>
                  <a:lnTo>
                    <a:pt x="2591" y="2317"/>
                  </a:lnTo>
                  <a:lnTo>
                    <a:pt x="2519" y="2386"/>
                  </a:lnTo>
                  <a:lnTo>
                    <a:pt x="2447" y="2457"/>
                  </a:lnTo>
                  <a:lnTo>
                    <a:pt x="2376" y="2529"/>
                  </a:lnTo>
                  <a:lnTo>
                    <a:pt x="2308" y="2601"/>
                  </a:lnTo>
                  <a:lnTo>
                    <a:pt x="2239" y="2675"/>
                  </a:lnTo>
                  <a:lnTo>
                    <a:pt x="2171" y="2748"/>
                  </a:lnTo>
                  <a:lnTo>
                    <a:pt x="2104" y="2823"/>
                  </a:lnTo>
                  <a:lnTo>
                    <a:pt x="2038" y="2898"/>
                  </a:lnTo>
                  <a:lnTo>
                    <a:pt x="1973" y="2975"/>
                  </a:lnTo>
                  <a:lnTo>
                    <a:pt x="1908" y="3051"/>
                  </a:lnTo>
                  <a:lnTo>
                    <a:pt x="1845" y="3130"/>
                  </a:lnTo>
                  <a:lnTo>
                    <a:pt x="1782" y="3208"/>
                  </a:lnTo>
                  <a:lnTo>
                    <a:pt x="1721" y="3289"/>
                  </a:lnTo>
                  <a:lnTo>
                    <a:pt x="1661" y="3368"/>
                  </a:lnTo>
                  <a:lnTo>
                    <a:pt x="1602" y="3450"/>
                  </a:lnTo>
                  <a:lnTo>
                    <a:pt x="1543" y="3530"/>
                  </a:lnTo>
                  <a:lnTo>
                    <a:pt x="1484" y="3614"/>
                  </a:lnTo>
                  <a:lnTo>
                    <a:pt x="1428" y="3696"/>
                  </a:lnTo>
                  <a:lnTo>
                    <a:pt x="1373" y="3781"/>
                  </a:lnTo>
                  <a:lnTo>
                    <a:pt x="1317" y="3864"/>
                  </a:lnTo>
                  <a:lnTo>
                    <a:pt x="1263" y="3950"/>
                  </a:lnTo>
                  <a:lnTo>
                    <a:pt x="1211" y="4036"/>
                  </a:lnTo>
                  <a:lnTo>
                    <a:pt x="1159" y="4123"/>
                  </a:lnTo>
                  <a:lnTo>
                    <a:pt x="1109" y="4211"/>
                  </a:lnTo>
                  <a:lnTo>
                    <a:pt x="1058" y="4297"/>
                  </a:lnTo>
                  <a:lnTo>
                    <a:pt x="1010" y="4386"/>
                  </a:lnTo>
                  <a:lnTo>
                    <a:pt x="962" y="4476"/>
                  </a:lnTo>
                  <a:lnTo>
                    <a:pt x="915" y="4566"/>
                  </a:lnTo>
                  <a:lnTo>
                    <a:pt x="869" y="4656"/>
                  </a:lnTo>
                  <a:lnTo>
                    <a:pt x="825" y="4747"/>
                  </a:lnTo>
                  <a:lnTo>
                    <a:pt x="782" y="4839"/>
                  </a:lnTo>
                  <a:lnTo>
                    <a:pt x="739" y="4932"/>
                  </a:lnTo>
                  <a:lnTo>
                    <a:pt x="698" y="5025"/>
                  </a:lnTo>
                  <a:lnTo>
                    <a:pt x="658" y="5119"/>
                  </a:lnTo>
                  <a:lnTo>
                    <a:pt x="619" y="5212"/>
                  </a:lnTo>
                  <a:lnTo>
                    <a:pt x="581" y="5306"/>
                  </a:lnTo>
                  <a:lnTo>
                    <a:pt x="543" y="5402"/>
                  </a:lnTo>
                  <a:lnTo>
                    <a:pt x="508" y="5498"/>
                  </a:lnTo>
                  <a:lnTo>
                    <a:pt x="473" y="5594"/>
                  </a:lnTo>
                  <a:lnTo>
                    <a:pt x="440" y="5691"/>
                  </a:lnTo>
                  <a:lnTo>
                    <a:pt x="408" y="5789"/>
                  </a:lnTo>
                  <a:lnTo>
                    <a:pt x="376" y="5887"/>
                  </a:lnTo>
                  <a:lnTo>
                    <a:pt x="346" y="5985"/>
                  </a:lnTo>
                  <a:lnTo>
                    <a:pt x="318" y="6084"/>
                  </a:lnTo>
                  <a:lnTo>
                    <a:pt x="290" y="6183"/>
                  </a:lnTo>
                  <a:lnTo>
                    <a:pt x="265" y="6285"/>
                  </a:lnTo>
                  <a:lnTo>
                    <a:pt x="239" y="6385"/>
                  </a:lnTo>
                  <a:lnTo>
                    <a:pt x="215" y="6485"/>
                  </a:lnTo>
                  <a:lnTo>
                    <a:pt x="192" y="6587"/>
                  </a:lnTo>
                  <a:lnTo>
                    <a:pt x="171" y="6688"/>
                  </a:lnTo>
                  <a:lnTo>
                    <a:pt x="150" y="6791"/>
                  </a:lnTo>
                  <a:lnTo>
                    <a:pt x="131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1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1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77" y="837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02360" y="5994720"/>
              <a:ext cx="542880" cy="51048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8338" y="7691"/>
                  </a:moveTo>
                  <a:lnTo>
                    <a:pt x="8338" y="7691"/>
                  </a:lnTo>
                  <a:lnTo>
                    <a:pt x="8239" y="7691"/>
                  </a:lnTo>
                  <a:lnTo>
                    <a:pt x="8140" y="7690"/>
                  </a:lnTo>
                  <a:lnTo>
                    <a:pt x="8041" y="7687"/>
                  </a:lnTo>
                  <a:lnTo>
                    <a:pt x="7943" y="7681"/>
                  </a:lnTo>
                  <a:lnTo>
                    <a:pt x="7847" y="7676"/>
                  </a:lnTo>
                  <a:lnTo>
                    <a:pt x="7749" y="7669"/>
                  </a:lnTo>
                  <a:lnTo>
                    <a:pt x="7652" y="7661"/>
                  </a:lnTo>
                  <a:lnTo>
                    <a:pt x="7555" y="7652"/>
                  </a:lnTo>
                  <a:lnTo>
                    <a:pt x="7459" y="7642"/>
                  </a:lnTo>
                  <a:lnTo>
                    <a:pt x="7363" y="7630"/>
                  </a:lnTo>
                  <a:lnTo>
                    <a:pt x="7268" y="7617"/>
                  </a:lnTo>
                  <a:lnTo>
                    <a:pt x="7173" y="7602"/>
                  </a:lnTo>
                  <a:lnTo>
                    <a:pt x="7078" y="7588"/>
                  </a:lnTo>
                  <a:lnTo>
                    <a:pt x="6984" y="7572"/>
                  </a:lnTo>
                  <a:lnTo>
                    <a:pt x="6890" y="7554"/>
                  </a:lnTo>
                  <a:lnTo>
                    <a:pt x="6797" y="7535"/>
                  </a:lnTo>
                  <a:lnTo>
                    <a:pt x="6704" y="7515"/>
                  </a:lnTo>
                  <a:lnTo>
                    <a:pt x="6610" y="7494"/>
                  </a:lnTo>
                  <a:lnTo>
                    <a:pt x="6518" y="7472"/>
                  </a:lnTo>
                  <a:lnTo>
                    <a:pt x="6427" y="7449"/>
                  </a:lnTo>
                  <a:lnTo>
                    <a:pt x="6336" y="7424"/>
                  </a:lnTo>
                  <a:lnTo>
                    <a:pt x="6245" y="7399"/>
                  </a:lnTo>
                  <a:lnTo>
                    <a:pt x="6154" y="7373"/>
                  </a:lnTo>
                  <a:lnTo>
                    <a:pt x="6064" y="7345"/>
                  </a:lnTo>
                  <a:lnTo>
                    <a:pt x="5974" y="7316"/>
                  </a:lnTo>
                  <a:lnTo>
                    <a:pt x="5886" y="7287"/>
                  </a:lnTo>
                  <a:lnTo>
                    <a:pt x="5797" y="7256"/>
                  </a:lnTo>
                  <a:lnTo>
                    <a:pt x="5708" y="7224"/>
                  </a:lnTo>
                  <a:lnTo>
                    <a:pt x="5621" y="7191"/>
                  </a:lnTo>
                  <a:lnTo>
                    <a:pt x="5534" y="7156"/>
                  </a:lnTo>
                  <a:lnTo>
                    <a:pt x="5448" y="7123"/>
                  </a:lnTo>
                  <a:lnTo>
                    <a:pt x="5360" y="7086"/>
                  </a:lnTo>
                  <a:lnTo>
                    <a:pt x="5275" y="7048"/>
                  </a:lnTo>
                  <a:lnTo>
                    <a:pt x="5189" y="7011"/>
                  </a:lnTo>
                  <a:lnTo>
                    <a:pt x="5106" y="6972"/>
                  </a:lnTo>
                  <a:lnTo>
                    <a:pt x="5022" y="6932"/>
                  </a:lnTo>
                  <a:lnTo>
                    <a:pt x="4938" y="6890"/>
                  </a:lnTo>
                  <a:lnTo>
                    <a:pt x="4856" y="6849"/>
                  </a:lnTo>
                  <a:lnTo>
                    <a:pt x="4772" y="6806"/>
                  </a:lnTo>
                  <a:lnTo>
                    <a:pt x="4691" y="6762"/>
                  </a:lnTo>
                  <a:lnTo>
                    <a:pt x="4611" y="6717"/>
                  </a:lnTo>
                  <a:lnTo>
                    <a:pt x="4530" y="6671"/>
                  </a:lnTo>
                  <a:lnTo>
                    <a:pt x="4450" y="6624"/>
                  </a:lnTo>
                  <a:lnTo>
                    <a:pt x="4371" y="6576"/>
                  </a:lnTo>
                  <a:lnTo>
                    <a:pt x="4292" y="6526"/>
                  </a:lnTo>
                  <a:lnTo>
                    <a:pt x="4214" y="6477"/>
                  </a:lnTo>
                  <a:lnTo>
                    <a:pt x="4138" y="6427"/>
                  </a:lnTo>
                  <a:lnTo>
                    <a:pt x="4060" y="6375"/>
                  </a:lnTo>
                  <a:lnTo>
                    <a:pt x="3982" y="6323"/>
                  </a:lnTo>
                  <a:lnTo>
                    <a:pt x="3908" y="6270"/>
                  </a:lnTo>
                  <a:lnTo>
                    <a:pt x="3832" y="6217"/>
                  </a:lnTo>
                  <a:lnTo>
                    <a:pt x="3759" y="6161"/>
                  </a:lnTo>
                  <a:lnTo>
                    <a:pt x="3685" y="6105"/>
                  </a:lnTo>
                  <a:lnTo>
                    <a:pt x="3613" y="6048"/>
                  </a:lnTo>
                  <a:lnTo>
                    <a:pt x="3541" y="5990"/>
                  </a:lnTo>
                  <a:lnTo>
                    <a:pt x="3471" y="5932"/>
                  </a:lnTo>
                  <a:lnTo>
                    <a:pt x="3399" y="5872"/>
                  </a:lnTo>
                  <a:lnTo>
                    <a:pt x="3329" y="5813"/>
                  </a:lnTo>
                  <a:lnTo>
                    <a:pt x="3260" y="5752"/>
                  </a:lnTo>
                  <a:lnTo>
                    <a:pt x="3191" y="5689"/>
                  </a:lnTo>
                  <a:lnTo>
                    <a:pt x="3124" y="5627"/>
                  </a:lnTo>
                  <a:lnTo>
                    <a:pt x="3056" y="5564"/>
                  </a:lnTo>
                  <a:lnTo>
                    <a:pt x="2990" y="5499"/>
                  </a:lnTo>
                  <a:lnTo>
                    <a:pt x="2926" y="5434"/>
                  </a:lnTo>
                  <a:lnTo>
                    <a:pt x="2861" y="5369"/>
                  </a:lnTo>
                  <a:lnTo>
                    <a:pt x="2796" y="5303"/>
                  </a:lnTo>
                  <a:lnTo>
                    <a:pt x="2733" y="5235"/>
                  </a:lnTo>
                  <a:lnTo>
                    <a:pt x="2671" y="5167"/>
                  </a:lnTo>
                  <a:lnTo>
                    <a:pt x="2609" y="5098"/>
                  </a:lnTo>
                  <a:lnTo>
                    <a:pt x="2548" y="5029"/>
                  </a:lnTo>
                  <a:lnTo>
                    <a:pt x="2489" y="4959"/>
                  </a:lnTo>
                  <a:lnTo>
                    <a:pt x="2429" y="4887"/>
                  </a:lnTo>
                  <a:lnTo>
                    <a:pt x="2371" y="4816"/>
                  </a:lnTo>
                  <a:lnTo>
                    <a:pt x="2314" y="4743"/>
                  </a:lnTo>
                  <a:lnTo>
                    <a:pt x="2258" y="4671"/>
                  </a:lnTo>
                  <a:lnTo>
                    <a:pt x="2201" y="4597"/>
                  </a:lnTo>
                  <a:lnTo>
                    <a:pt x="2146" y="4523"/>
                  </a:lnTo>
                  <a:lnTo>
                    <a:pt x="2093" y="4447"/>
                  </a:lnTo>
                  <a:lnTo>
                    <a:pt x="2040" y="4373"/>
                  </a:lnTo>
                  <a:lnTo>
                    <a:pt x="1989" y="4295"/>
                  </a:lnTo>
                  <a:lnTo>
                    <a:pt x="1937" y="4217"/>
                  </a:lnTo>
                  <a:lnTo>
                    <a:pt x="1886" y="4141"/>
                  </a:lnTo>
                  <a:lnTo>
                    <a:pt x="1837" y="4062"/>
                  </a:lnTo>
                  <a:lnTo>
                    <a:pt x="1787" y="3983"/>
                  </a:lnTo>
                  <a:lnTo>
                    <a:pt x="1741" y="3903"/>
                  </a:lnTo>
                  <a:lnTo>
                    <a:pt x="1694" y="3823"/>
                  </a:lnTo>
                  <a:lnTo>
                    <a:pt x="1648" y="3742"/>
                  </a:lnTo>
                  <a:lnTo>
                    <a:pt x="1603" y="3661"/>
                  </a:lnTo>
                  <a:lnTo>
                    <a:pt x="1559" y="3580"/>
                  </a:lnTo>
                  <a:lnTo>
                    <a:pt x="1516" y="3496"/>
                  </a:lnTo>
                  <a:lnTo>
                    <a:pt x="1475" y="3413"/>
                  </a:lnTo>
                  <a:lnTo>
                    <a:pt x="1433" y="3330"/>
                  </a:lnTo>
                  <a:lnTo>
                    <a:pt x="1393" y="3245"/>
                  </a:lnTo>
                  <a:lnTo>
                    <a:pt x="1355" y="3161"/>
                  </a:lnTo>
                  <a:lnTo>
                    <a:pt x="1317" y="3075"/>
                  </a:lnTo>
                  <a:lnTo>
                    <a:pt x="1280" y="2989"/>
                  </a:lnTo>
                  <a:lnTo>
                    <a:pt x="1243" y="2902"/>
                  </a:lnTo>
                  <a:lnTo>
                    <a:pt x="1210" y="2815"/>
                  </a:lnTo>
                  <a:lnTo>
                    <a:pt x="1176" y="2728"/>
                  </a:lnTo>
                  <a:lnTo>
                    <a:pt x="1142" y="2640"/>
                  </a:lnTo>
                  <a:lnTo>
                    <a:pt x="1111" y="2551"/>
                  </a:lnTo>
                  <a:lnTo>
                    <a:pt x="1080" y="2462"/>
                  </a:lnTo>
                  <a:lnTo>
                    <a:pt x="1051" y="2373"/>
                  </a:lnTo>
                  <a:lnTo>
                    <a:pt x="1022" y="2283"/>
                  </a:lnTo>
                  <a:lnTo>
                    <a:pt x="994" y="2192"/>
                  </a:lnTo>
                  <a:lnTo>
                    <a:pt x="968" y="2101"/>
                  </a:lnTo>
                  <a:lnTo>
                    <a:pt x="943" y="2010"/>
                  </a:lnTo>
                  <a:lnTo>
                    <a:pt x="918" y="1919"/>
                  </a:lnTo>
                  <a:lnTo>
                    <a:pt x="895" y="1827"/>
                  </a:lnTo>
                  <a:lnTo>
                    <a:pt x="873" y="1735"/>
                  </a:lnTo>
                  <a:lnTo>
                    <a:pt x="853" y="1641"/>
                  </a:lnTo>
                  <a:lnTo>
                    <a:pt x="833" y="1548"/>
                  </a:lnTo>
                  <a:lnTo>
                    <a:pt x="814" y="1453"/>
                  </a:lnTo>
                  <a:lnTo>
                    <a:pt x="796" y="1359"/>
                  </a:lnTo>
                  <a:lnTo>
                    <a:pt x="780" y="1265"/>
                  </a:lnTo>
                  <a:lnTo>
                    <a:pt x="766" y="1170"/>
                  </a:lnTo>
                  <a:lnTo>
                    <a:pt x="751" y="1075"/>
                  </a:lnTo>
                  <a:lnTo>
                    <a:pt x="738" y="978"/>
                  </a:lnTo>
                  <a:lnTo>
                    <a:pt x="726" y="882"/>
                  </a:lnTo>
                  <a:lnTo>
                    <a:pt x="716" y="786"/>
                  </a:lnTo>
                  <a:lnTo>
                    <a:pt x="708" y="689"/>
                  </a:lnTo>
                  <a:lnTo>
                    <a:pt x="699" y="591"/>
                  </a:lnTo>
                  <a:lnTo>
                    <a:pt x="692" y="493"/>
                  </a:lnTo>
                  <a:lnTo>
                    <a:pt x="687" y="397"/>
                  </a:lnTo>
                  <a:lnTo>
                    <a:pt x="682" y="298"/>
                  </a:lnTo>
                  <a:lnTo>
                    <a:pt x="679" y="199"/>
                  </a:lnTo>
                  <a:lnTo>
                    <a:pt x="677" y="99"/>
                  </a:lnTo>
                  <a:lnTo>
                    <a:pt x="677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1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1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1" y="1479"/>
                  </a:lnTo>
                  <a:lnTo>
                    <a:pt x="150" y="1581"/>
                  </a:lnTo>
                  <a:lnTo>
                    <a:pt x="171" y="1683"/>
                  </a:lnTo>
                  <a:lnTo>
                    <a:pt x="192" y="1784"/>
                  </a:lnTo>
                  <a:lnTo>
                    <a:pt x="215" y="1886"/>
                  </a:lnTo>
                  <a:lnTo>
                    <a:pt x="239" y="1987"/>
                  </a:lnTo>
                  <a:lnTo>
                    <a:pt x="265" y="2086"/>
                  </a:lnTo>
                  <a:lnTo>
                    <a:pt x="290" y="2188"/>
                  </a:lnTo>
                  <a:lnTo>
                    <a:pt x="318" y="2287"/>
                  </a:lnTo>
                  <a:lnTo>
                    <a:pt x="346" y="2387"/>
                  </a:lnTo>
                  <a:lnTo>
                    <a:pt x="376" y="2485"/>
                  </a:lnTo>
                  <a:lnTo>
                    <a:pt x="408" y="2582"/>
                  </a:lnTo>
                  <a:lnTo>
                    <a:pt x="440" y="2680"/>
                  </a:lnTo>
                  <a:lnTo>
                    <a:pt x="473" y="2777"/>
                  </a:lnTo>
                  <a:lnTo>
                    <a:pt x="508" y="2873"/>
                  </a:lnTo>
                  <a:lnTo>
                    <a:pt x="543" y="2970"/>
                  </a:lnTo>
                  <a:lnTo>
                    <a:pt x="581" y="3065"/>
                  </a:lnTo>
                  <a:lnTo>
                    <a:pt x="619" y="3160"/>
                  </a:lnTo>
                  <a:lnTo>
                    <a:pt x="658" y="3252"/>
                  </a:lnTo>
                  <a:lnTo>
                    <a:pt x="698" y="3346"/>
                  </a:lnTo>
                  <a:lnTo>
                    <a:pt x="739" y="3439"/>
                  </a:lnTo>
                  <a:lnTo>
                    <a:pt x="782" y="3533"/>
                  </a:lnTo>
                  <a:lnTo>
                    <a:pt x="825" y="3624"/>
                  </a:lnTo>
                  <a:lnTo>
                    <a:pt x="869" y="3716"/>
                  </a:lnTo>
                  <a:lnTo>
                    <a:pt x="915" y="3807"/>
                  </a:lnTo>
                  <a:lnTo>
                    <a:pt x="962" y="3896"/>
                  </a:lnTo>
                  <a:lnTo>
                    <a:pt x="1010" y="3985"/>
                  </a:lnTo>
                  <a:lnTo>
                    <a:pt x="1058" y="4074"/>
                  </a:lnTo>
                  <a:lnTo>
                    <a:pt x="1109" y="4161"/>
                  </a:lnTo>
                  <a:lnTo>
                    <a:pt x="1159" y="4248"/>
                  </a:lnTo>
                  <a:lnTo>
                    <a:pt x="1211" y="4336"/>
                  </a:lnTo>
                  <a:lnTo>
                    <a:pt x="1263" y="4421"/>
                  </a:lnTo>
                  <a:lnTo>
                    <a:pt x="1317" y="4507"/>
                  </a:lnTo>
                  <a:lnTo>
                    <a:pt x="1373" y="4591"/>
                  </a:lnTo>
                  <a:lnTo>
                    <a:pt x="1428" y="4675"/>
                  </a:lnTo>
                  <a:lnTo>
                    <a:pt x="1484" y="4758"/>
                  </a:lnTo>
                  <a:lnTo>
                    <a:pt x="1543" y="4841"/>
                  </a:lnTo>
                  <a:lnTo>
                    <a:pt x="1602" y="4921"/>
                  </a:lnTo>
                  <a:lnTo>
                    <a:pt x="1661" y="5003"/>
                  </a:lnTo>
                  <a:lnTo>
                    <a:pt x="1721" y="5083"/>
                  </a:lnTo>
                  <a:lnTo>
                    <a:pt x="1782" y="5163"/>
                  </a:lnTo>
                  <a:lnTo>
                    <a:pt x="1845" y="5241"/>
                  </a:lnTo>
                  <a:lnTo>
                    <a:pt x="1908" y="5320"/>
                  </a:lnTo>
                  <a:lnTo>
                    <a:pt x="1973" y="5397"/>
                  </a:lnTo>
                  <a:lnTo>
                    <a:pt x="2038" y="5473"/>
                  </a:lnTo>
                  <a:lnTo>
                    <a:pt x="2104" y="5549"/>
                  </a:lnTo>
                  <a:lnTo>
                    <a:pt x="2171" y="5623"/>
                  </a:lnTo>
                  <a:lnTo>
                    <a:pt x="2239" y="5698"/>
                  </a:lnTo>
                  <a:lnTo>
                    <a:pt x="2308" y="5770"/>
                  </a:lnTo>
                  <a:lnTo>
                    <a:pt x="2376" y="5842"/>
                  </a:lnTo>
                  <a:lnTo>
                    <a:pt x="2447" y="5914"/>
                  </a:lnTo>
                  <a:lnTo>
                    <a:pt x="2519" y="5985"/>
                  </a:lnTo>
                  <a:lnTo>
                    <a:pt x="2591" y="6054"/>
                  </a:lnTo>
                  <a:lnTo>
                    <a:pt x="2663" y="6123"/>
                  </a:lnTo>
                  <a:lnTo>
                    <a:pt x="2737" y="6191"/>
                  </a:lnTo>
                  <a:lnTo>
                    <a:pt x="2811" y="6258"/>
                  </a:lnTo>
                  <a:lnTo>
                    <a:pt x="2887" y="6325"/>
                  </a:lnTo>
                  <a:lnTo>
                    <a:pt x="2962" y="6390"/>
                  </a:lnTo>
                  <a:lnTo>
                    <a:pt x="3039" y="6455"/>
                  </a:lnTo>
                  <a:lnTo>
                    <a:pt x="3117" y="6519"/>
                  </a:lnTo>
                  <a:lnTo>
                    <a:pt x="3196" y="6582"/>
                  </a:lnTo>
                  <a:lnTo>
                    <a:pt x="3275" y="6643"/>
                  </a:lnTo>
                  <a:lnTo>
                    <a:pt x="3355" y="6703"/>
                  </a:lnTo>
                  <a:lnTo>
                    <a:pt x="3436" y="6763"/>
                  </a:lnTo>
                  <a:lnTo>
                    <a:pt x="3517" y="6822"/>
                  </a:lnTo>
                  <a:lnTo>
                    <a:pt x="3599" y="6881"/>
                  </a:lnTo>
                  <a:lnTo>
                    <a:pt x="3681" y="6937"/>
                  </a:lnTo>
                  <a:lnTo>
                    <a:pt x="3765" y="6993"/>
                  </a:lnTo>
                  <a:lnTo>
                    <a:pt x="3849" y="7048"/>
                  </a:lnTo>
                  <a:lnTo>
                    <a:pt x="3934" y="7103"/>
                  </a:lnTo>
                  <a:lnTo>
                    <a:pt x="4019" y="7155"/>
                  </a:lnTo>
                  <a:lnTo>
                    <a:pt x="4106" y="7207"/>
                  </a:lnTo>
                  <a:lnTo>
                    <a:pt x="4193" y="7258"/>
                  </a:lnTo>
                  <a:lnTo>
                    <a:pt x="4281" y="7309"/>
                  </a:lnTo>
                  <a:lnTo>
                    <a:pt x="4369" y="7357"/>
                  </a:lnTo>
                  <a:lnTo>
                    <a:pt x="4458" y="7405"/>
                  </a:lnTo>
                  <a:lnTo>
                    <a:pt x="4546" y="7452"/>
                  </a:lnTo>
                  <a:lnTo>
                    <a:pt x="4637" y="7498"/>
                  </a:lnTo>
                  <a:lnTo>
                    <a:pt x="4729" y="7542"/>
                  </a:lnTo>
                  <a:lnTo>
                    <a:pt x="4819" y="7586"/>
                  </a:lnTo>
                  <a:lnTo>
                    <a:pt x="4912" y="7629"/>
                  </a:lnTo>
                  <a:lnTo>
                    <a:pt x="5005" y="7670"/>
                  </a:lnTo>
                  <a:lnTo>
                    <a:pt x="5099" y="7711"/>
                  </a:lnTo>
                  <a:lnTo>
                    <a:pt x="5190" y="7749"/>
                  </a:lnTo>
                  <a:lnTo>
                    <a:pt x="5285" y="7788"/>
                  </a:lnTo>
                  <a:lnTo>
                    <a:pt x="5380" y="7826"/>
                  </a:lnTo>
                  <a:lnTo>
                    <a:pt x="5476" y="7861"/>
                  </a:lnTo>
                  <a:lnTo>
                    <a:pt x="5572" y="7896"/>
                  </a:lnTo>
                  <a:lnTo>
                    <a:pt x="5669" y="7929"/>
                  </a:lnTo>
                  <a:lnTo>
                    <a:pt x="5766" y="7962"/>
                  </a:lnTo>
                  <a:lnTo>
                    <a:pt x="5863" y="7993"/>
                  </a:lnTo>
                  <a:lnTo>
                    <a:pt x="5961" y="8024"/>
                  </a:lnTo>
                  <a:lnTo>
                    <a:pt x="6060" y="8052"/>
                  </a:lnTo>
                  <a:lnTo>
                    <a:pt x="6159" y="8080"/>
                  </a:lnTo>
                  <a:lnTo>
                    <a:pt x="6260" y="8105"/>
                  </a:lnTo>
                  <a:lnTo>
                    <a:pt x="6359" y="8131"/>
                  </a:lnTo>
                  <a:lnTo>
                    <a:pt x="6460" y="8155"/>
                  </a:lnTo>
                  <a:lnTo>
                    <a:pt x="6561" y="8178"/>
                  </a:lnTo>
                  <a:lnTo>
                    <a:pt x="6662" y="8199"/>
                  </a:lnTo>
                  <a:lnTo>
                    <a:pt x="6763" y="8220"/>
                  </a:lnTo>
                  <a:lnTo>
                    <a:pt x="6865" y="8239"/>
                  </a:lnTo>
                  <a:lnTo>
                    <a:pt x="6970" y="8257"/>
                  </a:lnTo>
                  <a:lnTo>
                    <a:pt x="7072" y="8275"/>
                  </a:lnTo>
                  <a:lnTo>
                    <a:pt x="7176" y="8289"/>
                  </a:lnTo>
                  <a:lnTo>
                    <a:pt x="7279" y="8302"/>
                  </a:lnTo>
                  <a:lnTo>
                    <a:pt x="7383" y="8316"/>
                  </a:lnTo>
                  <a:lnTo>
                    <a:pt x="7489" y="8327"/>
                  </a:lnTo>
                  <a:lnTo>
                    <a:pt x="7594" y="8338"/>
                  </a:lnTo>
                  <a:lnTo>
                    <a:pt x="7699" y="8346"/>
                  </a:lnTo>
                  <a:lnTo>
                    <a:pt x="7804" y="8353"/>
                  </a:lnTo>
                  <a:lnTo>
                    <a:pt x="7912" y="8359"/>
                  </a:lnTo>
                  <a:lnTo>
                    <a:pt x="8018" y="8364"/>
                  </a:lnTo>
                  <a:lnTo>
                    <a:pt x="8124" y="8367"/>
                  </a:lnTo>
                  <a:lnTo>
                    <a:pt x="8231" y="8370"/>
                  </a:lnTo>
                  <a:lnTo>
                    <a:pt x="8338" y="8371"/>
                  </a:lnTo>
                  <a:lnTo>
                    <a:pt x="8338" y="8371"/>
                  </a:lnTo>
                  <a:lnTo>
                    <a:pt x="8338" y="769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45240" y="5994720"/>
              <a:ext cx="542520" cy="510480"/>
            </a:xfrm>
            <a:custGeom>
              <a:avLst/>
              <a:gdLst/>
              <a:ahLst/>
              <a:rect l="l" t="t" r="r" b="b"/>
              <a:pathLst>
                <a:path w="8338" h="8371">
                  <a:moveTo>
                    <a:pt x="7661" y="0"/>
                  </a:moveTo>
                  <a:lnTo>
                    <a:pt x="7661" y="0"/>
                  </a:lnTo>
                  <a:lnTo>
                    <a:pt x="7659" y="99"/>
                  </a:lnTo>
                  <a:lnTo>
                    <a:pt x="7659" y="199"/>
                  </a:lnTo>
                  <a:lnTo>
                    <a:pt x="7656" y="298"/>
                  </a:lnTo>
                  <a:lnTo>
                    <a:pt x="7651" y="397"/>
                  </a:lnTo>
                  <a:lnTo>
                    <a:pt x="7646" y="493"/>
                  </a:lnTo>
                  <a:lnTo>
                    <a:pt x="7639" y="591"/>
                  </a:lnTo>
                  <a:lnTo>
                    <a:pt x="7630" y="689"/>
                  </a:lnTo>
                  <a:lnTo>
                    <a:pt x="7622" y="785"/>
                  </a:lnTo>
                  <a:lnTo>
                    <a:pt x="7611" y="882"/>
                  </a:lnTo>
                  <a:lnTo>
                    <a:pt x="7600" y="978"/>
                  </a:lnTo>
                  <a:lnTo>
                    <a:pt x="7587" y="1075"/>
                  </a:lnTo>
                  <a:lnTo>
                    <a:pt x="7572" y="1170"/>
                  </a:lnTo>
                  <a:lnTo>
                    <a:pt x="7557" y="1264"/>
                  </a:lnTo>
                  <a:lnTo>
                    <a:pt x="7541" y="1359"/>
                  </a:lnTo>
                  <a:lnTo>
                    <a:pt x="7524" y="1453"/>
                  </a:lnTo>
                  <a:lnTo>
                    <a:pt x="7505" y="1548"/>
                  </a:lnTo>
                  <a:lnTo>
                    <a:pt x="7484" y="1641"/>
                  </a:lnTo>
                  <a:lnTo>
                    <a:pt x="7465" y="1735"/>
                  </a:lnTo>
                  <a:lnTo>
                    <a:pt x="7443" y="1827"/>
                  </a:lnTo>
                  <a:lnTo>
                    <a:pt x="7420" y="1919"/>
                  </a:lnTo>
                  <a:lnTo>
                    <a:pt x="7395" y="2010"/>
                  </a:lnTo>
                  <a:lnTo>
                    <a:pt x="7370" y="2101"/>
                  </a:lnTo>
                  <a:lnTo>
                    <a:pt x="7343" y="2192"/>
                  </a:lnTo>
                  <a:lnTo>
                    <a:pt x="7316" y="2283"/>
                  </a:lnTo>
                  <a:lnTo>
                    <a:pt x="7287" y="2373"/>
                  </a:lnTo>
                  <a:lnTo>
                    <a:pt x="7257" y="2462"/>
                  </a:lnTo>
                  <a:lnTo>
                    <a:pt x="7227" y="2551"/>
                  </a:lnTo>
                  <a:lnTo>
                    <a:pt x="7195" y="2640"/>
                  </a:lnTo>
                  <a:lnTo>
                    <a:pt x="7162" y="2728"/>
                  </a:lnTo>
                  <a:lnTo>
                    <a:pt x="7128" y="2815"/>
                  </a:lnTo>
                  <a:lnTo>
                    <a:pt x="7095" y="2902"/>
                  </a:lnTo>
                  <a:lnTo>
                    <a:pt x="7058" y="2989"/>
                  </a:lnTo>
                  <a:lnTo>
                    <a:pt x="7021" y="3075"/>
                  </a:lnTo>
                  <a:lnTo>
                    <a:pt x="6982" y="3161"/>
                  </a:lnTo>
                  <a:lnTo>
                    <a:pt x="6945" y="3245"/>
                  </a:lnTo>
                  <a:lnTo>
                    <a:pt x="6904" y="3330"/>
                  </a:lnTo>
                  <a:lnTo>
                    <a:pt x="6862" y="3413"/>
                  </a:lnTo>
                  <a:lnTo>
                    <a:pt x="6822" y="3497"/>
                  </a:lnTo>
                  <a:lnTo>
                    <a:pt x="6778" y="3580"/>
                  </a:lnTo>
                  <a:lnTo>
                    <a:pt x="6735" y="3661"/>
                  </a:lnTo>
                  <a:lnTo>
                    <a:pt x="6689" y="3742"/>
                  </a:lnTo>
                  <a:lnTo>
                    <a:pt x="6644" y="3823"/>
                  </a:lnTo>
                  <a:lnTo>
                    <a:pt x="6597" y="3903"/>
                  </a:lnTo>
                  <a:lnTo>
                    <a:pt x="6549" y="3983"/>
                  </a:lnTo>
                  <a:lnTo>
                    <a:pt x="6501" y="4062"/>
                  </a:lnTo>
                  <a:lnTo>
                    <a:pt x="6452" y="4141"/>
                  </a:lnTo>
                  <a:lnTo>
                    <a:pt x="6401" y="4219"/>
                  </a:lnTo>
                  <a:lnTo>
                    <a:pt x="6349" y="4295"/>
                  </a:lnTo>
                  <a:lnTo>
                    <a:pt x="6297" y="4373"/>
                  </a:lnTo>
                  <a:lnTo>
                    <a:pt x="6245" y="4447"/>
                  </a:lnTo>
                  <a:lnTo>
                    <a:pt x="6191" y="4523"/>
                  </a:lnTo>
                  <a:lnTo>
                    <a:pt x="6137" y="4597"/>
                  </a:lnTo>
                  <a:lnTo>
                    <a:pt x="6079" y="4671"/>
                  </a:lnTo>
                  <a:lnTo>
                    <a:pt x="6023" y="4743"/>
                  </a:lnTo>
                  <a:lnTo>
                    <a:pt x="5966" y="4816"/>
                  </a:lnTo>
                  <a:lnTo>
                    <a:pt x="5909" y="4887"/>
                  </a:lnTo>
                  <a:lnTo>
                    <a:pt x="5849" y="4959"/>
                  </a:lnTo>
                  <a:lnTo>
                    <a:pt x="5790" y="5029"/>
                  </a:lnTo>
                  <a:lnTo>
                    <a:pt x="5728" y="5098"/>
                  </a:lnTo>
                  <a:lnTo>
                    <a:pt x="5667" y="5167"/>
                  </a:lnTo>
                  <a:lnTo>
                    <a:pt x="5604" y="5235"/>
                  </a:lnTo>
                  <a:lnTo>
                    <a:pt x="5542" y="5303"/>
                  </a:lnTo>
                  <a:lnTo>
                    <a:pt x="5477" y="5369"/>
                  </a:lnTo>
                  <a:lnTo>
                    <a:pt x="5412" y="5434"/>
                  </a:lnTo>
                  <a:lnTo>
                    <a:pt x="5348" y="5499"/>
                  </a:lnTo>
                  <a:lnTo>
                    <a:pt x="5281" y="5564"/>
                  </a:lnTo>
                  <a:lnTo>
                    <a:pt x="5214" y="5627"/>
                  </a:lnTo>
                  <a:lnTo>
                    <a:pt x="5147" y="5689"/>
                  </a:lnTo>
                  <a:lnTo>
                    <a:pt x="5079" y="5752"/>
                  </a:lnTo>
                  <a:lnTo>
                    <a:pt x="5009" y="5813"/>
                  </a:lnTo>
                  <a:lnTo>
                    <a:pt x="4938" y="5872"/>
                  </a:lnTo>
                  <a:lnTo>
                    <a:pt x="4867" y="5932"/>
                  </a:lnTo>
                  <a:lnTo>
                    <a:pt x="4797" y="5990"/>
                  </a:lnTo>
                  <a:lnTo>
                    <a:pt x="4725" y="6048"/>
                  </a:lnTo>
                  <a:lnTo>
                    <a:pt x="4653" y="6105"/>
                  </a:lnTo>
                  <a:lnTo>
                    <a:pt x="4579" y="6161"/>
                  </a:lnTo>
                  <a:lnTo>
                    <a:pt x="4505" y="6217"/>
                  </a:lnTo>
                  <a:lnTo>
                    <a:pt x="4430" y="6270"/>
                  </a:lnTo>
                  <a:lnTo>
                    <a:pt x="4355" y="6323"/>
                  </a:lnTo>
                  <a:lnTo>
                    <a:pt x="4278" y="6375"/>
                  </a:lnTo>
                  <a:lnTo>
                    <a:pt x="4201" y="6427"/>
                  </a:lnTo>
                  <a:lnTo>
                    <a:pt x="4123" y="6477"/>
                  </a:lnTo>
                  <a:lnTo>
                    <a:pt x="4046" y="6526"/>
                  </a:lnTo>
                  <a:lnTo>
                    <a:pt x="3967" y="6576"/>
                  </a:lnTo>
                  <a:lnTo>
                    <a:pt x="3888" y="6624"/>
                  </a:lnTo>
                  <a:lnTo>
                    <a:pt x="3808" y="6671"/>
                  </a:lnTo>
                  <a:lnTo>
                    <a:pt x="3727" y="6717"/>
                  </a:lnTo>
                  <a:lnTo>
                    <a:pt x="3646" y="6762"/>
                  </a:lnTo>
                  <a:lnTo>
                    <a:pt x="3564" y="6806"/>
                  </a:lnTo>
                  <a:lnTo>
                    <a:pt x="3483" y="6849"/>
                  </a:lnTo>
                  <a:lnTo>
                    <a:pt x="3399" y="6890"/>
                  </a:lnTo>
                  <a:lnTo>
                    <a:pt x="3315" y="6932"/>
                  </a:lnTo>
                  <a:lnTo>
                    <a:pt x="3232" y="6972"/>
                  </a:lnTo>
                  <a:lnTo>
                    <a:pt x="3148" y="7011"/>
                  </a:lnTo>
                  <a:lnTo>
                    <a:pt x="3063" y="7048"/>
                  </a:lnTo>
                  <a:lnTo>
                    <a:pt x="2978" y="7086"/>
                  </a:lnTo>
                  <a:lnTo>
                    <a:pt x="2890" y="7123"/>
                  </a:lnTo>
                  <a:lnTo>
                    <a:pt x="2804" y="7156"/>
                  </a:lnTo>
                  <a:lnTo>
                    <a:pt x="2716" y="7191"/>
                  </a:lnTo>
                  <a:lnTo>
                    <a:pt x="2629" y="7224"/>
                  </a:lnTo>
                  <a:lnTo>
                    <a:pt x="2541" y="7256"/>
                  </a:lnTo>
                  <a:lnTo>
                    <a:pt x="2452" y="7287"/>
                  </a:lnTo>
                  <a:lnTo>
                    <a:pt x="2363" y="7316"/>
                  </a:lnTo>
                  <a:lnTo>
                    <a:pt x="2273" y="7345"/>
                  </a:lnTo>
                  <a:lnTo>
                    <a:pt x="2184" y="7373"/>
                  </a:lnTo>
                  <a:lnTo>
                    <a:pt x="2093" y="7399"/>
                  </a:lnTo>
                  <a:lnTo>
                    <a:pt x="2002" y="7424"/>
                  </a:lnTo>
                  <a:lnTo>
                    <a:pt x="1911" y="7449"/>
                  </a:lnTo>
                  <a:lnTo>
                    <a:pt x="1820" y="7472"/>
                  </a:lnTo>
                  <a:lnTo>
                    <a:pt x="1727" y="7494"/>
                  </a:lnTo>
                  <a:lnTo>
                    <a:pt x="1634" y="7515"/>
                  </a:lnTo>
                  <a:lnTo>
                    <a:pt x="1541" y="7535"/>
                  </a:lnTo>
                  <a:lnTo>
                    <a:pt x="1448" y="7554"/>
                  </a:lnTo>
                  <a:lnTo>
                    <a:pt x="1353" y="7572"/>
                  </a:lnTo>
                  <a:lnTo>
                    <a:pt x="1260" y="7588"/>
                  </a:lnTo>
                  <a:lnTo>
                    <a:pt x="1165" y="7602"/>
                  </a:lnTo>
                  <a:lnTo>
                    <a:pt x="1069" y="7617"/>
                  </a:lnTo>
                  <a:lnTo>
                    <a:pt x="973" y="7630"/>
                  </a:lnTo>
                  <a:lnTo>
                    <a:pt x="878" y="7642"/>
                  </a:lnTo>
                  <a:lnTo>
                    <a:pt x="783" y="7652"/>
                  </a:lnTo>
                  <a:lnTo>
                    <a:pt x="686" y="7661"/>
                  </a:lnTo>
                  <a:lnTo>
                    <a:pt x="589" y="7669"/>
                  </a:lnTo>
                  <a:lnTo>
                    <a:pt x="491" y="7676"/>
                  </a:lnTo>
                  <a:lnTo>
                    <a:pt x="395" y="7681"/>
                  </a:lnTo>
                  <a:lnTo>
                    <a:pt x="296" y="7687"/>
                  </a:lnTo>
                  <a:lnTo>
                    <a:pt x="198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7" y="8370"/>
                  </a:lnTo>
                  <a:lnTo>
                    <a:pt x="214" y="8367"/>
                  </a:lnTo>
                  <a:lnTo>
                    <a:pt x="320" y="8364"/>
                  </a:lnTo>
                  <a:lnTo>
                    <a:pt x="426" y="8359"/>
                  </a:lnTo>
                  <a:lnTo>
                    <a:pt x="534" y="8353"/>
                  </a:lnTo>
                  <a:lnTo>
                    <a:pt x="639" y="8346"/>
                  </a:lnTo>
                  <a:lnTo>
                    <a:pt x="744" y="8338"/>
                  </a:lnTo>
                  <a:lnTo>
                    <a:pt x="848" y="8327"/>
                  </a:lnTo>
                  <a:lnTo>
                    <a:pt x="955" y="8316"/>
                  </a:lnTo>
                  <a:lnTo>
                    <a:pt x="1059" y="8302"/>
                  </a:lnTo>
                  <a:lnTo>
                    <a:pt x="1162" y="8289"/>
                  </a:lnTo>
                  <a:lnTo>
                    <a:pt x="1265" y="8275"/>
                  </a:lnTo>
                  <a:lnTo>
                    <a:pt x="1368" y="8257"/>
                  </a:lnTo>
                  <a:lnTo>
                    <a:pt x="1473" y="8239"/>
                  </a:lnTo>
                  <a:lnTo>
                    <a:pt x="1574" y="8220"/>
                  </a:lnTo>
                  <a:lnTo>
                    <a:pt x="1676" y="8199"/>
                  </a:lnTo>
                  <a:lnTo>
                    <a:pt x="1777" y="8178"/>
                  </a:lnTo>
                  <a:lnTo>
                    <a:pt x="1878" y="8155"/>
                  </a:lnTo>
                  <a:lnTo>
                    <a:pt x="1978" y="8131"/>
                  </a:lnTo>
                  <a:lnTo>
                    <a:pt x="2078" y="8105"/>
                  </a:lnTo>
                  <a:lnTo>
                    <a:pt x="2179" y="8080"/>
                  </a:lnTo>
                  <a:lnTo>
                    <a:pt x="2278" y="8052"/>
                  </a:lnTo>
                  <a:lnTo>
                    <a:pt x="2376" y="8024"/>
                  </a:lnTo>
                  <a:lnTo>
                    <a:pt x="2474" y="7993"/>
                  </a:lnTo>
                  <a:lnTo>
                    <a:pt x="2572" y="7962"/>
                  </a:lnTo>
                  <a:lnTo>
                    <a:pt x="2669" y="7929"/>
                  </a:lnTo>
                  <a:lnTo>
                    <a:pt x="2766" y="7896"/>
                  </a:lnTo>
                  <a:lnTo>
                    <a:pt x="2862" y="7861"/>
                  </a:lnTo>
                  <a:lnTo>
                    <a:pt x="2957" y="7826"/>
                  </a:lnTo>
                  <a:lnTo>
                    <a:pt x="3053" y="7788"/>
                  </a:lnTo>
                  <a:lnTo>
                    <a:pt x="3147" y="7749"/>
                  </a:lnTo>
                  <a:lnTo>
                    <a:pt x="3239" y="7711"/>
                  </a:lnTo>
                  <a:lnTo>
                    <a:pt x="3333" y="7670"/>
                  </a:lnTo>
                  <a:lnTo>
                    <a:pt x="3426" y="7629"/>
                  </a:lnTo>
                  <a:lnTo>
                    <a:pt x="3518" y="7586"/>
                  </a:lnTo>
                  <a:lnTo>
                    <a:pt x="3609" y="7542"/>
                  </a:lnTo>
                  <a:lnTo>
                    <a:pt x="3700" y="7498"/>
                  </a:lnTo>
                  <a:lnTo>
                    <a:pt x="3790" y="7452"/>
                  </a:lnTo>
                  <a:lnTo>
                    <a:pt x="3879" y="7405"/>
                  </a:lnTo>
                  <a:lnTo>
                    <a:pt x="3969" y="7357"/>
                  </a:lnTo>
                  <a:lnTo>
                    <a:pt x="4057" y="7309"/>
                  </a:lnTo>
                  <a:lnTo>
                    <a:pt x="4144" y="7258"/>
                  </a:lnTo>
                  <a:lnTo>
                    <a:pt x="4232" y="7207"/>
                  </a:lnTo>
                  <a:lnTo>
                    <a:pt x="4318" y="7155"/>
                  </a:lnTo>
                  <a:lnTo>
                    <a:pt x="4404" y="7103"/>
                  </a:lnTo>
                  <a:lnTo>
                    <a:pt x="4489" y="7048"/>
                  </a:lnTo>
                  <a:lnTo>
                    <a:pt x="4572" y="6993"/>
                  </a:lnTo>
                  <a:lnTo>
                    <a:pt x="4657" y="6937"/>
                  </a:lnTo>
                  <a:lnTo>
                    <a:pt x="4738" y="6881"/>
                  </a:lnTo>
                  <a:lnTo>
                    <a:pt x="4821" y="6822"/>
                  </a:lnTo>
                  <a:lnTo>
                    <a:pt x="4902" y="6763"/>
                  </a:lnTo>
                  <a:lnTo>
                    <a:pt x="4983" y="6703"/>
                  </a:lnTo>
                  <a:lnTo>
                    <a:pt x="5062" y="6643"/>
                  </a:lnTo>
                  <a:lnTo>
                    <a:pt x="5142" y="6582"/>
                  </a:lnTo>
                  <a:lnTo>
                    <a:pt x="5221" y="6519"/>
                  </a:lnTo>
                  <a:lnTo>
                    <a:pt x="5299" y="6455"/>
                  </a:lnTo>
                  <a:lnTo>
                    <a:pt x="5375" y="6390"/>
                  </a:lnTo>
                  <a:lnTo>
                    <a:pt x="5451" y="6325"/>
                  </a:lnTo>
                  <a:lnTo>
                    <a:pt x="5526" y="6258"/>
                  </a:lnTo>
                  <a:lnTo>
                    <a:pt x="5601" y="6191"/>
                  </a:lnTo>
                  <a:lnTo>
                    <a:pt x="5674" y="6123"/>
                  </a:lnTo>
                  <a:lnTo>
                    <a:pt x="5747" y="6054"/>
                  </a:lnTo>
                  <a:lnTo>
                    <a:pt x="5819" y="5985"/>
                  </a:lnTo>
                  <a:lnTo>
                    <a:pt x="5891" y="5914"/>
                  </a:lnTo>
                  <a:lnTo>
                    <a:pt x="5962" y="5842"/>
                  </a:lnTo>
                  <a:lnTo>
                    <a:pt x="6030" y="5770"/>
                  </a:lnTo>
                  <a:lnTo>
                    <a:pt x="6099" y="5698"/>
                  </a:lnTo>
                  <a:lnTo>
                    <a:pt x="6167" y="5623"/>
                  </a:lnTo>
                  <a:lnTo>
                    <a:pt x="6234" y="5549"/>
                  </a:lnTo>
                  <a:lnTo>
                    <a:pt x="6299" y="5473"/>
                  </a:lnTo>
                  <a:lnTo>
                    <a:pt x="6365" y="5397"/>
                  </a:lnTo>
                  <a:lnTo>
                    <a:pt x="6430" y="5320"/>
                  </a:lnTo>
                  <a:lnTo>
                    <a:pt x="6492" y="5241"/>
                  </a:lnTo>
                  <a:lnTo>
                    <a:pt x="6555" y="5163"/>
                  </a:lnTo>
                  <a:lnTo>
                    <a:pt x="6617" y="5083"/>
                  </a:lnTo>
                  <a:lnTo>
                    <a:pt x="6677" y="5003"/>
                  </a:lnTo>
                  <a:lnTo>
                    <a:pt x="6736" y="4921"/>
                  </a:lnTo>
                  <a:lnTo>
                    <a:pt x="6795" y="4841"/>
                  </a:lnTo>
                  <a:lnTo>
                    <a:pt x="6853" y="4758"/>
                  </a:lnTo>
                  <a:lnTo>
                    <a:pt x="6910" y="4675"/>
                  </a:lnTo>
                  <a:lnTo>
                    <a:pt x="6965" y="4590"/>
                  </a:lnTo>
                  <a:lnTo>
                    <a:pt x="7021" y="4507"/>
                  </a:lnTo>
                  <a:lnTo>
                    <a:pt x="7075" y="4421"/>
                  </a:lnTo>
                  <a:lnTo>
                    <a:pt x="7127" y="4336"/>
                  </a:lnTo>
                  <a:lnTo>
                    <a:pt x="7179" y="4248"/>
                  </a:lnTo>
                  <a:lnTo>
                    <a:pt x="7229" y="4161"/>
                  </a:lnTo>
                  <a:lnTo>
                    <a:pt x="7279" y="4074"/>
                  </a:lnTo>
                  <a:lnTo>
                    <a:pt x="7328" y="3985"/>
                  </a:lnTo>
                  <a:lnTo>
                    <a:pt x="7376" y="3896"/>
                  </a:lnTo>
                  <a:lnTo>
                    <a:pt x="7422" y="3805"/>
                  </a:lnTo>
                  <a:lnTo>
                    <a:pt x="7469" y="3716"/>
                  </a:lnTo>
                  <a:lnTo>
                    <a:pt x="7513" y="3624"/>
                  </a:lnTo>
                  <a:lnTo>
                    <a:pt x="7555" y="3533"/>
                  </a:lnTo>
                  <a:lnTo>
                    <a:pt x="7599" y="3439"/>
                  </a:lnTo>
                  <a:lnTo>
                    <a:pt x="7640" y="3346"/>
                  </a:lnTo>
                  <a:lnTo>
                    <a:pt x="7679" y="3252"/>
                  </a:lnTo>
                  <a:lnTo>
                    <a:pt x="7719" y="3160"/>
                  </a:lnTo>
                  <a:lnTo>
                    <a:pt x="7757" y="3065"/>
                  </a:lnTo>
                  <a:lnTo>
                    <a:pt x="7794" y="2970"/>
                  </a:lnTo>
                  <a:lnTo>
                    <a:pt x="7830" y="2873"/>
                  </a:lnTo>
                  <a:lnTo>
                    <a:pt x="7865" y="2777"/>
                  </a:lnTo>
                  <a:lnTo>
                    <a:pt x="7898" y="2680"/>
                  </a:lnTo>
                  <a:lnTo>
                    <a:pt x="7930" y="2582"/>
                  </a:lnTo>
                  <a:lnTo>
                    <a:pt x="7962" y="2485"/>
                  </a:lnTo>
                  <a:lnTo>
                    <a:pt x="7991" y="2387"/>
                  </a:lnTo>
                  <a:lnTo>
                    <a:pt x="8020" y="2287"/>
                  </a:lnTo>
                  <a:lnTo>
                    <a:pt x="8048" y="2188"/>
                  </a:lnTo>
                  <a:lnTo>
                    <a:pt x="8073" y="2086"/>
                  </a:lnTo>
                  <a:lnTo>
                    <a:pt x="8098" y="1987"/>
                  </a:lnTo>
                  <a:lnTo>
                    <a:pt x="8123" y="1886"/>
                  </a:lnTo>
                  <a:lnTo>
                    <a:pt x="8146" y="1784"/>
                  </a:lnTo>
                  <a:lnTo>
                    <a:pt x="8167" y="1683"/>
                  </a:lnTo>
                  <a:lnTo>
                    <a:pt x="8188" y="1581"/>
                  </a:lnTo>
                  <a:lnTo>
                    <a:pt x="8208" y="1479"/>
                  </a:lnTo>
                  <a:lnTo>
                    <a:pt x="8224" y="1376"/>
                  </a:lnTo>
                  <a:lnTo>
                    <a:pt x="8241" y="1271"/>
                  </a:lnTo>
                  <a:lnTo>
                    <a:pt x="8256" y="1167"/>
                  </a:lnTo>
                  <a:lnTo>
                    <a:pt x="8269" y="1063"/>
                  </a:lnTo>
                  <a:lnTo>
                    <a:pt x="8283" y="958"/>
                  </a:lnTo>
                  <a:lnTo>
                    <a:pt x="8294" y="854"/>
                  </a:lnTo>
                  <a:lnTo>
                    <a:pt x="8305" y="747"/>
                  </a:lnTo>
                  <a:lnTo>
                    <a:pt x="8313" y="641"/>
                  </a:lnTo>
                  <a:lnTo>
                    <a:pt x="8320" y="536"/>
                  </a:lnTo>
                  <a:lnTo>
                    <a:pt x="8327" y="428"/>
                  </a:lnTo>
                  <a:lnTo>
                    <a:pt x="8331" y="321"/>
                  </a:lnTo>
                  <a:lnTo>
                    <a:pt x="8334" y="215"/>
                  </a:lnTo>
                  <a:lnTo>
                    <a:pt x="8337" y="108"/>
                  </a:lnTo>
                  <a:lnTo>
                    <a:pt x="8338" y="0"/>
                  </a:lnTo>
                  <a:lnTo>
                    <a:pt x="8338" y="0"/>
                  </a:lnTo>
                  <a:lnTo>
                    <a:pt x="766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78480" y="5722200"/>
              <a:ext cx="485280" cy="576360"/>
            </a:xfrm>
            <a:custGeom>
              <a:avLst/>
              <a:gdLst/>
              <a:ahLst/>
              <a:rect l="l" t="t" r="r" b="b"/>
              <a:pathLst>
                <a:path w="7455" h="9447">
                  <a:moveTo>
                    <a:pt x="627" y="9297"/>
                  </a:moveTo>
                  <a:lnTo>
                    <a:pt x="637" y="9323"/>
                  </a:lnTo>
                  <a:lnTo>
                    <a:pt x="646" y="9346"/>
                  </a:lnTo>
                  <a:lnTo>
                    <a:pt x="655" y="9367"/>
                  </a:lnTo>
                  <a:lnTo>
                    <a:pt x="666" y="9384"/>
                  </a:lnTo>
                  <a:lnTo>
                    <a:pt x="675" y="9399"/>
                  </a:lnTo>
                  <a:lnTo>
                    <a:pt x="684" y="9413"/>
                  </a:lnTo>
                  <a:lnTo>
                    <a:pt x="695" y="9423"/>
                  </a:lnTo>
                  <a:lnTo>
                    <a:pt x="704" y="9431"/>
                  </a:lnTo>
                  <a:lnTo>
                    <a:pt x="714" y="9439"/>
                  </a:lnTo>
                  <a:lnTo>
                    <a:pt x="723" y="9443"/>
                  </a:lnTo>
                  <a:lnTo>
                    <a:pt x="732" y="9446"/>
                  </a:lnTo>
                  <a:lnTo>
                    <a:pt x="741" y="9447"/>
                  </a:lnTo>
                  <a:lnTo>
                    <a:pt x="750" y="9446"/>
                  </a:lnTo>
                  <a:lnTo>
                    <a:pt x="758" y="9444"/>
                  </a:lnTo>
                  <a:lnTo>
                    <a:pt x="767" y="9441"/>
                  </a:lnTo>
                  <a:lnTo>
                    <a:pt x="776" y="9436"/>
                  </a:lnTo>
                  <a:lnTo>
                    <a:pt x="783" y="9429"/>
                  </a:lnTo>
                  <a:lnTo>
                    <a:pt x="792" y="9422"/>
                  </a:lnTo>
                  <a:lnTo>
                    <a:pt x="799" y="9414"/>
                  </a:lnTo>
                  <a:lnTo>
                    <a:pt x="806" y="9404"/>
                  </a:lnTo>
                  <a:lnTo>
                    <a:pt x="814" y="9394"/>
                  </a:lnTo>
                  <a:lnTo>
                    <a:pt x="820" y="9383"/>
                  </a:lnTo>
                  <a:lnTo>
                    <a:pt x="826" y="9372"/>
                  </a:lnTo>
                  <a:lnTo>
                    <a:pt x="832" y="9359"/>
                  </a:lnTo>
                  <a:lnTo>
                    <a:pt x="843" y="9333"/>
                  </a:lnTo>
                  <a:lnTo>
                    <a:pt x="852" y="9307"/>
                  </a:lnTo>
                  <a:lnTo>
                    <a:pt x="860" y="9280"/>
                  </a:lnTo>
                  <a:lnTo>
                    <a:pt x="865" y="9252"/>
                  </a:lnTo>
                  <a:lnTo>
                    <a:pt x="885" y="9188"/>
                  </a:lnTo>
                  <a:lnTo>
                    <a:pt x="906" y="9122"/>
                  </a:lnTo>
                  <a:lnTo>
                    <a:pt x="929" y="9053"/>
                  </a:lnTo>
                  <a:lnTo>
                    <a:pt x="953" y="8982"/>
                  </a:lnTo>
                  <a:lnTo>
                    <a:pt x="978" y="8910"/>
                  </a:lnTo>
                  <a:lnTo>
                    <a:pt x="1004" y="8838"/>
                  </a:lnTo>
                  <a:lnTo>
                    <a:pt x="1030" y="8765"/>
                  </a:lnTo>
                  <a:lnTo>
                    <a:pt x="1058" y="8692"/>
                  </a:lnTo>
                  <a:lnTo>
                    <a:pt x="1085" y="8619"/>
                  </a:lnTo>
                  <a:lnTo>
                    <a:pt x="1113" y="8547"/>
                  </a:lnTo>
                  <a:lnTo>
                    <a:pt x="1140" y="8475"/>
                  </a:lnTo>
                  <a:lnTo>
                    <a:pt x="1167" y="8405"/>
                  </a:lnTo>
                  <a:lnTo>
                    <a:pt x="1194" y="8336"/>
                  </a:lnTo>
                  <a:lnTo>
                    <a:pt x="1220" y="8269"/>
                  </a:lnTo>
                  <a:lnTo>
                    <a:pt x="1246" y="8204"/>
                  </a:lnTo>
                  <a:lnTo>
                    <a:pt x="1270" y="8142"/>
                  </a:lnTo>
                  <a:lnTo>
                    <a:pt x="1354" y="8046"/>
                  </a:lnTo>
                  <a:lnTo>
                    <a:pt x="1445" y="7953"/>
                  </a:lnTo>
                  <a:lnTo>
                    <a:pt x="1542" y="7862"/>
                  </a:lnTo>
                  <a:lnTo>
                    <a:pt x="1648" y="7772"/>
                  </a:lnTo>
                  <a:lnTo>
                    <a:pt x="1758" y="7684"/>
                  </a:lnTo>
                  <a:lnTo>
                    <a:pt x="1874" y="7597"/>
                  </a:lnTo>
                  <a:lnTo>
                    <a:pt x="1996" y="7510"/>
                  </a:lnTo>
                  <a:lnTo>
                    <a:pt x="2122" y="7425"/>
                  </a:lnTo>
                  <a:lnTo>
                    <a:pt x="2252" y="7340"/>
                  </a:lnTo>
                  <a:lnTo>
                    <a:pt x="2386" y="7255"/>
                  </a:lnTo>
                  <a:lnTo>
                    <a:pt x="2524" y="7169"/>
                  </a:lnTo>
                  <a:lnTo>
                    <a:pt x="2665" y="7083"/>
                  </a:lnTo>
                  <a:lnTo>
                    <a:pt x="2952" y="6908"/>
                  </a:lnTo>
                  <a:lnTo>
                    <a:pt x="3247" y="6727"/>
                  </a:lnTo>
                  <a:lnTo>
                    <a:pt x="3396" y="6633"/>
                  </a:lnTo>
                  <a:lnTo>
                    <a:pt x="3545" y="6538"/>
                  </a:lnTo>
                  <a:lnTo>
                    <a:pt x="3694" y="6440"/>
                  </a:lnTo>
                  <a:lnTo>
                    <a:pt x="3842" y="6338"/>
                  </a:lnTo>
                  <a:lnTo>
                    <a:pt x="3989" y="6234"/>
                  </a:lnTo>
                  <a:lnTo>
                    <a:pt x="4135" y="6126"/>
                  </a:lnTo>
                  <a:lnTo>
                    <a:pt x="4278" y="6014"/>
                  </a:lnTo>
                  <a:lnTo>
                    <a:pt x="4420" y="5899"/>
                  </a:lnTo>
                  <a:lnTo>
                    <a:pt x="4557" y="5778"/>
                  </a:lnTo>
                  <a:lnTo>
                    <a:pt x="4693" y="5654"/>
                  </a:lnTo>
                  <a:lnTo>
                    <a:pt x="4824" y="5524"/>
                  </a:lnTo>
                  <a:lnTo>
                    <a:pt x="4950" y="5389"/>
                  </a:lnTo>
                  <a:lnTo>
                    <a:pt x="5073" y="5248"/>
                  </a:lnTo>
                  <a:lnTo>
                    <a:pt x="5190" y="5103"/>
                  </a:lnTo>
                  <a:lnTo>
                    <a:pt x="5302" y="4950"/>
                  </a:lnTo>
                  <a:lnTo>
                    <a:pt x="5407" y="4791"/>
                  </a:lnTo>
                  <a:lnTo>
                    <a:pt x="5440" y="4738"/>
                  </a:lnTo>
                  <a:lnTo>
                    <a:pt x="5472" y="4683"/>
                  </a:lnTo>
                  <a:lnTo>
                    <a:pt x="5503" y="4626"/>
                  </a:lnTo>
                  <a:lnTo>
                    <a:pt x="5534" y="4568"/>
                  </a:lnTo>
                  <a:lnTo>
                    <a:pt x="5564" y="4507"/>
                  </a:lnTo>
                  <a:lnTo>
                    <a:pt x="5595" y="4444"/>
                  </a:lnTo>
                  <a:lnTo>
                    <a:pt x="5624" y="4379"/>
                  </a:lnTo>
                  <a:lnTo>
                    <a:pt x="5653" y="4313"/>
                  </a:lnTo>
                  <a:lnTo>
                    <a:pt x="5682" y="4243"/>
                  </a:lnTo>
                  <a:lnTo>
                    <a:pt x="5710" y="4172"/>
                  </a:lnTo>
                  <a:lnTo>
                    <a:pt x="5738" y="4099"/>
                  </a:lnTo>
                  <a:lnTo>
                    <a:pt x="5766" y="4024"/>
                  </a:lnTo>
                  <a:lnTo>
                    <a:pt x="5795" y="3945"/>
                  </a:lnTo>
                  <a:lnTo>
                    <a:pt x="5823" y="3866"/>
                  </a:lnTo>
                  <a:lnTo>
                    <a:pt x="5851" y="3783"/>
                  </a:lnTo>
                  <a:lnTo>
                    <a:pt x="5878" y="3698"/>
                  </a:lnTo>
                  <a:lnTo>
                    <a:pt x="5906" y="3611"/>
                  </a:lnTo>
                  <a:lnTo>
                    <a:pt x="5934" y="3521"/>
                  </a:lnTo>
                  <a:lnTo>
                    <a:pt x="5961" y="3429"/>
                  </a:lnTo>
                  <a:lnTo>
                    <a:pt x="5990" y="3334"/>
                  </a:lnTo>
                  <a:lnTo>
                    <a:pt x="6047" y="3137"/>
                  </a:lnTo>
                  <a:lnTo>
                    <a:pt x="6104" y="2929"/>
                  </a:lnTo>
                  <a:lnTo>
                    <a:pt x="6164" y="2711"/>
                  </a:lnTo>
                  <a:lnTo>
                    <a:pt x="6224" y="2481"/>
                  </a:lnTo>
                  <a:lnTo>
                    <a:pt x="6288" y="2241"/>
                  </a:lnTo>
                  <a:lnTo>
                    <a:pt x="6353" y="1987"/>
                  </a:lnTo>
                  <a:lnTo>
                    <a:pt x="6376" y="1917"/>
                  </a:lnTo>
                  <a:lnTo>
                    <a:pt x="6400" y="1843"/>
                  </a:lnTo>
                  <a:lnTo>
                    <a:pt x="6424" y="1764"/>
                  </a:lnTo>
                  <a:lnTo>
                    <a:pt x="6449" y="1681"/>
                  </a:lnTo>
                  <a:lnTo>
                    <a:pt x="6474" y="1594"/>
                  </a:lnTo>
                  <a:lnTo>
                    <a:pt x="6501" y="1505"/>
                  </a:lnTo>
                  <a:lnTo>
                    <a:pt x="6528" y="1415"/>
                  </a:lnTo>
                  <a:lnTo>
                    <a:pt x="6555" y="1323"/>
                  </a:lnTo>
                  <a:lnTo>
                    <a:pt x="6585" y="1230"/>
                  </a:lnTo>
                  <a:lnTo>
                    <a:pt x="6615" y="1138"/>
                  </a:lnTo>
                  <a:lnTo>
                    <a:pt x="6646" y="1046"/>
                  </a:lnTo>
                  <a:lnTo>
                    <a:pt x="6678" y="956"/>
                  </a:lnTo>
                  <a:lnTo>
                    <a:pt x="6695" y="911"/>
                  </a:lnTo>
                  <a:lnTo>
                    <a:pt x="6712" y="867"/>
                  </a:lnTo>
                  <a:lnTo>
                    <a:pt x="6730" y="824"/>
                  </a:lnTo>
                  <a:lnTo>
                    <a:pt x="6747" y="781"/>
                  </a:lnTo>
                  <a:lnTo>
                    <a:pt x="6766" y="740"/>
                  </a:lnTo>
                  <a:lnTo>
                    <a:pt x="6785" y="699"/>
                  </a:lnTo>
                  <a:lnTo>
                    <a:pt x="6804" y="660"/>
                  </a:lnTo>
                  <a:lnTo>
                    <a:pt x="6822" y="621"/>
                  </a:lnTo>
                  <a:lnTo>
                    <a:pt x="6837" y="595"/>
                  </a:lnTo>
                  <a:lnTo>
                    <a:pt x="6851" y="571"/>
                  </a:lnTo>
                  <a:lnTo>
                    <a:pt x="6867" y="548"/>
                  </a:lnTo>
                  <a:lnTo>
                    <a:pt x="6884" y="525"/>
                  </a:lnTo>
                  <a:lnTo>
                    <a:pt x="6900" y="504"/>
                  </a:lnTo>
                  <a:lnTo>
                    <a:pt x="6918" y="483"/>
                  </a:lnTo>
                  <a:lnTo>
                    <a:pt x="6937" y="464"/>
                  </a:lnTo>
                  <a:lnTo>
                    <a:pt x="6956" y="445"/>
                  </a:lnTo>
                  <a:lnTo>
                    <a:pt x="6975" y="426"/>
                  </a:lnTo>
                  <a:lnTo>
                    <a:pt x="6995" y="410"/>
                  </a:lnTo>
                  <a:lnTo>
                    <a:pt x="7015" y="393"/>
                  </a:lnTo>
                  <a:lnTo>
                    <a:pt x="7036" y="376"/>
                  </a:lnTo>
                  <a:lnTo>
                    <a:pt x="7079" y="346"/>
                  </a:lnTo>
                  <a:lnTo>
                    <a:pt x="7122" y="316"/>
                  </a:lnTo>
                  <a:lnTo>
                    <a:pt x="7211" y="263"/>
                  </a:lnTo>
                  <a:lnTo>
                    <a:pt x="7298" y="212"/>
                  </a:lnTo>
                  <a:lnTo>
                    <a:pt x="7339" y="186"/>
                  </a:lnTo>
                  <a:lnTo>
                    <a:pt x="7380" y="158"/>
                  </a:lnTo>
                  <a:lnTo>
                    <a:pt x="7400" y="145"/>
                  </a:lnTo>
                  <a:lnTo>
                    <a:pt x="7418" y="131"/>
                  </a:lnTo>
                  <a:lnTo>
                    <a:pt x="7437" y="117"/>
                  </a:lnTo>
                  <a:lnTo>
                    <a:pt x="7455" y="102"/>
                  </a:lnTo>
                  <a:lnTo>
                    <a:pt x="7408" y="80"/>
                  </a:lnTo>
                  <a:lnTo>
                    <a:pt x="7361" y="60"/>
                  </a:lnTo>
                  <a:lnTo>
                    <a:pt x="7315" y="43"/>
                  </a:lnTo>
                  <a:lnTo>
                    <a:pt x="7268" y="29"/>
                  </a:lnTo>
                  <a:lnTo>
                    <a:pt x="7222" y="18"/>
                  </a:lnTo>
                  <a:lnTo>
                    <a:pt x="7176" y="10"/>
                  </a:lnTo>
                  <a:lnTo>
                    <a:pt x="7130" y="4"/>
                  </a:lnTo>
                  <a:lnTo>
                    <a:pt x="7083" y="0"/>
                  </a:lnTo>
                  <a:lnTo>
                    <a:pt x="7037" y="0"/>
                  </a:lnTo>
                  <a:lnTo>
                    <a:pt x="6990" y="3"/>
                  </a:lnTo>
                  <a:lnTo>
                    <a:pt x="6944" y="7"/>
                  </a:lnTo>
                  <a:lnTo>
                    <a:pt x="6898" y="14"/>
                  </a:lnTo>
                  <a:lnTo>
                    <a:pt x="6852" y="23"/>
                  </a:lnTo>
                  <a:lnTo>
                    <a:pt x="6807" y="35"/>
                  </a:lnTo>
                  <a:lnTo>
                    <a:pt x="6761" y="50"/>
                  </a:lnTo>
                  <a:lnTo>
                    <a:pt x="6715" y="65"/>
                  </a:lnTo>
                  <a:lnTo>
                    <a:pt x="6669" y="84"/>
                  </a:lnTo>
                  <a:lnTo>
                    <a:pt x="6623" y="105"/>
                  </a:lnTo>
                  <a:lnTo>
                    <a:pt x="6577" y="128"/>
                  </a:lnTo>
                  <a:lnTo>
                    <a:pt x="6531" y="152"/>
                  </a:lnTo>
                  <a:lnTo>
                    <a:pt x="6487" y="179"/>
                  </a:lnTo>
                  <a:lnTo>
                    <a:pt x="6441" y="208"/>
                  </a:lnTo>
                  <a:lnTo>
                    <a:pt x="6395" y="239"/>
                  </a:lnTo>
                  <a:lnTo>
                    <a:pt x="6350" y="271"/>
                  </a:lnTo>
                  <a:lnTo>
                    <a:pt x="6304" y="305"/>
                  </a:lnTo>
                  <a:lnTo>
                    <a:pt x="6258" y="342"/>
                  </a:lnTo>
                  <a:lnTo>
                    <a:pt x="6214" y="379"/>
                  </a:lnTo>
                  <a:lnTo>
                    <a:pt x="6168" y="418"/>
                  </a:lnTo>
                  <a:lnTo>
                    <a:pt x="6123" y="459"/>
                  </a:lnTo>
                  <a:lnTo>
                    <a:pt x="6077" y="502"/>
                  </a:lnTo>
                  <a:lnTo>
                    <a:pt x="6032" y="545"/>
                  </a:lnTo>
                  <a:lnTo>
                    <a:pt x="5987" y="591"/>
                  </a:lnTo>
                  <a:lnTo>
                    <a:pt x="5628" y="711"/>
                  </a:lnTo>
                  <a:lnTo>
                    <a:pt x="5270" y="831"/>
                  </a:lnTo>
                  <a:lnTo>
                    <a:pt x="4918" y="954"/>
                  </a:lnTo>
                  <a:lnTo>
                    <a:pt x="4571" y="1077"/>
                  </a:lnTo>
                  <a:lnTo>
                    <a:pt x="4229" y="1205"/>
                  </a:lnTo>
                  <a:lnTo>
                    <a:pt x="3894" y="1335"/>
                  </a:lnTo>
                  <a:lnTo>
                    <a:pt x="3566" y="1470"/>
                  </a:lnTo>
                  <a:lnTo>
                    <a:pt x="3248" y="1610"/>
                  </a:lnTo>
                  <a:lnTo>
                    <a:pt x="2939" y="1755"/>
                  </a:lnTo>
                  <a:lnTo>
                    <a:pt x="2640" y="1907"/>
                  </a:lnTo>
                  <a:lnTo>
                    <a:pt x="2352" y="2066"/>
                  </a:lnTo>
                  <a:lnTo>
                    <a:pt x="2077" y="2232"/>
                  </a:lnTo>
                  <a:lnTo>
                    <a:pt x="1814" y="2408"/>
                  </a:lnTo>
                  <a:lnTo>
                    <a:pt x="1565" y="2592"/>
                  </a:lnTo>
                  <a:lnTo>
                    <a:pt x="1332" y="2787"/>
                  </a:lnTo>
                  <a:lnTo>
                    <a:pt x="1114" y="2993"/>
                  </a:lnTo>
                  <a:lnTo>
                    <a:pt x="913" y="3210"/>
                  </a:lnTo>
                  <a:lnTo>
                    <a:pt x="729" y="3440"/>
                  </a:lnTo>
                  <a:lnTo>
                    <a:pt x="564" y="3682"/>
                  </a:lnTo>
                  <a:lnTo>
                    <a:pt x="418" y="3938"/>
                  </a:lnTo>
                  <a:lnTo>
                    <a:pt x="293" y="4209"/>
                  </a:lnTo>
                  <a:lnTo>
                    <a:pt x="187" y="4495"/>
                  </a:lnTo>
                  <a:lnTo>
                    <a:pt x="105" y="4796"/>
                  </a:lnTo>
                  <a:lnTo>
                    <a:pt x="46" y="5114"/>
                  </a:lnTo>
                  <a:lnTo>
                    <a:pt x="10" y="5449"/>
                  </a:lnTo>
                  <a:lnTo>
                    <a:pt x="0" y="5803"/>
                  </a:lnTo>
                  <a:lnTo>
                    <a:pt x="14" y="6175"/>
                  </a:lnTo>
                  <a:lnTo>
                    <a:pt x="55" y="6567"/>
                  </a:lnTo>
                  <a:lnTo>
                    <a:pt x="124" y="6980"/>
                  </a:lnTo>
                  <a:lnTo>
                    <a:pt x="222" y="7413"/>
                  </a:lnTo>
                  <a:lnTo>
                    <a:pt x="348" y="7867"/>
                  </a:lnTo>
                  <a:lnTo>
                    <a:pt x="504" y="8344"/>
                  </a:lnTo>
                  <a:lnTo>
                    <a:pt x="502" y="8423"/>
                  </a:lnTo>
                  <a:lnTo>
                    <a:pt x="502" y="8499"/>
                  </a:lnTo>
                  <a:lnTo>
                    <a:pt x="502" y="8572"/>
                  </a:lnTo>
                  <a:lnTo>
                    <a:pt x="504" y="8643"/>
                  </a:lnTo>
                  <a:lnTo>
                    <a:pt x="507" y="8711"/>
                  </a:lnTo>
                  <a:lnTo>
                    <a:pt x="511" y="8777"/>
                  </a:lnTo>
                  <a:lnTo>
                    <a:pt x="518" y="8840"/>
                  </a:lnTo>
                  <a:lnTo>
                    <a:pt x="525" y="8902"/>
                  </a:lnTo>
                  <a:lnTo>
                    <a:pt x="533" y="8959"/>
                  </a:lnTo>
                  <a:lnTo>
                    <a:pt x="543" y="9016"/>
                  </a:lnTo>
                  <a:lnTo>
                    <a:pt x="553" y="9069"/>
                  </a:lnTo>
                  <a:lnTo>
                    <a:pt x="566" y="9120"/>
                  </a:lnTo>
                  <a:lnTo>
                    <a:pt x="572" y="9144"/>
                  </a:lnTo>
                  <a:lnTo>
                    <a:pt x="579" y="9168"/>
                  </a:lnTo>
                  <a:lnTo>
                    <a:pt x="586" y="9191"/>
                  </a:lnTo>
                  <a:lnTo>
                    <a:pt x="594" y="9214"/>
                  </a:lnTo>
                  <a:lnTo>
                    <a:pt x="601" y="9236"/>
                  </a:lnTo>
                  <a:lnTo>
                    <a:pt x="609" y="9257"/>
                  </a:lnTo>
                  <a:lnTo>
                    <a:pt x="618" y="9278"/>
                  </a:lnTo>
                  <a:lnTo>
                    <a:pt x="627" y="929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36080" y="5782680"/>
              <a:ext cx="336240" cy="429840"/>
            </a:xfrm>
            <a:custGeom>
              <a:avLst/>
              <a:gdLst/>
              <a:ahLst/>
              <a:rect l="l" t="t" r="r" b="b"/>
              <a:pathLst>
                <a:path w="5158" h="7057">
                  <a:moveTo>
                    <a:pt x="0" y="7057"/>
                  </a:moveTo>
                  <a:lnTo>
                    <a:pt x="38" y="6778"/>
                  </a:lnTo>
                  <a:lnTo>
                    <a:pt x="87" y="6500"/>
                  </a:lnTo>
                  <a:lnTo>
                    <a:pt x="146" y="6226"/>
                  </a:lnTo>
                  <a:lnTo>
                    <a:pt x="215" y="5956"/>
                  </a:lnTo>
                  <a:lnTo>
                    <a:pt x="294" y="5688"/>
                  </a:lnTo>
                  <a:lnTo>
                    <a:pt x="384" y="5425"/>
                  </a:lnTo>
                  <a:lnTo>
                    <a:pt x="482" y="5164"/>
                  </a:lnTo>
                  <a:lnTo>
                    <a:pt x="590" y="4907"/>
                  </a:lnTo>
                  <a:lnTo>
                    <a:pt x="707" y="4652"/>
                  </a:lnTo>
                  <a:lnTo>
                    <a:pt x="831" y="4402"/>
                  </a:lnTo>
                  <a:lnTo>
                    <a:pt x="964" y="4156"/>
                  </a:lnTo>
                  <a:lnTo>
                    <a:pt x="1106" y="3914"/>
                  </a:lnTo>
                  <a:lnTo>
                    <a:pt x="1255" y="3675"/>
                  </a:lnTo>
                  <a:lnTo>
                    <a:pt x="1411" y="3441"/>
                  </a:lnTo>
                  <a:lnTo>
                    <a:pt x="1575" y="3210"/>
                  </a:lnTo>
                  <a:lnTo>
                    <a:pt x="1745" y="2984"/>
                  </a:lnTo>
                  <a:lnTo>
                    <a:pt x="1922" y="2763"/>
                  </a:lnTo>
                  <a:lnTo>
                    <a:pt x="2104" y="2545"/>
                  </a:lnTo>
                  <a:lnTo>
                    <a:pt x="2293" y="2331"/>
                  </a:lnTo>
                  <a:lnTo>
                    <a:pt x="2488" y="2123"/>
                  </a:lnTo>
                  <a:lnTo>
                    <a:pt x="2688" y="1919"/>
                  </a:lnTo>
                  <a:lnTo>
                    <a:pt x="2893" y="1719"/>
                  </a:lnTo>
                  <a:lnTo>
                    <a:pt x="3103" y="1525"/>
                  </a:lnTo>
                  <a:lnTo>
                    <a:pt x="3317" y="1334"/>
                  </a:lnTo>
                  <a:lnTo>
                    <a:pt x="3535" y="1150"/>
                  </a:lnTo>
                  <a:lnTo>
                    <a:pt x="3757" y="970"/>
                  </a:lnTo>
                  <a:lnTo>
                    <a:pt x="3984" y="795"/>
                  </a:lnTo>
                  <a:lnTo>
                    <a:pt x="4213" y="626"/>
                  </a:lnTo>
                  <a:lnTo>
                    <a:pt x="4445" y="461"/>
                  </a:lnTo>
                  <a:lnTo>
                    <a:pt x="4681" y="302"/>
                  </a:lnTo>
                  <a:lnTo>
                    <a:pt x="4919" y="149"/>
                  </a:lnTo>
                  <a:lnTo>
                    <a:pt x="5158" y="0"/>
                  </a:lnTo>
                  <a:lnTo>
                    <a:pt x="5136" y="227"/>
                  </a:lnTo>
                  <a:lnTo>
                    <a:pt x="5113" y="446"/>
                  </a:lnTo>
                  <a:lnTo>
                    <a:pt x="5087" y="659"/>
                  </a:lnTo>
                  <a:lnTo>
                    <a:pt x="5060" y="867"/>
                  </a:lnTo>
                  <a:lnTo>
                    <a:pt x="5029" y="1066"/>
                  </a:lnTo>
                  <a:lnTo>
                    <a:pt x="4996" y="1261"/>
                  </a:lnTo>
                  <a:lnTo>
                    <a:pt x="4959" y="1450"/>
                  </a:lnTo>
                  <a:lnTo>
                    <a:pt x="4920" y="1635"/>
                  </a:lnTo>
                  <a:lnTo>
                    <a:pt x="4877" y="1814"/>
                  </a:lnTo>
                  <a:lnTo>
                    <a:pt x="4831" y="1987"/>
                  </a:lnTo>
                  <a:lnTo>
                    <a:pt x="4781" y="2158"/>
                  </a:lnTo>
                  <a:lnTo>
                    <a:pt x="4728" y="2323"/>
                  </a:lnTo>
                  <a:lnTo>
                    <a:pt x="4670" y="2484"/>
                  </a:lnTo>
                  <a:lnTo>
                    <a:pt x="4609" y="2641"/>
                  </a:lnTo>
                  <a:lnTo>
                    <a:pt x="4544" y="2796"/>
                  </a:lnTo>
                  <a:lnTo>
                    <a:pt x="4475" y="2947"/>
                  </a:lnTo>
                  <a:lnTo>
                    <a:pt x="4401" y="3094"/>
                  </a:lnTo>
                  <a:lnTo>
                    <a:pt x="4321" y="3240"/>
                  </a:lnTo>
                  <a:lnTo>
                    <a:pt x="4238" y="3383"/>
                  </a:lnTo>
                  <a:lnTo>
                    <a:pt x="4150" y="3523"/>
                  </a:lnTo>
                  <a:lnTo>
                    <a:pt x="4057" y="3662"/>
                  </a:lnTo>
                  <a:lnTo>
                    <a:pt x="3959" y="3800"/>
                  </a:lnTo>
                  <a:lnTo>
                    <a:pt x="3855" y="3936"/>
                  </a:lnTo>
                  <a:lnTo>
                    <a:pt x="3746" y="4070"/>
                  </a:lnTo>
                  <a:lnTo>
                    <a:pt x="3631" y="4203"/>
                  </a:lnTo>
                  <a:lnTo>
                    <a:pt x="3510" y="4337"/>
                  </a:lnTo>
                  <a:lnTo>
                    <a:pt x="3384" y="4470"/>
                  </a:lnTo>
                  <a:lnTo>
                    <a:pt x="3252" y="4603"/>
                  </a:lnTo>
                  <a:lnTo>
                    <a:pt x="3113" y="4736"/>
                  </a:lnTo>
                  <a:lnTo>
                    <a:pt x="2968" y="4869"/>
                  </a:lnTo>
                  <a:lnTo>
                    <a:pt x="2817" y="5004"/>
                  </a:lnTo>
                  <a:lnTo>
                    <a:pt x="2659" y="5139"/>
                  </a:lnTo>
                  <a:lnTo>
                    <a:pt x="2593" y="5191"/>
                  </a:lnTo>
                  <a:lnTo>
                    <a:pt x="2527" y="5243"/>
                  </a:lnTo>
                  <a:lnTo>
                    <a:pt x="2459" y="5293"/>
                  </a:lnTo>
                  <a:lnTo>
                    <a:pt x="2388" y="5341"/>
                  </a:lnTo>
                  <a:lnTo>
                    <a:pt x="2317" y="5388"/>
                  </a:lnTo>
                  <a:lnTo>
                    <a:pt x="2244" y="5433"/>
                  </a:lnTo>
                  <a:lnTo>
                    <a:pt x="2169" y="5479"/>
                  </a:lnTo>
                  <a:lnTo>
                    <a:pt x="2094" y="5524"/>
                  </a:lnTo>
                  <a:lnTo>
                    <a:pt x="1939" y="5613"/>
                  </a:lnTo>
                  <a:lnTo>
                    <a:pt x="1778" y="5703"/>
                  </a:lnTo>
                  <a:lnTo>
                    <a:pt x="1614" y="5795"/>
                  </a:lnTo>
                  <a:lnTo>
                    <a:pt x="1445" y="5892"/>
                  </a:lnTo>
                  <a:lnTo>
                    <a:pt x="1359" y="5944"/>
                  </a:lnTo>
                  <a:lnTo>
                    <a:pt x="1273" y="5996"/>
                  </a:lnTo>
                  <a:lnTo>
                    <a:pt x="1185" y="6051"/>
                  </a:lnTo>
                  <a:lnTo>
                    <a:pt x="1097" y="6108"/>
                  </a:lnTo>
                  <a:lnTo>
                    <a:pt x="1008" y="6169"/>
                  </a:lnTo>
                  <a:lnTo>
                    <a:pt x="918" y="6230"/>
                  </a:lnTo>
                  <a:lnTo>
                    <a:pt x="829" y="6296"/>
                  </a:lnTo>
                  <a:lnTo>
                    <a:pt x="738" y="6364"/>
                  </a:lnTo>
                  <a:lnTo>
                    <a:pt x="647" y="6436"/>
                  </a:lnTo>
                  <a:lnTo>
                    <a:pt x="556" y="6513"/>
                  </a:lnTo>
                  <a:lnTo>
                    <a:pt x="464" y="6592"/>
                  </a:lnTo>
                  <a:lnTo>
                    <a:pt x="371" y="6676"/>
                  </a:lnTo>
                  <a:lnTo>
                    <a:pt x="279" y="6764"/>
                  </a:lnTo>
                  <a:lnTo>
                    <a:pt x="187" y="6857"/>
                  </a:lnTo>
                  <a:lnTo>
                    <a:pt x="93" y="6954"/>
                  </a:lnTo>
                  <a:lnTo>
                    <a:pt x="0" y="7057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4400" y="5777280"/>
              <a:ext cx="347760" cy="363960"/>
            </a:xfrm>
            <a:custGeom>
              <a:avLst/>
              <a:gdLst/>
              <a:ahLst/>
              <a:rect l="l" t="t" r="r" b="b"/>
              <a:pathLst>
                <a:path w="5357" h="5962">
                  <a:moveTo>
                    <a:pt x="5357" y="0"/>
                  </a:moveTo>
                  <a:lnTo>
                    <a:pt x="5132" y="89"/>
                  </a:lnTo>
                  <a:lnTo>
                    <a:pt x="4800" y="202"/>
                  </a:lnTo>
                  <a:lnTo>
                    <a:pt x="4474" y="316"/>
                  </a:lnTo>
                  <a:lnTo>
                    <a:pt x="4158" y="432"/>
                  </a:lnTo>
                  <a:lnTo>
                    <a:pt x="3851" y="550"/>
                  </a:lnTo>
                  <a:lnTo>
                    <a:pt x="3553" y="669"/>
                  </a:lnTo>
                  <a:lnTo>
                    <a:pt x="3265" y="793"/>
                  </a:lnTo>
                  <a:lnTo>
                    <a:pt x="2988" y="919"/>
                  </a:lnTo>
                  <a:lnTo>
                    <a:pt x="2720" y="1047"/>
                  </a:lnTo>
                  <a:lnTo>
                    <a:pt x="2464" y="1180"/>
                  </a:lnTo>
                  <a:lnTo>
                    <a:pt x="2218" y="1317"/>
                  </a:lnTo>
                  <a:lnTo>
                    <a:pt x="1982" y="1457"/>
                  </a:lnTo>
                  <a:lnTo>
                    <a:pt x="1759" y="1603"/>
                  </a:lnTo>
                  <a:lnTo>
                    <a:pt x="1549" y="1754"/>
                  </a:lnTo>
                  <a:lnTo>
                    <a:pt x="1349" y="1908"/>
                  </a:lnTo>
                  <a:lnTo>
                    <a:pt x="1162" y="2070"/>
                  </a:lnTo>
                  <a:lnTo>
                    <a:pt x="988" y="2237"/>
                  </a:lnTo>
                  <a:lnTo>
                    <a:pt x="828" y="2410"/>
                  </a:lnTo>
                  <a:lnTo>
                    <a:pt x="680" y="2590"/>
                  </a:lnTo>
                  <a:lnTo>
                    <a:pt x="545" y="2776"/>
                  </a:lnTo>
                  <a:lnTo>
                    <a:pt x="425" y="2968"/>
                  </a:lnTo>
                  <a:lnTo>
                    <a:pt x="319" y="3169"/>
                  </a:lnTo>
                  <a:lnTo>
                    <a:pt x="228" y="3379"/>
                  </a:lnTo>
                  <a:lnTo>
                    <a:pt x="151" y="3595"/>
                  </a:lnTo>
                  <a:lnTo>
                    <a:pt x="91" y="3820"/>
                  </a:lnTo>
                  <a:lnTo>
                    <a:pt x="45" y="4053"/>
                  </a:lnTo>
                  <a:lnTo>
                    <a:pt x="15" y="4297"/>
                  </a:lnTo>
                  <a:lnTo>
                    <a:pt x="0" y="4549"/>
                  </a:lnTo>
                  <a:lnTo>
                    <a:pt x="3" y="4811"/>
                  </a:lnTo>
                  <a:lnTo>
                    <a:pt x="22" y="5083"/>
                  </a:lnTo>
                  <a:lnTo>
                    <a:pt x="57" y="5366"/>
                  </a:lnTo>
                  <a:lnTo>
                    <a:pt x="111" y="5658"/>
                  </a:lnTo>
                  <a:lnTo>
                    <a:pt x="181" y="5962"/>
                  </a:lnTo>
                  <a:lnTo>
                    <a:pt x="284" y="5638"/>
                  </a:lnTo>
                  <a:lnTo>
                    <a:pt x="402" y="5320"/>
                  </a:lnTo>
                  <a:lnTo>
                    <a:pt x="537" y="5008"/>
                  </a:lnTo>
                  <a:lnTo>
                    <a:pt x="686" y="4703"/>
                  </a:lnTo>
                  <a:lnTo>
                    <a:pt x="847" y="4406"/>
                  </a:lnTo>
                  <a:lnTo>
                    <a:pt x="1020" y="4116"/>
                  </a:lnTo>
                  <a:lnTo>
                    <a:pt x="1204" y="3835"/>
                  </a:lnTo>
                  <a:lnTo>
                    <a:pt x="1397" y="3561"/>
                  </a:lnTo>
                  <a:lnTo>
                    <a:pt x="1597" y="3295"/>
                  </a:lnTo>
                  <a:lnTo>
                    <a:pt x="1803" y="3037"/>
                  </a:lnTo>
                  <a:lnTo>
                    <a:pt x="2015" y="2789"/>
                  </a:lnTo>
                  <a:lnTo>
                    <a:pt x="2230" y="2550"/>
                  </a:lnTo>
                  <a:lnTo>
                    <a:pt x="2448" y="2319"/>
                  </a:lnTo>
                  <a:lnTo>
                    <a:pt x="2668" y="2098"/>
                  </a:lnTo>
                  <a:lnTo>
                    <a:pt x="2887" y="1886"/>
                  </a:lnTo>
                  <a:lnTo>
                    <a:pt x="3106" y="1684"/>
                  </a:lnTo>
                  <a:lnTo>
                    <a:pt x="3321" y="1493"/>
                  </a:lnTo>
                  <a:lnTo>
                    <a:pt x="3532" y="1312"/>
                  </a:lnTo>
                  <a:lnTo>
                    <a:pt x="3739" y="1141"/>
                  </a:lnTo>
                  <a:lnTo>
                    <a:pt x="3939" y="982"/>
                  </a:lnTo>
                  <a:lnTo>
                    <a:pt x="4130" y="834"/>
                  </a:lnTo>
                  <a:lnTo>
                    <a:pt x="4313" y="696"/>
                  </a:lnTo>
                  <a:lnTo>
                    <a:pt x="4486" y="570"/>
                  </a:lnTo>
                  <a:lnTo>
                    <a:pt x="4646" y="457"/>
                  </a:lnTo>
                  <a:lnTo>
                    <a:pt x="4794" y="355"/>
                  </a:lnTo>
                  <a:lnTo>
                    <a:pt x="4928" y="266"/>
                  </a:lnTo>
                  <a:lnTo>
                    <a:pt x="5046" y="188"/>
                  </a:lnTo>
                  <a:lnTo>
                    <a:pt x="5148" y="124"/>
                  </a:lnTo>
                  <a:lnTo>
                    <a:pt x="5230" y="73"/>
                  </a:lnTo>
                  <a:lnTo>
                    <a:pt x="5294" y="35"/>
                  </a:lnTo>
                  <a:lnTo>
                    <a:pt x="5336" y="11"/>
                  </a:lnTo>
                  <a:lnTo>
                    <a:pt x="5357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639200" y="5483160"/>
            <a:ext cx="1088640" cy="1022040"/>
            <a:chOff x="7639200" y="5483160"/>
            <a:chExt cx="1088640" cy="1022040"/>
          </a:xfrm>
        </p:grpSpPr>
        <p:sp>
          <p:nvSpPr>
            <p:cNvPr id="173" name=""/>
            <p:cNvSpPr/>
            <p:nvPr/>
          </p:nvSpPr>
          <p:spPr>
            <a:xfrm>
              <a:off x="8184240" y="5483160"/>
              <a:ext cx="543600" cy="5119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9" y="681"/>
                  </a:lnTo>
                  <a:lnTo>
                    <a:pt x="297" y="684"/>
                  </a:lnTo>
                  <a:lnTo>
                    <a:pt x="397" y="690"/>
                  </a:lnTo>
                  <a:lnTo>
                    <a:pt x="493" y="695"/>
                  </a:lnTo>
                  <a:lnTo>
                    <a:pt x="591" y="702"/>
                  </a:lnTo>
                  <a:lnTo>
                    <a:pt x="689" y="710"/>
                  </a:lnTo>
                  <a:lnTo>
                    <a:pt x="785" y="719"/>
                  </a:lnTo>
                  <a:lnTo>
                    <a:pt x="881" y="730"/>
                  </a:lnTo>
                  <a:lnTo>
                    <a:pt x="977" y="741"/>
                  </a:lnTo>
                  <a:lnTo>
                    <a:pt x="1074" y="754"/>
                  </a:lnTo>
                  <a:lnTo>
                    <a:pt x="1170" y="769"/>
                  </a:lnTo>
                  <a:lnTo>
                    <a:pt x="1264" y="784"/>
                  </a:lnTo>
                  <a:lnTo>
                    <a:pt x="1358" y="800"/>
                  </a:lnTo>
                  <a:lnTo>
                    <a:pt x="1453" y="817"/>
                  </a:lnTo>
                  <a:lnTo>
                    <a:pt x="1548" y="836"/>
                  </a:lnTo>
                  <a:lnTo>
                    <a:pt x="1641" y="857"/>
                  </a:lnTo>
                  <a:lnTo>
                    <a:pt x="1734" y="877"/>
                  </a:lnTo>
                  <a:lnTo>
                    <a:pt x="1827" y="899"/>
                  </a:lnTo>
                  <a:lnTo>
                    <a:pt x="1919" y="922"/>
                  </a:lnTo>
                  <a:lnTo>
                    <a:pt x="2010" y="947"/>
                  </a:lnTo>
                  <a:lnTo>
                    <a:pt x="2101" y="972"/>
                  </a:lnTo>
                  <a:lnTo>
                    <a:pt x="2192" y="999"/>
                  </a:lnTo>
                  <a:lnTo>
                    <a:pt x="2282" y="1026"/>
                  </a:lnTo>
                  <a:lnTo>
                    <a:pt x="2372" y="1055"/>
                  </a:lnTo>
                  <a:lnTo>
                    <a:pt x="2462" y="1085"/>
                  </a:lnTo>
                  <a:lnTo>
                    <a:pt x="2551" y="1115"/>
                  </a:lnTo>
                  <a:lnTo>
                    <a:pt x="2639" y="1148"/>
                  </a:lnTo>
                  <a:lnTo>
                    <a:pt x="2727" y="1180"/>
                  </a:lnTo>
                  <a:lnTo>
                    <a:pt x="2815" y="1215"/>
                  </a:lnTo>
                  <a:lnTo>
                    <a:pt x="2903" y="1250"/>
                  </a:lnTo>
                  <a:lnTo>
                    <a:pt x="2989" y="1285"/>
                  </a:lnTo>
                  <a:lnTo>
                    <a:pt x="3075" y="1323"/>
                  </a:lnTo>
                  <a:lnTo>
                    <a:pt x="3160" y="1361"/>
                  </a:lnTo>
                  <a:lnTo>
                    <a:pt x="3245" y="1399"/>
                  </a:lnTo>
                  <a:lnTo>
                    <a:pt x="3329" y="1440"/>
                  </a:lnTo>
                  <a:lnTo>
                    <a:pt x="3412" y="1482"/>
                  </a:lnTo>
                  <a:lnTo>
                    <a:pt x="3497" y="1522"/>
                  </a:lnTo>
                  <a:lnTo>
                    <a:pt x="3579" y="1566"/>
                  </a:lnTo>
                  <a:lnTo>
                    <a:pt x="3660" y="1609"/>
                  </a:lnTo>
                  <a:lnTo>
                    <a:pt x="3742" y="1655"/>
                  </a:lnTo>
                  <a:lnTo>
                    <a:pt x="3823" y="1700"/>
                  </a:lnTo>
                  <a:lnTo>
                    <a:pt x="3903" y="1747"/>
                  </a:lnTo>
                  <a:lnTo>
                    <a:pt x="3983" y="1796"/>
                  </a:lnTo>
                  <a:lnTo>
                    <a:pt x="4062" y="1845"/>
                  </a:lnTo>
                  <a:lnTo>
                    <a:pt x="4139" y="1894"/>
                  </a:lnTo>
                  <a:lnTo>
                    <a:pt x="4218" y="1944"/>
                  </a:lnTo>
                  <a:lnTo>
                    <a:pt x="4295" y="1996"/>
                  </a:lnTo>
                  <a:lnTo>
                    <a:pt x="4371" y="2049"/>
                  </a:lnTo>
                  <a:lnTo>
                    <a:pt x="4447" y="2101"/>
                  </a:lnTo>
                  <a:lnTo>
                    <a:pt x="4522" y="2156"/>
                  </a:lnTo>
                  <a:lnTo>
                    <a:pt x="4597" y="2210"/>
                  </a:lnTo>
                  <a:lnTo>
                    <a:pt x="4670" y="2267"/>
                  </a:lnTo>
                  <a:lnTo>
                    <a:pt x="4743" y="2324"/>
                  </a:lnTo>
                  <a:lnTo>
                    <a:pt x="4816" y="2382"/>
                  </a:lnTo>
                  <a:lnTo>
                    <a:pt x="4887" y="2439"/>
                  </a:lnTo>
                  <a:lnTo>
                    <a:pt x="4958" y="2499"/>
                  </a:lnTo>
                  <a:lnTo>
                    <a:pt x="5029" y="2558"/>
                  </a:lnTo>
                  <a:lnTo>
                    <a:pt x="5099" y="2620"/>
                  </a:lnTo>
                  <a:lnTo>
                    <a:pt x="5167" y="2682"/>
                  </a:lnTo>
                  <a:lnTo>
                    <a:pt x="5235" y="2745"/>
                  </a:lnTo>
                  <a:lnTo>
                    <a:pt x="5302" y="2807"/>
                  </a:lnTo>
                  <a:lnTo>
                    <a:pt x="5369" y="2872"/>
                  </a:lnTo>
                  <a:lnTo>
                    <a:pt x="5434" y="2937"/>
                  </a:lnTo>
                  <a:lnTo>
                    <a:pt x="5499" y="3002"/>
                  </a:lnTo>
                  <a:lnTo>
                    <a:pt x="5564" y="3069"/>
                  </a:lnTo>
                  <a:lnTo>
                    <a:pt x="5626" y="3136"/>
                  </a:lnTo>
                  <a:lnTo>
                    <a:pt x="5689" y="3204"/>
                  </a:lnTo>
                  <a:lnTo>
                    <a:pt x="5751" y="3272"/>
                  </a:lnTo>
                  <a:lnTo>
                    <a:pt x="5813" y="3342"/>
                  </a:lnTo>
                  <a:lnTo>
                    <a:pt x="5872" y="3413"/>
                  </a:lnTo>
                  <a:lnTo>
                    <a:pt x="5932" y="3484"/>
                  </a:lnTo>
                  <a:lnTo>
                    <a:pt x="5989" y="3555"/>
                  </a:lnTo>
                  <a:lnTo>
                    <a:pt x="6047" y="3628"/>
                  </a:lnTo>
                  <a:lnTo>
                    <a:pt x="6104" y="3701"/>
                  </a:lnTo>
                  <a:lnTo>
                    <a:pt x="6161" y="3774"/>
                  </a:lnTo>
                  <a:lnTo>
                    <a:pt x="6215" y="3849"/>
                  </a:lnTo>
                  <a:lnTo>
                    <a:pt x="6270" y="3924"/>
                  </a:lnTo>
                  <a:lnTo>
                    <a:pt x="6322" y="4000"/>
                  </a:lnTo>
                  <a:lnTo>
                    <a:pt x="6375" y="4076"/>
                  </a:lnTo>
                  <a:lnTo>
                    <a:pt x="6427" y="4153"/>
                  </a:lnTo>
                  <a:lnTo>
                    <a:pt x="6477" y="4232"/>
                  </a:lnTo>
                  <a:lnTo>
                    <a:pt x="6526" y="4309"/>
                  </a:lnTo>
                  <a:lnTo>
                    <a:pt x="6575" y="4388"/>
                  </a:lnTo>
                  <a:lnTo>
                    <a:pt x="6624" y="4468"/>
                  </a:lnTo>
                  <a:lnTo>
                    <a:pt x="6671" y="4548"/>
                  </a:lnTo>
                  <a:lnTo>
                    <a:pt x="6716" y="4629"/>
                  </a:lnTo>
                  <a:lnTo>
                    <a:pt x="6762" y="4711"/>
                  </a:lnTo>
                  <a:lnTo>
                    <a:pt x="6805" y="4792"/>
                  </a:lnTo>
                  <a:lnTo>
                    <a:pt x="6849" y="4874"/>
                  </a:lnTo>
                  <a:lnTo>
                    <a:pt x="6889" y="4959"/>
                  </a:lnTo>
                  <a:lnTo>
                    <a:pt x="6931" y="5042"/>
                  </a:lnTo>
                  <a:lnTo>
                    <a:pt x="6972" y="5126"/>
                  </a:lnTo>
                  <a:lnTo>
                    <a:pt x="7010" y="5211"/>
                  </a:lnTo>
                  <a:lnTo>
                    <a:pt x="7048" y="5296"/>
                  </a:lnTo>
                  <a:lnTo>
                    <a:pt x="7086" y="5382"/>
                  </a:lnTo>
                  <a:lnTo>
                    <a:pt x="7121" y="5468"/>
                  </a:lnTo>
                  <a:lnTo>
                    <a:pt x="7156" y="5556"/>
                  </a:lnTo>
                  <a:lnTo>
                    <a:pt x="7191" y="5644"/>
                  </a:lnTo>
                  <a:lnTo>
                    <a:pt x="7223" y="5732"/>
                  </a:lnTo>
                  <a:lnTo>
                    <a:pt x="7256" y="5820"/>
                  </a:lnTo>
                  <a:lnTo>
                    <a:pt x="7286" y="5909"/>
                  </a:lnTo>
                  <a:lnTo>
                    <a:pt x="7316" y="5999"/>
                  </a:lnTo>
                  <a:lnTo>
                    <a:pt x="7345" y="6089"/>
                  </a:lnTo>
                  <a:lnTo>
                    <a:pt x="7372" y="6179"/>
                  </a:lnTo>
                  <a:lnTo>
                    <a:pt x="7399" y="6270"/>
                  </a:lnTo>
                  <a:lnTo>
                    <a:pt x="7424" y="6361"/>
                  </a:lnTo>
                  <a:lnTo>
                    <a:pt x="7449" y="6452"/>
                  </a:lnTo>
                  <a:lnTo>
                    <a:pt x="7472" y="6544"/>
                  </a:lnTo>
                  <a:lnTo>
                    <a:pt x="7494" y="6637"/>
                  </a:lnTo>
                  <a:lnTo>
                    <a:pt x="7514" y="6730"/>
                  </a:lnTo>
                  <a:lnTo>
                    <a:pt x="7535" y="6823"/>
                  </a:lnTo>
                  <a:lnTo>
                    <a:pt x="7554" y="6918"/>
                  </a:lnTo>
                  <a:lnTo>
                    <a:pt x="7571" y="7013"/>
                  </a:lnTo>
                  <a:lnTo>
                    <a:pt x="7587" y="7107"/>
                  </a:lnTo>
                  <a:lnTo>
                    <a:pt x="7602" y="7201"/>
                  </a:lnTo>
                  <a:lnTo>
                    <a:pt x="7617" y="7297"/>
                  </a:lnTo>
                  <a:lnTo>
                    <a:pt x="7630" y="7394"/>
                  </a:lnTo>
                  <a:lnTo>
                    <a:pt x="7641" y="7490"/>
                  </a:lnTo>
                  <a:lnTo>
                    <a:pt x="7652" y="7586"/>
                  </a:lnTo>
                  <a:lnTo>
                    <a:pt x="7661" y="7682"/>
                  </a:lnTo>
                  <a:lnTo>
                    <a:pt x="7669" y="7780"/>
                  </a:lnTo>
                  <a:lnTo>
                    <a:pt x="7676" y="7878"/>
                  </a:lnTo>
                  <a:lnTo>
                    <a:pt x="7681" y="7974"/>
                  </a:lnTo>
                  <a:lnTo>
                    <a:pt x="7687" y="8074"/>
                  </a:lnTo>
                  <a:lnTo>
                    <a:pt x="7690" y="8172"/>
                  </a:lnTo>
                  <a:lnTo>
                    <a:pt x="7690" y="8272"/>
                  </a:lnTo>
                  <a:lnTo>
                    <a:pt x="7691" y="8371"/>
                  </a:lnTo>
                  <a:lnTo>
                    <a:pt x="8371" y="8371"/>
                  </a:lnTo>
                  <a:lnTo>
                    <a:pt x="8370" y="8263"/>
                  </a:lnTo>
                  <a:lnTo>
                    <a:pt x="8367" y="8156"/>
                  </a:lnTo>
                  <a:lnTo>
                    <a:pt x="8364" y="8050"/>
                  </a:lnTo>
                  <a:lnTo>
                    <a:pt x="8359" y="7943"/>
                  </a:lnTo>
                  <a:lnTo>
                    <a:pt x="8353" y="7835"/>
                  </a:lnTo>
                  <a:lnTo>
                    <a:pt x="8346" y="7730"/>
                  </a:lnTo>
                  <a:lnTo>
                    <a:pt x="8338" y="7624"/>
                  </a:lnTo>
                  <a:lnTo>
                    <a:pt x="8327" y="7517"/>
                  </a:lnTo>
                  <a:lnTo>
                    <a:pt x="8316" y="7413"/>
                  </a:lnTo>
                  <a:lnTo>
                    <a:pt x="8302" y="7308"/>
                  </a:lnTo>
                  <a:lnTo>
                    <a:pt x="8288" y="7204"/>
                  </a:lnTo>
                  <a:lnTo>
                    <a:pt x="8274" y="7101"/>
                  </a:lnTo>
                  <a:lnTo>
                    <a:pt x="8257" y="6996"/>
                  </a:lnTo>
                  <a:lnTo>
                    <a:pt x="8240" y="6892"/>
                  </a:lnTo>
                  <a:lnTo>
                    <a:pt x="8220" y="6791"/>
                  </a:lnTo>
                  <a:lnTo>
                    <a:pt x="8199" y="6688"/>
                  </a:lnTo>
                  <a:lnTo>
                    <a:pt x="8178" y="6587"/>
                  </a:lnTo>
                  <a:lnTo>
                    <a:pt x="8155" y="6485"/>
                  </a:lnTo>
                  <a:lnTo>
                    <a:pt x="8130" y="6385"/>
                  </a:lnTo>
                  <a:lnTo>
                    <a:pt x="8105" y="6285"/>
                  </a:lnTo>
                  <a:lnTo>
                    <a:pt x="8080" y="6183"/>
                  </a:lnTo>
                  <a:lnTo>
                    <a:pt x="8052" y="6084"/>
                  </a:lnTo>
                  <a:lnTo>
                    <a:pt x="8023" y="5985"/>
                  </a:lnTo>
                  <a:lnTo>
                    <a:pt x="7993" y="5887"/>
                  </a:lnTo>
                  <a:lnTo>
                    <a:pt x="7962" y="5789"/>
                  </a:lnTo>
                  <a:lnTo>
                    <a:pt x="7929" y="5691"/>
                  </a:lnTo>
                  <a:lnTo>
                    <a:pt x="7896" y="5594"/>
                  </a:lnTo>
                  <a:lnTo>
                    <a:pt x="7861" y="5498"/>
                  </a:lnTo>
                  <a:lnTo>
                    <a:pt x="7825" y="5402"/>
                  </a:lnTo>
                  <a:lnTo>
                    <a:pt x="7788" y="5306"/>
                  </a:lnTo>
                  <a:lnTo>
                    <a:pt x="7750" y="5213"/>
                  </a:lnTo>
                  <a:lnTo>
                    <a:pt x="7710" y="5119"/>
                  </a:lnTo>
                  <a:lnTo>
                    <a:pt x="7670" y="5025"/>
                  </a:lnTo>
                  <a:lnTo>
                    <a:pt x="7629" y="4932"/>
                  </a:lnTo>
                  <a:lnTo>
                    <a:pt x="7585" y="4839"/>
                  </a:lnTo>
                  <a:lnTo>
                    <a:pt x="7542" y="4747"/>
                  </a:lnTo>
                  <a:lnTo>
                    <a:pt x="7498" y="4656"/>
                  </a:lnTo>
                  <a:lnTo>
                    <a:pt x="7451" y="4566"/>
                  </a:lnTo>
                  <a:lnTo>
                    <a:pt x="7405" y="4476"/>
                  </a:lnTo>
                  <a:lnTo>
                    <a:pt x="7357" y="4386"/>
                  </a:lnTo>
                  <a:lnTo>
                    <a:pt x="7308" y="4297"/>
                  </a:lnTo>
                  <a:lnTo>
                    <a:pt x="7258" y="4211"/>
                  </a:lnTo>
                  <a:lnTo>
                    <a:pt x="7207" y="4123"/>
                  </a:lnTo>
                  <a:lnTo>
                    <a:pt x="7155" y="4036"/>
                  </a:lnTo>
                  <a:lnTo>
                    <a:pt x="7103" y="3950"/>
                  </a:lnTo>
                  <a:lnTo>
                    <a:pt x="7048" y="3864"/>
                  </a:lnTo>
                  <a:lnTo>
                    <a:pt x="6993" y="3781"/>
                  </a:lnTo>
                  <a:lnTo>
                    <a:pt x="6937" y="3696"/>
                  </a:lnTo>
                  <a:lnTo>
                    <a:pt x="6880" y="3612"/>
                  </a:lnTo>
                  <a:lnTo>
                    <a:pt x="6822" y="3530"/>
                  </a:lnTo>
                  <a:lnTo>
                    <a:pt x="6763" y="3450"/>
                  </a:lnTo>
                  <a:lnTo>
                    <a:pt x="6703" y="3368"/>
                  </a:lnTo>
                  <a:lnTo>
                    <a:pt x="6643" y="3287"/>
                  </a:lnTo>
                  <a:lnTo>
                    <a:pt x="6581" y="3208"/>
                  </a:lnTo>
                  <a:lnTo>
                    <a:pt x="6518" y="3130"/>
                  </a:lnTo>
                  <a:lnTo>
                    <a:pt x="6455" y="3051"/>
                  </a:lnTo>
                  <a:lnTo>
                    <a:pt x="6390" y="2975"/>
                  </a:lnTo>
                  <a:lnTo>
                    <a:pt x="6324" y="2898"/>
                  </a:lnTo>
                  <a:lnTo>
                    <a:pt x="6258" y="2823"/>
                  </a:lnTo>
                  <a:lnTo>
                    <a:pt x="6191" y="2748"/>
                  </a:lnTo>
                  <a:lnTo>
                    <a:pt x="6123" y="2675"/>
                  </a:lnTo>
                  <a:lnTo>
                    <a:pt x="6054" y="2601"/>
                  </a:lnTo>
                  <a:lnTo>
                    <a:pt x="5985" y="2529"/>
                  </a:lnTo>
                  <a:lnTo>
                    <a:pt x="5914" y="2457"/>
                  </a:lnTo>
                  <a:lnTo>
                    <a:pt x="5842" y="2386"/>
                  </a:lnTo>
                  <a:lnTo>
                    <a:pt x="5770" y="2317"/>
                  </a:lnTo>
                  <a:lnTo>
                    <a:pt x="5696" y="2248"/>
                  </a:lnTo>
                  <a:lnTo>
                    <a:pt x="5623" y="2180"/>
                  </a:lnTo>
                  <a:lnTo>
                    <a:pt x="5548" y="2113"/>
                  </a:lnTo>
                  <a:lnTo>
                    <a:pt x="5473" y="2047"/>
                  </a:lnTo>
                  <a:lnTo>
                    <a:pt x="5396" y="1981"/>
                  </a:lnTo>
                  <a:lnTo>
                    <a:pt x="5320" y="1916"/>
                  </a:lnTo>
                  <a:lnTo>
                    <a:pt x="5241" y="1853"/>
                  </a:lnTo>
                  <a:lnTo>
                    <a:pt x="5163" y="1790"/>
                  </a:lnTo>
                  <a:lnTo>
                    <a:pt x="5084" y="1728"/>
                  </a:lnTo>
                  <a:lnTo>
                    <a:pt x="5003" y="1668"/>
                  </a:lnTo>
                  <a:lnTo>
                    <a:pt x="4921" y="1608"/>
                  </a:lnTo>
                  <a:lnTo>
                    <a:pt x="4841" y="1549"/>
                  </a:lnTo>
                  <a:lnTo>
                    <a:pt x="4759" y="1491"/>
                  </a:lnTo>
                  <a:lnTo>
                    <a:pt x="4675" y="1434"/>
                  </a:lnTo>
                  <a:lnTo>
                    <a:pt x="4590" y="1378"/>
                  </a:lnTo>
                  <a:lnTo>
                    <a:pt x="4507" y="1323"/>
                  </a:lnTo>
                  <a:lnTo>
                    <a:pt x="4421" y="1268"/>
                  </a:lnTo>
                  <a:lnTo>
                    <a:pt x="4335" y="1216"/>
                  </a:lnTo>
                  <a:lnTo>
                    <a:pt x="4248" y="1164"/>
                  </a:lnTo>
                  <a:lnTo>
                    <a:pt x="4160" y="1113"/>
                  </a:lnTo>
                  <a:lnTo>
                    <a:pt x="4074" y="1063"/>
                  </a:lnTo>
                  <a:lnTo>
                    <a:pt x="3985" y="1014"/>
                  </a:lnTo>
                  <a:lnTo>
                    <a:pt x="3895" y="966"/>
                  </a:lnTo>
                  <a:lnTo>
                    <a:pt x="3805" y="920"/>
                  </a:lnTo>
                  <a:lnTo>
                    <a:pt x="3715" y="873"/>
                  </a:lnTo>
                  <a:lnTo>
                    <a:pt x="3624" y="829"/>
                  </a:lnTo>
                  <a:lnTo>
                    <a:pt x="3532" y="786"/>
                  </a:lnTo>
                  <a:lnTo>
                    <a:pt x="3439" y="742"/>
                  </a:lnTo>
                  <a:lnTo>
                    <a:pt x="3346" y="701"/>
                  </a:lnTo>
                  <a:lnTo>
                    <a:pt x="3252" y="661"/>
                  </a:lnTo>
                  <a:lnTo>
                    <a:pt x="3158" y="621"/>
                  </a:lnTo>
                  <a:lnTo>
                    <a:pt x="3065" y="583"/>
                  </a:lnTo>
                  <a:lnTo>
                    <a:pt x="2969" y="546"/>
                  </a:lnTo>
                  <a:lnTo>
                    <a:pt x="2873" y="510"/>
                  </a:lnTo>
                  <a:lnTo>
                    <a:pt x="2777" y="475"/>
                  </a:lnTo>
                  <a:lnTo>
                    <a:pt x="2680" y="442"/>
                  </a:lnTo>
                  <a:lnTo>
                    <a:pt x="2582" y="409"/>
                  </a:lnTo>
                  <a:lnTo>
                    <a:pt x="2484" y="378"/>
                  </a:lnTo>
                  <a:lnTo>
                    <a:pt x="2386" y="348"/>
                  </a:lnTo>
                  <a:lnTo>
                    <a:pt x="2287" y="319"/>
                  </a:lnTo>
                  <a:lnTo>
                    <a:pt x="2188" y="291"/>
                  </a:lnTo>
                  <a:lnTo>
                    <a:pt x="2086" y="266"/>
                  </a:lnTo>
                  <a:lnTo>
                    <a:pt x="1986" y="241"/>
                  </a:lnTo>
                  <a:lnTo>
                    <a:pt x="1886" y="216"/>
                  </a:lnTo>
                  <a:lnTo>
                    <a:pt x="1784" y="193"/>
                  </a:lnTo>
                  <a:lnTo>
                    <a:pt x="1683" y="172"/>
                  </a:lnTo>
                  <a:lnTo>
                    <a:pt x="1580" y="151"/>
                  </a:lnTo>
                  <a:lnTo>
                    <a:pt x="1479" y="131"/>
                  </a:lnTo>
                  <a:lnTo>
                    <a:pt x="1375" y="114"/>
                  </a:lnTo>
                  <a:lnTo>
                    <a:pt x="1270" y="97"/>
                  </a:lnTo>
                  <a:lnTo>
                    <a:pt x="1167" y="83"/>
                  </a:lnTo>
                  <a:lnTo>
                    <a:pt x="1063" y="69"/>
                  </a:lnTo>
                  <a:lnTo>
                    <a:pt x="958" y="55"/>
                  </a:lnTo>
                  <a:lnTo>
                    <a:pt x="854" y="44"/>
                  </a:lnTo>
                  <a:lnTo>
                    <a:pt x="747" y="33"/>
                  </a:lnTo>
                  <a:lnTo>
                    <a:pt x="641" y="25"/>
                  </a:lnTo>
                  <a:lnTo>
                    <a:pt x="536" y="18"/>
                  </a:lnTo>
                  <a:lnTo>
                    <a:pt x="428" y="12"/>
                  </a:lnTo>
                  <a:lnTo>
                    <a:pt x="321" y="7"/>
                  </a:lnTo>
                  <a:lnTo>
                    <a:pt x="215" y="4"/>
                  </a:lnTo>
                  <a:lnTo>
                    <a:pt x="10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39200" y="5483160"/>
              <a:ext cx="545040" cy="5119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680" y="8371"/>
                  </a:moveTo>
                  <a:lnTo>
                    <a:pt x="680" y="8371"/>
                  </a:lnTo>
                  <a:lnTo>
                    <a:pt x="680" y="8272"/>
                  </a:lnTo>
                  <a:lnTo>
                    <a:pt x="681" y="8172"/>
                  </a:lnTo>
                  <a:lnTo>
                    <a:pt x="684" y="8074"/>
                  </a:lnTo>
                  <a:lnTo>
                    <a:pt x="690" y="7974"/>
                  </a:lnTo>
                  <a:lnTo>
                    <a:pt x="695" y="7878"/>
                  </a:lnTo>
                  <a:lnTo>
                    <a:pt x="702" y="7780"/>
                  </a:lnTo>
                  <a:lnTo>
                    <a:pt x="710" y="7682"/>
                  </a:lnTo>
                  <a:lnTo>
                    <a:pt x="719" y="7585"/>
                  </a:lnTo>
                  <a:lnTo>
                    <a:pt x="729" y="7490"/>
                  </a:lnTo>
                  <a:lnTo>
                    <a:pt x="741" y="7394"/>
                  </a:lnTo>
                  <a:lnTo>
                    <a:pt x="754" y="7297"/>
                  </a:lnTo>
                  <a:lnTo>
                    <a:pt x="769" y="7201"/>
                  </a:lnTo>
                  <a:lnTo>
                    <a:pt x="783" y="7106"/>
                  </a:lnTo>
                  <a:lnTo>
                    <a:pt x="799" y="7013"/>
                  </a:lnTo>
                  <a:lnTo>
                    <a:pt x="817" y="6918"/>
                  </a:lnTo>
                  <a:lnTo>
                    <a:pt x="836" y="6823"/>
                  </a:lnTo>
                  <a:lnTo>
                    <a:pt x="856" y="6730"/>
                  </a:lnTo>
                  <a:lnTo>
                    <a:pt x="877" y="6637"/>
                  </a:lnTo>
                  <a:lnTo>
                    <a:pt x="899" y="6544"/>
                  </a:lnTo>
                  <a:lnTo>
                    <a:pt x="922" y="6452"/>
                  </a:lnTo>
                  <a:lnTo>
                    <a:pt x="947" y="6361"/>
                  </a:lnTo>
                  <a:lnTo>
                    <a:pt x="972" y="6270"/>
                  </a:lnTo>
                  <a:lnTo>
                    <a:pt x="998" y="6179"/>
                  </a:lnTo>
                  <a:lnTo>
                    <a:pt x="1026" y="6089"/>
                  </a:lnTo>
                  <a:lnTo>
                    <a:pt x="1055" y="5999"/>
                  </a:lnTo>
                  <a:lnTo>
                    <a:pt x="1084" y="5909"/>
                  </a:lnTo>
                  <a:lnTo>
                    <a:pt x="1115" y="5820"/>
                  </a:lnTo>
                  <a:lnTo>
                    <a:pt x="1147" y="5732"/>
                  </a:lnTo>
                  <a:lnTo>
                    <a:pt x="1180" y="5644"/>
                  </a:lnTo>
                  <a:lnTo>
                    <a:pt x="1215" y="5556"/>
                  </a:lnTo>
                  <a:lnTo>
                    <a:pt x="1248" y="5469"/>
                  </a:lnTo>
                  <a:lnTo>
                    <a:pt x="1285" y="5382"/>
                  </a:lnTo>
                  <a:lnTo>
                    <a:pt x="1323" y="5296"/>
                  </a:lnTo>
                  <a:lnTo>
                    <a:pt x="1360" y="5211"/>
                  </a:lnTo>
                  <a:lnTo>
                    <a:pt x="1399" y="5126"/>
                  </a:lnTo>
                  <a:lnTo>
                    <a:pt x="1439" y="5042"/>
                  </a:lnTo>
                  <a:lnTo>
                    <a:pt x="1481" y="4959"/>
                  </a:lnTo>
                  <a:lnTo>
                    <a:pt x="1522" y="4874"/>
                  </a:lnTo>
                  <a:lnTo>
                    <a:pt x="1565" y="4792"/>
                  </a:lnTo>
                  <a:lnTo>
                    <a:pt x="1609" y="4711"/>
                  </a:lnTo>
                  <a:lnTo>
                    <a:pt x="1654" y="4629"/>
                  </a:lnTo>
                  <a:lnTo>
                    <a:pt x="1700" y="4548"/>
                  </a:lnTo>
                  <a:lnTo>
                    <a:pt x="1747" y="4468"/>
                  </a:lnTo>
                  <a:lnTo>
                    <a:pt x="1795" y="4388"/>
                  </a:lnTo>
                  <a:lnTo>
                    <a:pt x="1845" y="4309"/>
                  </a:lnTo>
                  <a:lnTo>
                    <a:pt x="1894" y="4232"/>
                  </a:lnTo>
                  <a:lnTo>
                    <a:pt x="1944" y="4153"/>
                  </a:lnTo>
                  <a:lnTo>
                    <a:pt x="1996" y="4076"/>
                  </a:lnTo>
                  <a:lnTo>
                    <a:pt x="2048" y="3999"/>
                  </a:lnTo>
                  <a:lnTo>
                    <a:pt x="2101" y="3924"/>
                  </a:lnTo>
                  <a:lnTo>
                    <a:pt x="2154" y="3849"/>
                  </a:lnTo>
                  <a:lnTo>
                    <a:pt x="2210" y="3774"/>
                  </a:lnTo>
                  <a:lnTo>
                    <a:pt x="2266" y="3700"/>
                  </a:lnTo>
                  <a:lnTo>
                    <a:pt x="2323" y="3628"/>
                  </a:lnTo>
                  <a:lnTo>
                    <a:pt x="2381" y="3555"/>
                  </a:lnTo>
                  <a:lnTo>
                    <a:pt x="2439" y="3484"/>
                  </a:lnTo>
                  <a:lnTo>
                    <a:pt x="2499" y="3413"/>
                  </a:lnTo>
                  <a:lnTo>
                    <a:pt x="2558" y="3342"/>
                  </a:lnTo>
                  <a:lnTo>
                    <a:pt x="2619" y="3272"/>
                  </a:lnTo>
                  <a:lnTo>
                    <a:pt x="2682" y="3204"/>
                  </a:lnTo>
                  <a:lnTo>
                    <a:pt x="2744" y="3136"/>
                  </a:lnTo>
                  <a:lnTo>
                    <a:pt x="2807" y="3069"/>
                  </a:lnTo>
                  <a:lnTo>
                    <a:pt x="2872" y="3002"/>
                  </a:lnTo>
                  <a:lnTo>
                    <a:pt x="2937" y="2937"/>
                  </a:lnTo>
                  <a:lnTo>
                    <a:pt x="3002" y="2872"/>
                  </a:lnTo>
                  <a:lnTo>
                    <a:pt x="3068" y="2807"/>
                  </a:lnTo>
                  <a:lnTo>
                    <a:pt x="3136" y="2745"/>
                  </a:lnTo>
                  <a:lnTo>
                    <a:pt x="3204" y="2682"/>
                  </a:lnTo>
                  <a:lnTo>
                    <a:pt x="3273" y="2620"/>
                  </a:lnTo>
                  <a:lnTo>
                    <a:pt x="3342" y="2558"/>
                  </a:lnTo>
                  <a:lnTo>
                    <a:pt x="3412" y="2499"/>
                  </a:lnTo>
                  <a:lnTo>
                    <a:pt x="3484" y="2439"/>
                  </a:lnTo>
                  <a:lnTo>
                    <a:pt x="3555" y="2382"/>
                  </a:lnTo>
                  <a:lnTo>
                    <a:pt x="3628" y="2324"/>
                  </a:lnTo>
                  <a:lnTo>
                    <a:pt x="3700" y="2267"/>
                  </a:lnTo>
                  <a:lnTo>
                    <a:pt x="3774" y="2210"/>
                  </a:lnTo>
                  <a:lnTo>
                    <a:pt x="3848" y="2156"/>
                  </a:lnTo>
                  <a:lnTo>
                    <a:pt x="3924" y="2101"/>
                  </a:lnTo>
                  <a:lnTo>
                    <a:pt x="3998" y="2049"/>
                  </a:lnTo>
                  <a:lnTo>
                    <a:pt x="4076" y="1996"/>
                  </a:lnTo>
                  <a:lnTo>
                    <a:pt x="4152" y="1944"/>
                  </a:lnTo>
                  <a:lnTo>
                    <a:pt x="4230" y="1894"/>
                  </a:lnTo>
                  <a:lnTo>
                    <a:pt x="4309" y="1845"/>
                  </a:lnTo>
                  <a:lnTo>
                    <a:pt x="4388" y="1796"/>
                  </a:lnTo>
                  <a:lnTo>
                    <a:pt x="4468" y="1747"/>
                  </a:lnTo>
                  <a:lnTo>
                    <a:pt x="4548" y="1700"/>
                  </a:lnTo>
                  <a:lnTo>
                    <a:pt x="4629" y="1655"/>
                  </a:lnTo>
                  <a:lnTo>
                    <a:pt x="4710" y="1609"/>
                  </a:lnTo>
                  <a:lnTo>
                    <a:pt x="4791" y="1566"/>
                  </a:lnTo>
                  <a:lnTo>
                    <a:pt x="4874" y="1522"/>
                  </a:lnTo>
                  <a:lnTo>
                    <a:pt x="4958" y="1482"/>
                  </a:lnTo>
                  <a:lnTo>
                    <a:pt x="5041" y="1440"/>
                  </a:lnTo>
                  <a:lnTo>
                    <a:pt x="5126" y="1399"/>
                  </a:lnTo>
                  <a:lnTo>
                    <a:pt x="5210" y="1361"/>
                  </a:lnTo>
                  <a:lnTo>
                    <a:pt x="5296" y="1323"/>
                  </a:lnTo>
                  <a:lnTo>
                    <a:pt x="5382" y="1285"/>
                  </a:lnTo>
                  <a:lnTo>
                    <a:pt x="5469" y="1248"/>
                  </a:lnTo>
                  <a:lnTo>
                    <a:pt x="5556" y="1215"/>
                  </a:lnTo>
                  <a:lnTo>
                    <a:pt x="5643" y="1180"/>
                  </a:lnTo>
                  <a:lnTo>
                    <a:pt x="5731" y="1148"/>
                  </a:lnTo>
                  <a:lnTo>
                    <a:pt x="5820" y="1115"/>
                  </a:lnTo>
                  <a:lnTo>
                    <a:pt x="5909" y="1085"/>
                  </a:lnTo>
                  <a:lnTo>
                    <a:pt x="5998" y="1055"/>
                  </a:lnTo>
                  <a:lnTo>
                    <a:pt x="6088" y="1026"/>
                  </a:lnTo>
                  <a:lnTo>
                    <a:pt x="6179" y="999"/>
                  </a:lnTo>
                  <a:lnTo>
                    <a:pt x="6270" y="972"/>
                  </a:lnTo>
                  <a:lnTo>
                    <a:pt x="6361" y="947"/>
                  </a:lnTo>
                  <a:lnTo>
                    <a:pt x="6452" y="922"/>
                  </a:lnTo>
                  <a:lnTo>
                    <a:pt x="6544" y="899"/>
                  </a:lnTo>
                  <a:lnTo>
                    <a:pt x="6636" y="877"/>
                  </a:lnTo>
                  <a:lnTo>
                    <a:pt x="6730" y="857"/>
                  </a:lnTo>
                  <a:lnTo>
                    <a:pt x="6823" y="836"/>
                  </a:lnTo>
                  <a:lnTo>
                    <a:pt x="6918" y="817"/>
                  </a:lnTo>
                  <a:lnTo>
                    <a:pt x="7012" y="800"/>
                  </a:lnTo>
                  <a:lnTo>
                    <a:pt x="7107" y="784"/>
                  </a:lnTo>
                  <a:lnTo>
                    <a:pt x="7201" y="769"/>
                  </a:lnTo>
                  <a:lnTo>
                    <a:pt x="7296" y="754"/>
                  </a:lnTo>
                  <a:lnTo>
                    <a:pt x="7393" y="741"/>
                  </a:lnTo>
                  <a:lnTo>
                    <a:pt x="7489" y="730"/>
                  </a:lnTo>
                  <a:lnTo>
                    <a:pt x="7586" y="719"/>
                  </a:lnTo>
                  <a:lnTo>
                    <a:pt x="7682" y="710"/>
                  </a:lnTo>
                  <a:lnTo>
                    <a:pt x="7780" y="702"/>
                  </a:lnTo>
                  <a:lnTo>
                    <a:pt x="7878" y="695"/>
                  </a:lnTo>
                  <a:lnTo>
                    <a:pt x="7974" y="690"/>
                  </a:lnTo>
                  <a:lnTo>
                    <a:pt x="8073" y="684"/>
                  </a:lnTo>
                  <a:lnTo>
                    <a:pt x="8172" y="681"/>
                  </a:lnTo>
                  <a:lnTo>
                    <a:pt x="8272" y="681"/>
                  </a:lnTo>
                  <a:lnTo>
                    <a:pt x="8371" y="680"/>
                  </a:lnTo>
                  <a:lnTo>
                    <a:pt x="8371" y="0"/>
                  </a:lnTo>
                  <a:lnTo>
                    <a:pt x="8263" y="1"/>
                  </a:lnTo>
                  <a:lnTo>
                    <a:pt x="8156" y="4"/>
                  </a:lnTo>
                  <a:lnTo>
                    <a:pt x="8050" y="7"/>
                  </a:lnTo>
                  <a:lnTo>
                    <a:pt x="7943" y="12"/>
                  </a:lnTo>
                  <a:lnTo>
                    <a:pt x="7835" y="18"/>
                  </a:lnTo>
                  <a:lnTo>
                    <a:pt x="7730" y="25"/>
                  </a:lnTo>
                  <a:lnTo>
                    <a:pt x="7624" y="33"/>
                  </a:lnTo>
                  <a:lnTo>
                    <a:pt x="7517" y="44"/>
                  </a:lnTo>
                  <a:lnTo>
                    <a:pt x="7413" y="55"/>
                  </a:lnTo>
                  <a:lnTo>
                    <a:pt x="7308" y="69"/>
                  </a:lnTo>
                  <a:lnTo>
                    <a:pt x="7204" y="83"/>
                  </a:lnTo>
                  <a:lnTo>
                    <a:pt x="7100" y="97"/>
                  </a:lnTo>
                  <a:lnTo>
                    <a:pt x="6995" y="114"/>
                  </a:lnTo>
                  <a:lnTo>
                    <a:pt x="6892" y="131"/>
                  </a:lnTo>
                  <a:lnTo>
                    <a:pt x="6790" y="151"/>
                  </a:lnTo>
                  <a:lnTo>
                    <a:pt x="6688" y="172"/>
                  </a:lnTo>
                  <a:lnTo>
                    <a:pt x="6587" y="193"/>
                  </a:lnTo>
                  <a:lnTo>
                    <a:pt x="6485" y="216"/>
                  </a:lnTo>
                  <a:lnTo>
                    <a:pt x="6384" y="241"/>
                  </a:lnTo>
                  <a:lnTo>
                    <a:pt x="6285" y="266"/>
                  </a:lnTo>
                  <a:lnTo>
                    <a:pt x="6183" y="291"/>
                  </a:lnTo>
                  <a:lnTo>
                    <a:pt x="6084" y="319"/>
                  </a:lnTo>
                  <a:lnTo>
                    <a:pt x="5984" y="348"/>
                  </a:lnTo>
                  <a:lnTo>
                    <a:pt x="5886" y="378"/>
                  </a:lnTo>
                  <a:lnTo>
                    <a:pt x="5789" y="409"/>
                  </a:lnTo>
                  <a:lnTo>
                    <a:pt x="5691" y="442"/>
                  </a:lnTo>
                  <a:lnTo>
                    <a:pt x="5594" y="475"/>
                  </a:lnTo>
                  <a:lnTo>
                    <a:pt x="5498" y="510"/>
                  </a:lnTo>
                  <a:lnTo>
                    <a:pt x="5401" y="546"/>
                  </a:lnTo>
                  <a:lnTo>
                    <a:pt x="5306" y="583"/>
                  </a:lnTo>
                  <a:lnTo>
                    <a:pt x="5211" y="622"/>
                  </a:lnTo>
                  <a:lnTo>
                    <a:pt x="5119" y="661"/>
                  </a:lnTo>
                  <a:lnTo>
                    <a:pt x="5025" y="701"/>
                  </a:lnTo>
                  <a:lnTo>
                    <a:pt x="4932" y="742"/>
                  </a:lnTo>
                  <a:lnTo>
                    <a:pt x="4838" y="786"/>
                  </a:lnTo>
                  <a:lnTo>
                    <a:pt x="4747" y="829"/>
                  </a:lnTo>
                  <a:lnTo>
                    <a:pt x="4655" y="873"/>
                  </a:lnTo>
                  <a:lnTo>
                    <a:pt x="4566" y="920"/>
                  </a:lnTo>
                  <a:lnTo>
                    <a:pt x="4475" y="966"/>
                  </a:lnTo>
                  <a:lnTo>
                    <a:pt x="4386" y="1014"/>
                  </a:lnTo>
                  <a:lnTo>
                    <a:pt x="4297" y="1063"/>
                  </a:lnTo>
                  <a:lnTo>
                    <a:pt x="4210" y="1113"/>
                  </a:lnTo>
                  <a:lnTo>
                    <a:pt x="4123" y="1164"/>
                  </a:lnTo>
                  <a:lnTo>
                    <a:pt x="4035" y="1216"/>
                  </a:lnTo>
                  <a:lnTo>
                    <a:pt x="3950" y="1268"/>
                  </a:lnTo>
                  <a:lnTo>
                    <a:pt x="3864" y="1323"/>
                  </a:lnTo>
                  <a:lnTo>
                    <a:pt x="3781" y="1378"/>
                  </a:lnTo>
                  <a:lnTo>
                    <a:pt x="3696" y="1434"/>
                  </a:lnTo>
                  <a:lnTo>
                    <a:pt x="3613" y="1491"/>
                  </a:lnTo>
                  <a:lnTo>
                    <a:pt x="3530" y="1549"/>
                  </a:lnTo>
                  <a:lnTo>
                    <a:pt x="3450" y="1608"/>
                  </a:lnTo>
                  <a:lnTo>
                    <a:pt x="3368" y="1668"/>
                  </a:lnTo>
                  <a:lnTo>
                    <a:pt x="3288" y="1728"/>
                  </a:lnTo>
                  <a:lnTo>
                    <a:pt x="3208" y="1790"/>
                  </a:lnTo>
                  <a:lnTo>
                    <a:pt x="3130" y="1853"/>
                  </a:lnTo>
                  <a:lnTo>
                    <a:pt x="3051" y="1916"/>
                  </a:lnTo>
                  <a:lnTo>
                    <a:pt x="2974" y="1981"/>
                  </a:lnTo>
                  <a:lnTo>
                    <a:pt x="2898" y="2047"/>
                  </a:lnTo>
                  <a:lnTo>
                    <a:pt x="2822" y="2113"/>
                  </a:lnTo>
                  <a:lnTo>
                    <a:pt x="2748" y="2180"/>
                  </a:lnTo>
                  <a:lnTo>
                    <a:pt x="2673" y="2248"/>
                  </a:lnTo>
                  <a:lnTo>
                    <a:pt x="2601" y="2317"/>
                  </a:lnTo>
                  <a:lnTo>
                    <a:pt x="2529" y="2386"/>
                  </a:lnTo>
                  <a:lnTo>
                    <a:pt x="2457" y="2457"/>
                  </a:lnTo>
                  <a:lnTo>
                    <a:pt x="2386" y="2529"/>
                  </a:lnTo>
                  <a:lnTo>
                    <a:pt x="2317" y="2601"/>
                  </a:lnTo>
                  <a:lnTo>
                    <a:pt x="2248" y="2675"/>
                  </a:lnTo>
                  <a:lnTo>
                    <a:pt x="2180" y="2748"/>
                  </a:lnTo>
                  <a:lnTo>
                    <a:pt x="2113" y="2823"/>
                  </a:lnTo>
                  <a:lnTo>
                    <a:pt x="2046" y="2898"/>
                  </a:lnTo>
                  <a:lnTo>
                    <a:pt x="1981" y="2975"/>
                  </a:lnTo>
                  <a:lnTo>
                    <a:pt x="1916" y="3051"/>
                  </a:lnTo>
                  <a:lnTo>
                    <a:pt x="1852" y="3130"/>
                  </a:lnTo>
                  <a:lnTo>
                    <a:pt x="1789" y="3208"/>
                  </a:lnTo>
                  <a:lnTo>
                    <a:pt x="1728" y="3289"/>
                  </a:lnTo>
                  <a:lnTo>
                    <a:pt x="1668" y="3368"/>
                  </a:lnTo>
                  <a:lnTo>
                    <a:pt x="1608" y="3450"/>
                  </a:lnTo>
                  <a:lnTo>
                    <a:pt x="1549" y="3530"/>
                  </a:lnTo>
                  <a:lnTo>
                    <a:pt x="1490" y="3614"/>
                  </a:lnTo>
                  <a:lnTo>
                    <a:pt x="1434" y="3696"/>
                  </a:lnTo>
                  <a:lnTo>
                    <a:pt x="1378" y="3781"/>
                  </a:lnTo>
                  <a:lnTo>
                    <a:pt x="1323" y="3864"/>
                  </a:lnTo>
                  <a:lnTo>
                    <a:pt x="1268" y="3950"/>
                  </a:lnTo>
                  <a:lnTo>
                    <a:pt x="1216" y="4036"/>
                  </a:lnTo>
                  <a:lnTo>
                    <a:pt x="1164" y="4123"/>
                  </a:lnTo>
                  <a:lnTo>
                    <a:pt x="1113" y="4211"/>
                  </a:lnTo>
                  <a:lnTo>
                    <a:pt x="1062" y="4297"/>
                  </a:lnTo>
                  <a:lnTo>
                    <a:pt x="1014" y="4386"/>
                  </a:lnTo>
                  <a:lnTo>
                    <a:pt x="966" y="4476"/>
                  </a:lnTo>
                  <a:lnTo>
                    <a:pt x="919" y="4566"/>
                  </a:lnTo>
                  <a:lnTo>
                    <a:pt x="873" y="4656"/>
                  </a:lnTo>
                  <a:lnTo>
                    <a:pt x="829" y="4747"/>
                  </a:lnTo>
                  <a:lnTo>
                    <a:pt x="785" y="4839"/>
                  </a:lnTo>
                  <a:lnTo>
                    <a:pt x="742" y="4932"/>
                  </a:lnTo>
                  <a:lnTo>
                    <a:pt x="701" y="5025"/>
                  </a:lnTo>
                  <a:lnTo>
                    <a:pt x="660" y="5119"/>
                  </a:lnTo>
                  <a:lnTo>
                    <a:pt x="622" y="5212"/>
                  </a:lnTo>
                  <a:lnTo>
                    <a:pt x="583" y="5306"/>
                  </a:lnTo>
                  <a:lnTo>
                    <a:pt x="545" y="5402"/>
                  </a:lnTo>
                  <a:lnTo>
                    <a:pt x="510" y="5498"/>
                  </a:lnTo>
                  <a:lnTo>
                    <a:pt x="475" y="5594"/>
                  </a:lnTo>
                  <a:lnTo>
                    <a:pt x="442" y="5691"/>
                  </a:lnTo>
                  <a:lnTo>
                    <a:pt x="409" y="5789"/>
                  </a:lnTo>
                  <a:lnTo>
                    <a:pt x="378" y="5887"/>
                  </a:lnTo>
                  <a:lnTo>
                    <a:pt x="347" y="5985"/>
                  </a:lnTo>
                  <a:lnTo>
                    <a:pt x="319" y="6084"/>
                  </a:lnTo>
                  <a:lnTo>
                    <a:pt x="291" y="6183"/>
                  </a:lnTo>
                  <a:lnTo>
                    <a:pt x="266" y="6285"/>
                  </a:lnTo>
                  <a:lnTo>
                    <a:pt x="240" y="6385"/>
                  </a:lnTo>
                  <a:lnTo>
                    <a:pt x="216" y="6485"/>
                  </a:lnTo>
                  <a:lnTo>
                    <a:pt x="193" y="6587"/>
                  </a:lnTo>
                  <a:lnTo>
                    <a:pt x="172" y="6688"/>
                  </a:lnTo>
                  <a:lnTo>
                    <a:pt x="151" y="6791"/>
                  </a:lnTo>
                  <a:lnTo>
                    <a:pt x="132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2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2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80" y="83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39200" y="5995080"/>
              <a:ext cx="545040" cy="510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8371" y="7691"/>
                  </a:moveTo>
                  <a:lnTo>
                    <a:pt x="8371" y="7691"/>
                  </a:lnTo>
                  <a:lnTo>
                    <a:pt x="8272" y="7691"/>
                  </a:lnTo>
                  <a:lnTo>
                    <a:pt x="8172" y="7690"/>
                  </a:lnTo>
                  <a:lnTo>
                    <a:pt x="8073" y="7687"/>
                  </a:lnTo>
                  <a:lnTo>
                    <a:pt x="7974" y="7681"/>
                  </a:lnTo>
                  <a:lnTo>
                    <a:pt x="7878" y="7676"/>
                  </a:lnTo>
                  <a:lnTo>
                    <a:pt x="7780" y="7669"/>
                  </a:lnTo>
                  <a:lnTo>
                    <a:pt x="7682" y="7661"/>
                  </a:lnTo>
                  <a:lnTo>
                    <a:pt x="7585" y="7652"/>
                  </a:lnTo>
                  <a:lnTo>
                    <a:pt x="7489" y="7642"/>
                  </a:lnTo>
                  <a:lnTo>
                    <a:pt x="7393" y="7630"/>
                  </a:lnTo>
                  <a:lnTo>
                    <a:pt x="7296" y="7617"/>
                  </a:lnTo>
                  <a:lnTo>
                    <a:pt x="7201" y="7602"/>
                  </a:lnTo>
                  <a:lnTo>
                    <a:pt x="7106" y="7588"/>
                  </a:lnTo>
                  <a:lnTo>
                    <a:pt x="7012" y="7572"/>
                  </a:lnTo>
                  <a:lnTo>
                    <a:pt x="6918" y="7554"/>
                  </a:lnTo>
                  <a:lnTo>
                    <a:pt x="6823" y="7535"/>
                  </a:lnTo>
                  <a:lnTo>
                    <a:pt x="6730" y="7515"/>
                  </a:lnTo>
                  <a:lnTo>
                    <a:pt x="6636" y="7494"/>
                  </a:lnTo>
                  <a:lnTo>
                    <a:pt x="6544" y="7472"/>
                  </a:lnTo>
                  <a:lnTo>
                    <a:pt x="6452" y="7449"/>
                  </a:lnTo>
                  <a:lnTo>
                    <a:pt x="6361" y="7424"/>
                  </a:lnTo>
                  <a:lnTo>
                    <a:pt x="6270" y="7399"/>
                  </a:lnTo>
                  <a:lnTo>
                    <a:pt x="6179" y="7373"/>
                  </a:lnTo>
                  <a:lnTo>
                    <a:pt x="6088" y="7345"/>
                  </a:lnTo>
                  <a:lnTo>
                    <a:pt x="5998" y="7316"/>
                  </a:lnTo>
                  <a:lnTo>
                    <a:pt x="5909" y="7287"/>
                  </a:lnTo>
                  <a:lnTo>
                    <a:pt x="5820" y="7256"/>
                  </a:lnTo>
                  <a:lnTo>
                    <a:pt x="5731" y="7224"/>
                  </a:lnTo>
                  <a:lnTo>
                    <a:pt x="5643" y="7191"/>
                  </a:lnTo>
                  <a:lnTo>
                    <a:pt x="5556" y="7156"/>
                  </a:lnTo>
                  <a:lnTo>
                    <a:pt x="5469" y="7123"/>
                  </a:lnTo>
                  <a:lnTo>
                    <a:pt x="5382" y="7086"/>
                  </a:lnTo>
                  <a:lnTo>
                    <a:pt x="5296" y="7048"/>
                  </a:lnTo>
                  <a:lnTo>
                    <a:pt x="5210" y="7011"/>
                  </a:lnTo>
                  <a:lnTo>
                    <a:pt x="5126" y="6972"/>
                  </a:lnTo>
                  <a:lnTo>
                    <a:pt x="5041" y="6932"/>
                  </a:lnTo>
                  <a:lnTo>
                    <a:pt x="4958" y="6890"/>
                  </a:lnTo>
                  <a:lnTo>
                    <a:pt x="4875" y="6849"/>
                  </a:lnTo>
                  <a:lnTo>
                    <a:pt x="4791" y="6806"/>
                  </a:lnTo>
                  <a:lnTo>
                    <a:pt x="4710" y="6762"/>
                  </a:lnTo>
                  <a:lnTo>
                    <a:pt x="4629" y="6717"/>
                  </a:lnTo>
                  <a:lnTo>
                    <a:pt x="4548" y="6671"/>
                  </a:lnTo>
                  <a:lnTo>
                    <a:pt x="4468" y="6624"/>
                  </a:lnTo>
                  <a:lnTo>
                    <a:pt x="4388" y="6576"/>
                  </a:lnTo>
                  <a:lnTo>
                    <a:pt x="4309" y="6526"/>
                  </a:lnTo>
                  <a:lnTo>
                    <a:pt x="4230" y="6477"/>
                  </a:lnTo>
                  <a:lnTo>
                    <a:pt x="4154" y="6427"/>
                  </a:lnTo>
                  <a:lnTo>
                    <a:pt x="4076" y="6375"/>
                  </a:lnTo>
                  <a:lnTo>
                    <a:pt x="3998" y="6323"/>
                  </a:lnTo>
                  <a:lnTo>
                    <a:pt x="3924" y="6270"/>
                  </a:lnTo>
                  <a:lnTo>
                    <a:pt x="3848" y="6217"/>
                  </a:lnTo>
                  <a:lnTo>
                    <a:pt x="3774" y="6161"/>
                  </a:lnTo>
                  <a:lnTo>
                    <a:pt x="3700" y="6105"/>
                  </a:lnTo>
                  <a:lnTo>
                    <a:pt x="3628" y="6048"/>
                  </a:lnTo>
                  <a:lnTo>
                    <a:pt x="3555" y="5990"/>
                  </a:lnTo>
                  <a:lnTo>
                    <a:pt x="3484" y="5932"/>
                  </a:lnTo>
                  <a:lnTo>
                    <a:pt x="3412" y="5872"/>
                  </a:lnTo>
                  <a:lnTo>
                    <a:pt x="3342" y="5813"/>
                  </a:lnTo>
                  <a:lnTo>
                    <a:pt x="3273" y="5752"/>
                  </a:lnTo>
                  <a:lnTo>
                    <a:pt x="3204" y="5689"/>
                  </a:lnTo>
                  <a:lnTo>
                    <a:pt x="3136" y="5627"/>
                  </a:lnTo>
                  <a:lnTo>
                    <a:pt x="3068" y="5564"/>
                  </a:lnTo>
                  <a:lnTo>
                    <a:pt x="3002" y="5499"/>
                  </a:lnTo>
                  <a:lnTo>
                    <a:pt x="2937" y="5434"/>
                  </a:lnTo>
                  <a:lnTo>
                    <a:pt x="2872" y="5369"/>
                  </a:lnTo>
                  <a:lnTo>
                    <a:pt x="2807" y="5303"/>
                  </a:lnTo>
                  <a:lnTo>
                    <a:pt x="2744" y="5235"/>
                  </a:lnTo>
                  <a:lnTo>
                    <a:pt x="2682" y="5167"/>
                  </a:lnTo>
                  <a:lnTo>
                    <a:pt x="2619" y="5098"/>
                  </a:lnTo>
                  <a:lnTo>
                    <a:pt x="2558" y="5029"/>
                  </a:lnTo>
                  <a:lnTo>
                    <a:pt x="2499" y="4959"/>
                  </a:lnTo>
                  <a:lnTo>
                    <a:pt x="2439" y="4887"/>
                  </a:lnTo>
                  <a:lnTo>
                    <a:pt x="2381" y="4816"/>
                  </a:lnTo>
                  <a:lnTo>
                    <a:pt x="2323" y="4743"/>
                  </a:lnTo>
                  <a:lnTo>
                    <a:pt x="2266" y="4671"/>
                  </a:lnTo>
                  <a:lnTo>
                    <a:pt x="2210" y="4597"/>
                  </a:lnTo>
                  <a:lnTo>
                    <a:pt x="2154" y="4523"/>
                  </a:lnTo>
                  <a:lnTo>
                    <a:pt x="2101" y="4447"/>
                  </a:lnTo>
                  <a:lnTo>
                    <a:pt x="2048" y="4373"/>
                  </a:lnTo>
                  <a:lnTo>
                    <a:pt x="1996" y="4295"/>
                  </a:lnTo>
                  <a:lnTo>
                    <a:pt x="1944" y="4217"/>
                  </a:lnTo>
                  <a:lnTo>
                    <a:pt x="1894" y="4141"/>
                  </a:lnTo>
                  <a:lnTo>
                    <a:pt x="1845" y="4062"/>
                  </a:lnTo>
                  <a:lnTo>
                    <a:pt x="1795" y="3983"/>
                  </a:lnTo>
                  <a:lnTo>
                    <a:pt x="1747" y="3903"/>
                  </a:lnTo>
                  <a:lnTo>
                    <a:pt x="1700" y="3823"/>
                  </a:lnTo>
                  <a:lnTo>
                    <a:pt x="1654" y="3742"/>
                  </a:lnTo>
                  <a:lnTo>
                    <a:pt x="1609" y="3661"/>
                  </a:lnTo>
                  <a:lnTo>
                    <a:pt x="1565" y="3580"/>
                  </a:lnTo>
                  <a:lnTo>
                    <a:pt x="1522" y="3496"/>
                  </a:lnTo>
                  <a:lnTo>
                    <a:pt x="1481" y="3413"/>
                  </a:lnTo>
                  <a:lnTo>
                    <a:pt x="1439" y="3330"/>
                  </a:lnTo>
                  <a:lnTo>
                    <a:pt x="1399" y="3245"/>
                  </a:lnTo>
                  <a:lnTo>
                    <a:pt x="1360" y="3161"/>
                  </a:lnTo>
                  <a:lnTo>
                    <a:pt x="1323" y="3075"/>
                  </a:lnTo>
                  <a:lnTo>
                    <a:pt x="1285" y="2989"/>
                  </a:lnTo>
                  <a:lnTo>
                    <a:pt x="1248" y="2902"/>
                  </a:lnTo>
                  <a:lnTo>
                    <a:pt x="1215" y="2815"/>
                  </a:lnTo>
                  <a:lnTo>
                    <a:pt x="1180" y="2728"/>
                  </a:lnTo>
                  <a:lnTo>
                    <a:pt x="1147" y="2640"/>
                  </a:lnTo>
                  <a:lnTo>
                    <a:pt x="1115" y="2551"/>
                  </a:lnTo>
                  <a:lnTo>
                    <a:pt x="1084" y="2462"/>
                  </a:lnTo>
                  <a:lnTo>
                    <a:pt x="1055" y="2373"/>
                  </a:lnTo>
                  <a:lnTo>
                    <a:pt x="1026" y="2283"/>
                  </a:lnTo>
                  <a:lnTo>
                    <a:pt x="998" y="2192"/>
                  </a:lnTo>
                  <a:lnTo>
                    <a:pt x="972" y="2101"/>
                  </a:lnTo>
                  <a:lnTo>
                    <a:pt x="947" y="2010"/>
                  </a:lnTo>
                  <a:lnTo>
                    <a:pt x="922" y="1919"/>
                  </a:lnTo>
                  <a:lnTo>
                    <a:pt x="899" y="1827"/>
                  </a:lnTo>
                  <a:lnTo>
                    <a:pt x="877" y="1735"/>
                  </a:lnTo>
                  <a:lnTo>
                    <a:pt x="856" y="1641"/>
                  </a:lnTo>
                  <a:lnTo>
                    <a:pt x="836" y="1548"/>
                  </a:lnTo>
                  <a:lnTo>
                    <a:pt x="817" y="1453"/>
                  </a:lnTo>
                  <a:lnTo>
                    <a:pt x="799" y="1359"/>
                  </a:lnTo>
                  <a:lnTo>
                    <a:pt x="783" y="1265"/>
                  </a:lnTo>
                  <a:lnTo>
                    <a:pt x="769" y="1170"/>
                  </a:lnTo>
                  <a:lnTo>
                    <a:pt x="754" y="1075"/>
                  </a:lnTo>
                  <a:lnTo>
                    <a:pt x="741" y="978"/>
                  </a:lnTo>
                  <a:lnTo>
                    <a:pt x="729" y="882"/>
                  </a:lnTo>
                  <a:lnTo>
                    <a:pt x="719" y="786"/>
                  </a:lnTo>
                  <a:lnTo>
                    <a:pt x="710" y="689"/>
                  </a:lnTo>
                  <a:lnTo>
                    <a:pt x="702" y="591"/>
                  </a:lnTo>
                  <a:lnTo>
                    <a:pt x="695" y="493"/>
                  </a:lnTo>
                  <a:lnTo>
                    <a:pt x="690" y="397"/>
                  </a:lnTo>
                  <a:lnTo>
                    <a:pt x="684" y="298"/>
                  </a:lnTo>
                  <a:lnTo>
                    <a:pt x="681" y="199"/>
                  </a:lnTo>
                  <a:lnTo>
                    <a:pt x="680" y="99"/>
                  </a:lnTo>
                  <a:lnTo>
                    <a:pt x="680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2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2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2" y="1479"/>
                  </a:lnTo>
                  <a:lnTo>
                    <a:pt x="151" y="1581"/>
                  </a:lnTo>
                  <a:lnTo>
                    <a:pt x="172" y="1683"/>
                  </a:lnTo>
                  <a:lnTo>
                    <a:pt x="193" y="1784"/>
                  </a:lnTo>
                  <a:lnTo>
                    <a:pt x="216" y="1886"/>
                  </a:lnTo>
                  <a:lnTo>
                    <a:pt x="240" y="1987"/>
                  </a:lnTo>
                  <a:lnTo>
                    <a:pt x="266" y="2086"/>
                  </a:lnTo>
                  <a:lnTo>
                    <a:pt x="291" y="2188"/>
                  </a:lnTo>
                  <a:lnTo>
                    <a:pt x="319" y="2287"/>
                  </a:lnTo>
                  <a:lnTo>
                    <a:pt x="347" y="2387"/>
                  </a:lnTo>
                  <a:lnTo>
                    <a:pt x="378" y="2485"/>
                  </a:lnTo>
                  <a:lnTo>
                    <a:pt x="409" y="2582"/>
                  </a:lnTo>
                  <a:lnTo>
                    <a:pt x="442" y="2680"/>
                  </a:lnTo>
                  <a:lnTo>
                    <a:pt x="475" y="2777"/>
                  </a:lnTo>
                  <a:lnTo>
                    <a:pt x="510" y="2873"/>
                  </a:lnTo>
                  <a:lnTo>
                    <a:pt x="545" y="2970"/>
                  </a:lnTo>
                  <a:lnTo>
                    <a:pt x="583" y="3065"/>
                  </a:lnTo>
                  <a:lnTo>
                    <a:pt x="622" y="3160"/>
                  </a:lnTo>
                  <a:lnTo>
                    <a:pt x="660" y="3252"/>
                  </a:lnTo>
                  <a:lnTo>
                    <a:pt x="701" y="3346"/>
                  </a:lnTo>
                  <a:lnTo>
                    <a:pt x="742" y="3439"/>
                  </a:lnTo>
                  <a:lnTo>
                    <a:pt x="785" y="3533"/>
                  </a:lnTo>
                  <a:lnTo>
                    <a:pt x="829" y="3624"/>
                  </a:lnTo>
                  <a:lnTo>
                    <a:pt x="873" y="3716"/>
                  </a:lnTo>
                  <a:lnTo>
                    <a:pt x="919" y="3807"/>
                  </a:lnTo>
                  <a:lnTo>
                    <a:pt x="966" y="3896"/>
                  </a:lnTo>
                  <a:lnTo>
                    <a:pt x="1014" y="3985"/>
                  </a:lnTo>
                  <a:lnTo>
                    <a:pt x="1062" y="4074"/>
                  </a:lnTo>
                  <a:lnTo>
                    <a:pt x="1113" y="4161"/>
                  </a:lnTo>
                  <a:lnTo>
                    <a:pt x="1164" y="4248"/>
                  </a:lnTo>
                  <a:lnTo>
                    <a:pt x="1216" y="4336"/>
                  </a:lnTo>
                  <a:lnTo>
                    <a:pt x="1268" y="4421"/>
                  </a:lnTo>
                  <a:lnTo>
                    <a:pt x="1323" y="4507"/>
                  </a:lnTo>
                  <a:lnTo>
                    <a:pt x="1378" y="4591"/>
                  </a:lnTo>
                  <a:lnTo>
                    <a:pt x="1434" y="4675"/>
                  </a:lnTo>
                  <a:lnTo>
                    <a:pt x="1490" y="4758"/>
                  </a:lnTo>
                  <a:lnTo>
                    <a:pt x="1549" y="4841"/>
                  </a:lnTo>
                  <a:lnTo>
                    <a:pt x="1608" y="4921"/>
                  </a:lnTo>
                  <a:lnTo>
                    <a:pt x="1668" y="5003"/>
                  </a:lnTo>
                  <a:lnTo>
                    <a:pt x="1728" y="5083"/>
                  </a:lnTo>
                  <a:lnTo>
                    <a:pt x="1789" y="5163"/>
                  </a:lnTo>
                  <a:lnTo>
                    <a:pt x="1852" y="5241"/>
                  </a:lnTo>
                  <a:lnTo>
                    <a:pt x="1916" y="5320"/>
                  </a:lnTo>
                  <a:lnTo>
                    <a:pt x="1981" y="5397"/>
                  </a:lnTo>
                  <a:lnTo>
                    <a:pt x="2046" y="5473"/>
                  </a:lnTo>
                  <a:lnTo>
                    <a:pt x="2113" y="5549"/>
                  </a:lnTo>
                  <a:lnTo>
                    <a:pt x="2180" y="5623"/>
                  </a:lnTo>
                  <a:lnTo>
                    <a:pt x="2248" y="5698"/>
                  </a:lnTo>
                  <a:lnTo>
                    <a:pt x="2317" y="5770"/>
                  </a:lnTo>
                  <a:lnTo>
                    <a:pt x="2386" y="5842"/>
                  </a:lnTo>
                  <a:lnTo>
                    <a:pt x="2457" y="5914"/>
                  </a:lnTo>
                  <a:lnTo>
                    <a:pt x="2529" y="5985"/>
                  </a:lnTo>
                  <a:lnTo>
                    <a:pt x="2601" y="6054"/>
                  </a:lnTo>
                  <a:lnTo>
                    <a:pt x="2673" y="6123"/>
                  </a:lnTo>
                  <a:lnTo>
                    <a:pt x="2748" y="6191"/>
                  </a:lnTo>
                  <a:lnTo>
                    <a:pt x="2822" y="6258"/>
                  </a:lnTo>
                  <a:lnTo>
                    <a:pt x="2898" y="6325"/>
                  </a:lnTo>
                  <a:lnTo>
                    <a:pt x="2974" y="6390"/>
                  </a:lnTo>
                  <a:lnTo>
                    <a:pt x="3051" y="6455"/>
                  </a:lnTo>
                  <a:lnTo>
                    <a:pt x="3130" y="6519"/>
                  </a:lnTo>
                  <a:lnTo>
                    <a:pt x="3208" y="6582"/>
                  </a:lnTo>
                  <a:lnTo>
                    <a:pt x="3288" y="6643"/>
                  </a:lnTo>
                  <a:lnTo>
                    <a:pt x="3368" y="6703"/>
                  </a:lnTo>
                  <a:lnTo>
                    <a:pt x="3450" y="6763"/>
                  </a:lnTo>
                  <a:lnTo>
                    <a:pt x="3530" y="6822"/>
                  </a:lnTo>
                  <a:lnTo>
                    <a:pt x="3613" y="6881"/>
                  </a:lnTo>
                  <a:lnTo>
                    <a:pt x="3696" y="6937"/>
                  </a:lnTo>
                  <a:lnTo>
                    <a:pt x="3780" y="6993"/>
                  </a:lnTo>
                  <a:lnTo>
                    <a:pt x="3864" y="7048"/>
                  </a:lnTo>
                  <a:lnTo>
                    <a:pt x="3950" y="7103"/>
                  </a:lnTo>
                  <a:lnTo>
                    <a:pt x="4035" y="7155"/>
                  </a:lnTo>
                  <a:lnTo>
                    <a:pt x="4123" y="7207"/>
                  </a:lnTo>
                  <a:lnTo>
                    <a:pt x="4210" y="7258"/>
                  </a:lnTo>
                  <a:lnTo>
                    <a:pt x="4297" y="7309"/>
                  </a:lnTo>
                  <a:lnTo>
                    <a:pt x="4386" y="7357"/>
                  </a:lnTo>
                  <a:lnTo>
                    <a:pt x="4475" y="7405"/>
                  </a:lnTo>
                  <a:lnTo>
                    <a:pt x="4564" y="7452"/>
                  </a:lnTo>
                  <a:lnTo>
                    <a:pt x="4655" y="7498"/>
                  </a:lnTo>
                  <a:lnTo>
                    <a:pt x="4747" y="7542"/>
                  </a:lnTo>
                  <a:lnTo>
                    <a:pt x="4838" y="7586"/>
                  </a:lnTo>
                  <a:lnTo>
                    <a:pt x="4932" y="7629"/>
                  </a:lnTo>
                  <a:lnTo>
                    <a:pt x="5025" y="7670"/>
                  </a:lnTo>
                  <a:lnTo>
                    <a:pt x="5119" y="7711"/>
                  </a:lnTo>
                  <a:lnTo>
                    <a:pt x="5211" y="7749"/>
                  </a:lnTo>
                  <a:lnTo>
                    <a:pt x="5306" y="7788"/>
                  </a:lnTo>
                  <a:lnTo>
                    <a:pt x="5401" y="7826"/>
                  </a:lnTo>
                  <a:lnTo>
                    <a:pt x="5498" y="7861"/>
                  </a:lnTo>
                  <a:lnTo>
                    <a:pt x="5594" y="7896"/>
                  </a:lnTo>
                  <a:lnTo>
                    <a:pt x="5691" y="7929"/>
                  </a:lnTo>
                  <a:lnTo>
                    <a:pt x="5789" y="7962"/>
                  </a:lnTo>
                  <a:lnTo>
                    <a:pt x="5886" y="7993"/>
                  </a:lnTo>
                  <a:lnTo>
                    <a:pt x="5984" y="8024"/>
                  </a:lnTo>
                  <a:lnTo>
                    <a:pt x="6084" y="8052"/>
                  </a:lnTo>
                  <a:lnTo>
                    <a:pt x="6183" y="8080"/>
                  </a:lnTo>
                  <a:lnTo>
                    <a:pt x="6285" y="8105"/>
                  </a:lnTo>
                  <a:lnTo>
                    <a:pt x="6384" y="8131"/>
                  </a:lnTo>
                  <a:lnTo>
                    <a:pt x="6485" y="8155"/>
                  </a:lnTo>
                  <a:lnTo>
                    <a:pt x="6587" y="8178"/>
                  </a:lnTo>
                  <a:lnTo>
                    <a:pt x="6688" y="8199"/>
                  </a:lnTo>
                  <a:lnTo>
                    <a:pt x="6790" y="8220"/>
                  </a:lnTo>
                  <a:lnTo>
                    <a:pt x="6892" y="8239"/>
                  </a:lnTo>
                  <a:lnTo>
                    <a:pt x="6997" y="8257"/>
                  </a:lnTo>
                  <a:lnTo>
                    <a:pt x="7100" y="8275"/>
                  </a:lnTo>
                  <a:lnTo>
                    <a:pt x="7204" y="8289"/>
                  </a:lnTo>
                  <a:lnTo>
                    <a:pt x="7308" y="8302"/>
                  </a:lnTo>
                  <a:lnTo>
                    <a:pt x="7413" y="8316"/>
                  </a:lnTo>
                  <a:lnTo>
                    <a:pt x="7518" y="8327"/>
                  </a:lnTo>
                  <a:lnTo>
                    <a:pt x="7624" y="8338"/>
                  </a:lnTo>
                  <a:lnTo>
                    <a:pt x="7730" y="8346"/>
                  </a:lnTo>
                  <a:lnTo>
                    <a:pt x="7835" y="8353"/>
                  </a:lnTo>
                  <a:lnTo>
                    <a:pt x="7943" y="8359"/>
                  </a:lnTo>
                  <a:lnTo>
                    <a:pt x="8050" y="8364"/>
                  </a:lnTo>
                  <a:lnTo>
                    <a:pt x="8156" y="8367"/>
                  </a:lnTo>
                  <a:lnTo>
                    <a:pt x="8263" y="8370"/>
                  </a:lnTo>
                  <a:lnTo>
                    <a:pt x="8371" y="8371"/>
                  </a:lnTo>
                  <a:lnTo>
                    <a:pt x="8371" y="8371"/>
                  </a:lnTo>
                  <a:lnTo>
                    <a:pt x="8371" y="769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84240" y="5995080"/>
              <a:ext cx="543600" cy="510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7691" y="0"/>
                  </a:moveTo>
                  <a:lnTo>
                    <a:pt x="7691" y="0"/>
                  </a:lnTo>
                  <a:lnTo>
                    <a:pt x="7690" y="99"/>
                  </a:lnTo>
                  <a:lnTo>
                    <a:pt x="7690" y="199"/>
                  </a:lnTo>
                  <a:lnTo>
                    <a:pt x="7687" y="298"/>
                  </a:lnTo>
                  <a:lnTo>
                    <a:pt x="7681" y="397"/>
                  </a:lnTo>
                  <a:lnTo>
                    <a:pt x="7676" y="493"/>
                  </a:lnTo>
                  <a:lnTo>
                    <a:pt x="7669" y="591"/>
                  </a:lnTo>
                  <a:lnTo>
                    <a:pt x="7661" y="689"/>
                  </a:lnTo>
                  <a:lnTo>
                    <a:pt x="7652" y="785"/>
                  </a:lnTo>
                  <a:lnTo>
                    <a:pt x="7641" y="882"/>
                  </a:lnTo>
                  <a:lnTo>
                    <a:pt x="7630" y="978"/>
                  </a:lnTo>
                  <a:lnTo>
                    <a:pt x="7617" y="1075"/>
                  </a:lnTo>
                  <a:lnTo>
                    <a:pt x="7602" y="1170"/>
                  </a:lnTo>
                  <a:lnTo>
                    <a:pt x="7587" y="1264"/>
                  </a:lnTo>
                  <a:lnTo>
                    <a:pt x="7571" y="1359"/>
                  </a:lnTo>
                  <a:lnTo>
                    <a:pt x="7554" y="1453"/>
                  </a:lnTo>
                  <a:lnTo>
                    <a:pt x="7535" y="1548"/>
                  </a:lnTo>
                  <a:lnTo>
                    <a:pt x="7514" y="1641"/>
                  </a:lnTo>
                  <a:lnTo>
                    <a:pt x="7494" y="1735"/>
                  </a:lnTo>
                  <a:lnTo>
                    <a:pt x="7472" y="1827"/>
                  </a:lnTo>
                  <a:lnTo>
                    <a:pt x="7449" y="1919"/>
                  </a:lnTo>
                  <a:lnTo>
                    <a:pt x="7424" y="2010"/>
                  </a:lnTo>
                  <a:lnTo>
                    <a:pt x="7399" y="2101"/>
                  </a:lnTo>
                  <a:lnTo>
                    <a:pt x="7372" y="2192"/>
                  </a:lnTo>
                  <a:lnTo>
                    <a:pt x="7345" y="2283"/>
                  </a:lnTo>
                  <a:lnTo>
                    <a:pt x="7316" y="2373"/>
                  </a:lnTo>
                  <a:lnTo>
                    <a:pt x="7286" y="2462"/>
                  </a:lnTo>
                  <a:lnTo>
                    <a:pt x="7256" y="2551"/>
                  </a:lnTo>
                  <a:lnTo>
                    <a:pt x="7223" y="2640"/>
                  </a:lnTo>
                  <a:lnTo>
                    <a:pt x="7191" y="2728"/>
                  </a:lnTo>
                  <a:lnTo>
                    <a:pt x="7156" y="2815"/>
                  </a:lnTo>
                  <a:lnTo>
                    <a:pt x="7123" y="2902"/>
                  </a:lnTo>
                  <a:lnTo>
                    <a:pt x="7086" y="2989"/>
                  </a:lnTo>
                  <a:lnTo>
                    <a:pt x="7048" y="3075"/>
                  </a:lnTo>
                  <a:lnTo>
                    <a:pt x="7010" y="3161"/>
                  </a:lnTo>
                  <a:lnTo>
                    <a:pt x="6972" y="3245"/>
                  </a:lnTo>
                  <a:lnTo>
                    <a:pt x="6931" y="3330"/>
                  </a:lnTo>
                  <a:lnTo>
                    <a:pt x="6889" y="3413"/>
                  </a:lnTo>
                  <a:lnTo>
                    <a:pt x="6849" y="3497"/>
                  </a:lnTo>
                  <a:lnTo>
                    <a:pt x="6805" y="3580"/>
                  </a:lnTo>
                  <a:lnTo>
                    <a:pt x="6762" y="3661"/>
                  </a:lnTo>
                  <a:lnTo>
                    <a:pt x="6716" y="3742"/>
                  </a:lnTo>
                  <a:lnTo>
                    <a:pt x="6671" y="3823"/>
                  </a:lnTo>
                  <a:lnTo>
                    <a:pt x="6624" y="3903"/>
                  </a:lnTo>
                  <a:lnTo>
                    <a:pt x="6575" y="3983"/>
                  </a:lnTo>
                  <a:lnTo>
                    <a:pt x="6526" y="4062"/>
                  </a:lnTo>
                  <a:lnTo>
                    <a:pt x="6477" y="4141"/>
                  </a:lnTo>
                  <a:lnTo>
                    <a:pt x="6427" y="4219"/>
                  </a:lnTo>
                  <a:lnTo>
                    <a:pt x="6375" y="4295"/>
                  </a:lnTo>
                  <a:lnTo>
                    <a:pt x="6322" y="4373"/>
                  </a:lnTo>
                  <a:lnTo>
                    <a:pt x="6270" y="4447"/>
                  </a:lnTo>
                  <a:lnTo>
                    <a:pt x="6215" y="4523"/>
                  </a:lnTo>
                  <a:lnTo>
                    <a:pt x="6161" y="4597"/>
                  </a:lnTo>
                  <a:lnTo>
                    <a:pt x="6104" y="4671"/>
                  </a:lnTo>
                  <a:lnTo>
                    <a:pt x="6047" y="4743"/>
                  </a:lnTo>
                  <a:lnTo>
                    <a:pt x="5989" y="4816"/>
                  </a:lnTo>
                  <a:lnTo>
                    <a:pt x="5932" y="4887"/>
                  </a:lnTo>
                  <a:lnTo>
                    <a:pt x="5872" y="4959"/>
                  </a:lnTo>
                  <a:lnTo>
                    <a:pt x="5813" y="5029"/>
                  </a:lnTo>
                  <a:lnTo>
                    <a:pt x="5751" y="5098"/>
                  </a:lnTo>
                  <a:lnTo>
                    <a:pt x="5689" y="5167"/>
                  </a:lnTo>
                  <a:lnTo>
                    <a:pt x="5626" y="5235"/>
                  </a:lnTo>
                  <a:lnTo>
                    <a:pt x="5564" y="5303"/>
                  </a:lnTo>
                  <a:lnTo>
                    <a:pt x="5499" y="5369"/>
                  </a:lnTo>
                  <a:lnTo>
                    <a:pt x="5434" y="5434"/>
                  </a:lnTo>
                  <a:lnTo>
                    <a:pt x="5369" y="5499"/>
                  </a:lnTo>
                  <a:lnTo>
                    <a:pt x="5302" y="5564"/>
                  </a:lnTo>
                  <a:lnTo>
                    <a:pt x="5235" y="5627"/>
                  </a:lnTo>
                  <a:lnTo>
                    <a:pt x="5167" y="5689"/>
                  </a:lnTo>
                  <a:lnTo>
                    <a:pt x="5099" y="5752"/>
                  </a:lnTo>
                  <a:lnTo>
                    <a:pt x="5029" y="5813"/>
                  </a:lnTo>
                  <a:lnTo>
                    <a:pt x="4958" y="5872"/>
                  </a:lnTo>
                  <a:lnTo>
                    <a:pt x="4887" y="5932"/>
                  </a:lnTo>
                  <a:lnTo>
                    <a:pt x="4816" y="5990"/>
                  </a:lnTo>
                  <a:lnTo>
                    <a:pt x="4743" y="6048"/>
                  </a:lnTo>
                  <a:lnTo>
                    <a:pt x="4671" y="6105"/>
                  </a:lnTo>
                  <a:lnTo>
                    <a:pt x="4597" y="6161"/>
                  </a:lnTo>
                  <a:lnTo>
                    <a:pt x="4522" y="6217"/>
                  </a:lnTo>
                  <a:lnTo>
                    <a:pt x="4447" y="6270"/>
                  </a:lnTo>
                  <a:lnTo>
                    <a:pt x="4372" y="6323"/>
                  </a:lnTo>
                  <a:lnTo>
                    <a:pt x="4295" y="6375"/>
                  </a:lnTo>
                  <a:lnTo>
                    <a:pt x="4218" y="6427"/>
                  </a:lnTo>
                  <a:lnTo>
                    <a:pt x="4139" y="6477"/>
                  </a:lnTo>
                  <a:lnTo>
                    <a:pt x="4062" y="6526"/>
                  </a:lnTo>
                  <a:lnTo>
                    <a:pt x="3983" y="6576"/>
                  </a:lnTo>
                  <a:lnTo>
                    <a:pt x="3903" y="6624"/>
                  </a:lnTo>
                  <a:lnTo>
                    <a:pt x="3823" y="6671"/>
                  </a:lnTo>
                  <a:lnTo>
                    <a:pt x="3742" y="6717"/>
                  </a:lnTo>
                  <a:lnTo>
                    <a:pt x="3660" y="6762"/>
                  </a:lnTo>
                  <a:lnTo>
                    <a:pt x="3579" y="6806"/>
                  </a:lnTo>
                  <a:lnTo>
                    <a:pt x="3497" y="6849"/>
                  </a:lnTo>
                  <a:lnTo>
                    <a:pt x="3412" y="6890"/>
                  </a:lnTo>
                  <a:lnTo>
                    <a:pt x="3329" y="6932"/>
                  </a:lnTo>
                  <a:lnTo>
                    <a:pt x="3245" y="6972"/>
                  </a:lnTo>
                  <a:lnTo>
                    <a:pt x="3160" y="7011"/>
                  </a:lnTo>
                  <a:lnTo>
                    <a:pt x="3075" y="7048"/>
                  </a:lnTo>
                  <a:lnTo>
                    <a:pt x="2989" y="7086"/>
                  </a:lnTo>
                  <a:lnTo>
                    <a:pt x="2902" y="7123"/>
                  </a:lnTo>
                  <a:lnTo>
                    <a:pt x="2815" y="7156"/>
                  </a:lnTo>
                  <a:lnTo>
                    <a:pt x="2727" y="7191"/>
                  </a:lnTo>
                  <a:lnTo>
                    <a:pt x="2639" y="7224"/>
                  </a:lnTo>
                  <a:lnTo>
                    <a:pt x="2551" y="7256"/>
                  </a:lnTo>
                  <a:lnTo>
                    <a:pt x="2462" y="7287"/>
                  </a:lnTo>
                  <a:lnTo>
                    <a:pt x="2372" y="7316"/>
                  </a:lnTo>
                  <a:lnTo>
                    <a:pt x="2282" y="7345"/>
                  </a:lnTo>
                  <a:lnTo>
                    <a:pt x="2192" y="7373"/>
                  </a:lnTo>
                  <a:lnTo>
                    <a:pt x="2101" y="7399"/>
                  </a:lnTo>
                  <a:lnTo>
                    <a:pt x="2010" y="7424"/>
                  </a:lnTo>
                  <a:lnTo>
                    <a:pt x="1919" y="7449"/>
                  </a:lnTo>
                  <a:lnTo>
                    <a:pt x="1827" y="7472"/>
                  </a:lnTo>
                  <a:lnTo>
                    <a:pt x="1734" y="7494"/>
                  </a:lnTo>
                  <a:lnTo>
                    <a:pt x="1641" y="7515"/>
                  </a:lnTo>
                  <a:lnTo>
                    <a:pt x="1548" y="7535"/>
                  </a:lnTo>
                  <a:lnTo>
                    <a:pt x="1453" y="7554"/>
                  </a:lnTo>
                  <a:lnTo>
                    <a:pt x="1358" y="7572"/>
                  </a:lnTo>
                  <a:lnTo>
                    <a:pt x="1265" y="7588"/>
                  </a:lnTo>
                  <a:lnTo>
                    <a:pt x="1170" y="7602"/>
                  </a:lnTo>
                  <a:lnTo>
                    <a:pt x="1074" y="7617"/>
                  </a:lnTo>
                  <a:lnTo>
                    <a:pt x="977" y="7630"/>
                  </a:lnTo>
                  <a:lnTo>
                    <a:pt x="881" y="7642"/>
                  </a:lnTo>
                  <a:lnTo>
                    <a:pt x="786" y="7652"/>
                  </a:lnTo>
                  <a:lnTo>
                    <a:pt x="689" y="7661"/>
                  </a:lnTo>
                  <a:lnTo>
                    <a:pt x="591" y="7669"/>
                  </a:lnTo>
                  <a:lnTo>
                    <a:pt x="493" y="7676"/>
                  </a:lnTo>
                  <a:lnTo>
                    <a:pt x="397" y="7681"/>
                  </a:lnTo>
                  <a:lnTo>
                    <a:pt x="297" y="7687"/>
                  </a:lnTo>
                  <a:lnTo>
                    <a:pt x="199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8" y="8370"/>
                  </a:lnTo>
                  <a:lnTo>
                    <a:pt x="215" y="8367"/>
                  </a:lnTo>
                  <a:lnTo>
                    <a:pt x="321" y="8364"/>
                  </a:lnTo>
                  <a:lnTo>
                    <a:pt x="428" y="8359"/>
                  </a:lnTo>
                  <a:lnTo>
                    <a:pt x="536" y="8353"/>
                  </a:lnTo>
                  <a:lnTo>
                    <a:pt x="641" y="8346"/>
                  </a:lnTo>
                  <a:lnTo>
                    <a:pt x="747" y="8338"/>
                  </a:lnTo>
                  <a:lnTo>
                    <a:pt x="852" y="8327"/>
                  </a:lnTo>
                  <a:lnTo>
                    <a:pt x="958" y="8316"/>
                  </a:lnTo>
                  <a:lnTo>
                    <a:pt x="1063" y="8302"/>
                  </a:lnTo>
                  <a:lnTo>
                    <a:pt x="1167" y="8289"/>
                  </a:lnTo>
                  <a:lnTo>
                    <a:pt x="1270" y="8275"/>
                  </a:lnTo>
                  <a:lnTo>
                    <a:pt x="1374" y="8257"/>
                  </a:lnTo>
                  <a:lnTo>
                    <a:pt x="1479" y="8239"/>
                  </a:lnTo>
                  <a:lnTo>
                    <a:pt x="1580" y="8220"/>
                  </a:lnTo>
                  <a:lnTo>
                    <a:pt x="1683" y="8199"/>
                  </a:lnTo>
                  <a:lnTo>
                    <a:pt x="1784" y="8178"/>
                  </a:lnTo>
                  <a:lnTo>
                    <a:pt x="1886" y="8155"/>
                  </a:lnTo>
                  <a:lnTo>
                    <a:pt x="1986" y="8131"/>
                  </a:lnTo>
                  <a:lnTo>
                    <a:pt x="2086" y="8105"/>
                  </a:lnTo>
                  <a:lnTo>
                    <a:pt x="2188" y="8080"/>
                  </a:lnTo>
                  <a:lnTo>
                    <a:pt x="2287" y="8052"/>
                  </a:lnTo>
                  <a:lnTo>
                    <a:pt x="2386" y="8024"/>
                  </a:lnTo>
                  <a:lnTo>
                    <a:pt x="2484" y="7993"/>
                  </a:lnTo>
                  <a:lnTo>
                    <a:pt x="2582" y="7962"/>
                  </a:lnTo>
                  <a:lnTo>
                    <a:pt x="2680" y="7929"/>
                  </a:lnTo>
                  <a:lnTo>
                    <a:pt x="2777" y="7896"/>
                  </a:lnTo>
                  <a:lnTo>
                    <a:pt x="2873" y="7861"/>
                  </a:lnTo>
                  <a:lnTo>
                    <a:pt x="2969" y="7826"/>
                  </a:lnTo>
                  <a:lnTo>
                    <a:pt x="3065" y="7788"/>
                  </a:lnTo>
                  <a:lnTo>
                    <a:pt x="3159" y="7749"/>
                  </a:lnTo>
                  <a:lnTo>
                    <a:pt x="3252" y="7711"/>
                  </a:lnTo>
                  <a:lnTo>
                    <a:pt x="3346" y="7670"/>
                  </a:lnTo>
                  <a:lnTo>
                    <a:pt x="3439" y="7629"/>
                  </a:lnTo>
                  <a:lnTo>
                    <a:pt x="3532" y="7586"/>
                  </a:lnTo>
                  <a:lnTo>
                    <a:pt x="3624" y="7542"/>
                  </a:lnTo>
                  <a:lnTo>
                    <a:pt x="3715" y="7498"/>
                  </a:lnTo>
                  <a:lnTo>
                    <a:pt x="3805" y="7452"/>
                  </a:lnTo>
                  <a:lnTo>
                    <a:pt x="3895" y="7405"/>
                  </a:lnTo>
                  <a:lnTo>
                    <a:pt x="3985" y="7357"/>
                  </a:lnTo>
                  <a:lnTo>
                    <a:pt x="4074" y="7309"/>
                  </a:lnTo>
                  <a:lnTo>
                    <a:pt x="4160" y="7258"/>
                  </a:lnTo>
                  <a:lnTo>
                    <a:pt x="4248" y="7207"/>
                  </a:lnTo>
                  <a:lnTo>
                    <a:pt x="4335" y="7155"/>
                  </a:lnTo>
                  <a:lnTo>
                    <a:pt x="4421" y="7103"/>
                  </a:lnTo>
                  <a:lnTo>
                    <a:pt x="4507" y="7048"/>
                  </a:lnTo>
                  <a:lnTo>
                    <a:pt x="4590" y="6993"/>
                  </a:lnTo>
                  <a:lnTo>
                    <a:pt x="4675" y="6937"/>
                  </a:lnTo>
                  <a:lnTo>
                    <a:pt x="4757" y="6881"/>
                  </a:lnTo>
                  <a:lnTo>
                    <a:pt x="4841" y="6822"/>
                  </a:lnTo>
                  <a:lnTo>
                    <a:pt x="4921" y="6763"/>
                  </a:lnTo>
                  <a:lnTo>
                    <a:pt x="5003" y="6703"/>
                  </a:lnTo>
                  <a:lnTo>
                    <a:pt x="5082" y="6643"/>
                  </a:lnTo>
                  <a:lnTo>
                    <a:pt x="5163" y="6582"/>
                  </a:lnTo>
                  <a:lnTo>
                    <a:pt x="5241" y="6519"/>
                  </a:lnTo>
                  <a:lnTo>
                    <a:pt x="5320" y="6455"/>
                  </a:lnTo>
                  <a:lnTo>
                    <a:pt x="5396" y="6390"/>
                  </a:lnTo>
                  <a:lnTo>
                    <a:pt x="5473" y="6325"/>
                  </a:lnTo>
                  <a:lnTo>
                    <a:pt x="5548" y="6258"/>
                  </a:lnTo>
                  <a:lnTo>
                    <a:pt x="5623" y="6191"/>
                  </a:lnTo>
                  <a:lnTo>
                    <a:pt x="5696" y="6123"/>
                  </a:lnTo>
                  <a:lnTo>
                    <a:pt x="5770" y="6054"/>
                  </a:lnTo>
                  <a:lnTo>
                    <a:pt x="5842" y="5985"/>
                  </a:lnTo>
                  <a:lnTo>
                    <a:pt x="5914" y="5914"/>
                  </a:lnTo>
                  <a:lnTo>
                    <a:pt x="5985" y="5842"/>
                  </a:lnTo>
                  <a:lnTo>
                    <a:pt x="6054" y="5770"/>
                  </a:lnTo>
                  <a:lnTo>
                    <a:pt x="6123" y="5698"/>
                  </a:lnTo>
                  <a:lnTo>
                    <a:pt x="6191" y="5623"/>
                  </a:lnTo>
                  <a:lnTo>
                    <a:pt x="6258" y="5549"/>
                  </a:lnTo>
                  <a:lnTo>
                    <a:pt x="6324" y="5473"/>
                  </a:lnTo>
                  <a:lnTo>
                    <a:pt x="6390" y="5397"/>
                  </a:lnTo>
                  <a:lnTo>
                    <a:pt x="6455" y="5320"/>
                  </a:lnTo>
                  <a:lnTo>
                    <a:pt x="6518" y="5241"/>
                  </a:lnTo>
                  <a:lnTo>
                    <a:pt x="6581" y="5163"/>
                  </a:lnTo>
                  <a:lnTo>
                    <a:pt x="6643" y="5083"/>
                  </a:lnTo>
                  <a:lnTo>
                    <a:pt x="6703" y="5003"/>
                  </a:lnTo>
                  <a:lnTo>
                    <a:pt x="6763" y="4921"/>
                  </a:lnTo>
                  <a:lnTo>
                    <a:pt x="6822" y="4841"/>
                  </a:lnTo>
                  <a:lnTo>
                    <a:pt x="6880" y="4758"/>
                  </a:lnTo>
                  <a:lnTo>
                    <a:pt x="6937" y="4675"/>
                  </a:lnTo>
                  <a:lnTo>
                    <a:pt x="6993" y="4590"/>
                  </a:lnTo>
                  <a:lnTo>
                    <a:pt x="7048" y="4507"/>
                  </a:lnTo>
                  <a:lnTo>
                    <a:pt x="7103" y="4421"/>
                  </a:lnTo>
                  <a:lnTo>
                    <a:pt x="7155" y="4336"/>
                  </a:lnTo>
                  <a:lnTo>
                    <a:pt x="7207" y="4248"/>
                  </a:lnTo>
                  <a:lnTo>
                    <a:pt x="7258" y="4161"/>
                  </a:lnTo>
                  <a:lnTo>
                    <a:pt x="7308" y="4074"/>
                  </a:lnTo>
                  <a:lnTo>
                    <a:pt x="7357" y="3985"/>
                  </a:lnTo>
                  <a:lnTo>
                    <a:pt x="7405" y="3896"/>
                  </a:lnTo>
                  <a:lnTo>
                    <a:pt x="7451" y="3805"/>
                  </a:lnTo>
                  <a:lnTo>
                    <a:pt x="7498" y="3716"/>
                  </a:lnTo>
                  <a:lnTo>
                    <a:pt x="7542" y="3624"/>
                  </a:lnTo>
                  <a:lnTo>
                    <a:pt x="7585" y="3533"/>
                  </a:lnTo>
                  <a:lnTo>
                    <a:pt x="7629" y="3439"/>
                  </a:lnTo>
                  <a:lnTo>
                    <a:pt x="7670" y="3346"/>
                  </a:lnTo>
                  <a:lnTo>
                    <a:pt x="7710" y="3252"/>
                  </a:lnTo>
                  <a:lnTo>
                    <a:pt x="7749" y="3160"/>
                  </a:lnTo>
                  <a:lnTo>
                    <a:pt x="7788" y="3065"/>
                  </a:lnTo>
                  <a:lnTo>
                    <a:pt x="7825" y="2970"/>
                  </a:lnTo>
                  <a:lnTo>
                    <a:pt x="7861" y="2873"/>
                  </a:lnTo>
                  <a:lnTo>
                    <a:pt x="7896" y="2777"/>
                  </a:lnTo>
                  <a:lnTo>
                    <a:pt x="7929" y="2680"/>
                  </a:lnTo>
                  <a:lnTo>
                    <a:pt x="7962" y="2582"/>
                  </a:lnTo>
                  <a:lnTo>
                    <a:pt x="7993" y="2485"/>
                  </a:lnTo>
                  <a:lnTo>
                    <a:pt x="8023" y="2387"/>
                  </a:lnTo>
                  <a:lnTo>
                    <a:pt x="8052" y="2287"/>
                  </a:lnTo>
                  <a:lnTo>
                    <a:pt x="8080" y="2188"/>
                  </a:lnTo>
                  <a:lnTo>
                    <a:pt x="8105" y="2086"/>
                  </a:lnTo>
                  <a:lnTo>
                    <a:pt x="8130" y="1987"/>
                  </a:lnTo>
                  <a:lnTo>
                    <a:pt x="8155" y="1886"/>
                  </a:lnTo>
                  <a:lnTo>
                    <a:pt x="8178" y="1784"/>
                  </a:lnTo>
                  <a:lnTo>
                    <a:pt x="8199" y="1683"/>
                  </a:lnTo>
                  <a:lnTo>
                    <a:pt x="8220" y="1581"/>
                  </a:lnTo>
                  <a:lnTo>
                    <a:pt x="8240" y="1479"/>
                  </a:lnTo>
                  <a:lnTo>
                    <a:pt x="8257" y="1376"/>
                  </a:lnTo>
                  <a:lnTo>
                    <a:pt x="8274" y="1271"/>
                  </a:lnTo>
                  <a:lnTo>
                    <a:pt x="8288" y="1167"/>
                  </a:lnTo>
                  <a:lnTo>
                    <a:pt x="8302" y="1063"/>
                  </a:lnTo>
                  <a:lnTo>
                    <a:pt x="8316" y="958"/>
                  </a:lnTo>
                  <a:lnTo>
                    <a:pt x="8327" y="854"/>
                  </a:lnTo>
                  <a:lnTo>
                    <a:pt x="8338" y="747"/>
                  </a:lnTo>
                  <a:lnTo>
                    <a:pt x="8346" y="641"/>
                  </a:lnTo>
                  <a:lnTo>
                    <a:pt x="8353" y="536"/>
                  </a:lnTo>
                  <a:lnTo>
                    <a:pt x="8359" y="428"/>
                  </a:lnTo>
                  <a:lnTo>
                    <a:pt x="8364" y="321"/>
                  </a:lnTo>
                  <a:lnTo>
                    <a:pt x="8367" y="215"/>
                  </a:lnTo>
                  <a:lnTo>
                    <a:pt x="8370" y="108"/>
                  </a:lnTo>
                  <a:lnTo>
                    <a:pt x="8371" y="0"/>
                  </a:lnTo>
                  <a:lnTo>
                    <a:pt x="8371" y="0"/>
                  </a:lnTo>
                  <a:lnTo>
                    <a:pt x="769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34120" y="5655240"/>
              <a:ext cx="279000" cy="727920"/>
            </a:xfrm>
            <a:custGeom>
              <a:avLst/>
              <a:gdLst/>
              <a:ahLst/>
              <a:rect l="l" t="t" r="r" b="b"/>
              <a:pathLst>
                <a:path w="4292" h="11931">
                  <a:moveTo>
                    <a:pt x="0" y="2806"/>
                  </a:moveTo>
                  <a:lnTo>
                    <a:pt x="145" y="9358"/>
                  </a:lnTo>
                  <a:lnTo>
                    <a:pt x="1884" y="11931"/>
                  </a:lnTo>
                  <a:lnTo>
                    <a:pt x="4051" y="9248"/>
                  </a:lnTo>
                  <a:lnTo>
                    <a:pt x="4046" y="9034"/>
                  </a:lnTo>
                  <a:lnTo>
                    <a:pt x="4044" y="8821"/>
                  </a:lnTo>
                  <a:lnTo>
                    <a:pt x="4043" y="8607"/>
                  </a:lnTo>
                  <a:lnTo>
                    <a:pt x="4045" y="8395"/>
                  </a:lnTo>
                  <a:lnTo>
                    <a:pt x="4047" y="8182"/>
                  </a:lnTo>
                  <a:lnTo>
                    <a:pt x="4051" y="7971"/>
                  </a:lnTo>
                  <a:lnTo>
                    <a:pt x="4058" y="7759"/>
                  </a:lnTo>
                  <a:lnTo>
                    <a:pt x="4065" y="7547"/>
                  </a:lnTo>
                  <a:lnTo>
                    <a:pt x="4072" y="7336"/>
                  </a:lnTo>
                  <a:lnTo>
                    <a:pt x="4082" y="7125"/>
                  </a:lnTo>
                  <a:lnTo>
                    <a:pt x="4091" y="6914"/>
                  </a:lnTo>
                  <a:lnTo>
                    <a:pt x="4102" y="6703"/>
                  </a:lnTo>
                  <a:lnTo>
                    <a:pt x="4124" y="6282"/>
                  </a:lnTo>
                  <a:lnTo>
                    <a:pt x="4147" y="5861"/>
                  </a:lnTo>
                  <a:lnTo>
                    <a:pt x="4171" y="5439"/>
                  </a:lnTo>
                  <a:lnTo>
                    <a:pt x="4193" y="5018"/>
                  </a:lnTo>
                  <a:lnTo>
                    <a:pt x="4203" y="4807"/>
                  </a:lnTo>
                  <a:lnTo>
                    <a:pt x="4213" y="4597"/>
                  </a:lnTo>
                  <a:lnTo>
                    <a:pt x="4222" y="4385"/>
                  </a:lnTo>
                  <a:lnTo>
                    <a:pt x="4229" y="4174"/>
                  </a:lnTo>
                  <a:lnTo>
                    <a:pt x="4237" y="3962"/>
                  </a:lnTo>
                  <a:lnTo>
                    <a:pt x="4242" y="3750"/>
                  </a:lnTo>
                  <a:lnTo>
                    <a:pt x="4246" y="3539"/>
                  </a:lnTo>
                  <a:lnTo>
                    <a:pt x="4249" y="3326"/>
                  </a:lnTo>
                  <a:lnTo>
                    <a:pt x="4250" y="3114"/>
                  </a:lnTo>
                  <a:lnTo>
                    <a:pt x="4250" y="2900"/>
                  </a:lnTo>
                  <a:lnTo>
                    <a:pt x="4248" y="2687"/>
                  </a:lnTo>
                  <a:lnTo>
                    <a:pt x="4243" y="2473"/>
                  </a:lnTo>
                  <a:lnTo>
                    <a:pt x="4264" y="2360"/>
                  </a:lnTo>
                  <a:lnTo>
                    <a:pt x="4279" y="2247"/>
                  </a:lnTo>
                  <a:lnTo>
                    <a:pt x="4288" y="2133"/>
                  </a:lnTo>
                  <a:lnTo>
                    <a:pt x="4292" y="2019"/>
                  </a:lnTo>
                  <a:lnTo>
                    <a:pt x="4289" y="1906"/>
                  </a:lnTo>
                  <a:lnTo>
                    <a:pt x="4282" y="1792"/>
                  </a:lnTo>
                  <a:lnTo>
                    <a:pt x="4268" y="1679"/>
                  </a:lnTo>
                  <a:lnTo>
                    <a:pt x="4249" y="1567"/>
                  </a:lnTo>
                  <a:lnTo>
                    <a:pt x="4224" y="1457"/>
                  </a:lnTo>
                  <a:lnTo>
                    <a:pt x="4195" y="1349"/>
                  </a:lnTo>
                  <a:lnTo>
                    <a:pt x="4158" y="1241"/>
                  </a:lnTo>
                  <a:lnTo>
                    <a:pt x="4117" y="1136"/>
                  </a:lnTo>
                  <a:lnTo>
                    <a:pt x="4070" y="1035"/>
                  </a:lnTo>
                  <a:lnTo>
                    <a:pt x="4018" y="935"/>
                  </a:lnTo>
                  <a:lnTo>
                    <a:pt x="3960" y="840"/>
                  </a:lnTo>
                  <a:lnTo>
                    <a:pt x="3898" y="747"/>
                  </a:lnTo>
                  <a:lnTo>
                    <a:pt x="3829" y="659"/>
                  </a:lnTo>
                  <a:lnTo>
                    <a:pt x="3754" y="574"/>
                  </a:lnTo>
                  <a:lnTo>
                    <a:pt x="3676" y="495"/>
                  </a:lnTo>
                  <a:lnTo>
                    <a:pt x="3591" y="419"/>
                  </a:lnTo>
                  <a:lnTo>
                    <a:pt x="3501" y="349"/>
                  </a:lnTo>
                  <a:lnTo>
                    <a:pt x="3406" y="284"/>
                  </a:lnTo>
                  <a:lnTo>
                    <a:pt x="3304" y="226"/>
                  </a:lnTo>
                  <a:lnTo>
                    <a:pt x="3199" y="173"/>
                  </a:lnTo>
                  <a:lnTo>
                    <a:pt x="3088" y="127"/>
                  </a:lnTo>
                  <a:lnTo>
                    <a:pt x="2972" y="88"/>
                  </a:lnTo>
                  <a:lnTo>
                    <a:pt x="2850" y="54"/>
                  </a:lnTo>
                  <a:lnTo>
                    <a:pt x="2724" y="29"/>
                  </a:lnTo>
                  <a:lnTo>
                    <a:pt x="2592" y="11"/>
                  </a:lnTo>
                  <a:lnTo>
                    <a:pt x="2455" y="2"/>
                  </a:lnTo>
                  <a:lnTo>
                    <a:pt x="2312" y="0"/>
                  </a:lnTo>
                  <a:lnTo>
                    <a:pt x="2166" y="7"/>
                  </a:lnTo>
                  <a:lnTo>
                    <a:pt x="2095" y="13"/>
                  </a:lnTo>
                  <a:lnTo>
                    <a:pt x="2021" y="22"/>
                  </a:lnTo>
                  <a:lnTo>
                    <a:pt x="1946" y="32"/>
                  </a:lnTo>
                  <a:lnTo>
                    <a:pt x="1869" y="46"/>
                  </a:lnTo>
                  <a:lnTo>
                    <a:pt x="1790" y="63"/>
                  </a:lnTo>
                  <a:lnTo>
                    <a:pt x="1711" y="81"/>
                  </a:lnTo>
                  <a:lnTo>
                    <a:pt x="1629" y="103"/>
                  </a:lnTo>
                  <a:lnTo>
                    <a:pt x="1549" y="130"/>
                  </a:lnTo>
                  <a:lnTo>
                    <a:pt x="1466" y="158"/>
                  </a:lnTo>
                  <a:lnTo>
                    <a:pt x="1384" y="191"/>
                  </a:lnTo>
                  <a:lnTo>
                    <a:pt x="1302" y="228"/>
                  </a:lnTo>
                  <a:lnTo>
                    <a:pt x="1220" y="269"/>
                  </a:lnTo>
                  <a:lnTo>
                    <a:pt x="1138" y="314"/>
                  </a:lnTo>
                  <a:lnTo>
                    <a:pt x="1058" y="364"/>
                  </a:lnTo>
                  <a:lnTo>
                    <a:pt x="978" y="418"/>
                  </a:lnTo>
                  <a:lnTo>
                    <a:pt x="900" y="477"/>
                  </a:lnTo>
                  <a:lnTo>
                    <a:pt x="823" y="542"/>
                  </a:lnTo>
                  <a:lnTo>
                    <a:pt x="748" y="612"/>
                  </a:lnTo>
                  <a:lnTo>
                    <a:pt x="675" y="686"/>
                  </a:lnTo>
                  <a:lnTo>
                    <a:pt x="604" y="768"/>
                  </a:lnTo>
                  <a:lnTo>
                    <a:pt x="536" y="855"/>
                  </a:lnTo>
                  <a:lnTo>
                    <a:pt x="470" y="947"/>
                  </a:lnTo>
                  <a:lnTo>
                    <a:pt x="407" y="1046"/>
                  </a:lnTo>
                  <a:lnTo>
                    <a:pt x="347" y="1152"/>
                  </a:lnTo>
                  <a:lnTo>
                    <a:pt x="292" y="1264"/>
                  </a:lnTo>
                  <a:lnTo>
                    <a:pt x="240" y="1383"/>
                  </a:lnTo>
                  <a:lnTo>
                    <a:pt x="191" y="1510"/>
                  </a:lnTo>
                  <a:lnTo>
                    <a:pt x="147" y="1643"/>
                  </a:lnTo>
                  <a:lnTo>
                    <a:pt x="108" y="1784"/>
                  </a:lnTo>
                  <a:lnTo>
                    <a:pt x="72" y="1931"/>
                  </a:lnTo>
                  <a:lnTo>
                    <a:pt x="43" y="2088"/>
                  </a:lnTo>
                  <a:lnTo>
                    <a:pt x="18" y="2253"/>
                  </a:lnTo>
                  <a:lnTo>
                    <a:pt x="7" y="2800"/>
                  </a:lnTo>
                  <a:lnTo>
                    <a:pt x="3441" y="2604"/>
                  </a:lnTo>
                  <a:lnTo>
                    <a:pt x="3356" y="2175"/>
                  </a:lnTo>
                  <a:lnTo>
                    <a:pt x="933" y="2193"/>
                  </a:lnTo>
                  <a:lnTo>
                    <a:pt x="940" y="2127"/>
                  </a:lnTo>
                  <a:lnTo>
                    <a:pt x="948" y="2062"/>
                  </a:lnTo>
                  <a:lnTo>
                    <a:pt x="959" y="1996"/>
                  </a:lnTo>
                  <a:lnTo>
                    <a:pt x="973" y="1931"/>
                  </a:lnTo>
                  <a:lnTo>
                    <a:pt x="989" y="1867"/>
                  </a:lnTo>
                  <a:lnTo>
                    <a:pt x="1008" y="1803"/>
                  </a:lnTo>
                  <a:lnTo>
                    <a:pt x="1028" y="1740"/>
                  </a:lnTo>
                  <a:lnTo>
                    <a:pt x="1051" y="1677"/>
                  </a:lnTo>
                  <a:lnTo>
                    <a:pt x="1078" y="1615"/>
                  </a:lnTo>
                  <a:lnTo>
                    <a:pt x="1105" y="1556"/>
                  </a:lnTo>
                  <a:lnTo>
                    <a:pt x="1135" y="1497"/>
                  </a:lnTo>
                  <a:lnTo>
                    <a:pt x="1169" y="1440"/>
                  </a:lnTo>
                  <a:lnTo>
                    <a:pt x="1204" y="1384"/>
                  </a:lnTo>
                  <a:lnTo>
                    <a:pt x="1242" y="1330"/>
                  </a:lnTo>
                  <a:lnTo>
                    <a:pt x="1282" y="1278"/>
                  </a:lnTo>
                  <a:lnTo>
                    <a:pt x="1324" y="1228"/>
                  </a:lnTo>
                  <a:lnTo>
                    <a:pt x="1369" y="1181"/>
                  </a:lnTo>
                  <a:lnTo>
                    <a:pt x="1416" y="1136"/>
                  </a:lnTo>
                  <a:lnTo>
                    <a:pt x="1465" y="1094"/>
                  </a:lnTo>
                  <a:lnTo>
                    <a:pt x="1517" y="1055"/>
                  </a:lnTo>
                  <a:lnTo>
                    <a:pt x="1570" y="1017"/>
                  </a:lnTo>
                  <a:lnTo>
                    <a:pt x="1627" y="983"/>
                  </a:lnTo>
                  <a:lnTo>
                    <a:pt x="1687" y="953"/>
                  </a:lnTo>
                  <a:lnTo>
                    <a:pt x="1747" y="926"/>
                  </a:lnTo>
                  <a:lnTo>
                    <a:pt x="1811" y="902"/>
                  </a:lnTo>
                  <a:lnTo>
                    <a:pt x="1876" y="882"/>
                  </a:lnTo>
                  <a:lnTo>
                    <a:pt x="1944" y="866"/>
                  </a:lnTo>
                  <a:lnTo>
                    <a:pt x="2015" y="854"/>
                  </a:lnTo>
                  <a:lnTo>
                    <a:pt x="2087" y="845"/>
                  </a:lnTo>
                  <a:lnTo>
                    <a:pt x="2163" y="841"/>
                  </a:lnTo>
                  <a:lnTo>
                    <a:pt x="2240" y="842"/>
                  </a:lnTo>
                  <a:lnTo>
                    <a:pt x="2320" y="846"/>
                  </a:lnTo>
                  <a:lnTo>
                    <a:pt x="2405" y="856"/>
                  </a:lnTo>
                  <a:lnTo>
                    <a:pt x="2487" y="868"/>
                  </a:lnTo>
                  <a:lnTo>
                    <a:pt x="2565" y="883"/>
                  </a:lnTo>
                  <a:lnTo>
                    <a:pt x="2638" y="901"/>
                  </a:lnTo>
                  <a:lnTo>
                    <a:pt x="2706" y="921"/>
                  </a:lnTo>
                  <a:lnTo>
                    <a:pt x="2771" y="944"/>
                  </a:lnTo>
                  <a:lnTo>
                    <a:pt x="2832" y="969"/>
                  </a:lnTo>
                  <a:lnTo>
                    <a:pt x="2889" y="997"/>
                  </a:lnTo>
                  <a:lnTo>
                    <a:pt x="2942" y="1028"/>
                  </a:lnTo>
                  <a:lnTo>
                    <a:pt x="2993" y="1063"/>
                  </a:lnTo>
                  <a:lnTo>
                    <a:pt x="3039" y="1100"/>
                  </a:lnTo>
                  <a:lnTo>
                    <a:pt x="3081" y="1138"/>
                  </a:lnTo>
                  <a:lnTo>
                    <a:pt x="3121" y="1181"/>
                  </a:lnTo>
                  <a:lnTo>
                    <a:pt x="3158" y="1226"/>
                  </a:lnTo>
                  <a:lnTo>
                    <a:pt x="3191" y="1273"/>
                  </a:lnTo>
                  <a:lnTo>
                    <a:pt x="3222" y="1325"/>
                  </a:lnTo>
                  <a:lnTo>
                    <a:pt x="3250" y="1378"/>
                  </a:lnTo>
                  <a:lnTo>
                    <a:pt x="3275" y="1434"/>
                  </a:lnTo>
                  <a:lnTo>
                    <a:pt x="3297" y="1493"/>
                  </a:lnTo>
                  <a:lnTo>
                    <a:pt x="3317" y="1555"/>
                  </a:lnTo>
                  <a:lnTo>
                    <a:pt x="3334" y="1620"/>
                  </a:lnTo>
                  <a:lnTo>
                    <a:pt x="3349" y="1688"/>
                  </a:lnTo>
                  <a:lnTo>
                    <a:pt x="3362" y="1758"/>
                  </a:lnTo>
                  <a:lnTo>
                    <a:pt x="3373" y="1831"/>
                  </a:lnTo>
                  <a:lnTo>
                    <a:pt x="3382" y="1907"/>
                  </a:lnTo>
                  <a:lnTo>
                    <a:pt x="3389" y="1987"/>
                  </a:lnTo>
                  <a:lnTo>
                    <a:pt x="3394" y="2070"/>
                  </a:lnTo>
                  <a:lnTo>
                    <a:pt x="3399" y="2154"/>
                  </a:lnTo>
                  <a:lnTo>
                    <a:pt x="3401" y="2242"/>
                  </a:lnTo>
                  <a:lnTo>
                    <a:pt x="3402" y="2333"/>
                  </a:lnTo>
                  <a:lnTo>
                    <a:pt x="3401" y="2427"/>
                  </a:lnTo>
                  <a:lnTo>
                    <a:pt x="3399" y="2524"/>
                  </a:lnTo>
                  <a:lnTo>
                    <a:pt x="3225" y="9257"/>
                  </a:lnTo>
                  <a:lnTo>
                    <a:pt x="2555" y="10149"/>
                  </a:lnTo>
                  <a:lnTo>
                    <a:pt x="1625" y="10206"/>
                  </a:lnTo>
                  <a:lnTo>
                    <a:pt x="999" y="9293"/>
                  </a:lnTo>
                  <a:lnTo>
                    <a:pt x="990" y="8882"/>
                  </a:lnTo>
                  <a:lnTo>
                    <a:pt x="980" y="8473"/>
                  </a:lnTo>
                  <a:lnTo>
                    <a:pt x="971" y="8064"/>
                  </a:lnTo>
                  <a:lnTo>
                    <a:pt x="963" y="7654"/>
                  </a:lnTo>
                  <a:lnTo>
                    <a:pt x="953" y="7245"/>
                  </a:lnTo>
                  <a:lnTo>
                    <a:pt x="944" y="6836"/>
                  </a:lnTo>
                  <a:lnTo>
                    <a:pt x="935" y="6427"/>
                  </a:lnTo>
                  <a:lnTo>
                    <a:pt x="926" y="6016"/>
                  </a:lnTo>
                  <a:lnTo>
                    <a:pt x="917" y="5607"/>
                  </a:lnTo>
                  <a:lnTo>
                    <a:pt x="907" y="5198"/>
                  </a:lnTo>
                  <a:lnTo>
                    <a:pt x="899" y="4789"/>
                  </a:lnTo>
                  <a:lnTo>
                    <a:pt x="889" y="4379"/>
                  </a:lnTo>
                  <a:lnTo>
                    <a:pt x="880" y="3970"/>
                  </a:lnTo>
                  <a:lnTo>
                    <a:pt x="870" y="3561"/>
                  </a:lnTo>
                  <a:lnTo>
                    <a:pt x="862" y="3150"/>
                  </a:lnTo>
                  <a:lnTo>
                    <a:pt x="853" y="2741"/>
                  </a:lnTo>
                  <a:lnTo>
                    <a:pt x="799" y="2745"/>
                  </a:lnTo>
                  <a:lnTo>
                    <a:pt x="746" y="2750"/>
                  </a:lnTo>
                  <a:lnTo>
                    <a:pt x="693" y="2754"/>
                  </a:lnTo>
                  <a:lnTo>
                    <a:pt x="639" y="2758"/>
                  </a:lnTo>
                  <a:lnTo>
                    <a:pt x="586" y="2761"/>
                  </a:lnTo>
                  <a:lnTo>
                    <a:pt x="532" y="2765"/>
                  </a:lnTo>
                  <a:lnTo>
                    <a:pt x="479" y="2770"/>
                  </a:lnTo>
                  <a:lnTo>
                    <a:pt x="426" y="2774"/>
                  </a:lnTo>
                  <a:lnTo>
                    <a:pt x="372" y="2778"/>
                  </a:lnTo>
                  <a:lnTo>
                    <a:pt x="319" y="2782"/>
                  </a:lnTo>
                  <a:lnTo>
                    <a:pt x="266" y="2786"/>
                  </a:lnTo>
                  <a:lnTo>
                    <a:pt x="212" y="2790"/>
                  </a:lnTo>
                  <a:lnTo>
                    <a:pt x="159" y="2794"/>
                  </a:lnTo>
                  <a:lnTo>
                    <a:pt x="106" y="2798"/>
                  </a:lnTo>
                  <a:lnTo>
                    <a:pt x="52" y="2802"/>
                  </a:lnTo>
                  <a:lnTo>
                    <a:pt x="0" y="28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639200" y="3780000"/>
            <a:ext cx="1088640" cy="1021680"/>
            <a:chOff x="7639200" y="3780000"/>
            <a:chExt cx="1088640" cy="1021680"/>
          </a:xfrm>
        </p:grpSpPr>
        <p:sp>
          <p:nvSpPr>
            <p:cNvPr id="179" name=""/>
            <p:cNvSpPr/>
            <p:nvPr/>
          </p:nvSpPr>
          <p:spPr>
            <a:xfrm>
              <a:off x="8184240" y="3780000"/>
              <a:ext cx="543600" cy="51156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9" y="681"/>
                  </a:lnTo>
                  <a:lnTo>
                    <a:pt x="297" y="684"/>
                  </a:lnTo>
                  <a:lnTo>
                    <a:pt x="397" y="690"/>
                  </a:lnTo>
                  <a:lnTo>
                    <a:pt x="493" y="695"/>
                  </a:lnTo>
                  <a:lnTo>
                    <a:pt x="591" y="702"/>
                  </a:lnTo>
                  <a:lnTo>
                    <a:pt x="689" y="710"/>
                  </a:lnTo>
                  <a:lnTo>
                    <a:pt x="785" y="719"/>
                  </a:lnTo>
                  <a:lnTo>
                    <a:pt x="881" y="730"/>
                  </a:lnTo>
                  <a:lnTo>
                    <a:pt x="977" y="741"/>
                  </a:lnTo>
                  <a:lnTo>
                    <a:pt x="1074" y="754"/>
                  </a:lnTo>
                  <a:lnTo>
                    <a:pt x="1170" y="769"/>
                  </a:lnTo>
                  <a:lnTo>
                    <a:pt x="1264" y="784"/>
                  </a:lnTo>
                  <a:lnTo>
                    <a:pt x="1358" y="800"/>
                  </a:lnTo>
                  <a:lnTo>
                    <a:pt x="1453" y="817"/>
                  </a:lnTo>
                  <a:lnTo>
                    <a:pt x="1548" y="836"/>
                  </a:lnTo>
                  <a:lnTo>
                    <a:pt x="1641" y="857"/>
                  </a:lnTo>
                  <a:lnTo>
                    <a:pt x="1734" y="877"/>
                  </a:lnTo>
                  <a:lnTo>
                    <a:pt x="1827" y="899"/>
                  </a:lnTo>
                  <a:lnTo>
                    <a:pt x="1919" y="922"/>
                  </a:lnTo>
                  <a:lnTo>
                    <a:pt x="2010" y="947"/>
                  </a:lnTo>
                  <a:lnTo>
                    <a:pt x="2101" y="972"/>
                  </a:lnTo>
                  <a:lnTo>
                    <a:pt x="2192" y="999"/>
                  </a:lnTo>
                  <a:lnTo>
                    <a:pt x="2282" y="1026"/>
                  </a:lnTo>
                  <a:lnTo>
                    <a:pt x="2372" y="1055"/>
                  </a:lnTo>
                  <a:lnTo>
                    <a:pt x="2462" y="1085"/>
                  </a:lnTo>
                  <a:lnTo>
                    <a:pt x="2551" y="1115"/>
                  </a:lnTo>
                  <a:lnTo>
                    <a:pt x="2639" y="1148"/>
                  </a:lnTo>
                  <a:lnTo>
                    <a:pt x="2727" y="1180"/>
                  </a:lnTo>
                  <a:lnTo>
                    <a:pt x="2815" y="1215"/>
                  </a:lnTo>
                  <a:lnTo>
                    <a:pt x="2903" y="1250"/>
                  </a:lnTo>
                  <a:lnTo>
                    <a:pt x="2989" y="1285"/>
                  </a:lnTo>
                  <a:lnTo>
                    <a:pt x="3075" y="1323"/>
                  </a:lnTo>
                  <a:lnTo>
                    <a:pt x="3160" y="1361"/>
                  </a:lnTo>
                  <a:lnTo>
                    <a:pt x="3245" y="1399"/>
                  </a:lnTo>
                  <a:lnTo>
                    <a:pt x="3329" y="1440"/>
                  </a:lnTo>
                  <a:lnTo>
                    <a:pt x="3412" y="1482"/>
                  </a:lnTo>
                  <a:lnTo>
                    <a:pt x="3497" y="1522"/>
                  </a:lnTo>
                  <a:lnTo>
                    <a:pt x="3579" y="1566"/>
                  </a:lnTo>
                  <a:lnTo>
                    <a:pt x="3660" y="1609"/>
                  </a:lnTo>
                  <a:lnTo>
                    <a:pt x="3742" y="1655"/>
                  </a:lnTo>
                  <a:lnTo>
                    <a:pt x="3823" y="1700"/>
                  </a:lnTo>
                  <a:lnTo>
                    <a:pt x="3903" y="1747"/>
                  </a:lnTo>
                  <a:lnTo>
                    <a:pt x="3983" y="1796"/>
                  </a:lnTo>
                  <a:lnTo>
                    <a:pt x="4062" y="1845"/>
                  </a:lnTo>
                  <a:lnTo>
                    <a:pt x="4139" y="1894"/>
                  </a:lnTo>
                  <a:lnTo>
                    <a:pt x="4218" y="1944"/>
                  </a:lnTo>
                  <a:lnTo>
                    <a:pt x="4295" y="1996"/>
                  </a:lnTo>
                  <a:lnTo>
                    <a:pt x="4371" y="2049"/>
                  </a:lnTo>
                  <a:lnTo>
                    <a:pt x="4447" y="2101"/>
                  </a:lnTo>
                  <a:lnTo>
                    <a:pt x="4522" y="2156"/>
                  </a:lnTo>
                  <a:lnTo>
                    <a:pt x="4597" y="2210"/>
                  </a:lnTo>
                  <a:lnTo>
                    <a:pt x="4670" y="2267"/>
                  </a:lnTo>
                  <a:lnTo>
                    <a:pt x="4743" y="2324"/>
                  </a:lnTo>
                  <a:lnTo>
                    <a:pt x="4816" y="2382"/>
                  </a:lnTo>
                  <a:lnTo>
                    <a:pt x="4887" y="2439"/>
                  </a:lnTo>
                  <a:lnTo>
                    <a:pt x="4958" y="2499"/>
                  </a:lnTo>
                  <a:lnTo>
                    <a:pt x="5029" y="2558"/>
                  </a:lnTo>
                  <a:lnTo>
                    <a:pt x="5099" y="2620"/>
                  </a:lnTo>
                  <a:lnTo>
                    <a:pt x="5167" y="2682"/>
                  </a:lnTo>
                  <a:lnTo>
                    <a:pt x="5235" y="2745"/>
                  </a:lnTo>
                  <a:lnTo>
                    <a:pt x="5302" y="2807"/>
                  </a:lnTo>
                  <a:lnTo>
                    <a:pt x="5369" y="2872"/>
                  </a:lnTo>
                  <a:lnTo>
                    <a:pt x="5434" y="2937"/>
                  </a:lnTo>
                  <a:lnTo>
                    <a:pt x="5499" y="3002"/>
                  </a:lnTo>
                  <a:lnTo>
                    <a:pt x="5564" y="3069"/>
                  </a:lnTo>
                  <a:lnTo>
                    <a:pt x="5626" y="3136"/>
                  </a:lnTo>
                  <a:lnTo>
                    <a:pt x="5689" y="3204"/>
                  </a:lnTo>
                  <a:lnTo>
                    <a:pt x="5751" y="3272"/>
                  </a:lnTo>
                  <a:lnTo>
                    <a:pt x="5813" y="3342"/>
                  </a:lnTo>
                  <a:lnTo>
                    <a:pt x="5872" y="3413"/>
                  </a:lnTo>
                  <a:lnTo>
                    <a:pt x="5932" y="3484"/>
                  </a:lnTo>
                  <a:lnTo>
                    <a:pt x="5989" y="3555"/>
                  </a:lnTo>
                  <a:lnTo>
                    <a:pt x="6047" y="3628"/>
                  </a:lnTo>
                  <a:lnTo>
                    <a:pt x="6104" y="3701"/>
                  </a:lnTo>
                  <a:lnTo>
                    <a:pt x="6161" y="3774"/>
                  </a:lnTo>
                  <a:lnTo>
                    <a:pt x="6215" y="3849"/>
                  </a:lnTo>
                  <a:lnTo>
                    <a:pt x="6270" y="3924"/>
                  </a:lnTo>
                  <a:lnTo>
                    <a:pt x="6322" y="4000"/>
                  </a:lnTo>
                  <a:lnTo>
                    <a:pt x="6375" y="4076"/>
                  </a:lnTo>
                  <a:lnTo>
                    <a:pt x="6427" y="4153"/>
                  </a:lnTo>
                  <a:lnTo>
                    <a:pt x="6477" y="4232"/>
                  </a:lnTo>
                  <a:lnTo>
                    <a:pt x="6526" y="4309"/>
                  </a:lnTo>
                  <a:lnTo>
                    <a:pt x="6575" y="4388"/>
                  </a:lnTo>
                  <a:lnTo>
                    <a:pt x="6624" y="4468"/>
                  </a:lnTo>
                  <a:lnTo>
                    <a:pt x="6671" y="4548"/>
                  </a:lnTo>
                  <a:lnTo>
                    <a:pt x="6716" y="4629"/>
                  </a:lnTo>
                  <a:lnTo>
                    <a:pt x="6762" y="4711"/>
                  </a:lnTo>
                  <a:lnTo>
                    <a:pt x="6805" y="4792"/>
                  </a:lnTo>
                  <a:lnTo>
                    <a:pt x="6849" y="4874"/>
                  </a:lnTo>
                  <a:lnTo>
                    <a:pt x="6889" y="4959"/>
                  </a:lnTo>
                  <a:lnTo>
                    <a:pt x="6931" y="5042"/>
                  </a:lnTo>
                  <a:lnTo>
                    <a:pt x="6972" y="5126"/>
                  </a:lnTo>
                  <a:lnTo>
                    <a:pt x="7010" y="5211"/>
                  </a:lnTo>
                  <a:lnTo>
                    <a:pt x="7048" y="5296"/>
                  </a:lnTo>
                  <a:lnTo>
                    <a:pt x="7086" y="5382"/>
                  </a:lnTo>
                  <a:lnTo>
                    <a:pt x="7121" y="5468"/>
                  </a:lnTo>
                  <a:lnTo>
                    <a:pt x="7156" y="5556"/>
                  </a:lnTo>
                  <a:lnTo>
                    <a:pt x="7191" y="5644"/>
                  </a:lnTo>
                  <a:lnTo>
                    <a:pt x="7223" y="5732"/>
                  </a:lnTo>
                  <a:lnTo>
                    <a:pt x="7256" y="5820"/>
                  </a:lnTo>
                  <a:lnTo>
                    <a:pt x="7286" y="5909"/>
                  </a:lnTo>
                  <a:lnTo>
                    <a:pt x="7316" y="5999"/>
                  </a:lnTo>
                  <a:lnTo>
                    <a:pt x="7345" y="6089"/>
                  </a:lnTo>
                  <a:lnTo>
                    <a:pt x="7372" y="6179"/>
                  </a:lnTo>
                  <a:lnTo>
                    <a:pt x="7399" y="6270"/>
                  </a:lnTo>
                  <a:lnTo>
                    <a:pt x="7424" y="6361"/>
                  </a:lnTo>
                  <a:lnTo>
                    <a:pt x="7449" y="6452"/>
                  </a:lnTo>
                  <a:lnTo>
                    <a:pt x="7472" y="6544"/>
                  </a:lnTo>
                  <a:lnTo>
                    <a:pt x="7494" y="6637"/>
                  </a:lnTo>
                  <a:lnTo>
                    <a:pt x="7514" y="6730"/>
                  </a:lnTo>
                  <a:lnTo>
                    <a:pt x="7535" y="6823"/>
                  </a:lnTo>
                  <a:lnTo>
                    <a:pt x="7554" y="6918"/>
                  </a:lnTo>
                  <a:lnTo>
                    <a:pt x="7571" y="7013"/>
                  </a:lnTo>
                  <a:lnTo>
                    <a:pt x="7587" y="7107"/>
                  </a:lnTo>
                  <a:lnTo>
                    <a:pt x="7602" y="7201"/>
                  </a:lnTo>
                  <a:lnTo>
                    <a:pt x="7617" y="7297"/>
                  </a:lnTo>
                  <a:lnTo>
                    <a:pt x="7630" y="7394"/>
                  </a:lnTo>
                  <a:lnTo>
                    <a:pt x="7641" y="7490"/>
                  </a:lnTo>
                  <a:lnTo>
                    <a:pt x="7652" y="7586"/>
                  </a:lnTo>
                  <a:lnTo>
                    <a:pt x="7661" y="7682"/>
                  </a:lnTo>
                  <a:lnTo>
                    <a:pt x="7669" y="7780"/>
                  </a:lnTo>
                  <a:lnTo>
                    <a:pt x="7676" y="7878"/>
                  </a:lnTo>
                  <a:lnTo>
                    <a:pt x="7681" y="7974"/>
                  </a:lnTo>
                  <a:lnTo>
                    <a:pt x="7687" y="8074"/>
                  </a:lnTo>
                  <a:lnTo>
                    <a:pt x="7690" y="8172"/>
                  </a:lnTo>
                  <a:lnTo>
                    <a:pt x="7690" y="8272"/>
                  </a:lnTo>
                  <a:lnTo>
                    <a:pt x="7691" y="8371"/>
                  </a:lnTo>
                  <a:lnTo>
                    <a:pt x="8371" y="8371"/>
                  </a:lnTo>
                  <a:lnTo>
                    <a:pt x="8370" y="8263"/>
                  </a:lnTo>
                  <a:lnTo>
                    <a:pt x="8367" y="8156"/>
                  </a:lnTo>
                  <a:lnTo>
                    <a:pt x="8364" y="8050"/>
                  </a:lnTo>
                  <a:lnTo>
                    <a:pt x="8359" y="7943"/>
                  </a:lnTo>
                  <a:lnTo>
                    <a:pt x="8353" y="7835"/>
                  </a:lnTo>
                  <a:lnTo>
                    <a:pt x="8346" y="7730"/>
                  </a:lnTo>
                  <a:lnTo>
                    <a:pt x="8338" y="7624"/>
                  </a:lnTo>
                  <a:lnTo>
                    <a:pt x="8327" y="7517"/>
                  </a:lnTo>
                  <a:lnTo>
                    <a:pt x="8316" y="7413"/>
                  </a:lnTo>
                  <a:lnTo>
                    <a:pt x="8302" y="7308"/>
                  </a:lnTo>
                  <a:lnTo>
                    <a:pt x="8288" y="7204"/>
                  </a:lnTo>
                  <a:lnTo>
                    <a:pt x="8274" y="7101"/>
                  </a:lnTo>
                  <a:lnTo>
                    <a:pt x="8257" y="6996"/>
                  </a:lnTo>
                  <a:lnTo>
                    <a:pt x="8240" y="6892"/>
                  </a:lnTo>
                  <a:lnTo>
                    <a:pt x="8220" y="6791"/>
                  </a:lnTo>
                  <a:lnTo>
                    <a:pt x="8199" y="6688"/>
                  </a:lnTo>
                  <a:lnTo>
                    <a:pt x="8178" y="6587"/>
                  </a:lnTo>
                  <a:lnTo>
                    <a:pt x="8155" y="6485"/>
                  </a:lnTo>
                  <a:lnTo>
                    <a:pt x="8130" y="6385"/>
                  </a:lnTo>
                  <a:lnTo>
                    <a:pt x="8105" y="6285"/>
                  </a:lnTo>
                  <a:lnTo>
                    <a:pt x="8080" y="6183"/>
                  </a:lnTo>
                  <a:lnTo>
                    <a:pt x="8052" y="6084"/>
                  </a:lnTo>
                  <a:lnTo>
                    <a:pt x="8023" y="5985"/>
                  </a:lnTo>
                  <a:lnTo>
                    <a:pt x="7993" y="5887"/>
                  </a:lnTo>
                  <a:lnTo>
                    <a:pt x="7962" y="5789"/>
                  </a:lnTo>
                  <a:lnTo>
                    <a:pt x="7929" y="5691"/>
                  </a:lnTo>
                  <a:lnTo>
                    <a:pt x="7896" y="5594"/>
                  </a:lnTo>
                  <a:lnTo>
                    <a:pt x="7861" y="5498"/>
                  </a:lnTo>
                  <a:lnTo>
                    <a:pt x="7825" y="5402"/>
                  </a:lnTo>
                  <a:lnTo>
                    <a:pt x="7788" y="5306"/>
                  </a:lnTo>
                  <a:lnTo>
                    <a:pt x="7750" y="5213"/>
                  </a:lnTo>
                  <a:lnTo>
                    <a:pt x="7710" y="5119"/>
                  </a:lnTo>
                  <a:lnTo>
                    <a:pt x="7670" y="5025"/>
                  </a:lnTo>
                  <a:lnTo>
                    <a:pt x="7629" y="4932"/>
                  </a:lnTo>
                  <a:lnTo>
                    <a:pt x="7585" y="4839"/>
                  </a:lnTo>
                  <a:lnTo>
                    <a:pt x="7542" y="4747"/>
                  </a:lnTo>
                  <a:lnTo>
                    <a:pt x="7498" y="4656"/>
                  </a:lnTo>
                  <a:lnTo>
                    <a:pt x="7451" y="4566"/>
                  </a:lnTo>
                  <a:lnTo>
                    <a:pt x="7405" y="4476"/>
                  </a:lnTo>
                  <a:lnTo>
                    <a:pt x="7357" y="4386"/>
                  </a:lnTo>
                  <a:lnTo>
                    <a:pt x="7308" y="4297"/>
                  </a:lnTo>
                  <a:lnTo>
                    <a:pt x="7258" y="4211"/>
                  </a:lnTo>
                  <a:lnTo>
                    <a:pt x="7207" y="4123"/>
                  </a:lnTo>
                  <a:lnTo>
                    <a:pt x="7155" y="4036"/>
                  </a:lnTo>
                  <a:lnTo>
                    <a:pt x="7103" y="3950"/>
                  </a:lnTo>
                  <a:lnTo>
                    <a:pt x="7048" y="3864"/>
                  </a:lnTo>
                  <a:lnTo>
                    <a:pt x="6993" y="3781"/>
                  </a:lnTo>
                  <a:lnTo>
                    <a:pt x="6937" y="3696"/>
                  </a:lnTo>
                  <a:lnTo>
                    <a:pt x="6880" y="3612"/>
                  </a:lnTo>
                  <a:lnTo>
                    <a:pt x="6822" y="3530"/>
                  </a:lnTo>
                  <a:lnTo>
                    <a:pt x="6763" y="3450"/>
                  </a:lnTo>
                  <a:lnTo>
                    <a:pt x="6703" y="3368"/>
                  </a:lnTo>
                  <a:lnTo>
                    <a:pt x="6643" y="3287"/>
                  </a:lnTo>
                  <a:lnTo>
                    <a:pt x="6581" y="3208"/>
                  </a:lnTo>
                  <a:lnTo>
                    <a:pt x="6518" y="3130"/>
                  </a:lnTo>
                  <a:lnTo>
                    <a:pt x="6455" y="3051"/>
                  </a:lnTo>
                  <a:lnTo>
                    <a:pt x="6390" y="2975"/>
                  </a:lnTo>
                  <a:lnTo>
                    <a:pt x="6324" y="2898"/>
                  </a:lnTo>
                  <a:lnTo>
                    <a:pt x="6258" y="2823"/>
                  </a:lnTo>
                  <a:lnTo>
                    <a:pt x="6191" y="2748"/>
                  </a:lnTo>
                  <a:lnTo>
                    <a:pt x="6123" y="2675"/>
                  </a:lnTo>
                  <a:lnTo>
                    <a:pt x="6054" y="2601"/>
                  </a:lnTo>
                  <a:lnTo>
                    <a:pt x="5985" y="2529"/>
                  </a:lnTo>
                  <a:lnTo>
                    <a:pt x="5914" y="2457"/>
                  </a:lnTo>
                  <a:lnTo>
                    <a:pt x="5842" y="2386"/>
                  </a:lnTo>
                  <a:lnTo>
                    <a:pt x="5770" y="2317"/>
                  </a:lnTo>
                  <a:lnTo>
                    <a:pt x="5696" y="2248"/>
                  </a:lnTo>
                  <a:lnTo>
                    <a:pt x="5623" y="2180"/>
                  </a:lnTo>
                  <a:lnTo>
                    <a:pt x="5548" y="2113"/>
                  </a:lnTo>
                  <a:lnTo>
                    <a:pt x="5473" y="2047"/>
                  </a:lnTo>
                  <a:lnTo>
                    <a:pt x="5396" y="1981"/>
                  </a:lnTo>
                  <a:lnTo>
                    <a:pt x="5320" y="1916"/>
                  </a:lnTo>
                  <a:lnTo>
                    <a:pt x="5241" y="1853"/>
                  </a:lnTo>
                  <a:lnTo>
                    <a:pt x="5163" y="1790"/>
                  </a:lnTo>
                  <a:lnTo>
                    <a:pt x="5084" y="1728"/>
                  </a:lnTo>
                  <a:lnTo>
                    <a:pt x="5003" y="1668"/>
                  </a:lnTo>
                  <a:lnTo>
                    <a:pt x="4921" y="1608"/>
                  </a:lnTo>
                  <a:lnTo>
                    <a:pt x="4841" y="1549"/>
                  </a:lnTo>
                  <a:lnTo>
                    <a:pt x="4759" y="1491"/>
                  </a:lnTo>
                  <a:lnTo>
                    <a:pt x="4675" y="1434"/>
                  </a:lnTo>
                  <a:lnTo>
                    <a:pt x="4590" y="1378"/>
                  </a:lnTo>
                  <a:lnTo>
                    <a:pt x="4507" y="1323"/>
                  </a:lnTo>
                  <a:lnTo>
                    <a:pt x="4421" y="1268"/>
                  </a:lnTo>
                  <a:lnTo>
                    <a:pt x="4335" y="1216"/>
                  </a:lnTo>
                  <a:lnTo>
                    <a:pt x="4248" y="1164"/>
                  </a:lnTo>
                  <a:lnTo>
                    <a:pt x="4160" y="1113"/>
                  </a:lnTo>
                  <a:lnTo>
                    <a:pt x="4074" y="1063"/>
                  </a:lnTo>
                  <a:lnTo>
                    <a:pt x="3985" y="1014"/>
                  </a:lnTo>
                  <a:lnTo>
                    <a:pt x="3895" y="966"/>
                  </a:lnTo>
                  <a:lnTo>
                    <a:pt x="3805" y="920"/>
                  </a:lnTo>
                  <a:lnTo>
                    <a:pt x="3715" y="873"/>
                  </a:lnTo>
                  <a:lnTo>
                    <a:pt x="3624" y="829"/>
                  </a:lnTo>
                  <a:lnTo>
                    <a:pt x="3532" y="786"/>
                  </a:lnTo>
                  <a:lnTo>
                    <a:pt x="3439" y="742"/>
                  </a:lnTo>
                  <a:lnTo>
                    <a:pt x="3346" y="701"/>
                  </a:lnTo>
                  <a:lnTo>
                    <a:pt x="3252" y="661"/>
                  </a:lnTo>
                  <a:lnTo>
                    <a:pt x="3158" y="621"/>
                  </a:lnTo>
                  <a:lnTo>
                    <a:pt x="3065" y="583"/>
                  </a:lnTo>
                  <a:lnTo>
                    <a:pt x="2969" y="546"/>
                  </a:lnTo>
                  <a:lnTo>
                    <a:pt x="2873" y="510"/>
                  </a:lnTo>
                  <a:lnTo>
                    <a:pt x="2777" y="475"/>
                  </a:lnTo>
                  <a:lnTo>
                    <a:pt x="2680" y="442"/>
                  </a:lnTo>
                  <a:lnTo>
                    <a:pt x="2582" y="409"/>
                  </a:lnTo>
                  <a:lnTo>
                    <a:pt x="2484" y="378"/>
                  </a:lnTo>
                  <a:lnTo>
                    <a:pt x="2386" y="348"/>
                  </a:lnTo>
                  <a:lnTo>
                    <a:pt x="2287" y="319"/>
                  </a:lnTo>
                  <a:lnTo>
                    <a:pt x="2188" y="291"/>
                  </a:lnTo>
                  <a:lnTo>
                    <a:pt x="2086" y="266"/>
                  </a:lnTo>
                  <a:lnTo>
                    <a:pt x="1986" y="241"/>
                  </a:lnTo>
                  <a:lnTo>
                    <a:pt x="1886" y="216"/>
                  </a:lnTo>
                  <a:lnTo>
                    <a:pt x="1784" y="193"/>
                  </a:lnTo>
                  <a:lnTo>
                    <a:pt x="1683" y="172"/>
                  </a:lnTo>
                  <a:lnTo>
                    <a:pt x="1580" y="151"/>
                  </a:lnTo>
                  <a:lnTo>
                    <a:pt x="1479" y="131"/>
                  </a:lnTo>
                  <a:lnTo>
                    <a:pt x="1375" y="114"/>
                  </a:lnTo>
                  <a:lnTo>
                    <a:pt x="1270" y="97"/>
                  </a:lnTo>
                  <a:lnTo>
                    <a:pt x="1167" y="83"/>
                  </a:lnTo>
                  <a:lnTo>
                    <a:pt x="1063" y="69"/>
                  </a:lnTo>
                  <a:lnTo>
                    <a:pt x="958" y="55"/>
                  </a:lnTo>
                  <a:lnTo>
                    <a:pt x="854" y="44"/>
                  </a:lnTo>
                  <a:lnTo>
                    <a:pt x="747" y="33"/>
                  </a:lnTo>
                  <a:lnTo>
                    <a:pt x="641" y="25"/>
                  </a:lnTo>
                  <a:lnTo>
                    <a:pt x="536" y="18"/>
                  </a:lnTo>
                  <a:lnTo>
                    <a:pt x="428" y="12"/>
                  </a:lnTo>
                  <a:lnTo>
                    <a:pt x="321" y="7"/>
                  </a:lnTo>
                  <a:lnTo>
                    <a:pt x="215" y="4"/>
                  </a:lnTo>
                  <a:lnTo>
                    <a:pt x="10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9200" y="3780000"/>
              <a:ext cx="545040" cy="51156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680" y="8371"/>
                  </a:moveTo>
                  <a:lnTo>
                    <a:pt x="680" y="8371"/>
                  </a:lnTo>
                  <a:lnTo>
                    <a:pt x="680" y="8272"/>
                  </a:lnTo>
                  <a:lnTo>
                    <a:pt x="681" y="8172"/>
                  </a:lnTo>
                  <a:lnTo>
                    <a:pt x="684" y="8074"/>
                  </a:lnTo>
                  <a:lnTo>
                    <a:pt x="690" y="7974"/>
                  </a:lnTo>
                  <a:lnTo>
                    <a:pt x="695" y="7878"/>
                  </a:lnTo>
                  <a:lnTo>
                    <a:pt x="702" y="7780"/>
                  </a:lnTo>
                  <a:lnTo>
                    <a:pt x="710" y="7682"/>
                  </a:lnTo>
                  <a:lnTo>
                    <a:pt x="719" y="7585"/>
                  </a:lnTo>
                  <a:lnTo>
                    <a:pt x="729" y="7490"/>
                  </a:lnTo>
                  <a:lnTo>
                    <a:pt x="741" y="7394"/>
                  </a:lnTo>
                  <a:lnTo>
                    <a:pt x="754" y="7297"/>
                  </a:lnTo>
                  <a:lnTo>
                    <a:pt x="769" y="7201"/>
                  </a:lnTo>
                  <a:lnTo>
                    <a:pt x="783" y="7106"/>
                  </a:lnTo>
                  <a:lnTo>
                    <a:pt x="799" y="7013"/>
                  </a:lnTo>
                  <a:lnTo>
                    <a:pt x="817" y="6918"/>
                  </a:lnTo>
                  <a:lnTo>
                    <a:pt x="836" y="6823"/>
                  </a:lnTo>
                  <a:lnTo>
                    <a:pt x="856" y="6730"/>
                  </a:lnTo>
                  <a:lnTo>
                    <a:pt x="877" y="6637"/>
                  </a:lnTo>
                  <a:lnTo>
                    <a:pt x="899" y="6544"/>
                  </a:lnTo>
                  <a:lnTo>
                    <a:pt x="922" y="6452"/>
                  </a:lnTo>
                  <a:lnTo>
                    <a:pt x="947" y="6361"/>
                  </a:lnTo>
                  <a:lnTo>
                    <a:pt x="972" y="6270"/>
                  </a:lnTo>
                  <a:lnTo>
                    <a:pt x="998" y="6179"/>
                  </a:lnTo>
                  <a:lnTo>
                    <a:pt x="1026" y="6089"/>
                  </a:lnTo>
                  <a:lnTo>
                    <a:pt x="1055" y="5999"/>
                  </a:lnTo>
                  <a:lnTo>
                    <a:pt x="1084" y="5909"/>
                  </a:lnTo>
                  <a:lnTo>
                    <a:pt x="1115" y="5820"/>
                  </a:lnTo>
                  <a:lnTo>
                    <a:pt x="1147" y="5732"/>
                  </a:lnTo>
                  <a:lnTo>
                    <a:pt x="1180" y="5644"/>
                  </a:lnTo>
                  <a:lnTo>
                    <a:pt x="1215" y="5556"/>
                  </a:lnTo>
                  <a:lnTo>
                    <a:pt x="1248" y="5469"/>
                  </a:lnTo>
                  <a:lnTo>
                    <a:pt x="1285" y="5382"/>
                  </a:lnTo>
                  <a:lnTo>
                    <a:pt x="1323" y="5296"/>
                  </a:lnTo>
                  <a:lnTo>
                    <a:pt x="1360" y="5211"/>
                  </a:lnTo>
                  <a:lnTo>
                    <a:pt x="1399" y="5126"/>
                  </a:lnTo>
                  <a:lnTo>
                    <a:pt x="1439" y="5042"/>
                  </a:lnTo>
                  <a:lnTo>
                    <a:pt x="1481" y="4959"/>
                  </a:lnTo>
                  <a:lnTo>
                    <a:pt x="1522" y="4874"/>
                  </a:lnTo>
                  <a:lnTo>
                    <a:pt x="1565" y="4792"/>
                  </a:lnTo>
                  <a:lnTo>
                    <a:pt x="1609" y="4711"/>
                  </a:lnTo>
                  <a:lnTo>
                    <a:pt x="1654" y="4629"/>
                  </a:lnTo>
                  <a:lnTo>
                    <a:pt x="1700" y="4548"/>
                  </a:lnTo>
                  <a:lnTo>
                    <a:pt x="1747" y="4468"/>
                  </a:lnTo>
                  <a:lnTo>
                    <a:pt x="1795" y="4388"/>
                  </a:lnTo>
                  <a:lnTo>
                    <a:pt x="1845" y="4309"/>
                  </a:lnTo>
                  <a:lnTo>
                    <a:pt x="1894" y="4232"/>
                  </a:lnTo>
                  <a:lnTo>
                    <a:pt x="1944" y="4153"/>
                  </a:lnTo>
                  <a:lnTo>
                    <a:pt x="1996" y="4076"/>
                  </a:lnTo>
                  <a:lnTo>
                    <a:pt x="2048" y="3999"/>
                  </a:lnTo>
                  <a:lnTo>
                    <a:pt x="2101" y="3924"/>
                  </a:lnTo>
                  <a:lnTo>
                    <a:pt x="2154" y="3849"/>
                  </a:lnTo>
                  <a:lnTo>
                    <a:pt x="2210" y="3774"/>
                  </a:lnTo>
                  <a:lnTo>
                    <a:pt x="2266" y="3700"/>
                  </a:lnTo>
                  <a:lnTo>
                    <a:pt x="2323" y="3628"/>
                  </a:lnTo>
                  <a:lnTo>
                    <a:pt x="2381" y="3555"/>
                  </a:lnTo>
                  <a:lnTo>
                    <a:pt x="2439" y="3484"/>
                  </a:lnTo>
                  <a:lnTo>
                    <a:pt x="2499" y="3413"/>
                  </a:lnTo>
                  <a:lnTo>
                    <a:pt x="2558" y="3342"/>
                  </a:lnTo>
                  <a:lnTo>
                    <a:pt x="2619" y="3272"/>
                  </a:lnTo>
                  <a:lnTo>
                    <a:pt x="2682" y="3204"/>
                  </a:lnTo>
                  <a:lnTo>
                    <a:pt x="2744" y="3136"/>
                  </a:lnTo>
                  <a:lnTo>
                    <a:pt x="2807" y="3069"/>
                  </a:lnTo>
                  <a:lnTo>
                    <a:pt x="2872" y="3002"/>
                  </a:lnTo>
                  <a:lnTo>
                    <a:pt x="2937" y="2937"/>
                  </a:lnTo>
                  <a:lnTo>
                    <a:pt x="3002" y="2872"/>
                  </a:lnTo>
                  <a:lnTo>
                    <a:pt x="3068" y="2807"/>
                  </a:lnTo>
                  <a:lnTo>
                    <a:pt x="3136" y="2745"/>
                  </a:lnTo>
                  <a:lnTo>
                    <a:pt x="3204" y="2682"/>
                  </a:lnTo>
                  <a:lnTo>
                    <a:pt x="3273" y="2620"/>
                  </a:lnTo>
                  <a:lnTo>
                    <a:pt x="3342" y="2558"/>
                  </a:lnTo>
                  <a:lnTo>
                    <a:pt x="3412" y="2499"/>
                  </a:lnTo>
                  <a:lnTo>
                    <a:pt x="3484" y="2439"/>
                  </a:lnTo>
                  <a:lnTo>
                    <a:pt x="3555" y="2382"/>
                  </a:lnTo>
                  <a:lnTo>
                    <a:pt x="3628" y="2324"/>
                  </a:lnTo>
                  <a:lnTo>
                    <a:pt x="3700" y="2267"/>
                  </a:lnTo>
                  <a:lnTo>
                    <a:pt x="3774" y="2210"/>
                  </a:lnTo>
                  <a:lnTo>
                    <a:pt x="3848" y="2156"/>
                  </a:lnTo>
                  <a:lnTo>
                    <a:pt x="3924" y="2101"/>
                  </a:lnTo>
                  <a:lnTo>
                    <a:pt x="3998" y="2049"/>
                  </a:lnTo>
                  <a:lnTo>
                    <a:pt x="4076" y="1996"/>
                  </a:lnTo>
                  <a:lnTo>
                    <a:pt x="4152" y="1944"/>
                  </a:lnTo>
                  <a:lnTo>
                    <a:pt x="4230" y="1894"/>
                  </a:lnTo>
                  <a:lnTo>
                    <a:pt x="4309" y="1845"/>
                  </a:lnTo>
                  <a:lnTo>
                    <a:pt x="4388" y="1796"/>
                  </a:lnTo>
                  <a:lnTo>
                    <a:pt x="4468" y="1747"/>
                  </a:lnTo>
                  <a:lnTo>
                    <a:pt x="4548" y="1700"/>
                  </a:lnTo>
                  <a:lnTo>
                    <a:pt x="4629" y="1655"/>
                  </a:lnTo>
                  <a:lnTo>
                    <a:pt x="4710" y="1609"/>
                  </a:lnTo>
                  <a:lnTo>
                    <a:pt x="4791" y="1566"/>
                  </a:lnTo>
                  <a:lnTo>
                    <a:pt x="4874" y="1522"/>
                  </a:lnTo>
                  <a:lnTo>
                    <a:pt x="4958" y="1482"/>
                  </a:lnTo>
                  <a:lnTo>
                    <a:pt x="5041" y="1440"/>
                  </a:lnTo>
                  <a:lnTo>
                    <a:pt x="5126" y="1399"/>
                  </a:lnTo>
                  <a:lnTo>
                    <a:pt x="5210" y="1361"/>
                  </a:lnTo>
                  <a:lnTo>
                    <a:pt x="5296" y="1323"/>
                  </a:lnTo>
                  <a:lnTo>
                    <a:pt x="5382" y="1285"/>
                  </a:lnTo>
                  <a:lnTo>
                    <a:pt x="5469" y="1248"/>
                  </a:lnTo>
                  <a:lnTo>
                    <a:pt x="5556" y="1215"/>
                  </a:lnTo>
                  <a:lnTo>
                    <a:pt x="5643" y="1180"/>
                  </a:lnTo>
                  <a:lnTo>
                    <a:pt x="5731" y="1148"/>
                  </a:lnTo>
                  <a:lnTo>
                    <a:pt x="5820" y="1115"/>
                  </a:lnTo>
                  <a:lnTo>
                    <a:pt x="5909" y="1085"/>
                  </a:lnTo>
                  <a:lnTo>
                    <a:pt x="5998" y="1055"/>
                  </a:lnTo>
                  <a:lnTo>
                    <a:pt x="6088" y="1026"/>
                  </a:lnTo>
                  <a:lnTo>
                    <a:pt x="6179" y="999"/>
                  </a:lnTo>
                  <a:lnTo>
                    <a:pt x="6270" y="972"/>
                  </a:lnTo>
                  <a:lnTo>
                    <a:pt x="6361" y="947"/>
                  </a:lnTo>
                  <a:lnTo>
                    <a:pt x="6452" y="922"/>
                  </a:lnTo>
                  <a:lnTo>
                    <a:pt x="6544" y="899"/>
                  </a:lnTo>
                  <a:lnTo>
                    <a:pt x="6636" y="877"/>
                  </a:lnTo>
                  <a:lnTo>
                    <a:pt x="6730" y="857"/>
                  </a:lnTo>
                  <a:lnTo>
                    <a:pt x="6823" y="836"/>
                  </a:lnTo>
                  <a:lnTo>
                    <a:pt x="6918" y="817"/>
                  </a:lnTo>
                  <a:lnTo>
                    <a:pt x="7012" y="800"/>
                  </a:lnTo>
                  <a:lnTo>
                    <a:pt x="7107" y="784"/>
                  </a:lnTo>
                  <a:lnTo>
                    <a:pt x="7201" y="769"/>
                  </a:lnTo>
                  <a:lnTo>
                    <a:pt x="7296" y="754"/>
                  </a:lnTo>
                  <a:lnTo>
                    <a:pt x="7393" y="741"/>
                  </a:lnTo>
                  <a:lnTo>
                    <a:pt x="7489" y="730"/>
                  </a:lnTo>
                  <a:lnTo>
                    <a:pt x="7586" y="719"/>
                  </a:lnTo>
                  <a:lnTo>
                    <a:pt x="7682" y="710"/>
                  </a:lnTo>
                  <a:lnTo>
                    <a:pt x="7780" y="702"/>
                  </a:lnTo>
                  <a:lnTo>
                    <a:pt x="7878" y="695"/>
                  </a:lnTo>
                  <a:lnTo>
                    <a:pt x="7974" y="690"/>
                  </a:lnTo>
                  <a:lnTo>
                    <a:pt x="8073" y="684"/>
                  </a:lnTo>
                  <a:lnTo>
                    <a:pt x="8172" y="681"/>
                  </a:lnTo>
                  <a:lnTo>
                    <a:pt x="8272" y="681"/>
                  </a:lnTo>
                  <a:lnTo>
                    <a:pt x="8371" y="680"/>
                  </a:lnTo>
                  <a:lnTo>
                    <a:pt x="8371" y="0"/>
                  </a:lnTo>
                  <a:lnTo>
                    <a:pt x="8263" y="1"/>
                  </a:lnTo>
                  <a:lnTo>
                    <a:pt x="8156" y="4"/>
                  </a:lnTo>
                  <a:lnTo>
                    <a:pt x="8050" y="7"/>
                  </a:lnTo>
                  <a:lnTo>
                    <a:pt x="7943" y="12"/>
                  </a:lnTo>
                  <a:lnTo>
                    <a:pt x="7835" y="18"/>
                  </a:lnTo>
                  <a:lnTo>
                    <a:pt x="7730" y="25"/>
                  </a:lnTo>
                  <a:lnTo>
                    <a:pt x="7624" y="33"/>
                  </a:lnTo>
                  <a:lnTo>
                    <a:pt x="7517" y="44"/>
                  </a:lnTo>
                  <a:lnTo>
                    <a:pt x="7413" y="55"/>
                  </a:lnTo>
                  <a:lnTo>
                    <a:pt x="7308" y="69"/>
                  </a:lnTo>
                  <a:lnTo>
                    <a:pt x="7204" y="83"/>
                  </a:lnTo>
                  <a:lnTo>
                    <a:pt x="7100" y="97"/>
                  </a:lnTo>
                  <a:lnTo>
                    <a:pt x="6995" y="114"/>
                  </a:lnTo>
                  <a:lnTo>
                    <a:pt x="6892" y="131"/>
                  </a:lnTo>
                  <a:lnTo>
                    <a:pt x="6790" y="151"/>
                  </a:lnTo>
                  <a:lnTo>
                    <a:pt x="6688" y="172"/>
                  </a:lnTo>
                  <a:lnTo>
                    <a:pt x="6587" y="193"/>
                  </a:lnTo>
                  <a:lnTo>
                    <a:pt x="6485" y="216"/>
                  </a:lnTo>
                  <a:lnTo>
                    <a:pt x="6384" y="241"/>
                  </a:lnTo>
                  <a:lnTo>
                    <a:pt x="6285" y="266"/>
                  </a:lnTo>
                  <a:lnTo>
                    <a:pt x="6183" y="291"/>
                  </a:lnTo>
                  <a:lnTo>
                    <a:pt x="6084" y="319"/>
                  </a:lnTo>
                  <a:lnTo>
                    <a:pt x="5984" y="348"/>
                  </a:lnTo>
                  <a:lnTo>
                    <a:pt x="5886" y="378"/>
                  </a:lnTo>
                  <a:lnTo>
                    <a:pt x="5789" y="409"/>
                  </a:lnTo>
                  <a:lnTo>
                    <a:pt x="5691" y="442"/>
                  </a:lnTo>
                  <a:lnTo>
                    <a:pt x="5594" y="475"/>
                  </a:lnTo>
                  <a:lnTo>
                    <a:pt x="5498" y="510"/>
                  </a:lnTo>
                  <a:lnTo>
                    <a:pt x="5401" y="546"/>
                  </a:lnTo>
                  <a:lnTo>
                    <a:pt x="5306" y="583"/>
                  </a:lnTo>
                  <a:lnTo>
                    <a:pt x="5211" y="622"/>
                  </a:lnTo>
                  <a:lnTo>
                    <a:pt x="5119" y="661"/>
                  </a:lnTo>
                  <a:lnTo>
                    <a:pt x="5025" y="701"/>
                  </a:lnTo>
                  <a:lnTo>
                    <a:pt x="4932" y="742"/>
                  </a:lnTo>
                  <a:lnTo>
                    <a:pt x="4838" y="786"/>
                  </a:lnTo>
                  <a:lnTo>
                    <a:pt x="4747" y="829"/>
                  </a:lnTo>
                  <a:lnTo>
                    <a:pt x="4655" y="873"/>
                  </a:lnTo>
                  <a:lnTo>
                    <a:pt x="4566" y="920"/>
                  </a:lnTo>
                  <a:lnTo>
                    <a:pt x="4475" y="966"/>
                  </a:lnTo>
                  <a:lnTo>
                    <a:pt x="4386" y="1014"/>
                  </a:lnTo>
                  <a:lnTo>
                    <a:pt x="4297" y="1063"/>
                  </a:lnTo>
                  <a:lnTo>
                    <a:pt x="4210" y="1113"/>
                  </a:lnTo>
                  <a:lnTo>
                    <a:pt x="4123" y="1164"/>
                  </a:lnTo>
                  <a:lnTo>
                    <a:pt x="4035" y="1216"/>
                  </a:lnTo>
                  <a:lnTo>
                    <a:pt x="3950" y="1268"/>
                  </a:lnTo>
                  <a:lnTo>
                    <a:pt x="3864" y="1323"/>
                  </a:lnTo>
                  <a:lnTo>
                    <a:pt x="3781" y="1378"/>
                  </a:lnTo>
                  <a:lnTo>
                    <a:pt x="3696" y="1434"/>
                  </a:lnTo>
                  <a:lnTo>
                    <a:pt x="3613" y="1491"/>
                  </a:lnTo>
                  <a:lnTo>
                    <a:pt x="3530" y="1549"/>
                  </a:lnTo>
                  <a:lnTo>
                    <a:pt x="3450" y="1608"/>
                  </a:lnTo>
                  <a:lnTo>
                    <a:pt x="3368" y="1668"/>
                  </a:lnTo>
                  <a:lnTo>
                    <a:pt x="3288" y="1728"/>
                  </a:lnTo>
                  <a:lnTo>
                    <a:pt x="3208" y="1790"/>
                  </a:lnTo>
                  <a:lnTo>
                    <a:pt x="3130" y="1853"/>
                  </a:lnTo>
                  <a:lnTo>
                    <a:pt x="3051" y="1916"/>
                  </a:lnTo>
                  <a:lnTo>
                    <a:pt x="2974" y="1981"/>
                  </a:lnTo>
                  <a:lnTo>
                    <a:pt x="2898" y="2047"/>
                  </a:lnTo>
                  <a:lnTo>
                    <a:pt x="2822" y="2113"/>
                  </a:lnTo>
                  <a:lnTo>
                    <a:pt x="2748" y="2180"/>
                  </a:lnTo>
                  <a:lnTo>
                    <a:pt x="2673" y="2248"/>
                  </a:lnTo>
                  <a:lnTo>
                    <a:pt x="2601" y="2317"/>
                  </a:lnTo>
                  <a:lnTo>
                    <a:pt x="2529" y="2386"/>
                  </a:lnTo>
                  <a:lnTo>
                    <a:pt x="2457" y="2457"/>
                  </a:lnTo>
                  <a:lnTo>
                    <a:pt x="2386" y="2529"/>
                  </a:lnTo>
                  <a:lnTo>
                    <a:pt x="2317" y="2601"/>
                  </a:lnTo>
                  <a:lnTo>
                    <a:pt x="2248" y="2675"/>
                  </a:lnTo>
                  <a:lnTo>
                    <a:pt x="2180" y="2748"/>
                  </a:lnTo>
                  <a:lnTo>
                    <a:pt x="2113" y="2823"/>
                  </a:lnTo>
                  <a:lnTo>
                    <a:pt x="2046" y="2898"/>
                  </a:lnTo>
                  <a:lnTo>
                    <a:pt x="1981" y="2975"/>
                  </a:lnTo>
                  <a:lnTo>
                    <a:pt x="1916" y="3051"/>
                  </a:lnTo>
                  <a:lnTo>
                    <a:pt x="1852" y="3130"/>
                  </a:lnTo>
                  <a:lnTo>
                    <a:pt x="1789" y="3208"/>
                  </a:lnTo>
                  <a:lnTo>
                    <a:pt x="1728" y="3289"/>
                  </a:lnTo>
                  <a:lnTo>
                    <a:pt x="1668" y="3368"/>
                  </a:lnTo>
                  <a:lnTo>
                    <a:pt x="1608" y="3450"/>
                  </a:lnTo>
                  <a:lnTo>
                    <a:pt x="1549" y="3530"/>
                  </a:lnTo>
                  <a:lnTo>
                    <a:pt x="1490" y="3614"/>
                  </a:lnTo>
                  <a:lnTo>
                    <a:pt x="1434" y="3696"/>
                  </a:lnTo>
                  <a:lnTo>
                    <a:pt x="1378" y="3781"/>
                  </a:lnTo>
                  <a:lnTo>
                    <a:pt x="1323" y="3864"/>
                  </a:lnTo>
                  <a:lnTo>
                    <a:pt x="1268" y="3950"/>
                  </a:lnTo>
                  <a:lnTo>
                    <a:pt x="1216" y="4036"/>
                  </a:lnTo>
                  <a:lnTo>
                    <a:pt x="1164" y="4123"/>
                  </a:lnTo>
                  <a:lnTo>
                    <a:pt x="1113" y="4211"/>
                  </a:lnTo>
                  <a:lnTo>
                    <a:pt x="1062" y="4297"/>
                  </a:lnTo>
                  <a:lnTo>
                    <a:pt x="1014" y="4386"/>
                  </a:lnTo>
                  <a:lnTo>
                    <a:pt x="966" y="4476"/>
                  </a:lnTo>
                  <a:lnTo>
                    <a:pt x="919" y="4566"/>
                  </a:lnTo>
                  <a:lnTo>
                    <a:pt x="873" y="4656"/>
                  </a:lnTo>
                  <a:lnTo>
                    <a:pt x="829" y="4747"/>
                  </a:lnTo>
                  <a:lnTo>
                    <a:pt x="785" y="4839"/>
                  </a:lnTo>
                  <a:lnTo>
                    <a:pt x="742" y="4932"/>
                  </a:lnTo>
                  <a:lnTo>
                    <a:pt x="701" y="5025"/>
                  </a:lnTo>
                  <a:lnTo>
                    <a:pt x="660" y="5119"/>
                  </a:lnTo>
                  <a:lnTo>
                    <a:pt x="622" y="5212"/>
                  </a:lnTo>
                  <a:lnTo>
                    <a:pt x="583" y="5306"/>
                  </a:lnTo>
                  <a:lnTo>
                    <a:pt x="545" y="5402"/>
                  </a:lnTo>
                  <a:lnTo>
                    <a:pt x="510" y="5498"/>
                  </a:lnTo>
                  <a:lnTo>
                    <a:pt x="475" y="5594"/>
                  </a:lnTo>
                  <a:lnTo>
                    <a:pt x="442" y="5691"/>
                  </a:lnTo>
                  <a:lnTo>
                    <a:pt x="409" y="5789"/>
                  </a:lnTo>
                  <a:lnTo>
                    <a:pt x="378" y="5887"/>
                  </a:lnTo>
                  <a:lnTo>
                    <a:pt x="347" y="5985"/>
                  </a:lnTo>
                  <a:lnTo>
                    <a:pt x="319" y="6084"/>
                  </a:lnTo>
                  <a:lnTo>
                    <a:pt x="291" y="6183"/>
                  </a:lnTo>
                  <a:lnTo>
                    <a:pt x="266" y="6285"/>
                  </a:lnTo>
                  <a:lnTo>
                    <a:pt x="240" y="6385"/>
                  </a:lnTo>
                  <a:lnTo>
                    <a:pt x="216" y="6485"/>
                  </a:lnTo>
                  <a:lnTo>
                    <a:pt x="193" y="6587"/>
                  </a:lnTo>
                  <a:lnTo>
                    <a:pt x="172" y="6688"/>
                  </a:lnTo>
                  <a:lnTo>
                    <a:pt x="151" y="6791"/>
                  </a:lnTo>
                  <a:lnTo>
                    <a:pt x="132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2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2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80" y="837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9200" y="4291560"/>
              <a:ext cx="545040" cy="510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8371" y="7691"/>
                  </a:moveTo>
                  <a:lnTo>
                    <a:pt x="8371" y="7691"/>
                  </a:lnTo>
                  <a:lnTo>
                    <a:pt x="8272" y="7691"/>
                  </a:lnTo>
                  <a:lnTo>
                    <a:pt x="8172" y="7690"/>
                  </a:lnTo>
                  <a:lnTo>
                    <a:pt x="8073" y="7687"/>
                  </a:lnTo>
                  <a:lnTo>
                    <a:pt x="7974" y="7681"/>
                  </a:lnTo>
                  <a:lnTo>
                    <a:pt x="7878" y="7676"/>
                  </a:lnTo>
                  <a:lnTo>
                    <a:pt x="7780" y="7669"/>
                  </a:lnTo>
                  <a:lnTo>
                    <a:pt x="7682" y="7661"/>
                  </a:lnTo>
                  <a:lnTo>
                    <a:pt x="7585" y="7652"/>
                  </a:lnTo>
                  <a:lnTo>
                    <a:pt x="7489" y="7642"/>
                  </a:lnTo>
                  <a:lnTo>
                    <a:pt x="7393" y="7630"/>
                  </a:lnTo>
                  <a:lnTo>
                    <a:pt x="7296" y="7617"/>
                  </a:lnTo>
                  <a:lnTo>
                    <a:pt x="7201" y="7602"/>
                  </a:lnTo>
                  <a:lnTo>
                    <a:pt x="7106" y="7588"/>
                  </a:lnTo>
                  <a:lnTo>
                    <a:pt x="7012" y="7572"/>
                  </a:lnTo>
                  <a:lnTo>
                    <a:pt x="6918" y="7554"/>
                  </a:lnTo>
                  <a:lnTo>
                    <a:pt x="6823" y="7535"/>
                  </a:lnTo>
                  <a:lnTo>
                    <a:pt x="6730" y="7515"/>
                  </a:lnTo>
                  <a:lnTo>
                    <a:pt x="6636" y="7494"/>
                  </a:lnTo>
                  <a:lnTo>
                    <a:pt x="6544" y="7472"/>
                  </a:lnTo>
                  <a:lnTo>
                    <a:pt x="6452" y="7449"/>
                  </a:lnTo>
                  <a:lnTo>
                    <a:pt x="6361" y="7424"/>
                  </a:lnTo>
                  <a:lnTo>
                    <a:pt x="6270" y="7399"/>
                  </a:lnTo>
                  <a:lnTo>
                    <a:pt x="6179" y="7373"/>
                  </a:lnTo>
                  <a:lnTo>
                    <a:pt x="6088" y="7345"/>
                  </a:lnTo>
                  <a:lnTo>
                    <a:pt x="5998" y="7316"/>
                  </a:lnTo>
                  <a:lnTo>
                    <a:pt x="5909" y="7287"/>
                  </a:lnTo>
                  <a:lnTo>
                    <a:pt x="5820" y="7256"/>
                  </a:lnTo>
                  <a:lnTo>
                    <a:pt x="5731" y="7224"/>
                  </a:lnTo>
                  <a:lnTo>
                    <a:pt x="5643" y="7191"/>
                  </a:lnTo>
                  <a:lnTo>
                    <a:pt x="5556" y="7156"/>
                  </a:lnTo>
                  <a:lnTo>
                    <a:pt x="5469" y="7123"/>
                  </a:lnTo>
                  <a:lnTo>
                    <a:pt x="5382" y="7086"/>
                  </a:lnTo>
                  <a:lnTo>
                    <a:pt x="5296" y="7048"/>
                  </a:lnTo>
                  <a:lnTo>
                    <a:pt x="5210" y="7011"/>
                  </a:lnTo>
                  <a:lnTo>
                    <a:pt x="5126" y="6972"/>
                  </a:lnTo>
                  <a:lnTo>
                    <a:pt x="5041" y="6932"/>
                  </a:lnTo>
                  <a:lnTo>
                    <a:pt x="4958" y="6890"/>
                  </a:lnTo>
                  <a:lnTo>
                    <a:pt x="4875" y="6849"/>
                  </a:lnTo>
                  <a:lnTo>
                    <a:pt x="4791" y="6806"/>
                  </a:lnTo>
                  <a:lnTo>
                    <a:pt x="4710" y="6762"/>
                  </a:lnTo>
                  <a:lnTo>
                    <a:pt x="4629" y="6717"/>
                  </a:lnTo>
                  <a:lnTo>
                    <a:pt x="4548" y="6671"/>
                  </a:lnTo>
                  <a:lnTo>
                    <a:pt x="4468" y="6624"/>
                  </a:lnTo>
                  <a:lnTo>
                    <a:pt x="4388" y="6576"/>
                  </a:lnTo>
                  <a:lnTo>
                    <a:pt x="4309" y="6526"/>
                  </a:lnTo>
                  <a:lnTo>
                    <a:pt x="4230" y="6477"/>
                  </a:lnTo>
                  <a:lnTo>
                    <a:pt x="4154" y="6427"/>
                  </a:lnTo>
                  <a:lnTo>
                    <a:pt x="4076" y="6375"/>
                  </a:lnTo>
                  <a:lnTo>
                    <a:pt x="3998" y="6323"/>
                  </a:lnTo>
                  <a:lnTo>
                    <a:pt x="3924" y="6270"/>
                  </a:lnTo>
                  <a:lnTo>
                    <a:pt x="3848" y="6217"/>
                  </a:lnTo>
                  <a:lnTo>
                    <a:pt x="3774" y="6161"/>
                  </a:lnTo>
                  <a:lnTo>
                    <a:pt x="3700" y="6105"/>
                  </a:lnTo>
                  <a:lnTo>
                    <a:pt x="3628" y="6048"/>
                  </a:lnTo>
                  <a:lnTo>
                    <a:pt x="3555" y="5990"/>
                  </a:lnTo>
                  <a:lnTo>
                    <a:pt x="3484" y="5932"/>
                  </a:lnTo>
                  <a:lnTo>
                    <a:pt x="3412" y="5872"/>
                  </a:lnTo>
                  <a:lnTo>
                    <a:pt x="3342" y="5813"/>
                  </a:lnTo>
                  <a:lnTo>
                    <a:pt x="3273" y="5752"/>
                  </a:lnTo>
                  <a:lnTo>
                    <a:pt x="3204" y="5689"/>
                  </a:lnTo>
                  <a:lnTo>
                    <a:pt x="3136" y="5627"/>
                  </a:lnTo>
                  <a:lnTo>
                    <a:pt x="3068" y="5564"/>
                  </a:lnTo>
                  <a:lnTo>
                    <a:pt x="3002" y="5499"/>
                  </a:lnTo>
                  <a:lnTo>
                    <a:pt x="2937" y="5434"/>
                  </a:lnTo>
                  <a:lnTo>
                    <a:pt x="2872" y="5369"/>
                  </a:lnTo>
                  <a:lnTo>
                    <a:pt x="2807" y="5303"/>
                  </a:lnTo>
                  <a:lnTo>
                    <a:pt x="2744" y="5235"/>
                  </a:lnTo>
                  <a:lnTo>
                    <a:pt x="2682" y="5167"/>
                  </a:lnTo>
                  <a:lnTo>
                    <a:pt x="2619" y="5098"/>
                  </a:lnTo>
                  <a:lnTo>
                    <a:pt x="2558" y="5029"/>
                  </a:lnTo>
                  <a:lnTo>
                    <a:pt x="2499" y="4959"/>
                  </a:lnTo>
                  <a:lnTo>
                    <a:pt x="2439" y="4887"/>
                  </a:lnTo>
                  <a:lnTo>
                    <a:pt x="2381" y="4816"/>
                  </a:lnTo>
                  <a:lnTo>
                    <a:pt x="2323" y="4743"/>
                  </a:lnTo>
                  <a:lnTo>
                    <a:pt x="2266" y="4671"/>
                  </a:lnTo>
                  <a:lnTo>
                    <a:pt x="2210" y="4597"/>
                  </a:lnTo>
                  <a:lnTo>
                    <a:pt x="2154" y="4523"/>
                  </a:lnTo>
                  <a:lnTo>
                    <a:pt x="2101" y="4447"/>
                  </a:lnTo>
                  <a:lnTo>
                    <a:pt x="2048" y="4373"/>
                  </a:lnTo>
                  <a:lnTo>
                    <a:pt x="1996" y="4295"/>
                  </a:lnTo>
                  <a:lnTo>
                    <a:pt x="1944" y="4217"/>
                  </a:lnTo>
                  <a:lnTo>
                    <a:pt x="1894" y="4141"/>
                  </a:lnTo>
                  <a:lnTo>
                    <a:pt x="1845" y="4062"/>
                  </a:lnTo>
                  <a:lnTo>
                    <a:pt x="1795" y="3983"/>
                  </a:lnTo>
                  <a:lnTo>
                    <a:pt x="1747" y="3903"/>
                  </a:lnTo>
                  <a:lnTo>
                    <a:pt x="1700" y="3823"/>
                  </a:lnTo>
                  <a:lnTo>
                    <a:pt x="1654" y="3742"/>
                  </a:lnTo>
                  <a:lnTo>
                    <a:pt x="1609" y="3661"/>
                  </a:lnTo>
                  <a:lnTo>
                    <a:pt x="1565" y="3580"/>
                  </a:lnTo>
                  <a:lnTo>
                    <a:pt x="1522" y="3496"/>
                  </a:lnTo>
                  <a:lnTo>
                    <a:pt x="1481" y="3413"/>
                  </a:lnTo>
                  <a:lnTo>
                    <a:pt x="1439" y="3330"/>
                  </a:lnTo>
                  <a:lnTo>
                    <a:pt x="1399" y="3245"/>
                  </a:lnTo>
                  <a:lnTo>
                    <a:pt x="1360" y="3161"/>
                  </a:lnTo>
                  <a:lnTo>
                    <a:pt x="1323" y="3075"/>
                  </a:lnTo>
                  <a:lnTo>
                    <a:pt x="1285" y="2989"/>
                  </a:lnTo>
                  <a:lnTo>
                    <a:pt x="1248" y="2902"/>
                  </a:lnTo>
                  <a:lnTo>
                    <a:pt x="1215" y="2815"/>
                  </a:lnTo>
                  <a:lnTo>
                    <a:pt x="1180" y="2728"/>
                  </a:lnTo>
                  <a:lnTo>
                    <a:pt x="1147" y="2640"/>
                  </a:lnTo>
                  <a:lnTo>
                    <a:pt x="1115" y="2551"/>
                  </a:lnTo>
                  <a:lnTo>
                    <a:pt x="1084" y="2462"/>
                  </a:lnTo>
                  <a:lnTo>
                    <a:pt x="1055" y="2373"/>
                  </a:lnTo>
                  <a:lnTo>
                    <a:pt x="1026" y="2283"/>
                  </a:lnTo>
                  <a:lnTo>
                    <a:pt x="998" y="2192"/>
                  </a:lnTo>
                  <a:lnTo>
                    <a:pt x="972" y="2101"/>
                  </a:lnTo>
                  <a:lnTo>
                    <a:pt x="947" y="2010"/>
                  </a:lnTo>
                  <a:lnTo>
                    <a:pt x="922" y="1919"/>
                  </a:lnTo>
                  <a:lnTo>
                    <a:pt x="899" y="1827"/>
                  </a:lnTo>
                  <a:lnTo>
                    <a:pt x="877" y="1735"/>
                  </a:lnTo>
                  <a:lnTo>
                    <a:pt x="856" y="1641"/>
                  </a:lnTo>
                  <a:lnTo>
                    <a:pt x="836" y="1548"/>
                  </a:lnTo>
                  <a:lnTo>
                    <a:pt x="817" y="1453"/>
                  </a:lnTo>
                  <a:lnTo>
                    <a:pt x="799" y="1359"/>
                  </a:lnTo>
                  <a:lnTo>
                    <a:pt x="783" y="1265"/>
                  </a:lnTo>
                  <a:lnTo>
                    <a:pt x="769" y="1170"/>
                  </a:lnTo>
                  <a:lnTo>
                    <a:pt x="754" y="1075"/>
                  </a:lnTo>
                  <a:lnTo>
                    <a:pt x="741" y="978"/>
                  </a:lnTo>
                  <a:lnTo>
                    <a:pt x="729" y="882"/>
                  </a:lnTo>
                  <a:lnTo>
                    <a:pt x="719" y="786"/>
                  </a:lnTo>
                  <a:lnTo>
                    <a:pt x="710" y="689"/>
                  </a:lnTo>
                  <a:lnTo>
                    <a:pt x="702" y="591"/>
                  </a:lnTo>
                  <a:lnTo>
                    <a:pt x="695" y="493"/>
                  </a:lnTo>
                  <a:lnTo>
                    <a:pt x="690" y="397"/>
                  </a:lnTo>
                  <a:lnTo>
                    <a:pt x="684" y="298"/>
                  </a:lnTo>
                  <a:lnTo>
                    <a:pt x="681" y="199"/>
                  </a:lnTo>
                  <a:lnTo>
                    <a:pt x="680" y="99"/>
                  </a:lnTo>
                  <a:lnTo>
                    <a:pt x="680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2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2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2" y="1479"/>
                  </a:lnTo>
                  <a:lnTo>
                    <a:pt x="151" y="1581"/>
                  </a:lnTo>
                  <a:lnTo>
                    <a:pt x="172" y="1683"/>
                  </a:lnTo>
                  <a:lnTo>
                    <a:pt x="193" y="1784"/>
                  </a:lnTo>
                  <a:lnTo>
                    <a:pt x="216" y="1886"/>
                  </a:lnTo>
                  <a:lnTo>
                    <a:pt x="240" y="1987"/>
                  </a:lnTo>
                  <a:lnTo>
                    <a:pt x="266" y="2086"/>
                  </a:lnTo>
                  <a:lnTo>
                    <a:pt x="291" y="2188"/>
                  </a:lnTo>
                  <a:lnTo>
                    <a:pt x="319" y="2287"/>
                  </a:lnTo>
                  <a:lnTo>
                    <a:pt x="347" y="2387"/>
                  </a:lnTo>
                  <a:lnTo>
                    <a:pt x="378" y="2485"/>
                  </a:lnTo>
                  <a:lnTo>
                    <a:pt x="409" y="2582"/>
                  </a:lnTo>
                  <a:lnTo>
                    <a:pt x="442" y="2680"/>
                  </a:lnTo>
                  <a:lnTo>
                    <a:pt x="475" y="2777"/>
                  </a:lnTo>
                  <a:lnTo>
                    <a:pt x="510" y="2873"/>
                  </a:lnTo>
                  <a:lnTo>
                    <a:pt x="545" y="2970"/>
                  </a:lnTo>
                  <a:lnTo>
                    <a:pt x="583" y="3065"/>
                  </a:lnTo>
                  <a:lnTo>
                    <a:pt x="622" y="3160"/>
                  </a:lnTo>
                  <a:lnTo>
                    <a:pt x="660" y="3252"/>
                  </a:lnTo>
                  <a:lnTo>
                    <a:pt x="701" y="3346"/>
                  </a:lnTo>
                  <a:lnTo>
                    <a:pt x="742" y="3439"/>
                  </a:lnTo>
                  <a:lnTo>
                    <a:pt x="785" y="3533"/>
                  </a:lnTo>
                  <a:lnTo>
                    <a:pt x="829" y="3624"/>
                  </a:lnTo>
                  <a:lnTo>
                    <a:pt x="873" y="3716"/>
                  </a:lnTo>
                  <a:lnTo>
                    <a:pt x="919" y="3807"/>
                  </a:lnTo>
                  <a:lnTo>
                    <a:pt x="966" y="3896"/>
                  </a:lnTo>
                  <a:lnTo>
                    <a:pt x="1014" y="3985"/>
                  </a:lnTo>
                  <a:lnTo>
                    <a:pt x="1062" y="4074"/>
                  </a:lnTo>
                  <a:lnTo>
                    <a:pt x="1113" y="4161"/>
                  </a:lnTo>
                  <a:lnTo>
                    <a:pt x="1164" y="4248"/>
                  </a:lnTo>
                  <a:lnTo>
                    <a:pt x="1216" y="4336"/>
                  </a:lnTo>
                  <a:lnTo>
                    <a:pt x="1268" y="4421"/>
                  </a:lnTo>
                  <a:lnTo>
                    <a:pt x="1323" y="4507"/>
                  </a:lnTo>
                  <a:lnTo>
                    <a:pt x="1378" y="4591"/>
                  </a:lnTo>
                  <a:lnTo>
                    <a:pt x="1434" y="4675"/>
                  </a:lnTo>
                  <a:lnTo>
                    <a:pt x="1490" y="4758"/>
                  </a:lnTo>
                  <a:lnTo>
                    <a:pt x="1549" y="4841"/>
                  </a:lnTo>
                  <a:lnTo>
                    <a:pt x="1608" y="4921"/>
                  </a:lnTo>
                  <a:lnTo>
                    <a:pt x="1668" y="5003"/>
                  </a:lnTo>
                  <a:lnTo>
                    <a:pt x="1728" y="5083"/>
                  </a:lnTo>
                  <a:lnTo>
                    <a:pt x="1789" y="5163"/>
                  </a:lnTo>
                  <a:lnTo>
                    <a:pt x="1852" y="5241"/>
                  </a:lnTo>
                  <a:lnTo>
                    <a:pt x="1916" y="5320"/>
                  </a:lnTo>
                  <a:lnTo>
                    <a:pt x="1981" y="5397"/>
                  </a:lnTo>
                  <a:lnTo>
                    <a:pt x="2046" y="5473"/>
                  </a:lnTo>
                  <a:lnTo>
                    <a:pt x="2113" y="5549"/>
                  </a:lnTo>
                  <a:lnTo>
                    <a:pt x="2180" y="5623"/>
                  </a:lnTo>
                  <a:lnTo>
                    <a:pt x="2248" y="5698"/>
                  </a:lnTo>
                  <a:lnTo>
                    <a:pt x="2317" y="5770"/>
                  </a:lnTo>
                  <a:lnTo>
                    <a:pt x="2386" y="5842"/>
                  </a:lnTo>
                  <a:lnTo>
                    <a:pt x="2457" y="5914"/>
                  </a:lnTo>
                  <a:lnTo>
                    <a:pt x="2529" y="5985"/>
                  </a:lnTo>
                  <a:lnTo>
                    <a:pt x="2601" y="6054"/>
                  </a:lnTo>
                  <a:lnTo>
                    <a:pt x="2673" y="6123"/>
                  </a:lnTo>
                  <a:lnTo>
                    <a:pt x="2748" y="6191"/>
                  </a:lnTo>
                  <a:lnTo>
                    <a:pt x="2822" y="6258"/>
                  </a:lnTo>
                  <a:lnTo>
                    <a:pt x="2898" y="6325"/>
                  </a:lnTo>
                  <a:lnTo>
                    <a:pt x="2974" y="6390"/>
                  </a:lnTo>
                  <a:lnTo>
                    <a:pt x="3051" y="6455"/>
                  </a:lnTo>
                  <a:lnTo>
                    <a:pt x="3130" y="6519"/>
                  </a:lnTo>
                  <a:lnTo>
                    <a:pt x="3208" y="6582"/>
                  </a:lnTo>
                  <a:lnTo>
                    <a:pt x="3288" y="6643"/>
                  </a:lnTo>
                  <a:lnTo>
                    <a:pt x="3368" y="6703"/>
                  </a:lnTo>
                  <a:lnTo>
                    <a:pt x="3450" y="6763"/>
                  </a:lnTo>
                  <a:lnTo>
                    <a:pt x="3530" y="6822"/>
                  </a:lnTo>
                  <a:lnTo>
                    <a:pt x="3613" y="6881"/>
                  </a:lnTo>
                  <a:lnTo>
                    <a:pt x="3696" y="6937"/>
                  </a:lnTo>
                  <a:lnTo>
                    <a:pt x="3780" y="6993"/>
                  </a:lnTo>
                  <a:lnTo>
                    <a:pt x="3864" y="7048"/>
                  </a:lnTo>
                  <a:lnTo>
                    <a:pt x="3950" y="7103"/>
                  </a:lnTo>
                  <a:lnTo>
                    <a:pt x="4035" y="7155"/>
                  </a:lnTo>
                  <a:lnTo>
                    <a:pt x="4123" y="7207"/>
                  </a:lnTo>
                  <a:lnTo>
                    <a:pt x="4210" y="7258"/>
                  </a:lnTo>
                  <a:lnTo>
                    <a:pt x="4297" y="7309"/>
                  </a:lnTo>
                  <a:lnTo>
                    <a:pt x="4386" y="7357"/>
                  </a:lnTo>
                  <a:lnTo>
                    <a:pt x="4475" y="7405"/>
                  </a:lnTo>
                  <a:lnTo>
                    <a:pt x="4564" y="7452"/>
                  </a:lnTo>
                  <a:lnTo>
                    <a:pt x="4655" y="7498"/>
                  </a:lnTo>
                  <a:lnTo>
                    <a:pt x="4747" y="7542"/>
                  </a:lnTo>
                  <a:lnTo>
                    <a:pt x="4838" y="7586"/>
                  </a:lnTo>
                  <a:lnTo>
                    <a:pt x="4932" y="7629"/>
                  </a:lnTo>
                  <a:lnTo>
                    <a:pt x="5025" y="7670"/>
                  </a:lnTo>
                  <a:lnTo>
                    <a:pt x="5119" y="7711"/>
                  </a:lnTo>
                  <a:lnTo>
                    <a:pt x="5211" y="7749"/>
                  </a:lnTo>
                  <a:lnTo>
                    <a:pt x="5306" y="7788"/>
                  </a:lnTo>
                  <a:lnTo>
                    <a:pt x="5401" y="7826"/>
                  </a:lnTo>
                  <a:lnTo>
                    <a:pt x="5498" y="7861"/>
                  </a:lnTo>
                  <a:lnTo>
                    <a:pt x="5594" y="7896"/>
                  </a:lnTo>
                  <a:lnTo>
                    <a:pt x="5691" y="7929"/>
                  </a:lnTo>
                  <a:lnTo>
                    <a:pt x="5789" y="7962"/>
                  </a:lnTo>
                  <a:lnTo>
                    <a:pt x="5886" y="7993"/>
                  </a:lnTo>
                  <a:lnTo>
                    <a:pt x="5984" y="8024"/>
                  </a:lnTo>
                  <a:lnTo>
                    <a:pt x="6084" y="8052"/>
                  </a:lnTo>
                  <a:lnTo>
                    <a:pt x="6183" y="8080"/>
                  </a:lnTo>
                  <a:lnTo>
                    <a:pt x="6285" y="8105"/>
                  </a:lnTo>
                  <a:lnTo>
                    <a:pt x="6384" y="8131"/>
                  </a:lnTo>
                  <a:lnTo>
                    <a:pt x="6485" y="8155"/>
                  </a:lnTo>
                  <a:lnTo>
                    <a:pt x="6587" y="8178"/>
                  </a:lnTo>
                  <a:lnTo>
                    <a:pt x="6688" y="8199"/>
                  </a:lnTo>
                  <a:lnTo>
                    <a:pt x="6790" y="8220"/>
                  </a:lnTo>
                  <a:lnTo>
                    <a:pt x="6892" y="8239"/>
                  </a:lnTo>
                  <a:lnTo>
                    <a:pt x="6997" y="8257"/>
                  </a:lnTo>
                  <a:lnTo>
                    <a:pt x="7100" y="8275"/>
                  </a:lnTo>
                  <a:lnTo>
                    <a:pt x="7204" y="8289"/>
                  </a:lnTo>
                  <a:lnTo>
                    <a:pt x="7308" y="8302"/>
                  </a:lnTo>
                  <a:lnTo>
                    <a:pt x="7413" y="8316"/>
                  </a:lnTo>
                  <a:lnTo>
                    <a:pt x="7518" y="8327"/>
                  </a:lnTo>
                  <a:lnTo>
                    <a:pt x="7624" y="8338"/>
                  </a:lnTo>
                  <a:lnTo>
                    <a:pt x="7730" y="8346"/>
                  </a:lnTo>
                  <a:lnTo>
                    <a:pt x="7835" y="8353"/>
                  </a:lnTo>
                  <a:lnTo>
                    <a:pt x="7943" y="8359"/>
                  </a:lnTo>
                  <a:lnTo>
                    <a:pt x="8050" y="8364"/>
                  </a:lnTo>
                  <a:lnTo>
                    <a:pt x="8156" y="8367"/>
                  </a:lnTo>
                  <a:lnTo>
                    <a:pt x="8263" y="8370"/>
                  </a:lnTo>
                  <a:lnTo>
                    <a:pt x="8371" y="8371"/>
                  </a:lnTo>
                  <a:lnTo>
                    <a:pt x="8371" y="8371"/>
                  </a:lnTo>
                  <a:lnTo>
                    <a:pt x="8371" y="769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84240" y="4291560"/>
              <a:ext cx="543600" cy="510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7691" y="0"/>
                  </a:moveTo>
                  <a:lnTo>
                    <a:pt x="7691" y="0"/>
                  </a:lnTo>
                  <a:lnTo>
                    <a:pt x="7690" y="99"/>
                  </a:lnTo>
                  <a:lnTo>
                    <a:pt x="7690" y="199"/>
                  </a:lnTo>
                  <a:lnTo>
                    <a:pt x="7687" y="298"/>
                  </a:lnTo>
                  <a:lnTo>
                    <a:pt x="7681" y="397"/>
                  </a:lnTo>
                  <a:lnTo>
                    <a:pt x="7676" y="493"/>
                  </a:lnTo>
                  <a:lnTo>
                    <a:pt x="7669" y="591"/>
                  </a:lnTo>
                  <a:lnTo>
                    <a:pt x="7661" y="689"/>
                  </a:lnTo>
                  <a:lnTo>
                    <a:pt x="7652" y="785"/>
                  </a:lnTo>
                  <a:lnTo>
                    <a:pt x="7641" y="882"/>
                  </a:lnTo>
                  <a:lnTo>
                    <a:pt x="7630" y="978"/>
                  </a:lnTo>
                  <a:lnTo>
                    <a:pt x="7617" y="1075"/>
                  </a:lnTo>
                  <a:lnTo>
                    <a:pt x="7602" y="1170"/>
                  </a:lnTo>
                  <a:lnTo>
                    <a:pt x="7587" y="1264"/>
                  </a:lnTo>
                  <a:lnTo>
                    <a:pt x="7571" y="1359"/>
                  </a:lnTo>
                  <a:lnTo>
                    <a:pt x="7554" y="1453"/>
                  </a:lnTo>
                  <a:lnTo>
                    <a:pt x="7535" y="1548"/>
                  </a:lnTo>
                  <a:lnTo>
                    <a:pt x="7514" y="1641"/>
                  </a:lnTo>
                  <a:lnTo>
                    <a:pt x="7494" y="1735"/>
                  </a:lnTo>
                  <a:lnTo>
                    <a:pt x="7472" y="1827"/>
                  </a:lnTo>
                  <a:lnTo>
                    <a:pt x="7449" y="1919"/>
                  </a:lnTo>
                  <a:lnTo>
                    <a:pt x="7424" y="2010"/>
                  </a:lnTo>
                  <a:lnTo>
                    <a:pt x="7399" y="2101"/>
                  </a:lnTo>
                  <a:lnTo>
                    <a:pt x="7372" y="2192"/>
                  </a:lnTo>
                  <a:lnTo>
                    <a:pt x="7345" y="2283"/>
                  </a:lnTo>
                  <a:lnTo>
                    <a:pt x="7316" y="2373"/>
                  </a:lnTo>
                  <a:lnTo>
                    <a:pt x="7286" y="2462"/>
                  </a:lnTo>
                  <a:lnTo>
                    <a:pt x="7256" y="2551"/>
                  </a:lnTo>
                  <a:lnTo>
                    <a:pt x="7223" y="2640"/>
                  </a:lnTo>
                  <a:lnTo>
                    <a:pt x="7191" y="2728"/>
                  </a:lnTo>
                  <a:lnTo>
                    <a:pt x="7156" y="2815"/>
                  </a:lnTo>
                  <a:lnTo>
                    <a:pt x="7123" y="2902"/>
                  </a:lnTo>
                  <a:lnTo>
                    <a:pt x="7086" y="2989"/>
                  </a:lnTo>
                  <a:lnTo>
                    <a:pt x="7048" y="3075"/>
                  </a:lnTo>
                  <a:lnTo>
                    <a:pt x="7010" y="3161"/>
                  </a:lnTo>
                  <a:lnTo>
                    <a:pt x="6972" y="3245"/>
                  </a:lnTo>
                  <a:lnTo>
                    <a:pt x="6931" y="3330"/>
                  </a:lnTo>
                  <a:lnTo>
                    <a:pt x="6889" y="3413"/>
                  </a:lnTo>
                  <a:lnTo>
                    <a:pt x="6849" y="3497"/>
                  </a:lnTo>
                  <a:lnTo>
                    <a:pt x="6805" y="3580"/>
                  </a:lnTo>
                  <a:lnTo>
                    <a:pt x="6762" y="3661"/>
                  </a:lnTo>
                  <a:lnTo>
                    <a:pt x="6716" y="3742"/>
                  </a:lnTo>
                  <a:lnTo>
                    <a:pt x="6671" y="3823"/>
                  </a:lnTo>
                  <a:lnTo>
                    <a:pt x="6624" y="3903"/>
                  </a:lnTo>
                  <a:lnTo>
                    <a:pt x="6575" y="3983"/>
                  </a:lnTo>
                  <a:lnTo>
                    <a:pt x="6526" y="4062"/>
                  </a:lnTo>
                  <a:lnTo>
                    <a:pt x="6477" y="4141"/>
                  </a:lnTo>
                  <a:lnTo>
                    <a:pt x="6427" y="4219"/>
                  </a:lnTo>
                  <a:lnTo>
                    <a:pt x="6375" y="4295"/>
                  </a:lnTo>
                  <a:lnTo>
                    <a:pt x="6322" y="4373"/>
                  </a:lnTo>
                  <a:lnTo>
                    <a:pt x="6270" y="4447"/>
                  </a:lnTo>
                  <a:lnTo>
                    <a:pt x="6215" y="4523"/>
                  </a:lnTo>
                  <a:lnTo>
                    <a:pt x="6161" y="4597"/>
                  </a:lnTo>
                  <a:lnTo>
                    <a:pt x="6104" y="4671"/>
                  </a:lnTo>
                  <a:lnTo>
                    <a:pt x="6047" y="4743"/>
                  </a:lnTo>
                  <a:lnTo>
                    <a:pt x="5989" y="4816"/>
                  </a:lnTo>
                  <a:lnTo>
                    <a:pt x="5932" y="4887"/>
                  </a:lnTo>
                  <a:lnTo>
                    <a:pt x="5872" y="4959"/>
                  </a:lnTo>
                  <a:lnTo>
                    <a:pt x="5813" y="5029"/>
                  </a:lnTo>
                  <a:lnTo>
                    <a:pt x="5751" y="5098"/>
                  </a:lnTo>
                  <a:lnTo>
                    <a:pt x="5689" y="5167"/>
                  </a:lnTo>
                  <a:lnTo>
                    <a:pt x="5626" y="5235"/>
                  </a:lnTo>
                  <a:lnTo>
                    <a:pt x="5564" y="5303"/>
                  </a:lnTo>
                  <a:lnTo>
                    <a:pt x="5499" y="5369"/>
                  </a:lnTo>
                  <a:lnTo>
                    <a:pt x="5434" y="5434"/>
                  </a:lnTo>
                  <a:lnTo>
                    <a:pt x="5369" y="5499"/>
                  </a:lnTo>
                  <a:lnTo>
                    <a:pt x="5302" y="5564"/>
                  </a:lnTo>
                  <a:lnTo>
                    <a:pt x="5235" y="5627"/>
                  </a:lnTo>
                  <a:lnTo>
                    <a:pt x="5167" y="5689"/>
                  </a:lnTo>
                  <a:lnTo>
                    <a:pt x="5099" y="5752"/>
                  </a:lnTo>
                  <a:lnTo>
                    <a:pt x="5029" y="5813"/>
                  </a:lnTo>
                  <a:lnTo>
                    <a:pt x="4958" y="5872"/>
                  </a:lnTo>
                  <a:lnTo>
                    <a:pt x="4887" y="5932"/>
                  </a:lnTo>
                  <a:lnTo>
                    <a:pt x="4816" y="5990"/>
                  </a:lnTo>
                  <a:lnTo>
                    <a:pt x="4743" y="6048"/>
                  </a:lnTo>
                  <a:lnTo>
                    <a:pt x="4671" y="6105"/>
                  </a:lnTo>
                  <a:lnTo>
                    <a:pt x="4597" y="6161"/>
                  </a:lnTo>
                  <a:lnTo>
                    <a:pt x="4522" y="6217"/>
                  </a:lnTo>
                  <a:lnTo>
                    <a:pt x="4447" y="6270"/>
                  </a:lnTo>
                  <a:lnTo>
                    <a:pt x="4372" y="6323"/>
                  </a:lnTo>
                  <a:lnTo>
                    <a:pt x="4295" y="6375"/>
                  </a:lnTo>
                  <a:lnTo>
                    <a:pt x="4218" y="6427"/>
                  </a:lnTo>
                  <a:lnTo>
                    <a:pt x="4139" y="6477"/>
                  </a:lnTo>
                  <a:lnTo>
                    <a:pt x="4062" y="6526"/>
                  </a:lnTo>
                  <a:lnTo>
                    <a:pt x="3983" y="6576"/>
                  </a:lnTo>
                  <a:lnTo>
                    <a:pt x="3903" y="6624"/>
                  </a:lnTo>
                  <a:lnTo>
                    <a:pt x="3823" y="6671"/>
                  </a:lnTo>
                  <a:lnTo>
                    <a:pt x="3742" y="6717"/>
                  </a:lnTo>
                  <a:lnTo>
                    <a:pt x="3660" y="6762"/>
                  </a:lnTo>
                  <a:lnTo>
                    <a:pt x="3579" y="6806"/>
                  </a:lnTo>
                  <a:lnTo>
                    <a:pt x="3497" y="6849"/>
                  </a:lnTo>
                  <a:lnTo>
                    <a:pt x="3412" y="6890"/>
                  </a:lnTo>
                  <a:lnTo>
                    <a:pt x="3329" y="6932"/>
                  </a:lnTo>
                  <a:lnTo>
                    <a:pt x="3245" y="6972"/>
                  </a:lnTo>
                  <a:lnTo>
                    <a:pt x="3160" y="7011"/>
                  </a:lnTo>
                  <a:lnTo>
                    <a:pt x="3075" y="7048"/>
                  </a:lnTo>
                  <a:lnTo>
                    <a:pt x="2989" y="7086"/>
                  </a:lnTo>
                  <a:lnTo>
                    <a:pt x="2902" y="7123"/>
                  </a:lnTo>
                  <a:lnTo>
                    <a:pt x="2815" y="7156"/>
                  </a:lnTo>
                  <a:lnTo>
                    <a:pt x="2727" y="7191"/>
                  </a:lnTo>
                  <a:lnTo>
                    <a:pt x="2639" y="7224"/>
                  </a:lnTo>
                  <a:lnTo>
                    <a:pt x="2551" y="7256"/>
                  </a:lnTo>
                  <a:lnTo>
                    <a:pt x="2462" y="7287"/>
                  </a:lnTo>
                  <a:lnTo>
                    <a:pt x="2372" y="7316"/>
                  </a:lnTo>
                  <a:lnTo>
                    <a:pt x="2282" y="7345"/>
                  </a:lnTo>
                  <a:lnTo>
                    <a:pt x="2192" y="7373"/>
                  </a:lnTo>
                  <a:lnTo>
                    <a:pt x="2101" y="7399"/>
                  </a:lnTo>
                  <a:lnTo>
                    <a:pt x="2010" y="7424"/>
                  </a:lnTo>
                  <a:lnTo>
                    <a:pt x="1919" y="7449"/>
                  </a:lnTo>
                  <a:lnTo>
                    <a:pt x="1827" y="7472"/>
                  </a:lnTo>
                  <a:lnTo>
                    <a:pt x="1734" y="7494"/>
                  </a:lnTo>
                  <a:lnTo>
                    <a:pt x="1641" y="7515"/>
                  </a:lnTo>
                  <a:lnTo>
                    <a:pt x="1548" y="7535"/>
                  </a:lnTo>
                  <a:lnTo>
                    <a:pt x="1453" y="7554"/>
                  </a:lnTo>
                  <a:lnTo>
                    <a:pt x="1358" y="7572"/>
                  </a:lnTo>
                  <a:lnTo>
                    <a:pt x="1265" y="7588"/>
                  </a:lnTo>
                  <a:lnTo>
                    <a:pt x="1170" y="7602"/>
                  </a:lnTo>
                  <a:lnTo>
                    <a:pt x="1074" y="7617"/>
                  </a:lnTo>
                  <a:lnTo>
                    <a:pt x="977" y="7630"/>
                  </a:lnTo>
                  <a:lnTo>
                    <a:pt x="881" y="7642"/>
                  </a:lnTo>
                  <a:lnTo>
                    <a:pt x="786" y="7652"/>
                  </a:lnTo>
                  <a:lnTo>
                    <a:pt x="689" y="7661"/>
                  </a:lnTo>
                  <a:lnTo>
                    <a:pt x="591" y="7669"/>
                  </a:lnTo>
                  <a:lnTo>
                    <a:pt x="493" y="7676"/>
                  </a:lnTo>
                  <a:lnTo>
                    <a:pt x="397" y="7681"/>
                  </a:lnTo>
                  <a:lnTo>
                    <a:pt x="297" y="7687"/>
                  </a:lnTo>
                  <a:lnTo>
                    <a:pt x="199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8" y="8370"/>
                  </a:lnTo>
                  <a:lnTo>
                    <a:pt x="215" y="8367"/>
                  </a:lnTo>
                  <a:lnTo>
                    <a:pt x="321" y="8364"/>
                  </a:lnTo>
                  <a:lnTo>
                    <a:pt x="428" y="8359"/>
                  </a:lnTo>
                  <a:lnTo>
                    <a:pt x="536" y="8353"/>
                  </a:lnTo>
                  <a:lnTo>
                    <a:pt x="641" y="8346"/>
                  </a:lnTo>
                  <a:lnTo>
                    <a:pt x="747" y="8338"/>
                  </a:lnTo>
                  <a:lnTo>
                    <a:pt x="852" y="8327"/>
                  </a:lnTo>
                  <a:lnTo>
                    <a:pt x="958" y="8316"/>
                  </a:lnTo>
                  <a:lnTo>
                    <a:pt x="1063" y="8302"/>
                  </a:lnTo>
                  <a:lnTo>
                    <a:pt x="1167" y="8289"/>
                  </a:lnTo>
                  <a:lnTo>
                    <a:pt x="1270" y="8275"/>
                  </a:lnTo>
                  <a:lnTo>
                    <a:pt x="1374" y="8257"/>
                  </a:lnTo>
                  <a:lnTo>
                    <a:pt x="1479" y="8239"/>
                  </a:lnTo>
                  <a:lnTo>
                    <a:pt x="1580" y="8220"/>
                  </a:lnTo>
                  <a:lnTo>
                    <a:pt x="1683" y="8199"/>
                  </a:lnTo>
                  <a:lnTo>
                    <a:pt x="1784" y="8178"/>
                  </a:lnTo>
                  <a:lnTo>
                    <a:pt x="1886" y="8155"/>
                  </a:lnTo>
                  <a:lnTo>
                    <a:pt x="1986" y="8131"/>
                  </a:lnTo>
                  <a:lnTo>
                    <a:pt x="2086" y="8105"/>
                  </a:lnTo>
                  <a:lnTo>
                    <a:pt x="2188" y="8080"/>
                  </a:lnTo>
                  <a:lnTo>
                    <a:pt x="2287" y="8052"/>
                  </a:lnTo>
                  <a:lnTo>
                    <a:pt x="2386" y="8024"/>
                  </a:lnTo>
                  <a:lnTo>
                    <a:pt x="2484" y="7993"/>
                  </a:lnTo>
                  <a:lnTo>
                    <a:pt x="2582" y="7962"/>
                  </a:lnTo>
                  <a:lnTo>
                    <a:pt x="2680" y="7929"/>
                  </a:lnTo>
                  <a:lnTo>
                    <a:pt x="2777" y="7896"/>
                  </a:lnTo>
                  <a:lnTo>
                    <a:pt x="2873" y="7861"/>
                  </a:lnTo>
                  <a:lnTo>
                    <a:pt x="2969" y="7826"/>
                  </a:lnTo>
                  <a:lnTo>
                    <a:pt x="3065" y="7788"/>
                  </a:lnTo>
                  <a:lnTo>
                    <a:pt x="3159" y="7749"/>
                  </a:lnTo>
                  <a:lnTo>
                    <a:pt x="3252" y="7711"/>
                  </a:lnTo>
                  <a:lnTo>
                    <a:pt x="3346" y="7670"/>
                  </a:lnTo>
                  <a:lnTo>
                    <a:pt x="3439" y="7629"/>
                  </a:lnTo>
                  <a:lnTo>
                    <a:pt x="3532" y="7586"/>
                  </a:lnTo>
                  <a:lnTo>
                    <a:pt x="3624" y="7542"/>
                  </a:lnTo>
                  <a:lnTo>
                    <a:pt x="3715" y="7498"/>
                  </a:lnTo>
                  <a:lnTo>
                    <a:pt x="3805" y="7452"/>
                  </a:lnTo>
                  <a:lnTo>
                    <a:pt x="3895" y="7405"/>
                  </a:lnTo>
                  <a:lnTo>
                    <a:pt x="3985" y="7357"/>
                  </a:lnTo>
                  <a:lnTo>
                    <a:pt x="4074" y="7309"/>
                  </a:lnTo>
                  <a:lnTo>
                    <a:pt x="4160" y="7258"/>
                  </a:lnTo>
                  <a:lnTo>
                    <a:pt x="4248" y="7207"/>
                  </a:lnTo>
                  <a:lnTo>
                    <a:pt x="4335" y="7155"/>
                  </a:lnTo>
                  <a:lnTo>
                    <a:pt x="4421" y="7103"/>
                  </a:lnTo>
                  <a:lnTo>
                    <a:pt x="4507" y="7048"/>
                  </a:lnTo>
                  <a:lnTo>
                    <a:pt x="4590" y="6993"/>
                  </a:lnTo>
                  <a:lnTo>
                    <a:pt x="4675" y="6937"/>
                  </a:lnTo>
                  <a:lnTo>
                    <a:pt x="4757" y="6881"/>
                  </a:lnTo>
                  <a:lnTo>
                    <a:pt x="4841" y="6822"/>
                  </a:lnTo>
                  <a:lnTo>
                    <a:pt x="4921" y="6763"/>
                  </a:lnTo>
                  <a:lnTo>
                    <a:pt x="5003" y="6703"/>
                  </a:lnTo>
                  <a:lnTo>
                    <a:pt x="5082" y="6643"/>
                  </a:lnTo>
                  <a:lnTo>
                    <a:pt x="5163" y="6582"/>
                  </a:lnTo>
                  <a:lnTo>
                    <a:pt x="5241" y="6519"/>
                  </a:lnTo>
                  <a:lnTo>
                    <a:pt x="5320" y="6455"/>
                  </a:lnTo>
                  <a:lnTo>
                    <a:pt x="5396" y="6390"/>
                  </a:lnTo>
                  <a:lnTo>
                    <a:pt x="5473" y="6325"/>
                  </a:lnTo>
                  <a:lnTo>
                    <a:pt x="5548" y="6258"/>
                  </a:lnTo>
                  <a:lnTo>
                    <a:pt x="5623" y="6191"/>
                  </a:lnTo>
                  <a:lnTo>
                    <a:pt x="5696" y="6123"/>
                  </a:lnTo>
                  <a:lnTo>
                    <a:pt x="5770" y="6054"/>
                  </a:lnTo>
                  <a:lnTo>
                    <a:pt x="5842" y="5985"/>
                  </a:lnTo>
                  <a:lnTo>
                    <a:pt x="5914" y="5914"/>
                  </a:lnTo>
                  <a:lnTo>
                    <a:pt x="5985" y="5842"/>
                  </a:lnTo>
                  <a:lnTo>
                    <a:pt x="6054" y="5770"/>
                  </a:lnTo>
                  <a:lnTo>
                    <a:pt x="6123" y="5698"/>
                  </a:lnTo>
                  <a:lnTo>
                    <a:pt x="6191" y="5623"/>
                  </a:lnTo>
                  <a:lnTo>
                    <a:pt x="6258" y="5549"/>
                  </a:lnTo>
                  <a:lnTo>
                    <a:pt x="6324" y="5473"/>
                  </a:lnTo>
                  <a:lnTo>
                    <a:pt x="6390" y="5397"/>
                  </a:lnTo>
                  <a:lnTo>
                    <a:pt x="6455" y="5320"/>
                  </a:lnTo>
                  <a:lnTo>
                    <a:pt x="6518" y="5241"/>
                  </a:lnTo>
                  <a:lnTo>
                    <a:pt x="6581" y="5163"/>
                  </a:lnTo>
                  <a:lnTo>
                    <a:pt x="6643" y="5083"/>
                  </a:lnTo>
                  <a:lnTo>
                    <a:pt x="6703" y="5003"/>
                  </a:lnTo>
                  <a:lnTo>
                    <a:pt x="6763" y="4921"/>
                  </a:lnTo>
                  <a:lnTo>
                    <a:pt x="6822" y="4841"/>
                  </a:lnTo>
                  <a:lnTo>
                    <a:pt x="6880" y="4758"/>
                  </a:lnTo>
                  <a:lnTo>
                    <a:pt x="6937" y="4675"/>
                  </a:lnTo>
                  <a:lnTo>
                    <a:pt x="6993" y="4590"/>
                  </a:lnTo>
                  <a:lnTo>
                    <a:pt x="7048" y="4507"/>
                  </a:lnTo>
                  <a:lnTo>
                    <a:pt x="7103" y="4421"/>
                  </a:lnTo>
                  <a:lnTo>
                    <a:pt x="7155" y="4336"/>
                  </a:lnTo>
                  <a:lnTo>
                    <a:pt x="7207" y="4248"/>
                  </a:lnTo>
                  <a:lnTo>
                    <a:pt x="7258" y="4161"/>
                  </a:lnTo>
                  <a:lnTo>
                    <a:pt x="7308" y="4074"/>
                  </a:lnTo>
                  <a:lnTo>
                    <a:pt x="7357" y="3985"/>
                  </a:lnTo>
                  <a:lnTo>
                    <a:pt x="7405" y="3896"/>
                  </a:lnTo>
                  <a:lnTo>
                    <a:pt x="7451" y="3805"/>
                  </a:lnTo>
                  <a:lnTo>
                    <a:pt x="7498" y="3716"/>
                  </a:lnTo>
                  <a:lnTo>
                    <a:pt x="7542" y="3624"/>
                  </a:lnTo>
                  <a:lnTo>
                    <a:pt x="7585" y="3533"/>
                  </a:lnTo>
                  <a:lnTo>
                    <a:pt x="7629" y="3439"/>
                  </a:lnTo>
                  <a:lnTo>
                    <a:pt x="7670" y="3346"/>
                  </a:lnTo>
                  <a:lnTo>
                    <a:pt x="7710" y="3252"/>
                  </a:lnTo>
                  <a:lnTo>
                    <a:pt x="7749" y="3160"/>
                  </a:lnTo>
                  <a:lnTo>
                    <a:pt x="7788" y="3065"/>
                  </a:lnTo>
                  <a:lnTo>
                    <a:pt x="7825" y="2970"/>
                  </a:lnTo>
                  <a:lnTo>
                    <a:pt x="7861" y="2873"/>
                  </a:lnTo>
                  <a:lnTo>
                    <a:pt x="7896" y="2777"/>
                  </a:lnTo>
                  <a:lnTo>
                    <a:pt x="7929" y="2680"/>
                  </a:lnTo>
                  <a:lnTo>
                    <a:pt x="7962" y="2582"/>
                  </a:lnTo>
                  <a:lnTo>
                    <a:pt x="7993" y="2485"/>
                  </a:lnTo>
                  <a:lnTo>
                    <a:pt x="8023" y="2387"/>
                  </a:lnTo>
                  <a:lnTo>
                    <a:pt x="8052" y="2287"/>
                  </a:lnTo>
                  <a:lnTo>
                    <a:pt x="8080" y="2188"/>
                  </a:lnTo>
                  <a:lnTo>
                    <a:pt x="8105" y="2086"/>
                  </a:lnTo>
                  <a:lnTo>
                    <a:pt x="8130" y="1987"/>
                  </a:lnTo>
                  <a:lnTo>
                    <a:pt x="8155" y="1886"/>
                  </a:lnTo>
                  <a:lnTo>
                    <a:pt x="8178" y="1784"/>
                  </a:lnTo>
                  <a:lnTo>
                    <a:pt x="8199" y="1683"/>
                  </a:lnTo>
                  <a:lnTo>
                    <a:pt x="8220" y="1581"/>
                  </a:lnTo>
                  <a:lnTo>
                    <a:pt x="8240" y="1479"/>
                  </a:lnTo>
                  <a:lnTo>
                    <a:pt x="8257" y="1376"/>
                  </a:lnTo>
                  <a:lnTo>
                    <a:pt x="8274" y="1271"/>
                  </a:lnTo>
                  <a:lnTo>
                    <a:pt x="8288" y="1167"/>
                  </a:lnTo>
                  <a:lnTo>
                    <a:pt x="8302" y="1063"/>
                  </a:lnTo>
                  <a:lnTo>
                    <a:pt x="8316" y="958"/>
                  </a:lnTo>
                  <a:lnTo>
                    <a:pt x="8327" y="854"/>
                  </a:lnTo>
                  <a:lnTo>
                    <a:pt x="8338" y="747"/>
                  </a:lnTo>
                  <a:lnTo>
                    <a:pt x="8346" y="641"/>
                  </a:lnTo>
                  <a:lnTo>
                    <a:pt x="8353" y="536"/>
                  </a:lnTo>
                  <a:lnTo>
                    <a:pt x="8359" y="428"/>
                  </a:lnTo>
                  <a:lnTo>
                    <a:pt x="8364" y="321"/>
                  </a:lnTo>
                  <a:lnTo>
                    <a:pt x="8367" y="215"/>
                  </a:lnTo>
                  <a:lnTo>
                    <a:pt x="8370" y="108"/>
                  </a:lnTo>
                  <a:lnTo>
                    <a:pt x="8371" y="0"/>
                  </a:lnTo>
                  <a:lnTo>
                    <a:pt x="8371" y="0"/>
                  </a:lnTo>
                  <a:lnTo>
                    <a:pt x="7691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05840" y="4268520"/>
              <a:ext cx="117000" cy="357120"/>
            </a:xfrm>
            <a:custGeom>
              <a:avLst/>
              <a:gdLst/>
              <a:ahLst/>
              <a:rect l="l" t="t" r="r" b="b"/>
              <a:pathLst>
                <a:path w="1800" h="5856">
                  <a:moveTo>
                    <a:pt x="1792" y="5395"/>
                  </a:moveTo>
                  <a:lnTo>
                    <a:pt x="1795" y="5338"/>
                  </a:lnTo>
                  <a:lnTo>
                    <a:pt x="1797" y="5255"/>
                  </a:lnTo>
                  <a:lnTo>
                    <a:pt x="1799" y="5156"/>
                  </a:lnTo>
                  <a:lnTo>
                    <a:pt x="1800" y="5053"/>
                  </a:lnTo>
                  <a:lnTo>
                    <a:pt x="1800" y="4957"/>
                  </a:lnTo>
                  <a:lnTo>
                    <a:pt x="1799" y="4879"/>
                  </a:lnTo>
                  <a:lnTo>
                    <a:pt x="1798" y="4850"/>
                  </a:lnTo>
                  <a:lnTo>
                    <a:pt x="1796" y="4830"/>
                  </a:lnTo>
                  <a:lnTo>
                    <a:pt x="1795" y="4822"/>
                  </a:lnTo>
                  <a:lnTo>
                    <a:pt x="1794" y="4819"/>
                  </a:lnTo>
                  <a:lnTo>
                    <a:pt x="1793" y="4818"/>
                  </a:lnTo>
                  <a:lnTo>
                    <a:pt x="1791" y="4820"/>
                  </a:lnTo>
                  <a:lnTo>
                    <a:pt x="1766" y="4873"/>
                  </a:lnTo>
                  <a:lnTo>
                    <a:pt x="1739" y="4923"/>
                  </a:lnTo>
                  <a:lnTo>
                    <a:pt x="1707" y="4969"/>
                  </a:lnTo>
                  <a:lnTo>
                    <a:pt x="1672" y="5012"/>
                  </a:lnTo>
                  <a:lnTo>
                    <a:pt x="1636" y="5053"/>
                  </a:lnTo>
                  <a:lnTo>
                    <a:pt x="1595" y="5090"/>
                  </a:lnTo>
                  <a:lnTo>
                    <a:pt x="1553" y="5124"/>
                  </a:lnTo>
                  <a:lnTo>
                    <a:pt x="1509" y="5155"/>
                  </a:lnTo>
                  <a:lnTo>
                    <a:pt x="1463" y="5183"/>
                  </a:lnTo>
                  <a:lnTo>
                    <a:pt x="1416" y="5209"/>
                  </a:lnTo>
                  <a:lnTo>
                    <a:pt x="1367" y="5232"/>
                  </a:lnTo>
                  <a:lnTo>
                    <a:pt x="1318" y="5250"/>
                  </a:lnTo>
                  <a:lnTo>
                    <a:pt x="1268" y="5266"/>
                  </a:lnTo>
                  <a:lnTo>
                    <a:pt x="1218" y="5280"/>
                  </a:lnTo>
                  <a:lnTo>
                    <a:pt x="1168" y="5290"/>
                  </a:lnTo>
                  <a:lnTo>
                    <a:pt x="1119" y="5298"/>
                  </a:lnTo>
                  <a:lnTo>
                    <a:pt x="1070" y="5302"/>
                  </a:lnTo>
                  <a:lnTo>
                    <a:pt x="1022" y="5303"/>
                  </a:lnTo>
                  <a:lnTo>
                    <a:pt x="975" y="5302"/>
                  </a:lnTo>
                  <a:lnTo>
                    <a:pt x="930" y="5296"/>
                  </a:lnTo>
                  <a:lnTo>
                    <a:pt x="886" y="5289"/>
                  </a:lnTo>
                  <a:lnTo>
                    <a:pt x="846" y="5279"/>
                  </a:lnTo>
                  <a:lnTo>
                    <a:pt x="807" y="5266"/>
                  </a:lnTo>
                  <a:lnTo>
                    <a:pt x="771" y="5249"/>
                  </a:lnTo>
                  <a:lnTo>
                    <a:pt x="738" y="5231"/>
                  </a:lnTo>
                  <a:lnTo>
                    <a:pt x="709" y="5209"/>
                  </a:lnTo>
                  <a:lnTo>
                    <a:pt x="682" y="5183"/>
                  </a:lnTo>
                  <a:lnTo>
                    <a:pt x="659" y="5156"/>
                  </a:lnTo>
                  <a:lnTo>
                    <a:pt x="642" y="5126"/>
                  </a:lnTo>
                  <a:lnTo>
                    <a:pt x="628" y="5092"/>
                  </a:lnTo>
                  <a:lnTo>
                    <a:pt x="619" y="5056"/>
                  </a:lnTo>
                  <a:lnTo>
                    <a:pt x="615" y="5016"/>
                  </a:lnTo>
                  <a:lnTo>
                    <a:pt x="612" y="4857"/>
                  </a:lnTo>
                  <a:lnTo>
                    <a:pt x="610" y="4699"/>
                  </a:lnTo>
                  <a:lnTo>
                    <a:pt x="609" y="4541"/>
                  </a:lnTo>
                  <a:lnTo>
                    <a:pt x="610" y="4383"/>
                  </a:lnTo>
                  <a:lnTo>
                    <a:pt x="612" y="4225"/>
                  </a:lnTo>
                  <a:lnTo>
                    <a:pt x="615" y="4068"/>
                  </a:lnTo>
                  <a:lnTo>
                    <a:pt x="620" y="3911"/>
                  </a:lnTo>
                  <a:lnTo>
                    <a:pt x="625" y="3755"/>
                  </a:lnTo>
                  <a:lnTo>
                    <a:pt x="631" y="3598"/>
                  </a:lnTo>
                  <a:lnTo>
                    <a:pt x="637" y="3442"/>
                  </a:lnTo>
                  <a:lnTo>
                    <a:pt x="645" y="3286"/>
                  </a:lnTo>
                  <a:lnTo>
                    <a:pt x="653" y="3130"/>
                  </a:lnTo>
                  <a:lnTo>
                    <a:pt x="670" y="2820"/>
                  </a:lnTo>
                  <a:lnTo>
                    <a:pt x="687" y="2508"/>
                  </a:lnTo>
                  <a:lnTo>
                    <a:pt x="704" y="2197"/>
                  </a:lnTo>
                  <a:lnTo>
                    <a:pt x="721" y="1886"/>
                  </a:lnTo>
                  <a:lnTo>
                    <a:pt x="728" y="1730"/>
                  </a:lnTo>
                  <a:lnTo>
                    <a:pt x="736" y="1575"/>
                  </a:lnTo>
                  <a:lnTo>
                    <a:pt x="742" y="1419"/>
                  </a:lnTo>
                  <a:lnTo>
                    <a:pt x="748" y="1262"/>
                  </a:lnTo>
                  <a:lnTo>
                    <a:pt x="754" y="1105"/>
                  </a:lnTo>
                  <a:lnTo>
                    <a:pt x="758" y="949"/>
                  </a:lnTo>
                  <a:lnTo>
                    <a:pt x="761" y="791"/>
                  </a:lnTo>
                  <a:lnTo>
                    <a:pt x="763" y="634"/>
                  </a:lnTo>
                  <a:lnTo>
                    <a:pt x="764" y="476"/>
                  </a:lnTo>
                  <a:lnTo>
                    <a:pt x="763" y="318"/>
                  </a:lnTo>
                  <a:lnTo>
                    <a:pt x="762" y="159"/>
                  </a:lnTo>
                  <a:lnTo>
                    <a:pt x="759" y="0"/>
                  </a:lnTo>
                  <a:lnTo>
                    <a:pt x="130" y="12"/>
                  </a:lnTo>
                  <a:lnTo>
                    <a:pt x="0" y="5023"/>
                  </a:lnTo>
                  <a:lnTo>
                    <a:pt x="1" y="5090"/>
                  </a:lnTo>
                  <a:lnTo>
                    <a:pt x="10" y="5156"/>
                  </a:lnTo>
                  <a:lnTo>
                    <a:pt x="26" y="5220"/>
                  </a:lnTo>
                  <a:lnTo>
                    <a:pt x="48" y="5283"/>
                  </a:lnTo>
                  <a:lnTo>
                    <a:pt x="78" y="5344"/>
                  </a:lnTo>
                  <a:lnTo>
                    <a:pt x="113" y="5401"/>
                  </a:lnTo>
                  <a:lnTo>
                    <a:pt x="154" y="5457"/>
                  </a:lnTo>
                  <a:lnTo>
                    <a:pt x="200" y="5510"/>
                  </a:lnTo>
                  <a:lnTo>
                    <a:pt x="251" y="5560"/>
                  </a:lnTo>
                  <a:lnTo>
                    <a:pt x="306" y="5607"/>
                  </a:lnTo>
                  <a:lnTo>
                    <a:pt x="365" y="5651"/>
                  </a:lnTo>
                  <a:lnTo>
                    <a:pt x="428" y="5691"/>
                  </a:lnTo>
                  <a:lnTo>
                    <a:pt x="493" y="5728"/>
                  </a:lnTo>
                  <a:lnTo>
                    <a:pt x="562" y="5760"/>
                  </a:lnTo>
                  <a:lnTo>
                    <a:pt x="633" y="5788"/>
                  </a:lnTo>
                  <a:lnTo>
                    <a:pt x="705" y="5811"/>
                  </a:lnTo>
                  <a:lnTo>
                    <a:pt x="780" y="5830"/>
                  </a:lnTo>
                  <a:lnTo>
                    <a:pt x="855" y="5845"/>
                  </a:lnTo>
                  <a:lnTo>
                    <a:pt x="930" y="5853"/>
                  </a:lnTo>
                  <a:lnTo>
                    <a:pt x="1007" y="5856"/>
                  </a:lnTo>
                  <a:lnTo>
                    <a:pt x="1083" y="5854"/>
                  </a:lnTo>
                  <a:lnTo>
                    <a:pt x="1159" y="5847"/>
                  </a:lnTo>
                  <a:lnTo>
                    <a:pt x="1233" y="5832"/>
                  </a:lnTo>
                  <a:lnTo>
                    <a:pt x="1306" y="5812"/>
                  </a:lnTo>
                  <a:lnTo>
                    <a:pt x="1377" y="5785"/>
                  </a:lnTo>
                  <a:lnTo>
                    <a:pt x="1446" y="5752"/>
                  </a:lnTo>
                  <a:lnTo>
                    <a:pt x="1513" y="5711"/>
                  </a:lnTo>
                  <a:lnTo>
                    <a:pt x="1576" y="5663"/>
                  </a:lnTo>
                  <a:lnTo>
                    <a:pt x="1636" y="5608"/>
                  </a:lnTo>
                  <a:lnTo>
                    <a:pt x="1692" y="5544"/>
                  </a:lnTo>
                  <a:lnTo>
                    <a:pt x="1743" y="5474"/>
                  </a:lnTo>
                  <a:lnTo>
                    <a:pt x="1792" y="5395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05840" y="4268520"/>
              <a:ext cx="117000" cy="357120"/>
            </a:xfrm>
            <a:custGeom>
              <a:avLst/>
              <a:gdLst/>
              <a:ahLst/>
              <a:rect l="l" t="t" r="r" b="b"/>
              <a:pathLst>
                <a:path w="1800" h="5856">
                  <a:moveTo>
                    <a:pt x="1792" y="5395"/>
                  </a:moveTo>
                  <a:lnTo>
                    <a:pt x="1795" y="5338"/>
                  </a:lnTo>
                  <a:lnTo>
                    <a:pt x="1797" y="5255"/>
                  </a:lnTo>
                  <a:lnTo>
                    <a:pt x="1799" y="5156"/>
                  </a:lnTo>
                  <a:lnTo>
                    <a:pt x="1800" y="5053"/>
                  </a:lnTo>
                  <a:lnTo>
                    <a:pt x="1800" y="4957"/>
                  </a:lnTo>
                  <a:lnTo>
                    <a:pt x="1799" y="4879"/>
                  </a:lnTo>
                  <a:lnTo>
                    <a:pt x="1798" y="4850"/>
                  </a:lnTo>
                  <a:lnTo>
                    <a:pt x="1796" y="4830"/>
                  </a:lnTo>
                  <a:lnTo>
                    <a:pt x="1795" y="4822"/>
                  </a:lnTo>
                  <a:lnTo>
                    <a:pt x="1794" y="4819"/>
                  </a:lnTo>
                  <a:lnTo>
                    <a:pt x="1793" y="4818"/>
                  </a:lnTo>
                  <a:lnTo>
                    <a:pt x="1791" y="4820"/>
                  </a:lnTo>
                  <a:lnTo>
                    <a:pt x="1766" y="4873"/>
                  </a:lnTo>
                  <a:lnTo>
                    <a:pt x="1739" y="4923"/>
                  </a:lnTo>
                  <a:lnTo>
                    <a:pt x="1707" y="4969"/>
                  </a:lnTo>
                  <a:lnTo>
                    <a:pt x="1672" y="5012"/>
                  </a:lnTo>
                  <a:lnTo>
                    <a:pt x="1636" y="5053"/>
                  </a:lnTo>
                  <a:lnTo>
                    <a:pt x="1595" y="5090"/>
                  </a:lnTo>
                  <a:lnTo>
                    <a:pt x="1553" y="5124"/>
                  </a:lnTo>
                  <a:lnTo>
                    <a:pt x="1509" y="5155"/>
                  </a:lnTo>
                  <a:lnTo>
                    <a:pt x="1463" y="5183"/>
                  </a:lnTo>
                  <a:lnTo>
                    <a:pt x="1416" y="5209"/>
                  </a:lnTo>
                  <a:lnTo>
                    <a:pt x="1367" y="5232"/>
                  </a:lnTo>
                  <a:lnTo>
                    <a:pt x="1318" y="5250"/>
                  </a:lnTo>
                  <a:lnTo>
                    <a:pt x="1268" y="5266"/>
                  </a:lnTo>
                  <a:lnTo>
                    <a:pt x="1218" y="5280"/>
                  </a:lnTo>
                  <a:lnTo>
                    <a:pt x="1168" y="5290"/>
                  </a:lnTo>
                  <a:lnTo>
                    <a:pt x="1119" y="5298"/>
                  </a:lnTo>
                  <a:lnTo>
                    <a:pt x="1070" y="5302"/>
                  </a:lnTo>
                  <a:lnTo>
                    <a:pt x="1022" y="5303"/>
                  </a:lnTo>
                  <a:lnTo>
                    <a:pt x="975" y="5302"/>
                  </a:lnTo>
                  <a:lnTo>
                    <a:pt x="930" y="5296"/>
                  </a:lnTo>
                  <a:lnTo>
                    <a:pt x="886" y="5289"/>
                  </a:lnTo>
                  <a:lnTo>
                    <a:pt x="846" y="5279"/>
                  </a:lnTo>
                  <a:lnTo>
                    <a:pt x="807" y="5266"/>
                  </a:lnTo>
                  <a:lnTo>
                    <a:pt x="771" y="5249"/>
                  </a:lnTo>
                  <a:lnTo>
                    <a:pt x="738" y="5231"/>
                  </a:lnTo>
                  <a:lnTo>
                    <a:pt x="709" y="5209"/>
                  </a:lnTo>
                  <a:lnTo>
                    <a:pt x="682" y="5183"/>
                  </a:lnTo>
                  <a:lnTo>
                    <a:pt x="659" y="5156"/>
                  </a:lnTo>
                  <a:lnTo>
                    <a:pt x="642" y="5126"/>
                  </a:lnTo>
                  <a:lnTo>
                    <a:pt x="628" y="5092"/>
                  </a:lnTo>
                  <a:lnTo>
                    <a:pt x="619" y="5056"/>
                  </a:lnTo>
                  <a:lnTo>
                    <a:pt x="615" y="5016"/>
                  </a:lnTo>
                  <a:lnTo>
                    <a:pt x="612" y="4857"/>
                  </a:lnTo>
                  <a:lnTo>
                    <a:pt x="610" y="4699"/>
                  </a:lnTo>
                  <a:lnTo>
                    <a:pt x="609" y="4541"/>
                  </a:lnTo>
                  <a:lnTo>
                    <a:pt x="610" y="4383"/>
                  </a:lnTo>
                  <a:lnTo>
                    <a:pt x="612" y="4225"/>
                  </a:lnTo>
                  <a:lnTo>
                    <a:pt x="615" y="4068"/>
                  </a:lnTo>
                  <a:lnTo>
                    <a:pt x="620" y="3911"/>
                  </a:lnTo>
                  <a:lnTo>
                    <a:pt x="625" y="3755"/>
                  </a:lnTo>
                  <a:lnTo>
                    <a:pt x="631" y="3598"/>
                  </a:lnTo>
                  <a:lnTo>
                    <a:pt x="637" y="3442"/>
                  </a:lnTo>
                  <a:lnTo>
                    <a:pt x="645" y="3286"/>
                  </a:lnTo>
                  <a:lnTo>
                    <a:pt x="653" y="3130"/>
                  </a:lnTo>
                  <a:lnTo>
                    <a:pt x="670" y="2820"/>
                  </a:lnTo>
                  <a:lnTo>
                    <a:pt x="687" y="2508"/>
                  </a:lnTo>
                  <a:lnTo>
                    <a:pt x="704" y="2197"/>
                  </a:lnTo>
                  <a:lnTo>
                    <a:pt x="721" y="1886"/>
                  </a:lnTo>
                  <a:lnTo>
                    <a:pt x="728" y="1730"/>
                  </a:lnTo>
                  <a:lnTo>
                    <a:pt x="736" y="1575"/>
                  </a:lnTo>
                  <a:lnTo>
                    <a:pt x="742" y="1419"/>
                  </a:lnTo>
                  <a:lnTo>
                    <a:pt x="748" y="1262"/>
                  </a:lnTo>
                  <a:lnTo>
                    <a:pt x="754" y="1105"/>
                  </a:lnTo>
                  <a:lnTo>
                    <a:pt x="758" y="949"/>
                  </a:lnTo>
                  <a:lnTo>
                    <a:pt x="761" y="791"/>
                  </a:lnTo>
                  <a:lnTo>
                    <a:pt x="763" y="634"/>
                  </a:lnTo>
                  <a:lnTo>
                    <a:pt x="764" y="476"/>
                  </a:lnTo>
                  <a:lnTo>
                    <a:pt x="763" y="318"/>
                  </a:lnTo>
                  <a:lnTo>
                    <a:pt x="762" y="159"/>
                  </a:lnTo>
                  <a:lnTo>
                    <a:pt x="759" y="0"/>
                  </a:lnTo>
                  <a:lnTo>
                    <a:pt x="130" y="12"/>
                  </a:lnTo>
                  <a:lnTo>
                    <a:pt x="0" y="5023"/>
                  </a:lnTo>
                  <a:lnTo>
                    <a:pt x="1" y="5090"/>
                  </a:lnTo>
                  <a:lnTo>
                    <a:pt x="10" y="5156"/>
                  </a:lnTo>
                  <a:lnTo>
                    <a:pt x="26" y="5220"/>
                  </a:lnTo>
                  <a:lnTo>
                    <a:pt x="48" y="5283"/>
                  </a:lnTo>
                  <a:lnTo>
                    <a:pt x="78" y="5344"/>
                  </a:lnTo>
                  <a:lnTo>
                    <a:pt x="113" y="5401"/>
                  </a:lnTo>
                  <a:lnTo>
                    <a:pt x="154" y="5457"/>
                  </a:lnTo>
                  <a:lnTo>
                    <a:pt x="200" y="5510"/>
                  </a:lnTo>
                  <a:lnTo>
                    <a:pt x="251" y="5560"/>
                  </a:lnTo>
                  <a:lnTo>
                    <a:pt x="306" y="5607"/>
                  </a:lnTo>
                  <a:lnTo>
                    <a:pt x="365" y="5651"/>
                  </a:lnTo>
                  <a:lnTo>
                    <a:pt x="428" y="5691"/>
                  </a:lnTo>
                  <a:lnTo>
                    <a:pt x="493" y="5728"/>
                  </a:lnTo>
                  <a:lnTo>
                    <a:pt x="562" y="5760"/>
                  </a:lnTo>
                  <a:lnTo>
                    <a:pt x="633" y="5788"/>
                  </a:lnTo>
                  <a:lnTo>
                    <a:pt x="705" y="5811"/>
                  </a:lnTo>
                  <a:lnTo>
                    <a:pt x="780" y="5830"/>
                  </a:lnTo>
                  <a:lnTo>
                    <a:pt x="855" y="5845"/>
                  </a:lnTo>
                  <a:lnTo>
                    <a:pt x="930" y="5853"/>
                  </a:lnTo>
                  <a:lnTo>
                    <a:pt x="1007" y="5856"/>
                  </a:lnTo>
                  <a:lnTo>
                    <a:pt x="1083" y="5854"/>
                  </a:lnTo>
                  <a:lnTo>
                    <a:pt x="1159" y="5847"/>
                  </a:lnTo>
                  <a:lnTo>
                    <a:pt x="1233" y="5832"/>
                  </a:lnTo>
                  <a:lnTo>
                    <a:pt x="1306" y="5812"/>
                  </a:lnTo>
                  <a:lnTo>
                    <a:pt x="1377" y="5785"/>
                  </a:lnTo>
                  <a:lnTo>
                    <a:pt x="1446" y="5752"/>
                  </a:lnTo>
                  <a:lnTo>
                    <a:pt x="1513" y="5711"/>
                  </a:lnTo>
                  <a:lnTo>
                    <a:pt x="1576" y="5663"/>
                  </a:lnTo>
                  <a:lnTo>
                    <a:pt x="1636" y="5608"/>
                  </a:lnTo>
                  <a:lnTo>
                    <a:pt x="1692" y="5544"/>
                  </a:lnTo>
                  <a:lnTo>
                    <a:pt x="1743" y="5474"/>
                  </a:lnTo>
                  <a:lnTo>
                    <a:pt x="1792" y="5395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18120" y="3957120"/>
              <a:ext cx="703800" cy="472680"/>
            </a:xfrm>
            <a:custGeom>
              <a:avLst/>
              <a:gdLst/>
              <a:ahLst/>
              <a:rect l="l" t="t" r="r" b="b"/>
              <a:pathLst>
                <a:path w="10827" h="7754">
                  <a:moveTo>
                    <a:pt x="3622" y="6244"/>
                  </a:moveTo>
                  <a:lnTo>
                    <a:pt x="3510" y="6322"/>
                  </a:lnTo>
                  <a:lnTo>
                    <a:pt x="3400" y="6397"/>
                  </a:lnTo>
                  <a:lnTo>
                    <a:pt x="3291" y="6469"/>
                  </a:lnTo>
                  <a:lnTo>
                    <a:pt x="3184" y="6537"/>
                  </a:lnTo>
                  <a:lnTo>
                    <a:pt x="3079" y="6603"/>
                  </a:lnTo>
                  <a:lnTo>
                    <a:pt x="2978" y="6664"/>
                  </a:lnTo>
                  <a:lnTo>
                    <a:pt x="2879" y="6720"/>
                  </a:lnTo>
                  <a:lnTo>
                    <a:pt x="2783" y="6773"/>
                  </a:lnTo>
                  <a:lnTo>
                    <a:pt x="2690" y="6820"/>
                  </a:lnTo>
                  <a:lnTo>
                    <a:pt x="2601" y="6861"/>
                  </a:lnTo>
                  <a:lnTo>
                    <a:pt x="2516" y="6896"/>
                  </a:lnTo>
                  <a:lnTo>
                    <a:pt x="2435" y="6925"/>
                  </a:lnTo>
                  <a:lnTo>
                    <a:pt x="2358" y="6948"/>
                  </a:lnTo>
                  <a:lnTo>
                    <a:pt x="2285" y="6962"/>
                  </a:lnTo>
                  <a:lnTo>
                    <a:pt x="2218" y="6970"/>
                  </a:lnTo>
                  <a:lnTo>
                    <a:pt x="2155" y="6970"/>
                  </a:lnTo>
                  <a:lnTo>
                    <a:pt x="2098" y="6960"/>
                  </a:lnTo>
                  <a:lnTo>
                    <a:pt x="2046" y="6943"/>
                  </a:lnTo>
                  <a:lnTo>
                    <a:pt x="1999" y="6917"/>
                  </a:lnTo>
                  <a:lnTo>
                    <a:pt x="1960" y="6881"/>
                  </a:lnTo>
                  <a:lnTo>
                    <a:pt x="1926" y="6836"/>
                  </a:lnTo>
                  <a:lnTo>
                    <a:pt x="1899" y="6779"/>
                  </a:lnTo>
                  <a:lnTo>
                    <a:pt x="1878" y="6713"/>
                  </a:lnTo>
                  <a:lnTo>
                    <a:pt x="1865" y="6636"/>
                  </a:lnTo>
                  <a:lnTo>
                    <a:pt x="1858" y="6547"/>
                  </a:lnTo>
                  <a:lnTo>
                    <a:pt x="1859" y="6446"/>
                  </a:lnTo>
                  <a:lnTo>
                    <a:pt x="1869" y="6333"/>
                  </a:lnTo>
                  <a:lnTo>
                    <a:pt x="1885" y="6208"/>
                  </a:lnTo>
                  <a:lnTo>
                    <a:pt x="1911" y="6070"/>
                  </a:lnTo>
                  <a:lnTo>
                    <a:pt x="1944" y="5918"/>
                  </a:lnTo>
                  <a:lnTo>
                    <a:pt x="1987" y="5753"/>
                  </a:lnTo>
                  <a:lnTo>
                    <a:pt x="2038" y="5573"/>
                  </a:lnTo>
                  <a:lnTo>
                    <a:pt x="1855" y="5541"/>
                  </a:lnTo>
                  <a:lnTo>
                    <a:pt x="1680" y="5507"/>
                  </a:lnTo>
                  <a:lnTo>
                    <a:pt x="1514" y="5469"/>
                  </a:lnTo>
                  <a:lnTo>
                    <a:pt x="1357" y="5429"/>
                  </a:lnTo>
                  <a:lnTo>
                    <a:pt x="1208" y="5385"/>
                  </a:lnTo>
                  <a:lnTo>
                    <a:pt x="1068" y="5339"/>
                  </a:lnTo>
                  <a:lnTo>
                    <a:pt x="936" y="5289"/>
                  </a:lnTo>
                  <a:lnTo>
                    <a:pt x="814" y="5237"/>
                  </a:lnTo>
                  <a:lnTo>
                    <a:pt x="700" y="5181"/>
                  </a:lnTo>
                  <a:lnTo>
                    <a:pt x="594" y="5123"/>
                  </a:lnTo>
                  <a:lnTo>
                    <a:pt x="497" y="5061"/>
                  </a:lnTo>
                  <a:lnTo>
                    <a:pt x="409" y="4997"/>
                  </a:lnTo>
                  <a:lnTo>
                    <a:pt x="328" y="4929"/>
                  </a:lnTo>
                  <a:lnTo>
                    <a:pt x="257" y="4859"/>
                  </a:lnTo>
                  <a:lnTo>
                    <a:pt x="196" y="4786"/>
                  </a:lnTo>
                  <a:lnTo>
                    <a:pt x="141" y="4708"/>
                  </a:lnTo>
                  <a:lnTo>
                    <a:pt x="96" y="4629"/>
                  </a:lnTo>
                  <a:lnTo>
                    <a:pt x="60" y="4547"/>
                  </a:lnTo>
                  <a:lnTo>
                    <a:pt x="31" y="4461"/>
                  </a:lnTo>
                  <a:lnTo>
                    <a:pt x="12" y="4372"/>
                  </a:lnTo>
                  <a:lnTo>
                    <a:pt x="2" y="4281"/>
                  </a:lnTo>
                  <a:lnTo>
                    <a:pt x="0" y="4186"/>
                  </a:lnTo>
                  <a:lnTo>
                    <a:pt x="6" y="4089"/>
                  </a:lnTo>
                  <a:lnTo>
                    <a:pt x="22" y="3988"/>
                  </a:lnTo>
                  <a:lnTo>
                    <a:pt x="45" y="3885"/>
                  </a:lnTo>
                  <a:lnTo>
                    <a:pt x="77" y="3778"/>
                  </a:lnTo>
                  <a:lnTo>
                    <a:pt x="119" y="3669"/>
                  </a:lnTo>
                  <a:lnTo>
                    <a:pt x="168" y="3556"/>
                  </a:lnTo>
                  <a:lnTo>
                    <a:pt x="227" y="3441"/>
                  </a:lnTo>
                  <a:lnTo>
                    <a:pt x="294" y="3323"/>
                  </a:lnTo>
                  <a:lnTo>
                    <a:pt x="369" y="3200"/>
                  </a:lnTo>
                  <a:lnTo>
                    <a:pt x="454" y="3076"/>
                  </a:lnTo>
                  <a:lnTo>
                    <a:pt x="457" y="2999"/>
                  </a:lnTo>
                  <a:lnTo>
                    <a:pt x="461" y="2922"/>
                  </a:lnTo>
                  <a:lnTo>
                    <a:pt x="468" y="2847"/>
                  </a:lnTo>
                  <a:lnTo>
                    <a:pt x="476" y="2772"/>
                  </a:lnTo>
                  <a:lnTo>
                    <a:pt x="486" y="2699"/>
                  </a:lnTo>
                  <a:lnTo>
                    <a:pt x="498" y="2628"/>
                  </a:lnTo>
                  <a:lnTo>
                    <a:pt x="513" y="2559"/>
                  </a:lnTo>
                  <a:lnTo>
                    <a:pt x="530" y="2492"/>
                  </a:lnTo>
                  <a:lnTo>
                    <a:pt x="550" y="2426"/>
                  </a:lnTo>
                  <a:lnTo>
                    <a:pt x="573" y="2363"/>
                  </a:lnTo>
                  <a:lnTo>
                    <a:pt x="599" y="2303"/>
                  </a:lnTo>
                  <a:lnTo>
                    <a:pt x="630" y="2245"/>
                  </a:lnTo>
                  <a:lnTo>
                    <a:pt x="663" y="2190"/>
                  </a:lnTo>
                  <a:lnTo>
                    <a:pt x="700" y="2137"/>
                  </a:lnTo>
                  <a:lnTo>
                    <a:pt x="742" y="2088"/>
                  </a:lnTo>
                  <a:lnTo>
                    <a:pt x="788" y="2042"/>
                  </a:lnTo>
                  <a:lnTo>
                    <a:pt x="838" y="2000"/>
                  </a:lnTo>
                  <a:lnTo>
                    <a:pt x="892" y="1961"/>
                  </a:lnTo>
                  <a:lnTo>
                    <a:pt x="952" y="1926"/>
                  </a:lnTo>
                  <a:lnTo>
                    <a:pt x="1018" y="1895"/>
                  </a:lnTo>
                  <a:lnTo>
                    <a:pt x="1088" y="1867"/>
                  </a:lnTo>
                  <a:lnTo>
                    <a:pt x="1164" y="1843"/>
                  </a:lnTo>
                  <a:lnTo>
                    <a:pt x="1246" y="1824"/>
                  </a:lnTo>
                  <a:lnTo>
                    <a:pt x="1334" y="1810"/>
                  </a:lnTo>
                  <a:lnTo>
                    <a:pt x="1428" y="1800"/>
                  </a:lnTo>
                  <a:lnTo>
                    <a:pt x="1529" y="1795"/>
                  </a:lnTo>
                  <a:lnTo>
                    <a:pt x="1635" y="1796"/>
                  </a:lnTo>
                  <a:lnTo>
                    <a:pt x="1749" y="1800"/>
                  </a:lnTo>
                  <a:lnTo>
                    <a:pt x="1871" y="1812"/>
                  </a:lnTo>
                  <a:lnTo>
                    <a:pt x="1998" y="1828"/>
                  </a:lnTo>
                  <a:lnTo>
                    <a:pt x="2134" y="1849"/>
                  </a:lnTo>
                  <a:lnTo>
                    <a:pt x="2278" y="1876"/>
                  </a:lnTo>
                  <a:lnTo>
                    <a:pt x="2318" y="1785"/>
                  </a:lnTo>
                  <a:lnTo>
                    <a:pt x="2359" y="1696"/>
                  </a:lnTo>
                  <a:lnTo>
                    <a:pt x="2402" y="1608"/>
                  </a:lnTo>
                  <a:lnTo>
                    <a:pt x="2448" y="1521"/>
                  </a:lnTo>
                  <a:lnTo>
                    <a:pt x="2498" y="1437"/>
                  </a:lnTo>
                  <a:lnTo>
                    <a:pt x="2550" y="1356"/>
                  </a:lnTo>
                  <a:lnTo>
                    <a:pt x="2605" y="1277"/>
                  </a:lnTo>
                  <a:lnTo>
                    <a:pt x="2664" y="1201"/>
                  </a:lnTo>
                  <a:lnTo>
                    <a:pt x="2728" y="1128"/>
                  </a:lnTo>
                  <a:lnTo>
                    <a:pt x="2795" y="1059"/>
                  </a:lnTo>
                  <a:lnTo>
                    <a:pt x="2867" y="992"/>
                  </a:lnTo>
                  <a:lnTo>
                    <a:pt x="2944" y="930"/>
                  </a:lnTo>
                  <a:lnTo>
                    <a:pt x="3026" y="871"/>
                  </a:lnTo>
                  <a:lnTo>
                    <a:pt x="3114" y="817"/>
                  </a:lnTo>
                  <a:lnTo>
                    <a:pt x="3207" y="767"/>
                  </a:lnTo>
                  <a:lnTo>
                    <a:pt x="3306" y="722"/>
                  </a:lnTo>
                  <a:lnTo>
                    <a:pt x="3413" y="681"/>
                  </a:lnTo>
                  <a:lnTo>
                    <a:pt x="3525" y="646"/>
                  </a:lnTo>
                  <a:lnTo>
                    <a:pt x="3645" y="616"/>
                  </a:lnTo>
                  <a:lnTo>
                    <a:pt x="3772" y="592"/>
                  </a:lnTo>
                  <a:lnTo>
                    <a:pt x="3907" y="574"/>
                  </a:lnTo>
                  <a:lnTo>
                    <a:pt x="4049" y="562"/>
                  </a:lnTo>
                  <a:lnTo>
                    <a:pt x="4200" y="555"/>
                  </a:lnTo>
                  <a:lnTo>
                    <a:pt x="4359" y="555"/>
                  </a:lnTo>
                  <a:lnTo>
                    <a:pt x="4526" y="563"/>
                  </a:lnTo>
                  <a:lnTo>
                    <a:pt x="4704" y="576"/>
                  </a:lnTo>
                  <a:lnTo>
                    <a:pt x="4891" y="598"/>
                  </a:lnTo>
                  <a:lnTo>
                    <a:pt x="5086" y="626"/>
                  </a:lnTo>
                  <a:lnTo>
                    <a:pt x="5292" y="663"/>
                  </a:lnTo>
                  <a:lnTo>
                    <a:pt x="5509" y="707"/>
                  </a:lnTo>
                  <a:lnTo>
                    <a:pt x="5736" y="759"/>
                  </a:lnTo>
                  <a:lnTo>
                    <a:pt x="5975" y="820"/>
                  </a:lnTo>
                  <a:lnTo>
                    <a:pt x="6144" y="666"/>
                  </a:lnTo>
                  <a:lnTo>
                    <a:pt x="6306" y="529"/>
                  </a:lnTo>
                  <a:lnTo>
                    <a:pt x="6460" y="410"/>
                  </a:lnTo>
                  <a:lnTo>
                    <a:pt x="6606" y="306"/>
                  </a:lnTo>
                  <a:lnTo>
                    <a:pt x="6744" y="218"/>
                  </a:lnTo>
                  <a:lnTo>
                    <a:pt x="6875" y="146"/>
                  </a:lnTo>
                  <a:lnTo>
                    <a:pt x="6999" y="89"/>
                  </a:lnTo>
                  <a:lnTo>
                    <a:pt x="7115" y="46"/>
                  </a:lnTo>
                  <a:lnTo>
                    <a:pt x="7225" y="17"/>
                  </a:lnTo>
                  <a:lnTo>
                    <a:pt x="7329" y="2"/>
                  </a:lnTo>
                  <a:lnTo>
                    <a:pt x="7426" y="0"/>
                  </a:lnTo>
                  <a:lnTo>
                    <a:pt x="7517" y="10"/>
                  </a:lnTo>
                  <a:lnTo>
                    <a:pt x="7602" y="32"/>
                  </a:lnTo>
                  <a:lnTo>
                    <a:pt x="7681" y="67"/>
                  </a:lnTo>
                  <a:lnTo>
                    <a:pt x="7756" y="112"/>
                  </a:lnTo>
                  <a:lnTo>
                    <a:pt x="7826" y="167"/>
                  </a:lnTo>
                  <a:lnTo>
                    <a:pt x="7890" y="233"/>
                  </a:lnTo>
                  <a:lnTo>
                    <a:pt x="7949" y="308"/>
                  </a:lnTo>
                  <a:lnTo>
                    <a:pt x="8005" y="393"/>
                  </a:lnTo>
                  <a:lnTo>
                    <a:pt x="8056" y="486"/>
                  </a:lnTo>
                  <a:lnTo>
                    <a:pt x="8102" y="589"/>
                  </a:lnTo>
                  <a:lnTo>
                    <a:pt x="8146" y="698"/>
                  </a:lnTo>
                  <a:lnTo>
                    <a:pt x="8186" y="815"/>
                  </a:lnTo>
                  <a:lnTo>
                    <a:pt x="8222" y="938"/>
                  </a:lnTo>
                  <a:lnTo>
                    <a:pt x="8256" y="1068"/>
                  </a:lnTo>
                  <a:lnTo>
                    <a:pt x="8286" y="1204"/>
                  </a:lnTo>
                  <a:lnTo>
                    <a:pt x="8314" y="1345"/>
                  </a:lnTo>
                  <a:lnTo>
                    <a:pt x="8339" y="1492"/>
                  </a:lnTo>
                  <a:lnTo>
                    <a:pt x="8364" y="1642"/>
                  </a:lnTo>
                  <a:lnTo>
                    <a:pt x="8384" y="1797"/>
                  </a:lnTo>
                  <a:lnTo>
                    <a:pt x="8404" y="1955"/>
                  </a:lnTo>
                  <a:lnTo>
                    <a:pt x="8423" y="2116"/>
                  </a:lnTo>
                  <a:lnTo>
                    <a:pt x="8630" y="2220"/>
                  </a:lnTo>
                  <a:lnTo>
                    <a:pt x="8830" y="2326"/>
                  </a:lnTo>
                  <a:lnTo>
                    <a:pt x="9022" y="2435"/>
                  </a:lnTo>
                  <a:lnTo>
                    <a:pt x="9205" y="2545"/>
                  </a:lnTo>
                  <a:lnTo>
                    <a:pt x="9381" y="2658"/>
                  </a:lnTo>
                  <a:lnTo>
                    <a:pt x="9547" y="2774"/>
                  </a:lnTo>
                  <a:lnTo>
                    <a:pt x="9705" y="2892"/>
                  </a:lnTo>
                  <a:lnTo>
                    <a:pt x="9854" y="3012"/>
                  </a:lnTo>
                  <a:lnTo>
                    <a:pt x="9993" y="3137"/>
                  </a:lnTo>
                  <a:lnTo>
                    <a:pt x="10123" y="3262"/>
                  </a:lnTo>
                  <a:lnTo>
                    <a:pt x="10242" y="3392"/>
                  </a:lnTo>
                  <a:lnTo>
                    <a:pt x="10351" y="3524"/>
                  </a:lnTo>
                  <a:lnTo>
                    <a:pt x="10450" y="3660"/>
                  </a:lnTo>
                  <a:lnTo>
                    <a:pt x="10538" y="3798"/>
                  </a:lnTo>
                  <a:lnTo>
                    <a:pt x="10614" y="3939"/>
                  </a:lnTo>
                  <a:lnTo>
                    <a:pt x="10679" y="4085"/>
                  </a:lnTo>
                  <a:lnTo>
                    <a:pt x="10734" y="4233"/>
                  </a:lnTo>
                  <a:lnTo>
                    <a:pt x="10775" y="4385"/>
                  </a:lnTo>
                  <a:lnTo>
                    <a:pt x="10805" y="4540"/>
                  </a:lnTo>
                  <a:lnTo>
                    <a:pt x="10823" y="4699"/>
                  </a:lnTo>
                  <a:lnTo>
                    <a:pt x="10827" y="4862"/>
                  </a:lnTo>
                  <a:lnTo>
                    <a:pt x="10818" y="5028"/>
                  </a:lnTo>
                  <a:lnTo>
                    <a:pt x="10796" y="5198"/>
                  </a:lnTo>
                  <a:lnTo>
                    <a:pt x="10762" y="5373"/>
                  </a:lnTo>
                  <a:lnTo>
                    <a:pt x="10713" y="5551"/>
                  </a:lnTo>
                  <a:lnTo>
                    <a:pt x="10649" y="5733"/>
                  </a:lnTo>
                  <a:lnTo>
                    <a:pt x="10571" y="5920"/>
                  </a:lnTo>
                  <a:lnTo>
                    <a:pt x="10479" y="6110"/>
                  </a:lnTo>
                  <a:lnTo>
                    <a:pt x="10373" y="6305"/>
                  </a:lnTo>
                  <a:lnTo>
                    <a:pt x="10250" y="6505"/>
                  </a:lnTo>
                  <a:lnTo>
                    <a:pt x="10113" y="6709"/>
                  </a:lnTo>
                  <a:lnTo>
                    <a:pt x="9959" y="6917"/>
                  </a:lnTo>
                  <a:lnTo>
                    <a:pt x="9872" y="6991"/>
                  </a:lnTo>
                  <a:lnTo>
                    <a:pt x="9786" y="7065"/>
                  </a:lnTo>
                  <a:lnTo>
                    <a:pt x="9699" y="7135"/>
                  </a:lnTo>
                  <a:lnTo>
                    <a:pt x="9613" y="7203"/>
                  </a:lnTo>
                  <a:lnTo>
                    <a:pt x="9527" y="7269"/>
                  </a:lnTo>
                  <a:lnTo>
                    <a:pt x="9441" y="7332"/>
                  </a:lnTo>
                  <a:lnTo>
                    <a:pt x="9357" y="7391"/>
                  </a:lnTo>
                  <a:lnTo>
                    <a:pt x="9272" y="7447"/>
                  </a:lnTo>
                  <a:lnTo>
                    <a:pt x="9188" y="7499"/>
                  </a:lnTo>
                  <a:lnTo>
                    <a:pt x="9104" y="7548"/>
                  </a:lnTo>
                  <a:lnTo>
                    <a:pt x="9021" y="7591"/>
                  </a:lnTo>
                  <a:lnTo>
                    <a:pt x="8938" y="7631"/>
                  </a:lnTo>
                  <a:lnTo>
                    <a:pt x="8856" y="7665"/>
                  </a:lnTo>
                  <a:lnTo>
                    <a:pt x="8775" y="7695"/>
                  </a:lnTo>
                  <a:lnTo>
                    <a:pt x="8694" y="7719"/>
                  </a:lnTo>
                  <a:lnTo>
                    <a:pt x="8615" y="7736"/>
                  </a:lnTo>
                  <a:lnTo>
                    <a:pt x="8535" y="7748"/>
                  </a:lnTo>
                  <a:lnTo>
                    <a:pt x="8457" y="7754"/>
                  </a:lnTo>
                  <a:lnTo>
                    <a:pt x="8379" y="7753"/>
                  </a:lnTo>
                  <a:lnTo>
                    <a:pt x="8303" y="7745"/>
                  </a:lnTo>
                  <a:lnTo>
                    <a:pt x="8228" y="7730"/>
                  </a:lnTo>
                  <a:lnTo>
                    <a:pt x="8152" y="7708"/>
                  </a:lnTo>
                  <a:lnTo>
                    <a:pt x="8078" y="7678"/>
                  </a:lnTo>
                  <a:lnTo>
                    <a:pt x="8006" y="7639"/>
                  </a:lnTo>
                  <a:lnTo>
                    <a:pt x="7933" y="7593"/>
                  </a:lnTo>
                  <a:lnTo>
                    <a:pt x="7862" y="7539"/>
                  </a:lnTo>
                  <a:lnTo>
                    <a:pt x="7793" y="7475"/>
                  </a:lnTo>
                  <a:lnTo>
                    <a:pt x="7724" y="7402"/>
                  </a:lnTo>
                  <a:lnTo>
                    <a:pt x="7657" y="7319"/>
                  </a:lnTo>
                  <a:lnTo>
                    <a:pt x="7591" y="7227"/>
                  </a:lnTo>
                  <a:lnTo>
                    <a:pt x="7526" y="7125"/>
                  </a:lnTo>
                  <a:lnTo>
                    <a:pt x="7463" y="7013"/>
                  </a:lnTo>
                  <a:lnTo>
                    <a:pt x="7330" y="7002"/>
                  </a:lnTo>
                  <a:lnTo>
                    <a:pt x="7203" y="6987"/>
                  </a:lnTo>
                  <a:lnTo>
                    <a:pt x="7084" y="6972"/>
                  </a:lnTo>
                  <a:lnTo>
                    <a:pt x="6971" y="6953"/>
                  </a:lnTo>
                  <a:lnTo>
                    <a:pt x="6864" y="6933"/>
                  </a:lnTo>
                  <a:lnTo>
                    <a:pt x="6765" y="6910"/>
                  </a:lnTo>
                  <a:lnTo>
                    <a:pt x="6673" y="6885"/>
                  </a:lnTo>
                  <a:lnTo>
                    <a:pt x="6587" y="6856"/>
                  </a:lnTo>
                  <a:lnTo>
                    <a:pt x="6507" y="6827"/>
                  </a:lnTo>
                  <a:lnTo>
                    <a:pt x="6435" y="6796"/>
                  </a:lnTo>
                  <a:lnTo>
                    <a:pt x="6369" y="6761"/>
                  </a:lnTo>
                  <a:lnTo>
                    <a:pt x="6311" y="6725"/>
                  </a:lnTo>
                  <a:lnTo>
                    <a:pt x="6258" y="6687"/>
                  </a:lnTo>
                  <a:lnTo>
                    <a:pt x="6213" y="6645"/>
                  </a:lnTo>
                  <a:lnTo>
                    <a:pt x="6175" y="6602"/>
                  </a:lnTo>
                  <a:lnTo>
                    <a:pt x="6143" y="6557"/>
                  </a:lnTo>
                  <a:lnTo>
                    <a:pt x="6117" y="6509"/>
                  </a:lnTo>
                  <a:lnTo>
                    <a:pt x="6099" y="6460"/>
                  </a:lnTo>
                  <a:lnTo>
                    <a:pt x="6088" y="6408"/>
                  </a:lnTo>
                  <a:lnTo>
                    <a:pt x="6082" y="6353"/>
                  </a:lnTo>
                  <a:lnTo>
                    <a:pt x="6085" y="6297"/>
                  </a:lnTo>
                  <a:lnTo>
                    <a:pt x="6093" y="6237"/>
                  </a:lnTo>
                  <a:lnTo>
                    <a:pt x="6109" y="6176"/>
                  </a:lnTo>
                  <a:lnTo>
                    <a:pt x="6131" y="6113"/>
                  </a:lnTo>
                  <a:lnTo>
                    <a:pt x="6159" y="6048"/>
                  </a:lnTo>
                  <a:lnTo>
                    <a:pt x="6195" y="5980"/>
                  </a:lnTo>
                  <a:lnTo>
                    <a:pt x="6237" y="5910"/>
                  </a:lnTo>
                  <a:lnTo>
                    <a:pt x="6286" y="5837"/>
                  </a:lnTo>
                  <a:lnTo>
                    <a:pt x="6342" y="5762"/>
                  </a:lnTo>
                  <a:lnTo>
                    <a:pt x="6405" y="5686"/>
                  </a:lnTo>
                  <a:lnTo>
                    <a:pt x="6475" y="5606"/>
                  </a:lnTo>
                  <a:lnTo>
                    <a:pt x="6551" y="5524"/>
                  </a:lnTo>
                  <a:lnTo>
                    <a:pt x="6611" y="5500"/>
                  </a:lnTo>
                  <a:lnTo>
                    <a:pt x="6671" y="5476"/>
                  </a:lnTo>
                  <a:lnTo>
                    <a:pt x="6730" y="5453"/>
                  </a:lnTo>
                  <a:lnTo>
                    <a:pt x="6791" y="5429"/>
                  </a:lnTo>
                  <a:lnTo>
                    <a:pt x="6850" y="5405"/>
                  </a:lnTo>
                  <a:lnTo>
                    <a:pt x="6911" y="5381"/>
                  </a:lnTo>
                  <a:lnTo>
                    <a:pt x="6971" y="5357"/>
                  </a:lnTo>
                  <a:lnTo>
                    <a:pt x="7030" y="5333"/>
                  </a:lnTo>
                  <a:lnTo>
                    <a:pt x="6968" y="5420"/>
                  </a:lnTo>
                  <a:lnTo>
                    <a:pt x="6910" y="5504"/>
                  </a:lnTo>
                  <a:lnTo>
                    <a:pt x="6858" y="5585"/>
                  </a:lnTo>
                  <a:lnTo>
                    <a:pt x="6812" y="5663"/>
                  </a:lnTo>
                  <a:lnTo>
                    <a:pt x="6771" y="5738"/>
                  </a:lnTo>
                  <a:lnTo>
                    <a:pt x="6735" y="5810"/>
                  </a:lnTo>
                  <a:lnTo>
                    <a:pt x="6706" y="5879"/>
                  </a:lnTo>
                  <a:lnTo>
                    <a:pt x="6683" y="5945"/>
                  </a:lnTo>
                  <a:lnTo>
                    <a:pt x="6664" y="6008"/>
                  </a:lnTo>
                  <a:lnTo>
                    <a:pt x="6652" y="6068"/>
                  </a:lnTo>
                  <a:lnTo>
                    <a:pt x="6644" y="6125"/>
                  </a:lnTo>
                  <a:lnTo>
                    <a:pt x="6643" y="6178"/>
                  </a:lnTo>
                  <a:lnTo>
                    <a:pt x="6647" y="6230"/>
                  </a:lnTo>
                  <a:lnTo>
                    <a:pt x="6658" y="6278"/>
                  </a:lnTo>
                  <a:lnTo>
                    <a:pt x="6674" y="6323"/>
                  </a:lnTo>
                  <a:lnTo>
                    <a:pt x="6695" y="6365"/>
                  </a:lnTo>
                  <a:lnTo>
                    <a:pt x="6722" y="6404"/>
                  </a:lnTo>
                  <a:lnTo>
                    <a:pt x="6754" y="6440"/>
                  </a:lnTo>
                  <a:lnTo>
                    <a:pt x="6792" y="6474"/>
                  </a:lnTo>
                  <a:lnTo>
                    <a:pt x="6836" y="6503"/>
                  </a:lnTo>
                  <a:lnTo>
                    <a:pt x="6885" y="6530"/>
                  </a:lnTo>
                  <a:lnTo>
                    <a:pt x="6939" y="6554"/>
                  </a:lnTo>
                  <a:lnTo>
                    <a:pt x="7000" y="6575"/>
                  </a:lnTo>
                  <a:lnTo>
                    <a:pt x="7067" y="6593"/>
                  </a:lnTo>
                  <a:lnTo>
                    <a:pt x="7138" y="6609"/>
                  </a:lnTo>
                  <a:lnTo>
                    <a:pt x="7216" y="6620"/>
                  </a:lnTo>
                  <a:lnTo>
                    <a:pt x="7299" y="6629"/>
                  </a:lnTo>
                  <a:lnTo>
                    <a:pt x="7387" y="6635"/>
                  </a:lnTo>
                  <a:lnTo>
                    <a:pt x="7483" y="6638"/>
                  </a:lnTo>
                  <a:lnTo>
                    <a:pt x="7582" y="6638"/>
                  </a:lnTo>
                  <a:lnTo>
                    <a:pt x="7688" y="6635"/>
                  </a:lnTo>
                  <a:lnTo>
                    <a:pt x="7799" y="6629"/>
                  </a:lnTo>
                  <a:lnTo>
                    <a:pt x="7863" y="6739"/>
                  </a:lnTo>
                  <a:lnTo>
                    <a:pt x="7927" y="6838"/>
                  </a:lnTo>
                  <a:lnTo>
                    <a:pt x="7991" y="6925"/>
                  </a:lnTo>
                  <a:lnTo>
                    <a:pt x="8054" y="7001"/>
                  </a:lnTo>
                  <a:lnTo>
                    <a:pt x="8117" y="7067"/>
                  </a:lnTo>
                  <a:lnTo>
                    <a:pt x="8179" y="7123"/>
                  </a:lnTo>
                  <a:lnTo>
                    <a:pt x="8241" y="7170"/>
                  </a:lnTo>
                  <a:lnTo>
                    <a:pt x="8302" y="7207"/>
                  </a:lnTo>
                  <a:lnTo>
                    <a:pt x="8361" y="7236"/>
                  </a:lnTo>
                  <a:lnTo>
                    <a:pt x="8421" y="7257"/>
                  </a:lnTo>
                  <a:lnTo>
                    <a:pt x="8480" y="7270"/>
                  </a:lnTo>
                  <a:lnTo>
                    <a:pt x="8538" y="7275"/>
                  </a:lnTo>
                  <a:lnTo>
                    <a:pt x="8595" y="7274"/>
                  </a:lnTo>
                  <a:lnTo>
                    <a:pt x="8650" y="7266"/>
                  </a:lnTo>
                  <a:lnTo>
                    <a:pt x="8706" y="7252"/>
                  </a:lnTo>
                  <a:lnTo>
                    <a:pt x="8759" y="7232"/>
                  </a:lnTo>
                  <a:lnTo>
                    <a:pt x="8812" y="7207"/>
                  </a:lnTo>
                  <a:lnTo>
                    <a:pt x="8864" y="7177"/>
                  </a:lnTo>
                  <a:lnTo>
                    <a:pt x="8914" y="7142"/>
                  </a:lnTo>
                  <a:lnTo>
                    <a:pt x="8963" y="7103"/>
                  </a:lnTo>
                  <a:lnTo>
                    <a:pt x="9010" y="7062"/>
                  </a:lnTo>
                  <a:lnTo>
                    <a:pt x="9057" y="7017"/>
                  </a:lnTo>
                  <a:lnTo>
                    <a:pt x="9101" y="6968"/>
                  </a:lnTo>
                  <a:lnTo>
                    <a:pt x="9145" y="6918"/>
                  </a:lnTo>
                  <a:lnTo>
                    <a:pt x="9187" y="6867"/>
                  </a:lnTo>
                  <a:lnTo>
                    <a:pt x="9227" y="6813"/>
                  </a:lnTo>
                  <a:lnTo>
                    <a:pt x="9266" y="6758"/>
                  </a:lnTo>
                  <a:lnTo>
                    <a:pt x="9302" y="6704"/>
                  </a:lnTo>
                  <a:lnTo>
                    <a:pt x="9338" y="6648"/>
                  </a:lnTo>
                  <a:lnTo>
                    <a:pt x="9370" y="6593"/>
                  </a:lnTo>
                  <a:lnTo>
                    <a:pt x="9402" y="6538"/>
                  </a:lnTo>
                  <a:lnTo>
                    <a:pt x="9431" y="6485"/>
                  </a:lnTo>
                  <a:lnTo>
                    <a:pt x="9573" y="6331"/>
                  </a:lnTo>
                  <a:lnTo>
                    <a:pt x="9699" y="6179"/>
                  </a:lnTo>
                  <a:lnTo>
                    <a:pt x="9811" y="6030"/>
                  </a:lnTo>
                  <a:lnTo>
                    <a:pt x="9909" y="5882"/>
                  </a:lnTo>
                  <a:lnTo>
                    <a:pt x="9992" y="5737"/>
                  </a:lnTo>
                  <a:lnTo>
                    <a:pt x="10062" y="5594"/>
                  </a:lnTo>
                  <a:lnTo>
                    <a:pt x="10117" y="5451"/>
                  </a:lnTo>
                  <a:lnTo>
                    <a:pt x="10160" y="5311"/>
                  </a:lnTo>
                  <a:lnTo>
                    <a:pt x="10191" y="5173"/>
                  </a:lnTo>
                  <a:lnTo>
                    <a:pt x="10207" y="5037"/>
                  </a:lnTo>
                  <a:lnTo>
                    <a:pt x="10211" y="4902"/>
                  </a:lnTo>
                  <a:lnTo>
                    <a:pt x="10204" y="4769"/>
                  </a:lnTo>
                  <a:lnTo>
                    <a:pt x="10184" y="4637"/>
                  </a:lnTo>
                  <a:lnTo>
                    <a:pt x="10153" y="4507"/>
                  </a:lnTo>
                  <a:lnTo>
                    <a:pt x="10110" y="4380"/>
                  </a:lnTo>
                  <a:lnTo>
                    <a:pt x="10056" y="4252"/>
                  </a:lnTo>
                  <a:lnTo>
                    <a:pt x="9991" y="4128"/>
                  </a:lnTo>
                  <a:lnTo>
                    <a:pt x="9915" y="4004"/>
                  </a:lnTo>
                  <a:lnTo>
                    <a:pt x="9830" y="3882"/>
                  </a:lnTo>
                  <a:lnTo>
                    <a:pt x="9733" y="3760"/>
                  </a:lnTo>
                  <a:lnTo>
                    <a:pt x="9628" y="3641"/>
                  </a:lnTo>
                  <a:lnTo>
                    <a:pt x="9512" y="3523"/>
                  </a:lnTo>
                  <a:lnTo>
                    <a:pt x="9388" y="3406"/>
                  </a:lnTo>
                  <a:lnTo>
                    <a:pt x="9254" y="3289"/>
                  </a:lnTo>
                  <a:lnTo>
                    <a:pt x="9112" y="3175"/>
                  </a:lnTo>
                  <a:lnTo>
                    <a:pt x="8961" y="3062"/>
                  </a:lnTo>
                  <a:lnTo>
                    <a:pt x="8803" y="2949"/>
                  </a:lnTo>
                  <a:lnTo>
                    <a:pt x="8636" y="2838"/>
                  </a:lnTo>
                  <a:lnTo>
                    <a:pt x="8461" y="2729"/>
                  </a:lnTo>
                  <a:lnTo>
                    <a:pt x="8280" y="2620"/>
                  </a:lnTo>
                  <a:lnTo>
                    <a:pt x="8090" y="2511"/>
                  </a:lnTo>
                  <a:lnTo>
                    <a:pt x="7895" y="2404"/>
                  </a:lnTo>
                  <a:lnTo>
                    <a:pt x="7885" y="2236"/>
                  </a:lnTo>
                  <a:lnTo>
                    <a:pt x="7873" y="2077"/>
                  </a:lnTo>
                  <a:lnTo>
                    <a:pt x="7855" y="1926"/>
                  </a:lnTo>
                  <a:lnTo>
                    <a:pt x="7835" y="1784"/>
                  </a:lnTo>
                  <a:lnTo>
                    <a:pt x="7810" y="1650"/>
                  </a:lnTo>
                  <a:lnTo>
                    <a:pt x="7783" y="1524"/>
                  </a:lnTo>
                  <a:lnTo>
                    <a:pt x="7750" y="1408"/>
                  </a:lnTo>
                  <a:lnTo>
                    <a:pt x="7715" y="1300"/>
                  </a:lnTo>
                  <a:lnTo>
                    <a:pt x="7675" y="1201"/>
                  </a:lnTo>
                  <a:lnTo>
                    <a:pt x="7632" y="1111"/>
                  </a:lnTo>
                  <a:lnTo>
                    <a:pt x="7585" y="1028"/>
                  </a:lnTo>
                  <a:lnTo>
                    <a:pt x="7535" y="955"/>
                  </a:lnTo>
                  <a:lnTo>
                    <a:pt x="7480" y="890"/>
                  </a:lnTo>
                  <a:lnTo>
                    <a:pt x="7422" y="835"/>
                  </a:lnTo>
                  <a:lnTo>
                    <a:pt x="7360" y="786"/>
                  </a:lnTo>
                  <a:lnTo>
                    <a:pt x="7295" y="748"/>
                  </a:lnTo>
                  <a:lnTo>
                    <a:pt x="7225" y="717"/>
                  </a:lnTo>
                  <a:lnTo>
                    <a:pt x="7152" y="696"/>
                  </a:lnTo>
                  <a:lnTo>
                    <a:pt x="7075" y="683"/>
                  </a:lnTo>
                  <a:lnTo>
                    <a:pt x="6995" y="679"/>
                  </a:lnTo>
                  <a:lnTo>
                    <a:pt x="6910" y="683"/>
                  </a:lnTo>
                  <a:lnTo>
                    <a:pt x="6822" y="696"/>
                  </a:lnTo>
                  <a:lnTo>
                    <a:pt x="6730" y="717"/>
                  </a:lnTo>
                  <a:lnTo>
                    <a:pt x="6635" y="748"/>
                  </a:lnTo>
                  <a:lnTo>
                    <a:pt x="6536" y="786"/>
                  </a:lnTo>
                  <a:lnTo>
                    <a:pt x="6432" y="835"/>
                  </a:lnTo>
                  <a:lnTo>
                    <a:pt x="6325" y="890"/>
                  </a:lnTo>
                  <a:lnTo>
                    <a:pt x="6214" y="955"/>
                  </a:lnTo>
                  <a:lnTo>
                    <a:pt x="6100" y="1028"/>
                  </a:lnTo>
                  <a:lnTo>
                    <a:pt x="5982" y="1110"/>
                  </a:lnTo>
                  <a:lnTo>
                    <a:pt x="5861" y="1201"/>
                  </a:lnTo>
                  <a:lnTo>
                    <a:pt x="5735" y="1300"/>
                  </a:lnTo>
                  <a:lnTo>
                    <a:pt x="5564" y="1249"/>
                  </a:lnTo>
                  <a:lnTo>
                    <a:pt x="5399" y="1204"/>
                  </a:lnTo>
                  <a:lnTo>
                    <a:pt x="5240" y="1165"/>
                  </a:lnTo>
                  <a:lnTo>
                    <a:pt x="5085" y="1134"/>
                  </a:lnTo>
                  <a:lnTo>
                    <a:pt x="4937" y="1108"/>
                  </a:lnTo>
                  <a:lnTo>
                    <a:pt x="4793" y="1088"/>
                  </a:lnTo>
                  <a:lnTo>
                    <a:pt x="4655" y="1074"/>
                  </a:lnTo>
                  <a:lnTo>
                    <a:pt x="4521" y="1067"/>
                  </a:lnTo>
                  <a:lnTo>
                    <a:pt x="4393" y="1065"/>
                  </a:lnTo>
                  <a:lnTo>
                    <a:pt x="4269" y="1069"/>
                  </a:lnTo>
                  <a:lnTo>
                    <a:pt x="4150" y="1078"/>
                  </a:lnTo>
                  <a:lnTo>
                    <a:pt x="4036" y="1093"/>
                  </a:lnTo>
                  <a:lnTo>
                    <a:pt x="3926" y="1113"/>
                  </a:lnTo>
                  <a:lnTo>
                    <a:pt x="3820" y="1138"/>
                  </a:lnTo>
                  <a:lnTo>
                    <a:pt x="3719" y="1168"/>
                  </a:lnTo>
                  <a:lnTo>
                    <a:pt x="3622" y="1204"/>
                  </a:lnTo>
                  <a:lnTo>
                    <a:pt x="3529" y="1245"/>
                  </a:lnTo>
                  <a:lnTo>
                    <a:pt x="3440" y="1290"/>
                  </a:lnTo>
                  <a:lnTo>
                    <a:pt x="3356" y="1339"/>
                  </a:lnTo>
                  <a:lnTo>
                    <a:pt x="3274" y="1393"/>
                  </a:lnTo>
                  <a:lnTo>
                    <a:pt x="3197" y="1452"/>
                  </a:lnTo>
                  <a:lnTo>
                    <a:pt x="3123" y="1515"/>
                  </a:lnTo>
                  <a:lnTo>
                    <a:pt x="3053" y="1582"/>
                  </a:lnTo>
                  <a:lnTo>
                    <a:pt x="2986" y="1653"/>
                  </a:lnTo>
                  <a:lnTo>
                    <a:pt x="2923" y="1728"/>
                  </a:lnTo>
                  <a:lnTo>
                    <a:pt x="2864" y="1808"/>
                  </a:lnTo>
                  <a:lnTo>
                    <a:pt x="2806" y="1890"/>
                  </a:lnTo>
                  <a:lnTo>
                    <a:pt x="2753" y="1977"/>
                  </a:lnTo>
                  <a:lnTo>
                    <a:pt x="2702" y="2067"/>
                  </a:lnTo>
                  <a:lnTo>
                    <a:pt x="2653" y="2160"/>
                  </a:lnTo>
                  <a:lnTo>
                    <a:pt x="2608" y="2257"/>
                  </a:lnTo>
                  <a:lnTo>
                    <a:pt x="2566" y="2356"/>
                  </a:lnTo>
                  <a:lnTo>
                    <a:pt x="2471" y="2318"/>
                  </a:lnTo>
                  <a:lnTo>
                    <a:pt x="2380" y="2284"/>
                  </a:lnTo>
                  <a:lnTo>
                    <a:pt x="2291" y="2255"/>
                  </a:lnTo>
                  <a:lnTo>
                    <a:pt x="2206" y="2230"/>
                  </a:lnTo>
                  <a:lnTo>
                    <a:pt x="2123" y="2211"/>
                  </a:lnTo>
                  <a:lnTo>
                    <a:pt x="2043" y="2194"/>
                  </a:lnTo>
                  <a:lnTo>
                    <a:pt x="1967" y="2183"/>
                  </a:lnTo>
                  <a:lnTo>
                    <a:pt x="1894" y="2176"/>
                  </a:lnTo>
                  <a:lnTo>
                    <a:pt x="1824" y="2174"/>
                  </a:lnTo>
                  <a:lnTo>
                    <a:pt x="1756" y="2176"/>
                  </a:lnTo>
                  <a:lnTo>
                    <a:pt x="1691" y="2183"/>
                  </a:lnTo>
                  <a:lnTo>
                    <a:pt x="1630" y="2194"/>
                  </a:lnTo>
                  <a:lnTo>
                    <a:pt x="1572" y="2211"/>
                  </a:lnTo>
                  <a:lnTo>
                    <a:pt x="1516" y="2230"/>
                  </a:lnTo>
                  <a:lnTo>
                    <a:pt x="1464" y="2255"/>
                  </a:lnTo>
                  <a:lnTo>
                    <a:pt x="1414" y="2284"/>
                  </a:lnTo>
                  <a:lnTo>
                    <a:pt x="1367" y="2318"/>
                  </a:lnTo>
                  <a:lnTo>
                    <a:pt x="1324" y="2356"/>
                  </a:lnTo>
                  <a:lnTo>
                    <a:pt x="1283" y="2399"/>
                  </a:lnTo>
                  <a:lnTo>
                    <a:pt x="1246" y="2446"/>
                  </a:lnTo>
                  <a:lnTo>
                    <a:pt x="1212" y="2498"/>
                  </a:lnTo>
                  <a:lnTo>
                    <a:pt x="1180" y="2555"/>
                  </a:lnTo>
                  <a:lnTo>
                    <a:pt x="1151" y="2616"/>
                  </a:lnTo>
                  <a:lnTo>
                    <a:pt x="1126" y="2680"/>
                  </a:lnTo>
                  <a:lnTo>
                    <a:pt x="1103" y="2751"/>
                  </a:lnTo>
                  <a:lnTo>
                    <a:pt x="1084" y="2825"/>
                  </a:lnTo>
                  <a:lnTo>
                    <a:pt x="1067" y="2903"/>
                  </a:lnTo>
                  <a:lnTo>
                    <a:pt x="1054" y="2986"/>
                  </a:lnTo>
                  <a:lnTo>
                    <a:pt x="1043" y="3074"/>
                  </a:lnTo>
                  <a:lnTo>
                    <a:pt x="1036" y="3166"/>
                  </a:lnTo>
                  <a:lnTo>
                    <a:pt x="1032" y="3263"/>
                  </a:lnTo>
                  <a:lnTo>
                    <a:pt x="1030" y="3365"/>
                  </a:lnTo>
                  <a:lnTo>
                    <a:pt x="949" y="3474"/>
                  </a:lnTo>
                  <a:lnTo>
                    <a:pt x="880" y="3578"/>
                  </a:lnTo>
                  <a:lnTo>
                    <a:pt x="820" y="3678"/>
                  </a:lnTo>
                  <a:lnTo>
                    <a:pt x="772" y="3774"/>
                  </a:lnTo>
                  <a:lnTo>
                    <a:pt x="733" y="3866"/>
                  </a:lnTo>
                  <a:lnTo>
                    <a:pt x="704" y="3953"/>
                  </a:lnTo>
                  <a:lnTo>
                    <a:pt x="685" y="4038"/>
                  </a:lnTo>
                  <a:lnTo>
                    <a:pt x="675" y="4117"/>
                  </a:lnTo>
                  <a:lnTo>
                    <a:pt x="673" y="4193"/>
                  </a:lnTo>
                  <a:lnTo>
                    <a:pt x="680" y="4267"/>
                  </a:lnTo>
                  <a:lnTo>
                    <a:pt x="695" y="4337"/>
                  </a:lnTo>
                  <a:lnTo>
                    <a:pt x="718" y="4403"/>
                  </a:lnTo>
                  <a:lnTo>
                    <a:pt x="748" y="4466"/>
                  </a:lnTo>
                  <a:lnTo>
                    <a:pt x="786" y="4526"/>
                  </a:lnTo>
                  <a:lnTo>
                    <a:pt x="831" y="4584"/>
                  </a:lnTo>
                  <a:lnTo>
                    <a:pt x="883" y="4638"/>
                  </a:lnTo>
                  <a:lnTo>
                    <a:pt x="941" y="4690"/>
                  </a:lnTo>
                  <a:lnTo>
                    <a:pt x="1004" y="4740"/>
                  </a:lnTo>
                  <a:lnTo>
                    <a:pt x="1075" y="4787"/>
                  </a:lnTo>
                  <a:lnTo>
                    <a:pt x="1150" y="4831"/>
                  </a:lnTo>
                  <a:lnTo>
                    <a:pt x="1230" y="4874"/>
                  </a:lnTo>
                  <a:lnTo>
                    <a:pt x="1315" y="4914"/>
                  </a:lnTo>
                  <a:lnTo>
                    <a:pt x="1406" y="4953"/>
                  </a:lnTo>
                  <a:lnTo>
                    <a:pt x="1500" y="4990"/>
                  </a:lnTo>
                  <a:lnTo>
                    <a:pt x="1599" y="5025"/>
                  </a:lnTo>
                  <a:lnTo>
                    <a:pt x="1700" y="5059"/>
                  </a:lnTo>
                  <a:lnTo>
                    <a:pt x="1806" y="5091"/>
                  </a:lnTo>
                  <a:lnTo>
                    <a:pt x="1915" y="5123"/>
                  </a:lnTo>
                  <a:lnTo>
                    <a:pt x="2026" y="5153"/>
                  </a:lnTo>
                  <a:lnTo>
                    <a:pt x="2140" y="5181"/>
                  </a:lnTo>
                  <a:lnTo>
                    <a:pt x="2256" y="5209"/>
                  </a:lnTo>
                  <a:lnTo>
                    <a:pt x="2374" y="5237"/>
                  </a:lnTo>
                  <a:lnTo>
                    <a:pt x="2346" y="5363"/>
                  </a:lnTo>
                  <a:lnTo>
                    <a:pt x="2323" y="5479"/>
                  </a:lnTo>
                  <a:lnTo>
                    <a:pt x="2307" y="5586"/>
                  </a:lnTo>
                  <a:lnTo>
                    <a:pt x="2298" y="5685"/>
                  </a:lnTo>
                  <a:lnTo>
                    <a:pt x="2294" y="5773"/>
                  </a:lnTo>
                  <a:lnTo>
                    <a:pt x="2296" y="5854"/>
                  </a:lnTo>
                  <a:lnTo>
                    <a:pt x="2303" y="5926"/>
                  </a:lnTo>
                  <a:lnTo>
                    <a:pt x="2316" y="5991"/>
                  </a:lnTo>
                  <a:lnTo>
                    <a:pt x="2333" y="6048"/>
                  </a:lnTo>
                  <a:lnTo>
                    <a:pt x="2356" y="6097"/>
                  </a:lnTo>
                  <a:lnTo>
                    <a:pt x="2384" y="6139"/>
                  </a:lnTo>
                  <a:lnTo>
                    <a:pt x="2416" y="6173"/>
                  </a:lnTo>
                  <a:lnTo>
                    <a:pt x="2453" y="6201"/>
                  </a:lnTo>
                  <a:lnTo>
                    <a:pt x="2493" y="6222"/>
                  </a:lnTo>
                  <a:lnTo>
                    <a:pt x="2538" y="6238"/>
                  </a:lnTo>
                  <a:lnTo>
                    <a:pt x="2589" y="6248"/>
                  </a:lnTo>
                  <a:lnTo>
                    <a:pt x="2641" y="6252"/>
                  </a:lnTo>
                  <a:lnTo>
                    <a:pt x="2697" y="6251"/>
                  </a:lnTo>
                  <a:lnTo>
                    <a:pt x="2757" y="6243"/>
                  </a:lnTo>
                  <a:lnTo>
                    <a:pt x="2821" y="6232"/>
                  </a:lnTo>
                  <a:lnTo>
                    <a:pt x="2887" y="6216"/>
                  </a:lnTo>
                  <a:lnTo>
                    <a:pt x="2956" y="6196"/>
                  </a:lnTo>
                  <a:lnTo>
                    <a:pt x="3027" y="6171"/>
                  </a:lnTo>
                  <a:lnTo>
                    <a:pt x="3101" y="6143"/>
                  </a:lnTo>
                  <a:lnTo>
                    <a:pt x="3179" y="6111"/>
                  </a:lnTo>
                  <a:lnTo>
                    <a:pt x="3257" y="6077"/>
                  </a:lnTo>
                  <a:lnTo>
                    <a:pt x="3338" y="6038"/>
                  </a:lnTo>
                  <a:lnTo>
                    <a:pt x="3420" y="5997"/>
                  </a:lnTo>
                  <a:lnTo>
                    <a:pt x="3505" y="5955"/>
                  </a:lnTo>
                  <a:lnTo>
                    <a:pt x="3591" y="5910"/>
                  </a:lnTo>
                  <a:lnTo>
                    <a:pt x="3678" y="5861"/>
                  </a:lnTo>
                  <a:lnTo>
                    <a:pt x="3766" y="5813"/>
                  </a:lnTo>
                  <a:lnTo>
                    <a:pt x="3748" y="5867"/>
                  </a:lnTo>
                  <a:lnTo>
                    <a:pt x="3730" y="5921"/>
                  </a:lnTo>
                  <a:lnTo>
                    <a:pt x="3712" y="5974"/>
                  </a:lnTo>
                  <a:lnTo>
                    <a:pt x="3695" y="6029"/>
                  </a:lnTo>
                  <a:lnTo>
                    <a:pt x="3676" y="6083"/>
                  </a:lnTo>
                  <a:lnTo>
                    <a:pt x="3658" y="6137"/>
                  </a:lnTo>
                  <a:lnTo>
                    <a:pt x="3640" y="6191"/>
                  </a:lnTo>
                  <a:lnTo>
                    <a:pt x="3622" y="6244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18120" y="3957120"/>
              <a:ext cx="703800" cy="472680"/>
            </a:xfrm>
            <a:custGeom>
              <a:avLst/>
              <a:gdLst/>
              <a:ahLst/>
              <a:rect l="l" t="t" r="r" b="b"/>
              <a:pathLst>
                <a:path w="10827" h="7754">
                  <a:moveTo>
                    <a:pt x="3622" y="6244"/>
                  </a:moveTo>
                  <a:lnTo>
                    <a:pt x="3510" y="6322"/>
                  </a:lnTo>
                  <a:lnTo>
                    <a:pt x="3400" y="6397"/>
                  </a:lnTo>
                  <a:lnTo>
                    <a:pt x="3291" y="6469"/>
                  </a:lnTo>
                  <a:lnTo>
                    <a:pt x="3184" y="6537"/>
                  </a:lnTo>
                  <a:lnTo>
                    <a:pt x="3079" y="6603"/>
                  </a:lnTo>
                  <a:lnTo>
                    <a:pt x="2978" y="6664"/>
                  </a:lnTo>
                  <a:lnTo>
                    <a:pt x="2879" y="6720"/>
                  </a:lnTo>
                  <a:lnTo>
                    <a:pt x="2783" y="6773"/>
                  </a:lnTo>
                  <a:lnTo>
                    <a:pt x="2690" y="6820"/>
                  </a:lnTo>
                  <a:lnTo>
                    <a:pt x="2601" y="6861"/>
                  </a:lnTo>
                  <a:lnTo>
                    <a:pt x="2516" y="6896"/>
                  </a:lnTo>
                  <a:lnTo>
                    <a:pt x="2435" y="6925"/>
                  </a:lnTo>
                  <a:lnTo>
                    <a:pt x="2358" y="6948"/>
                  </a:lnTo>
                  <a:lnTo>
                    <a:pt x="2285" y="6962"/>
                  </a:lnTo>
                  <a:lnTo>
                    <a:pt x="2218" y="6970"/>
                  </a:lnTo>
                  <a:lnTo>
                    <a:pt x="2155" y="6970"/>
                  </a:lnTo>
                  <a:lnTo>
                    <a:pt x="2098" y="6960"/>
                  </a:lnTo>
                  <a:lnTo>
                    <a:pt x="2046" y="6943"/>
                  </a:lnTo>
                  <a:lnTo>
                    <a:pt x="1999" y="6917"/>
                  </a:lnTo>
                  <a:lnTo>
                    <a:pt x="1960" y="6881"/>
                  </a:lnTo>
                  <a:lnTo>
                    <a:pt x="1926" y="6836"/>
                  </a:lnTo>
                  <a:lnTo>
                    <a:pt x="1899" y="6779"/>
                  </a:lnTo>
                  <a:lnTo>
                    <a:pt x="1878" y="6713"/>
                  </a:lnTo>
                  <a:lnTo>
                    <a:pt x="1865" y="6636"/>
                  </a:lnTo>
                  <a:lnTo>
                    <a:pt x="1858" y="6547"/>
                  </a:lnTo>
                  <a:lnTo>
                    <a:pt x="1859" y="6446"/>
                  </a:lnTo>
                  <a:lnTo>
                    <a:pt x="1869" y="6333"/>
                  </a:lnTo>
                  <a:lnTo>
                    <a:pt x="1885" y="6208"/>
                  </a:lnTo>
                  <a:lnTo>
                    <a:pt x="1911" y="6070"/>
                  </a:lnTo>
                  <a:lnTo>
                    <a:pt x="1944" y="5918"/>
                  </a:lnTo>
                  <a:lnTo>
                    <a:pt x="1987" y="5753"/>
                  </a:lnTo>
                  <a:lnTo>
                    <a:pt x="2038" y="5573"/>
                  </a:lnTo>
                  <a:lnTo>
                    <a:pt x="1855" y="5541"/>
                  </a:lnTo>
                  <a:lnTo>
                    <a:pt x="1680" y="5507"/>
                  </a:lnTo>
                  <a:lnTo>
                    <a:pt x="1514" y="5469"/>
                  </a:lnTo>
                  <a:lnTo>
                    <a:pt x="1357" y="5429"/>
                  </a:lnTo>
                  <a:lnTo>
                    <a:pt x="1208" y="5385"/>
                  </a:lnTo>
                  <a:lnTo>
                    <a:pt x="1068" y="5339"/>
                  </a:lnTo>
                  <a:lnTo>
                    <a:pt x="936" y="5289"/>
                  </a:lnTo>
                  <a:lnTo>
                    <a:pt x="814" y="5237"/>
                  </a:lnTo>
                  <a:lnTo>
                    <a:pt x="700" y="5181"/>
                  </a:lnTo>
                  <a:lnTo>
                    <a:pt x="594" y="5123"/>
                  </a:lnTo>
                  <a:lnTo>
                    <a:pt x="497" y="5061"/>
                  </a:lnTo>
                  <a:lnTo>
                    <a:pt x="409" y="4997"/>
                  </a:lnTo>
                  <a:lnTo>
                    <a:pt x="328" y="4929"/>
                  </a:lnTo>
                  <a:lnTo>
                    <a:pt x="257" y="4859"/>
                  </a:lnTo>
                  <a:lnTo>
                    <a:pt x="196" y="4786"/>
                  </a:lnTo>
                  <a:lnTo>
                    <a:pt x="141" y="4708"/>
                  </a:lnTo>
                  <a:lnTo>
                    <a:pt x="96" y="4629"/>
                  </a:lnTo>
                  <a:lnTo>
                    <a:pt x="60" y="4547"/>
                  </a:lnTo>
                  <a:lnTo>
                    <a:pt x="31" y="4461"/>
                  </a:lnTo>
                  <a:lnTo>
                    <a:pt x="12" y="4372"/>
                  </a:lnTo>
                  <a:lnTo>
                    <a:pt x="2" y="4281"/>
                  </a:lnTo>
                  <a:lnTo>
                    <a:pt x="0" y="4186"/>
                  </a:lnTo>
                  <a:lnTo>
                    <a:pt x="6" y="4089"/>
                  </a:lnTo>
                  <a:lnTo>
                    <a:pt x="22" y="3988"/>
                  </a:lnTo>
                  <a:lnTo>
                    <a:pt x="45" y="3885"/>
                  </a:lnTo>
                  <a:lnTo>
                    <a:pt x="77" y="3778"/>
                  </a:lnTo>
                  <a:lnTo>
                    <a:pt x="119" y="3669"/>
                  </a:lnTo>
                  <a:lnTo>
                    <a:pt x="168" y="3556"/>
                  </a:lnTo>
                  <a:lnTo>
                    <a:pt x="227" y="3441"/>
                  </a:lnTo>
                  <a:lnTo>
                    <a:pt x="294" y="3323"/>
                  </a:lnTo>
                  <a:lnTo>
                    <a:pt x="369" y="3200"/>
                  </a:lnTo>
                  <a:lnTo>
                    <a:pt x="454" y="3076"/>
                  </a:lnTo>
                  <a:lnTo>
                    <a:pt x="457" y="2999"/>
                  </a:lnTo>
                  <a:lnTo>
                    <a:pt x="461" y="2922"/>
                  </a:lnTo>
                  <a:lnTo>
                    <a:pt x="468" y="2847"/>
                  </a:lnTo>
                  <a:lnTo>
                    <a:pt x="476" y="2772"/>
                  </a:lnTo>
                  <a:lnTo>
                    <a:pt x="486" y="2699"/>
                  </a:lnTo>
                  <a:lnTo>
                    <a:pt x="498" y="2628"/>
                  </a:lnTo>
                  <a:lnTo>
                    <a:pt x="513" y="2559"/>
                  </a:lnTo>
                  <a:lnTo>
                    <a:pt x="530" y="2492"/>
                  </a:lnTo>
                  <a:lnTo>
                    <a:pt x="550" y="2426"/>
                  </a:lnTo>
                  <a:lnTo>
                    <a:pt x="573" y="2363"/>
                  </a:lnTo>
                  <a:lnTo>
                    <a:pt x="599" y="2303"/>
                  </a:lnTo>
                  <a:lnTo>
                    <a:pt x="630" y="2245"/>
                  </a:lnTo>
                  <a:lnTo>
                    <a:pt x="663" y="2190"/>
                  </a:lnTo>
                  <a:lnTo>
                    <a:pt x="700" y="2137"/>
                  </a:lnTo>
                  <a:lnTo>
                    <a:pt x="742" y="2088"/>
                  </a:lnTo>
                  <a:lnTo>
                    <a:pt x="788" y="2042"/>
                  </a:lnTo>
                  <a:lnTo>
                    <a:pt x="838" y="2000"/>
                  </a:lnTo>
                  <a:lnTo>
                    <a:pt x="892" y="1961"/>
                  </a:lnTo>
                  <a:lnTo>
                    <a:pt x="952" y="1926"/>
                  </a:lnTo>
                  <a:lnTo>
                    <a:pt x="1018" y="1895"/>
                  </a:lnTo>
                  <a:lnTo>
                    <a:pt x="1088" y="1867"/>
                  </a:lnTo>
                  <a:lnTo>
                    <a:pt x="1164" y="1843"/>
                  </a:lnTo>
                  <a:lnTo>
                    <a:pt x="1246" y="1824"/>
                  </a:lnTo>
                  <a:lnTo>
                    <a:pt x="1334" y="1810"/>
                  </a:lnTo>
                  <a:lnTo>
                    <a:pt x="1428" y="1800"/>
                  </a:lnTo>
                  <a:lnTo>
                    <a:pt x="1529" y="1795"/>
                  </a:lnTo>
                  <a:lnTo>
                    <a:pt x="1635" y="1796"/>
                  </a:lnTo>
                  <a:lnTo>
                    <a:pt x="1749" y="1800"/>
                  </a:lnTo>
                  <a:lnTo>
                    <a:pt x="1871" y="1812"/>
                  </a:lnTo>
                  <a:lnTo>
                    <a:pt x="1998" y="1828"/>
                  </a:lnTo>
                  <a:lnTo>
                    <a:pt x="2134" y="1849"/>
                  </a:lnTo>
                  <a:lnTo>
                    <a:pt x="2278" y="1876"/>
                  </a:lnTo>
                  <a:lnTo>
                    <a:pt x="2318" y="1785"/>
                  </a:lnTo>
                  <a:lnTo>
                    <a:pt x="2359" y="1696"/>
                  </a:lnTo>
                  <a:lnTo>
                    <a:pt x="2402" y="1608"/>
                  </a:lnTo>
                  <a:lnTo>
                    <a:pt x="2448" y="1521"/>
                  </a:lnTo>
                  <a:lnTo>
                    <a:pt x="2498" y="1437"/>
                  </a:lnTo>
                  <a:lnTo>
                    <a:pt x="2550" y="1356"/>
                  </a:lnTo>
                  <a:lnTo>
                    <a:pt x="2605" y="1277"/>
                  </a:lnTo>
                  <a:lnTo>
                    <a:pt x="2664" y="1201"/>
                  </a:lnTo>
                  <a:lnTo>
                    <a:pt x="2728" y="1128"/>
                  </a:lnTo>
                  <a:lnTo>
                    <a:pt x="2795" y="1059"/>
                  </a:lnTo>
                  <a:lnTo>
                    <a:pt x="2867" y="992"/>
                  </a:lnTo>
                  <a:lnTo>
                    <a:pt x="2944" y="930"/>
                  </a:lnTo>
                  <a:lnTo>
                    <a:pt x="3026" y="871"/>
                  </a:lnTo>
                  <a:lnTo>
                    <a:pt x="3114" y="817"/>
                  </a:lnTo>
                  <a:lnTo>
                    <a:pt x="3207" y="767"/>
                  </a:lnTo>
                  <a:lnTo>
                    <a:pt x="3306" y="722"/>
                  </a:lnTo>
                  <a:lnTo>
                    <a:pt x="3413" y="681"/>
                  </a:lnTo>
                  <a:lnTo>
                    <a:pt x="3525" y="646"/>
                  </a:lnTo>
                  <a:lnTo>
                    <a:pt x="3645" y="616"/>
                  </a:lnTo>
                  <a:lnTo>
                    <a:pt x="3772" y="592"/>
                  </a:lnTo>
                  <a:lnTo>
                    <a:pt x="3907" y="574"/>
                  </a:lnTo>
                  <a:lnTo>
                    <a:pt x="4049" y="562"/>
                  </a:lnTo>
                  <a:lnTo>
                    <a:pt x="4200" y="555"/>
                  </a:lnTo>
                  <a:lnTo>
                    <a:pt x="4359" y="555"/>
                  </a:lnTo>
                  <a:lnTo>
                    <a:pt x="4526" y="563"/>
                  </a:lnTo>
                  <a:lnTo>
                    <a:pt x="4704" y="576"/>
                  </a:lnTo>
                  <a:lnTo>
                    <a:pt x="4891" y="598"/>
                  </a:lnTo>
                  <a:lnTo>
                    <a:pt x="5086" y="626"/>
                  </a:lnTo>
                  <a:lnTo>
                    <a:pt x="5292" y="663"/>
                  </a:lnTo>
                  <a:lnTo>
                    <a:pt x="5509" y="707"/>
                  </a:lnTo>
                  <a:lnTo>
                    <a:pt x="5736" y="759"/>
                  </a:lnTo>
                  <a:lnTo>
                    <a:pt x="5975" y="820"/>
                  </a:lnTo>
                  <a:lnTo>
                    <a:pt x="6144" y="666"/>
                  </a:lnTo>
                  <a:lnTo>
                    <a:pt x="6306" y="529"/>
                  </a:lnTo>
                  <a:lnTo>
                    <a:pt x="6460" y="410"/>
                  </a:lnTo>
                  <a:lnTo>
                    <a:pt x="6606" y="306"/>
                  </a:lnTo>
                  <a:lnTo>
                    <a:pt x="6744" y="218"/>
                  </a:lnTo>
                  <a:lnTo>
                    <a:pt x="6875" y="146"/>
                  </a:lnTo>
                  <a:lnTo>
                    <a:pt x="6999" y="89"/>
                  </a:lnTo>
                  <a:lnTo>
                    <a:pt x="7115" y="46"/>
                  </a:lnTo>
                  <a:lnTo>
                    <a:pt x="7225" y="17"/>
                  </a:lnTo>
                  <a:lnTo>
                    <a:pt x="7329" y="2"/>
                  </a:lnTo>
                  <a:lnTo>
                    <a:pt x="7426" y="0"/>
                  </a:lnTo>
                  <a:lnTo>
                    <a:pt x="7517" y="10"/>
                  </a:lnTo>
                  <a:lnTo>
                    <a:pt x="7602" y="32"/>
                  </a:lnTo>
                  <a:lnTo>
                    <a:pt x="7681" y="67"/>
                  </a:lnTo>
                  <a:lnTo>
                    <a:pt x="7756" y="112"/>
                  </a:lnTo>
                  <a:lnTo>
                    <a:pt x="7826" y="167"/>
                  </a:lnTo>
                  <a:lnTo>
                    <a:pt x="7890" y="233"/>
                  </a:lnTo>
                  <a:lnTo>
                    <a:pt x="7949" y="308"/>
                  </a:lnTo>
                  <a:lnTo>
                    <a:pt x="8005" y="393"/>
                  </a:lnTo>
                  <a:lnTo>
                    <a:pt x="8056" y="486"/>
                  </a:lnTo>
                  <a:lnTo>
                    <a:pt x="8102" y="589"/>
                  </a:lnTo>
                  <a:lnTo>
                    <a:pt x="8146" y="698"/>
                  </a:lnTo>
                  <a:lnTo>
                    <a:pt x="8186" y="815"/>
                  </a:lnTo>
                  <a:lnTo>
                    <a:pt x="8222" y="938"/>
                  </a:lnTo>
                  <a:lnTo>
                    <a:pt x="8256" y="1068"/>
                  </a:lnTo>
                  <a:lnTo>
                    <a:pt x="8286" y="1204"/>
                  </a:lnTo>
                  <a:lnTo>
                    <a:pt x="8314" y="1345"/>
                  </a:lnTo>
                  <a:lnTo>
                    <a:pt x="8339" y="1492"/>
                  </a:lnTo>
                  <a:lnTo>
                    <a:pt x="8364" y="1642"/>
                  </a:lnTo>
                  <a:lnTo>
                    <a:pt x="8384" y="1797"/>
                  </a:lnTo>
                  <a:lnTo>
                    <a:pt x="8404" y="1955"/>
                  </a:lnTo>
                  <a:lnTo>
                    <a:pt x="8423" y="2116"/>
                  </a:lnTo>
                  <a:lnTo>
                    <a:pt x="8630" y="2220"/>
                  </a:lnTo>
                  <a:lnTo>
                    <a:pt x="8830" y="2326"/>
                  </a:lnTo>
                  <a:lnTo>
                    <a:pt x="9022" y="2435"/>
                  </a:lnTo>
                  <a:lnTo>
                    <a:pt x="9205" y="2545"/>
                  </a:lnTo>
                  <a:lnTo>
                    <a:pt x="9381" y="2658"/>
                  </a:lnTo>
                  <a:lnTo>
                    <a:pt x="9547" y="2774"/>
                  </a:lnTo>
                  <a:lnTo>
                    <a:pt x="9705" y="2892"/>
                  </a:lnTo>
                  <a:lnTo>
                    <a:pt x="9854" y="3012"/>
                  </a:lnTo>
                  <a:lnTo>
                    <a:pt x="9993" y="3137"/>
                  </a:lnTo>
                  <a:lnTo>
                    <a:pt x="10123" y="3262"/>
                  </a:lnTo>
                  <a:lnTo>
                    <a:pt x="10242" y="3392"/>
                  </a:lnTo>
                  <a:lnTo>
                    <a:pt x="10351" y="3524"/>
                  </a:lnTo>
                  <a:lnTo>
                    <a:pt x="10450" y="3660"/>
                  </a:lnTo>
                  <a:lnTo>
                    <a:pt x="10538" y="3798"/>
                  </a:lnTo>
                  <a:lnTo>
                    <a:pt x="10614" y="3939"/>
                  </a:lnTo>
                  <a:lnTo>
                    <a:pt x="10679" y="4085"/>
                  </a:lnTo>
                  <a:lnTo>
                    <a:pt x="10734" y="4233"/>
                  </a:lnTo>
                  <a:lnTo>
                    <a:pt x="10775" y="4385"/>
                  </a:lnTo>
                  <a:lnTo>
                    <a:pt x="10805" y="4540"/>
                  </a:lnTo>
                  <a:lnTo>
                    <a:pt x="10823" y="4699"/>
                  </a:lnTo>
                  <a:lnTo>
                    <a:pt x="10827" y="4862"/>
                  </a:lnTo>
                  <a:lnTo>
                    <a:pt x="10818" y="5028"/>
                  </a:lnTo>
                  <a:lnTo>
                    <a:pt x="10796" y="5198"/>
                  </a:lnTo>
                  <a:lnTo>
                    <a:pt x="10762" y="5373"/>
                  </a:lnTo>
                  <a:lnTo>
                    <a:pt x="10713" y="5551"/>
                  </a:lnTo>
                  <a:lnTo>
                    <a:pt x="10649" y="5733"/>
                  </a:lnTo>
                  <a:lnTo>
                    <a:pt x="10571" y="5920"/>
                  </a:lnTo>
                  <a:lnTo>
                    <a:pt x="10479" y="6110"/>
                  </a:lnTo>
                  <a:lnTo>
                    <a:pt x="10373" y="6305"/>
                  </a:lnTo>
                  <a:lnTo>
                    <a:pt x="10250" y="6505"/>
                  </a:lnTo>
                  <a:lnTo>
                    <a:pt x="10113" y="6709"/>
                  </a:lnTo>
                  <a:lnTo>
                    <a:pt x="9959" y="6917"/>
                  </a:lnTo>
                  <a:lnTo>
                    <a:pt x="9872" y="6991"/>
                  </a:lnTo>
                  <a:lnTo>
                    <a:pt x="9786" y="7065"/>
                  </a:lnTo>
                  <a:lnTo>
                    <a:pt x="9699" y="7135"/>
                  </a:lnTo>
                  <a:lnTo>
                    <a:pt x="9613" y="7203"/>
                  </a:lnTo>
                  <a:lnTo>
                    <a:pt x="9527" y="7269"/>
                  </a:lnTo>
                  <a:lnTo>
                    <a:pt x="9441" y="7332"/>
                  </a:lnTo>
                  <a:lnTo>
                    <a:pt x="9357" y="7391"/>
                  </a:lnTo>
                  <a:lnTo>
                    <a:pt x="9272" y="7447"/>
                  </a:lnTo>
                  <a:lnTo>
                    <a:pt x="9188" y="7499"/>
                  </a:lnTo>
                  <a:lnTo>
                    <a:pt x="9104" y="7548"/>
                  </a:lnTo>
                  <a:lnTo>
                    <a:pt x="9021" y="7591"/>
                  </a:lnTo>
                  <a:lnTo>
                    <a:pt x="8938" y="7631"/>
                  </a:lnTo>
                  <a:lnTo>
                    <a:pt x="8856" y="7665"/>
                  </a:lnTo>
                  <a:lnTo>
                    <a:pt x="8775" y="7695"/>
                  </a:lnTo>
                  <a:lnTo>
                    <a:pt x="8694" y="7719"/>
                  </a:lnTo>
                  <a:lnTo>
                    <a:pt x="8615" y="7736"/>
                  </a:lnTo>
                  <a:lnTo>
                    <a:pt x="8535" y="7748"/>
                  </a:lnTo>
                  <a:lnTo>
                    <a:pt x="8457" y="7754"/>
                  </a:lnTo>
                  <a:lnTo>
                    <a:pt x="8379" y="7753"/>
                  </a:lnTo>
                  <a:lnTo>
                    <a:pt x="8303" y="7745"/>
                  </a:lnTo>
                  <a:lnTo>
                    <a:pt x="8228" y="7730"/>
                  </a:lnTo>
                  <a:lnTo>
                    <a:pt x="8152" y="7708"/>
                  </a:lnTo>
                  <a:lnTo>
                    <a:pt x="8078" y="7678"/>
                  </a:lnTo>
                  <a:lnTo>
                    <a:pt x="8006" y="7639"/>
                  </a:lnTo>
                  <a:lnTo>
                    <a:pt x="7933" y="7593"/>
                  </a:lnTo>
                  <a:lnTo>
                    <a:pt x="7862" y="7539"/>
                  </a:lnTo>
                  <a:lnTo>
                    <a:pt x="7793" y="7475"/>
                  </a:lnTo>
                  <a:lnTo>
                    <a:pt x="7724" y="7402"/>
                  </a:lnTo>
                  <a:lnTo>
                    <a:pt x="7657" y="7319"/>
                  </a:lnTo>
                  <a:lnTo>
                    <a:pt x="7591" y="7227"/>
                  </a:lnTo>
                  <a:lnTo>
                    <a:pt x="7526" y="7125"/>
                  </a:lnTo>
                  <a:lnTo>
                    <a:pt x="7463" y="7013"/>
                  </a:lnTo>
                  <a:lnTo>
                    <a:pt x="7330" y="7002"/>
                  </a:lnTo>
                  <a:lnTo>
                    <a:pt x="7203" y="6987"/>
                  </a:lnTo>
                  <a:lnTo>
                    <a:pt x="7084" y="6972"/>
                  </a:lnTo>
                  <a:lnTo>
                    <a:pt x="6971" y="6953"/>
                  </a:lnTo>
                  <a:lnTo>
                    <a:pt x="6864" y="6933"/>
                  </a:lnTo>
                  <a:lnTo>
                    <a:pt x="6765" y="6910"/>
                  </a:lnTo>
                  <a:lnTo>
                    <a:pt x="6673" y="6885"/>
                  </a:lnTo>
                  <a:lnTo>
                    <a:pt x="6587" y="6856"/>
                  </a:lnTo>
                  <a:lnTo>
                    <a:pt x="6507" y="6827"/>
                  </a:lnTo>
                  <a:lnTo>
                    <a:pt x="6435" y="6796"/>
                  </a:lnTo>
                  <a:lnTo>
                    <a:pt x="6369" y="6761"/>
                  </a:lnTo>
                  <a:lnTo>
                    <a:pt x="6311" y="6725"/>
                  </a:lnTo>
                  <a:lnTo>
                    <a:pt x="6258" y="6687"/>
                  </a:lnTo>
                  <a:lnTo>
                    <a:pt x="6213" y="6645"/>
                  </a:lnTo>
                  <a:lnTo>
                    <a:pt x="6175" y="6602"/>
                  </a:lnTo>
                  <a:lnTo>
                    <a:pt x="6143" y="6557"/>
                  </a:lnTo>
                  <a:lnTo>
                    <a:pt x="6117" y="6509"/>
                  </a:lnTo>
                  <a:lnTo>
                    <a:pt x="6099" y="6460"/>
                  </a:lnTo>
                  <a:lnTo>
                    <a:pt x="6088" y="6408"/>
                  </a:lnTo>
                  <a:lnTo>
                    <a:pt x="6082" y="6353"/>
                  </a:lnTo>
                  <a:lnTo>
                    <a:pt x="6085" y="6297"/>
                  </a:lnTo>
                  <a:lnTo>
                    <a:pt x="6093" y="6237"/>
                  </a:lnTo>
                  <a:lnTo>
                    <a:pt x="6109" y="6176"/>
                  </a:lnTo>
                  <a:lnTo>
                    <a:pt x="6131" y="6113"/>
                  </a:lnTo>
                  <a:lnTo>
                    <a:pt x="6159" y="6048"/>
                  </a:lnTo>
                  <a:lnTo>
                    <a:pt x="6195" y="5980"/>
                  </a:lnTo>
                  <a:lnTo>
                    <a:pt x="6237" y="5910"/>
                  </a:lnTo>
                  <a:lnTo>
                    <a:pt x="6286" y="5837"/>
                  </a:lnTo>
                  <a:lnTo>
                    <a:pt x="6342" y="5762"/>
                  </a:lnTo>
                  <a:lnTo>
                    <a:pt x="6405" y="5686"/>
                  </a:lnTo>
                  <a:lnTo>
                    <a:pt x="6475" y="5606"/>
                  </a:lnTo>
                  <a:lnTo>
                    <a:pt x="6551" y="5524"/>
                  </a:lnTo>
                  <a:lnTo>
                    <a:pt x="6611" y="5500"/>
                  </a:lnTo>
                  <a:lnTo>
                    <a:pt x="6671" y="5476"/>
                  </a:lnTo>
                  <a:lnTo>
                    <a:pt x="6730" y="5453"/>
                  </a:lnTo>
                  <a:lnTo>
                    <a:pt x="6791" y="5429"/>
                  </a:lnTo>
                  <a:lnTo>
                    <a:pt x="6850" y="5405"/>
                  </a:lnTo>
                  <a:lnTo>
                    <a:pt x="6911" y="5381"/>
                  </a:lnTo>
                  <a:lnTo>
                    <a:pt x="6971" y="5357"/>
                  </a:lnTo>
                  <a:lnTo>
                    <a:pt x="7030" y="5333"/>
                  </a:lnTo>
                  <a:lnTo>
                    <a:pt x="6968" y="5420"/>
                  </a:lnTo>
                  <a:lnTo>
                    <a:pt x="6910" y="5504"/>
                  </a:lnTo>
                  <a:lnTo>
                    <a:pt x="6858" y="5585"/>
                  </a:lnTo>
                  <a:lnTo>
                    <a:pt x="6812" y="5663"/>
                  </a:lnTo>
                  <a:lnTo>
                    <a:pt x="6771" y="5738"/>
                  </a:lnTo>
                  <a:lnTo>
                    <a:pt x="6735" y="5810"/>
                  </a:lnTo>
                  <a:lnTo>
                    <a:pt x="6706" y="5879"/>
                  </a:lnTo>
                  <a:lnTo>
                    <a:pt x="6683" y="5945"/>
                  </a:lnTo>
                  <a:lnTo>
                    <a:pt x="6664" y="6008"/>
                  </a:lnTo>
                  <a:lnTo>
                    <a:pt x="6652" y="6068"/>
                  </a:lnTo>
                  <a:lnTo>
                    <a:pt x="6644" y="6125"/>
                  </a:lnTo>
                  <a:lnTo>
                    <a:pt x="6643" y="6178"/>
                  </a:lnTo>
                  <a:lnTo>
                    <a:pt x="6647" y="6230"/>
                  </a:lnTo>
                  <a:lnTo>
                    <a:pt x="6658" y="6278"/>
                  </a:lnTo>
                  <a:lnTo>
                    <a:pt x="6674" y="6323"/>
                  </a:lnTo>
                  <a:lnTo>
                    <a:pt x="6695" y="6365"/>
                  </a:lnTo>
                  <a:lnTo>
                    <a:pt x="6722" y="6404"/>
                  </a:lnTo>
                  <a:lnTo>
                    <a:pt x="6754" y="6440"/>
                  </a:lnTo>
                  <a:lnTo>
                    <a:pt x="6792" y="6474"/>
                  </a:lnTo>
                  <a:lnTo>
                    <a:pt x="6836" y="6503"/>
                  </a:lnTo>
                  <a:lnTo>
                    <a:pt x="6885" y="6530"/>
                  </a:lnTo>
                  <a:lnTo>
                    <a:pt x="6939" y="6554"/>
                  </a:lnTo>
                  <a:lnTo>
                    <a:pt x="7000" y="6575"/>
                  </a:lnTo>
                  <a:lnTo>
                    <a:pt x="7067" y="6593"/>
                  </a:lnTo>
                  <a:lnTo>
                    <a:pt x="7138" y="6609"/>
                  </a:lnTo>
                  <a:lnTo>
                    <a:pt x="7216" y="6620"/>
                  </a:lnTo>
                  <a:lnTo>
                    <a:pt x="7299" y="6629"/>
                  </a:lnTo>
                  <a:lnTo>
                    <a:pt x="7387" y="6635"/>
                  </a:lnTo>
                  <a:lnTo>
                    <a:pt x="7483" y="6638"/>
                  </a:lnTo>
                  <a:lnTo>
                    <a:pt x="7582" y="6638"/>
                  </a:lnTo>
                  <a:lnTo>
                    <a:pt x="7688" y="6635"/>
                  </a:lnTo>
                  <a:lnTo>
                    <a:pt x="7799" y="6629"/>
                  </a:lnTo>
                  <a:lnTo>
                    <a:pt x="7863" y="6739"/>
                  </a:lnTo>
                  <a:lnTo>
                    <a:pt x="7927" y="6838"/>
                  </a:lnTo>
                  <a:lnTo>
                    <a:pt x="7991" y="6925"/>
                  </a:lnTo>
                  <a:lnTo>
                    <a:pt x="8054" y="7001"/>
                  </a:lnTo>
                  <a:lnTo>
                    <a:pt x="8117" y="7067"/>
                  </a:lnTo>
                  <a:lnTo>
                    <a:pt x="8179" y="7123"/>
                  </a:lnTo>
                  <a:lnTo>
                    <a:pt x="8241" y="7170"/>
                  </a:lnTo>
                  <a:lnTo>
                    <a:pt x="8302" y="7207"/>
                  </a:lnTo>
                  <a:lnTo>
                    <a:pt x="8361" y="7236"/>
                  </a:lnTo>
                  <a:lnTo>
                    <a:pt x="8421" y="7257"/>
                  </a:lnTo>
                  <a:lnTo>
                    <a:pt x="8480" y="7270"/>
                  </a:lnTo>
                  <a:lnTo>
                    <a:pt x="8538" y="7275"/>
                  </a:lnTo>
                  <a:lnTo>
                    <a:pt x="8595" y="7274"/>
                  </a:lnTo>
                  <a:lnTo>
                    <a:pt x="8650" y="7266"/>
                  </a:lnTo>
                  <a:lnTo>
                    <a:pt x="8706" y="7252"/>
                  </a:lnTo>
                  <a:lnTo>
                    <a:pt x="8759" y="7232"/>
                  </a:lnTo>
                  <a:lnTo>
                    <a:pt x="8812" y="7207"/>
                  </a:lnTo>
                  <a:lnTo>
                    <a:pt x="8864" y="7177"/>
                  </a:lnTo>
                  <a:lnTo>
                    <a:pt x="8914" y="7142"/>
                  </a:lnTo>
                  <a:lnTo>
                    <a:pt x="8963" y="7103"/>
                  </a:lnTo>
                  <a:lnTo>
                    <a:pt x="9010" y="7062"/>
                  </a:lnTo>
                  <a:lnTo>
                    <a:pt x="9057" y="7017"/>
                  </a:lnTo>
                  <a:lnTo>
                    <a:pt x="9101" y="6968"/>
                  </a:lnTo>
                  <a:lnTo>
                    <a:pt x="9145" y="6918"/>
                  </a:lnTo>
                  <a:lnTo>
                    <a:pt x="9187" y="6867"/>
                  </a:lnTo>
                  <a:lnTo>
                    <a:pt x="9227" y="6813"/>
                  </a:lnTo>
                  <a:lnTo>
                    <a:pt x="9266" y="6758"/>
                  </a:lnTo>
                  <a:lnTo>
                    <a:pt x="9302" y="6704"/>
                  </a:lnTo>
                  <a:lnTo>
                    <a:pt x="9338" y="6648"/>
                  </a:lnTo>
                  <a:lnTo>
                    <a:pt x="9370" y="6593"/>
                  </a:lnTo>
                  <a:lnTo>
                    <a:pt x="9402" y="6538"/>
                  </a:lnTo>
                  <a:lnTo>
                    <a:pt x="9431" y="6485"/>
                  </a:lnTo>
                  <a:lnTo>
                    <a:pt x="9573" y="6331"/>
                  </a:lnTo>
                  <a:lnTo>
                    <a:pt x="9699" y="6179"/>
                  </a:lnTo>
                  <a:lnTo>
                    <a:pt x="9811" y="6030"/>
                  </a:lnTo>
                  <a:lnTo>
                    <a:pt x="9909" y="5882"/>
                  </a:lnTo>
                  <a:lnTo>
                    <a:pt x="9992" y="5737"/>
                  </a:lnTo>
                  <a:lnTo>
                    <a:pt x="10062" y="5594"/>
                  </a:lnTo>
                  <a:lnTo>
                    <a:pt x="10117" y="5451"/>
                  </a:lnTo>
                  <a:lnTo>
                    <a:pt x="10160" y="5311"/>
                  </a:lnTo>
                  <a:lnTo>
                    <a:pt x="10191" y="5173"/>
                  </a:lnTo>
                  <a:lnTo>
                    <a:pt x="10207" y="5037"/>
                  </a:lnTo>
                  <a:lnTo>
                    <a:pt x="10211" y="4902"/>
                  </a:lnTo>
                  <a:lnTo>
                    <a:pt x="10204" y="4769"/>
                  </a:lnTo>
                  <a:lnTo>
                    <a:pt x="10184" y="4637"/>
                  </a:lnTo>
                  <a:lnTo>
                    <a:pt x="10153" y="4507"/>
                  </a:lnTo>
                  <a:lnTo>
                    <a:pt x="10110" y="4380"/>
                  </a:lnTo>
                  <a:lnTo>
                    <a:pt x="10056" y="4252"/>
                  </a:lnTo>
                  <a:lnTo>
                    <a:pt x="9991" y="4128"/>
                  </a:lnTo>
                  <a:lnTo>
                    <a:pt x="9915" y="4004"/>
                  </a:lnTo>
                  <a:lnTo>
                    <a:pt x="9830" y="3882"/>
                  </a:lnTo>
                  <a:lnTo>
                    <a:pt x="9733" y="3760"/>
                  </a:lnTo>
                  <a:lnTo>
                    <a:pt x="9628" y="3641"/>
                  </a:lnTo>
                  <a:lnTo>
                    <a:pt x="9512" y="3523"/>
                  </a:lnTo>
                  <a:lnTo>
                    <a:pt x="9388" y="3406"/>
                  </a:lnTo>
                  <a:lnTo>
                    <a:pt x="9254" y="3289"/>
                  </a:lnTo>
                  <a:lnTo>
                    <a:pt x="9112" y="3175"/>
                  </a:lnTo>
                  <a:lnTo>
                    <a:pt x="8961" y="3062"/>
                  </a:lnTo>
                  <a:lnTo>
                    <a:pt x="8803" y="2949"/>
                  </a:lnTo>
                  <a:lnTo>
                    <a:pt x="8636" y="2838"/>
                  </a:lnTo>
                  <a:lnTo>
                    <a:pt x="8461" y="2729"/>
                  </a:lnTo>
                  <a:lnTo>
                    <a:pt x="8280" y="2620"/>
                  </a:lnTo>
                  <a:lnTo>
                    <a:pt x="8090" y="2511"/>
                  </a:lnTo>
                  <a:lnTo>
                    <a:pt x="7895" y="2404"/>
                  </a:lnTo>
                  <a:lnTo>
                    <a:pt x="7885" y="2236"/>
                  </a:lnTo>
                  <a:lnTo>
                    <a:pt x="7873" y="2077"/>
                  </a:lnTo>
                  <a:lnTo>
                    <a:pt x="7855" y="1926"/>
                  </a:lnTo>
                  <a:lnTo>
                    <a:pt x="7835" y="1784"/>
                  </a:lnTo>
                  <a:lnTo>
                    <a:pt x="7810" y="1650"/>
                  </a:lnTo>
                  <a:lnTo>
                    <a:pt x="7783" y="1524"/>
                  </a:lnTo>
                  <a:lnTo>
                    <a:pt x="7750" y="1408"/>
                  </a:lnTo>
                  <a:lnTo>
                    <a:pt x="7715" y="1300"/>
                  </a:lnTo>
                  <a:lnTo>
                    <a:pt x="7675" y="1201"/>
                  </a:lnTo>
                  <a:lnTo>
                    <a:pt x="7632" y="1111"/>
                  </a:lnTo>
                  <a:lnTo>
                    <a:pt x="7585" y="1028"/>
                  </a:lnTo>
                  <a:lnTo>
                    <a:pt x="7535" y="955"/>
                  </a:lnTo>
                  <a:lnTo>
                    <a:pt x="7480" y="890"/>
                  </a:lnTo>
                  <a:lnTo>
                    <a:pt x="7422" y="835"/>
                  </a:lnTo>
                  <a:lnTo>
                    <a:pt x="7360" y="786"/>
                  </a:lnTo>
                  <a:lnTo>
                    <a:pt x="7295" y="748"/>
                  </a:lnTo>
                  <a:lnTo>
                    <a:pt x="7225" y="717"/>
                  </a:lnTo>
                  <a:lnTo>
                    <a:pt x="7152" y="696"/>
                  </a:lnTo>
                  <a:lnTo>
                    <a:pt x="7075" y="683"/>
                  </a:lnTo>
                  <a:lnTo>
                    <a:pt x="6995" y="679"/>
                  </a:lnTo>
                  <a:lnTo>
                    <a:pt x="6910" y="683"/>
                  </a:lnTo>
                  <a:lnTo>
                    <a:pt x="6822" y="696"/>
                  </a:lnTo>
                  <a:lnTo>
                    <a:pt x="6730" y="717"/>
                  </a:lnTo>
                  <a:lnTo>
                    <a:pt x="6635" y="748"/>
                  </a:lnTo>
                  <a:lnTo>
                    <a:pt x="6536" y="786"/>
                  </a:lnTo>
                  <a:lnTo>
                    <a:pt x="6432" y="835"/>
                  </a:lnTo>
                  <a:lnTo>
                    <a:pt x="6325" y="890"/>
                  </a:lnTo>
                  <a:lnTo>
                    <a:pt x="6214" y="955"/>
                  </a:lnTo>
                  <a:lnTo>
                    <a:pt x="6100" y="1028"/>
                  </a:lnTo>
                  <a:lnTo>
                    <a:pt x="5982" y="1110"/>
                  </a:lnTo>
                  <a:lnTo>
                    <a:pt x="5861" y="1201"/>
                  </a:lnTo>
                  <a:lnTo>
                    <a:pt x="5735" y="1300"/>
                  </a:lnTo>
                  <a:lnTo>
                    <a:pt x="5564" y="1249"/>
                  </a:lnTo>
                  <a:lnTo>
                    <a:pt x="5399" y="1204"/>
                  </a:lnTo>
                  <a:lnTo>
                    <a:pt x="5240" y="1165"/>
                  </a:lnTo>
                  <a:lnTo>
                    <a:pt x="5085" y="1134"/>
                  </a:lnTo>
                  <a:lnTo>
                    <a:pt x="4937" y="1108"/>
                  </a:lnTo>
                  <a:lnTo>
                    <a:pt x="4793" y="1088"/>
                  </a:lnTo>
                  <a:lnTo>
                    <a:pt x="4655" y="1074"/>
                  </a:lnTo>
                  <a:lnTo>
                    <a:pt x="4521" y="1067"/>
                  </a:lnTo>
                  <a:lnTo>
                    <a:pt x="4393" y="1065"/>
                  </a:lnTo>
                  <a:lnTo>
                    <a:pt x="4269" y="1069"/>
                  </a:lnTo>
                  <a:lnTo>
                    <a:pt x="4150" y="1078"/>
                  </a:lnTo>
                  <a:lnTo>
                    <a:pt x="4036" y="1093"/>
                  </a:lnTo>
                  <a:lnTo>
                    <a:pt x="3926" y="1113"/>
                  </a:lnTo>
                  <a:lnTo>
                    <a:pt x="3820" y="1138"/>
                  </a:lnTo>
                  <a:lnTo>
                    <a:pt x="3719" y="1168"/>
                  </a:lnTo>
                  <a:lnTo>
                    <a:pt x="3622" y="1204"/>
                  </a:lnTo>
                  <a:lnTo>
                    <a:pt x="3529" y="1245"/>
                  </a:lnTo>
                  <a:lnTo>
                    <a:pt x="3440" y="1290"/>
                  </a:lnTo>
                  <a:lnTo>
                    <a:pt x="3356" y="1339"/>
                  </a:lnTo>
                  <a:lnTo>
                    <a:pt x="3274" y="1393"/>
                  </a:lnTo>
                  <a:lnTo>
                    <a:pt x="3197" y="1452"/>
                  </a:lnTo>
                  <a:lnTo>
                    <a:pt x="3123" y="1515"/>
                  </a:lnTo>
                  <a:lnTo>
                    <a:pt x="3053" y="1582"/>
                  </a:lnTo>
                  <a:lnTo>
                    <a:pt x="2986" y="1653"/>
                  </a:lnTo>
                  <a:lnTo>
                    <a:pt x="2923" y="1728"/>
                  </a:lnTo>
                  <a:lnTo>
                    <a:pt x="2864" y="1808"/>
                  </a:lnTo>
                  <a:lnTo>
                    <a:pt x="2806" y="1890"/>
                  </a:lnTo>
                  <a:lnTo>
                    <a:pt x="2753" y="1977"/>
                  </a:lnTo>
                  <a:lnTo>
                    <a:pt x="2702" y="2067"/>
                  </a:lnTo>
                  <a:lnTo>
                    <a:pt x="2653" y="2160"/>
                  </a:lnTo>
                  <a:lnTo>
                    <a:pt x="2608" y="2257"/>
                  </a:lnTo>
                  <a:lnTo>
                    <a:pt x="2566" y="2356"/>
                  </a:lnTo>
                  <a:lnTo>
                    <a:pt x="2471" y="2318"/>
                  </a:lnTo>
                  <a:lnTo>
                    <a:pt x="2380" y="2284"/>
                  </a:lnTo>
                  <a:lnTo>
                    <a:pt x="2291" y="2255"/>
                  </a:lnTo>
                  <a:lnTo>
                    <a:pt x="2206" y="2230"/>
                  </a:lnTo>
                  <a:lnTo>
                    <a:pt x="2123" y="2211"/>
                  </a:lnTo>
                  <a:lnTo>
                    <a:pt x="2043" y="2194"/>
                  </a:lnTo>
                  <a:lnTo>
                    <a:pt x="1967" y="2183"/>
                  </a:lnTo>
                  <a:lnTo>
                    <a:pt x="1894" y="2176"/>
                  </a:lnTo>
                  <a:lnTo>
                    <a:pt x="1824" y="2174"/>
                  </a:lnTo>
                  <a:lnTo>
                    <a:pt x="1756" y="2176"/>
                  </a:lnTo>
                  <a:lnTo>
                    <a:pt x="1691" y="2183"/>
                  </a:lnTo>
                  <a:lnTo>
                    <a:pt x="1630" y="2194"/>
                  </a:lnTo>
                  <a:lnTo>
                    <a:pt x="1572" y="2211"/>
                  </a:lnTo>
                  <a:lnTo>
                    <a:pt x="1516" y="2230"/>
                  </a:lnTo>
                  <a:lnTo>
                    <a:pt x="1464" y="2255"/>
                  </a:lnTo>
                  <a:lnTo>
                    <a:pt x="1414" y="2284"/>
                  </a:lnTo>
                  <a:lnTo>
                    <a:pt x="1367" y="2318"/>
                  </a:lnTo>
                  <a:lnTo>
                    <a:pt x="1324" y="2356"/>
                  </a:lnTo>
                  <a:lnTo>
                    <a:pt x="1283" y="2399"/>
                  </a:lnTo>
                  <a:lnTo>
                    <a:pt x="1246" y="2446"/>
                  </a:lnTo>
                  <a:lnTo>
                    <a:pt x="1212" y="2498"/>
                  </a:lnTo>
                  <a:lnTo>
                    <a:pt x="1180" y="2555"/>
                  </a:lnTo>
                  <a:lnTo>
                    <a:pt x="1151" y="2616"/>
                  </a:lnTo>
                  <a:lnTo>
                    <a:pt x="1126" y="2680"/>
                  </a:lnTo>
                  <a:lnTo>
                    <a:pt x="1103" y="2751"/>
                  </a:lnTo>
                  <a:lnTo>
                    <a:pt x="1084" y="2825"/>
                  </a:lnTo>
                  <a:lnTo>
                    <a:pt x="1067" y="2903"/>
                  </a:lnTo>
                  <a:lnTo>
                    <a:pt x="1054" y="2986"/>
                  </a:lnTo>
                  <a:lnTo>
                    <a:pt x="1043" y="3074"/>
                  </a:lnTo>
                  <a:lnTo>
                    <a:pt x="1036" y="3166"/>
                  </a:lnTo>
                  <a:lnTo>
                    <a:pt x="1032" y="3263"/>
                  </a:lnTo>
                  <a:lnTo>
                    <a:pt x="1030" y="3365"/>
                  </a:lnTo>
                  <a:lnTo>
                    <a:pt x="949" y="3474"/>
                  </a:lnTo>
                  <a:lnTo>
                    <a:pt x="880" y="3578"/>
                  </a:lnTo>
                  <a:lnTo>
                    <a:pt x="820" y="3678"/>
                  </a:lnTo>
                  <a:lnTo>
                    <a:pt x="772" y="3774"/>
                  </a:lnTo>
                  <a:lnTo>
                    <a:pt x="733" y="3866"/>
                  </a:lnTo>
                  <a:lnTo>
                    <a:pt x="704" y="3953"/>
                  </a:lnTo>
                  <a:lnTo>
                    <a:pt x="685" y="4038"/>
                  </a:lnTo>
                  <a:lnTo>
                    <a:pt x="675" y="4117"/>
                  </a:lnTo>
                  <a:lnTo>
                    <a:pt x="673" y="4193"/>
                  </a:lnTo>
                  <a:lnTo>
                    <a:pt x="680" y="4267"/>
                  </a:lnTo>
                  <a:lnTo>
                    <a:pt x="695" y="4337"/>
                  </a:lnTo>
                  <a:lnTo>
                    <a:pt x="718" y="4403"/>
                  </a:lnTo>
                  <a:lnTo>
                    <a:pt x="748" y="4466"/>
                  </a:lnTo>
                  <a:lnTo>
                    <a:pt x="786" y="4526"/>
                  </a:lnTo>
                  <a:lnTo>
                    <a:pt x="831" y="4584"/>
                  </a:lnTo>
                  <a:lnTo>
                    <a:pt x="883" y="4638"/>
                  </a:lnTo>
                  <a:lnTo>
                    <a:pt x="941" y="4690"/>
                  </a:lnTo>
                  <a:lnTo>
                    <a:pt x="1004" y="4740"/>
                  </a:lnTo>
                  <a:lnTo>
                    <a:pt x="1075" y="4787"/>
                  </a:lnTo>
                  <a:lnTo>
                    <a:pt x="1150" y="4831"/>
                  </a:lnTo>
                  <a:lnTo>
                    <a:pt x="1230" y="4874"/>
                  </a:lnTo>
                  <a:lnTo>
                    <a:pt x="1315" y="4914"/>
                  </a:lnTo>
                  <a:lnTo>
                    <a:pt x="1406" y="4953"/>
                  </a:lnTo>
                  <a:lnTo>
                    <a:pt x="1500" y="4990"/>
                  </a:lnTo>
                  <a:lnTo>
                    <a:pt x="1599" y="5025"/>
                  </a:lnTo>
                  <a:lnTo>
                    <a:pt x="1700" y="5059"/>
                  </a:lnTo>
                  <a:lnTo>
                    <a:pt x="1806" y="5091"/>
                  </a:lnTo>
                  <a:lnTo>
                    <a:pt x="1915" y="5123"/>
                  </a:lnTo>
                  <a:lnTo>
                    <a:pt x="2026" y="5153"/>
                  </a:lnTo>
                  <a:lnTo>
                    <a:pt x="2140" y="5181"/>
                  </a:lnTo>
                  <a:lnTo>
                    <a:pt x="2256" y="5209"/>
                  </a:lnTo>
                  <a:lnTo>
                    <a:pt x="2374" y="5237"/>
                  </a:lnTo>
                  <a:lnTo>
                    <a:pt x="2346" y="5363"/>
                  </a:lnTo>
                  <a:lnTo>
                    <a:pt x="2323" y="5479"/>
                  </a:lnTo>
                  <a:lnTo>
                    <a:pt x="2307" y="5586"/>
                  </a:lnTo>
                  <a:lnTo>
                    <a:pt x="2298" y="5685"/>
                  </a:lnTo>
                  <a:lnTo>
                    <a:pt x="2294" y="5773"/>
                  </a:lnTo>
                  <a:lnTo>
                    <a:pt x="2296" y="5854"/>
                  </a:lnTo>
                  <a:lnTo>
                    <a:pt x="2303" y="5926"/>
                  </a:lnTo>
                  <a:lnTo>
                    <a:pt x="2316" y="5991"/>
                  </a:lnTo>
                  <a:lnTo>
                    <a:pt x="2333" y="6048"/>
                  </a:lnTo>
                  <a:lnTo>
                    <a:pt x="2356" y="6097"/>
                  </a:lnTo>
                  <a:lnTo>
                    <a:pt x="2384" y="6139"/>
                  </a:lnTo>
                  <a:lnTo>
                    <a:pt x="2416" y="6173"/>
                  </a:lnTo>
                  <a:lnTo>
                    <a:pt x="2453" y="6201"/>
                  </a:lnTo>
                  <a:lnTo>
                    <a:pt x="2493" y="6222"/>
                  </a:lnTo>
                  <a:lnTo>
                    <a:pt x="2538" y="6238"/>
                  </a:lnTo>
                  <a:lnTo>
                    <a:pt x="2589" y="6248"/>
                  </a:lnTo>
                  <a:lnTo>
                    <a:pt x="2641" y="6252"/>
                  </a:lnTo>
                  <a:lnTo>
                    <a:pt x="2697" y="6251"/>
                  </a:lnTo>
                  <a:lnTo>
                    <a:pt x="2757" y="6243"/>
                  </a:lnTo>
                  <a:lnTo>
                    <a:pt x="2821" y="6232"/>
                  </a:lnTo>
                  <a:lnTo>
                    <a:pt x="2887" y="6216"/>
                  </a:lnTo>
                  <a:lnTo>
                    <a:pt x="2956" y="6196"/>
                  </a:lnTo>
                  <a:lnTo>
                    <a:pt x="3027" y="6171"/>
                  </a:lnTo>
                  <a:lnTo>
                    <a:pt x="3101" y="6143"/>
                  </a:lnTo>
                  <a:lnTo>
                    <a:pt x="3179" y="6111"/>
                  </a:lnTo>
                  <a:lnTo>
                    <a:pt x="3257" y="6077"/>
                  </a:lnTo>
                  <a:lnTo>
                    <a:pt x="3338" y="6038"/>
                  </a:lnTo>
                  <a:lnTo>
                    <a:pt x="3420" y="5997"/>
                  </a:lnTo>
                  <a:lnTo>
                    <a:pt x="3505" y="5955"/>
                  </a:lnTo>
                  <a:lnTo>
                    <a:pt x="3591" y="5910"/>
                  </a:lnTo>
                  <a:lnTo>
                    <a:pt x="3678" y="5861"/>
                  </a:lnTo>
                  <a:lnTo>
                    <a:pt x="3766" y="5813"/>
                  </a:lnTo>
                  <a:lnTo>
                    <a:pt x="3748" y="5867"/>
                  </a:lnTo>
                  <a:lnTo>
                    <a:pt x="3730" y="5921"/>
                  </a:lnTo>
                  <a:lnTo>
                    <a:pt x="3712" y="5974"/>
                  </a:lnTo>
                  <a:lnTo>
                    <a:pt x="3695" y="6029"/>
                  </a:lnTo>
                  <a:lnTo>
                    <a:pt x="3676" y="6083"/>
                  </a:lnTo>
                  <a:lnTo>
                    <a:pt x="3658" y="6137"/>
                  </a:lnTo>
                  <a:lnTo>
                    <a:pt x="3640" y="6191"/>
                  </a:lnTo>
                  <a:lnTo>
                    <a:pt x="3622" y="6244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98120" y="4279680"/>
              <a:ext cx="117360" cy="357120"/>
            </a:xfrm>
            <a:custGeom>
              <a:avLst/>
              <a:gdLst/>
              <a:ahLst/>
              <a:rect l="l" t="t" r="r" b="b"/>
              <a:pathLst>
                <a:path w="1799" h="5856">
                  <a:moveTo>
                    <a:pt x="9" y="5394"/>
                  </a:moveTo>
                  <a:lnTo>
                    <a:pt x="6" y="5337"/>
                  </a:lnTo>
                  <a:lnTo>
                    <a:pt x="3" y="5253"/>
                  </a:lnTo>
                  <a:lnTo>
                    <a:pt x="1" y="5155"/>
                  </a:lnTo>
                  <a:lnTo>
                    <a:pt x="0" y="5053"/>
                  </a:lnTo>
                  <a:lnTo>
                    <a:pt x="0" y="4956"/>
                  </a:lnTo>
                  <a:lnTo>
                    <a:pt x="1" y="4878"/>
                  </a:lnTo>
                  <a:lnTo>
                    <a:pt x="2" y="4848"/>
                  </a:lnTo>
                  <a:lnTo>
                    <a:pt x="4" y="4829"/>
                  </a:lnTo>
                  <a:lnTo>
                    <a:pt x="5" y="4822"/>
                  </a:lnTo>
                  <a:lnTo>
                    <a:pt x="6" y="4818"/>
                  </a:lnTo>
                  <a:lnTo>
                    <a:pt x="7" y="4817"/>
                  </a:lnTo>
                  <a:lnTo>
                    <a:pt x="9" y="4819"/>
                  </a:lnTo>
                  <a:lnTo>
                    <a:pt x="33" y="4871"/>
                  </a:lnTo>
                  <a:lnTo>
                    <a:pt x="61" y="4922"/>
                  </a:lnTo>
                  <a:lnTo>
                    <a:pt x="93" y="4968"/>
                  </a:lnTo>
                  <a:lnTo>
                    <a:pt x="127" y="5012"/>
                  </a:lnTo>
                  <a:lnTo>
                    <a:pt x="164" y="5051"/>
                  </a:lnTo>
                  <a:lnTo>
                    <a:pt x="205" y="5089"/>
                  </a:lnTo>
                  <a:lnTo>
                    <a:pt x="247" y="5124"/>
                  </a:lnTo>
                  <a:lnTo>
                    <a:pt x="291" y="5154"/>
                  </a:lnTo>
                  <a:lnTo>
                    <a:pt x="337" y="5183"/>
                  </a:lnTo>
                  <a:lnTo>
                    <a:pt x="384" y="5208"/>
                  </a:lnTo>
                  <a:lnTo>
                    <a:pt x="433" y="5230"/>
                  </a:lnTo>
                  <a:lnTo>
                    <a:pt x="482" y="5249"/>
                  </a:lnTo>
                  <a:lnTo>
                    <a:pt x="531" y="5266"/>
                  </a:lnTo>
                  <a:lnTo>
                    <a:pt x="581" y="5279"/>
                  </a:lnTo>
                  <a:lnTo>
                    <a:pt x="632" y="5289"/>
                  </a:lnTo>
                  <a:lnTo>
                    <a:pt x="681" y="5296"/>
                  </a:lnTo>
                  <a:lnTo>
                    <a:pt x="730" y="5300"/>
                  </a:lnTo>
                  <a:lnTo>
                    <a:pt x="777" y="5302"/>
                  </a:lnTo>
                  <a:lnTo>
                    <a:pt x="824" y="5300"/>
                  </a:lnTo>
                  <a:lnTo>
                    <a:pt x="869" y="5296"/>
                  </a:lnTo>
                  <a:lnTo>
                    <a:pt x="912" y="5289"/>
                  </a:lnTo>
                  <a:lnTo>
                    <a:pt x="954" y="5279"/>
                  </a:lnTo>
                  <a:lnTo>
                    <a:pt x="993" y="5265"/>
                  </a:lnTo>
                  <a:lnTo>
                    <a:pt x="1028" y="5248"/>
                  </a:lnTo>
                  <a:lnTo>
                    <a:pt x="1062" y="5229"/>
                  </a:lnTo>
                  <a:lnTo>
                    <a:pt x="1091" y="5207"/>
                  </a:lnTo>
                  <a:lnTo>
                    <a:pt x="1117" y="5182"/>
                  </a:lnTo>
                  <a:lnTo>
                    <a:pt x="1140" y="5155"/>
                  </a:lnTo>
                  <a:lnTo>
                    <a:pt x="1158" y="5125"/>
                  </a:lnTo>
                  <a:lnTo>
                    <a:pt x="1172" y="5091"/>
                  </a:lnTo>
                  <a:lnTo>
                    <a:pt x="1181" y="5055"/>
                  </a:lnTo>
                  <a:lnTo>
                    <a:pt x="1184" y="5016"/>
                  </a:lnTo>
                  <a:lnTo>
                    <a:pt x="1187" y="4857"/>
                  </a:lnTo>
                  <a:lnTo>
                    <a:pt x="1189" y="4698"/>
                  </a:lnTo>
                  <a:lnTo>
                    <a:pt x="1189" y="4540"/>
                  </a:lnTo>
                  <a:lnTo>
                    <a:pt x="1189" y="4382"/>
                  </a:lnTo>
                  <a:lnTo>
                    <a:pt x="1187" y="4225"/>
                  </a:lnTo>
                  <a:lnTo>
                    <a:pt x="1184" y="4068"/>
                  </a:lnTo>
                  <a:lnTo>
                    <a:pt x="1179" y="3911"/>
                  </a:lnTo>
                  <a:lnTo>
                    <a:pt x="1175" y="3754"/>
                  </a:lnTo>
                  <a:lnTo>
                    <a:pt x="1168" y="3598"/>
                  </a:lnTo>
                  <a:lnTo>
                    <a:pt x="1162" y="3441"/>
                  </a:lnTo>
                  <a:lnTo>
                    <a:pt x="1155" y="3285"/>
                  </a:lnTo>
                  <a:lnTo>
                    <a:pt x="1146" y="3129"/>
                  </a:lnTo>
                  <a:lnTo>
                    <a:pt x="1130" y="2818"/>
                  </a:lnTo>
                  <a:lnTo>
                    <a:pt x="1113" y="2508"/>
                  </a:lnTo>
                  <a:lnTo>
                    <a:pt x="1095" y="2196"/>
                  </a:lnTo>
                  <a:lnTo>
                    <a:pt x="1079" y="1885"/>
                  </a:lnTo>
                  <a:lnTo>
                    <a:pt x="1071" y="1729"/>
                  </a:lnTo>
                  <a:lnTo>
                    <a:pt x="1064" y="1573"/>
                  </a:lnTo>
                  <a:lnTo>
                    <a:pt x="1058" y="1417"/>
                  </a:lnTo>
                  <a:lnTo>
                    <a:pt x="1051" y="1260"/>
                  </a:lnTo>
                  <a:lnTo>
                    <a:pt x="1046" y="1105"/>
                  </a:lnTo>
                  <a:lnTo>
                    <a:pt x="1042" y="948"/>
                  </a:lnTo>
                  <a:lnTo>
                    <a:pt x="1039" y="791"/>
                  </a:lnTo>
                  <a:lnTo>
                    <a:pt x="1037" y="633"/>
                  </a:lnTo>
                  <a:lnTo>
                    <a:pt x="1036" y="475"/>
                  </a:lnTo>
                  <a:lnTo>
                    <a:pt x="1037" y="317"/>
                  </a:lnTo>
                  <a:lnTo>
                    <a:pt x="1038" y="159"/>
                  </a:lnTo>
                  <a:lnTo>
                    <a:pt x="1042" y="0"/>
                  </a:lnTo>
                  <a:lnTo>
                    <a:pt x="1670" y="12"/>
                  </a:lnTo>
                  <a:lnTo>
                    <a:pt x="1799" y="5022"/>
                  </a:lnTo>
                  <a:lnTo>
                    <a:pt x="1798" y="5090"/>
                  </a:lnTo>
                  <a:lnTo>
                    <a:pt x="1790" y="5155"/>
                  </a:lnTo>
                  <a:lnTo>
                    <a:pt x="1773" y="5219"/>
                  </a:lnTo>
                  <a:lnTo>
                    <a:pt x="1751" y="5282"/>
                  </a:lnTo>
                  <a:lnTo>
                    <a:pt x="1722" y="5342"/>
                  </a:lnTo>
                  <a:lnTo>
                    <a:pt x="1686" y="5400"/>
                  </a:lnTo>
                  <a:lnTo>
                    <a:pt x="1646" y="5456"/>
                  </a:lnTo>
                  <a:lnTo>
                    <a:pt x="1600" y="5509"/>
                  </a:lnTo>
                  <a:lnTo>
                    <a:pt x="1548" y="5559"/>
                  </a:lnTo>
                  <a:lnTo>
                    <a:pt x="1494" y="5606"/>
                  </a:lnTo>
                  <a:lnTo>
                    <a:pt x="1434" y="5650"/>
                  </a:lnTo>
                  <a:lnTo>
                    <a:pt x="1371" y="5690"/>
                  </a:lnTo>
                  <a:lnTo>
                    <a:pt x="1306" y="5726"/>
                  </a:lnTo>
                  <a:lnTo>
                    <a:pt x="1237" y="5759"/>
                  </a:lnTo>
                  <a:lnTo>
                    <a:pt x="1166" y="5787"/>
                  </a:lnTo>
                  <a:lnTo>
                    <a:pt x="1094" y="5810"/>
                  </a:lnTo>
                  <a:lnTo>
                    <a:pt x="1020" y="5830"/>
                  </a:lnTo>
                  <a:lnTo>
                    <a:pt x="945" y="5844"/>
                  </a:lnTo>
                  <a:lnTo>
                    <a:pt x="868" y="5852"/>
                  </a:lnTo>
                  <a:lnTo>
                    <a:pt x="793" y="5856"/>
                  </a:lnTo>
                  <a:lnTo>
                    <a:pt x="716" y="5854"/>
                  </a:lnTo>
                  <a:lnTo>
                    <a:pt x="641" y="5846"/>
                  </a:lnTo>
                  <a:lnTo>
                    <a:pt x="567" y="5831"/>
                  </a:lnTo>
                  <a:lnTo>
                    <a:pt x="494" y="5811"/>
                  </a:lnTo>
                  <a:lnTo>
                    <a:pt x="422" y="5784"/>
                  </a:lnTo>
                  <a:lnTo>
                    <a:pt x="353" y="5750"/>
                  </a:lnTo>
                  <a:lnTo>
                    <a:pt x="286" y="5710"/>
                  </a:lnTo>
                  <a:lnTo>
                    <a:pt x="224" y="5663"/>
                  </a:lnTo>
                  <a:lnTo>
                    <a:pt x="164" y="5607"/>
                  </a:lnTo>
                  <a:lnTo>
                    <a:pt x="107" y="5544"/>
                  </a:lnTo>
                  <a:lnTo>
                    <a:pt x="56" y="5473"/>
                  </a:lnTo>
                  <a:lnTo>
                    <a:pt x="9" y="5394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98120" y="4279680"/>
              <a:ext cx="117360" cy="357120"/>
            </a:xfrm>
            <a:custGeom>
              <a:avLst/>
              <a:gdLst/>
              <a:ahLst/>
              <a:rect l="l" t="t" r="r" b="b"/>
              <a:pathLst>
                <a:path w="1799" h="5856">
                  <a:moveTo>
                    <a:pt x="9" y="5394"/>
                  </a:moveTo>
                  <a:lnTo>
                    <a:pt x="6" y="5337"/>
                  </a:lnTo>
                  <a:lnTo>
                    <a:pt x="3" y="5253"/>
                  </a:lnTo>
                  <a:lnTo>
                    <a:pt x="1" y="5155"/>
                  </a:lnTo>
                  <a:lnTo>
                    <a:pt x="0" y="5053"/>
                  </a:lnTo>
                  <a:lnTo>
                    <a:pt x="0" y="4956"/>
                  </a:lnTo>
                  <a:lnTo>
                    <a:pt x="1" y="4878"/>
                  </a:lnTo>
                  <a:lnTo>
                    <a:pt x="2" y="4848"/>
                  </a:lnTo>
                  <a:lnTo>
                    <a:pt x="4" y="4829"/>
                  </a:lnTo>
                  <a:lnTo>
                    <a:pt x="5" y="4822"/>
                  </a:lnTo>
                  <a:lnTo>
                    <a:pt x="6" y="4818"/>
                  </a:lnTo>
                  <a:lnTo>
                    <a:pt x="7" y="4817"/>
                  </a:lnTo>
                  <a:lnTo>
                    <a:pt x="9" y="4819"/>
                  </a:lnTo>
                  <a:lnTo>
                    <a:pt x="33" y="4871"/>
                  </a:lnTo>
                  <a:lnTo>
                    <a:pt x="61" y="4922"/>
                  </a:lnTo>
                  <a:lnTo>
                    <a:pt x="93" y="4968"/>
                  </a:lnTo>
                  <a:lnTo>
                    <a:pt x="127" y="5012"/>
                  </a:lnTo>
                  <a:lnTo>
                    <a:pt x="164" y="5051"/>
                  </a:lnTo>
                  <a:lnTo>
                    <a:pt x="205" y="5089"/>
                  </a:lnTo>
                  <a:lnTo>
                    <a:pt x="247" y="5124"/>
                  </a:lnTo>
                  <a:lnTo>
                    <a:pt x="291" y="5154"/>
                  </a:lnTo>
                  <a:lnTo>
                    <a:pt x="337" y="5183"/>
                  </a:lnTo>
                  <a:lnTo>
                    <a:pt x="384" y="5208"/>
                  </a:lnTo>
                  <a:lnTo>
                    <a:pt x="433" y="5230"/>
                  </a:lnTo>
                  <a:lnTo>
                    <a:pt x="482" y="5249"/>
                  </a:lnTo>
                  <a:lnTo>
                    <a:pt x="531" y="5266"/>
                  </a:lnTo>
                  <a:lnTo>
                    <a:pt x="581" y="5279"/>
                  </a:lnTo>
                  <a:lnTo>
                    <a:pt x="632" y="5289"/>
                  </a:lnTo>
                  <a:lnTo>
                    <a:pt x="681" y="5296"/>
                  </a:lnTo>
                  <a:lnTo>
                    <a:pt x="730" y="5300"/>
                  </a:lnTo>
                  <a:lnTo>
                    <a:pt x="777" y="5302"/>
                  </a:lnTo>
                  <a:lnTo>
                    <a:pt x="824" y="5300"/>
                  </a:lnTo>
                  <a:lnTo>
                    <a:pt x="869" y="5296"/>
                  </a:lnTo>
                  <a:lnTo>
                    <a:pt x="912" y="5289"/>
                  </a:lnTo>
                  <a:lnTo>
                    <a:pt x="954" y="5279"/>
                  </a:lnTo>
                  <a:lnTo>
                    <a:pt x="993" y="5265"/>
                  </a:lnTo>
                  <a:lnTo>
                    <a:pt x="1028" y="5248"/>
                  </a:lnTo>
                  <a:lnTo>
                    <a:pt x="1062" y="5229"/>
                  </a:lnTo>
                  <a:lnTo>
                    <a:pt x="1091" y="5207"/>
                  </a:lnTo>
                  <a:lnTo>
                    <a:pt x="1117" y="5182"/>
                  </a:lnTo>
                  <a:lnTo>
                    <a:pt x="1140" y="5155"/>
                  </a:lnTo>
                  <a:lnTo>
                    <a:pt x="1158" y="5125"/>
                  </a:lnTo>
                  <a:lnTo>
                    <a:pt x="1172" y="5091"/>
                  </a:lnTo>
                  <a:lnTo>
                    <a:pt x="1181" y="5055"/>
                  </a:lnTo>
                  <a:lnTo>
                    <a:pt x="1184" y="5016"/>
                  </a:lnTo>
                  <a:lnTo>
                    <a:pt x="1187" y="4857"/>
                  </a:lnTo>
                  <a:lnTo>
                    <a:pt x="1189" y="4698"/>
                  </a:lnTo>
                  <a:lnTo>
                    <a:pt x="1189" y="4540"/>
                  </a:lnTo>
                  <a:lnTo>
                    <a:pt x="1189" y="4382"/>
                  </a:lnTo>
                  <a:lnTo>
                    <a:pt x="1187" y="4225"/>
                  </a:lnTo>
                  <a:lnTo>
                    <a:pt x="1184" y="4068"/>
                  </a:lnTo>
                  <a:lnTo>
                    <a:pt x="1179" y="3911"/>
                  </a:lnTo>
                  <a:lnTo>
                    <a:pt x="1175" y="3754"/>
                  </a:lnTo>
                  <a:lnTo>
                    <a:pt x="1168" y="3598"/>
                  </a:lnTo>
                  <a:lnTo>
                    <a:pt x="1162" y="3441"/>
                  </a:lnTo>
                  <a:lnTo>
                    <a:pt x="1155" y="3285"/>
                  </a:lnTo>
                  <a:lnTo>
                    <a:pt x="1146" y="3129"/>
                  </a:lnTo>
                  <a:lnTo>
                    <a:pt x="1130" y="2818"/>
                  </a:lnTo>
                  <a:lnTo>
                    <a:pt x="1113" y="2508"/>
                  </a:lnTo>
                  <a:lnTo>
                    <a:pt x="1095" y="2196"/>
                  </a:lnTo>
                  <a:lnTo>
                    <a:pt x="1079" y="1885"/>
                  </a:lnTo>
                  <a:lnTo>
                    <a:pt x="1071" y="1729"/>
                  </a:lnTo>
                  <a:lnTo>
                    <a:pt x="1064" y="1573"/>
                  </a:lnTo>
                  <a:lnTo>
                    <a:pt x="1058" y="1417"/>
                  </a:lnTo>
                  <a:lnTo>
                    <a:pt x="1051" y="1260"/>
                  </a:lnTo>
                  <a:lnTo>
                    <a:pt x="1046" y="1105"/>
                  </a:lnTo>
                  <a:lnTo>
                    <a:pt x="1042" y="948"/>
                  </a:lnTo>
                  <a:lnTo>
                    <a:pt x="1039" y="791"/>
                  </a:lnTo>
                  <a:lnTo>
                    <a:pt x="1037" y="633"/>
                  </a:lnTo>
                  <a:lnTo>
                    <a:pt x="1036" y="475"/>
                  </a:lnTo>
                  <a:lnTo>
                    <a:pt x="1037" y="317"/>
                  </a:lnTo>
                  <a:lnTo>
                    <a:pt x="1038" y="159"/>
                  </a:lnTo>
                  <a:lnTo>
                    <a:pt x="1042" y="0"/>
                  </a:lnTo>
                  <a:lnTo>
                    <a:pt x="1670" y="12"/>
                  </a:lnTo>
                  <a:lnTo>
                    <a:pt x="1799" y="5022"/>
                  </a:lnTo>
                  <a:lnTo>
                    <a:pt x="1798" y="5090"/>
                  </a:lnTo>
                  <a:lnTo>
                    <a:pt x="1790" y="5155"/>
                  </a:lnTo>
                  <a:lnTo>
                    <a:pt x="1773" y="5219"/>
                  </a:lnTo>
                  <a:lnTo>
                    <a:pt x="1751" y="5282"/>
                  </a:lnTo>
                  <a:lnTo>
                    <a:pt x="1722" y="5342"/>
                  </a:lnTo>
                  <a:lnTo>
                    <a:pt x="1686" y="5400"/>
                  </a:lnTo>
                  <a:lnTo>
                    <a:pt x="1646" y="5456"/>
                  </a:lnTo>
                  <a:lnTo>
                    <a:pt x="1600" y="5509"/>
                  </a:lnTo>
                  <a:lnTo>
                    <a:pt x="1548" y="5559"/>
                  </a:lnTo>
                  <a:lnTo>
                    <a:pt x="1494" y="5606"/>
                  </a:lnTo>
                  <a:lnTo>
                    <a:pt x="1434" y="5650"/>
                  </a:lnTo>
                  <a:lnTo>
                    <a:pt x="1371" y="5690"/>
                  </a:lnTo>
                  <a:lnTo>
                    <a:pt x="1306" y="5726"/>
                  </a:lnTo>
                  <a:lnTo>
                    <a:pt x="1237" y="5759"/>
                  </a:lnTo>
                  <a:lnTo>
                    <a:pt x="1166" y="5787"/>
                  </a:lnTo>
                  <a:lnTo>
                    <a:pt x="1094" y="5810"/>
                  </a:lnTo>
                  <a:lnTo>
                    <a:pt x="1020" y="5830"/>
                  </a:lnTo>
                  <a:lnTo>
                    <a:pt x="945" y="5844"/>
                  </a:lnTo>
                  <a:lnTo>
                    <a:pt x="868" y="5852"/>
                  </a:lnTo>
                  <a:lnTo>
                    <a:pt x="793" y="5856"/>
                  </a:lnTo>
                  <a:lnTo>
                    <a:pt x="716" y="5854"/>
                  </a:lnTo>
                  <a:lnTo>
                    <a:pt x="641" y="5846"/>
                  </a:lnTo>
                  <a:lnTo>
                    <a:pt x="567" y="5831"/>
                  </a:lnTo>
                  <a:lnTo>
                    <a:pt x="494" y="5811"/>
                  </a:lnTo>
                  <a:lnTo>
                    <a:pt x="422" y="5784"/>
                  </a:lnTo>
                  <a:lnTo>
                    <a:pt x="353" y="5750"/>
                  </a:lnTo>
                  <a:lnTo>
                    <a:pt x="286" y="5710"/>
                  </a:lnTo>
                  <a:lnTo>
                    <a:pt x="224" y="5663"/>
                  </a:lnTo>
                  <a:lnTo>
                    <a:pt x="164" y="5607"/>
                  </a:lnTo>
                  <a:lnTo>
                    <a:pt x="107" y="5544"/>
                  </a:lnTo>
                  <a:lnTo>
                    <a:pt x="56" y="5473"/>
                  </a:lnTo>
                  <a:lnTo>
                    <a:pt x="9" y="5394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100920" y="3780000"/>
            <a:ext cx="1088640" cy="1021680"/>
            <a:chOff x="6100920" y="3780000"/>
            <a:chExt cx="1088640" cy="1021680"/>
          </a:xfrm>
        </p:grpSpPr>
        <p:sp>
          <p:nvSpPr>
            <p:cNvPr id="190" name=""/>
            <p:cNvSpPr/>
            <p:nvPr/>
          </p:nvSpPr>
          <p:spPr>
            <a:xfrm>
              <a:off x="6645960" y="3780000"/>
              <a:ext cx="543600" cy="51156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0" y="680"/>
                  </a:moveTo>
                  <a:lnTo>
                    <a:pt x="0" y="680"/>
                  </a:lnTo>
                  <a:lnTo>
                    <a:pt x="99" y="681"/>
                  </a:lnTo>
                  <a:lnTo>
                    <a:pt x="199" y="681"/>
                  </a:lnTo>
                  <a:lnTo>
                    <a:pt x="297" y="684"/>
                  </a:lnTo>
                  <a:lnTo>
                    <a:pt x="397" y="690"/>
                  </a:lnTo>
                  <a:lnTo>
                    <a:pt x="493" y="695"/>
                  </a:lnTo>
                  <a:lnTo>
                    <a:pt x="591" y="702"/>
                  </a:lnTo>
                  <a:lnTo>
                    <a:pt x="689" y="710"/>
                  </a:lnTo>
                  <a:lnTo>
                    <a:pt x="785" y="719"/>
                  </a:lnTo>
                  <a:lnTo>
                    <a:pt x="881" y="730"/>
                  </a:lnTo>
                  <a:lnTo>
                    <a:pt x="977" y="741"/>
                  </a:lnTo>
                  <a:lnTo>
                    <a:pt x="1074" y="754"/>
                  </a:lnTo>
                  <a:lnTo>
                    <a:pt x="1170" y="769"/>
                  </a:lnTo>
                  <a:lnTo>
                    <a:pt x="1264" y="784"/>
                  </a:lnTo>
                  <a:lnTo>
                    <a:pt x="1358" y="800"/>
                  </a:lnTo>
                  <a:lnTo>
                    <a:pt x="1453" y="817"/>
                  </a:lnTo>
                  <a:lnTo>
                    <a:pt x="1548" y="836"/>
                  </a:lnTo>
                  <a:lnTo>
                    <a:pt x="1641" y="857"/>
                  </a:lnTo>
                  <a:lnTo>
                    <a:pt x="1734" y="877"/>
                  </a:lnTo>
                  <a:lnTo>
                    <a:pt x="1827" y="899"/>
                  </a:lnTo>
                  <a:lnTo>
                    <a:pt x="1919" y="922"/>
                  </a:lnTo>
                  <a:lnTo>
                    <a:pt x="2010" y="947"/>
                  </a:lnTo>
                  <a:lnTo>
                    <a:pt x="2101" y="972"/>
                  </a:lnTo>
                  <a:lnTo>
                    <a:pt x="2192" y="999"/>
                  </a:lnTo>
                  <a:lnTo>
                    <a:pt x="2282" y="1026"/>
                  </a:lnTo>
                  <a:lnTo>
                    <a:pt x="2372" y="1055"/>
                  </a:lnTo>
                  <a:lnTo>
                    <a:pt x="2462" y="1085"/>
                  </a:lnTo>
                  <a:lnTo>
                    <a:pt x="2551" y="1115"/>
                  </a:lnTo>
                  <a:lnTo>
                    <a:pt x="2639" y="1148"/>
                  </a:lnTo>
                  <a:lnTo>
                    <a:pt x="2727" y="1180"/>
                  </a:lnTo>
                  <a:lnTo>
                    <a:pt x="2815" y="1215"/>
                  </a:lnTo>
                  <a:lnTo>
                    <a:pt x="2903" y="1250"/>
                  </a:lnTo>
                  <a:lnTo>
                    <a:pt x="2989" y="1285"/>
                  </a:lnTo>
                  <a:lnTo>
                    <a:pt x="3075" y="1323"/>
                  </a:lnTo>
                  <a:lnTo>
                    <a:pt x="3160" y="1361"/>
                  </a:lnTo>
                  <a:lnTo>
                    <a:pt x="3245" y="1399"/>
                  </a:lnTo>
                  <a:lnTo>
                    <a:pt x="3329" y="1440"/>
                  </a:lnTo>
                  <a:lnTo>
                    <a:pt x="3412" y="1482"/>
                  </a:lnTo>
                  <a:lnTo>
                    <a:pt x="3497" y="1522"/>
                  </a:lnTo>
                  <a:lnTo>
                    <a:pt x="3579" y="1566"/>
                  </a:lnTo>
                  <a:lnTo>
                    <a:pt x="3660" y="1609"/>
                  </a:lnTo>
                  <a:lnTo>
                    <a:pt x="3742" y="1655"/>
                  </a:lnTo>
                  <a:lnTo>
                    <a:pt x="3823" y="1700"/>
                  </a:lnTo>
                  <a:lnTo>
                    <a:pt x="3903" y="1747"/>
                  </a:lnTo>
                  <a:lnTo>
                    <a:pt x="3983" y="1796"/>
                  </a:lnTo>
                  <a:lnTo>
                    <a:pt x="4062" y="1845"/>
                  </a:lnTo>
                  <a:lnTo>
                    <a:pt x="4139" y="1894"/>
                  </a:lnTo>
                  <a:lnTo>
                    <a:pt x="4218" y="1944"/>
                  </a:lnTo>
                  <a:lnTo>
                    <a:pt x="4295" y="1996"/>
                  </a:lnTo>
                  <a:lnTo>
                    <a:pt x="4371" y="2049"/>
                  </a:lnTo>
                  <a:lnTo>
                    <a:pt x="4447" y="2101"/>
                  </a:lnTo>
                  <a:lnTo>
                    <a:pt x="4522" y="2156"/>
                  </a:lnTo>
                  <a:lnTo>
                    <a:pt x="4597" y="2210"/>
                  </a:lnTo>
                  <a:lnTo>
                    <a:pt x="4670" y="2267"/>
                  </a:lnTo>
                  <a:lnTo>
                    <a:pt x="4743" y="2324"/>
                  </a:lnTo>
                  <a:lnTo>
                    <a:pt x="4816" y="2382"/>
                  </a:lnTo>
                  <a:lnTo>
                    <a:pt x="4887" y="2439"/>
                  </a:lnTo>
                  <a:lnTo>
                    <a:pt x="4958" y="2499"/>
                  </a:lnTo>
                  <a:lnTo>
                    <a:pt x="5029" y="2558"/>
                  </a:lnTo>
                  <a:lnTo>
                    <a:pt x="5099" y="2620"/>
                  </a:lnTo>
                  <a:lnTo>
                    <a:pt x="5167" y="2682"/>
                  </a:lnTo>
                  <a:lnTo>
                    <a:pt x="5235" y="2745"/>
                  </a:lnTo>
                  <a:lnTo>
                    <a:pt x="5302" y="2807"/>
                  </a:lnTo>
                  <a:lnTo>
                    <a:pt x="5369" y="2872"/>
                  </a:lnTo>
                  <a:lnTo>
                    <a:pt x="5434" y="2937"/>
                  </a:lnTo>
                  <a:lnTo>
                    <a:pt x="5499" y="3002"/>
                  </a:lnTo>
                  <a:lnTo>
                    <a:pt x="5564" y="3069"/>
                  </a:lnTo>
                  <a:lnTo>
                    <a:pt x="5626" y="3136"/>
                  </a:lnTo>
                  <a:lnTo>
                    <a:pt x="5689" y="3204"/>
                  </a:lnTo>
                  <a:lnTo>
                    <a:pt x="5751" y="3272"/>
                  </a:lnTo>
                  <a:lnTo>
                    <a:pt x="5813" y="3342"/>
                  </a:lnTo>
                  <a:lnTo>
                    <a:pt x="5872" y="3413"/>
                  </a:lnTo>
                  <a:lnTo>
                    <a:pt x="5932" y="3484"/>
                  </a:lnTo>
                  <a:lnTo>
                    <a:pt x="5989" y="3555"/>
                  </a:lnTo>
                  <a:lnTo>
                    <a:pt x="6047" y="3628"/>
                  </a:lnTo>
                  <a:lnTo>
                    <a:pt x="6104" y="3701"/>
                  </a:lnTo>
                  <a:lnTo>
                    <a:pt x="6161" y="3774"/>
                  </a:lnTo>
                  <a:lnTo>
                    <a:pt x="6215" y="3849"/>
                  </a:lnTo>
                  <a:lnTo>
                    <a:pt x="6270" y="3924"/>
                  </a:lnTo>
                  <a:lnTo>
                    <a:pt x="6322" y="4000"/>
                  </a:lnTo>
                  <a:lnTo>
                    <a:pt x="6375" y="4076"/>
                  </a:lnTo>
                  <a:lnTo>
                    <a:pt x="6427" y="4153"/>
                  </a:lnTo>
                  <a:lnTo>
                    <a:pt x="6477" y="4232"/>
                  </a:lnTo>
                  <a:lnTo>
                    <a:pt x="6526" y="4309"/>
                  </a:lnTo>
                  <a:lnTo>
                    <a:pt x="6575" y="4388"/>
                  </a:lnTo>
                  <a:lnTo>
                    <a:pt x="6624" y="4468"/>
                  </a:lnTo>
                  <a:lnTo>
                    <a:pt x="6671" y="4548"/>
                  </a:lnTo>
                  <a:lnTo>
                    <a:pt x="6716" y="4629"/>
                  </a:lnTo>
                  <a:lnTo>
                    <a:pt x="6762" y="4711"/>
                  </a:lnTo>
                  <a:lnTo>
                    <a:pt x="6805" y="4792"/>
                  </a:lnTo>
                  <a:lnTo>
                    <a:pt x="6849" y="4874"/>
                  </a:lnTo>
                  <a:lnTo>
                    <a:pt x="6889" y="4959"/>
                  </a:lnTo>
                  <a:lnTo>
                    <a:pt x="6931" y="5042"/>
                  </a:lnTo>
                  <a:lnTo>
                    <a:pt x="6972" y="5126"/>
                  </a:lnTo>
                  <a:lnTo>
                    <a:pt x="7010" y="5211"/>
                  </a:lnTo>
                  <a:lnTo>
                    <a:pt x="7048" y="5296"/>
                  </a:lnTo>
                  <a:lnTo>
                    <a:pt x="7086" y="5382"/>
                  </a:lnTo>
                  <a:lnTo>
                    <a:pt x="7121" y="5468"/>
                  </a:lnTo>
                  <a:lnTo>
                    <a:pt x="7156" y="5556"/>
                  </a:lnTo>
                  <a:lnTo>
                    <a:pt x="7191" y="5644"/>
                  </a:lnTo>
                  <a:lnTo>
                    <a:pt x="7223" y="5732"/>
                  </a:lnTo>
                  <a:lnTo>
                    <a:pt x="7256" y="5820"/>
                  </a:lnTo>
                  <a:lnTo>
                    <a:pt x="7286" y="5909"/>
                  </a:lnTo>
                  <a:lnTo>
                    <a:pt x="7316" y="5999"/>
                  </a:lnTo>
                  <a:lnTo>
                    <a:pt x="7345" y="6089"/>
                  </a:lnTo>
                  <a:lnTo>
                    <a:pt x="7372" y="6179"/>
                  </a:lnTo>
                  <a:lnTo>
                    <a:pt x="7399" y="6270"/>
                  </a:lnTo>
                  <a:lnTo>
                    <a:pt x="7424" y="6361"/>
                  </a:lnTo>
                  <a:lnTo>
                    <a:pt x="7449" y="6452"/>
                  </a:lnTo>
                  <a:lnTo>
                    <a:pt x="7472" y="6544"/>
                  </a:lnTo>
                  <a:lnTo>
                    <a:pt x="7494" y="6637"/>
                  </a:lnTo>
                  <a:lnTo>
                    <a:pt x="7514" y="6730"/>
                  </a:lnTo>
                  <a:lnTo>
                    <a:pt x="7535" y="6823"/>
                  </a:lnTo>
                  <a:lnTo>
                    <a:pt x="7554" y="6918"/>
                  </a:lnTo>
                  <a:lnTo>
                    <a:pt x="7571" y="7013"/>
                  </a:lnTo>
                  <a:lnTo>
                    <a:pt x="7587" y="7107"/>
                  </a:lnTo>
                  <a:lnTo>
                    <a:pt x="7602" y="7201"/>
                  </a:lnTo>
                  <a:lnTo>
                    <a:pt x="7617" y="7297"/>
                  </a:lnTo>
                  <a:lnTo>
                    <a:pt x="7630" y="7394"/>
                  </a:lnTo>
                  <a:lnTo>
                    <a:pt x="7641" y="7490"/>
                  </a:lnTo>
                  <a:lnTo>
                    <a:pt x="7652" y="7586"/>
                  </a:lnTo>
                  <a:lnTo>
                    <a:pt x="7661" y="7682"/>
                  </a:lnTo>
                  <a:lnTo>
                    <a:pt x="7669" y="7780"/>
                  </a:lnTo>
                  <a:lnTo>
                    <a:pt x="7676" y="7878"/>
                  </a:lnTo>
                  <a:lnTo>
                    <a:pt x="7681" y="7974"/>
                  </a:lnTo>
                  <a:lnTo>
                    <a:pt x="7687" y="8074"/>
                  </a:lnTo>
                  <a:lnTo>
                    <a:pt x="7690" y="8172"/>
                  </a:lnTo>
                  <a:lnTo>
                    <a:pt x="7690" y="8272"/>
                  </a:lnTo>
                  <a:lnTo>
                    <a:pt x="7691" y="8371"/>
                  </a:lnTo>
                  <a:lnTo>
                    <a:pt x="8371" y="8371"/>
                  </a:lnTo>
                  <a:lnTo>
                    <a:pt x="8370" y="8263"/>
                  </a:lnTo>
                  <a:lnTo>
                    <a:pt x="8367" y="8156"/>
                  </a:lnTo>
                  <a:lnTo>
                    <a:pt x="8364" y="8050"/>
                  </a:lnTo>
                  <a:lnTo>
                    <a:pt x="8359" y="7943"/>
                  </a:lnTo>
                  <a:lnTo>
                    <a:pt x="8353" y="7835"/>
                  </a:lnTo>
                  <a:lnTo>
                    <a:pt x="8346" y="7730"/>
                  </a:lnTo>
                  <a:lnTo>
                    <a:pt x="8338" y="7624"/>
                  </a:lnTo>
                  <a:lnTo>
                    <a:pt x="8327" y="7517"/>
                  </a:lnTo>
                  <a:lnTo>
                    <a:pt x="8316" y="7413"/>
                  </a:lnTo>
                  <a:lnTo>
                    <a:pt x="8302" y="7308"/>
                  </a:lnTo>
                  <a:lnTo>
                    <a:pt x="8288" y="7204"/>
                  </a:lnTo>
                  <a:lnTo>
                    <a:pt x="8274" y="7101"/>
                  </a:lnTo>
                  <a:lnTo>
                    <a:pt x="8257" y="6996"/>
                  </a:lnTo>
                  <a:lnTo>
                    <a:pt x="8240" y="6892"/>
                  </a:lnTo>
                  <a:lnTo>
                    <a:pt x="8220" y="6791"/>
                  </a:lnTo>
                  <a:lnTo>
                    <a:pt x="8199" y="6688"/>
                  </a:lnTo>
                  <a:lnTo>
                    <a:pt x="8178" y="6587"/>
                  </a:lnTo>
                  <a:lnTo>
                    <a:pt x="8155" y="6485"/>
                  </a:lnTo>
                  <a:lnTo>
                    <a:pt x="8130" y="6385"/>
                  </a:lnTo>
                  <a:lnTo>
                    <a:pt x="8105" y="6285"/>
                  </a:lnTo>
                  <a:lnTo>
                    <a:pt x="8080" y="6183"/>
                  </a:lnTo>
                  <a:lnTo>
                    <a:pt x="8052" y="6084"/>
                  </a:lnTo>
                  <a:lnTo>
                    <a:pt x="8023" y="5985"/>
                  </a:lnTo>
                  <a:lnTo>
                    <a:pt x="7993" y="5887"/>
                  </a:lnTo>
                  <a:lnTo>
                    <a:pt x="7962" y="5789"/>
                  </a:lnTo>
                  <a:lnTo>
                    <a:pt x="7929" y="5691"/>
                  </a:lnTo>
                  <a:lnTo>
                    <a:pt x="7896" y="5594"/>
                  </a:lnTo>
                  <a:lnTo>
                    <a:pt x="7861" y="5498"/>
                  </a:lnTo>
                  <a:lnTo>
                    <a:pt x="7825" y="5402"/>
                  </a:lnTo>
                  <a:lnTo>
                    <a:pt x="7788" y="5306"/>
                  </a:lnTo>
                  <a:lnTo>
                    <a:pt x="7750" y="5213"/>
                  </a:lnTo>
                  <a:lnTo>
                    <a:pt x="7710" y="5119"/>
                  </a:lnTo>
                  <a:lnTo>
                    <a:pt x="7670" y="5025"/>
                  </a:lnTo>
                  <a:lnTo>
                    <a:pt x="7629" y="4932"/>
                  </a:lnTo>
                  <a:lnTo>
                    <a:pt x="7585" y="4839"/>
                  </a:lnTo>
                  <a:lnTo>
                    <a:pt x="7542" y="4747"/>
                  </a:lnTo>
                  <a:lnTo>
                    <a:pt x="7498" y="4656"/>
                  </a:lnTo>
                  <a:lnTo>
                    <a:pt x="7451" y="4566"/>
                  </a:lnTo>
                  <a:lnTo>
                    <a:pt x="7405" y="4476"/>
                  </a:lnTo>
                  <a:lnTo>
                    <a:pt x="7357" y="4386"/>
                  </a:lnTo>
                  <a:lnTo>
                    <a:pt x="7308" y="4297"/>
                  </a:lnTo>
                  <a:lnTo>
                    <a:pt x="7258" y="4211"/>
                  </a:lnTo>
                  <a:lnTo>
                    <a:pt x="7207" y="4123"/>
                  </a:lnTo>
                  <a:lnTo>
                    <a:pt x="7155" y="4036"/>
                  </a:lnTo>
                  <a:lnTo>
                    <a:pt x="7103" y="3950"/>
                  </a:lnTo>
                  <a:lnTo>
                    <a:pt x="7048" y="3864"/>
                  </a:lnTo>
                  <a:lnTo>
                    <a:pt x="6993" y="3781"/>
                  </a:lnTo>
                  <a:lnTo>
                    <a:pt x="6937" y="3696"/>
                  </a:lnTo>
                  <a:lnTo>
                    <a:pt x="6880" y="3612"/>
                  </a:lnTo>
                  <a:lnTo>
                    <a:pt x="6822" y="3530"/>
                  </a:lnTo>
                  <a:lnTo>
                    <a:pt x="6763" y="3450"/>
                  </a:lnTo>
                  <a:lnTo>
                    <a:pt x="6703" y="3368"/>
                  </a:lnTo>
                  <a:lnTo>
                    <a:pt x="6643" y="3287"/>
                  </a:lnTo>
                  <a:lnTo>
                    <a:pt x="6581" y="3208"/>
                  </a:lnTo>
                  <a:lnTo>
                    <a:pt x="6518" y="3130"/>
                  </a:lnTo>
                  <a:lnTo>
                    <a:pt x="6455" y="3051"/>
                  </a:lnTo>
                  <a:lnTo>
                    <a:pt x="6390" y="2975"/>
                  </a:lnTo>
                  <a:lnTo>
                    <a:pt x="6324" y="2898"/>
                  </a:lnTo>
                  <a:lnTo>
                    <a:pt x="6258" y="2823"/>
                  </a:lnTo>
                  <a:lnTo>
                    <a:pt x="6191" y="2748"/>
                  </a:lnTo>
                  <a:lnTo>
                    <a:pt x="6123" y="2675"/>
                  </a:lnTo>
                  <a:lnTo>
                    <a:pt x="6054" y="2601"/>
                  </a:lnTo>
                  <a:lnTo>
                    <a:pt x="5985" y="2529"/>
                  </a:lnTo>
                  <a:lnTo>
                    <a:pt x="5914" y="2457"/>
                  </a:lnTo>
                  <a:lnTo>
                    <a:pt x="5842" y="2386"/>
                  </a:lnTo>
                  <a:lnTo>
                    <a:pt x="5770" y="2317"/>
                  </a:lnTo>
                  <a:lnTo>
                    <a:pt x="5696" y="2248"/>
                  </a:lnTo>
                  <a:lnTo>
                    <a:pt x="5623" y="2180"/>
                  </a:lnTo>
                  <a:lnTo>
                    <a:pt x="5548" y="2113"/>
                  </a:lnTo>
                  <a:lnTo>
                    <a:pt x="5473" y="2047"/>
                  </a:lnTo>
                  <a:lnTo>
                    <a:pt x="5396" y="1981"/>
                  </a:lnTo>
                  <a:lnTo>
                    <a:pt x="5320" y="1916"/>
                  </a:lnTo>
                  <a:lnTo>
                    <a:pt x="5241" y="1853"/>
                  </a:lnTo>
                  <a:lnTo>
                    <a:pt x="5163" y="1790"/>
                  </a:lnTo>
                  <a:lnTo>
                    <a:pt x="5084" y="1728"/>
                  </a:lnTo>
                  <a:lnTo>
                    <a:pt x="5003" y="1668"/>
                  </a:lnTo>
                  <a:lnTo>
                    <a:pt x="4921" y="1608"/>
                  </a:lnTo>
                  <a:lnTo>
                    <a:pt x="4841" y="1549"/>
                  </a:lnTo>
                  <a:lnTo>
                    <a:pt x="4759" y="1491"/>
                  </a:lnTo>
                  <a:lnTo>
                    <a:pt x="4675" y="1434"/>
                  </a:lnTo>
                  <a:lnTo>
                    <a:pt x="4590" y="1378"/>
                  </a:lnTo>
                  <a:lnTo>
                    <a:pt x="4507" y="1323"/>
                  </a:lnTo>
                  <a:lnTo>
                    <a:pt x="4421" y="1268"/>
                  </a:lnTo>
                  <a:lnTo>
                    <a:pt x="4335" y="1216"/>
                  </a:lnTo>
                  <a:lnTo>
                    <a:pt x="4248" y="1164"/>
                  </a:lnTo>
                  <a:lnTo>
                    <a:pt x="4160" y="1113"/>
                  </a:lnTo>
                  <a:lnTo>
                    <a:pt x="4074" y="1063"/>
                  </a:lnTo>
                  <a:lnTo>
                    <a:pt x="3985" y="1014"/>
                  </a:lnTo>
                  <a:lnTo>
                    <a:pt x="3895" y="966"/>
                  </a:lnTo>
                  <a:lnTo>
                    <a:pt x="3805" y="920"/>
                  </a:lnTo>
                  <a:lnTo>
                    <a:pt x="3715" y="873"/>
                  </a:lnTo>
                  <a:lnTo>
                    <a:pt x="3624" y="829"/>
                  </a:lnTo>
                  <a:lnTo>
                    <a:pt x="3532" y="786"/>
                  </a:lnTo>
                  <a:lnTo>
                    <a:pt x="3439" y="742"/>
                  </a:lnTo>
                  <a:lnTo>
                    <a:pt x="3346" y="701"/>
                  </a:lnTo>
                  <a:lnTo>
                    <a:pt x="3252" y="661"/>
                  </a:lnTo>
                  <a:lnTo>
                    <a:pt x="3158" y="621"/>
                  </a:lnTo>
                  <a:lnTo>
                    <a:pt x="3065" y="583"/>
                  </a:lnTo>
                  <a:lnTo>
                    <a:pt x="2969" y="546"/>
                  </a:lnTo>
                  <a:lnTo>
                    <a:pt x="2873" y="510"/>
                  </a:lnTo>
                  <a:lnTo>
                    <a:pt x="2777" y="475"/>
                  </a:lnTo>
                  <a:lnTo>
                    <a:pt x="2680" y="442"/>
                  </a:lnTo>
                  <a:lnTo>
                    <a:pt x="2582" y="409"/>
                  </a:lnTo>
                  <a:lnTo>
                    <a:pt x="2484" y="378"/>
                  </a:lnTo>
                  <a:lnTo>
                    <a:pt x="2386" y="348"/>
                  </a:lnTo>
                  <a:lnTo>
                    <a:pt x="2287" y="319"/>
                  </a:lnTo>
                  <a:lnTo>
                    <a:pt x="2188" y="291"/>
                  </a:lnTo>
                  <a:lnTo>
                    <a:pt x="2086" y="266"/>
                  </a:lnTo>
                  <a:lnTo>
                    <a:pt x="1986" y="241"/>
                  </a:lnTo>
                  <a:lnTo>
                    <a:pt x="1886" y="216"/>
                  </a:lnTo>
                  <a:lnTo>
                    <a:pt x="1784" y="193"/>
                  </a:lnTo>
                  <a:lnTo>
                    <a:pt x="1683" y="172"/>
                  </a:lnTo>
                  <a:lnTo>
                    <a:pt x="1580" y="151"/>
                  </a:lnTo>
                  <a:lnTo>
                    <a:pt x="1479" y="131"/>
                  </a:lnTo>
                  <a:lnTo>
                    <a:pt x="1375" y="114"/>
                  </a:lnTo>
                  <a:lnTo>
                    <a:pt x="1270" y="97"/>
                  </a:lnTo>
                  <a:lnTo>
                    <a:pt x="1167" y="83"/>
                  </a:lnTo>
                  <a:lnTo>
                    <a:pt x="1063" y="69"/>
                  </a:lnTo>
                  <a:lnTo>
                    <a:pt x="958" y="55"/>
                  </a:lnTo>
                  <a:lnTo>
                    <a:pt x="854" y="44"/>
                  </a:lnTo>
                  <a:lnTo>
                    <a:pt x="747" y="33"/>
                  </a:lnTo>
                  <a:lnTo>
                    <a:pt x="641" y="25"/>
                  </a:lnTo>
                  <a:lnTo>
                    <a:pt x="536" y="18"/>
                  </a:lnTo>
                  <a:lnTo>
                    <a:pt x="428" y="12"/>
                  </a:lnTo>
                  <a:lnTo>
                    <a:pt x="321" y="7"/>
                  </a:lnTo>
                  <a:lnTo>
                    <a:pt x="215" y="4"/>
                  </a:lnTo>
                  <a:lnTo>
                    <a:pt x="10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00920" y="3780000"/>
              <a:ext cx="545040" cy="51156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680" y="8371"/>
                  </a:moveTo>
                  <a:lnTo>
                    <a:pt x="680" y="8371"/>
                  </a:lnTo>
                  <a:lnTo>
                    <a:pt x="680" y="8272"/>
                  </a:lnTo>
                  <a:lnTo>
                    <a:pt x="681" y="8172"/>
                  </a:lnTo>
                  <a:lnTo>
                    <a:pt x="684" y="8074"/>
                  </a:lnTo>
                  <a:lnTo>
                    <a:pt x="690" y="7974"/>
                  </a:lnTo>
                  <a:lnTo>
                    <a:pt x="695" y="7878"/>
                  </a:lnTo>
                  <a:lnTo>
                    <a:pt x="702" y="7780"/>
                  </a:lnTo>
                  <a:lnTo>
                    <a:pt x="710" y="7682"/>
                  </a:lnTo>
                  <a:lnTo>
                    <a:pt x="719" y="7585"/>
                  </a:lnTo>
                  <a:lnTo>
                    <a:pt x="729" y="7490"/>
                  </a:lnTo>
                  <a:lnTo>
                    <a:pt x="741" y="7394"/>
                  </a:lnTo>
                  <a:lnTo>
                    <a:pt x="754" y="7297"/>
                  </a:lnTo>
                  <a:lnTo>
                    <a:pt x="769" y="7201"/>
                  </a:lnTo>
                  <a:lnTo>
                    <a:pt x="783" y="7106"/>
                  </a:lnTo>
                  <a:lnTo>
                    <a:pt x="799" y="7013"/>
                  </a:lnTo>
                  <a:lnTo>
                    <a:pt x="817" y="6918"/>
                  </a:lnTo>
                  <a:lnTo>
                    <a:pt x="836" y="6823"/>
                  </a:lnTo>
                  <a:lnTo>
                    <a:pt x="856" y="6730"/>
                  </a:lnTo>
                  <a:lnTo>
                    <a:pt x="877" y="6637"/>
                  </a:lnTo>
                  <a:lnTo>
                    <a:pt x="899" y="6544"/>
                  </a:lnTo>
                  <a:lnTo>
                    <a:pt x="922" y="6452"/>
                  </a:lnTo>
                  <a:lnTo>
                    <a:pt x="947" y="6361"/>
                  </a:lnTo>
                  <a:lnTo>
                    <a:pt x="972" y="6270"/>
                  </a:lnTo>
                  <a:lnTo>
                    <a:pt x="998" y="6179"/>
                  </a:lnTo>
                  <a:lnTo>
                    <a:pt x="1026" y="6089"/>
                  </a:lnTo>
                  <a:lnTo>
                    <a:pt x="1055" y="5999"/>
                  </a:lnTo>
                  <a:lnTo>
                    <a:pt x="1084" y="5909"/>
                  </a:lnTo>
                  <a:lnTo>
                    <a:pt x="1115" y="5820"/>
                  </a:lnTo>
                  <a:lnTo>
                    <a:pt x="1147" y="5732"/>
                  </a:lnTo>
                  <a:lnTo>
                    <a:pt x="1180" y="5644"/>
                  </a:lnTo>
                  <a:lnTo>
                    <a:pt x="1215" y="5556"/>
                  </a:lnTo>
                  <a:lnTo>
                    <a:pt x="1248" y="5469"/>
                  </a:lnTo>
                  <a:lnTo>
                    <a:pt x="1285" y="5382"/>
                  </a:lnTo>
                  <a:lnTo>
                    <a:pt x="1323" y="5296"/>
                  </a:lnTo>
                  <a:lnTo>
                    <a:pt x="1360" y="5211"/>
                  </a:lnTo>
                  <a:lnTo>
                    <a:pt x="1399" y="5126"/>
                  </a:lnTo>
                  <a:lnTo>
                    <a:pt x="1439" y="5042"/>
                  </a:lnTo>
                  <a:lnTo>
                    <a:pt x="1481" y="4959"/>
                  </a:lnTo>
                  <a:lnTo>
                    <a:pt x="1522" y="4874"/>
                  </a:lnTo>
                  <a:lnTo>
                    <a:pt x="1565" y="4792"/>
                  </a:lnTo>
                  <a:lnTo>
                    <a:pt x="1609" y="4711"/>
                  </a:lnTo>
                  <a:lnTo>
                    <a:pt x="1654" y="4629"/>
                  </a:lnTo>
                  <a:lnTo>
                    <a:pt x="1700" y="4548"/>
                  </a:lnTo>
                  <a:lnTo>
                    <a:pt x="1747" y="4468"/>
                  </a:lnTo>
                  <a:lnTo>
                    <a:pt x="1795" y="4388"/>
                  </a:lnTo>
                  <a:lnTo>
                    <a:pt x="1845" y="4309"/>
                  </a:lnTo>
                  <a:lnTo>
                    <a:pt x="1894" y="4232"/>
                  </a:lnTo>
                  <a:lnTo>
                    <a:pt x="1944" y="4153"/>
                  </a:lnTo>
                  <a:lnTo>
                    <a:pt x="1996" y="4076"/>
                  </a:lnTo>
                  <a:lnTo>
                    <a:pt x="2048" y="3999"/>
                  </a:lnTo>
                  <a:lnTo>
                    <a:pt x="2101" y="3924"/>
                  </a:lnTo>
                  <a:lnTo>
                    <a:pt x="2154" y="3849"/>
                  </a:lnTo>
                  <a:lnTo>
                    <a:pt x="2210" y="3774"/>
                  </a:lnTo>
                  <a:lnTo>
                    <a:pt x="2266" y="3700"/>
                  </a:lnTo>
                  <a:lnTo>
                    <a:pt x="2323" y="3628"/>
                  </a:lnTo>
                  <a:lnTo>
                    <a:pt x="2381" y="3555"/>
                  </a:lnTo>
                  <a:lnTo>
                    <a:pt x="2439" y="3484"/>
                  </a:lnTo>
                  <a:lnTo>
                    <a:pt x="2499" y="3413"/>
                  </a:lnTo>
                  <a:lnTo>
                    <a:pt x="2558" y="3342"/>
                  </a:lnTo>
                  <a:lnTo>
                    <a:pt x="2619" y="3272"/>
                  </a:lnTo>
                  <a:lnTo>
                    <a:pt x="2682" y="3204"/>
                  </a:lnTo>
                  <a:lnTo>
                    <a:pt x="2744" y="3136"/>
                  </a:lnTo>
                  <a:lnTo>
                    <a:pt x="2807" y="3069"/>
                  </a:lnTo>
                  <a:lnTo>
                    <a:pt x="2872" y="3002"/>
                  </a:lnTo>
                  <a:lnTo>
                    <a:pt x="2937" y="2937"/>
                  </a:lnTo>
                  <a:lnTo>
                    <a:pt x="3002" y="2872"/>
                  </a:lnTo>
                  <a:lnTo>
                    <a:pt x="3068" y="2807"/>
                  </a:lnTo>
                  <a:lnTo>
                    <a:pt x="3136" y="2745"/>
                  </a:lnTo>
                  <a:lnTo>
                    <a:pt x="3204" y="2682"/>
                  </a:lnTo>
                  <a:lnTo>
                    <a:pt x="3273" y="2620"/>
                  </a:lnTo>
                  <a:lnTo>
                    <a:pt x="3342" y="2558"/>
                  </a:lnTo>
                  <a:lnTo>
                    <a:pt x="3412" y="2499"/>
                  </a:lnTo>
                  <a:lnTo>
                    <a:pt x="3484" y="2439"/>
                  </a:lnTo>
                  <a:lnTo>
                    <a:pt x="3555" y="2382"/>
                  </a:lnTo>
                  <a:lnTo>
                    <a:pt x="3628" y="2324"/>
                  </a:lnTo>
                  <a:lnTo>
                    <a:pt x="3700" y="2267"/>
                  </a:lnTo>
                  <a:lnTo>
                    <a:pt x="3774" y="2210"/>
                  </a:lnTo>
                  <a:lnTo>
                    <a:pt x="3848" y="2156"/>
                  </a:lnTo>
                  <a:lnTo>
                    <a:pt x="3924" y="2101"/>
                  </a:lnTo>
                  <a:lnTo>
                    <a:pt x="3998" y="2049"/>
                  </a:lnTo>
                  <a:lnTo>
                    <a:pt x="4076" y="1996"/>
                  </a:lnTo>
                  <a:lnTo>
                    <a:pt x="4152" y="1944"/>
                  </a:lnTo>
                  <a:lnTo>
                    <a:pt x="4230" y="1894"/>
                  </a:lnTo>
                  <a:lnTo>
                    <a:pt x="4309" y="1845"/>
                  </a:lnTo>
                  <a:lnTo>
                    <a:pt x="4388" y="1796"/>
                  </a:lnTo>
                  <a:lnTo>
                    <a:pt x="4468" y="1747"/>
                  </a:lnTo>
                  <a:lnTo>
                    <a:pt x="4548" y="1700"/>
                  </a:lnTo>
                  <a:lnTo>
                    <a:pt x="4629" y="1655"/>
                  </a:lnTo>
                  <a:lnTo>
                    <a:pt x="4710" y="1609"/>
                  </a:lnTo>
                  <a:lnTo>
                    <a:pt x="4791" y="1566"/>
                  </a:lnTo>
                  <a:lnTo>
                    <a:pt x="4874" y="1522"/>
                  </a:lnTo>
                  <a:lnTo>
                    <a:pt x="4958" y="1482"/>
                  </a:lnTo>
                  <a:lnTo>
                    <a:pt x="5041" y="1440"/>
                  </a:lnTo>
                  <a:lnTo>
                    <a:pt x="5126" y="1399"/>
                  </a:lnTo>
                  <a:lnTo>
                    <a:pt x="5210" y="1361"/>
                  </a:lnTo>
                  <a:lnTo>
                    <a:pt x="5296" y="1323"/>
                  </a:lnTo>
                  <a:lnTo>
                    <a:pt x="5382" y="1285"/>
                  </a:lnTo>
                  <a:lnTo>
                    <a:pt x="5469" y="1248"/>
                  </a:lnTo>
                  <a:lnTo>
                    <a:pt x="5556" y="1215"/>
                  </a:lnTo>
                  <a:lnTo>
                    <a:pt x="5643" y="1180"/>
                  </a:lnTo>
                  <a:lnTo>
                    <a:pt x="5731" y="1148"/>
                  </a:lnTo>
                  <a:lnTo>
                    <a:pt x="5820" y="1115"/>
                  </a:lnTo>
                  <a:lnTo>
                    <a:pt x="5909" y="1085"/>
                  </a:lnTo>
                  <a:lnTo>
                    <a:pt x="5998" y="1055"/>
                  </a:lnTo>
                  <a:lnTo>
                    <a:pt x="6088" y="1026"/>
                  </a:lnTo>
                  <a:lnTo>
                    <a:pt x="6179" y="999"/>
                  </a:lnTo>
                  <a:lnTo>
                    <a:pt x="6270" y="972"/>
                  </a:lnTo>
                  <a:lnTo>
                    <a:pt x="6361" y="947"/>
                  </a:lnTo>
                  <a:lnTo>
                    <a:pt x="6452" y="922"/>
                  </a:lnTo>
                  <a:lnTo>
                    <a:pt x="6544" y="899"/>
                  </a:lnTo>
                  <a:lnTo>
                    <a:pt x="6636" y="877"/>
                  </a:lnTo>
                  <a:lnTo>
                    <a:pt x="6730" y="857"/>
                  </a:lnTo>
                  <a:lnTo>
                    <a:pt x="6823" y="836"/>
                  </a:lnTo>
                  <a:lnTo>
                    <a:pt x="6918" y="817"/>
                  </a:lnTo>
                  <a:lnTo>
                    <a:pt x="7012" y="800"/>
                  </a:lnTo>
                  <a:lnTo>
                    <a:pt x="7107" y="784"/>
                  </a:lnTo>
                  <a:lnTo>
                    <a:pt x="7201" y="769"/>
                  </a:lnTo>
                  <a:lnTo>
                    <a:pt x="7296" y="754"/>
                  </a:lnTo>
                  <a:lnTo>
                    <a:pt x="7393" y="741"/>
                  </a:lnTo>
                  <a:lnTo>
                    <a:pt x="7489" y="730"/>
                  </a:lnTo>
                  <a:lnTo>
                    <a:pt x="7586" y="719"/>
                  </a:lnTo>
                  <a:lnTo>
                    <a:pt x="7682" y="710"/>
                  </a:lnTo>
                  <a:lnTo>
                    <a:pt x="7780" y="702"/>
                  </a:lnTo>
                  <a:lnTo>
                    <a:pt x="7878" y="695"/>
                  </a:lnTo>
                  <a:lnTo>
                    <a:pt x="7974" y="690"/>
                  </a:lnTo>
                  <a:lnTo>
                    <a:pt x="8073" y="684"/>
                  </a:lnTo>
                  <a:lnTo>
                    <a:pt x="8172" y="681"/>
                  </a:lnTo>
                  <a:lnTo>
                    <a:pt x="8272" y="681"/>
                  </a:lnTo>
                  <a:lnTo>
                    <a:pt x="8371" y="680"/>
                  </a:lnTo>
                  <a:lnTo>
                    <a:pt x="8371" y="0"/>
                  </a:lnTo>
                  <a:lnTo>
                    <a:pt x="8263" y="1"/>
                  </a:lnTo>
                  <a:lnTo>
                    <a:pt x="8156" y="4"/>
                  </a:lnTo>
                  <a:lnTo>
                    <a:pt x="8050" y="7"/>
                  </a:lnTo>
                  <a:lnTo>
                    <a:pt x="7943" y="12"/>
                  </a:lnTo>
                  <a:lnTo>
                    <a:pt x="7835" y="18"/>
                  </a:lnTo>
                  <a:lnTo>
                    <a:pt x="7730" y="25"/>
                  </a:lnTo>
                  <a:lnTo>
                    <a:pt x="7624" y="33"/>
                  </a:lnTo>
                  <a:lnTo>
                    <a:pt x="7517" y="44"/>
                  </a:lnTo>
                  <a:lnTo>
                    <a:pt x="7413" y="55"/>
                  </a:lnTo>
                  <a:lnTo>
                    <a:pt x="7308" y="69"/>
                  </a:lnTo>
                  <a:lnTo>
                    <a:pt x="7204" y="83"/>
                  </a:lnTo>
                  <a:lnTo>
                    <a:pt x="7100" y="97"/>
                  </a:lnTo>
                  <a:lnTo>
                    <a:pt x="6995" y="114"/>
                  </a:lnTo>
                  <a:lnTo>
                    <a:pt x="6892" y="131"/>
                  </a:lnTo>
                  <a:lnTo>
                    <a:pt x="6790" y="151"/>
                  </a:lnTo>
                  <a:lnTo>
                    <a:pt x="6688" y="172"/>
                  </a:lnTo>
                  <a:lnTo>
                    <a:pt x="6587" y="193"/>
                  </a:lnTo>
                  <a:lnTo>
                    <a:pt x="6485" y="216"/>
                  </a:lnTo>
                  <a:lnTo>
                    <a:pt x="6384" y="241"/>
                  </a:lnTo>
                  <a:lnTo>
                    <a:pt x="6285" y="266"/>
                  </a:lnTo>
                  <a:lnTo>
                    <a:pt x="6183" y="291"/>
                  </a:lnTo>
                  <a:lnTo>
                    <a:pt x="6084" y="319"/>
                  </a:lnTo>
                  <a:lnTo>
                    <a:pt x="5984" y="348"/>
                  </a:lnTo>
                  <a:lnTo>
                    <a:pt x="5886" y="378"/>
                  </a:lnTo>
                  <a:lnTo>
                    <a:pt x="5789" y="409"/>
                  </a:lnTo>
                  <a:lnTo>
                    <a:pt x="5691" y="442"/>
                  </a:lnTo>
                  <a:lnTo>
                    <a:pt x="5594" y="475"/>
                  </a:lnTo>
                  <a:lnTo>
                    <a:pt x="5498" y="510"/>
                  </a:lnTo>
                  <a:lnTo>
                    <a:pt x="5401" y="546"/>
                  </a:lnTo>
                  <a:lnTo>
                    <a:pt x="5306" y="583"/>
                  </a:lnTo>
                  <a:lnTo>
                    <a:pt x="5211" y="622"/>
                  </a:lnTo>
                  <a:lnTo>
                    <a:pt x="5119" y="661"/>
                  </a:lnTo>
                  <a:lnTo>
                    <a:pt x="5025" y="701"/>
                  </a:lnTo>
                  <a:lnTo>
                    <a:pt x="4932" y="742"/>
                  </a:lnTo>
                  <a:lnTo>
                    <a:pt x="4838" y="786"/>
                  </a:lnTo>
                  <a:lnTo>
                    <a:pt x="4747" y="829"/>
                  </a:lnTo>
                  <a:lnTo>
                    <a:pt x="4655" y="873"/>
                  </a:lnTo>
                  <a:lnTo>
                    <a:pt x="4566" y="920"/>
                  </a:lnTo>
                  <a:lnTo>
                    <a:pt x="4475" y="966"/>
                  </a:lnTo>
                  <a:lnTo>
                    <a:pt x="4386" y="1014"/>
                  </a:lnTo>
                  <a:lnTo>
                    <a:pt x="4297" y="1063"/>
                  </a:lnTo>
                  <a:lnTo>
                    <a:pt x="4210" y="1113"/>
                  </a:lnTo>
                  <a:lnTo>
                    <a:pt x="4123" y="1164"/>
                  </a:lnTo>
                  <a:lnTo>
                    <a:pt x="4035" y="1216"/>
                  </a:lnTo>
                  <a:lnTo>
                    <a:pt x="3950" y="1268"/>
                  </a:lnTo>
                  <a:lnTo>
                    <a:pt x="3864" y="1323"/>
                  </a:lnTo>
                  <a:lnTo>
                    <a:pt x="3781" y="1378"/>
                  </a:lnTo>
                  <a:lnTo>
                    <a:pt x="3696" y="1434"/>
                  </a:lnTo>
                  <a:lnTo>
                    <a:pt x="3613" y="1491"/>
                  </a:lnTo>
                  <a:lnTo>
                    <a:pt x="3530" y="1549"/>
                  </a:lnTo>
                  <a:lnTo>
                    <a:pt x="3450" y="1608"/>
                  </a:lnTo>
                  <a:lnTo>
                    <a:pt x="3368" y="1668"/>
                  </a:lnTo>
                  <a:lnTo>
                    <a:pt x="3288" y="1728"/>
                  </a:lnTo>
                  <a:lnTo>
                    <a:pt x="3208" y="1790"/>
                  </a:lnTo>
                  <a:lnTo>
                    <a:pt x="3130" y="1853"/>
                  </a:lnTo>
                  <a:lnTo>
                    <a:pt x="3051" y="1916"/>
                  </a:lnTo>
                  <a:lnTo>
                    <a:pt x="2974" y="1981"/>
                  </a:lnTo>
                  <a:lnTo>
                    <a:pt x="2898" y="2047"/>
                  </a:lnTo>
                  <a:lnTo>
                    <a:pt x="2822" y="2113"/>
                  </a:lnTo>
                  <a:lnTo>
                    <a:pt x="2748" y="2180"/>
                  </a:lnTo>
                  <a:lnTo>
                    <a:pt x="2673" y="2248"/>
                  </a:lnTo>
                  <a:lnTo>
                    <a:pt x="2601" y="2317"/>
                  </a:lnTo>
                  <a:lnTo>
                    <a:pt x="2529" y="2386"/>
                  </a:lnTo>
                  <a:lnTo>
                    <a:pt x="2457" y="2457"/>
                  </a:lnTo>
                  <a:lnTo>
                    <a:pt x="2386" y="2529"/>
                  </a:lnTo>
                  <a:lnTo>
                    <a:pt x="2317" y="2601"/>
                  </a:lnTo>
                  <a:lnTo>
                    <a:pt x="2248" y="2675"/>
                  </a:lnTo>
                  <a:lnTo>
                    <a:pt x="2180" y="2748"/>
                  </a:lnTo>
                  <a:lnTo>
                    <a:pt x="2113" y="2823"/>
                  </a:lnTo>
                  <a:lnTo>
                    <a:pt x="2046" y="2898"/>
                  </a:lnTo>
                  <a:lnTo>
                    <a:pt x="1981" y="2975"/>
                  </a:lnTo>
                  <a:lnTo>
                    <a:pt x="1916" y="3051"/>
                  </a:lnTo>
                  <a:lnTo>
                    <a:pt x="1852" y="3130"/>
                  </a:lnTo>
                  <a:lnTo>
                    <a:pt x="1789" y="3208"/>
                  </a:lnTo>
                  <a:lnTo>
                    <a:pt x="1728" y="3289"/>
                  </a:lnTo>
                  <a:lnTo>
                    <a:pt x="1668" y="3368"/>
                  </a:lnTo>
                  <a:lnTo>
                    <a:pt x="1608" y="3450"/>
                  </a:lnTo>
                  <a:lnTo>
                    <a:pt x="1549" y="3530"/>
                  </a:lnTo>
                  <a:lnTo>
                    <a:pt x="1490" y="3614"/>
                  </a:lnTo>
                  <a:lnTo>
                    <a:pt x="1434" y="3696"/>
                  </a:lnTo>
                  <a:lnTo>
                    <a:pt x="1378" y="3781"/>
                  </a:lnTo>
                  <a:lnTo>
                    <a:pt x="1323" y="3864"/>
                  </a:lnTo>
                  <a:lnTo>
                    <a:pt x="1268" y="3950"/>
                  </a:lnTo>
                  <a:lnTo>
                    <a:pt x="1216" y="4036"/>
                  </a:lnTo>
                  <a:lnTo>
                    <a:pt x="1164" y="4123"/>
                  </a:lnTo>
                  <a:lnTo>
                    <a:pt x="1113" y="4211"/>
                  </a:lnTo>
                  <a:lnTo>
                    <a:pt x="1062" y="4297"/>
                  </a:lnTo>
                  <a:lnTo>
                    <a:pt x="1014" y="4386"/>
                  </a:lnTo>
                  <a:lnTo>
                    <a:pt x="966" y="4476"/>
                  </a:lnTo>
                  <a:lnTo>
                    <a:pt x="919" y="4566"/>
                  </a:lnTo>
                  <a:lnTo>
                    <a:pt x="873" y="4656"/>
                  </a:lnTo>
                  <a:lnTo>
                    <a:pt x="829" y="4747"/>
                  </a:lnTo>
                  <a:lnTo>
                    <a:pt x="785" y="4839"/>
                  </a:lnTo>
                  <a:lnTo>
                    <a:pt x="742" y="4932"/>
                  </a:lnTo>
                  <a:lnTo>
                    <a:pt x="701" y="5025"/>
                  </a:lnTo>
                  <a:lnTo>
                    <a:pt x="660" y="5119"/>
                  </a:lnTo>
                  <a:lnTo>
                    <a:pt x="622" y="5212"/>
                  </a:lnTo>
                  <a:lnTo>
                    <a:pt x="583" y="5306"/>
                  </a:lnTo>
                  <a:lnTo>
                    <a:pt x="545" y="5402"/>
                  </a:lnTo>
                  <a:lnTo>
                    <a:pt x="510" y="5498"/>
                  </a:lnTo>
                  <a:lnTo>
                    <a:pt x="475" y="5594"/>
                  </a:lnTo>
                  <a:lnTo>
                    <a:pt x="442" y="5691"/>
                  </a:lnTo>
                  <a:lnTo>
                    <a:pt x="409" y="5789"/>
                  </a:lnTo>
                  <a:lnTo>
                    <a:pt x="378" y="5887"/>
                  </a:lnTo>
                  <a:lnTo>
                    <a:pt x="347" y="5985"/>
                  </a:lnTo>
                  <a:lnTo>
                    <a:pt x="319" y="6084"/>
                  </a:lnTo>
                  <a:lnTo>
                    <a:pt x="291" y="6183"/>
                  </a:lnTo>
                  <a:lnTo>
                    <a:pt x="266" y="6285"/>
                  </a:lnTo>
                  <a:lnTo>
                    <a:pt x="240" y="6385"/>
                  </a:lnTo>
                  <a:lnTo>
                    <a:pt x="216" y="6485"/>
                  </a:lnTo>
                  <a:lnTo>
                    <a:pt x="193" y="6587"/>
                  </a:lnTo>
                  <a:lnTo>
                    <a:pt x="172" y="6688"/>
                  </a:lnTo>
                  <a:lnTo>
                    <a:pt x="151" y="6791"/>
                  </a:lnTo>
                  <a:lnTo>
                    <a:pt x="132" y="6892"/>
                  </a:lnTo>
                  <a:lnTo>
                    <a:pt x="114" y="6997"/>
                  </a:lnTo>
                  <a:lnTo>
                    <a:pt x="96" y="7101"/>
                  </a:lnTo>
                  <a:lnTo>
                    <a:pt x="82" y="7204"/>
                  </a:lnTo>
                  <a:lnTo>
                    <a:pt x="69" y="7308"/>
                  </a:lnTo>
                  <a:lnTo>
                    <a:pt x="55" y="7413"/>
                  </a:lnTo>
                  <a:lnTo>
                    <a:pt x="44" y="7519"/>
                  </a:lnTo>
                  <a:lnTo>
                    <a:pt x="33" y="7624"/>
                  </a:lnTo>
                  <a:lnTo>
                    <a:pt x="25" y="7730"/>
                  </a:lnTo>
                  <a:lnTo>
                    <a:pt x="18" y="7835"/>
                  </a:lnTo>
                  <a:lnTo>
                    <a:pt x="12" y="7943"/>
                  </a:lnTo>
                  <a:lnTo>
                    <a:pt x="7" y="8050"/>
                  </a:lnTo>
                  <a:lnTo>
                    <a:pt x="4" y="8156"/>
                  </a:lnTo>
                  <a:lnTo>
                    <a:pt x="1" y="8263"/>
                  </a:lnTo>
                  <a:lnTo>
                    <a:pt x="0" y="8371"/>
                  </a:lnTo>
                  <a:lnTo>
                    <a:pt x="0" y="8371"/>
                  </a:lnTo>
                  <a:lnTo>
                    <a:pt x="680" y="837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00920" y="4291560"/>
              <a:ext cx="545040" cy="510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8371" y="7691"/>
                  </a:moveTo>
                  <a:lnTo>
                    <a:pt x="8371" y="7691"/>
                  </a:lnTo>
                  <a:lnTo>
                    <a:pt x="8272" y="7691"/>
                  </a:lnTo>
                  <a:lnTo>
                    <a:pt x="8172" y="7690"/>
                  </a:lnTo>
                  <a:lnTo>
                    <a:pt x="8073" y="7687"/>
                  </a:lnTo>
                  <a:lnTo>
                    <a:pt x="7974" y="7681"/>
                  </a:lnTo>
                  <a:lnTo>
                    <a:pt x="7878" y="7676"/>
                  </a:lnTo>
                  <a:lnTo>
                    <a:pt x="7780" y="7669"/>
                  </a:lnTo>
                  <a:lnTo>
                    <a:pt x="7682" y="7661"/>
                  </a:lnTo>
                  <a:lnTo>
                    <a:pt x="7585" y="7652"/>
                  </a:lnTo>
                  <a:lnTo>
                    <a:pt x="7489" y="7642"/>
                  </a:lnTo>
                  <a:lnTo>
                    <a:pt x="7393" y="7630"/>
                  </a:lnTo>
                  <a:lnTo>
                    <a:pt x="7296" y="7617"/>
                  </a:lnTo>
                  <a:lnTo>
                    <a:pt x="7201" y="7602"/>
                  </a:lnTo>
                  <a:lnTo>
                    <a:pt x="7106" y="7588"/>
                  </a:lnTo>
                  <a:lnTo>
                    <a:pt x="7012" y="7572"/>
                  </a:lnTo>
                  <a:lnTo>
                    <a:pt x="6918" y="7554"/>
                  </a:lnTo>
                  <a:lnTo>
                    <a:pt x="6823" y="7535"/>
                  </a:lnTo>
                  <a:lnTo>
                    <a:pt x="6730" y="7515"/>
                  </a:lnTo>
                  <a:lnTo>
                    <a:pt x="6636" y="7494"/>
                  </a:lnTo>
                  <a:lnTo>
                    <a:pt x="6544" y="7472"/>
                  </a:lnTo>
                  <a:lnTo>
                    <a:pt x="6452" y="7449"/>
                  </a:lnTo>
                  <a:lnTo>
                    <a:pt x="6361" y="7424"/>
                  </a:lnTo>
                  <a:lnTo>
                    <a:pt x="6270" y="7399"/>
                  </a:lnTo>
                  <a:lnTo>
                    <a:pt x="6179" y="7373"/>
                  </a:lnTo>
                  <a:lnTo>
                    <a:pt x="6088" y="7345"/>
                  </a:lnTo>
                  <a:lnTo>
                    <a:pt x="5998" y="7316"/>
                  </a:lnTo>
                  <a:lnTo>
                    <a:pt x="5909" y="7287"/>
                  </a:lnTo>
                  <a:lnTo>
                    <a:pt x="5820" y="7256"/>
                  </a:lnTo>
                  <a:lnTo>
                    <a:pt x="5731" y="7224"/>
                  </a:lnTo>
                  <a:lnTo>
                    <a:pt x="5643" y="7191"/>
                  </a:lnTo>
                  <a:lnTo>
                    <a:pt x="5556" y="7156"/>
                  </a:lnTo>
                  <a:lnTo>
                    <a:pt x="5469" y="7123"/>
                  </a:lnTo>
                  <a:lnTo>
                    <a:pt x="5382" y="7086"/>
                  </a:lnTo>
                  <a:lnTo>
                    <a:pt x="5296" y="7048"/>
                  </a:lnTo>
                  <a:lnTo>
                    <a:pt x="5210" y="7011"/>
                  </a:lnTo>
                  <a:lnTo>
                    <a:pt x="5126" y="6972"/>
                  </a:lnTo>
                  <a:lnTo>
                    <a:pt x="5041" y="6932"/>
                  </a:lnTo>
                  <a:lnTo>
                    <a:pt x="4958" y="6890"/>
                  </a:lnTo>
                  <a:lnTo>
                    <a:pt x="4875" y="6849"/>
                  </a:lnTo>
                  <a:lnTo>
                    <a:pt x="4791" y="6806"/>
                  </a:lnTo>
                  <a:lnTo>
                    <a:pt x="4710" y="6762"/>
                  </a:lnTo>
                  <a:lnTo>
                    <a:pt x="4629" y="6717"/>
                  </a:lnTo>
                  <a:lnTo>
                    <a:pt x="4548" y="6671"/>
                  </a:lnTo>
                  <a:lnTo>
                    <a:pt x="4468" y="6624"/>
                  </a:lnTo>
                  <a:lnTo>
                    <a:pt x="4388" y="6576"/>
                  </a:lnTo>
                  <a:lnTo>
                    <a:pt x="4309" y="6526"/>
                  </a:lnTo>
                  <a:lnTo>
                    <a:pt x="4230" y="6477"/>
                  </a:lnTo>
                  <a:lnTo>
                    <a:pt x="4154" y="6427"/>
                  </a:lnTo>
                  <a:lnTo>
                    <a:pt x="4076" y="6375"/>
                  </a:lnTo>
                  <a:lnTo>
                    <a:pt x="3998" y="6323"/>
                  </a:lnTo>
                  <a:lnTo>
                    <a:pt x="3924" y="6270"/>
                  </a:lnTo>
                  <a:lnTo>
                    <a:pt x="3848" y="6217"/>
                  </a:lnTo>
                  <a:lnTo>
                    <a:pt x="3774" y="6161"/>
                  </a:lnTo>
                  <a:lnTo>
                    <a:pt x="3700" y="6105"/>
                  </a:lnTo>
                  <a:lnTo>
                    <a:pt x="3628" y="6048"/>
                  </a:lnTo>
                  <a:lnTo>
                    <a:pt x="3555" y="5990"/>
                  </a:lnTo>
                  <a:lnTo>
                    <a:pt x="3484" y="5932"/>
                  </a:lnTo>
                  <a:lnTo>
                    <a:pt x="3412" y="5872"/>
                  </a:lnTo>
                  <a:lnTo>
                    <a:pt x="3342" y="5813"/>
                  </a:lnTo>
                  <a:lnTo>
                    <a:pt x="3273" y="5752"/>
                  </a:lnTo>
                  <a:lnTo>
                    <a:pt x="3204" y="5689"/>
                  </a:lnTo>
                  <a:lnTo>
                    <a:pt x="3136" y="5627"/>
                  </a:lnTo>
                  <a:lnTo>
                    <a:pt x="3068" y="5564"/>
                  </a:lnTo>
                  <a:lnTo>
                    <a:pt x="3002" y="5499"/>
                  </a:lnTo>
                  <a:lnTo>
                    <a:pt x="2937" y="5434"/>
                  </a:lnTo>
                  <a:lnTo>
                    <a:pt x="2872" y="5369"/>
                  </a:lnTo>
                  <a:lnTo>
                    <a:pt x="2807" y="5303"/>
                  </a:lnTo>
                  <a:lnTo>
                    <a:pt x="2744" y="5235"/>
                  </a:lnTo>
                  <a:lnTo>
                    <a:pt x="2682" y="5167"/>
                  </a:lnTo>
                  <a:lnTo>
                    <a:pt x="2619" y="5098"/>
                  </a:lnTo>
                  <a:lnTo>
                    <a:pt x="2558" y="5029"/>
                  </a:lnTo>
                  <a:lnTo>
                    <a:pt x="2499" y="4959"/>
                  </a:lnTo>
                  <a:lnTo>
                    <a:pt x="2439" y="4887"/>
                  </a:lnTo>
                  <a:lnTo>
                    <a:pt x="2381" y="4816"/>
                  </a:lnTo>
                  <a:lnTo>
                    <a:pt x="2323" y="4743"/>
                  </a:lnTo>
                  <a:lnTo>
                    <a:pt x="2266" y="4671"/>
                  </a:lnTo>
                  <a:lnTo>
                    <a:pt x="2210" y="4597"/>
                  </a:lnTo>
                  <a:lnTo>
                    <a:pt x="2154" y="4523"/>
                  </a:lnTo>
                  <a:lnTo>
                    <a:pt x="2101" y="4447"/>
                  </a:lnTo>
                  <a:lnTo>
                    <a:pt x="2048" y="4373"/>
                  </a:lnTo>
                  <a:lnTo>
                    <a:pt x="1996" y="4295"/>
                  </a:lnTo>
                  <a:lnTo>
                    <a:pt x="1944" y="4217"/>
                  </a:lnTo>
                  <a:lnTo>
                    <a:pt x="1894" y="4141"/>
                  </a:lnTo>
                  <a:lnTo>
                    <a:pt x="1845" y="4062"/>
                  </a:lnTo>
                  <a:lnTo>
                    <a:pt x="1795" y="3983"/>
                  </a:lnTo>
                  <a:lnTo>
                    <a:pt x="1747" y="3903"/>
                  </a:lnTo>
                  <a:lnTo>
                    <a:pt x="1700" y="3823"/>
                  </a:lnTo>
                  <a:lnTo>
                    <a:pt x="1654" y="3742"/>
                  </a:lnTo>
                  <a:lnTo>
                    <a:pt x="1609" y="3661"/>
                  </a:lnTo>
                  <a:lnTo>
                    <a:pt x="1565" y="3580"/>
                  </a:lnTo>
                  <a:lnTo>
                    <a:pt x="1522" y="3496"/>
                  </a:lnTo>
                  <a:lnTo>
                    <a:pt x="1481" y="3413"/>
                  </a:lnTo>
                  <a:lnTo>
                    <a:pt x="1439" y="3330"/>
                  </a:lnTo>
                  <a:lnTo>
                    <a:pt x="1399" y="3245"/>
                  </a:lnTo>
                  <a:lnTo>
                    <a:pt x="1360" y="3161"/>
                  </a:lnTo>
                  <a:lnTo>
                    <a:pt x="1323" y="3075"/>
                  </a:lnTo>
                  <a:lnTo>
                    <a:pt x="1285" y="2989"/>
                  </a:lnTo>
                  <a:lnTo>
                    <a:pt x="1248" y="2902"/>
                  </a:lnTo>
                  <a:lnTo>
                    <a:pt x="1215" y="2815"/>
                  </a:lnTo>
                  <a:lnTo>
                    <a:pt x="1180" y="2728"/>
                  </a:lnTo>
                  <a:lnTo>
                    <a:pt x="1147" y="2640"/>
                  </a:lnTo>
                  <a:lnTo>
                    <a:pt x="1115" y="2551"/>
                  </a:lnTo>
                  <a:lnTo>
                    <a:pt x="1084" y="2462"/>
                  </a:lnTo>
                  <a:lnTo>
                    <a:pt x="1055" y="2373"/>
                  </a:lnTo>
                  <a:lnTo>
                    <a:pt x="1026" y="2283"/>
                  </a:lnTo>
                  <a:lnTo>
                    <a:pt x="998" y="2192"/>
                  </a:lnTo>
                  <a:lnTo>
                    <a:pt x="972" y="2101"/>
                  </a:lnTo>
                  <a:lnTo>
                    <a:pt x="947" y="2010"/>
                  </a:lnTo>
                  <a:lnTo>
                    <a:pt x="922" y="1919"/>
                  </a:lnTo>
                  <a:lnTo>
                    <a:pt x="899" y="1827"/>
                  </a:lnTo>
                  <a:lnTo>
                    <a:pt x="877" y="1735"/>
                  </a:lnTo>
                  <a:lnTo>
                    <a:pt x="856" y="1641"/>
                  </a:lnTo>
                  <a:lnTo>
                    <a:pt x="836" y="1548"/>
                  </a:lnTo>
                  <a:lnTo>
                    <a:pt x="817" y="1453"/>
                  </a:lnTo>
                  <a:lnTo>
                    <a:pt x="799" y="1359"/>
                  </a:lnTo>
                  <a:lnTo>
                    <a:pt x="783" y="1265"/>
                  </a:lnTo>
                  <a:lnTo>
                    <a:pt x="769" y="1170"/>
                  </a:lnTo>
                  <a:lnTo>
                    <a:pt x="754" y="1075"/>
                  </a:lnTo>
                  <a:lnTo>
                    <a:pt x="741" y="978"/>
                  </a:lnTo>
                  <a:lnTo>
                    <a:pt x="729" y="882"/>
                  </a:lnTo>
                  <a:lnTo>
                    <a:pt x="719" y="786"/>
                  </a:lnTo>
                  <a:lnTo>
                    <a:pt x="710" y="689"/>
                  </a:lnTo>
                  <a:lnTo>
                    <a:pt x="702" y="591"/>
                  </a:lnTo>
                  <a:lnTo>
                    <a:pt x="695" y="493"/>
                  </a:lnTo>
                  <a:lnTo>
                    <a:pt x="690" y="397"/>
                  </a:lnTo>
                  <a:lnTo>
                    <a:pt x="684" y="298"/>
                  </a:lnTo>
                  <a:lnTo>
                    <a:pt x="681" y="199"/>
                  </a:lnTo>
                  <a:lnTo>
                    <a:pt x="680" y="99"/>
                  </a:lnTo>
                  <a:lnTo>
                    <a:pt x="680" y="0"/>
                  </a:lnTo>
                  <a:lnTo>
                    <a:pt x="0" y="0"/>
                  </a:lnTo>
                  <a:lnTo>
                    <a:pt x="1" y="108"/>
                  </a:lnTo>
                  <a:lnTo>
                    <a:pt x="4" y="215"/>
                  </a:lnTo>
                  <a:lnTo>
                    <a:pt x="7" y="321"/>
                  </a:lnTo>
                  <a:lnTo>
                    <a:pt x="12" y="428"/>
                  </a:lnTo>
                  <a:lnTo>
                    <a:pt x="18" y="536"/>
                  </a:lnTo>
                  <a:lnTo>
                    <a:pt x="25" y="641"/>
                  </a:lnTo>
                  <a:lnTo>
                    <a:pt x="33" y="747"/>
                  </a:lnTo>
                  <a:lnTo>
                    <a:pt x="44" y="853"/>
                  </a:lnTo>
                  <a:lnTo>
                    <a:pt x="55" y="958"/>
                  </a:lnTo>
                  <a:lnTo>
                    <a:pt x="69" y="1063"/>
                  </a:lnTo>
                  <a:lnTo>
                    <a:pt x="82" y="1167"/>
                  </a:lnTo>
                  <a:lnTo>
                    <a:pt x="96" y="1271"/>
                  </a:lnTo>
                  <a:lnTo>
                    <a:pt x="114" y="1374"/>
                  </a:lnTo>
                  <a:lnTo>
                    <a:pt x="132" y="1479"/>
                  </a:lnTo>
                  <a:lnTo>
                    <a:pt x="151" y="1581"/>
                  </a:lnTo>
                  <a:lnTo>
                    <a:pt x="172" y="1683"/>
                  </a:lnTo>
                  <a:lnTo>
                    <a:pt x="193" y="1784"/>
                  </a:lnTo>
                  <a:lnTo>
                    <a:pt x="216" y="1886"/>
                  </a:lnTo>
                  <a:lnTo>
                    <a:pt x="240" y="1987"/>
                  </a:lnTo>
                  <a:lnTo>
                    <a:pt x="266" y="2086"/>
                  </a:lnTo>
                  <a:lnTo>
                    <a:pt x="291" y="2188"/>
                  </a:lnTo>
                  <a:lnTo>
                    <a:pt x="319" y="2287"/>
                  </a:lnTo>
                  <a:lnTo>
                    <a:pt x="347" y="2387"/>
                  </a:lnTo>
                  <a:lnTo>
                    <a:pt x="378" y="2485"/>
                  </a:lnTo>
                  <a:lnTo>
                    <a:pt x="409" y="2582"/>
                  </a:lnTo>
                  <a:lnTo>
                    <a:pt x="442" y="2680"/>
                  </a:lnTo>
                  <a:lnTo>
                    <a:pt x="475" y="2777"/>
                  </a:lnTo>
                  <a:lnTo>
                    <a:pt x="510" y="2873"/>
                  </a:lnTo>
                  <a:lnTo>
                    <a:pt x="545" y="2970"/>
                  </a:lnTo>
                  <a:lnTo>
                    <a:pt x="583" y="3065"/>
                  </a:lnTo>
                  <a:lnTo>
                    <a:pt x="622" y="3160"/>
                  </a:lnTo>
                  <a:lnTo>
                    <a:pt x="660" y="3252"/>
                  </a:lnTo>
                  <a:lnTo>
                    <a:pt x="701" y="3346"/>
                  </a:lnTo>
                  <a:lnTo>
                    <a:pt x="742" y="3439"/>
                  </a:lnTo>
                  <a:lnTo>
                    <a:pt x="785" y="3533"/>
                  </a:lnTo>
                  <a:lnTo>
                    <a:pt x="829" y="3624"/>
                  </a:lnTo>
                  <a:lnTo>
                    <a:pt x="873" y="3716"/>
                  </a:lnTo>
                  <a:lnTo>
                    <a:pt x="919" y="3807"/>
                  </a:lnTo>
                  <a:lnTo>
                    <a:pt x="966" y="3896"/>
                  </a:lnTo>
                  <a:lnTo>
                    <a:pt x="1014" y="3985"/>
                  </a:lnTo>
                  <a:lnTo>
                    <a:pt x="1062" y="4074"/>
                  </a:lnTo>
                  <a:lnTo>
                    <a:pt x="1113" y="4161"/>
                  </a:lnTo>
                  <a:lnTo>
                    <a:pt x="1164" y="4248"/>
                  </a:lnTo>
                  <a:lnTo>
                    <a:pt x="1216" y="4336"/>
                  </a:lnTo>
                  <a:lnTo>
                    <a:pt x="1268" y="4421"/>
                  </a:lnTo>
                  <a:lnTo>
                    <a:pt x="1323" y="4507"/>
                  </a:lnTo>
                  <a:lnTo>
                    <a:pt x="1378" y="4591"/>
                  </a:lnTo>
                  <a:lnTo>
                    <a:pt x="1434" y="4675"/>
                  </a:lnTo>
                  <a:lnTo>
                    <a:pt x="1490" y="4758"/>
                  </a:lnTo>
                  <a:lnTo>
                    <a:pt x="1549" y="4841"/>
                  </a:lnTo>
                  <a:lnTo>
                    <a:pt x="1608" y="4921"/>
                  </a:lnTo>
                  <a:lnTo>
                    <a:pt x="1668" y="5003"/>
                  </a:lnTo>
                  <a:lnTo>
                    <a:pt x="1728" y="5083"/>
                  </a:lnTo>
                  <a:lnTo>
                    <a:pt x="1789" y="5163"/>
                  </a:lnTo>
                  <a:lnTo>
                    <a:pt x="1852" y="5241"/>
                  </a:lnTo>
                  <a:lnTo>
                    <a:pt x="1916" y="5320"/>
                  </a:lnTo>
                  <a:lnTo>
                    <a:pt x="1981" y="5397"/>
                  </a:lnTo>
                  <a:lnTo>
                    <a:pt x="2046" y="5473"/>
                  </a:lnTo>
                  <a:lnTo>
                    <a:pt x="2113" y="5549"/>
                  </a:lnTo>
                  <a:lnTo>
                    <a:pt x="2180" y="5623"/>
                  </a:lnTo>
                  <a:lnTo>
                    <a:pt x="2248" y="5698"/>
                  </a:lnTo>
                  <a:lnTo>
                    <a:pt x="2317" y="5770"/>
                  </a:lnTo>
                  <a:lnTo>
                    <a:pt x="2386" y="5842"/>
                  </a:lnTo>
                  <a:lnTo>
                    <a:pt x="2457" y="5914"/>
                  </a:lnTo>
                  <a:lnTo>
                    <a:pt x="2529" y="5985"/>
                  </a:lnTo>
                  <a:lnTo>
                    <a:pt x="2601" y="6054"/>
                  </a:lnTo>
                  <a:lnTo>
                    <a:pt x="2673" y="6123"/>
                  </a:lnTo>
                  <a:lnTo>
                    <a:pt x="2748" y="6191"/>
                  </a:lnTo>
                  <a:lnTo>
                    <a:pt x="2822" y="6258"/>
                  </a:lnTo>
                  <a:lnTo>
                    <a:pt x="2898" y="6325"/>
                  </a:lnTo>
                  <a:lnTo>
                    <a:pt x="2974" y="6390"/>
                  </a:lnTo>
                  <a:lnTo>
                    <a:pt x="3051" y="6455"/>
                  </a:lnTo>
                  <a:lnTo>
                    <a:pt x="3130" y="6519"/>
                  </a:lnTo>
                  <a:lnTo>
                    <a:pt x="3208" y="6582"/>
                  </a:lnTo>
                  <a:lnTo>
                    <a:pt x="3288" y="6643"/>
                  </a:lnTo>
                  <a:lnTo>
                    <a:pt x="3368" y="6703"/>
                  </a:lnTo>
                  <a:lnTo>
                    <a:pt x="3450" y="6763"/>
                  </a:lnTo>
                  <a:lnTo>
                    <a:pt x="3530" y="6822"/>
                  </a:lnTo>
                  <a:lnTo>
                    <a:pt x="3613" y="6881"/>
                  </a:lnTo>
                  <a:lnTo>
                    <a:pt x="3696" y="6937"/>
                  </a:lnTo>
                  <a:lnTo>
                    <a:pt x="3780" y="6993"/>
                  </a:lnTo>
                  <a:lnTo>
                    <a:pt x="3864" y="7048"/>
                  </a:lnTo>
                  <a:lnTo>
                    <a:pt x="3950" y="7103"/>
                  </a:lnTo>
                  <a:lnTo>
                    <a:pt x="4035" y="7155"/>
                  </a:lnTo>
                  <a:lnTo>
                    <a:pt x="4123" y="7207"/>
                  </a:lnTo>
                  <a:lnTo>
                    <a:pt x="4210" y="7258"/>
                  </a:lnTo>
                  <a:lnTo>
                    <a:pt x="4297" y="7309"/>
                  </a:lnTo>
                  <a:lnTo>
                    <a:pt x="4386" y="7357"/>
                  </a:lnTo>
                  <a:lnTo>
                    <a:pt x="4475" y="7405"/>
                  </a:lnTo>
                  <a:lnTo>
                    <a:pt x="4564" y="7452"/>
                  </a:lnTo>
                  <a:lnTo>
                    <a:pt x="4655" y="7498"/>
                  </a:lnTo>
                  <a:lnTo>
                    <a:pt x="4747" y="7542"/>
                  </a:lnTo>
                  <a:lnTo>
                    <a:pt x="4838" y="7586"/>
                  </a:lnTo>
                  <a:lnTo>
                    <a:pt x="4932" y="7629"/>
                  </a:lnTo>
                  <a:lnTo>
                    <a:pt x="5025" y="7670"/>
                  </a:lnTo>
                  <a:lnTo>
                    <a:pt x="5119" y="7711"/>
                  </a:lnTo>
                  <a:lnTo>
                    <a:pt x="5211" y="7749"/>
                  </a:lnTo>
                  <a:lnTo>
                    <a:pt x="5306" y="7788"/>
                  </a:lnTo>
                  <a:lnTo>
                    <a:pt x="5401" y="7826"/>
                  </a:lnTo>
                  <a:lnTo>
                    <a:pt x="5498" y="7861"/>
                  </a:lnTo>
                  <a:lnTo>
                    <a:pt x="5594" y="7896"/>
                  </a:lnTo>
                  <a:lnTo>
                    <a:pt x="5691" y="7929"/>
                  </a:lnTo>
                  <a:lnTo>
                    <a:pt x="5789" y="7962"/>
                  </a:lnTo>
                  <a:lnTo>
                    <a:pt x="5886" y="7993"/>
                  </a:lnTo>
                  <a:lnTo>
                    <a:pt x="5984" y="8024"/>
                  </a:lnTo>
                  <a:lnTo>
                    <a:pt x="6084" y="8052"/>
                  </a:lnTo>
                  <a:lnTo>
                    <a:pt x="6183" y="8080"/>
                  </a:lnTo>
                  <a:lnTo>
                    <a:pt x="6285" y="8105"/>
                  </a:lnTo>
                  <a:lnTo>
                    <a:pt x="6384" y="8131"/>
                  </a:lnTo>
                  <a:lnTo>
                    <a:pt x="6485" y="8155"/>
                  </a:lnTo>
                  <a:lnTo>
                    <a:pt x="6587" y="8178"/>
                  </a:lnTo>
                  <a:lnTo>
                    <a:pt x="6688" y="8199"/>
                  </a:lnTo>
                  <a:lnTo>
                    <a:pt x="6790" y="8220"/>
                  </a:lnTo>
                  <a:lnTo>
                    <a:pt x="6892" y="8239"/>
                  </a:lnTo>
                  <a:lnTo>
                    <a:pt x="6997" y="8257"/>
                  </a:lnTo>
                  <a:lnTo>
                    <a:pt x="7100" y="8275"/>
                  </a:lnTo>
                  <a:lnTo>
                    <a:pt x="7204" y="8289"/>
                  </a:lnTo>
                  <a:lnTo>
                    <a:pt x="7308" y="8302"/>
                  </a:lnTo>
                  <a:lnTo>
                    <a:pt x="7413" y="8316"/>
                  </a:lnTo>
                  <a:lnTo>
                    <a:pt x="7518" y="8327"/>
                  </a:lnTo>
                  <a:lnTo>
                    <a:pt x="7624" y="8338"/>
                  </a:lnTo>
                  <a:lnTo>
                    <a:pt x="7730" y="8346"/>
                  </a:lnTo>
                  <a:lnTo>
                    <a:pt x="7835" y="8353"/>
                  </a:lnTo>
                  <a:lnTo>
                    <a:pt x="7943" y="8359"/>
                  </a:lnTo>
                  <a:lnTo>
                    <a:pt x="8050" y="8364"/>
                  </a:lnTo>
                  <a:lnTo>
                    <a:pt x="8156" y="8367"/>
                  </a:lnTo>
                  <a:lnTo>
                    <a:pt x="8263" y="8370"/>
                  </a:lnTo>
                  <a:lnTo>
                    <a:pt x="8371" y="8371"/>
                  </a:lnTo>
                  <a:lnTo>
                    <a:pt x="8371" y="8371"/>
                  </a:lnTo>
                  <a:lnTo>
                    <a:pt x="8371" y="769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45960" y="4291560"/>
              <a:ext cx="543600" cy="510120"/>
            </a:xfrm>
            <a:custGeom>
              <a:avLst/>
              <a:gdLst/>
              <a:ahLst/>
              <a:rect l="l" t="t" r="r" b="b"/>
              <a:pathLst>
                <a:path w="8371" h="8371">
                  <a:moveTo>
                    <a:pt x="7691" y="0"/>
                  </a:moveTo>
                  <a:lnTo>
                    <a:pt x="7691" y="0"/>
                  </a:lnTo>
                  <a:lnTo>
                    <a:pt x="7690" y="99"/>
                  </a:lnTo>
                  <a:lnTo>
                    <a:pt x="7690" y="199"/>
                  </a:lnTo>
                  <a:lnTo>
                    <a:pt x="7687" y="298"/>
                  </a:lnTo>
                  <a:lnTo>
                    <a:pt x="7681" y="397"/>
                  </a:lnTo>
                  <a:lnTo>
                    <a:pt x="7676" y="493"/>
                  </a:lnTo>
                  <a:lnTo>
                    <a:pt x="7669" y="591"/>
                  </a:lnTo>
                  <a:lnTo>
                    <a:pt x="7661" y="689"/>
                  </a:lnTo>
                  <a:lnTo>
                    <a:pt x="7652" y="785"/>
                  </a:lnTo>
                  <a:lnTo>
                    <a:pt x="7641" y="882"/>
                  </a:lnTo>
                  <a:lnTo>
                    <a:pt x="7630" y="978"/>
                  </a:lnTo>
                  <a:lnTo>
                    <a:pt x="7617" y="1075"/>
                  </a:lnTo>
                  <a:lnTo>
                    <a:pt x="7602" y="1170"/>
                  </a:lnTo>
                  <a:lnTo>
                    <a:pt x="7587" y="1264"/>
                  </a:lnTo>
                  <a:lnTo>
                    <a:pt x="7571" y="1359"/>
                  </a:lnTo>
                  <a:lnTo>
                    <a:pt x="7554" y="1453"/>
                  </a:lnTo>
                  <a:lnTo>
                    <a:pt x="7535" y="1548"/>
                  </a:lnTo>
                  <a:lnTo>
                    <a:pt x="7514" y="1641"/>
                  </a:lnTo>
                  <a:lnTo>
                    <a:pt x="7494" y="1735"/>
                  </a:lnTo>
                  <a:lnTo>
                    <a:pt x="7472" y="1827"/>
                  </a:lnTo>
                  <a:lnTo>
                    <a:pt x="7449" y="1919"/>
                  </a:lnTo>
                  <a:lnTo>
                    <a:pt x="7424" y="2010"/>
                  </a:lnTo>
                  <a:lnTo>
                    <a:pt x="7399" y="2101"/>
                  </a:lnTo>
                  <a:lnTo>
                    <a:pt x="7372" y="2192"/>
                  </a:lnTo>
                  <a:lnTo>
                    <a:pt x="7345" y="2283"/>
                  </a:lnTo>
                  <a:lnTo>
                    <a:pt x="7316" y="2373"/>
                  </a:lnTo>
                  <a:lnTo>
                    <a:pt x="7286" y="2462"/>
                  </a:lnTo>
                  <a:lnTo>
                    <a:pt x="7256" y="2551"/>
                  </a:lnTo>
                  <a:lnTo>
                    <a:pt x="7223" y="2640"/>
                  </a:lnTo>
                  <a:lnTo>
                    <a:pt x="7191" y="2728"/>
                  </a:lnTo>
                  <a:lnTo>
                    <a:pt x="7156" y="2815"/>
                  </a:lnTo>
                  <a:lnTo>
                    <a:pt x="7123" y="2902"/>
                  </a:lnTo>
                  <a:lnTo>
                    <a:pt x="7086" y="2989"/>
                  </a:lnTo>
                  <a:lnTo>
                    <a:pt x="7048" y="3075"/>
                  </a:lnTo>
                  <a:lnTo>
                    <a:pt x="7010" y="3161"/>
                  </a:lnTo>
                  <a:lnTo>
                    <a:pt x="6972" y="3245"/>
                  </a:lnTo>
                  <a:lnTo>
                    <a:pt x="6931" y="3330"/>
                  </a:lnTo>
                  <a:lnTo>
                    <a:pt x="6889" y="3413"/>
                  </a:lnTo>
                  <a:lnTo>
                    <a:pt x="6849" y="3497"/>
                  </a:lnTo>
                  <a:lnTo>
                    <a:pt x="6805" y="3580"/>
                  </a:lnTo>
                  <a:lnTo>
                    <a:pt x="6762" y="3661"/>
                  </a:lnTo>
                  <a:lnTo>
                    <a:pt x="6716" y="3742"/>
                  </a:lnTo>
                  <a:lnTo>
                    <a:pt x="6671" y="3823"/>
                  </a:lnTo>
                  <a:lnTo>
                    <a:pt x="6624" y="3903"/>
                  </a:lnTo>
                  <a:lnTo>
                    <a:pt x="6575" y="3983"/>
                  </a:lnTo>
                  <a:lnTo>
                    <a:pt x="6526" y="4062"/>
                  </a:lnTo>
                  <a:lnTo>
                    <a:pt x="6477" y="4141"/>
                  </a:lnTo>
                  <a:lnTo>
                    <a:pt x="6427" y="4219"/>
                  </a:lnTo>
                  <a:lnTo>
                    <a:pt x="6375" y="4295"/>
                  </a:lnTo>
                  <a:lnTo>
                    <a:pt x="6322" y="4373"/>
                  </a:lnTo>
                  <a:lnTo>
                    <a:pt x="6270" y="4447"/>
                  </a:lnTo>
                  <a:lnTo>
                    <a:pt x="6215" y="4523"/>
                  </a:lnTo>
                  <a:lnTo>
                    <a:pt x="6161" y="4597"/>
                  </a:lnTo>
                  <a:lnTo>
                    <a:pt x="6104" y="4671"/>
                  </a:lnTo>
                  <a:lnTo>
                    <a:pt x="6047" y="4743"/>
                  </a:lnTo>
                  <a:lnTo>
                    <a:pt x="5989" y="4816"/>
                  </a:lnTo>
                  <a:lnTo>
                    <a:pt x="5932" y="4887"/>
                  </a:lnTo>
                  <a:lnTo>
                    <a:pt x="5872" y="4959"/>
                  </a:lnTo>
                  <a:lnTo>
                    <a:pt x="5813" y="5029"/>
                  </a:lnTo>
                  <a:lnTo>
                    <a:pt x="5751" y="5098"/>
                  </a:lnTo>
                  <a:lnTo>
                    <a:pt x="5689" y="5167"/>
                  </a:lnTo>
                  <a:lnTo>
                    <a:pt x="5626" y="5235"/>
                  </a:lnTo>
                  <a:lnTo>
                    <a:pt x="5564" y="5303"/>
                  </a:lnTo>
                  <a:lnTo>
                    <a:pt x="5499" y="5369"/>
                  </a:lnTo>
                  <a:lnTo>
                    <a:pt x="5434" y="5434"/>
                  </a:lnTo>
                  <a:lnTo>
                    <a:pt x="5369" y="5499"/>
                  </a:lnTo>
                  <a:lnTo>
                    <a:pt x="5302" y="5564"/>
                  </a:lnTo>
                  <a:lnTo>
                    <a:pt x="5235" y="5627"/>
                  </a:lnTo>
                  <a:lnTo>
                    <a:pt x="5167" y="5689"/>
                  </a:lnTo>
                  <a:lnTo>
                    <a:pt x="5099" y="5752"/>
                  </a:lnTo>
                  <a:lnTo>
                    <a:pt x="5029" y="5813"/>
                  </a:lnTo>
                  <a:lnTo>
                    <a:pt x="4958" y="5872"/>
                  </a:lnTo>
                  <a:lnTo>
                    <a:pt x="4887" y="5932"/>
                  </a:lnTo>
                  <a:lnTo>
                    <a:pt x="4816" y="5990"/>
                  </a:lnTo>
                  <a:lnTo>
                    <a:pt x="4743" y="6048"/>
                  </a:lnTo>
                  <a:lnTo>
                    <a:pt x="4671" y="6105"/>
                  </a:lnTo>
                  <a:lnTo>
                    <a:pt x="4597" y="6161"/>
                  </a:lnTo>
                  <a:lnTo>
                    <a:pt x="4522" y="6217"/>
                  </a:lnTo>
                  <a:lnTo>
                    <a:pt x="4447" y="6270"/>
                  </a:lnTo>
                  <a:lnTo>
                    <a:pt x="4372" y="6323"/>
                  </a:lnTo>
                  <a:lnTo>
                    <a:pt x="4295" y="6375"/>
                  </a:lnTo>
                  <a:lnTo>
                    <a:pt x="4218" y="6427"/>
                  </a:lnTo>
                  <a:lnTo>
                    <a:pt x="4139" y="6477"/>
                  </a:lnTo>
                  <a:lnTo>
                    <a:pt x="4062" y="6526"/>
                  </a:lnTo>
                  <a:lnTo>
                    <a:pt x="3983" y="6576"/>
                  </a:lnTo>
                  <a:lnTo>
                    <a:pt x="3903" y="6624"/>
                  </a:lnTo>
                  <a:lnTo>
                    <a:pt x="3823" y="6671"/>
                  </a:lnTo>
                  <a:lnTo>
                    <a:pt x="3742" y="6717"/>
                  </a:lnTo>
                  <a:lnTo>
                    <a:pt x="3660" y="6762"/>
                  </a:lnTo>
                  <a:lnTo>
                    <a:pt x="3579" y="6806"/>
                  </a:lnTo>
                  <a:lnTo>
                    <a:pt x="3497" y="6849"/>
                  </a:lnTo>
                  <a:lnTo>
                    <a:pt x="3412" y="6890"/>
                  </a:lnTo>
                  <a:lnTo>
                    <a:pt x="3329" y="6932"/>
                  </a:lnTo>
                  <a:lnTo>
                    <a:pt x="3245" y="6972"/>
                  </a:lnTo>
                  <a:lnTo>
                    <a:pt x="3160" y="7011"/>
                  </a:lnTo>
                  <a:lnTo>
                    <a:pt x="3075" y="7048"/>
                  </a:lnTo>
                  <a:lnTo>
                    <a:pt x="2989" y="7086"/>
                  </a:lnTo>
                  <a:lnTo>
                    <a:pt x="2902" y="7123"/>
                  </a:lnTo>
                  <a:lnTo>
                    <a:pt x="2815" y="7156"/>
                  </a:lnTo>
                  <a:lnTo>
                    <a:pt x="2727" y="7191"/>
                  </a:lnTo>
                  <a:lnTo>
                    <a:pt x="2639" y="7224"/>
                  </a:lnTo>
                  <a:lnTo>
                    <a:pt x="2551" y="7256"/>
                  </a:lnTo>
                  <a:lnTo>
                    <a:pt x="2462" y="7287"/>
                  </a:lnTo>
                  <a:lnTo>
                    <a:pt x="2372" y="7316"/>
                  </a:lnTo>
                  <a:lnTo>
                    <a:pt x="2282" y="7345"/>
                  </a:lnTo>
                  <a:lnTo>
                    <a:pt x="2192" y="7373"/>
                  </a:lnTo>
                  <a:lnTo>
                    <a:pt x="2101" y="7399"/>
                  </a:lnTo>
                  <a:lnTo>
                    <a:pt x="2010" y="7424"/>
                  </a:lnTo>
                  <a:lnTo>
                    <a:pt x="1919" y="7449"/>
                  </a:lnTo>
                  <a:lnTo>
                    <a:pt x="1827" y="7472"/>
                  </a:lnTo>
                  <a:lnTo>
                    <a:pt x="1734" y="7494"/>
                  </a:lnTo>
                  <a:lnTo>
                    <a:pt x="1641" y="7515"/>
                  </a:lnTo>
                  <a:lnTo>
                    <a:pt x="1548" y="7535"/>
                  </a:lnTo>
                  <a:lnTo>
                    <a:pt x="1453" y="7554"/>
                  </a:lnTo>
                  <a:lnTo>
                    <a:pt x="1358" y="7572"/>
                  </a:lnTo>
                  <a:lnTo>
                    <a:pt x="1265" y="7588"/>
                  </a:lnTo>
                  <a:lnTo>
                    <a:pt x="1170" y="7602"/>
                  </a:lnTo>
                  <a:lnTo>
                    <a:pt x="1074" y="7617"/>
                  </a:lnTo>
                  <a:lnTo>
                    <a:pt x="977" y="7630"/>
                  </a:lnTo>
                  <a:lnTo>
                    <a:pt x="881" y="7642"/>
                  </a:lnTo>
                  <a:lnTo>
                    <a:pt x="786" y="7652"/>
                  </a:lnTo>
                  <a:lnTo>
                    <a:pt x="689" y="7661"/>
                  </a:lnTo>
                  <a:lnTo>
                    <a:pt x="591" y="7669"/>
                  </a:lnTo>
                  <a:lnTo>
                    <a:pt x="493" y="7676"/>
                  </a:lnTo>
                  <a:lnTo>
                    <a:pt x="397" y="7681"/>
                  </a:lnTo>
                  <a:lnTo>
                    <a:pt x="297" y="7687"/>
                  </a:lnTo>
                  <a:lnTo>
                    <a:pt x="199" y="7690"/>
                  </a:lnTo>
                  <a:lnTo>
                    <a:pt x="99" y="7691"/>
                  </a:lnTo>
                  <a:lnTo>
                    <a:pt x="0" y="7691"/>
                  </a:lnTo>
                  <a:lnTo>
                    <a:pt x="0" y="8371"/>
                  </a:lnTo>
                  <a:lnTo>
                    <a:pt x="108" y="8370"/>
                  </a:lnTo>
                  <a:lnTo>
                    <a:pt x="215" y="8367"/>
                  </a:lnTo>
                  <a:lnTo>
                    <a:pt x="321" y="8364"/>
                  </a:lnTo>
                  <a:lnTo>
                    <a:pt x="428" y="8359"/>
                  </a:lnTo>
                  <a:lnTo>
                    <a:pt x="536" y="8353"/>
                  </a:lnTo>
                  <a:lnTo>
                    <a:pt x="641" y="8346"/>
                  </a:lnTo>
                  <a:lnTo>
                    <a:pt x="747" y="8338"/>
                  </a:lnTo>
                  <a:lnTo>
                    <a:pt x="852" y="8327"/>
                  </a:lnTo>
                  <a:lnTo>
                    <a:pt x="958" y="8316"/>
                  </a:lnTo>
                  <a:lnTo>
                    <a:pt x="1063" y="8302"/>
                  </a:lnTo>
                  <a:lnTo>
                    <a:pt x="1167" y="8289"/>
                  </a:lnTo>
                  <a:lnTo>
                    <a:pt x="1270" y="8275"/>
                  </a:lnTo>
                  <a:lnTo>
                    <a:pt x="1374" y="8257"/>
                  </a:lnTo>
                  <a:lnTo>
                    <a:pt x="1479" y="8239"/>
                  </a:lnTo>
                  <a:lnTo>
                    <a:pt x="1580" y="8220"/>
                  </a:lnTo>
                  <a:lnTo>
                    <a:pt x="1683" y="8199"/>
                  </a:lnTo>
                  <a:lnTo>
                    <a:pt x="1784" y="8178"/>
                  </a:lnTo>
                  <a:lnTo>
                    <a:pt x="1886" y="8155"/>
                  </a:lnTo>
                  <a:lnTo>
                    <a:pt x="1986" y="8131"/>
                  </a:lnTo>
                  <a:lnTo>
                    <a:pt x="2086" y="8105"/>
                  </a:lnTo>
                  <a:lnTo>
                    <a:pt x="2188" y="8080"/>
                  </a:lnTo>
                  <a:lnTo>
                    <a:pt x="2287" y="8052"/>
                  </a:lnTo>
                  <a:lnTo>
                    <a:pt x="2386" y="8024"/>
                  </a:lnTo>
                  <a:lnTo>
                    <a:pt x="2484" y="7993"/>
                  </a:lnTo>
                  <a:lnTo>
                    <a:pt x="2582" y="7962"/>
                  </a:lnTo>
                  <a:lnTo>
                    <a:pt x="2680" y="7929"/>
                  </a:lnTo>
                  <a:lnTo>
                    <a:pt x="2777" y="7896"/>
                  </a:lnTo>
                  <a:lnTo>
                    <a:pt x="2873" y="7861"/>
                  </a:lnTo>
                  <a:lnTo>
                    <a:pt x="2969" y="7826"/>
                  </a:lnTo>
                  <a:lnTo>
                    <a:pt x="3065" y="7788"/>
                  </a:lnTo>
                  <a:lnTo>
                    <a:pt x="3159" y="7749"/>
                  </a:lnTo>
                  <a:lnTo>
                    <a:pt x="3252" y="7711"/>
                  </a:lnTo>
                  <a:lnTo>
                    <a:pt x="3346" y="7670"/>
                  </a:lnTo>
                  <a:lnTo>
                    <a:pt x="3439" y="7629"/>
                  </a:lnTo>
                  <a:lnTo>
                    <a:pt x="3532" y="7586"/>
                  </a:lnTo>
                  <a:lnTo>
                    <a:pt x="3624" y="7542"/>
                  </a:lnTo>
                  <a:lnTo>
                    <a:pt x="3715" y="7498"/>
                  </a:lnTo>
                  <a:lnTo>
                    <a:pt x="3805" y="7452"/>
                  </a:lnTo>
                  <a:lnTo>
                    <a:pt x="3895" y="7405"/>
                  </a:lnTo>
                  <a:lnTo>
                    <a:pt x="3985" y="7357"/>
                  </a:lnTo>
                  <a:lnTo>
                    <a:pt x="4074" y="7309"/>
                  </a:lnTo>
                  <a:lnTo>
                    <a:pt x="4160" y="7258"/>
                  </a:lnTo>
                  <a:lnTo>
                    <a:pt x="4248" y="7207"/>
                  </a:lnTo>
                  <a:lnTo>
                    <a:pt x="4335" y="7155"/>
                  </a:lnTo>
                  <a:lnTo>
                    <a:pt x="4421" y="7103"/>
                  </a:lnTo>
                  <a:lnTo>
                    <a:pt x="4507" y="7048"/>
                  </a:lnTo>
                  <a:lnTo>
                    <a:pt x="4590" y="6993"/>
                  </a:lnTo>
                  <a:lnTo>
                    <a:pt x="4675" y="6937"/>
                  </a:lnTo>
                  <a:lnTo>
                    <a:pt x="4757" y="6881"/>
                  </a:lnTo>
                  <a:lnTo>
                    <a:pt x="4841" y="6822"/>
                  </a:lnTo>
                  <a:lnTo>
                    <a:pt x="4921" y="6763"/>
                  </a:lnTo>
                  <a:lnTo>
                    <a:pt x="5003" y="6703"/>
                  </a:lnTo>
                  <a:lnTo>
                    <a:pt x="5082" y="6643"/>
                  </a:lnTo>
                  <a:lnTo>
                    <a:pt x="5163" y="6582"/>
                  </a:lnTo>
                  <a:lnTo>
                    <a:pt x="5241" y="6519"/>
                  </a:lnTo>
                  <a:lnTo>
                    <a:pt x="5320" y="6455"/>
                  </a:lnTo>
                  <a:lnTo>
                    <a:pt x="5396" y="6390"/>
                  </a:lnTo>
                  <a:lnTo>
                    <a:pt x="5473" y="6325"/>
                  </a:lnTo>
                  <a:lnTo>
                    <a:pt x="5548" y="6258"/>
                  </a:lnTo>
                  <a:lnTo>
                    <a:pt x="5623" y="6191"/>
                  </a:lnTo>
                  <a:lnTo>
                    <a:pt x="5696" y="6123"/>
                  </a:lnTo>
                  <a:lnTo>
                    <a:pt x="5770" y="6054"/>
                  </a:lnTo>
                  <a:lnTo>
                    <a:pt x="5842" y="5985"/>
                  </a:lnTo>
                  <a:lnTo>
                    <a:pt x="5914" y="5914"/>
                  </a:lnTo>
                  <a:lnTo>
                    <a:pt x="5985" y="5842"/>
                  </a:lnTo>
                  <a:lnTo>
                    <a:pt x="6054" y="5770"/>
                  </a:lnTo>
                  <a:lnTo>
                    <a:pt x="6123" y="5698"/>
                  </a:lnTo>
                  <a:lnTo>
                    <a:pt x="6191" y="5623"/>
                  </a:lnTo>
                  <a:lnTo>
                    <a:pt x="6258" y="5549"/>
                  </a:lnTo>
                  <a:lnTo>
                    <a:pt x="6324" y="5473"/>
                  </a:lnTo>
                  <a:lnTo>
                    <a:pt x="6390" y="5397"/>
                  </a:lnTo>
                  <a:lnTo>
                    <a:pt x="6455" y="5320"/>
                  </a:lnTo>
                  <a:lnTo>
                    <a:pt x="6518" y="5241"/>
                  </a:lnTo>
                  <a:lnTo>
                    <a:pt x="6581" y="5163"/>
                  </a:lnTo>
                  <a:lnTo>
                    <a:pt x="6643" y="5083"/>
                  </a:lnTo>
                  <a:lnTo>
                    <a:pt x="6703" y="5003"/>
                  </a:lnTo>
                  <a:lnTo>
                    <a:pt x="6763" y="4921"/>
                  </a:lnTo>
                  <a:lnTo>
                    <a:pt x="6822" y="4841"/>
                  </a:lnTo>
                  <a:lnTo>
                    <a:pt x="6880" y="4758"/>
                  </a:lnTo>
                  <a:lnTo>
                    <a:pt x="6937" y="4675"/>
                  </a:lnTo>
                  <a:lnTo>
                    <a:pt x="6993" y="4590"/>
                  </a:lnTo>
                  <a:lnTo>
                    <a:pt x="7048" y="4507"/>
                  </a:lnTo>
                  <a:lnTo>
                    <a:pt x="7103" y="4421"/>
                  </a:lnTo>
                  <a:lnTo>
                    <a:pt x="7155" y="4336"/>
                  </a:lnTo>
                  <a:lnTo>
                    <a:pt x="7207" y="4248"/>
                  </a:lnTo>
                  <a:lnTo>
                    <a:pt x="7258" y="4161"/>
                  </a:lnTo>
                  <a:lnTo>
                    <a:pt x="7308" y="4074"/>
                  </a:lnTo>
                  <a:lnTo>
                    <a:pt x="7357" y="3985"/>
                  </a:lnTo>
                  <a:lnTo>
                    <a:pt x="7405" y="3896"/>
                  </a:lnTo>
                  <a:lnTo>
                    <a:pt x="7451" y="3805"/>
                  </a:lnTo>
                  <a:lnTo>
                    <a:pt x="7498" y="3716"/>
                  </a:lnTo>
                  <a:lnTo>
                    <a:pt x="7542" y="3624"/>
                  </a:lnTo>
                  <a:lnTo>
                    <a:pt x="7585" y="3533"/>
                  </a:lnTo>
                  <a:lnTo>
                    <a:pt x="7629" y="3439"/>
                  </a:lnTo>
                  <a:lnTo>
                    <a:pt x="7670" y="3346"/>
                  </a:lnTo>
                  <a:lnTo>
                    <a:pt x="7710" y="3252"/>
                  </a:lnTo>
                  <a:lnTo>
                    <a:pt x="7749" y="3160"/>
                  </a:lnTo>
                  <a:lnTo>
                    <a:pt x="7788" y="3065"/>
                  </a:lnTo>
                  <a:lnTo>
                    <a:pt x="7825" y="2970"/>
                  </a:lnTo>
                  <a:lnTo>
                    <a:pt x="7861" y="2873"/>
                  </a:lnTo>
                  <a:lnTo>
                    <a:pt x="7896" y="2777"/>
                  </a:lnTo>
                  <a:lnTo>
                    <a:pt x="7929" y="2680"/>
                  </a:lnTo>
                  <a:lnTo>
                    <a:pt x="7962" y="2582"/>
                  </a:lnTo>
                  <a:lnTo>
                    <a:pt x="7993" y="2485"/>
                  </a:lnTo>
                  <a:lnTo>
                    <a:pt x="8023" y="2387"/>
                  </a:lnTo>
                  <a:lnTo>
                    <a:pt x="8052" y="2287"/>
                  </a:lnTo>
                  <a:lnTo>
                    <a:pt x="8080" y="2188"/>
                  </a:lnTo>
                  <a:lnTo>
                    <a:pt x="8105" y="2086"/>
                  </a:lnTo>
                  <a:lnTo>
                    <a:pt x="8130" y="1987"/>
                  </a:lnTo>
                  <a:lnTo>
                    <a:pt x="8155" y="1886"/>
                  </a:lnTo>
                  <a:lnTo>
                    <a:pt x="8178" y="1784"/>
                  </a:lnTo>
                  <a:lnTo>
                    <a:pt x="8199" y="1683"/>
                  </a:lnTo>
                  <a:lnTo>
                    <a:pt x="8220" y="1581"/>
                  </a:lnTo>
                  <a:lnTo>
                    <a:pt x="8240" y="1479"/>
                  </a:lnTo>
                  <a:lnTo>
                    <a:pt x="8257" y="1376"/>
                  </a:lnTo>
                  <a:lnTo>
                    <a:pt x="8274" y="1271"/>
                  </a:lnTo>
                  <a:lnTo>
                    <a:pt x="8288" y="1167"/>
                  </a:lnTo>
                  <a:lnTo>
                    <a:pt x="8302" y="1063"/>
                  </a:lnTo>
                  <a:lnTo>
                    <a:pt x="8316" y="958"/>
                  </a:lnTo>
                  <a:lnTo>
                    <a:pt x="8327" y="854"/>
                  </a:lnTo>
                  <a:lnTo>
                    <a:pt x="8338" y="747"/>
                  </a:lnTo>
                  <a:lnTo>
                    <a:pt x="8346" y="641"/>
                  </a:lnTo>
                  <a:lnTo>
                    <a:pt x="8353" y="536"/>
                  </a:lnTo>
                  <a:lnTo>
                    <a:pt x="8359" y="428"/>
                  </a:lnTo>
                  <a:lnTo>
                    <a:pt x="8364" y="321"/>
                  </a:lnTo>
                  <a:lnTo>
                    <a:pt x="8367" y="215"/>
                  </a:lnTo>
                  <a:lnTo>
                    <a:pt x="8370" y="108"/>
                  </a:lnTo>
                  <a:lnTo>
                    <a:pt x="8371" y="0"/>
                  </a:lnTo>
                  <a:lnTo>
                    <a:pt x="8371" y="0"/>
                  </a:lnTo>
                  <a:lnTo>
                    <a:pt x="769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61360" y="3924720"/>
              <a:ext cx="101520" cy="292680"/>
            </a:xfrm>
            <a:custGeom>
              <a:avLst/>
              <a:gdLst/>
              <a:ahLst/>
              <a:rect l="l" t="t" r="r" b="b"/>
              <a:pathLst>
                <a:path w="1576" h="4781">
                  <a:moveTo>
                    <a:pt x="151" y="1340"/>
                  </a:moveTo>
                  <a:lnTo>
                    <a:pt x="0" y="1194"/>
                  </a:lnTo>
                  <a:lnTo>
                    <a:pt x="44" y="1131"/>
                  </a:lnTo>
                  <a:lnTo>
                    <a:pt x="87" y="1071"/>
                  </a:lnTo>
                  <a:lnTo>
                    <a:pt x="128" y="1014"/>
                  </a:lnTo>
                  <a:lnTo>
                    <a:pt x="167" y="960"/>
                  </a:lnTo>
                  <a:lnTo>
                    <a:pt x="206" y="907"/>
                  </a:lnTo>
                  <a:lnTo>
                    <a:pt x="240" y="852"/>
                  </a:lnTo>
                  <a:lnTo>
                    <a:pt x="258" y="826"/>
                  </a:lnTo>
                  <a:lnTo>
                    <a:pt x="274" y="798"/>
                  </a:lnTo>
                  <a:lnTo>
                    <a:pt x="290" y="771"/>
                  </a:lnTo>
                  <a:lnTo>
                    <a:pt x="304" y="742"/>
                  </a:lnTo>
                  <a:lnTo>
                    <a:pt x="319" y="713"/>
                  </a:lnTo>
                  <a:lnTo>
                    <a:pt x="331" y="684"/>
                  </a:lnTo>
                  <a:lnTo>
                    <a:pt x="344" y="653"/>
                  </a:lnTo>
                  <a:lnTo>
                    <a:pt x="356" y="621"/>
                  </a:lnTo>
                  <a:lnTo>
                    <a:pt x="367" y="589"/>
                  </a:lnTo>
                  <a:lnTo>
                    <a:pt x="376" y="555"/>
                  </a:lnTo>
                  <a:lnTo>
                    <a:pt x="386" y="520"/>
                  </a:lnTo>
                  <a:lnTo>
                    <a:pt x="393" y="483"/>
                  </a:lnTo>
                  <a:lnTo>
                    <a:pt x="401" y="445"/>
                  </a:lnTo>
                  <a:lnTo>
                    <a:pt x="407" y="405"/>
                  </a:lnTo>
                  <a:lnTo>
                    <a:pt x="411" y="364"/>
                  </a:lnTo>
                  <a:lnTo>
                    <a:pt x="415" y="320"/>
                  </a:lnTo>
                  <a:lnTo>
                    <a:pt x="417" y="275"/>
                  </a:lnTo>
                  <a:lnTo>
                    <a:pt x="419" y="227"/>
                  </a:lnTo>
                  <a:lnTo>
                    <a:pt x="419" y="176"/>
                  </a:lnTo>
                  <a:lnTo>
                    <a:pt x="418" y="124"/>
                  </a:lnTo>
                  <a:lnTo>
                    <a:pt x="419" y="106"/>
                  </a:lnTo>
                  <a:lnTo>
                    <a:pt x="421" y="87"/>
                  </a:lnTo>
                  <a:lnTo>
                    <a:pt x="423" y="79"/>
                  </a:lnTo>
                  <a:lnTo>
                    <a:pt x="425" y="71"/>
                  </a:lnTo>
                  <a:lnTo>
                    <a:pt x="428" y="62"/>
                  </a:lnTo>
                  <a:lnTo>
                    <a:pt x="431" y="54"/>
                  </a:lnTo>
                  <a:lnTo>
                    <a:pt x="434" y="47"/>
                  </a:lnTo>
                  <a:lnTo>
                    <a:pt x="439" y="39"/>
                  </a:lnTo>
                  <a:lnTo>
                    <a:pt x="443" y="33"/>
                  </a:lnTo>
                  <a:lnTo>
                    <a:pt x="449" y="27"/>
                  </a:lnTo>
                  <a:lnTo>
                    <a:pt x="455" y="20"/>
                  </a:lnTo>
                  <a:lnTo>
                    <a:pt x="461" y="15"/>
                  </a:lnTo>
                  <a:lnTo>
                    <a:pt x="469" y="11"/>
                  </a:lnTo>
                  <a:lnTo>
                    <a:pt x="476" y="7"/>
                  </a:lnTo>
                  <a:lnTo>
                    <a:pt x="484" y="4"/>
                  </a:lnTo>
                  <a:lnTo>
                    <a:pt x="493" y="2"/>
                  </a:lnTo>
                  <a:lnTo>
                    <a:pt x="502" y="0"/>
                  </a:lnTo>
                  <a:lnTo>
                    <a:pt x="512" y="0"/>
                  </a:lnTo>
                  <a:lnTo>
                    <a:pt x="523" y="0"/>
                  </a:lnTo>
                  <a:lnTo>
                    <a:pt x="534" y="1"/>
                  </a:lnTo>
                  <a:lnTo>
                    <a:pt x="546" y="3"/>
                  </a:lnTo>
                  <a:lnTo>
                    <a:pt x="559" y="6"/>
                  </a:lnTo>
                  <a:lnTo>
                    <a:pt x="572" y="10"/>
                  </a:lnTo>
                  <a:lnTo>
                    <a:pt x="587" y="15"/>
                  </a:lnTo>
                  <a:lnTo>
                    <a:pt x="601" y="23"/>
                  </a:lnTo>
                  <a:lnTo>
                    <a:pt x="617" y="30"/>
                  </a:lnTo>
                  <a:lnTo>
                    <a:pt x="633" y="39"/>
                  </a:lnTo>
                  <a:lnTo>
                    <a:pt x="650" y="49"/>
                  </a:lnTo>
                  <a:lnTo>
                    <a:pt x="667" y="61"/>
                  </a:lnTo>
                  <a:lnTo>
                    <a:pt x="686" y="74"/>
                  </a:lnTo>
                  <a:lnTo>
                    <a:pt x="823" y="230"/>
                  </a:lnTo>
                  <a:lnTo>
                    <a:pt x="947" y="380"/>
                  </a:lnTo>
                  <a:lnTo>
                    <a:pt x="1058" y="527"/>
                  </a:lnTo>
                  <a:lnTo>
                    <a:pt x="1156" y="670"/>
                  </a:lnTo>
                  <a:lnTo>
                    <a:pt x="1242" y="810"/>
                  </a:lnTo>
                  <a:lnTo>
                    <a:pt x="1316" y="946"/>
                  </a:lnTo>
                  <a:lnTo>
                    <a:pt x="1381" y="1080"/>
                  </a:lnTo>
                  <a:lnTo>
                    <a:pt x="1434" y="1211"/>
                  </a:lnTo>
                  <a:lnTo>
                    <a:pt x="1479" y="1340"/>
                  </a:lnTo>
                  <a:lnTo>
                    <a:pt x="1514" y="1467"/>
                  </a:lnTo>
                  <a:lnTo>
                    <a:pt x="1541" y="1591"/>
                  </a:lnTo>
                  <a:lnTo>
                    <a:pt x="1560" y="1716"/>
                  </a:lnTo>
                  <a:lnTo>
                    <a:pt x="1571" y="1838"/>
                  </a:lnTo>
                  <a:lnTo>
                    <a:pt x="1576" y="1959"/>
                  </a:lnTo>
                  <a:lnTo>
                    <a:pt x="1575" y="2081"/>
                  </a:lnTo>
                  <a:lnTo>
                    <a:pt x="1567" y="2202"/>
                  </a:lnTo>
                  <a:lnTo>
                    <a:pt x="1555" y="2324"/>
                  </a:lnTo>
                  <a:lnTo>
                    <a:pt x="1538" y="2445"/>
                  </a:lnTo>
                  <a:lnTo>
                    <a:pt x="1517" y="2567"/>
                  </a:lnTo>
                  <a:lnTo>
                    <a:pt x="1493" y="2692"/>
                  </a:lnTo>
                  <a:lnTo>
                    <a:pt x="1466" y="2816"/>
                  </a:lnTo>
                  <a:lnTo>
                    <a:pt x="1436" y="2943"/>
                  </a:lnTo>
                  <a:lnTo>
                    <a:pt x="1406" y="3072"/>
                  </a:lnTo>
                  <a:lnTo>
                    <a:pt x="1374" y="3202"/>
                  </a:lnTo>
                  <a:lnTo>
                    <a:pt x="1341" y="3336"/>
                  </a:lnTo>
                  <a:lnTo>
                    <a:pt x="1309" y="3472"/>
                  </a:lnTo>
                  <a:lnTo>
                    <a:pt x="1276" y="3612"/>
                  </a:lnTo>
                  <a:lnTo>
                    <a:pt x="1246" y="3755"/>
                  </a:lnTo>
                  <a:lnTo>
                    <a:pt x="1217" y="3901"/>
                  </a:lnTo>
                  <a:lnTo>
                    <a:pt x="1190" y="4053"/>
                  </a:lnTo>
                  <a:lnTo>
                    <a:pt x="1166" y="4208"/>
                  </a:lnTo>
                  <a:lnTo>
                    <a:pt x="1146" y="4368"/>
                  </a:lnTo>
                  <a:lnTo>
                    <a:pt x="1024" y="4781"/>
                  </a:lnTo>
                  <a:lnTo>
                    <a:pt x="1015" y="4629"/>
                  </a:lnTo>
                  <a:lnTo>
                    <a:pt x="1010" y="4479"/>
                  </a:lnTo>
                  <a:lnTo>
                    <a:pt x="1008" y="4334"/>
                  </a:lnTo>
                  <a:lnTo>
                    <a:pt x="1013" y="4190"/>
                  </a:lnTo>
                  <a:lnTo>
                    <a:pt x="1019" y="4049"/>
                  </a:lnTo>
                  <a:lnTo>
                    <a:pt x="1028" y="3911"/>
                  </a:lnTo>
                  <a:lnTo>
                    <a:pt x="1040" y="3776"/>
                  </a:lnTo>
                  <a:lnTo>
                    <a:pt x="1055" y="3642"/>
                  </a:lnTo>
                  <a:lnTo>
                    <a:pt x="1069" y="3510"/>
                  </a:lnTo>
                  <a:lnTo>
                    <a:pt x="1085" y="3380"/>
                  </a:lnTo>
                  <a:lnTo>
                    <a:pt x="1102" y="3252"/>
                  </a:lnTo>
                  <a:lnTo>
                    <a:pt x="1117" y="3124"/>
                  </a:lnTo>
                  <a:lnTo>
                    <a:pt x="1133" y="2997"/>
                  </a:lnTo>
                  <a:lnTo>
                    <a:pt x="1148" y="2872"/>
                  </a:lnTo>
                  <a:lnTo>
                    <a:pt x="1160" y="2747"/>
                  </a:lnTo>
                  <a:lnTo>
                    <a:pt x="1171" y="2623"/>
                  </a:lnTo>
                  <a:lnTo>
                    <a:pt x="1179" y="2498"/>
                  </a:lnTo>
                  <a:lnTo>
                    <a:pt x="1183" y="2375"/>
                  </a:lnTo>
                  <a:lnTo>
                    <a:pt x="1184" y="2250"/>
                  </a:lnTo>
                  <a:lnTo>
                    <a:pt x="1181" y="2125"/>
                  </a:lnTo>
                  <a:lnTo>
                    <a:pt x="1174" y="1999"/>
                  </a:lnTo>
                  <a:lnTo>
                    <a:pt x="1160" y="1873"/>
                  </a:lnTo>
                  <a:lnTo>
                    <a:pt x="1142" y="1745"/>
                  </a:lnTo>
                  <a:lnTo>
                    <a:pt x="1117" y="1616"/>
                  </a:lnTo>
                  <a:lnTo>
                    <a:pt x="1086" y="1486"/>
                  </a:lnTo>
                  <a:lnTo>
                    <a:pt x="1047" y="1354"/>
                  </a:lnTo>
                  <a:lnTo>
                    <a:pt x="1000" y="1220"/>
                  </a:lnTo>
                  <a:lnTo>
                    <a:pt x="946" y="1084"/>
                  </a:lnTo>
                  <a:lnTo>
                    <a:pt x="883" y="945"/>
                  </a:lnTo>
                  <a:lnTo>
                    <a:pt x="811" y="804"/>
                  </a:lnTo>
                  <a:lnTo>
                    <a:pt x="728" y="660"/>
                  </a:lnTo>
                  <a:lnTo>
                    <a:pt x="636" y="513"/>
                  </a:lnTo>
                  <a:lnTo>
                    <a:pt x="628" y="548"/>
                  </a:lnTo>
                  <a:lnTo>
                    <a:pt x="619" y="581"/>
                  </a:lnTo>
                  <a:lnTo>
                    <a:pt x="610" y="615"/>
                  </a:lnTo>
                  <a:lnTo>
                    <a:pt x="600" y="647"/>
                  </a:lnTo>
                  <a:lnTo>
                    <a:pt x="590" y="679"/>
                  </a:lnTo>
                  <a:lnTo>
                    <a:pt x="579" y="709"/>
                  </a:lnTo>
                  <a:lnTo>
                    <a:pt x="568" y="739"/>
                  </a:lnTo>
                  <a:lnTo>
                    <a:pt x="556" y="768"/>
                  </a:lnTo>
                  <a:lnTo>
                    <a:pt x="545" y="797"/>
                  </a:lnTo>
                  <a:lnTo>
                    <a:pt x="532" y="824"/>
                  </a:lnTo>
                  <a:lnTo>
                    <a:pt x="519" y="851"/>
                  </a:lnTo>
                  <a:lnTo>
                    <a:pt x="505" y="878"/>
                  </a:lnTo>
                  <a:lnTo>
                    <a:pt x="492" y="905"/>
                  </a:lnTo>
                  <a:lnTo>
                    <a:pt x="477" y="930"/>
                  </a:lnTo>
                  <a:lnTo>
                    <a:pt x="462" y="955"/>
                  </a:lnTo>
                  <a:lnTo>
                    <a:pt x="448" y="980"/>
                  </a:lnTo>
                  <a:lnTo>
                    <a:pt x="432" y="1004"/>
                  </a:lnTo>
                  <a:lnTo>
                    <a:pt x="416" y="1028"/>
                  </a:lnTo>
                  <a:lnTo>
                    <a:pt x="399" y="1051"/>
                  </a:lnTo>
                  <a:lnTo>
                    <a:pt x="383" y="1074"/>
                  </a:lnTo>
                  <a:lnTo>
                    <a:pt x="348" y="1120"/>
                  </a:lnTo>
                  <a:lnTo>
                    <a:pt x="312" y="1165"/>
                  </a:lnTo>
                  <a:lnTo>
                    <a:pt x="274" y="1209"/>
                  </a:lnTo>
                  <a:lnTo>
                    <a:pt x="234" y="1253"/>
                  </a:lnTo>
                  <a:lnTo>
                    <a:pt x="193" y="1297"/>
                  </a:lnTo>
                  <a:lnTo>
                    <a:pt x="151" y="13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8640" y="3962160"/>
              <a:ext cx="121680" cy="259200"/>
            </a:xfrm>
            <a:custGeom>
              <a:avLst/>
              <a:gdLst/>
              <a:ahLst/>
              <a:rect l="l" t="t" r="r" b="b"/>
              <a:pathLst>
                <a:path w="1873" h="4245">
                  <a:moveTo>
                    <a:pt x="1852" y="3341"/>
                  </a:moveTo>
                  <a:lnTo>
                    <a:pt x="1857" y="3221"/>
                  </a:lnTo>
                  <a:lnTo>
                    <a:pt x="1860" y="3102"/>
                  </a:lnTo>
                  <a:lnTo>
                    <a:pt x="1863" y="2985"/>
                  </a:lnTo>
                  <a:lnTo>
                    <a:pt x="1865" y="2868"/>
                  </a:lnTo>
                  <a:lnTo>
                    <a:pt x="1865" y="2752"/>
                  </a:lnTo>
                  <a:lnTo>
                    <a:pt x="1865" y="2638"/>
                  </a:lnTo>
                  <a:lnTo>
                    <a:pt x="1863" y="2524"/>
                  </a:lnTo>
                  <a:lnTo>
                    <a:pt x="1859" y="2412"/>
                  </a:lnTo>
                  <a:lnTo>
                    <a:pt x="1853" y="2300"/>
                  </a:lnTo>
                  <a:lnTo>
                    <a:pt x="1846" y="2190"/>
                  </a:lnTo>
                  <a:lnTo>
                    <a:pt x="1836" y="2080"/>
                  </a:lnTo>
                  <a:lnTo>
                    <a:pt x="1823" y="1972"/>
                  </a:lnTo>
                  <a:lnTo>
                    <a:pt x="1807" y="1864"/>
                  </a:lnTo>
                  <a:lnTo>
                    <a:pt x="1790" y="1759"/>
                  </a:lnTo>
                  <a:lnTo>
                    <a:pt x="1769" y="1654"/>
                  </a:lnTo>
                  <a:lnTo>
                    <a:pt x="1744" y="1550"/>
                  </a:lnTo>
                  <a:lnTo>
                    <a:pt x="1715" y="1448"/>
                  </a:lnTo>
                  <a:lnTo>
                    <a:pt x="1684" y="1346"/>
                  </a:lnTo>
                  <a:lnTo>
                    <a:pt x="1647" y="1246"/>
                  </a:lnTo>
                  <a:lnTo>
                    <a:pt x="1608" y="1147"/>
                  </a:lnTo>
                  <a:lnTo>
                    <a:pt x="1563" y="1048"/>
                  </a:lnTo>
                  <a:lnTo>
                    <a:pt x="1514" y="952"/>
                  </a:lnTo>
                  <a:lnTo>
                    <a:pt x="1460" y="856"/>
                  </a:lnTo>
                  <a:lnTo>
                    <a:pt x="1401" y="761"/>
                  </a:lnTo>
                  <a:lnTo>
                    <a:pt x="1338" y="667"/>
                  </a:lnTo>
                  <a:lnTo>
                    <a:pt x="1269" y="575"/>
                  </a:lnTo>
                  <a:lnTo>
                    <a:pt x="1193" y="484"/>
                  </a:lnTo>
                  <a:lnTo>
                    <a:pt x="1113" y="394"/>
                  </a:lnTo>
                  <a:lnTo>
                    <a:pt x="1026" y="305"/>
                  </a:lnTo>
                  <a:lnTo>
                    <a:pt x="933" y="217"/>
                  </a:lnTo>
                  <a:lnTo>
                    <a:pt x="833" y="132"/>
                  </a:lnTo>
                  <a:lnTo>
                    <a:pt x="728" y="46"/>
                  </a:lnTo>
                  <a:lnTo>
                    <a:pt x="702" y="31"/>
                  </a:lnTo>
                  <a:lnTo>
                    <a:pt x="678" y="19"/>
                  </a:lnTo>
                  <a:lnTo>
                    <a:pt x="667" y="13"/>
                  </a:lnTo>
                  <a:lnTo>
                    <a:pt x="655" y="9"/>
                  </a:lnTo>
                  <a:lnTo>
                    <a:pt x="645" y="6"/>
                  </a:lnTo>
                  <a:lnTo>
                    <a:pt x="634" y="3"/>
                  </a:lnTo>
                  <a:lnTo>
                    <a:pt x="624" y="2"/>
                  </a:lnTo>
                  <a:lnTo>
                    <a:pt x="615" y="0"/>
                  </a:lnTo>
                  <a:lnTo>
                    <a:pt x="605" y="0"/>
                  </a:lnTo>
                  <a:lnTo>
                    <a:pt x="596" y="0"/>
                  </a:lnTo>
                  <a:lnTo>
                    <a:pt x="586" y="1"/>
                  </a:lnTo>
                  <a:lnTo>
                    <a:pt x="578" y="2"/>
                  </a:lnTo>
                  <a:lnTo>
                    <a:pt x="570" y="4"/>
                  </a:lnTo>
                  <a:lnTo>
                    <a:pt x="561" y="6"/>
                  </a:lnTo>
                  <a:lnTo>
                    <a:pt x="553" y="10"/>
                  </a:lnTo>
                  <a:lnTo>
                    <a:pt x="545" y="13"/>
                  </a:lnTo>
                  <a:lnTo>
                    <a:pt x="538" y="19"/>
                  </a:lnTo>
                  <a:lnTo>
                    <a:pt x="531" y="23"/>
                  </a:lnTo>
                  <a:lnTo>
                    <a:pt x="524" y="29"/>
                  </a:lnTo>
                  <a:lnTo>
                    <a:pt x="517" y="34"/>
                  </a:lnTo>
                  <a:lnTo>
                    <a:pt x="510" y="42"/>
                  </a:lnTo>
                  <a:lnTo>
                    <a:pt x="504" y="49"/>
                  </a:lnTo>
                  <a:lnTo>
                    <a:pt x="492" y="65"/>
                  </a:lnTo>
                  <a:lnTo>
                    <a:pt x="481" y="81"/>
                  </a:lnTo>
                  <a:lnTo>
                    <a:pt x="470" y="101"/>
                  </a:lnTo>
                  <a:lnTo>
                    <a:pt x="460" y="122"/>
                  </a:lnTo>
                  <a:lnTo>
                    <a:pt x="457" y="172"/>
                  </a:lnTo>
                  <a:lnTo>
                    <a:pt x="451" y="223"/>
                  </a:lnTo>
                  <a:lnTo>
                    <a:pt x="446" y="273"/>
                  </a:lnTo>
                  <a:lnTo>
                    <a:pt x="441" y="323"/>
                  </a:lnTo>
                  <a:lnTo>
                    <a:pt x="434" y="372"/>
                  </a:lnTo>
                  <a:lnTo>
                    <a:pt x="426" y="421"/>
                  </a:lnTo>
                  <a:lnTo>
                    <a:pt x="418" y="470"/>
                  </a:lnTo>
                  <a:lnTo>
                    <a:pt x="409" y="518"/>
                  </a:lnTo>
                  <a:lnTo>
                    <a:pt x="400" y="566"/>
                  </a:lnTo>
                  <a:lnTo>
                    <a:pt x="390" y="613"/>
                  </a:lnTo>
                  <a:lnTo>
                    <a:pt x="379" y="660"/>
                  </a:lnTo>
                  <a:lnTo>
                    <a:pt x="368" y="707"/>
                  </a:lnTo>
                  <a:lnTo>
                    <a:pt x="355" y="753"/>
                  </a:lnTo>
                  <a:lnTo>
                    <a:pt x="343" y="798"/>
                  </a:lnTo>
                  <a:lnTo>
                    <a:pt x="329" y="844"/>
                  </a:lnTo>
                  <a:lnTo>
                    <a:pt x="314" y="888"/>
                  </a:lnTo>
                  <a:lnTo>
                    <a:pt x="300" y="933"/>
                  </a:lnTo>
                  <a:lnTo>
                    <a:pt x="284" y="977"/>
                  </a:lnTo>
                  <a:lnTo>
                    <a:pt x="268" y="1020"/>
                  </a:lnTo>
                  <a:lnTo>
                    <a:pt x="251" y="1063"/>
                  </a:lnTo>
                  <a:lnTo>
                    <a:pt x="234" y="1106"/>
                  </a:lnTo>
                  <a:lnTo>
                    <a:pt x="216" y="1148"/>
                  </a:lnTo>
                  <a:lnTo>
                    <a:pt x="197" y="1188"/>
                  </a:lnTo>
                  <a:lnTo>
                    <a:pt x="178" y="1229"/>
                  </a:lnTo>
                  <a:lnTo>
                    <a:pt x="157" y="1270"/>
                  </a:lnTo>
                  <a:lnTo>
                    <a:pt x="137" y="1310"/>
                  </a:lnTo>
                  <a:lnTo>
                    <a:pt x="115" y="1348"/>
                  </a:lnTo>
                  <a:lnTo>
                    <a:pt x="95" y="1387"/>
                  </a:lnTo>
                  <a:lnTo>
                    <a:pt x="71" y="1425"/>
                  </a:lnTo>
                  <a:lnTo>
                    <a:pt x="48" y="1463"/>
                  </a:lnTo>
                  <a:lnTo>
                    <a:pt x="25" y="1499"/>
                  </a:lnTo>
                  <a:lnTo>
                    <a:pt x="0" y="1535"/>
                  </a:lnTo>
                  <a:lnTo>
                    <a:pt x="168" y="1878"/>
                  </a:lnTo>
                  <a:lnTo>
                    <a:pt x="215" y="1785"/>
                  </a:lnTo>
                  <a:lnTo>
                    <a:pt x="260" y="1694"/>
                  </a:lnTo>
                  <a:lnTo>
                    <a:pt x="302" y="1606"/>
                  </a:lnTo>
                  <a:lnTo>
                    <a:pt x="343" y="1519"/>
                  </a:lnTo>
                  <a:lnTo>
                    <a:pt x="380" y="1434"/>
                  </a:lnTo>
                  <a:lnTo>
                    <a:pt x="416" y="1351"/>
                  </a:lnTo>
                  <a:lnTo>
                    <a:pt x="450" y="1266"/>
                  </a:lnTo>
                  <a:lnTo>
                    <a:pt x="482" y="1182"/>
                  </a:lnTo>
                  <a:lnTo>
                    <a:pt x="512" y="1097"/>
                  </a:lnTo>
                  <a:lnTo>
                    <a:pt x="540" y="1010"/>
                  </a:lnTo>
                  <a:lnTo>
                    <a:pt x="555" y="967"/>
                  </a:lnTo>
                  <a:lnTo>
                    <a:pt x="567" y="923"/>
                  </a:lnTo>
                  <a:lnTo>
                    <a:pt x="581" y="878"/>
                  </a:lnTo>
                  <a:lnTo>
                    <a:pt x="594" y="832"/>
                  </a:lnTo>
                  <a:lnTo>
                    <a:pt x="618" y="738"/>
                  </a:lnTo>
                  <a:lnTo>
                    <a:pt x="640" y="641"/>
                  </a:lnTo>
                  <a:lnTo>
                    <a:pt x="662" y="541"/>
                  </a:lnTo>
                  <a:lnTo>
                    <a:pt x="683" y="435"/>
                  </a:lnTo>
                  <a:lnTo>
                    <a:pt x="782" y="524"/>
                  </a:lnTo>
                  <a:lnTo>
                    <a:pt x="875" y="616"/>
                  </a:lnTo>
                  <a:lnTo>
                    <a:pt x="962" y="711"/>
                  </a:lnTo>
                  <a:lnTo>
                    <a:pt x="1041" y="810"/>
                  </a:lnTo>
                  <a:lnTo>
                    <a:pt x="1115" y="911"/>
                  </a:lnTo>
                  <a:lnTo>
                    <a:pt x="1183" y="1014"/>
                  </a:lnTo>
                  <a:lnTo>
                    <a:pt x="1244" y="1120"/>
                  </a:lnTo>
                  <a:lnTo>
                    <a:pt x="1302" y="1228"/>
                  </a:lnTo>
                  <a:lnTo>
                    <a:pt x="1353" y="1339"/>
                  </a:lnTo>
                  <a:lnTo>
                    <a:pt x="1400" y="1452"/>
                  </a:lnTo>
                  <a:lnTo>
                    <a:pt x="1443" y="1566"/>
                  </a:lnTo>
                  <a:lnTo>
                    <a:pt x="1482" y="1683"/>
                  </a:lnTo>
                  <a:lnTo>
                    <a:pt x="1517" y="1802"/>
                  </a:lnTo>
                  <a:lnTo>
                    <a:pt x="1548" y="1922"/>
                  </a:lnTo>
                  <a:lnTo>
                    <a:pt x="1576" y="2043"/>
                  </a:lnTo>
                  <a:lnTo>
                    <a:pt x="1602" y="2167"/>
                  </a:lnTo>
                  <a:lnTo>
                    <a:pt x="1625" y="2291"/>
                  </a:lnTo>
                  <a:lnTo>
                    <a:pt x="1646" y="2417"/>
                  </a:lnTo>
                  <a:lnTo>
                    <a:pt x="1664" y="2544"/>
                  </a:lnTo>
                  <a:lnTo>
                    <a:pt x="1682" y="2672"/>
                  </a:lnTo>
                  <a:lnTo>
                    <a:pt x="1698" y="2801"/>
                  </a:lnTo>
                  <a:lnTo>
                    <a:pt x="1712" y="2931"/>
                  </a:lnTo>
                  <a:lnTo>
                    <a:pt x="1727" y="3060"/>
                  </a:lnTo>
                  <a:lnTo>
                    <a:pt x="1740" y="3191"/>
                  </a:lnTo>
                  <a:lnTo>
                    <a:pt x="1768" y="3455"/>
                  </a:lnTo>
                  <a:lnTo>
                    <a:pt x="1798" y="3718"/>
                  </a:lnTo>
                  <a:lnTo>
                    <a:pt x="1814" y="3850"/>
                  </a:lnTo>
                  <a:lnTo>
                    <a:pt x="1831" y="3982"/>
                  </a:lnTo>
                  <a:lnTo>
                    <a:pt x="1851" y="4113"/>
                  </a:lnTo>
                  <a:lnTo>
                    <a:pt x="1873" y="4245"/>
                  </a:lnTo>
                  <a:lnTo>
                    <a:pt x="1852" y="33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17000" y="4017600"/>
              <a:ext cx="549360" cy="241560"/>
            </a:xfrm>
            <a:custGeom>
              <a:avLst/>
              <a:gdLst/>
              <a:ahLst/>
              <a:rect l="l" t="t" r="r" b="b"/>
              <a:pathLst>
                <a:path w="8446" h="3946">
                  <a:moveTo>
                    <a:pt x="8381" y="822"/>
                  </a:moveTo>
                  <a:lnTo>
                    <a:pt x="8394" y="833"/>
                  </a:lnTo>
                  <a:lnTo>
                    <a:pt x="8404" y="843"/>
                  </a:lnTo>
                  <a:lnTo>
                    <a:pt x="8415" y="854"/>
                  </a:lnTo>
                  <a:lnTo>
                    <a:pt x="8423" y="865"/>
                  </a:lnTo>
                  <a:lnTo>
                    <a:pt x="8430" y="877"/>
                  </a:lnTo>
                  <a:lnTo>
                    <a:pt x="8437" y="888"/>
                  </a:lnTo>
                  <a:lnTo>
                    <a:pt x="8441" y="901"/>
                  </a:lnTo>
                  <a:lnTo>
                    <a:pt x="8445" y="915"/>
                  </a:lnTo>
                  <a:lnTo>
                    <a:pt x="8446" y="928"/>
                  </a:lnTo>
                  <a:lnTo>
                    <a:pt x="8446" y="942"/>
                  </a:lnTo>
                  <a:lnTo>
                    <a:pt x="8444" y="956"/>
                  </a:lnTo>
                  <a:lnTo>
                    <a:pt x="8441" y="972"/>
                  </a:lnTo>
                  <a:lnTo>
                    <a:pt x="8434" y="988"/>
                  </a:lnTo>
                  <a:lnTo>
                    <a:pt x="8427" y="1004"/>
                  </a:lnTo>
                  <a:lnTo>
                    <a:pt x="8418" y="1021"/>
                  </a:lnTo>
                  <a:lnTo>
                    <a:pt x="8406" y="1039"/>
                  </a:lnTo>
                  <a:lnTo>
                    <a:pt x="8139" y="1479"/>
                  </a:lnTo>
                  <a:lnTo>
                    <a:pt x="7968" y="1459"/>
                  </a:lnTo>
                  <a:lnTo>
                    <a:pt x="8141" y="1110"/>
                  </a:lnTo>
                  <a:lnTo>
                    <a:pt x="8144" y="1105"/>
                  </a:lnTo>
                  <a:lnTo>
                    <a:pt x="8146" y="1098"/>
                  </a:lnTo>
                  <a:lnTo>
                    <a:pt x="8147" y="1088"/>
                  </a:lnTo>
                  <a:lnTo>
                    <a:pt x="8146" y="1078"/>
                  </a:lnTo>
                  <a:lnTo>
                    <a:pt x="8142" y="1068"/>
                  </a:lnTo>
                  <a:lnTo>
                    <a:pt x="8138" y="1059"/>
                  </a:lnTo>
                  <a:lnTo>
                    <a:pt x="8135" y="1055"/>
                  </a:lnTo>
                  <a:lnTo>
                    <a:pt x="8131" y="1051"/>
                  </a:lnTo>
                  <a:lnTo>
                    <a:pt x="8127" y="1047"/>
                  </a:lnTo>
                  <a:lnTo>
                    <a:pt x="8122" y="1044"/>
                  </a:lnTo>
                  <a:lnTo>
                    <a:pt x="7934" y="972"/>
                  </a:lnTo>
                  <a:lnTo>
                    <a:pt x="7745" y="917"/>
                  </a:lnTo>
                  <a:lnTo>
                    <a:pt x="7554" y="879"/>
                  </a:lnTo>
                  <a:lnTo>
                    <a:pt x="7363" y="857"/>
                  </a:lnTo>
                  <a:lnTo>
                    <a:pt x="7170" y="851"/>
                  </a:lnTo>
                  <a:lnTo>
                    <a:pt x="6978" y="859"/>
                  </a:lnTo>
                  <a:lnTo>
                    <a:pt x="6785" y="882"/>
                  </a:lnTo>
                  <a:lnTo>
                    <a:pt x="6593" y="918"/>
                  </a:lnTo>
                  <a:lnTo>
                    <a:pt x="6400" y="967"/>
                  </a:lnTo>
                  <a:lnTo>
                    <a:pt x="6209" y="1026"/>
                  </a:lnTo>
                  <a:lnTo>
                    <a:pt x="6018" y="1099"/>
                  </a:lnTo>
                  <a:lnTo>
                    <a:pt x="5830" y="1181"/>
                  </a:lnTo>
                  <a:lnTo>
                    <a:pt x="5643" y="1273"/>
                  </a:lnTo>
                  <a:lnTo>
                    <a:pt x="5457" y="1374"/>
                  </a:lnTo>
                  <a:lnTo>
                    <a:pt x="5275" y="1484"/>
                  </a:lnTo>
                  <a:lnTo>
                    <a:pt x="5095" y="1601"/>
                  </a:lnTo>
                  <a:lnTo>
                    <a:pt x="4919" y="1725"/>
                  </a:lnTo>
                  <a:lnTo>
                    <a:pt x="4745" y="1856"/>
                  </a:lnTo>
                  <a:lnTo>
                    <a:pt x="4575" y="1992"/>
                  </a:lnTo>
                  <a:lnTo>
                    <a:pt x="4410" y="2132"/>
                  </a:lnTo>
                  <a:lnTo>
                    <a:pt x="4248" y="2278"/>
                  </a:lnTo>
                  <a:lnTo>
                    <a:pt x="4092" y="2427"/>
                  </a:lnTo>
                  <a:lnTo>
                    <a:pt x="3940" y="2578"/>
                  </a:lnTo>
                  <a:lnTo>
                    <a:pt x="3794" y="2731"/>
                  </a:lnTo>
                  <a:lnTo>
                    <a:pt x="3652" y="2886"/>
                  </a:lnTo>
                  <a:lnTo>
                    <a:pt x="3518" y="3041"/>
                  </a:lnTo>
                  <a:lnTo>
                    <a:pt x="3389" y="3197"/>
                  </a:lnTo>
                  <a:lnTo>
                    <a:pt x="3267" y="3350"/>
                  </a:lnTo>
                  <a:lnTo>
                    <a:pt x="3151" y="3503"/>
                  </a:lnTo>
                  <a:lnTo>
                    <a:pt x="3044" y="3654"/>
                  </a:lnTo>
                  <a:lnTo>
                    <a:pt x="2943" y="3803"/>
                  </a:lnTo>
                  <a:lnTo>
                    <a:pt x="2851" y="3946"/>
                  </a:lnTo>
                  <a:lnTo>
                    <a:pt x="2633" y="3824"/>
                  </a:lnTo>
                  <a:lnTo>
                    <a:pt x="2544" y="3564"/>
                  </a:lnTo>
                  <a:lnTo>
                    <a:pt x="2455" y="3302"/>
                  </a:lnTo>
                  <a:lnTo>
                    <a:pt x="2410" y="3173"/>
                  </a:lnTo>
                  <a:lnTo>
                    <a:pt x="2365" y="3043"/>
                  </a:lnTo>
                  <a:lnTo>
                    <a:pt x="2319" y="2914"/>
                  </a:lnTo>
                  <a:lnTo>
                    <a:pt x="2272" y="2785"/>
                  </a:lnTo>
                  <a:lnTo>
                    <a:pt x="2224" y="2659"/>
                  </a:lnTo>
                  <a:lnTo>
                    <a:pt x="2175" y="2533"/>
                  </a:lnTo>
                  <a:lnTo>
                    <a:pt x="2125" y="2409"/>
                  </a:lnTo>
                  <a:lnTo>
                    <a:pt x="2072" y="2285"/>
                  </a:lnTo>
                  <a:lnTo>
                    <a:pt x="2018" y="2164"/>
                  </a:lnTo>
                  <a:lnTo>
                    <a:pt x="1963" y="2045"/>
                  </a:lnTo>
                  <a:lnTo>
                    <a:pt x="1904" y="1927"/>
                  </a:lnTo>
                  <a:lnTo>
                    <a:pt x="1843" y="1812"/>
                  </a:lnTo>
                  <a:lnTo>
                    <a:pt x="1779" y="1699"/>
                  </a:lnTo>
                  <a:lnTo>
                    <a:pt x="1714" y="1589"/>
                  </a:lnTo>
                  <a:lnTo>
                    <a:pt x="1644" y="1482"/>
                  </a:lnTo>
                  <a:lnTo>
                    <a:pt x="1572" y="1377"/>
                  </a:lnTo>
                  <a:lnTo>
                    <a:pt x="1496" y="1276"/>
                  </a:lnTo>
                  <a:lnTo>
                    <a:pt x="1416" y="1177"/>
                  </a:lnTo>
                  <a:lnTo>
                    <a:pt x="1334" y="1082"/>
                  </a:lnTo>
                  <a:lnTo>
                    <a:pt x="1247" y="990"/>
                  </a:lnTo>
                  <a:lnTo>
                    <a:pt x="1155" y="902"/>
                  </a:lnTo>
                  <a:lnTo>
                    <a:pt x="1060" y="817"/>
                  </a:lnTo>
                  <a:lnTo>
                    <a:pt x="959" y="738"/>
                  </a:lnTo>
                  <a:lnTo>
                    <a:pt x="854" y="661"/>
                  </a:lnTo>
                  <a:lnTo>
                    <a:pt x="745" y="589"/>
                  </a:lnTo>
                  <a:lnTo>
                    <a:pt x="631" y="522"/>
                  </a:lnTo>
                  <a:lnTo>
                    <a:pt x="510" y="459"/>
                  </a:lnTo>
                  <a:lnTo>
                    <a:pt x="385" y="402"/>
                  </a:lnTo>
                  <a:lnTo>
                    <a:pt x="371" y="397"/>
                  </a:lnTo>
                  <a:lnTo>
                    <a:pt x="360" y="394"/>
                  </a:lnTo>
                  <a:lnTo>
                    <a:pt x="354" y="394"/>
                  </a:lnTo>
                  <a:lnTo>
                    <a:pt x="350" y="394"/>
                  </a:lnTo>
                  <a:lnTo>
                    <a:pt x="347" y="396"/>
                  </a:lnTo>
                  <a:lnTo>
                    <a:pt x="344" y="397"/>
                  </a:lnTo>
                  <a:lnTo>
                    <a:pt x="339" y="400"/>
                  </a:lnTo>
                  <a:lnTo>
                    <a:pt x="334" y="404"/>
                  </a:lnTo>
                  <a:lnTo>
                    <a:pt x="331" y="409"/>
                  </a:lnTo>
                  <a:lnTo>
                    <a:pt x="328" y="413"/>
                  </a:lnTo>
                  <a:lnTo>
                    <a:pt x="146" y="797"/>
                  </a:lnTo>
                  <a:lnTo>
                    <a:pt x="0" y="601"/>
                  </a:lnTo>
                  <a:lnTo>
                    <a:pt x="146" y="186"/>
                  </a:lnTo>
                  <a:lnTo>
                    <a:pt x="154" y="158"/>
                  </a:lnTo>
                  <a:lnTo>
                    <a:pt x="165" y="132"/>
                  </a:lnTo>
                  <a:lnTo>
                    <a:pt x="170" y="119"/>
                  </a:lnTo>
                  <a:lnTo>
                    <a:pt x="176" y="108"/>
                  </a:lnTo>
                  <a:lnTo>
                    <a:pt x="183" y="97"/>
                  </a:lnTo>
                  <a:lnTo>
                    <a:pt x="189" y="86"/>
                  </a:lnTo>
                  <a:lnTo>
                    <a:pt x="195" y="76"/>
                  </a:lnTo>
                  <a:lnTo>
                    <a:pt x="203" y="67"/>
                  </a:lnTo>
                  <a:lnTo>
                    <a:pt x="210" y="59"/>
                  </a:lnTo>
                  <a:lnTo>
                    <a:pt x="218" y="50"/>
                  </a:lnTo>
                  <a:lnTo>
                    <a:pt x="226" y="43"/>
                  </a:lnTo>
                  <a:lnTo>
                    <a:pt x="234" y="37"/>
                  </a:lnTo>
                  <a:lnTo>
                    <a:pt x="243" y="30"/>
                  </a:lnTo>
                  <a:lnTo>
                    <a:pt x="252" y="24"/>
                  </a:lnTo>
                  <a:lnTo>
                    <a:pt x="261" y="19"/>
                  </a:lnTo>
                  <a:lnTo>
                    <a:pt x="271" y="15"/>
                  </a:lnTo>
                  <a:lnTo>
                    <a:pt x="281" y="10"/>
                  </a:lnTo>
                  <a:lnTo>
                    <a:pt x="292" y="7"/>
                  </a:lnTo>
                  <a:lnTo>
                    <a:pt x="302" y="5"/>
                  </a:lnTo>
                  <a:lnTo>
                    <a:pt x="312" y="3"/>
                  </a:lnTo>
                  <a:lnTo>
                    <a:pt x="324" y="1"/>
                  </a:lnTo>
                  <a:lnTo>
                    <a:pt x="335" y="1"/>
                  </a:lnTo>
                  <a:lnTo>
                    <a:pt x="347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5" y="3"/>
                  </a:lnTo>
                  <a:lnTo>
                    <a:pt x="411" y="8"/>
                  </a:lnTo>
                  <a:lnTo>
                    <a:pt x="439" y="16"/>
                  </a:lnTo>
                  <a:lnTo>
                    <a:pt x="550" y="73"/>
                  </a:lnTo>
                  <a:lnTo>
                    <a:pt x="659" y="138"/>
                  </a:lnTo>
                  <a:lnTo>
                    <a:pt x="766" y="208"/>
                  </a:lnTo>
                  <a:lnTo>
                    <a:pt x="870" y="284"/>
                  </a:lnTo>
                  <a:lnTo>
                    <a:pt x="972" y="365"/>
                  </a:lnTo>
                  <a:lnTo>
                    <a:pt x="1071" y="451"/>
                  </a:lnTo>
                  <a:lnTo>
                    <a:pt x="1168" y="542"/>
                  </a:lnTo>
                  <a:lnTo>
                    <a:pt x="1264" y="637"/>
                  </a:lnTo>
                  <a:lnTo>
                    <a:pt x="1356" y="737"/>
                  </a:lnTo>
                  <a:lnTo>
                    <a:pt x="1445" y="840"/>
                  </a:lnTo>
                  <a:lnTo>
                    <a:pt x="1533" y="947"/>
                  </a:lnTo>
                  <a:lnTo>
                    <a:pt x="1617" y="1057"/>
                  </a:lnTo>
                  <a:lnTo>
                    <a:pt x="1700" y="1170"/>
                  </a:lnTo>
                  <a:lnTo>
                    <a:pt x="1781" y="1285"/>
                  </a:lnTo>
                  <a:lnTo>
                    <a:pt x="1858" y="1403"/>
                  </a:lnTo>
                  <a:lnTo>
                    <a:pt x="1933" y="1522"/>
                  </a:lnTo>
                  <a:lnTo>
                    <a:pt x="2007" y="1645"/>
                  </a:lnTo>
                  <a:lnTo>
                    <a:pt x="2077" y="1768"/>
                  </a:lnTo>
                  <a:lnTo>
                    <a:pt x="2145" y="1892"/>
                  </a:lnTo>
                  <a:lnTo>
                    <a:pt x="2211" y="2017"/>
                  </a:lnTo>
                  <a:lnTo>
                    <a:pt x="2273" y="2143"/>
                  </a:lnTo>
                  <a:lnTo>
                    <a:pt x="2334" y="2270"/>
                  </a:lnTo>
                  <a:lnTo>
                    <a:pt x="2393" y="2395"/>
                  </a:lnTo>
                  <a:lnTo>
                    <a:pt x="2448" y="2522"/>
                  </a:lnTo>
                  <a:lnTo>
                    <a:pt x="2501" y="2646"/>
                  </a:lnTo>
                  <a:lnTo>
                    <a:pt x="2552" y="2771"/>
                  </a:lnTo>
                  <a:lnTo>
                    <a:pt x="2601" y="2894"/>
                  </a:lnTo>
                  <a:lnTo>
                    <a:pt x="2647" y="3016"/>
                  </a:lnTo>
                  <a:lnTo>
                    <a:pt x="2690" y="3136"/>
                  </a:lnTo>
                  <a:lnTo>
                    <a:pt x="2731" y="3253"/>
                  </a:lnTo>
                  <a:lnTo>
                    <a:pt x="2769" y="3369"/>
                  </a:lnTo>
                  <a:lnTo>
                    <a:pt x="2805" y="3482"/>
                  </a:lnTo>
                  <a:lnTo>
                    <a:pt x="3005" y="3244"/>
                  </a:lnTo>
                  <a:lnTo>
                    <a:pt x="3226" y="2979"/>
                  </a:lnTo>
                  <a:lnTo>
                    <a:pt x="3345" y="2840"/>
                  </a:lnTo>
                  <a:lnTo>
                    <a:pt x="3469" y="2695"/>
                  </a:lnTo>
                  <a:lnTo>
                    <a:pt x="3598" y="2550"/>
                  </a:lnTo>
                  <a:lnTo>
                    <a:pt x="3733" y="2401"/>
                  </a:lnTo>
                  <a:lnTo>
                    <a:pt x="3873" y="2253"/>
                  </a:lnTo>
                  <a:lnTo>
                    <a:pt x="4018" y="2105"/>
                  </a:lnTo>
                  <a:lnTo>
                    <a:pt x="4168" y="1958"/>
                  </a:lnTo>
                  <a:lnTo>
                    <a:pt x="4323" y="1812"/>
                  </a:lnTo>
                  <a:lnTo>
                    <a:pt x="4483" y="1670"/>
                  </a:lnTo>
                  <a:lnTo>
                    <a:pt x="4648" y="1532"/>
                  </a:lnTo>
                  <a:lnTo>
                    <a:pt x="4817" y="1398"/>
                  </a:lnTo>
                  <a:lnTo>
                    <a:pt x="4992" y="1271"/>
                  </a:lnTo>
                  <a:lnTo>
                    <a:pt x="5171" y="1150"/>
                  </a:lnTo>
                  <a:lnTo>
                    <a:pt x="5355" y="1038"/>
                  </a:lnTo>
                  <a:lnTo>
                    <a:pt x="5543" y="934"/>
                  </a:lnTo>
                  <a:lnTo>
                    <a:pt x="5736" y="840"/>
                  </a:lnTo>
                  <a:lnTo>
                    <a:pt x="5934" y="757"/>
                  </a:lnTo>
                  <a:lnTo>
                    <a:pt x="6134" y="685"/>
                  </a:lnTo>
                  <a:lnTo>
                    <a:pt x="6341" y="626"/>
                  </a:lnTo>
                  <a:lnTo>
                    <a:pt x="6551" y="581"/>
                  </a:lnTo>
                  <a:lnTo>
                    <a:pt x="6765" y="549"/>
                  </a:lnTo>
                  <a:lnTo>
                    <a:pt x="6984" y="535"/>
                  </a:lnTo>
                  <a:lnTo>
                    <a:pt x="7207" y="536"/>
                  </a:lnTo>
                  <a:lnTo>
                    <a:pt x="7434" y="555"/>
                  </a:lnTo>
                  <a:lnTo>
                    <a:pt x="7665" y="591"/>
                  </a:lnTo>
                  <a:lnTo>
                    <a:pt x="7900" y="648"/>
                  </a:lnTo>
                  <a:lnTo>
                    <a:pt x="8138" y="724"/>
                  </a:lnTo>
                  <a:lnTo>
                    <a:pt x="8381" y="8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6120" y="4100760"/>
              <a:ext cx="323280" cy="99000"/>
            </a:xfrm>
            <a:custGeom>
              <a:avLst/>
              <a:gdLst/>
              <a:ahLst/>
              <a:rect l="l" t="t" r="r" b="b"/>
              <a:pathLst>
                <a:path w="4965" h="1648">
                  <a:moveTo>
                    <a:pt x="0" y="1648"/>
                  </a:moveTo>
                  <a:lnTo>
                    <a:pt x="146" y="1505"/>
                  </a:lnTo>
                  <a:lnTo>
                    <a:pt x="289" y="1370"/>
                  </a:lnTo>
                  <a:lnTo>
                    <a:pt x="429" y="1243"/>
                  </a:lnTo>
                  <a:lnTo>
                    <a:pt x="567" y="1121"/>
                  </a:lnTo>
                  <a:lnTo>
                    <a:pt x="703" y="1007"/>
                  </a:lnTo>
                  <a:lnTo>
                    <a:pt x="836" y="898"/>
                  </a:lnTo>
                  <a:lnTo>
                    <a:pt x="969" y="798"/>
                  </a:lnTo>
                  <a:lnTo>
                    <a:pt x="1100" y="703"/>
                  </a:lnTo>
                  <a:lnTo>
                    <a:pt x="1230" y="614"/>
                  </a:lnTo>
                  <a:lnTo>
                    <a:pt x="1359" y="532"/>
                  </a:lnTo>
                  <a:lnTo>
                    <a:pt x="1488" y="456"/>
                  </a:lnTo>
                  <a:lnTo>
                    <a:pt x="1618" y="387"/>
                  </a:lnTo>
                  <a:lnTo>
                    <a:pt x="1747" y="323"/>
                  </a:lnTo>
                  <a:lnTo>
                    <a:pt x="1877" y="265"/>
                  </a:lnTo>
                  <a:lnTo>
                    <a:pt x="2008" y="213"/>
                  </a:lnTo>
                  <a:lnTo>
                    <a:pt x="2141" y="167"/>
                  </a:lnTo>
                  <a:lnTo>
                    <a:pt x="2275" y="127"/>
                  </a:lnTo>
                  <a:lnTo>
                    <a:pt x="2411" y="93"/>
                  </a:lnTo>
                  <a:lnTo>
                    <a:pt x="2550" y="63"/>
                  </a:lnTo>
                  <a:lnTo>
                    <a:pt x="2691" y="40"/>
                  </a:lnTo>
                  <a:lnTo>
                    <a:pt x="2835" y="22"/>
                  </a:lnTo>
                  <a:lnTo>
                    <a:pt x="2982" y="9"/>
                  </a:lnTo>
                  <a:lnTo>
                    <a:pt x="3133" y="2"/>
                  </a:lnTo>
                  <a:lnTo>
                    <a:pt x="3288" y="0"/>
                  </a:lnTo>
                  <a:lnTo>
                    <a:pt x="3446" y="3"/>
                  </a:lnTo>
                  <a:lnTo>
                    <a:pt x="3610" y="10"/>
                  </a:lnTo>
                  <a:lnTo>
                    <a:pt x="3778" y="24"/>
                  </a:lnTo>
                  <a:lnTo>
                    <a:pt x="3951" y="41"/>
                  </a:lnTo>
                  <a:lnTo>
                    <a:pt x="4130" y="63"/>
                  </a:lnTo>
                  <a:lnTo>
                    <a:pt x="4314" y="91"/>
                  </a:lnTo>
                  <a:lnTo>
                    <a:pt x="4506" y="122"/>
                  </a:lnTo>
                  <a:lnTo>
                    <a:pt x="4703" y="159"/>
                  </a:lnTo>
                  <a:lnTo>
                    <a:pt x="4743" y="171"/>
                  </a:lnTo>
                  <a:lnTo>
                    <a:pt x="4781" y="184"/>
                  </a:lnTo>
                  <a:lnTo>
                    <a:pt x="4815" y="197"/>
                  </a:lnTo>
                  <a:lnTo>
                    <a:pt x="4846" y="211"/>
                  </a:lnTo>
                  <a:lnTo>
                    <a:pt x="4860" y="218"/>
                  </a:lnTo>
                  <a:lnTo>
                    <a:pt x="4873" y="227"/>
                  </a:lnTo>
                  <a:lnTo>
                    <a:pt x="4886" y="234"/>
                  </a:lnTo>
                  <a:lnTo>
                    <a:pt x="4897" y="242"/>
                  </a:lnTo>
                  <a:lnTo>
                    <a:pt x="4908" y="251"/>
                  </a:lnTo>
                  <a:lnTo>
                    <a:pt x="4918" y="259"/>
                  </a:lnTo>
                  <a:lnTo>
                    <a:pt x="4926" y="268"/>
                  </a:lnTo>
                  <a:lnTo>
                    <a:pt x="4935" y="278"/>
                  </a:lnTo>
                  <a:lnTo>
                    <a:pt x="4941" y="287"/>
                  </a:lnTo>
                  <a:lnTo>
                    <a:pt x="4947" y="297"/>
                  </a:lnTo>
                  <a:lnTo>
                    <a:pt x="4953" y="307"/>
                  </a:lnTo>
                  <a:lnTo>
                    <a:pt x="4958" y="317"/>
                  </a:lnTo>
                  <a:lnTo>
                    <a:pt x="4961" y="328"/>
                  </a:lnTo>
                  <a:lnTo>
                    <a:pt x="4963" y="339"/>
                  </a:lnTo>
                  <a:lnTo>
                    <a:pt x="4965" y="350"/>
                  </a:lnTo>
                  <a:lnTo>
                    <a:pt x="4965" y="362"/>
                  </a:lnTo>
                  <a:lnTo>
                    <a:pt x="4965" y="373"/>
                  </a:lnTo>
                  <a:lnTo>
                    <a:pt x="4964" y="386"/>
                  </a:lnTo>
                  <a:lnTo>
                    <a:pt x="4962" y="398"/>
                  </a:lnTo>
                  <a:lnTo>
                    <a:pt x="4959" y="411"/>
                  </a:lnTo>
                  <a:lnTo>
                    <a:pt x="4954" y="424"/>
                  </a:lnTo>
                  <a:lnTo>
                    <a:pt x="4948" y="438"/>
                  </a:lnTo>
                  <a:lnTo>
                    <a:pt x="4943" y="452"/>
                  </a:lnTo>
                  <a:lnTo>
                    <a:pt x="4936" y="466"/>
                  </a:lnTo>
                  <a:lnTo>
                    <a:pt x="4365" y="1455"/>
                  </a:lnTo>
                  <a:lnTo>
                    <a:pt x="4186" y="1370"/>
                  </a:lnTo>
                  <a:lnTo>
                    <a:pt x="4520" y="546"/>
                  </a:lnTo>
                  <a:lnTo>
                    <a:pt x="4526" y="535"/>
                  </a:lnTo>
                  <a:lnTo>
                    <a:pt x="4528" y="525"/>
                  </a:lnTo>
                  <a:lnTo>
                    <a:pt x="4529" y="514"/>
                  </a:lnTo>
                  <a:lnTo>
                    <a:pt x="4528" y="504"/>
                  </a:lnTo>
                  <a:lnTo>
                    <a:pt x="4525" y="495"/>
                  </a:lnTo>
                  <a:lnTo>
                    <a:pt x="4520" y="485"/>
                  </a:lnTo>
                  <a:lnTo>
                    <a:pt x="4515" y="476"/>
                  </a:lnTo>
                  <a:lnTo>
                    <a:pt x="4509" y="467"/>
                  </a:lnTo>
                  <a:lnTo>
                    <a:pt x="4501" y="459"/>
                  </a:lnTo>
                  <a:lnTo>
                    <a:pt x="4491" y="451"/>
                  </a:lnTo>
                  <a:lnTo>
                    <a:pt x="4481" y="444"/>
                  </a:lnTo>
                  <a:lnTo>
                    <a:pt x="4469" y="437"/>
                  </a:lnTo>
                  <a:lnTo>
                    <a:pt x="4458" y="432"/>
                  </a:lnTo>
                  <a:lnTo>
                    <a:pt x="4444" y="426"/>
                  </a:lnTo>
                  <a:lnTo>
                    <a:pt x="4430" y="421"/>
                  </a:lnTo>
                  <a:lnTo>
                    <a:pt x="4417" y="418"/>
                  </a:lnTo>
                  <a:lnTo>
                    <a:pt x="4234" y="379"/>
                  </a:lnTo>
                  <a:lnTo>
                    <a:pt x="4058" y="347"/>
                  </a:lnTo>
                  <a:lnTo>
                    <a:pt x="3887" y="321"/>
                  </a:lnTo>
                  <a:lnTo>
                    <a:pt x="3722" y="301"/>
                  </a:lnTo>
                  <a:lnTo>
                    <a:pt x="3562" y="286"/>
                  </a:lnTo>
                  <a:lnTo>
                    <a:pt x="3406" y="278"/>
                  </a:lnTo>
                  <a:lnTo>
                    <a:pt x="3255" y="275"/>
                  </a:lnTo>
                  <a:lnTo>
                    <a:pt x="3110" y="277"/>
                  </a:lnTo>
                  <a:lnTo>
                    <a:pt x="2967" y="284"/>
                  </a:lnTo>
                  <a:lnTo>
                    <a:pt x="2827" y="297"/>
                  </a:lnTo>
                  <a:lnTo>
                    <a:pt x="2691" y="315"/>
                  </a:lnTo>
                  <a:lnTo>
                    <a:pt x="2559" y="338"/>
                  </a:lnTo>
                  <a:lnTo>
                    <a:pt x="2428" y="365"/>
                  </a:lnTo>
                  <a:lnTo>
                    <a:pt x="2300" y="397"/>
                  </a:lnTo>
                  <a:lnTo>
                    <a:pt x="2173" y="434"/>
                  </a:lnTo>
                  <a:lnTo>
                    <a:pt x="2048" y="475"/>
                  </a:lnTo>
                  <a:lnTo>
                    <a:pt x="1924" y="521"/>
                  </a:lnTo>
                  <a:lnTo>
                    <a:pt x="1802" y="571"/>
                  </a:lnTo>
                  <a:lnTo>
                    <a:pt x="1680" y="624"/>
                  </a:lnTo>
                  <a:lnTo>
                    <a:pt x="1558" y="683"/>
                  </a:lnTo>
                  <a:lnTo>
                    <a:pt x="1436" y="745"/>
                  </a:lnTo>
                  <a:lnTo>
                    <a:pt x="1313" y="811"/>
                  </a:lnTo>
                  <a:lnTo>
                    <a:pt x="1191" y="880"/>
                  </a:lnTo>
                  <a:lnTo>
                    <a:pt x="1067" y="952"/>
                  </a:lnTo>
                  <a:lnTo>
                    <a:pt x="942" y="1028"/>
                  </a:lnTo>
                  <a:lnTo>
                    <a:pt x="814" y="1108"/>
                  </a:lnTo>
                  <a:lnTo>
                    <a:pt x="686" y="1190"/>
                  </a:lnTo>
                  <a:lnTo>
                    <a:pt x="555" y="1276"/>
                  </a:lnTo>
                  <a:lnTo>
                    <a:pt x="284" y="1456"/>
                  </a:lnTo>
                  <a:lnTo>
                    <a:pt x="0" y="16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8080" y="4037400"/>
              <a:ext cx="170280" cy="99360"/>
            </a:xfrm>
            <a:custGeom>
              <a:avLst/>
              <a:gdLst/>
              <a:ahLst/>
              <a:rect l="l" t="t" r="r" b="b"/>
              <a:pathLst>
                <a:path w="2609" h="1631">
                  <a:moveTo>
                    <a:pt x="2609" y="1631"/>
                  </a:moveTo>
                  <a:lnTo>
                    <a:pt x="2515" y="1463"/>
                  </a:lnTo>
                  <a:lnTo>
                    <a:pt x="2427" y="1305"/>
                  </a:lnTo>
                  <a:lnTo>
                    <a:pt x="2383" y="1229"/>
                  </a:lnTo>
                  <a:lnTo>
                    <a:pt x="2341" y="1156"/>
                  </a:lnTo>
                  <a:lnTo>
                    <a:pt x="2299" y="1086"/>
                  </a:lnTo>
                  <a:lnTo>
                    <a:pt x="2258" y="1018"/>
                  </a:lnTo>
                  <a:lnTo>
                    <a:pt x="2217" y="952"/>
                  </a:lnTo>
                  <a:lnTo>
                    <a:pt x="2177" y="888"/>
                  </a:lnTo>
                  <a:lnTo>
                    <a:pt x="2135" y="826"/>
                  </a:lnTo>
                  <a:lnTo>
                    <a:pt x="2094" y="767"/>
                  </a:lnTo>
                  <a:lnTo>
                    <a:pt x="2052" y="710"/>
                  </a:lnTo>
                  <a:lnTo>
                    <a:pt x="2009" y="656"/>
                  </a:lnTo>
                  <a:lnTo>
                    <a:pt x="1966" y="603"/>
                  </a:lnTo>
                  <a:lnTo>
                    <a:pt x="1921" y="552"/>
                  </a:lnTo>
                  <a:lnTo>
                    <a:pt x="1876" y="504"/>
                  </a:lnTo>
                  <a:lnTo>
                    <a:pt x="1829" y="457"/>
                  </a:lnTo>
                  <a:lnTo>
                    <a:pt x="1780" y="413"/>
                  </a:lnTo>
                  <a:lnTo>
                    <a:pt x="1730" y="370"/>
                  </a:lnTo>
                  <a:lnTo>
                    <a:pt x="1678" y="330"/>
                  </a:lnTo>
                  <a:lnTo>
                    <a:pt x="1624" y="292"/>
                  </a:lnTo>
                  <a:lnTo>
                    <a:pt x="1568" y="255"/>
                  </a:lnTo>
                  <a:lnTo>
                    <a:pt x="1508" y="221"/>
                  </a:lnTo>
                  <a:lnTo>
                    <a:pt x="1446" y="188"/>
                  </a:lnTo>
                  <a:lnTo>
                    <a:pt x="1382" y="158"/>
                  </a:lnTo>
                  <a:lnTo>
                    <a:pt x="1314" y="129"/>
                  </a:lnTo>
                  <a:lnTo>
                    <a:pt x="1244" y="101"/>
                  </a:lnTo>
                  <a:lnTo>
                    <a:pt x="1170" y="76"/>
                  </a:lnTo>
                  <a:lnTo>
                    <a:pt x="1093" y="53"/>
                  </a:lnTo>
                  <a:lnTo>
                    <a:pt x="1012" y="31"/>
                  </a:lnTo>
                  <a:lnTo>
                    <a:pt x="927" y="10"/>
                  </a:lnTo>
                  <a:lnTo>
                    <a:pt x="910" y="7"/>
                  </a:lnTo>
                  <a:lnTo>
                    <a:pt x="893" y="5"/>
                  </a:lnTo>
                  <a:lnTo>
                    <a:pt x="876" y="3"/>
                  </a:lnTo>
                  <a:lnTo>
                    <a:pt x="859" y="2"/>
                  </a:lnTo>
                  <a:lnTo>
                    <a:pt x="825" y="0"/>
                  </a:lnTo>
                  <a:lnTo>
                    <a:pt x="792" y="1"/>
                  </a:lnTo>
                  <a:lnTo>
                    <a:pt x="760" y="4"/>
                  </a:lnTo>
                  <a:lnTo>
                    <a:pt x="727" y="8"/>
                  </a:lnTo>
                  <a:lnTo>
                    <a:pt x="696" y="15"/>
                  </a:lnTo>
                  <a:lnTo>
                    <a:pt x="667" y="24"/>
                  </a:lnTo>
                  <a:lnTo>
                    <a:pt x="637" y="33"/>
                  </a:lnTo>
                  <a:lnTo>
                    <a:pt x="610" y="45"/>
                  </a:lnTo>
                  <a:lnTo>
                    <a:pt x="585" y="58"/>
                  </a:lnTo>
                  <a:lnTo>
                    <a:pt x="561" y="72"/>
                  </a:lnTo>
                  <a:lnTo>
                    <a:pt x="550" y="80"/>
                  </a:lnTo>
                  <a:lnTo>
                    <a:pt x="539" y="88"/>
                  </a:lnTo>
                  <a:lnTo>
                    <a:pt x="529" y="96"/>
                  </a:lnTo>
                  <a:lnTo>
                    <a:pt x="518" y="105"/>
                  </a:lnTo>
                  <a:lnTo>
                    <a:pt x="509" y="114"/>
                  </a:lnTo>
                  <a:lnTo>
                    <a:pt x="500" y="123"/>
                  </a:lnTo>
                  <a:lnTo>
                    <a:pt x="492" y="133"/>
                  </a:lnTo>
                  <a:lnTo>
                    <a:pt x="485" y="142"/>
                  </a:lnTo>
                  <a:lnTo>
                    <a:pt x="0" y="778"/>
                  </a:lnTo>
                  <a:lnTo>
                    <a:pt x="268" y="848"/>
                  </a:lnTo>
                  <a:lnTo>
                    <a:pt x="415" y="582"/>
                  </a:lnTo>
                  <a:lnTo>
                    <a:pt x="420" y="572"/>
                  </a:lnTo>
                  <a:lnTo>
                    <a:pt x="429" y="565"/>
                  </a:lnTo>
                  <a:lnTo>
                    <a:pt x="440" y="560"/>
                  </a:lnTo>
                  <a:lnTo>
                    <a:pt x="452" y="555"/>
                  </a:lnTo>
                  <a:lnTo>
                    <a:pt x="467" y="553"/>
                  </a:lnTo>
                  <a:lnTo>
                    <a:pt x="484" y="552"/>
                  </a:lnTo>
                  <a:lnTo>
                    <a:pt x="502" y="553"/>
                  </a:lnTo>
                  <a:lnTo>
                    <a:pt x="522" y="555"/>
                  </a:lnTo>
                  <a:lnTo>
                    <a:pt x="543" y="560"/>
                  </a:lnTo>
                  <a:lnTo>
                    <a:pt x="566" y="565"/>
                  </a:lnTo>
                  <a:lnTo>
                    <a:pt x="589" y="571"/>
                  </a:lnTo>
                  <a:lnTo>
                    <a:pt x="614" y="578"/>
                  </a:lnTo>
                  <a:lnTo>
                    <a:pt x="641" y="587"/>
                  </a:lnTo>
                  <a:lnTo>
                    <a:pt x="668" y="597"/>
                  </a:lnTo>
                  <a:lnTo>
                    <a:pt x="695" y="608"/>
                  </a:lnTo>
                  <a:lnTo>
                    <a:pt x="723" y="619"/>
                  </a:lnTo>
                  <a:lnTo>
                    <a:pt x="753" y="633"/>
                  </a:lnTo>
                  <a:lnTo>
                    <a:pt x="782" y="646"/>
                  </a:lnTo>
                  <a:lnTo>
                    <a:pt x="811" y="661"/>
                  </a:lnTo>
                  <a:lnTo>
                    <a:pt x="840" y="676"/>
                  </a:lnTo>
                  <a:lnTo>
                    <a:pt x="871" y="692"/>
                  </a:lnTo>
                  <a:lnTo>
                    <a:pt x="900" y="709"/>
                  </a:lnTo>
                  <a:lnTo>
                    <a:pt x="929" y="726"/>
                  </a:lnTo>
                  <a:lnTo>
                    <a:pt x="959" y="744"/>
                  </a:lnTo>
                  <a:lnTo>
                    <a:pt x="987" y="763"/>
                  </a:lnTo>
                  <a:lnTo>
                    <a:pt x="1015" y="781"/>
                  </a:lnTo>
                  <a:lnTo>
                    <a:pt x="1042" y="800"/>
                  </a:lnTo>
                  <a:lnTo>
                    <a:pt x="1070" y="819"/>
                  </a:lnTo>
                  <a:lnTo>
                    <a:pt x="1096" y="839"/>
                  </a:lnTo>
                  <a:lnTo>
                    <a:pt x="1120" y="859"/>
                  </a:lnTo>
                  <a:lnTo>
                    <a:pt x="1144" y="879"/>
                  </a:lnTo>
                  <a:lnTo>
                    <a:pt x="1166" y="899"/>
                  </a:lnTo>
                  <a:lnTo>
                    <a:pt x="1149" y="867"/>
                  </a:lnTo>
                  <a:lnTo>
                    <a:pt x="1132" y="836"/>
                  </a:lnTo>
                  <a:lnTo>
                    <a:pt x="1114" y="804"/>
                  </a:lnTo>
                  <a:lnTo>
                    <a:pt x="1093" y="774"/>
                  </a:lnTo>
                  <a:lnTo>
                    <a:pt x="1071" y="744"/>
                  </a:lnTo>
                  <a:lnTo>
                    <a:pt x="1048" y="714"/>
                  </a:lnTo>
                  <a:lnTo>
                    <a:pt x="1023" y="685"/>
                  </a:lnTo>
                  <a:lnTo>
                    <a:pt x="995" y="657"/>
                  </a:lnTo>
                  <a:lnTo>
                    <a:pt x="967" y="630"/>
                  </a:lnTo>
                  <a:lnTo>
                    <a:pt x="936" y="604"/>
                  </a:lnTo>
                  <a:lnTo>
                    <a:pt x="903" y="577"/>
                  </a:lnTo>
                  <a:lnTo>
                    <a:pt x="869" y="552"/>
                  </a:lnTo>
                  <a:lnTo>
                    <a:pt x="832" y="528"/>
                  </a:lnTo>
                  <a:lnTo>
                    <a:pt x="792" y="504"/>
                  </a:lnTo>
                  <a:lnTo>
                    <a:pt x="750" y="482"/>
                  </a:lnTo>
                  <a:lnTo>
                    <a:pt x="707" y="460"/>
                  </a:lnTo>
                  <a:lnTo>
                    <a:pt x="699" y="451"/>
                  </a:lnTo>
                  <a:lnTo>
                    <a:pt x="692" y="441"/>
                  </a:lnTo>
                  <a:lnTo>
                    <a:pt x="687" y="431"/>
                  </a:lnTo>
                  <a:lnTo>
                    <a:pt x="681" y="420"/>
                  </a:lnTo>
                  <a:lnTo>
                    <a:pt x="677" y="410"/>
                  </a:lnTo>
                  <a:lnTo>
                    <a:pt x="675" y="398"/>
                  </a:lnTo>
                  <a:lnTo>
                    <a:pt x="673" y="388"/>
                  </a:lnTo>
                  <a:lnTo>
                    <a:pt x="672" y="376"/>
                  </a:lnTo>
                  <a:lnTo>
                    <a:pt x="672" y="365"/>
                  </a:lnTo>
                  <a:lnTo>
                    <a:pt x="674" y="355"/>
                  </a:lnTo>
                  <a:lnTo>
                    <a:pt x="676" y="344"/>
                  </a:lnTo>
                  <a:lnTo>
                    <a:pt x="679" y="334"/>
                  </a:lnTo>
                  <a:lnTo>
                    <a:pt x="685" y="323"/>
                  </a:lnTo>
                  <a:lnTo>
                    <a:pt x="690" y="314"/>
                  </a:lnTo>
                  <a:lnTo>
                    <a:pt x="697" y="304"/>
                  </a:lnTo>
                  <a:lnTo>
                    <a:pt x="705" y="295"/>
                  </a:lnTo>
                  <a:lnTo>
                    <a:pt x="715" y="288"/>
                  </a:lnTo>
                  <a:lnTo>
                    <a:pt x="725" y="279"/>
                  </a:lnTo>
                  <a:lnTo>
                    <a:pt x="737" y="273"/>
                  </a:lnTo>
                  <a:lnTo>
                    <a:pt x="749" y="267"/>
                  </a:lnTo>
                  <a:lnTo>
                    <a:pt x="764" y="262"/>
                  </a:lnTo>
                  <a:lnTo>
                    <a:pt x="780" y="258"/>
                  </a:lnTo>
                  <a:lnTo>
                    <a:pt x="797" y="255"/>
                  </a:lnTo>
                  <a:lnTo>
                    <a:pt x="814" y="253"/>
                  </a:lnTo>
                  <a:lnTo>
                    <a:pt x="834" y="253"/>
                  </a:lnTo>
                  <a:lnTo>
                    <a:pt x="855" y="254"/>
                  </a:lnTo>
                  <a:lnTo>
                    <a:pt x="877" y="255"/>
                  </a:lnTo>
                  <a:lnTo>
                    <a:pt x="900" y="259"/>
                  </a:lnTo>
                  <a:lnTo>
                    <a:pt x="925" y="265"/>
                  </a:lnTo>
                  <a:lnTo>
                    <a:pt x="951" y="271"/>
                  </a:lnTo>
                  <a:lnTo>
                    <a:pt x="979" y="279"/>
                  </a:lnTo>
                  <a:lnTo>
                    <a:pt x="1008" y="289"/>
                  </a:lnTo>
                  <a:lnTo>
                    <a:pt x="1093" y="324"/>
                  </a:lnTo>
                  <a:lnTo>
                    <a:pt x="1173" y="360"/>
                  </a:lnTo>
                  <a:lnTo>
                    <a:pt x="1250" y="395"/>
                  </a:lnTo>
                  <a:lnTo>
                    <a:pt x="1324" y="432"/>
                  </a:lnTo>
                  <a:lnTo>
                    <a:pt x="1394" y="470"/>
                  </a:lnTo>
                  <a:lnTo>
                    <a:pt x="1462" y="507"/>
                  </a:lnTo>
                  <a:lnTo>
                    <a:pt x="1527" y="545"/>
                  </a:lnTo>
                  <a:lnTo>
                    <a:pt x="1589" y="584"/>
                  </a:lnTo>
                  <a:lnTo>
                    <a:pt x="1648" y="622"/>
                  </a:lnTo>
                  <a:lnTo>
                    <a:pt x="1705" y="662"/>
                  </a:lnTo>
                  <a:lnTo>
                    <a:pt x="1759" y="702"/>
                  </a:lnTo>
                  <a:lnTo>
                    <a:pt x="1811" y="743"/>
                  </a:lnTo>
                  <a:lnTo>
                    <a:pt x="1862" y="784"/>
                  </a:lnTo>
                  <a:lnTo>
                    <a:pt x="1910" y="824"/>
                  </a:lnTo>
                  <a:lnTo>
                    <a:pt x="1957" y="865"/>
                  </a:lnTo>
                  <a:lnTo>
                    <a:pt x="2002" y="907"/>
                  </a:lnTo>
                  <a:lnTo>
                    <a:pt x="2045" y="950"/>
                  </a:lnTo>
                  <a:lnTo>
                    <a:pt x="2087" y="993"/>
                  </a:lnTo>
                  <a:lnTo>
                    <a:pt x="2127" y="1036"/>
                  </a:lnTo>
                  <a:lnTo>
                    <a:pt x="2167" y="1080"/>
                  </a:lnTo>
                  <a:lnTo>
                    <a:pt x="2206" y="1124"/>
                  </a:lnTo>
                  <a:lnTo>
                    <a:pt x="2244" y="1168"/>
                  </a:lnTo>
                  <a:lnTo>
                    <a:pt x="2281" y="1213"/>
                  </a:lnTo>
                  <a:lnTo>
                    <a:pt x="2318" y="1258"/>
                  </a:lnTo>
                  <a:lnTo>
                    <a:pt x="2390" y="1349"/>
                  </a:lnTo>
                  <a:lnTo>
                    <a:pt x="2462" y="1442"/>
                  </a:lnTo>
                  <a:lnTo>
                    <a:pt x="2535" y="1536"/>
                  </a:lnTo>
                  <a:lnTo>
                    <a:pt x="2609" y="163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4080" y="4073760"/>
              <a:ext cx="272880" cy="475200"/>
            </a:xfrm>
            <a:custGeom>
              <a:avLst/>
              <a:gdLst/>
              <a:ahLst/>
              <a:rect l="l" t="t" r="r" b="b"/>
              <a:pathLst>
                <a:path w="4202" h="7797">
                  <a:moveTo>
                    <a:pt x="3734" y="2147"/>
                  </a:moveTo>
                  <a:lnTo>
                    <a:pt x="3656" y="2056"/>
                  </a:lnTo>
                  <a:lnTo>
                    <a:pt x="3576" y="1965"/>
                  </a:lnTo>
                  <a:lnTo>
                    <a:pt x="3496" y="1876"/>
                  </a:lnTo>
                  <a:lnTo>
                    <a:pt x="3414" y="1790"/>
                  </a:lnTo>
                  <a:lnTo>
                    <a:pt x="3332" y="1704"/>
                  </a:lnTo>
                  <a:lnTo>
                    <a:pt x="3248" y="1619"/>
                  </a:lnTo>
                  <a:lnTo>
                    <a:pt x="3163" y="1536"/>
                  </a:lnTo>
                  <a:lnTo>
                    <a:pt x="3076" y="1455"/>
                  </a:lnTo>
                  <a:lnTo>
                    <a:pt x="2988" y="1375"/>
                  </a:lnTo>
                  <a:lnTo>
                    <a:pt x="2899" y="1297"/>
                  </a:lnTo>
                  <a:lnTo>
                    <a:pt x="2809" y="1220"/>
                  </a:lnTo>
                  <a:lnTo>
                    <a:pt x="2718" y="1146"/>
                  </a:lnTo>
                  <a:lnTo>
                    <a:pt x="2625" y="1073"/>
                  </a:lnTo>
                  <a:lnTo>
                    <a:pt x="2531" y="1002"/>
                  </a:lnTo>
                  <a:lnTo>
                    <a:pt x="2435" y="933"/>
                  </a:lnTo>
                  <a:lnTo>
                    <a:pt x="2339" y="865"/>
                  </a:lnTo>
                  <a:lnTo>
                    <a:pt x="2240" y="799"/>
                  </a:lnTo>
                  <a:lnTo>
                    <a:pt x="2140" y="734"/>
                  </a:lnTo>
                  <a:lnTo>
                    <a:pt x="2038" y="672"/>
                  </a:lnTo>
                  <a:lnTo>
                    <a:pt x="1935" y="611"/>
                  </a:lnTo>
                  <a:lnTo>
                    <a:pt x="1830" y="553"/>
                  </a:lnTo>
                  <a:lnTo>
                    <a:pt x="1724" y="495"/>
                  </a:lnTo>
                  <a:lnTo>
                    <a:pt x="1617" y="441"/>
                  </a:lnTo>
                  <a:lnTo>
                    <a:pt x="1507" y="387"/>
                  </a:lnTo>
                  <a:lnTo>
                    <a:pt x="1396" y="337"/>
                  </a:lnTo>
                  <a:lnTo>
                    <a:pt x="1283" y="288"/>
                  </a:lnTo>
                  <a:lnTo>
                    <a:pt x="1169" y="241"/>
                  </a:lnTo>
                  <a:lnTo>
                    <a:pt x="1053" y="195"/>
                  </a:lnTo>
                  <a:lnTo>
                    <a:pt x="934" y="152"/>
                  </a:lnTo>
                  <a:lnTo>
                    <a:pt x="814" y="111"/>
                  </a:lnTo>
                  <a:lnTo>
                    <a:pt x="693" y="72"/>
                  </a:lnTo>
                  <a:lnTo>
                    <a:pt x="569" y="36"/>
                  </a:lnTo>
                  <a:lnTo>
                    <a:pt x="545" y="26"/>
                  </a:lnTo>
                  <a:lnTo>
                    <a:pt x="520" y="18"/>
                  </a:lnTo>
                  <a:lnTo>
                    <a:pt x="494" y="12"/>
                  </a:lnTo>
                  <a:lnTo>
                    <a:pt x="468" y="7"/>
                  </a:lnTo>
                  <a:lnTo>
                    <a:pt x="439" y="3"/>
                  </a:lnTo>
                  <a:lnTo>
                    <a:pt x="412" y="1"/>
                  </a:lnTo>
                  <a:lnTo>
                    <a:pt x="384" y="0"/>
                  </a:lnTo>
                  <a:lnTo>
                    <a:pt x="357" y="1"/>
                  </a:lnTo>
                  <a:lnTo>
                    <a:pt x="328" y="4"/>
                  </a:lnTo>
                  <a:lnTo>
                    <a:pt x="300" y="9"/>
                  </a:lnTo>
                  <a:lnTo>
                    <a:pt x="273" y="14"/>
                  </a:lnTo>
                  <a:lnTo>
                    <a:pt x="246" y="20"/>
                  </a:lnTo>
                  <a:lnTo>
                    <a:pt x="220" y="28"/>
                  </a:lnTo>
                  <a:lnTo>
                    <a:pt x="194" y="38"/>
                  </a:lnTo>
                  <a:lnTo>
                    <a:pt x="168" y="49"/>
                  </a:lnTo>
                  <a:lnTo>
                    <a:pt x="145" y="61"/>
                  </a:lnTo>
                  <a:lnTo>
                    <a:pt x="122" y="75"/>
                  </a:lnTo>
                  <a:lnTo>
                    <a:pt x="101" y="89"/>
                  </a:lnTo>
                  <a:lnTo>
                    <a:pt x="83" y="106"/>
                  </a:lnTo>
                  <a:lnTo>
                    <a:pt x="65" y="124"/>
                  </a:lnTo>
                  <a:lnTo>
                    <a:pt x="48" y="141"/>
                  </a:lnTo>
                  <a:lnTo>
                    <a:pt x="34" y="161"/>
                  </a:lnTo>
                  <a:lnTo>
                    <a:pt x="23" y="183"/>
                  </a:lnTo>
                  <a:lnTo>
                    <a:pt x="14" y="205"/>
                  </a:lnTo>
                  <a:lnTo>
                    <a:pt x="6" y="228"/>
                  </a:lnTo>
                  <a:lnTo>
                    <a:pt x="2" y="253"/>
                  </a:lnTo>
                  <a:lnTo>
                    <a:pt x="0" y="279"/>
                  </a:lnTo>
                  <a:lnTo>
                    <a:pt x="2" y="306"/>
                  </a:lnTo>
                  <a:lnTo>
                    <a:pt x="6" y="334"/>
                  </a:lnTo>
                  <a:lnTo>
                    <a:pt x="14" y="363"/>
                  </a:lnTo>
                  <a:lnTo>
                    <a:pt x="24" y="393"/>
                  </a:lnTo>
                  <a:lnTo>
                    <a:pt x="39" y="424"/>
                  </a:lnTo>
                  <a:lnTo>
                    <a:pt x="128" y="587"/>
                  </a:lnTo>
                  <a:lnTo>
                    <a:pt x="213" y="753"/>
                  </a:lnTo>
                  <a:lnTo>
                    <a:pt x="295" y="920"/>
                  </a:lnTo>
                  <a:lnTo>
                    <a:pt x="375" y="1088"/>
                  </a:lnTo>
                  <a:lnTo>
                    <a:pt x="451" y="1258"/>
                  </a:lnTo>
                  <a:lnTo>
                    <a:pt x="524" y="1430"/>
                  </a:lnTo>
                  <a:lnTo>
                    <a:pt x="594" y="1602"/>
                  </a:lnTo>
                  <a:lnTo>
                    <a:pt x="662" y="1777"/>
                  </a:lnTo>
                  <a:lnTo>
                    <a:pt x="728" y="1953"/>
                  </a:lnTo>
                  <a:lnTo>
                    <a:pt x="791" y="2129"/>
                  </a:lnTo>
                  <a:lnTo>
                    <a:pt x="851" y="2306"/>
                  </a:lnTo>
                  <a:lnTo>
                    <a:pt x="909" y="2485"/>
                  </a:lnTo>
                  <a:lnTo>
                    <a:pt x="965" y="2665"/>
                  </a:lnTo>
                  <a:lnTo>
                    <a:pt x="1019" y="2845"/>
                  </a:lnTo>
                  <a:lnTo>
                    <a:pt x="1070" y="3026"/>
                  </a:lnTo>
                  <a:lnTo>
                    <a:pt x="1120" y="3208"/>
                  </a:lnTo>
                  <a:lnTo>
                    <a:pt x="1168" y="3392"/>
                  </a:lnTo>
                  <a:lnTo>
                    <a:pt x="1214" y="3575"/>
                  </a:lnTo>
                  <a:lnTo>
                    <a:pt x="1258" y="3759"/>
                  </a:lnTo>
                  <a:lnTo>
                    <a:pt x="1301" y="3943"/>
                  </a:lnTo>
                  <a:lnTo>
                    <a:pt x="1341" y="4127"/>
                  </a:lnTo>
                  <a:lnTo>
                    <a:pt x="1381" y="4312"/>
                  </a:lnTo>
                  <a:lnTo>
                    <a:pt x="1420" y="4498"/>
                  </a:lnTo>
                  <a:lnTo>
                    <a:pt x="1458" y="4683"/>
                  </a:lnTo>
                  <a:lnTo>
                    <a:pt x="1493" y="4868"/>
                  </a:lnTo>
                  <a:lnTo>
                    <a:pt x="1528" y="5053"/>
                  </a:lnTo>
                  <a:lnTo>
                    <a:pt x="1562" y="5238"/>
                  </a:lnTo>
                  <a:lnTo>
                    <a:pt x="1596" y="5424"/>
                  </a:lnTo>
                  <a:lnTo>
                    <a:pt x="1659" y="5793"/>
                  </a:lnTo>
                  <a:lnTo>
                    <a:pt x="1721" y="6161"/>
                  </a:lnTo>
                  <a:lnTo>
                    <a:pt x="1724" y="6180"/>
                  </a:lnTo>
                  <a:lnTo>
                    <a:pt x="1727" y="6198"/>
                  </a:lnTo>
                  <a:lnTo>
                    <a:pt x="1732" y="6216"/>
                  </a:lnTo>
                  <a:lnTo>
                    <a:pt x="1737" y="6232"/>
                  </a:lnTo>
                  <a:lnTo>
                    <a:pt x="1741" y="6248"/>
                  </a:lnTo>
                  <a:lnTo>
                    <a:pt x="1747" y="6264"/>
                  </a:lnTo>
                  <a:lnTo>
                    <a:pt x="1753" y="6280"/>
                  </a:lnTo>
                  <a:lnTo>
                    <a:pt x="1759" y="6293"/>
                  </a:lnTo>
                  <a:lnTo>
                    <a:pt x="1765" y="6308"/>
                  </a:lnTo>
                  <a:lnTo>
                    <a:pt x="1772" y="6321"/>
                  </a:lnTo>
                  <a:lnTo>
                    <a:pt x="1779" y="6334"/>
                  </a:lnTo>
                  <a:lnTo>
                    <a:pt x="1787" y="6346"/>
                  </a:lnTo>
                  <a:lnTo>
                    <a:pt x="1794" y="6358"/>
                  </a:lnTo>
                  <a:lnTo>
                    <a:pt x="1803" y="6370"/>
                  </a:lnTo>
                  <a:lnTo>
                    <a:pt x="1811" y="6380"/>
                  </a:lnTo>
                  <a:lnTo>
                    <a:pt x="1820" y="6390"/>
                  </a:lnTo>
                  <a:lnTo>
                    <a:pt x="1829" y="6401"/>
                  </a:lnTo>
                  <a:lnTo>
                    <a:pt x="1838" y="6409"/>
                  </a:lnTo>
                  <a:lnTo>
                    <a:pt x="1848" y="6419"/>
                  </a:lnTo>
                  <a:lnTo>
                    <a:pt x="1857" y="6427"/>
                  </a:lnTo>
                  <a:lnTo>
                    <a:pt x="1868" y="6434"/>
                  </a:lnTo>
                  <a:lnTo>
                    <a:pt x="1878" y="6442"/>
                  </a:lnTo>
                  <a:lnTo>
                    <a:pt x="1889" y="6449"/>
                  </a:lnTo>
                  <a:lnTo>
                    <a:pt x="1899" y="6455"/>
                  </a:lnTo>
                  <a:lnTo>
                    <a:pt x="1910" y="6462"/>
                  </a:lnTo>
                  <a:lnTo>
                    <a:pt x="1921" y="6467"/>
                  </a:lnTo>
                  <a:lnTo>
                    <a:pt x="1933" y="6471"/>
                  </a:lnTo>
                  <a:lnTo>
                    <a:pt x="1944" y="6476"/>
                  </a:lnTo>
                  <a:lnTo>
                    <a:pt x="1967" y="6484"/>
                  </a:lnTo>
                  <a:lnTo>
                    <a:pt x="1991" y="6490"/>
                  </a:lnTo>
                  <a:lnTo>
                    <a:pt x="2073" y="6508"/>
                  </a:lnTo>
                  <a:lnTo>
                    <a:pt x="2152" y="6528"/>
                  </a:lnTo>
                  <a:lnTo>
                    <a:pt x="2232" y="6548"/>
                  </a:lnTo>
                  <a:lnTo>
                    <a:pt x="2309" y="6573"/>
                  </a:lnTo>
                  <a:lnTo>
                    <a:pt x="2386" y="6598"/>
                  </a:lnTo>
                  <a:lnTo>
                    <a:pt x="2462" y="6624"/>
                  </a:lnTo>
                  <a:lnTo>
                    <a:pt x="2536" y="6652"/>
                  </a:lnTo>
                  <a:lnTo>
                    <a:pt x="2611" y="6682"/>
                  </a:lnTo>
                  <a:lnTo>
                    <a:pt x="2683" y="6714"/>
                  </a:lnTo>
                  <a:lnTo>
                    <a:pt x="2755" y="6747"/>
                  </a:lnTo>
                  <a:lnTo>
                    <a:pt x="2826" y="6782"/>
                  </a:lnTo>
                  <a:lnTo>
                    <a:pt x="2896" y="6818"/>
                  </a:lnTo>
                  <a:lnTo>
                    <a:pt x="2965" y="6856"/>
                  </a:lnTo>
                  <a:lnTo>
                    <a:pt x="3034" y="6895"/>
                  </a:lnTo>
                  <a:lnTo>
                    <a:pt x="3102" y="6936"/>
                  </a:lnTo>
                  <a:lnTo>
                    <a:pt x="3170" y="6977"/>
                  </a:lnTo>
                  <a:lnTo>
                    <a:pt x="3237" y="7020"/>
                  </a:lnTo>
                  <a:lnTo>
                    <a:pt x="3304" y="7064"/>
                  </a:lnTo>
                  <a:lnTo>
                    <a:pt x="3370" y="7110"/>
                  </a:lnTo>
                  <a:lnTo>
                    <a:pt x="3435" y="7156"/>
                  </a:lnTo>
                  <a:lnTo>
                    <a:pt x="3501" y="7205"/>
                  </a:lnTo>
                  <a:lnTo>
                    <a:pt x="3565" y="7254"/>
                  </a:lnTo>
                  <a:lnTo>
                    <a:pt x="3630" y="7304"/>
                  </a:lnTo>
                  <a:lnTo>
                    <a:pt x="3694" y="7354"/>
                  </a:lnTo>
                  <a:lnTo>
                    <a:pt x="3757" y="7406"/>
                  </a:lnTo>
                  <a:lnTo>
                    <a:pt x="3821" y="7460"/>
                  </a:lnTo>
                  <a:lnTo>
                    <a:pt x="3885" y="7514"/>
                  </a:lnTo>
                  <a:lnTo>
                    <a:pt x="3949" y="7569"/>
                  </a:lnTo>
                  <a:lnTo>
                    <a:pt x="4012" y="7624"/>
                  </a:lnTo>
                  <a:lnTo>
                    <a:pt x="4076" y="7681"/>
                  </a:lnTo>
                  <a:lnTo>
                    <a:pt x="4138" y="7738"/>
                  </a:lnTo>
                  <a:lnTo>
                    <a:pt x="4202" y="7797"/>
                  </a:lnTo>
                  <a:lnTo>
                    <a:pt x="4146" y="7342"/>
                  </a:lnTo>
                  <a:lnTo>
                    <a:pt x="4055" y="7260"/>
                  </a:lnTo>
                  <a:lnTo>
                    <a:pt x="3957" y="7174"/>
                  </a:lnTo>
                  <a:lnTo>
                    <a:pt x="3906" y="7130"/>
                  </a:lnTo>
                  <a:lnTo>
                    <a:pt x="3853" y="7085"/>
                  </a:lnTo>
                  <a:lnTo>
                    <a:pt x="3799" y="7041"/>
                  </a:lnTo>
                  <a:lnTo>
                    <a:pt x="3744" y="6995"/>
                  </a:lnTo>
                  <a:lnTo>
                    <a:pt x="3686" y="6950"/>
                  </a:lnTo>
                  <a:lnTo>
                    <a:pt x="3629" y="6905"/>
                  </a:lnTo>
                  <a:lnTo>
                    <a:pt x="3569" y="6860"/>
                  </a:lnTo>
                  <a:lnTo>
                    <a:pt x="3509" y="6815"/>
                  </a:lnTo>
                  <a:lnTo>
                    <a:pt x="3448" y="6770"/>
                  </a:lnTo>
                  <a:lnTo>
                    <a:pt x="3385" y="6726"/>
                  </a:lnTo>
                  <a:lnTo>
                    <a:pt x="3321" y="6682"/>
                  </a:lnTo>
                  <a:lnTo>
                    <a:pt x="3257" y="6639"/>
                  </a:lnTo>
                  <a:lnTo>
                    <a:pt x="3191" y="6598"/>
                  </a:lnTo>
                  <a:lnTo>
                    <a:pt x="3125" y="6557"/>
                  </a:lnTo>
                  <a:lnTo>
                    <a:pt x="3058" y="6517"/>
                  </a:lnTo>
                  <a:lnTo>
                    <a:pt x="2990" y="6478"/>
                  </a:lnTo>
                  <a:lnTo>
                    <a:pt x="2921" y="6442"/>
                  </a:lnTo>
                  <a:lnTo>
                    <a:pt x="2852" y="6405"/>
                  </a:lnTo>
                  <a:lnTo>
                    <a:pt x="2783" y="6372"/>
                  </a:lnTo>
                  <a:lnTo>
                    <a:pt x="2712" y="6339"/>
                  </a:lnTo>
                  <a:lnTo>
                    <a:pt x="2642" y="6309"/>
                  </a:lnTo>
                  <a:lnTo>
                    <a:pt x="2571" y="6280"/>
                  </a:lnTo>
                  <a:lnTo>
                    <a:pt x="2499" y="6253"/>
                  </a:lnTo>
                  <a:lnTo>
                    <a:pt x="2428" y="6229"/>
                  </a:lnTo>
                  <a:lnTo>
                    <a:pt x="2355" y="6207"/>
                  </a:lnTo>
                  <a:lnTo>
                    <a:pt x="2282" y="6187"/>
                  </a:lnTo>
                  <a:lnTo>
                    <a:pt x="2210" y="6171"/>
                  </a:lnTo>
                  <a:lnTo>
                    <a:pt x="2138" y="6157"/>
                  </a:lnTo>
                  <a:lnTo>
                    <a:pt x="2120" y="6154"/>
                  </a:lnTo>
                  <a:lnTo>
                    <a:pt x="2105" y="6150"/>
                  </a:lnTo>
                  <a:lnTo>
                    <a:pt x="2093" y="6145"/>
                  </a:lnTo>
                  <a:lnTo>
                    <a:pt x="2081" y="6138"/>
                  </a:lnTo>
                  <a:lnTo>
                    <a:pt x="2071" y="6132"/>
                  </a:lnTo>
                  <a:lnTo>
                    <a:pt x="2062" y="6125"/>
                  </a:lnTo>
                  <a:lnTo>
                    <a:pt x="2055" y="6116"/>
                  </a:lnTo>
                  <a:lnTo>
                    <a:pt x="2049" y="6108"/>
                  </a:lnTo>
                  <a:lnTo>
                    <a:pt x="2044" y="6099"/>
                  </a:lnTo>
                  <a:lnTo>
                    <a:pt x="2039" y="6089"/>
                  </a:lnTo>
                  <a:lnTo>
                    <a:pt x="2035" y="6079"/>
                  </a:lnTo>
                  <a:lnTo>
                    <a:pt x="2033" y="6067"/>
                  </a:lnTo>
                  <a:lnTo>
                    <a:pt x="2028" y="6043"/>
                  </a:lnTo>
                  <a:lnTo>
                    <a:pt x="2024" y="6018"/>
                  </a:lnTo>
                  <a:lnTo>
                    <a:pt x="1996" y="5835"/>
                  </a:lnTo>
                  <a:lnTo>
                    <a:pt x="1969" y="5654"/>
                  </a:lnTo>
                  <a:lnTo>
                    <a:pt x="1941" y="5473"/>
                  </a:lnTo>
                  <a:lnTo>
                    <a:pt x="1912" y="5293"/>
                  </a:lnTo>
                  <a:lnTo>
                    <a:pt x="1881" y="5113"/>
                  </a:lnTo>
                  <a:lnTo>
                    <a:pt x="1851" y="4935"/>
                  </a:lnTo>
                  <a:lnTo>
                    <a:pt x="1820" y="4757"/>
                  </a:lnTo>
                  <a:lnTo>
                    <a:pt x="1786" y="4580"/>
                  </a:lnTo>
                  <a:lnTo>
                    <a:pt x="1753" y="4404"/>
                  </a:lnTo>
                  <a:lnTo>
                    <a:pt x="1717" y="4229"/>
                  </a:lnTo>
                  <a:lnTo>
                    <a:pt x="1680" y="4054"/>
                  </a:lnTo>
                  <a:lnTo>
                    <a:pt x="1642" y="3880"/>
                  </a:lnTo>
                  <a:lnTo>
                    <a:pt x="1603" y="3706"/>
                  </a:lnTo>
                  <a:lnTo>
                    <a:pt x="1561" y="3534"/>
                  </a:lnTo>
                  <a:lnTo>
                    <a:pt x="1518" y="3362"/>
                  </a:lnTo>
                  <a:lnTo>
                    <a:pt x="1473" y="3191"/>
                  </a:lnTo>
                  <a:lnTo>
                    <a:pt x="1426" y="3019"/>
                  </a:lnTo>
                  <a:lnTo>
                    <a:pt x="1378" y="2850"/>
                  </a:lnTo>
                  <a:lnTo>
                    <a:pt x="1327" y="2679"/>
                  </a:lnTo>
                  <a:lnTo>
                    <a:pt x="1274" y="2509"/>
                  </a:lnTo>
                  <a:lnTo>
                    <a:pt x="1219" y="2341"/>
                  </a:lnTo>
                  <a:lnTo>
                    <a:pt x="1161" y="2173"/>
                  </a:lnTo>
                  <a:lnTo>
                    <a:pt x="1102" y="2005"/>
                  </a:lnTo>
                  <a:lnTo>
                    <a:pt x="1039" y="1838"/>
                  </a:lnTo>
                  <a:lnTo>
                    <a:pt x="973" y="1670"/>
                  </a:lnTo>
                  <a:lnTo>
                    <a:pt x="905" y="1504"/>
                  </a:lnTo>
                  <a:lnTo>
                    <a:pt x="835" y="1337"/>
                  </a:lnTo>
                  <a:lnTo>
                    <a:pt x="762" y="1171"/>
                  </a:lnTo>
                  <a:lnTo>
                    <a:pt x="684" y="1006"/>
                  </a:lnTo>
                  <a:lnTo>
                    <a:pt x="605" y="840"/>
                  </a:lnTo>
                  <a:lnTo>
                    <a:pt x="522" y="675"/>
                  </a:lnTo>
                  <a:lnTo>
                    <a:pt x="436" y="511"/>
                  </a:lnTo>
                  <a:lnTo>
                    <a:pt x="432" y="507"/>
                  </a:lnTo>
                  <a:lnTo>
                    <a:pt x="430" y="501"/>
                  </a:lnTo>
                  <a:lnTo>
                    <a:pt x="428" y="497"/>
                  </a:lnTo>
                  <a:lnTo>
                    <a:pt x="427" y="492"/>
                  </a:lnTo>
                  <a:lnTo>
                    <a:pt x="426" y="488"/>
                  </a:lnTo>
                  <a:lnTo>
                    <a:pt x="426" y="483"/>
                  </a:lnTo>
                  <a:lnTo>
                    <a:pt x="427" y="478"/>
                  </a:lnTo>
                  <a:lnTo>
                    <a:pt x="428" y="473"/>
                  </a:lnTo>
                  <a:lnTo>
                    <a:pt x="431" y="464"/>
                  </a:lnTo>
                  <a:lnTo>
                    <a:pt x="436" y="454"/>
                  </a:lnTo>
                  <a:lnTo>
                    <a:pt x="444" y="445"/>
                  </a:lnTo>
                  <a:lnTo>
                    <a:pt x="453" y="437"/>
                  </a:lnTo>
                  <a:lnTo>
                    <a:pt x="463" y="428"/>
                  </a:lnTo>
                  <a:lnTo>
                    <a:pt x="476" y="421"/>
                  </a:lnTo>
                  <a:lnTo>
                    <a:pt x="490" y="416"/>
                  </a:lnTo>
                  <a:lnTo>
                    <a:pt x="504" y="410"/>
                  </a:lnTo>
                  <a:lnTo>
                    <a:pt x="521" y="406"/>
                  </a:lnTo>
                  <a:lnTo>
                    <a:pt x="539" y="404"/>
                  </a:lnTo>
                  <a:lnTo>
                    <a:pt x="557" y="404"/>
                  </a:lnTo>
                  <a:lnTo>
                    <a:pt x="576" y="405"/>
                  </a:lnTo>
                  <a:lnTo>
                    <a:pt x="659" y="416"/>
                  </a:lnTo>
                  <a:lnTo>
                    <a:pt x="743" y="432"/>
                  </a:lnTo>
                  <a:lnTo>
                    <a:pt x="830" y="452"/>
                  </a:lnTo>
                  <a:lnTo>
                    <a:pt x="919" y="477"/>
                  </a:lnTo>
                  <a:lnTo>
                    <a:pt x="1009" y="507"/>
                  </a:lnTo>
                  <a:lnTo>
                    <a:pt x="1101" y="540"/>
                  </a:lnTo>
                  <a:lnTo>
                    <a:pt x="1195" y="578"/>
                  </a:lnTo>
                  <a:lnTo>
                    <a:pt x="1290" y="620"/>
                  </a:lnTo>
                  <a:lnTo>
                    <a:pt x="1386" y="666"/>
                  </a:lnTo>
                  <a:lnTo>
                    <a:pt x="1485" y="715"/>
                  </a:lnTo>
                  <a:lnTo>
                    <a:pt x="1584" y="769"/>
                  </a:lnTo>
                  <a:lnTo>
                    <a:pt x="1685" y="826"/>
                  </a:lnTo>
                  <a:lnTo>
                    <a:pt x="1786" y="888"/>
                  </a:lnTo>
                  <a:lnTo>
                    <a:pt x="1888" y="952"/>
                  </a:lnTo>
                  <a:lnTo>
                    <a:pt x="1991" y="1020"/>
                  </a:lnTo>
                  <a:lnTo>
                    <a:pt x="2095" y="1092"/>
                  </a:lnTo>
                  <a:lnTo>
                    <a:pt x="2198" y="1166"/>
                  </a:lnTo>
                  <a:lnTo>
                    <a:pt x="2303" y="1244"/>
                  </a:lnTo>
                  <a:lnTo>
                    <a:pt x="2408" y="1325"/>
                  </a:lnTo>
                  <a:lnTo>
                    <a:pt x="2512" y="1410"/>
                  </a:lnTo>
                  <a:lnTo>
                    <a:pt x="2617" y="1497"/>
                  </a:lnTo>
                  <a:lnTo>
                    <a:pt x="2722" y="1587"/>
                  </a:lnTo>
                  <a:lnTo>
                    <a:pt x="2826" y="1679"/>
                  </a:lnTo>
                  <a:lnTo>
                    <a:pt x="2931" y="1774"/>
                  </a:lnTo>
                  <a:lnTo>
                    <a:pt x="3034" y="1871"/>
                  </a:lnTo>
                  <a:lnTo>
                    <a:pt x="3138" y="1972"/>
                  </a:lnTo>
                  <a:lnTo>
                    <a:pt x="3242" y="2074"/>
                  </a:lnTo>
                  <a:lnTo>
                    <a:pt x="3343" y="2179"/>
                  </a:lnTo>
                  <a:lnTo>
                    <a:pt x="3445" y="2287"/>
                  </a:lnTo>
                  <a:lnTo>
                    <a:pt x="3545" y="2395"/>
                  </a:lnTo>
                  <a:lnTo>
                    <a:pt x="3643" y="2506"/>
                  </a:lnTo>
                  <a:lnTo>
                    <a:pt x="3742" y="2619"/>
                  </a:lnTo>
                  <a:lnTo>
                    <a:pt x="3780" y="2620"/>
                  </a:lnTo>
                  <a:lnTo>
                    <a:pt x="3815" y="2619"/>
                  </a:lnTo>
                  <a:lnTo>
                    <a:pt x="3847" y="2618"/>
                  </a:lnTo>
                  <a:lnTo>
                    <a:pt x="3876" y="2616"/>
                  </a:lnTo>
                  <a:lnTo>
                    <a:pt x="3901" y="2613"/>
                  </a:lnTo>
                  <a:lnTo>
                    <a:pt x="3924" y="2608"/>
                  </a:lnTo>
                  <a:lnTo>
                    <a:pt x="3944" y="2603"/>
                  </a:lnTo>
                  <a:lnTo>
                    <a:pt x="3960" y="2596"/>
                  </a:lnTo>
                  <a:lnTo>
                    <a:pt x="3974" y="2589"/>
                  </a:lnTo>
                  <a:lnTo>
                    <a:pt x="3986" y="2582"/>
                  </a:lnTo>
                  <a:lnTo>
                    <a:pt x="3994" y="2572"/>
                  </a:lnTo>
                  <a:lnTo>
                    <a:pt x="4000" y="2562"/>
                  </a:lnTo>
                  <a:lnTo>
                    <a:pt x="4004" y="2550"/>
                  </a:lnTo>
                  <a:lnTo>
                    <a:pt x="4005" y="2538"/>
                  </a:lnTo>
                  <a:lnTo>
                    <a:pt x="4005" y="2525"/>
                  </a:lnTo>
                  <a:lnTo>
                    <a:pt x="4002" y="2510"/>
                  </a:lnTo>
                  <a:lnTo>
                    <a:pt x="3997" y="2496"/>
                  </a:lnTo>
                  <a:lnTo>
                    <a:pt x="3991" y="2479"/>
                  </a:lnTo>
                  <a:lnTo>
                    <a:pt x="3981" y="2462"/>
                  </a:lnTo>
                  <a:lnTo>
                    <a:pt x="3971" y="2445"/>
                  </a:lnTo>
                  <a:lnTo>
                    <a:pt x="3958" y="2425"/>
                  </a:lnTo>
                  <a:lnTo>
                    <a:pt x="3945" y="2405"/>
                  </a:lnTo>
                  <a:lnTo>
                    <a:pt x="3929" y="2384"/>
                  </a:lnTo>
                  <a:lnTo>
                    <a:pt x="3912" y="2362"/>
                  </a:lnTo>
                  <a:lnTo>
                    <a:pt x="3875" y="2314"/>
                  </a:lnTo>
                  <a:lnTo>
                    <a:pt x="3832" y="2262"/>
                  </a:lnTo>
                  <a:lnTo>
                    <a:pt x="3785" y="2207"/>
                  </a:lnTo>
                  <a:lnTo>
                    <a:pt x="3734" y="214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08800" y="4172040"/>
              <a:ext cx="507600" cy="439200"/>
            </a:xfrm>
            <a:custGeom>
              <a:avLst/>
              <a:gdLst/>
              <a:ahLst/>
              <a:rect l="l" t="t" r="r" b="b"/>
              <a:pathLst>
                <a:path w="7802" h="7187">
                  <a:moveTo>
                    <a:pt x="389" y="914"/>
                  </a:moveTo>
                  <a:lnTo>
                    <a:pt x="370" y="1207"/>
                  </a:lnTo>
                  <a:lnTo>
                    <a:pt x="363" y="1264"/>
                  </a:lnTo>
                  <a:lnTo>
                    <a:pt x="362" y="1318"/>
                  </a:lnTo>
                  <a:lnTo>
                    <a:pt x="366" y="1370"/>
                  </a:lnTo>
                  <a:lnTo>
                    <a:pt x="375" y="1422"/>
                  </a:lnTo>
                  <a:lnTo>
                    <a:pt x="387" y="1471"/>
                  </a:lnTo>
                  <a:lnTo>
                    <a:pt x="405" y="1517"/>
                  </a:lnTo>
                  <a:lnTo>
                    <a:pt x="426" y="1562"/>
                  </a:lnTo>
                  <a:lnTo>
                    <a:pt x="451" y="1605"/>
                  </a:lnTo>
                  <a:lnTo>
                    <a:pt x="479" y="1644"/>
                  </a:lnTo>
                  <a:lnTo>
                    <a:pt x="512" y="1683"/>
                  </a:lnTo>
                  <a:lnTo>
                    <a:pt x="546" y="1718"/>
                  </a:lnTo>
                  <a:lnTo>
                    <a:pt x="585" y="1750"/>
                  </a:lnTo>
                  <a:lnTo>
                    <a:pt x="626" y="1780"/>
                  </a:lnTo>
                  <a:lnTo>
                    <a:pt x="670" y="1808"/>
                  </a:lnTo>
                  <a:lnTo>
                    <a:pt x="717" y="1831"/>
                  </a:lnTo>
                  <a:lnTo>
                    <a:pt x="765" y="1852"/>
                  </a:lnTo>
                  <a:lnTo>
                    <a:pt x="815" y="1869"/>
                  </a:lnTo>
                  <a:lnTo>
                    <a:pt x="868" y="1884"/>
                  </a:lnTo>
                  <a:lnTo>
                    <a:pt x="922" y="1896"/>
                  </a:lnTo>
                  <a:lnTo>
                    <a:pt x="978" y="1903"/>
                  </a:lnTo>
                  <a:lnTo>
                    <a:pt x="1035" y="1906"/>
                  </a:lnTo>
                  <a:lnTo>
                    <a:pt x="1093" y="1907"/>
                  </a:lnTo>
                  <a:lnTo>
                    <a:pt x="1152" y="1903"/>
                  </a:lnTo>
                  <a:lnTo>
                    <a:pt x="1212" y="1896"/>
                  </a:lnTo>
                  <a:lnTo>
                    <a:pt x="1272" y="1884"/>
                  </a:lnTo>
                  <a:lnTo>
                    <a:pt x="1332" y="1868"/>
                  </a:lnTo>
                  <a:lnTo>
                    <a:pt x="1393" y="1848"/>
                  </a:lnTo>
                  <a:lnTo>
                    <a:pt x="1454" y="1823"/>
                  </a:lnTo>
                  <a:lnTo>
                    <a:pt x="1513" y="1795"/>
                  </a:lnTo>
                  <a:lnTo>
                    <a:pt x="1573" y="1762"/>
                  </a:lnTo>
                  <a:lnTo>
                    <a:pt x="1633" y="1724"/>
                  </a:lnTo>
                  <a:lnTo>
                    <a:pt x="1691" y="1681"/>
                  </a:lnTo>
                  <a:lnTo>
                    <a:pt x="1787" y="1571"/>
                  </a:lnTo>
                  <a:lnTo>
                    <a:pt x="1890" y="1463"/>
                  </a:lnTo>
                  <a:lnTo>
                    <a:pt x="1997" y="1358"/>
                  </a:lnTo>
                  <a:lnTo>
                    <a:pt x="2109" y="1253"/>
                  </a:lnTo>
                  <a:lnTo>
                    <a:pt x="2226" y="1151"/>
                  </a:lnTo>
                  <a:lnTo>
                    <a:pt x="2348" y="1050"/>
                  </a:lnTo>
                  <a:lnTo>
                    <a:pt x="2476" y="952"/>
                  </a:lnTo>
                  <a:lnTo>
                    <a:pt x="2608" y="858"/>
                  </a:lnTo>
                  <a:lnTo>
                    <a:pt x="2745" y="765"/>
                  </a:lnTo>
                  <a:lnTo>
                    <a:pt x="2886" y="679"/>
                  </a:lnTo>
                  <a:lnTo>
                    <a:pt x="3033" y="594"/>
                  </a:lnTo>
                  <a:lnTo>
                    <a:pt x="3184" y="514"/>
                  </a:lnTo>
                  <a:lnTo>
                    <a:pt x="3340" y="439"/>
                  </a:lnTo>
                  <a:lnTo>
                    <a:pt x="3500" y="369"/>
                  </a:lnTo>
                  <a:lnTo>
                    <a:pt x="3666" y="304"/>
                  </a:lnTo>
                  <a:lnTo>
                    <a:pt x="3836" y="244"/>
                  </a:lnTo>
                  <a:lnTo>
                    <a:pt x="4010" y="190"/>
                  </a:lnTo>
                  <a:lnTo>
                    <a:pt x="4189" y="142"/>
                  </a:lnTo>
                  <a:lnTo>
                    <a:pt x="4372" y="101"/>
                  </a:lnTo>
                  <a:lnTo>
                    <a:pt x="4559" y="65"/>
                  </a:lnTo>
                  <a:lnTo>
                    <a:pt x="4752" y="38"/>
                  </a:lnTo>
                  <a:lnTo>
                    <a:pt x="4949" y="17"/>
                  </a:lnTo>
                  <a:lnTo>
                    <a:pt x="5148" y="5"/>
                  </a:lnTo>
                  <a:lnTo>
                    <a:pt x="5353" y="0"/>
                  </a:lnTo>
                  <a:lnTo>
                    <a:pt x="5563" y="4"/>
                  </a:lnTo>
                  <a:lnTo>
                    <a:pt x="5776" y="15"/>
                  </a:lnTo>
                  <a:lnTo>
                    <a:pt x="5994" y="36"/>
                  </a:lnTo>
                  <a:lnTo>
                    <a:pt x="6215" y="65"/>
                  </a:lnTo>
                  <a:lnTo>
                    <a:pt x="6441" y="105"/>
                  </a:lnTo>
                  <a:lnTo>
                    <a:pt x="6670" y="154"/>
                  </a:lnTo>
                  <a:lnTo>
                    <a:pt x="6903" y="214"/>
                  </a:lnTo>
                  <a:lnTo>
                    <a:pt x="7141" y="283"/>
                  </a:lnTo>
                  <a:lnTo>
                    <a:pt x="7183" y="303"/>
                  </a:lnTo>
                  <a:lnTo>
                    <a:pt x="7224" y="322"/>
                  </a:lnTo>
                  <a:lnTo>
                    <a:pt x="7265" y="340"/>
                  </a:lnTo>
                  <a:lnTo>
                    <a:pt x="7306" y="355"/>
                  </a:lnTo>
                  <a:lnTo>
                    <a:pt x="7383" y="387"/>
                  </a:lnTo>
                  <a:lnTo>
                    <a:pt x="7457" y="417"/>
                  </a:lnTo>
                  <a:lnTo>
                    <a:pt x="7492" y="433"/>
                  </a:lnTo>
                  <a:lnTo>
                    <a:pt x="7526" y="448"/>
                  </a:lnTo>
                  <a:lnTo>
                    <a:pt x="7557" y="464"/>
                  </a:lnTo>
                  <a:lnTo>
                    <a:pt x="7589" y="481"/>
                  </a:lnTo>
                  <a:lnTo>
                    <a:pt x="7617" y="499"/>
                  </a:lnTo>
                  <a:lnTo>
                    <a:pt x="7644" y="517"/>
                  </a:lnTo>
                  <a:lnTo>
                    <a:pt x="7670" y="537"/>
                  </a:lnTo>
                  <a:lnTo>
                    <a:pt x="7693" y="559"/>
                  </a:lnTo>
                  <a:lnTo>
                    <a:pt x="7715" y="583"/>
                  </a:lnTo>
                  <a:lnTo>
                    <a:pt x="7734" y="609"/>
                  </a:lnTo>
                  <a:lnTo>
                    <a:pt x="7752" y="637"/>
                  </a:lnTo>
                  <a:lnTo>
                    <a:pt x="7766" y="666"/>
                  </a:lnTo>
                  <a:lnTo>
                    <a:pt x="7779" y="698"/>
                  </a:lnTo>
                  <a:lnTo>
                    <a:pt x="7788" y="734"/>
                  </a:lnTo>
                  <a:lnTo>
                    <a:pt x="7796" y="773"/>
                  </a:lnTo>
                  <a:lnTo>
                    <a:pt x="7800" y="814"/>
                  </a:lnTo>
                  <a:lnTo>
                    <a:pt x="7802" y="859"/>
                  </a:lnTo>
                  <a:lnTo>
                    <a:pt x="7800" y="907"/>
                  </a:lnTo>
                  <a:lnTo>
                    <a:pt x="7796" y="959"/>
                  </a:lnTo>
                  <a:lnTo>
                    <a:pt x="7788" y="1016"/>
                  </a:lnTo>
                  <a:lnTo>
                    <a:pt x="7778" y="1075"/>
                  </a:lnTo>
                  <a:lnTo>
                    <a:pt x="7764" y="1140"/>
                  </a:lnTo>
                  <a:lnTo>
                    <a:pt x="7747" y="1209"/>
                  </a:lnTo>
                  <a:lnTo>
                    <a:pt x="7727" y="1282"/>
                  </a:lnTo>
                  <a:lnTo>
                    <a:pt x="7691" y="1412"/>
                  </a:lnTo>
                  <a:lnTo>
                    <a:pt x="7659" y="1542"/>
                  </a:lnTo>
                  <a:lnTo>
                    <a:pt x="7628" y="1673"/>
                  </a:lnTo>
                  <a:lnTo>
                    <a:pt x="7601" y="1802"/>
                  </a:lnTo>
                  <a:lnTo>
                    <a:pt x="7576" y="1933"/>
                  </a:lnTo>
                  <a:lnTo>
                    <a:pt x="7554" y="2063"/>
                  </a:lnTo>
                  <a:lnTo>
                    <a:pt x="7533" y="2194"/>
                  </a:lnTo>
                  <a:lnTo>
                    <a:pt x="7515" y="2326"/>
                  </a:lnTo>
                  <a:lnTo>
                    <a:pt x="7499" y="2456"/>
                  </a:lnTo>
                  <a:lnTo>
                    <a:pt x="7485" y="2588"/>
                  </a:lnTo>
                  <a:lnTo>
                    <a:pt x="7472" y="2721"/>
                  </a:lnTo>
                  <a:lnTo>
                    <a:pt x="7463" y="2854"/>
                  </a:lnTo>
                  <a:lnTo>
                    <a:pt x="7455" y="2987"/>
                  </a:lnTo>
                  <a:lnTo>
                    <a:pt x="7449" y="3121"/>
                  </a:lnTo>
                  <a:lnTo>
                    <a:pt x="7445" y="3255"/>
                  </a:lnTo>
                  <a:lnTo>
                    <a:pt x="7443" y="3390"/>
                  </a:lnTo>
                  <a:lnTo>
                    <a:pt x="7442" y="3525"/>
                  </a:lnTo>
                  <a:lnTo>
                    <a:pt x="7443" y="3661"/>
                  </a:lnTo>
                  <a:lnTo>
                    <a:pt x="7445" y="3798"/>
                  </a:lnTo>
                  <a:lnTo>
                    <a:pt x="7450" y="3935"/>
                  </a:lnTo>
                  <a:lnTo>
                    <a:pt x="7456" y="4073"/>
                  </a:lnTo>
                  <a:lnTo>
                    <a:pt x="7463" y="4211"/>
                  </a:lnTo>
                  <a:lnTo>
                    <a:pt x="7471" y="4351"/>
                  </a:lnTo>
                  <a:lnTo>
                    <a:pt x="7482" y="4492"/>
                  </a:lnTo>
                  <a:lnTo>
                    <a:pt x="7493" y="4633"/>
                  </a:lnTo>
                  <a:lnTo>
                    <a:pt x="7506" y="4775"/>
                  </a:lnTo>
                  <a:lnTo>
                    <a:pt x="7519" y="4917"/>
                  </a:lnTo>
                  <a:lnTo>
                    <a:pt x="7535" y="5062"/>
                  </a:lnTo>
                  <a:lnTo>
                    <a:pt x="7551" y="5206"/>
                  </a:lnTo>
                  <a:lnTo>
                    <a:pt x="7568" y="5353"/>
                  </a:lnTo>
                  <a:lnTo>
                    <a:pt x="7586" y="5499"/>
                  </a:lnTo>
                  <a:lnTo>
                    <a:pt x="7605" y="5648"/>
                  </a:lnTo>
                  <a:lnTo>
                    <a:pt x="7613" y="5681"/>
                  </a:lnTo>
                  <a:lnTo>
                    <a:pt x="7619" y="5714"/>
                  </a:lnTo>
                  <a:lnTo>
                    <a:pt x="7622" y="5744"/>
                  </a:lnTo>
                  <a:lnTo>
                    <a:pt x="7625" y="5773"/>
                  </a:lnTo>
                  <a:lnTo>
                    <a:pt x="7626" y="5800"/>
                  </a:lnTo>
                  <a:lnTo>
                    <a:pt x="7625" y="5826"/>
                  </a:lnTo>
                  <a:lnTo>
                    <a:pt x="7623" y="5850"/>
                  </a:lnTo>
                  <a:lnTo>
                    <a:pt x="7620" y="5872"/>
                  </a:lnTo>
                  <a:lnTo>
                    <a:pt x="7615" y="5893"/>
                  </a:lnTo>
                  <a:lnTo>
                    <a:pt x="7608" y="5912"/>
                  </a:lnTo>
                  <a:lnTo>
                    <a:pt x="7601" y="5929"/>
                  </a:lnTo>
                  <a:lnTo>
                    <a:pt x="7592" y="5945"/>
                  </a:lnTo>
                  <a:lnTo>
                    <a:pt x="7582" y="5961"/>
                  </a:lnTo>
                  <a:lnTo>
                    <a:pt x="7571" y="5973"/>
                  </a:lnTo>
                  <a:lnTo>
                    <a:pt x="7558" y="5986"/>
                  </a:lnTo>
                  <a:lnTo>
                    <a:pt x="7545" y="5996"/>
                  </a:lnTo>
                  <a:lnTo>
                    <a:pt x="7530" y="6006"/>
                  </a:lnTo>
                  <a:lnTo>
                    <a:pt x="7514" y="6014"/>
                  </a:lnTo>
                  <a:lnTo>
                    <a:pt x="7497" y="6020"/>
                  </a:lnTo>
                  <a:lnTo>
                    <a:pt x="7480" y="6026"/>
                  </a:lnTo>
                  <a:lnTo>
                    <a:pt x="7462" y="6031"/>
                  </a:lnTo>
                  <a:lnTo>
                    <a:pt x="7442" y="6034"/>
                  </a:lnTo>
                  <a:lnTo>
                    <a:pt x="7422" y="6036"/>
                  </a:lnTo>
                  <a:lnTo>
                    <a:pt x="7401" y="6036"/>
                  </a:lnTo>
                  <a:lnTo>
                    <a:pt x="7380" y="6036"/>
                  </a:lnTo>
                  <a:lnTo>
                    <a:pt x="7358" y="6035"/>
                  </a:lnTo>
                  <a:lnTo>
                    <a:pt x="7335" y="6033"/>
                  </a:lnTo>
                  <a:lnTo>
                    <a:pt x="7312" y="6030"/>
                  </a:lnTo>
                  <a:lnTo>
                    <a:pt x="7288" y="6026"/>
                  </a:lnTo>
                  <a:lnTo>
                    <a:pt x="7264" y="6020"/>
                  </a:lnTo>
                  <a:lnTo>
                    <a:pt x="7239" y="6014"/>
                  </a:lnTo>
                  <a:lnTo>
                    <a:pt x="7214" y="6008"/>
                  </a:lnTo>
                  <a:lnTo>
                    <a:pt x="7039" y="5961"/>
                  </a:lnTo>
                  <a:lnTo>
                    <a:pt x="6861" y="5922"/>
                  </a:lnTo>
                  <a:lnTo>
                    <a:pt x="6683" y="5892"/>
                  </a:lnTo>
                  <a:lnTo>
                    <a:pt x="6504" y="5869"/>
                  </a:lnTo>
                  <a:lnTo>
                    <a:pt x="6324" y="5853"/>
                  </a:lnTo>
                  <a:lnTo>
                    <a:pt x="6145" y="5844"/>
                  </a:lnTo>
                  <a:lnTo>
                    <a:pt x="5965" y="5841"/>
                  </a:lnTo>
                  <a:lnTo>
                    <a:pt x="5786" y="5846"/>
                  </a:lnTo>
                  <a:lnTo>
                    <a:pt x="5607" y="5856"/>
                  </a:lnTo>
                  <a:lnTo>
                    <a:pt x="5429" y="5873"/>
                  </a:lnTo>
                  <a:lnTo>
                    <a:pt x="5253" y="5895"/>
                  </a:lnTo>
                  <a:lnTo>
                    <a:pt x="5079" y="5922"/>
                  </a:lnTo>
                  <a:lnTo>
                    <a:pt x="4908" y="5954"/>
                  </a:lnTo>
                  <a:lnTo>
                    <a:pt x="4739" y="5992"/>
                  </a:lnTo>
                  <a:lnTo>
                    <a:pt x="4573" y="6034"/>
                  </a:lnTo>
                  <a:lnTo>
                    <a:pt x="4410" y="6080"/>
                  </a:lnTo>
                  <a:lnTo>
                    <a:pt x="4251" y="6130"/>
                  </a:lnTo>
                  <a:lnTo>
                    <a:pt x="4096" y="6185"/>
                  </a:lnTo>
                  <a:lnTo>
                    <a:pt x="3945" y="6242"/>
                  </a:lnTo>
                  <a:lnTo>
                    <a:pt x="3799" y="6303"/>
                  </a:lnTo>
                  <a:lnTo>
                    <a:pt x="3657" y="6367"/>
                  </a:lnTo>
                  <a:lnTo>
                    <a:pt x="3521" y="6434"/>
                  </a:lnTo>
                  <a:lnTo>
                    <a:pt x="3392" y="6503"/>
                  </a:lnTo>
                  <a:lnTo>
                    <a:pt x="3267" y="6573"/>
                  </a:lnTo>
                  <a:lnTo>
                    <a:pt x="3149" y="6646"/>
                  </a:lnTo>
                  <a:lnTo>
                    <a:pt x="3038" y="6720"/>
                  </a:lnTo>
                  <a:lnTo>
                    <a:pt x="2934" y="6797"/>
                  </a:lnTo>
                  <a:lnTo>
                    <a:pt x="2838" y="6873"/>
                  </a:lnTo>
                  <a:lnTo>
                    <a:pt x="2749" y="6952"/>
                  </a:lnTo>
                  <a:lnTo>
                    <a:pt x="2668" y="7030"/>
                  </a:lnTo>
                  <a:lnTo>
                    <a:pt x="2597" y="7109"/>
                  </a:lnTo>
                  <a:lnTo>
                    <a:pt x="2533" y="7187"/>
                  </a:lnTo>
                  <a:lnTo>
                    <a:pt x="2387" y="6894"/>
                  </a:lnTo>
                  <a:lnTo>
                    <a:pt x="2476" y="6794"/>
                  </a:lnTo>
                  <a:lnTo>
                    <a:pt x="2574" y="6694"/>
                  </a:lnTo>
                  <a:lnTo>
                    <a:pt x="2683" y="6599"/>
                  </a:lnTo>
                  <a:lnTo>
                    <a:pt x="2800" y="6505"/>
                  </a:lnTo>
                  <a:lnTo>
                    <a:pt x="2926" y="6414"/>
                  </a:lnTo>
                  <a:lnTo>
                    <a:pt x="3059" y="6327"/>
                  </a:lnTo>
                  <a:lnTo>
                    <a:pt x="3199" y="6242"/>
                  </a:lnTo>
                  <a:lnTo>
                    <a:pt x="3347" y="6161"/>
                  </a:lnTo>
                  <a:lnTo>
                    <a:pt x="3499" y="6083"/>
                  </a:lnTo>
                  <a:lnTo>
                    <a:pt x="3657" y="6010"/>
                  </a:lnTo>
                  <a:lnTo>
                    <a:pt x="3821" y="5940"/>
                  </a:lnTo>
                  <a:lnTo>
                    <a:pt x="3988" y="5874"/>
                  </a:lnTo>
                  <a:lnTo>
                    <a:pt x="4158" y="5813"/>
                  </a:lnTo>
                  <a:lnTo>
                    <a:pt x="4331" y="5756"/>
                  </a:lnTo>
                  <a:lnTo>
                    <a:pt x="4507" y="5704"/>
                  </a:lnTo>
                  <a:lnTo>
                    <a:pt x="4685" y="5656"/>
                  </a:lnTo>
                  <a:lnTo>
                    <a:pt x="4864" y="5614"/>
                  </a:lnTo>
                  <a:lnTo>
                    <a:pt x="5043" y="5578"/>
                  </a:lnTo>
                  <a:lnTo>
                    <a:pt x="5222" y="5546"/>
                  </a:lnTo>
                  <a:lnTo>
                    <a:pt x="5399" y="5520"/>
                  </a:lnTo>
                  <a:lnTo>
                    <a:pt x="5576" y="5501"/>
                  </a:lnTo>
                  <a:lnTo>
                    <a:pt x="5751" y="5487"/>
                  </a:lnTo>
                  <a:lnTo>
                    <a:pt x="5924" y="5479"/>
                  </a:lnTo>
                  <a:lnTo>
                    <a:pt x="6093" y="5478"/>
                  </a:lnTo>
                  <a:lnTo>
                    <a:pt x="6259" y="5484"/>
                  </a:lnTo>
                  <a:lnTo>
                    <a:pt x="6420" y="5496"/>
                  </a:lnTo>
                  <a:lnTo>
                    <a:pt x="6576" y="5516"/>
                  </a:lnTo>
                  <a:lnTo>
                    <a:pt x="6726" y="5542"/>
                  </a:lnTo>
                  <a:lnTo>
                    <a:pt x="6871" y="5576"/>
                  </a:lnTo>
                  <a:lnTo>
                    <a:pt x="7009" y="5617"/>
                  </a:lnTo>
                  <a:lnTo>
                    <a:pt x="7140" y="5667"/>
                  </a:lnTo>
                  <a:lnTo>
                    <a:pt x="7262" y="5723"/>
                  </a:lnTo>
                  <a:lnTo>
                    <a:pt x="7247" y="5579"/>
                  </a:lnTo>
                  <a:lnTo>
                    <a:pt x="7235" y="5434"/>
                  </a:lnTo>
                  <a:lnTo>
                    <a:pt x="7222" y="5291"/>
                  </a:lnTo>
                  <a:lnTo>
                    <a:pt x="7211" y="5147"/>
                  </a:lnTo>
                  <a:lnTo>
                    <a:pt x="7199" y="5002"/>
                  </a:lnTo>
                  <a:lnTo>
                    <a:pt x="7190" y="4859"/>
                  </a:lnTo>
                  <a:lnTo>
                    <a:pt x="7181" y="4716"/>
                  </a:lnTo>
                  <a:lnTo>
                    <a:pt x="7174" y="4571"/>
                  </a:lnTo>
                  <a:lnTo>
                    <a:pt x="7167" y="4428"/>
                  </a:lnTo>
                  <a:lnTo>
                    <a:pt x="7162" y="4284"/>
                  </a:lnTo>
                  <a:lnTo>
                    <a:pt x="7156" y="4141"/>
                  </a:lnTo>
                  <a:lnTo>
                    <a:pt x="7153" y="3998"/>
                  </a:lnTo>
                  <a:lnTo>
                    <a:pt x="7151" y="3855"/>
                  </a:lnTo>
                  <a:lnTo>
                    <a:pt x="7150" y="3712"/>
                  </a:lnTo>
                  <a:lnTo>
                    <a:pt x="7150" y="3569"/>
                  </a:lnTo>
                  <a:lnTo>
                    <a:pt x="7152" y="3426"/>
                  </a:lnTo>
                  <a:lnTo>
                    <a:pt x="7154" y="3284"/>
                  </a:lnTo>
                  <a:lnTo>
                    <a:pt x="7158" y="3141"/>
                  </a:lnTo>
                  <a:lnTo>
                    <a:pt x="7164" y="2998"/>
                  </a:lnTo>
                  <a:lnTo>
                    <a:pt x="7170" y="2856"/>
                  </a:lnTo>
                  <a:lnTo>
                    <a:pt x="7178" y="2714"/>
                  </a:lnTo>
                  <a:lnTo>
                    <a:pt x="7187" y="2573"/>
                  </a:lnTo>
                  <a:lnTo>
                    <a:pt x="7198" y="2430"/>
                  </a:lnTo>
                  <a:lnTo>
                    <a:pt x="7210" y="2288"/>
                  </a:lnTo>
                  <a:lnTo>
                    <a:pt x="7223" y="2147"/>
                  </a:lnTo>
                  <a:lnTo>
                    <a:pt x="7239" y="2004"/>
                  </a:lnTo>
                  <a:lnTo>
                    <a:pt x="7256" y="1863"/>
                  </a:lnTo>
                  <a:lnTo>
                    <a:pt x="7274" y="1722"/>
                  </a:lnTo>
                  <a:lnTo>
                    <a:pt x="7293" y="1581"/>
                  </a:lnTo>
                  <a:lnTo>
                    <a:pt x="7315" y="1439"/>
                  </a:lnTo>
                  <a:lnTo>
                    <a:pt x="7338" y="1298"/>
                  </a:lnTo>
                  <a:lnTo>
                    <a:pt x="7362" y="1157"/>
                  </a:lnTo>
                  <a:lnTo>
                    <a:pt x="7372" y="1134"/>
                  </a:lnTo>
                  <a:lnTo>
                    <a:pt x="7380" y="1112"/>
                  </a:lnTo>
                  <a:lnTo>
                    <a:pt x="7388" y="1090"/>
                  </a:lnTo>
                  <a:lnTo>
                    <a:pt x="7393" y="1069"/>
                  </a:lnTo>
                  <a:lnTo>
                    <a:pt x="7397" y="1048"/>
                  </a:lnTo>
                  <a:lnTo>
                    <a:pt x="7400" y="1027"/>
                  </a:lnTo>
                  <a:lnTo>
                    <a:pt x="7402" y="1007"/>
                  </a:lnTo>
                  <a:lnTo>
                    <a:pt x="7402" y="987"/>
                  </a:lnTo>
                  <a:lnTo>
                    <a:pt x="7401" y="967"/>
                  </a:lnTo>
                  <a:lnTo>
                    <a:pt x="7399" y="949"/>
                  </a:lnTo>
                  <a:lnTo>
                    <a:pt x="7396" y="930"/>
                  </a:lnTo>
                  <a:lnTo>
                    <a:pt x="7391" y="911"/>
                  </a:lnTo>
                  <a:lnTo>
                    <a:pt x="7384" y="893"/>
                  </a:lnTo>
                  <a:lnTo>
                    <a:pt x="7377" y="875"/>
                  </a:lnTo>
                  <a:lnTo>
                    <a:pt x="7369" y="859"/>
                  </a:lnTo>
                  <a:lnTo>
                    <a:pt x="7358" y="842"/>
                  </a:lnTo>
                  <a:lnTo>
                    <a:pt x="7347" y="825"/>
                  </a:lnTo>
                  <a:lnTo>
                    <a:pt x="7334" y="808"/>
                  </a:lnTo>
                  <a:lnTo>
                    <a:pt x="7321" y="793"/>
                  </a:lnTo>
                  <a:lnTo>
                    <a:pt x="7305" y="778"/>
                  </a:lnTo>
                  <a:lnTo>
                    <a:pt x="7288" y="762"/>
                  </a:lnTo>
                  <a:lnTo>
                    <a:pt x="7270" y="748"/>
                  </a:lnTo>
                  <a:lnTo>
                    <a:pt x="7252" y="734"/>
                  </a:lnTo>
                  <a:lnTo>
                    <a:pt x="7231" y="719"/>
                  </a:lnTo>
                  <a:lnTo>
                    <a:pt x="7209" y="706"/>
                  </a:lnTo>
                  <a:lnTo>
                    <a:pt x="7186" y="693"/>
                  </a:lnTo>
                  <a:lnTo>
                    <a:pt x="7162" y="681"/>
                  </a:lnTo>
                  <a:lnTo>
                    <a:pt x="7135" y="668"/>
                  </a:lnTo>
                  <a:lnTo>
                    <a:pt x="7108" y="656"/>
                  </a:lnTo>
                  <a:lnTo>
                    <a:pt x="7080" y="644"/>
                  </a:lnTo>
                  <a:lnTo>
                    <a:pt x="7051" y="633"/>
                  </a:lnTo>
                  <a:lnTo>
                    <a:pt x="7019" y="622"/>
                  </a:lnTo>
                  <a:lnTo>
                    <a:pt x="6825" y="575"/>
                  </a:lnTo>
                  <a:lnTo>
                    <a:pt x="6632" y="533"/>
                  </a:lnTo>
                  <a:lnTo>
                    <a:pt x="6441" y="498"/>
                  </a:lnTo>
                  <a:lnTo>
                    <a:pt x="6251" y="465"/>
                  </a:lnTo>
                  <a:lnTo>
                    <a:pt x="6063" y="439"/>
                  </a:lnTo>
                  <a:lnTo>
                    <a:pt x="5877" y="418"/>
                  </a:lnTo>
                  <a:lnTo>
                    <a:pt x="5691" y="403"/>
                  </a:lnTo>
                  <a:lnTo>
                    <a:pt x="5509" y="394"/>
                  </a:lnTo>
                  <a:lnTo>
                    <a:pt x="5327" y="390"/>
                  </a:lnTo>
                  <a:lnTo>
                    <a:pt x="5148" y="392"/>
                  </a:lnTo>
                  <a:lnTo>
                    <a:pt x="4972" y="399"/>
                  </a:lnTo>
                  <a:lnTo>
                    <a:pt x="4797" y="414"/>
                  </a:lnTo>
                  <a:lnTo>
                    <a:pt x="4623" y="434"/>
                  </a:lnTo>
                  <a:lnTo>
                    <a:pt x="4451" y="461"/>
                  </a:lnTo>
                  <a:lnTo>
                    <a:pt x="4283" y="493"/>
                  </a:lnTo>
                  <a:lnTo>
                    <a:pt x="4116" y="533"/>
                  </a:lnTo>
                  <a:lnTo>
                    <a:pt x="3950" y="579"/>
                  </a:lnTo>
                  <a:lnTo>
                    <a:pt x="3788" y="633"/>
                  </a:lnTo>
                  <a:lnTo>
                    <a:pt x="3628" y="693"/>
                  </a:lnTo>
                  <a:lnTo>
                    <a:pt x="3469" y="760"/>
                  </a:lnTo>
                  <a:lnTo>
                    <a:pt x="3313" y="836"/>
                  </a:lnTo>
                  <a:lnTo>
                    <a:pt x="3160" y="917"/>
                  </a:lnTo>
                  <a:lnTo>
                    <a:pt x="3009" y="1006"/>
                  </a:lnTo>
                  <a:lnTo>
                    <a:pt x="2860" y="1103"/>
                  </a:lnTo>
                  <a:lnTo>
                    <a:pt x="2713" y="1208"/>
                  </a:lnTo>
                  <a:lnTo>
                    <a:pt x="2570" y="1320"/>
                  </a:lnTo>
                  <a:lnTo>
                    <a:pt x="2429" y="1440"/>
                  </a:lnTo>
                  <a:lnTo>
                    <a:pt x="2290" y="1569"/>
                  </a:lnTo>
                  <a:lnTo>
                    <a:pt x="2154" y="1706"/>
                  </a:lnTo>
                  <a:lnTo>
                    <a:pt x="2021" y="1851"/>
                  </a:lnTo>
                  <a:lnTo>
                    <a:pt x="1890" y="2004"/>
                  </a:lnTo>
                  <a:lnTo>
                    <a:pt x="1761" y="2166"/>
                  </a:lnTo>
                  <a:lnTo>
                    <a:pt x="1715" y="2192"/>
                  </a:lnTo>
                  <a:lnTo>
                    <a:pt x="1664" y="2216"/>
                  </a:lnTo>
                  <a:lnTo>
                    <a:pt x="1610" y="2237"/>
                  </a:lnTo>
                  <a:lnTo>
                    <a:pt x="1551" y="2254"/>
                  </a:lnTo>
                  <a:lnTo>
                    <a:pt x="1490" y="2269"/>
                  </a:lnTo>
                  <a:lnTo>
                    <a:pt x="1426" y="2281"/>
                  </a:lnTo>
                  <a:lnTo>
                    <a:pt x="1360" y="2290"/>
                  </a:lnTo>
                  <a:lnTo>
                    <a:pt x="1292" y="2296"/>
                  </a:lnTo>
                  <a:lnTo>
                    <a:pt x="1223" y="2299"/>
                  </a:lnTo>
                  <a:lnTo>
                    <a:pt x="1152" y="2299"/>
                  </a:lnTo>
                  <a:lnTo>
                    <a:pt x="1081" y="2295"/>
                  </a:lnTo>
                  <a:lnTo>
                    <a:pt x="1009" y="2289"/>
                  </a:lnTo>
                  <a:lnTo>
                    <a:pt x="937" y="2280"/>
                  </a:lnTo>
                  <a:lnTo>
                    <a:pt x="865" y="2267"/>
                  </a:lnTo>
                  <a:lnTo>
                    <a:pt x="793" y="2250"/>
                  </a:lnTo>
                  <a:lnTo>
                    <a:pt x="723" y="2230"/>
                  </a:lnTo>
                  <a:lnTo>
                    <a:pt x="653" y="2208"/>
                  </a:lnTo>
                  <a:lnTo>
                    <a:pt x="585" y="2181"/>
                  </a:lnTo>
                  <a:lnTo>
                    <a:pt x="520" y="2152"/>
                  </a:lnTo>
                  <a:lnTo>
                    <a:pt x="456" y="2118"/>
                  </a:lnTo>
                  <a:lnTo>
                    <a:pt x="395" y="2082"/>
                  </a:lnTo>
                  <a:lnTo>
                    <a:pt x="337" y="2041"/>
                  </a:lnTo>
                  <a:lnTo>
                    <a:pt x="283" y="1997"/>
                  </a:lnTo>
                  <a:lnTo>
                    <a:pt x="231" y="1949"/>
                  </a:lnTo>
                  <a:lnTo>
                    <a:pt x="185" y="1898"/>
                  </a:lnTo>
                  <a:lnTo>
                    <a:pt x="143" y="1842"/>
                  </a:lnTo>
                  <a:lnTo>
                    <a:pt x="105" y="1784"/>
                  </a:lnTo>
                  <a:lnTo>
                    <a:pt x="72" y="1720"/>
                  </a:lnTo>
                  <a:lnTo>
                    <a:pt x="45" y="1654"/>
                  </a:lnTo>
                  <a:lnTo>
                    <a:pt x="24" y="1583"/>
                  </a:lnTo>
                  <a:lnTo>
                    <a:pt x="9" y="1507"/>
                  </a:lnTo>
                  <a:lnTo>
                    <a:pt x="0" y="1429"/>
                  </a:lnTo>
                  <a:lnTo>
                    <a:pt x="26" y="965"/>
                  </a:lnTo>
                  <a:lnTo>
                    <a:pt x="389" y="9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95840" y="4204080"/>
              <a:ext cx="183240" cy="439200"/>
            </a:xfrm>
            <a:custGeom>
              <a:avLst/>
              <a:gdLst/>
              <a:ahLst/>
              <a:rect l="l" t="t" r="r" b="b"/>
              <a:pathLst>
                <a:path w="2817" h="7209">
                  <a:moveTo>
                    <a:pt x="368" y="386"/>
                  </a:moveTo>
                  <a:lnTo>
                    <a:pt x="200" y="119"/>
                  </a:lnTo>
                  <a:lnTo>
                    <a:pt x="26" y="0"/>
                  </a:lnTo>
                  <a:lnTo>
                    <a:pt x="13" y="198"/>
                  </a:lnTo>
                  <a:lnTo>
                    <a:pt x="4" y="404"/>
                  </a:lnTo>
                  <a:lnTo>
                    <a:pt x="0" y="616"/>
                  </a:lnTo>
                  <a:lnTo>
                    <a:pt x="2" y="835"/>
                  </a:lnTo>
                  <a:lnTo>
                    <a:pt x="8" y="1059"/>
                  </a:lnTo>
                  <a:lnTo>
                    <a:pt x="19" y="1288"/>
                  </a:lnTo>
                  <a:lnTo>
                    <a:pt x="32" y="1521"/>
                  </a:lnTo>
                  <a:lnTo>
                    <a:pt x="51" y="1757"/>
                  </a:lnTo>
                  <a:lnTo>
                    <a:pt x="72" y="1995"/>
                  </a:lnTo>
                  <a:lnTo>
                    <a:pt x="96" y="2235"/>
                  </a:lnTo>
                  <a:lnTo>
                    <a:pt x="123" y="2477"/>
                  </a:lnTo>
                  <a:lnTo>
                    <a:pt x="153" y="2717"/>
                  </a:lnTo>
                  <a:lnTo>
                    <a:pt x="184" y="2957"/>
                  </a:lnTo>
                  <a:lnTo>
                    <a:pt x="218" y="3195"/>
                  </a:lnTo>
                  <a:lnTo>
                    <a:pt x="253" y="3432"/>
                  </a:lnTo>
                  <a:lnTo>
                    <a:pt x="290" y="3665"/>
                  </a:lnTo>
                  <a:lnTo>
                    <a:pt x="326" y="3895"/>
                  </a:lnTo>
                  <a:lnTo>
                    <a:pt x="365" y="4120"/>
                  </a:lnTo>
                  <a:lnTo>
                    <a:pt x="403" y="4340"/>
                  </a:lnTo>
                  <a:lnTo>
                    <a:pt x="442" y="4554"/>
                  </a:lnTo>
                  <a:lnTo>
                    <a:pt x="480" y="4761"/>
                  </a:lnTo>
                  <a:lnTo>
                    <a:pt x="518" y="4960"/>
                  </a:lnTo>
                  <a:lnTo>
                    <a:pt x="556" y="5150"/>
                  </a:lnTo>
                  <a:lnTo>
                    <a:pt x="591" y="5332"/>
                  </a:lnTo>
                  <a:lnTo>
                    <a:pt x="659" y="5664"/>
                  </a:lnTo>
                  <a:lnTo>
                    <a:pt x="719" y="5949"/>
                  </a:lnTo>
                  <a:lnTo>
                    <a:pt x="769" y="6184"/>
                  </a:lnTo>
                  <a:lnTo>
                    <a:pt x="807" y="6359"/>
                  </a:lnTo>
                  <a:lnTo>
                    <a:pt x="818" y="6453"/>
                  </a:lnTo>
                  <a:lnTo>
                    <a:pt x="841" y="6541"/>
                  </a:lnTo>
                  <a:lnTo>
                    <a:pt x="874" y="6624"/>
                  </a:lnTo>
                  <a:lnTo>
                    <a:pt x="916" y="6703"/>
                  </a:lnTo>
                  <a:lnTo>
                    <a:pt x="966" y="6775"/>
                  </a:lnTo>
                  <a:lnTo>
                    <a:pt x="1023" y="6843"/>
                  </a:lnTo>
                  <a:lnTo>
                    <a:pt x="1088" y="6905"/>
                  </a:lnTo>
                  <a:lnTo>
                    <a:pt x="1159" y="6961"/>
                  </a:lnTo>
                  <a:lnTo>
                    <a:pt x="1235" y="7012"/>
                  </a:lnTo>
                  <a:lnTo>
                    <a:pt x="1316" y="7057"/>
                  </a:lnTo>
                  <a:lnTo>
                    <a:pt x="1401" y="7096"/>
                  </a:lnTo>
                  <a:lnTo>
                    <a:pt x="1489" y="7130"/>
                  </a:lnTo>
                  <a:lnTo>
                    <a:pt x="1580" y="7158"/>
                  </a:lnTo>
                  <a:lnTo>
                    <a:pt x="1672" y="7179"/>
                  </a:lnTo>
                  <a:lnTo>
                    <a:pt x="1766" y="7196"/>
                  </a:lnTo>
                  <a:lnTo>
                    <a:pt x="1860" y="7205"/>
                  </a:lnTo>
                  <a:lnTo>
                    <a:pt x="1954" y="7209"/>
                  </a:lnTo>
                  <a:lnTo>
                    <a:pt x="2046" y="7206"/>
                  </a:lnTo>
                  <a:lnTo>
                    <a:pt x="2137" y="7198"/>
                  </a:lnTo>
                  <a:lnTo>
                    <a:pt x="2225" y="7183"/>
                  </a:lnTo>
                  <a:lnTo>
                    <a:pt x="2309" y="7161"/>
                  </a:lnTo>
                  <a:lnTo>
                    <a:pt x="2390" y="7134"/>
                  </a:lnTo>
                  <a:lnTo>
                    <a:pt x="2466" y="7099"/>
                  </a:lnTo>
                  <a:lnTo>
                    <a:pt x="2536" y="7059"/>
                  </a:lnTo>
                  <a:lnTo>
                    <a:pt x="2601" y="7012"/>
                  </a:lnTo>
                  <a:lnTo>
                    <a:pt x="2659" y="6958"/>
                  </a:lnTo>
                  <a:lnTo>
                    <a:pt x="2708" y="6897"/>
                  </a:lnTo>
                  <a:lnTo>
                    <a:pt x="2750" y="6829"/>
                  </a:lnTo>
                  <a:lnTo>
                    <a:pt x="2781" y="6755"/>
                  </a:lnTo>
                  <a:lnTo>
                    <a:pt x="2804" y="6674"/>
                  </a:lnTo>
                  <a:lnTo>
                    <a:pt x="2816" y="6586"/>
                  </a:lnTo>
                  <a:lnTo>
                    <a:pt x="2817" y="6490"/>
                  </a:lnTo>
                  <a:lnTo>
                    <a:pt x="2770" y="6331"/>
                  </a:lnTo>
                  <a:lnTo>
                    <a:pt x="2725" y="6173"/>
                  </a:lnTo>
                  <a:lnTo>
                    <a:pt x="2681" y="6015"/>
                  </a:lnTo>
                  <a:lnTo>
                    <a:pt x="2639" y="5856"/>
                  </a:lnTo>
                  <a:lnTo>
                    <a:pt x="2597" y="5697"/>
                  </a:lnTo>
                  <a:lnTo>
                    <a:pt x="2557" y="5538"/>
                  </a:lnTo>
                  <a:lnTo>
                    <a:pt x="2518" y="5379"/>
                  </a:lnTo>
                  <a:lnTo>
                    <a:pt x="2480" y="5219"/>
                  </a:lnTo>
                  <a:lnTo>
                    <a:pt x="2443" y="5060"/>
                  </a:lnTo>
                  <a:lnTo>
                    <a:pt x="2409" y="4900"/>
                  </a:lnTo>
                  <a:lnTo>
                    <a:pt x="2374" y="4740"/>
                  </a:lnTo>
                  <a:lnTo>
                    <a:pt x="2342" y="4580"/>
                  </a:lnTo>
                  <a:lnTo>
                    <a:pt x="2310" y="4420"/>
                  </a:lnTo>
                  <a:lnTo>
                    <a:pt x="2280" y="4259"/>
                  </a:lnTo>
                  <a:lnTo>
                    <a:pt x="2252" y="4098"/>
                  </a:lnTo>
                  <a:lnTo>
                    <a:pt x="2224" y="3937"/>
                  </a:lnTo>
                  <a:lnTo>
                    <a:pt x="2197" y="3776"/>
                  </a:lnTo>
                  <a:lnTo>
                    <a:pt x="2172" y="3615"/>
                  </a:lnTo>
                  <a:lnTo>
                    <a:pt x="2149" y="3453"/>
                  </a:lnTo>
                  <a:lnTo>
                    <a:pt x="2126" y="3292"/>
                  </a:lnTo>
                  <a:lnTo>
                    <a:pt x="2105" y="3129"/>
                  </a:lnTo>
                  <a:lnTo>
                    <a:pt x="2086" y="2967"/>
                  </a:lnTo>
                  <a:lnTo>
                    <a:pt x="2068" y="2805"/>
                  </a:lnTo>
                  <a:lnTo>
                    <a:pt x="2051" y="2643"/>
                  </a:lnTo>
                  <a:lnTo>
                    <a:pt x="2035" y="2481"/>
                  </a:lnTo>
                  <a:lnTo>
                    <a:pt x="2022" y="2318"/>
                  </a:lnTo>
                  <a:lnTo>
                    <a:pt x="2008" y="2154"/>
                  </a:lnTo>
                  <a:lnTo>
                    <a:pt x="1998" y="1991"/>
                  </a:lnTo>
                  <a:lnTo>
                    <a:pt x="1987" y="1828"/>
                  </a:lnTo>
                  <a:lnTo>
                    <a:pt x="1979" y="1664"/>
                  </a:lnTo>
                  <a:lnTo>
                    <a:pt x="1971" y="1500"/>
                  </a:lnTo>
                  <a:lnTo>
                    <a:pt x="1966" y="1336"/>
                  </a:lnTo>
                  <a:lnTo>
                    <a:pt x="1672" y="1653"/>
                  </a:lnTo>
                  <a:lnTo>
                    <a:pt x="1672" y="1807"/>
                  </a:lnTo>
                  <a:lnTo>
                    <a:pt x="1674" y="1960"/>
                  </a:lnTo>
                  <a:lnTo>
                    <a:pt x="1678" y="2113"/>
                  </a:lnTo>
                  <a:lnTo>
                    <a:pt x="1685" y="2267"/>
                  </a:lnTo>
                  <a:lnTo>
                    <a:pt x="1693" y="2420"/>
                  </a:lnTo>
                  <a:lnTo>
                    <a:pt x="1704" y="2574"/>
                  </a:lnTo>
                  <a:lnTo>
                    <a:pt x="1716" y="2728"/>
                  </a:lnTo>
                  <a:lnTo>
                    <a:pt x="1731" y="2882"/>
                  </a:lnTo>
                  <a:lnTo>
                    <a:pt x="1746" y="3034"/>
                  </a:lnTo>
                  <a:lnTo>
                    <a:pt x="1764" y="3188"/>
                  </a:lnTo>
                  <a:lnTo>
                    <a:pt x="1784" y="3342"/>
                  </a:lnTo>
                  <a:lnTo>
                    <a:pt x="1805" y="3496"/>
                  </a:lnTo>
                  <a:lnTo>
                    <a:pt x="1828" y="3649"/>
                  </a:lnTo>
                  <a:lnTo>
                    <a:pt x="1853" y="3802"/>
                  </a:lnTo>
                  <a:lnTo>
                    <a:pt x="1879" y="3956"/>
                  </a:lnTo>
                  <a:lnTo>
                    <a:pt x="1907" y="4109"/>
                  </a:lnTo>
                  <a:lnTo>
                    <a:pt x="1936" y="4263"/>
                  </a:lnTo>
                  <a:lnTo>
                    <a:pt x="1966" y="4415"/>
                  </a:lnTo>
                  <a:lnTo>
                    <a:pt x="1999" y="4568"/>
                  </a:lnTo>
                  <a:lnTo>
                    <a:pt x="2032" y="4721"/>
                  </a:lnTo>
                  <a:lnTo>
                    <a:pt x="2067" y="4874"/>
                  </a:lnTo>
                  <a:lnTo>
                    <a:pt x="2103" y="5027"/>
                  </a:lnTo>
                  <a:lnTo>
                    <a:pt x="2140" y="5178"/>
                  </a:lnTo>
                  <a:lnTo>
                    <a:pt x="2179" y="5331"/>
                  </a:lnTo>
                  <a:lnTo>
                    <a:pt x="2218" y="5483"/>
                  </a:lnTo>
                  <a:lnTo>
                    <a:pt x="2259" y="5635"/>
                  </a:lnTo>
                  <a:lnTo>
                    <a:pt x="2301" y="5786"/>
                  </a:lnTo>
                  <a:lnTo>
                    <a:pt x="2344" y="5938"/>
                  </a:lnTo>
                  <a:lnTo>
                    <a:pt x="2387" y="6089"/>
                  </a:lnTo>
                  <a:lnTo>
                    <a:pt x="2432" y="6239"/>
                  </a:lnTo>
                  <a:lnTo>
                    <a:pt x="2478" y="6390"/>
                  </a:lnTo>
                  <a:lnTo>
                    <a:pt x="2524" y="6541"/>
                  </a:lnTo>
                  <a:lnTo>
                    <a:pt x="2511" y="6587"/>
                  </a:lnTo>
                  <a:lnTo>
                    <a:pt x="2494" y="6628"/>
                  </a:lnTo>
                  <a:lnTo>
                    <a:pt x="2468" y="6664"/>
                  </a:lnTo>
                  <a:lnTo>
                    <a:pt x="2438" y="6697"/>
                  </a:lnTo>
                  <a:lnTo>
                    <a:pt x="2402" y="6725"/>
                  </a:lnTo>
                  <a:lnTo>
                    <a:pt x="2362" y="6750"/>
                  </a:lnTo>
                  <a:lnTo>
                    <a:pt x="2317" y="6770"/>
                  </a:lnTo>
                  <a:lnTo>
                    <a:pt x="2269" y="6788"/>
                  </a:lnTo>
                  <a:lnTo>
                    <a:pt x="2216" y="6800"/>
                  </a:lnTo>
                  <a:lnTo>
                    <a:pt x="2161" y="6811"/>
                  </a:lnTo>
                  <a:lnTo>
                    <a:pt x="2103" y="6817"/>
                  </a:lnTo>
                  <a:lnTo>
                    <a:pt x="2044" y="6820"/>
                  </a:lnTo>
                  <a:lnTo>
                    <a:pt x="1982" y="6821"/>
                  </a:lnTo>
                  <a:lnTo>
                    <a:pt x="1919" y="6818"/>
                  </a:lnTo>
                  <a:lnTo>
                    <a:pt x="1855" y="6813"/>
                  </a:lnTo>
                  <a:lnTo>
                    <a:pt x="1792" y="6804"/>
                  </a:lnTo>
                  <a:lnTo>
                    <a:pt x="1729" y="6793"/>
                  </a:lnTo>
                  <a:lnTo>
                    <a:pt x="1666" y="6780"/>
                  </a:lnTo>
                  <a:lnTo>
                    <a:pt x="1603" y="6765"/>
                  </a:lnTo>
                  <a:lnTo>
                    <a:pt x="1543" y="6746"/>
                  </a:lnTo>
                  <a:lnTo>
                    <a:pt x="1485" y="6726"/>
                  </a:lnTo>
                  <a:lnTo>
                    <a:pt x="1428" y="6704"/>
                  </a:lnTo>
                  <a:lnTo>
                    <a:pt x="1375" y="6681"/>
                  </a:lnTo>
                  <a:lnTo>
                    <a:pt x="1325" y="6655"/>
                  </a:lnTo>
                  <a:lnTo>
                    <a:pt x="1279" y="6628"/>
                  </a:lnTo>
                  <a:lnTo>
                    <a:pt x="1237" y="6599"/>
                  </a:lnTo>
                  <a:lnTo>
                    <a:pt x="1199" y="6569"/>
                  </a:lnTo>
                  <a:lnTo>
                    <a:pt x="1167" y="6538"/>
                  </a:lnTo>
                  <a:lnTo>
                    <a:pt x="1141" y="6505"/>
                  </a:lnTo>
                  <a:lnTo>
                    <a:pt x="1120" y="6472"/>
                  </a:lnTo>
                  <a:lnTo>
                    <a:pt x="1105" y="6437"/>
                  </a:lnTo>
                  <a:lnTo>
                    <a:pt x="1098" y="6403"/>
                  </a:lnTo>
                  <a:lnTo>
                    <a:pt x="1072" y="6298"/>
                  </a:lnTo>
                  <a:lnTo>
                    <a:pt x="1044" y="6182"/>
                  </a:lnTo>
                  <a:lnTo>
                    <a:pt x="1016" y="6055"/>
                  </a:lnTo>
                  <a:lnTo>
                    <a:pt x="986" y="5918"/>
                  </a:lnTo>
                  <a:lnTo>
                    <a:pt x="955" y="5774"/>
                  </a:lnTo>
                  <a:lnTo>
                    <a:pt x="924" y="5620"/>
                  </a:lnTo>
                  <a:lnTo>
                    <a:pt x="893" y="5459"/>
                  </a:lnTo>
                  <a:lnTo>
                    <a:pt x="860" y="5291"/>
                  </a:lnTo>
                  <a:lnTo>
                    <a:pt x="828" y="5118"/>
                  </a:lnTo>
                  <a:lnTo>
                    <a:pt x="794" y="4939"/>
                  </a:lnTo>
                  <a:lnTo>
                    <a:pt x="761" y="4756"/>
                  </a:lnTo>
                  <a:lnTo>
                    <a:pt x="728" y="4568"/>
                  </a:lnTo>
                  <a:lnTo>
                    <a:pt x="695" y="4379"/>
                  </a:lnTo>
                  <a:lnTo>
                    <a:pt x="662" y="4186"/>
                  </a:lnTo>
                  <a:lnTo>
                    <a:pt x="631" y="3993"/>
                  </a:lnTo>
                  <a:lnTo>
                    <a:pt x="600" y="3798"/>
                  </a:lnTo>
                  <a:lnTo>
                    <a:pt x="568" y="3605"/>
                  </a:lnTo>
                  <a:lnTo>
                    <a:pt x="539" y="3411"/>
                  </a:lnTo>
                  <a:lnTo>
                    <a:pt x="510" y="3219"/>
                  </a:lnTo>
                  <a:lnTo>
                    <a:pt x="482" y="3030"/>
                  </a:lnTo>
                  <a:lnTo>
                    <a:pt x="455" y="2844"/>
                  </a:lnTo>
                  <a:lnTo>
                    <a:pt x="430" y="2662"/>
                  </a:lnTo>
                  <a:lnTo>
                    <a:pt x="407" y="2484"/>
                  </a:lnTo>
                  <a:lnTo>
                    <a:pt x="385" y="2311"/>
                  </a:lnTo>
                  <a:lnTo>
                    <a:pt x="365" y="2145"/>
                  </a:lnTo>
                  <a:lnTo>
                    <a:pt x="347" y="1986"/>
                  </a:lnTo>
                  <a:lnTo>
                    <a:pt x="332" y="1834"/>
                  </a:lnTo>
                  <a:lnTo>
                    <a:pt x="318" y="1691"/>
                  </a:lnTo>
                  <a:lnTo>
                    <a:pt x="307" y="1557"/>
                  </a:lnTo>
                  <a:lnTo>
                    <a:pt x="297" y="1432"/>
                  </a:lnTo>
                  <a:lnTo>
                    <a:pt x="291" y="1319"/>
                  </a:lnTo>
                  <a:lnTo>
                    <a:pt x="288" y="1217"/>
                  </a:lnTo>
                  <a:lnTo>
                    <a:pt x="309" y="879"/>
                  </a:lnTo>
                  <a:lnTo>
                    <a:pt x="329" y="485"/>
                  </a:lnTo>
                  <a:lnTo>
                    <a:pt x="368" y="38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692360" y="1609560"/>
            <a:ext cx="69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Subtítulo o </a:t>
            </a:r>
            <a:br>
              <a:rPr sz="2800"/>
            </a:b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subtema aqu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46200" y="15033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sta diapositiva es para insertar gráf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5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28760" y="76320"/>
            <a:ext cx="3105000" cy="1873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79520" y="4113360"/>
            <a:ext cx="4603680" cy="1067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9900"/>
                </a:solidFill>
                <a:uFillTx/>
                <a:latin typeface="Arial Narrow"/>
                <a:hlinkClick r:id="rId2"/>
              </a:rPr>
              <a:t>UASLP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009900"/>
                </a:solidFill>
                <a:uFillTx/>
                <a:latin typeface="Arial Narrow"/>
                <a:hlinkClick r:id="rId3"/>
              </a:rPr>
              <a:t>Complexus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009900"/>
                </a:solidFill>
                <a:uFillTx/>
                <a:latin typeface="Arial Narrow"/>
                <a:hlinkClick r:id="rId4"/>
              </a:rPr>
              <a:t>Univ. de Guanajuato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009900"/>
                </a:solidFill>
                <a:uFillTx/>
                <a:latin typeface="Arial Narrow"/>
                <a:hlinkClick r:id="rId5"/>
              </a:rPr>
              <a:t>ANUIES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009900"/>
                </a:solidFill>
                <a:uFillTx/>
                <a:latin typeface="Arial Narrow"/>
                <a:hlinkClick r:id="rId6"/>
              </a:rPr>
              <a:t>CESU-UNAM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  </a:t>
            </a:r>
            <a:r>
              <a:rPr b="0" lang="es-MX" sz="1600" spc="-1" strike="noStrike" u="sng">
                <a:solidFill>
                  <a:srgbClr val="009900"/>
                </a:solidFill>
                <a:uFillTx/>
                <a:latin typeface="Arial Narrow"/>
                <a:hlinkClick r:id="rId7"/>
              </a:rPr>
              <a:t>SEP-SESIC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y SEIT,  </a:t>
            </a:r>
            <a:r>
              <a:rPr b="0" lang="es-MX" sz="1600" spc="-1" strike="noStrike" u="sng">
                <a:solidFill>
                  <a:srgbClr val="009900"/>
                </a:solidFill>
                <a:uFillTx/>
                <a:latin typeface="Arial Narrow"/>
                <a:hlinkClick r:id="rId8"/>
              </a:rPr>
              <a:t>SEMARNAT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009900"/>
                </a:solidFill>
                <a:uFillTx/>
                <a:latin typeface="Arial Narrow"/>
                <a:hlinkClick r:id="rId9"/>
              </a:rPr>
              <a:t>SEGAM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-Gob. Edo SLP, Conacyt-SIGHO, ANAAE, CIIDET,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ANEA, A.C., CEC-UIC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08160" y="4087800"/>
            <a:ext cx="3160080" cy="201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9900"/>
                </a:solidFill>
                <a:latin typeface="Arial"/>
              </a:rPr>
              <a:t>Créditos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seño del logotipo y otras imágenes: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Luz María Hernández Nieto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seño de la plantilla: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Luz María Nieto Carav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Modificada por: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(Pon aquí tu nomb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600" y="5630760"/>
            <a:ext cx="45781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ambiental.uaslp.mx/foroslp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457200" y="2176560"/>
            <a:ext cx="3392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1:33:00Z</dcterms:created>
  <dc:creator>Luz María Nieto Caraveo</dc:creator>
  <dc:description>Plantilla opcional para ponentes del I Foro Nacional sobre la Incorporación de la Perspectiva Ambiental en la Formación Técnica y Profesional.</dc:description>
  <dc:language>en-US</dc:language>
  <cp:lastModifiedBy>Lmnieto</cp:lastModifiedBy>
  <dcterms:modified xsi:type="dcterms:W3CDTF">2003-05-26T01:48:57Z</dcterms:modified>
  <cp:revision>80</cp:revision>
  <dc:subject/>
  <dc:title>Tema "Figuras"</dc:title>
</cp:coreProperties>
</file>